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117108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AFF-2757-4E5E-85A7-05F45784FF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available at the above 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l free to email m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questions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arget and S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is Broadcast, Reply is Un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ug Song’s ARPSpoof just sends out a gratuitous arp reply every 2 seconds to the broadcast address (ff:ff:ff:ff:ff: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om: Anything that makes security easier, probably creates a security f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ss secure than Hub, DOS possible – log host data redir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’m discussing something you’re already familiar with, please bear with me, I wanted this talk to be useful to a wide audience.. We’ll get to the good stuff quickly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ocked ports extremely rare..  Almost no one knows this is an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/IP squishes the top layer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best close for your audience and your presentation.  Close with a summary; offer options; recommend a strategy; suggest a plan; set a goal.  Keep your focus throughout your presentation, and you will more likely achieve your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unmanaged switches need to be re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operating systems of all managed switches need to be updated to add port-chang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rt lock mode extremely expensive to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aw red circles around important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3BD8-9698-436A-B152-26A1F90F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6877-0345-48EC-AB21-E645ED6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F161-D9BA-409F-AB9C-F1B271BB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C09F-AE42-429B-9F87-E6C54B65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C047-DA06-4ED7-BF91-51CA629F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A85-144A-4CDD-ACCC-8080801A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F895-516F-4E60-9917-AB7EA60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FBE8-1AA1-497E-ADAD-8BFE4253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733D-F6C2-4A47-AB68-0D77B948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352-5BA3-4AC9-ACBF-ED83CD93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340A-450E-4557-87F8-1967C1D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A63B-E7DB-4966-9E9B-28A6CF9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968A-FE42-40D1-BE89-FDBC7DA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3725-CAAD-43F8-9F58-F61F38B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6EB-0859-44B4-AA4C-C1E4A60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E82-9C39-47C5-95A3-29BD4973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F54-A37D-4C55-8E3E-27F991E6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E198-7CEA-44EF-900D-10E9469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1552-1573-4B21-9078-DC96D69A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E780-6775-4F78-8078-8BF172DD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E43B-6651-4075-957F-863A7DE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0CAF-7EEC-4766-BCEC-39EB58B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389-F1A2-409D-82F1-C71B553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1C4-D095-47E2-B182-66348BA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0E89-6367-43A2-B986-71935F10C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EED2-66B9-46DC-BB01-47168F231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wilkins@bitland.net" TargetMode="Externa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tp://ftp.ee.lbl.gov/arpwatch.tar.gz" TargetMode="External"/><Relationship Id="rId4" Type="http://schemas.openxmlformats.org/officeDocument/2006/relationships/hyperlink" Target="ftp://ftp.ee.lbl.gov/arpwatch.tar.gz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tland.net/taranis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openssh.com/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employees.org/~satch/ssh/faq/" TargetMode="External"/><Relationship Id="rId7" Type="http://schemas.openxmlformats.org/officeDocument/2006/relationships/hyperlink" Target="http://www.stunnel.org/" TargetMode="External"/><Relationship Id="rId8" Type="http://schemas.openxmlformats.org/officeDocument/2006/relationships/hyperlink" Target="http://www.stunnel.org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freebsddiary.org/stunnel.php" TargetMode="External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esse@bitland.ne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skyper@segfault.net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ed@apache.org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aranis: Invisible Traffic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Redirection on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thernet Switch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Wi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jwilkins@bitland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tland.net/tara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65833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1 © Jonathan Wilk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thereal Display of ARP Reques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P Reply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4360" y="1628640"/>
            <a:ext cx="7704000" cy="46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2421000"/>
            <a:ext cx="770400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71640" y="530064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95640" y="5300640"/>
            <a:ext cx="3024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20000" y="530064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73080" y="3646440"/>
            <a:ext cx="1008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81080" y="3646440"/>
            <a:ext cx="1008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9440" y="3646440"/>
            <a:ext cx="50292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92360" y="3646440"/>
            <a:ext cx="5050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76720" y="3645000"/>
            <a:ext cx="3024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71640" y="2565360"/>
            <a:ext cx="201600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7640" y="2565360"/>
            <a:ext cx="302436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2000" y="2565360"/>
            <a:ext cx="208908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97440" y="3646440"/>
            <a:ext cx="10792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020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24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989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03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0872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2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62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84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92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5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7164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76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79640" y="172872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agram of ARP Reply Pack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1628640"/>
            <a:ext cx="7704000" cy="46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4360" y="2421000"/>
            <a:ext cx="770400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71640" y="530064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DC:A5: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95640" y="5300640"/>
            <a:ext cx="3024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C4:49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20000" y="530064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08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3080" y="3646440"/>
            <a:ext cx="1008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therne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81080" y="3646440"/>
            <a:ext cx="1008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9440" y="3646440"/>
            <a:ext cx="50292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=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92360" y="3646440"/>
            <a:ext cx="5050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=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076720" y="3645000"/>
            <a:ext cx="3024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C4:49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565360"/>
            <a:ext cx="201600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1.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87640" y="2565360"/>
            <a:ext cx="302436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DC:A5: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12000" y="2565360"/>
            <a:ext cx="208908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1.7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97440" y="3646440"/>
            <a:ext cx="10792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pl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16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20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24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989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03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0872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12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862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84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92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95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7164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76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79640" y="172872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51280" y="2529000"/>
            <a:ext cx="31068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76640" y="3654360"/>
            <a:ext cx="94464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thereal Display of ARP Rep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ole of Switc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increase performance by creating virtual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e bandwidth is boo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don’t add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LAN is functionally a separate switch. Feel free to interchange the words Switch and V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P Cache Corrup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given host sends out an ARP request for a host’s IP address, (the network gateway is the usual target) the attacking host replies to it, using it’s own hardware add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then goes through the attacking host, thereby giving it access to all kinds of interesting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oesn’t disrupt normal traffic, as the attacking host forwards all traffic to the correct gateway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tecting ARP Cache Corruption Attack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uming that an administrator has access to a monitoring port on the switch, detection is easy, just check for multiple MAC addresses responding to a given IP add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Watch can do this through sniffing or by SN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ftp:/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ftp.ee.lbl.gov/arpwatch.tar.g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 New Attack - Reaso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 can auto-configure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 can either have a single host or another switch/hub on each 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device is moved from one port to another, nothing needs to be done to the switc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: The switch must automatically maintain a list of Ethernet address to port mapp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Can we trick the switch into sending traffic to the wrong port by tricking it’s auto-configuration log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 New Attack - Reaso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ttacks are lik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 packet with the victim’s Ethernet address and see if it will start sending that data to both ports (Limited Hub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 packet with the victim’s Ethernet address and see if it will redirect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if we can resend the traffic and have it picked up by the victim for a full MITM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packets with source addresses of other hosts on the network on our port and try and get the switch to drop into hub mode (a la macof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n’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to get any tested switch to send to multiple 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le to get any tested switch to drop to hub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le to get traffic redirected to a different port on all tested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n’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to get a simple MITM attack functioning, but we have some ideas that may be sufficient to extend the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wer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ble to generate an easy DOS on all tested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co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ARP Cache Corrupti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riefly as backgroun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Switch CAM Table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ed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know what a sniffer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familiar with network traffic analysis and basic network protoco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it wor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attempt to over simplify the complicated affair of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expensive managed switches allow port locking and even there, the administrative cost of doing so is prohib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the CAM Tabl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a really efficient lookup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on all modern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 == Content Address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ore information on the CAM table and how it is updated check o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routergod.com/gilliananderson or http://www.isdmag.com/editorial/1998/systemdesign980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the CAM Tabl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ternal table looks something like th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68360" y="1916280"/>
          <a:ext cx="8136000" cy="4022640"/>
        </p:xfrm>
        <a:graphic>
          <a:graphicData uri="http://schemas.openxmlformats.org/drawingml/2006/table">
            <a:tbl>
              <a:tblPr/>
              <a:tblGrid>
                <a:gridCol w="1008000"/>
                <a:gridCol w="4414680"/>
                <a:gridCol w="271332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ernet Addr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t or Uplin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:00:af:34:53: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h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:e4:5f:2a:63: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:c1:24:ee:62:66 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ch or Hu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:af:5a:69:08: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:17:72:e1:72:70 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ch or Hu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:14:62:74:23:5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h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witch Behavi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update behaviors were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cket updates CAM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out before CAM table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is lo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approach has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cket updates – Trivial to redirect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out – Once port is redirected, keeping control is easy.  Requires less traffic to keep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k – Huge administrative burden assoc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1640" y="189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sults – Switch Update Behavio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85920" y="1089000"/>
          <a:ext cx="8229600" cy="5657760"/>
        </p:xfrm>
        <a:graphic>
          <a:graphicData uri="http://schemas.openxmlformats.org/drawingml/2006/table">
            <a:tbl>
              <a:tblPr/>
              <a:tblGrid>
                <a:gridCol w="3501720"/>
                <a:gridCol w="47278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co 2900 MXL 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co 2900 X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rt Security Off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out (~30 second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co 2900 MXL and Cisco 2900 X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rt Security 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ffic redirected only on reboot or cable disconn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Sys EZXS88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Packet Upd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P ProCurve 2424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Packet Upd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Com SuperStack II/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Packet Upd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ults – Why it’s Invisib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s no way to tell which port traffic is coming from at the Etherne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unmanaged switches are therefore totally vuln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tools to track the MAC address to Port mappings for the few managed switches that have a way to query these mapp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Results - Why It’s Invisib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if an administrator attempted to poll the switch continually, this attack could be slipped between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ly does protocol specific traffic.  Other hosts have no way to tell that there has been a sub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RP Corruption Versus CAM Table Poiso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ay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 provides a good Man In The Middle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exist to detect this attack.  The attack consists of packets with a definit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ay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Man In The Middle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ssible to generate a single signature for the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of of concept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anis spawns tw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hread loops, spoofing packets with an Ethernet source address of the target machine – This tricks the switch into redirecting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thread pretends to be a POP or IMAP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connection attempts to port 110 (POP) or 143 (IMAP) are handled by Tara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P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rmal POP login sequence looks like th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8360" y="2781360"/>
            <a:ext cx="828180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jwilkins@toxygene ~]$ nc localhost 1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K QPOP (version 2.53) at mail.net starting.  &lt;39898.1010976721@mail.ne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jwilk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K Password required for jwilki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mypassw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K jwilkins has 592 messages (7597672 octet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K Pop server at mail.net signing of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– DNS, SNMP, 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– SS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– TCP, SPX, NetB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– IP, IP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, Ro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Link – Ethernet, Bridges,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– Cabling, Hubs, Repea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rmal IMAP login sequence looks like th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2781360"/>
            <a:ext cx="734400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jwilkins@toxygene ~]$ nc localhost 1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OK mail.net IMAP4rev1 v12.264 server rea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001 LOGIN "jwilkins" “mypassw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001 OK LOGIN comple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002 LOG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YE mail.net IMAP4rev1 server terminating conn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002 OK LOGOUT comple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YN is seen, a SYN/ACK is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 ACK is seen, the POP banner is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s USER &lt;username&gt;\r\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 “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s PASS &lt;password&gt;\r\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s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MAP (even easier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YN is seen, a SYN/ACK is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 ACK is seen, the IMAP banner is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s A0001 LOGIN “user” “password”\r\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s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anis - POP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50920" y="4005000"/>
            <a:ext cx="4038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anis - I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250920" y="1484280"/>
          <a:ext cx="8642160" cy="2252520"/>
        </p:xfrm>
        <a:graphic>
          <a:graphicData uri="http://schemas.openxmlformats.org/drawingml/2006/table">
            <a:tbl>
              <a:tblPr/>
              <a:tblGrid>
                <a:gridCol w="2522520"/>
                <a:gridCol w="61196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l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/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OK QPOP (version 2.53) at mail.net starting.  &lt;28815.1011055535@mail.net&gt;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 foo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 bar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50920" y="4437000"/>
          <a:ext cx="8640720" cy="1866960"/>
        </p:xfrm>
        <a:graphic>
          <a:graphicData uri="http://schemas.openxmlformats.org/drawingml/2006/table">
            <a:tbl>
              <a:tblPr/>
              <a:tblGrid>
                <a:gridCol w="3336840"/>
                <a:gridCol w="5303880"/>
              </a:tblGrid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l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/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OK mail.net IMAP4rev1 v12.264 server ready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001 LOGIN “user” “pass”\r\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 - Dem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55640" y="5660640"/>
            <a:ext cx="7570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for demonstration of Tara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027760" y="1600200"/>
          <a:ext cx="3278160" cy="21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7760" y="1600200"/>
                    <a:ext cx="32781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1557360" y="1133640"/>
            <a:ext cx="59864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ranis – Future Dire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of of concept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other protocol could be spoofed in thi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lacement log host seems like a fun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acker could even just reconfigure a complete system with the target server’s IP address and Ethernet MAC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doesn’t seem to be a way to perform a perfect man in the middle (MITM) attack with this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, however, possible to queue packets and perform a protocol independen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ttack can be almost invi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doesn’t indicate what port a given frame came a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eralized detection heuristic is difficult.  Depending on the type of switch, the attack can be successful with just one properly timed packet. Cryptography is the only real def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all clear-text logins via SSH or s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n’t perfect.. Man in the middle attacks are possible since users still don’t have any clue about security and may accept a bad certificate o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Dug Song’s WebMITM and SSHMITM at http://www.monkey.org/~dugsong/dsn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must provide strong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SH public keys or Stunnel with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SH Tunne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h -L 110:mail.net:110 -l username -N mail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your mail client at localhost instead of mail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H will prompt you for a pass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use ssh-agent to simplify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H is available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require shell access to the remote host.  Obviously, if shell access isn’t required for any other reasons, stunnel would be a better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nn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information on stunnel and certificates is available 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tunnel.org/examples/client_cert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nnel –c –p mailnet.pem –d pop3 –r mail.net:pop3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nnel –p /path/to/stunnel.pem –d pop3s –r pop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nel is available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dfdef6"/>
                </a:solidFill>
                <a:latin typeface="Arial"/>
              </a:rPr>
              <a:t>How Ethernet Work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Layouts and 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does not provide a private channel.  It wasn’t designed for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orts of protocols that are common on intranets use clear text authentication (POP3, IMAP, SNMP, Telnet, FTP, Log servers, CV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attacker gets intranet access, you’ve probably lost unless you have strong authentication and good cryp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hat we’re all aware of the need for protecting authentication details, setting up encrypted tunnels is a neces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ranis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visible traffic re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 general heuristic possible for this at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olling the CAM table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ork som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visible Denial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ndering switches less secure than hubs in certain sit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yptography is the best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ranets shouldn’t be tr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a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bitland.net/tara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bitland.net/taranis/taranis.[pdf,ppt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up encrypted tu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H (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http://www.openssh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http://www.employees.org/~satch/ssh/faq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nel (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www.stunnel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http://www.freebsddiary.org/stunnel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ereal (http://ethereal.zing.or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se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jesse@bitland.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original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yper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skyper@segfault.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ll the help testing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ed@apache.or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lp testing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84360" y="2205000"/>
            <a:ext cx="7704000" cy="410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Link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3213000"/>
            <a:ext cx="7201080" cy="1224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71640" y="364500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3645000"/>
            <a:ext cx="3024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20000" y="364500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00000" y="4653000"/>
            <a:ext cx="7201080" cy="1224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Ethernet Header for IP pac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508644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DC:A5: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95640" y="5084640"/>
            <a:ext cx="302436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C4:49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20000" y="508644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0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0556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0884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1356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8776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92840" y="248436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9756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0840" y="248436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75040" y="248436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47320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81560" y="248436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8448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6048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65200" y="248436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68480" y="247968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thernet Address Res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achines to be able to communicate with each other at all, they each need to have a list of IP address to Hardware address mapp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se machines to be able to communicate in an ad-hoc fashion, they need to have some way to query for IP address to Hardware address mapping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done through ARP (Address Resolution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, when a host needs to talk to another host, it checks it’s ARP cache to see if it already has an entry for the other host.  If it does, just uses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, it sends out an ARP qu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uitous 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84360" y="1628640"/>
            <a:ext cx="7704000" cy="46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2421000"/>
            <a:ext cx="770400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P Reques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71640" y="530064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95640" y="5300640"/>
            <a:ext cx="3024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20000" y="530064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73080" y="3646440"/>
            <a:ext cx="1008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3646440"/>
            <a:ext cx="1008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89440" y="3646440"/>
            <a:ext cx="50292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92360" y="3646440"/>
            <a:ext cx="5050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87640" y="2565360"/>
            <a:ext cx="3024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2000" y="2565360"/>
            <a:ext cx="201600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3646440"/>
            <a:ext cx="2952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71640" y="2565360"/>
            <a:ext cx="2016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97440" y="3646440"/>
            <a:ext cx="10792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20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24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89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03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0872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12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862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84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92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5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164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76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79640" y="172872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agram of ARP Request Packe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4360" y="1628640"/>
            <a:ext cx="7704000" cy="46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60" y="2421000"/>
            <a:ext cx="770400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71640" y="5300640"/>
            <a:ext cx="30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:FF:FF:FF:FF: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95640" y="5300640"/>
            <a:ext cx="3024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DC:A5: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20000" y="5300640"/>
            <a:ext cx="100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08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3080" y="3646440"/>
            <a:ext cx="1008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therne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81080" y="3646440"/>
            <a:ext cx="100836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9440" y="3646440"/>
            <a:ext cx="50292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=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92360" y="3646440"/>
            <a:ext cx="5050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=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3645000"/>
            <a:ext cx="29512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1:03:DC:A5: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71640" y="2565360"/>
            <a:ext cx="201600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1.7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87640" y="2565360"/>
            <a:ext cx="302436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HW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:00:00:00:00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12000" y="2565360"/>
            <a:ext cx="201600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IP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1.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97440" y="3646440"/>
            <a:ext cx="1079280" cy="10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ques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16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20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247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9892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03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0872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120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620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84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92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9564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1733400"/>
            <a:ext cx="5331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76360" y="173340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79640" y="1728720"/>
            <a:ext cx="5335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51280" y="2529000"/>
            <a:ext cx="31068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32360" y="3654360"/>
            <a:ext cx="10350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80920" y="5094360"/>
            <a:ext cx="31068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6:45:58Z</dcterms:created>
  <dc:creator>Jonathan Wilkins</dc:creator>
  <dc:description/>
  <dc:language>en-US</dc:language>
  <cp:lastModifiedBy>Jonathan Wilkins</cp:lastModifiedBy>
  <dcterms:modified xsi:type="dcterms:W3CDTF">2002-02-06T01:45:40Z</dcterms:modified>
  <cp:revision>216</cp:revision>
  <dc:subject/>
  <dc:title>Taranis: CAM Table Poisoning on Ethernet Switc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3</vt:r8>
  </property>
</Properties>
</file>