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557-60A3-485A-96EE-1E8005D7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DCD-462E-4AE5-8713-B94A047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0FC-B8C6-4A86-ABAF-500924A6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3D0-B8D9-48FA-99DA-979CA388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87B-EFA8-479F-9E7B-46F9E83A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9ACB-5319-428E-999A-9F31676D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DD4-38E2-48BC-BBCE-3388B6A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40CC-204A-4AA3-BF7E-476FF2F7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EDB9-CFDD-46D2-8695-8EFE2FCF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4B61-6EC3-4D3F-9ECC-27B18B9A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33E8-6A57-4FB9-AA39-3AE42629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991-E17E-4CEC-80E9-F5FF0EF6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F022-1911-40A7-AB66-9D7BF46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7329-2ACD-44B7-9BF2-B093B11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0D4A-02C9-41DD-9FD1-58ABEC07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5172-1AFA-4686-8507-BAE55B82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BF74-AD0E-47E1-94B6-11D92744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8FF-2A36-46B7-9B49-EAD9EB9D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040-642F-4F83-BDB0-594D94BC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291-53CA-48EA-A1C8-12135D86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1EA-84C5-42E7-A3E5-F921A46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0509-EA27-43EB-A4C8-63BB04C5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C5A-A3CE-4028-A000-17FE8C3A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684-F377-4C80-8DFA-DA578FD5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1EB-74DA-4A06-859D-8F46A8095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973-ED3C-4F83-BB95-E1A37CCBE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99"/>
                </a:solidFill>
                <a:latin typeface="Tahoma"/>
              </a:rPr>
              <a:t>The Devil Inside:</a:t>
            </a:r>
            <a:br>
              <a:rPr sz="6000"/>
            </a:br>
            <a:br>
              <a:rPr sz="1600"/>
            </a:br>
            <a:r>
              <a:rPr b="0" lang="en-US" sz="6000" spc="-1" strike="noStrike">
                <a:solidFill>
                  <a:srgbClr val="3366ff"/>
                </a:solidFill>
                <a:latin typeface="Verdana"/>
              </a:rPr>
              <a:t>Planning Security in Active Directory Design</a:t>
            </a:r>
            <a:endParaRPr b="1" lang="en-US" sz="60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Laura A. Robins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echnical Instructor/Consultan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lliMark Pennsylvania Divi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chema Partitio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plicates to Every DC in the Fores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fines Object Types That Can Be Created in Active Director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fines Attributes Associated with Object Typ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sider Keeping Schema Master Offline and Bringing Online for Periodic Updat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ever Modify the Schema with the Schema Master Connected to the Network- Never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t is Not Possible to Perform an Authoritative Restore of the Schem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omain Controller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tains a Full Copy of the Configuration Partition for the Fore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tains a Full Copy of the Schema Partition for the Fore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tains a Full Copy of its own Domain’s Domain Parti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oes Not Contain Objects from the Domain Partitions for Other Domains in the Fore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lobal Catalog Server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s a Domain Controllers for a Domain in the Fores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tains a Full Copy of the Configuration parti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tains a Full Copy of the Schema Parti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tains a Read-Only Copy of Every Other Domain’s Domain Parti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tains a Full, Writeable Copy of the Domain Partition for which it is a DC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ntains All Objects in the Partition, but Only a Subset of the Attributes for Those Objec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ctive Directory Replicatio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main Controllers Replicate Common Parti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Global Catalog Servers Receive Updates to Read-Only (Other Domains) Domain Partitions from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 Controllers for the “Owning” Dom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ther Global Catalog Serv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GCs Do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Replicate Partitions They Do Not Own to DCs That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Own Those Parti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Cs Cannot Pass Domain Partition Updates to Domains for Which the GC is Not a DC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ctive Directory Replicatio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1523880"/>
          <a:ext cx="6934320" cy="52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693432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666880" y="1905120"/>
            <a:ext cx="3810240" cy="0"/>
          </a:xfrm>
          <a:prstGeom prst="line">
            <a:avLst/>
          </a:prstGeom>
          <a:ln w="63360">
            <a:solidFill>
              <a:srgbClr val="ffff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66880" y="1905120"/>
            <a:ext cx="3810240" cy="2971800"/>
          </a:xfrm>
          <a:prstGeom prst="line">
            <a:avLst/>
          </a:prstGeom>
          <a:ln w="63360">
            <a:solidFill>
              <a:srgbClr val="ffff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876920"/>
            <a:ext cx="3581640" cy="0"/>
          </a:xfrm>
          <a:prstGeom prst="line">
            <a:avLst/>
          </a:prstGeom>
          <a:ln w="63360">
            <a:solidFill>
              <a:srgbClr val="ffff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2438280"/>
            <a:ext cx="3733920" cy="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819520" y="2438280"/>
            <a:ext cx="3504960" cy="281952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5334120"/>
            <a:ext cx="3733920" cy="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2895480"/>
            <a:ext cx="3733920" cy="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43200" y="2895480"/>
            <a:ext cx="3733920" cy="327672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828440" y="2895480"/>
            <a:ext cx="762480" cy="3276720"/>
            <a:chOff x="1828440" y="2895480"/>
            <a:chExt cx="762480" cy="3276720"/>
          </a:xfrm>
        </p:grpSpPr>
        <p:sp>
          <p:nvSpPr>
            <p:cNvPr id="140" name=""/>
            <p:cNvSpPr/>
            <p:nvPr/>
          </p:nvSpPr>
          <p:spPr>
            <a:xfrm flipV="1">
              <a:off x="2209680" y="2895480"/>
              <a:ext cx="0" cy="3276720"/>
            </a:xfrm>
            <a:prstGeom prst="line">
              <a:avLst/>
            </a:prstGeom>
            <a:ln w="633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828440" y="3733920"/>
              <a:ext cx="762480" cy="761760"/>
              <a:chOff x="1828440" y="3733920"/>
              <a:chExt cx="762480" cy="761760"/>
            </a:xfrm>
          </p:grpSpPr>
          <p:sp>
            <p:nvSpPr>
              <p:cNvPr id="142" name=""/>
              <p:cNvSpPr/>
              <p:nvPr/>
            </p:nvSpPr>
            <p:spPr>
              <a:xfrm>
                <a:off x="1828800" y="3733920"/>
                <a:ext cx="762120" cy="76176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828440" y="3733920"/>
                <a:ext cx="762120" cy="7617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 flipH="1">
            <a:off x="2666880" y="5867280"/>
            <a:ext cx="3810240" cy="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3200040"/>
            <a:ext cx="3657600" cy="259092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552720" y="3429000"/>
            <a:ext cx="762480" cy="2438280"/>
            <a:chOff x="6552720" y="3429000"/>
            <a:chExt cx="762480" cy="2438280"/>
          </a:xfrm>
        </p:grpSpPr>
        <p:sp>
          <p:nvSpPr>
            <p:cNvPr id="147" name=""/>
            <p:cNvSpPr/>
            <p:nvPr/>
          </p:nvSpPr>
          <p:spPr>
            <a:xfrm>
              <a:off x="6934320" y="3429000"/>
              <a:ext cx="0" cy="2438280"/>
            </a:xfrm>
            <a:prstGeom prst="line">
              <a:avLst/>
            </a:prstGeom>
            <a:ln w="63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6552720" y="3809880"/>
              <a:ext cx="762480" cy="761760"/>
              <a:chOff x="6552720" y="3809880"/>
              <a:chExt cx="762480" cy="761760"/>
            </a:xfrm>
          </p:grpSpPr>
          <p:sp>
            <p:nvSpPr>
              <p:cNvPr id="149" name=""/>
              <p:cNvSpPr/>
              <p:nvPr/>
            </p:nvSpPr>
            <p:spPr>
              <a:xfrm>
                <a:off x="6553080" y="3809880"/>
                <a:ext cx="762120" cy="761760"/>
              </a:xfrm>
              <a:prstGeom prst="ellipse">
                <a:avLst/>
              </a:prstGeom>
              <a:noFill/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6552720" y="3809880"/>
                <a:ext cx="762120" cy="7617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Tre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ne or More Domains that Share a Contiguous DNS Namespac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y.cor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rica.company.cor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ingle Domain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 Tree- It Just Doesn’t Branc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s in a Tree are Called Parent &amp; Child Domains- There is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Other Parent-Child Functiona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ghts and Policies Do NOT “Flow” Across Domain Bound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Forest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rest is Referenced by Root Domain Nam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oot Domain Does Not Have to be a “Production” Domai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not Take the Forest Root Completely Offl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nnot Establish Transitive Trusts Between Forests Until .Ne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ven in .Net, Cannot Establish Transitive Forest-to-Forest Trusts Between Root Domains with the Same Nam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ider Uniqueness of Root Domain Name to Avoid Rename Scenari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it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tes are Physical Regions of “Well-Connected” Machin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ypically LAN = Si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ubnets are Associated with a Si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ent Site Membership is Determined by I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main Controller Site Membership is determined by IP or Manually Configur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tes Are Used by the KCC to Develop Replication Topolog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Forest Root Domai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tains Vital Information that Structures the Fore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nnot Currently Be Renam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.Net AD, Can be Renam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nnot be Recreated if Lo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nnot Establish Trusts Between Two Domains with the Same Nam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Forest Desig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sider an Empty Root Desig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parates Enterprise Admins and Schema Admins Group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 Admins in the Forest Root Can Modify Membership of EA and SA Group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terprise Admins Are, by Default, Members of the Administrators Group on All DCs in the Fore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quire Smart Card/Biometric Logon for Accounts in the Root Dom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hysically Secure the Root DC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ot Domain Name Does Not Have to be Contiguous With Production Namespa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The Basic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ogical Divisions in Active Directo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rganizational Uni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e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res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hysical” Divisions in Active Directo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main Controller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bn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Locking Out Enterprise Admin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You Can’t, Despite Whitepapers that State Otherwis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terprise Admins Can Set Site-Level Group Polic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, Policies that Populate Local Administrators Groups on All Machines in a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cesses in Active Directory Will Restore Permissions on Some Configuration Partition Information, Returning EA Capabilit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Forest Design- Namespac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o Not Get Hung Up on Contiguous Namespa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re is No Functional Difference Between Domains in Separate Trees and Domains in the Same Tre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rust Path May Actually be Shorter in a Multiple-Tree Desig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ultiple Trees Allow for Shorter DNS Namespac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Kerberos Authentication Paths- Branching Tre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666880"/>
            <a:ext cx="990720" cy="857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forestroot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4267080"/>
            <a:ext cx="990720" cy="857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child1.forestroot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5105520"/>
            <a:ext cx="99072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child2.forestroot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086440"/>
            <a:ext cx="99072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child1a.tree1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4267080"/>
            <a:ext cx="990720" cy="857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Child2a.tree1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2666880"/>
            <a:ext cx="990720" cy="857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ee1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447920" y="3580920"/>
            <a:ext cx="380880" cy="6858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3048120"/>
            <a:ext cx="38862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7391520" y="3580920"/>
            <a:ext cx="380880" cy="6858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19920" y="3581280"/>
            <a:ext cx="380880" cy="14479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19160" y="3581280"/>
            <a:ext cx="609480" cy="144792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4952880"/>
          <a:ext cx="56340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952880"/>
                    <a:ext cx="56340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V="1">
            <a:off x="1600200" y="3352320"/>
            <a:ext cx="609480" cy="1143000"/>
          </a:xfrm>
          <a:prstGeom prst="line">
            <a:avLst/>
          </a:prstGeom>
          <a:ln w="572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600200" y="3276720"/>
            <a:ext cx="4952880" cy="1218960"/>
          </a:xfrm>
          <a:prstGeom prst="line">
            <a:avLst/>
          </a:prstGeom>
          <a:ln w="572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495680"/>
            <a:ext cx="5791320" cy="381240"/>
          </a:xfrm>
          <a:prstGeom prst="line">
            <a:avLst/>
          </a:prstGeom>
          <a:ln w="572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0120" y="4952880"/>
          <a:ext cx="3999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4952880"/>
                    <a:ext cx="3999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Kerberos Authentication Paths- Non-Branching Tre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076640" y="3409920"/>
            <a:ext cx="99072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forestroot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2819520"/>
            <a:ext cx="99072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ee5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4648320"/>
            <a:ext cx="99072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ee4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76640" y="4952880"/>
            <a:ext cx="990720" cy="8575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ee3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4648320"/>
            <a:ext cx="99036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ee2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2800440"/>
            <a:ext cx="990360" cy="857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tree1.cor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514600" y="4266720"/>
            <a:ext cx="1600200" cy="38124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532400" y="2819160"/>
            <a:ext cx="2173320" cy="6094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028840" y="4266720"/>
            <a:ext cx="1676520" cy="38124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4266720"/>
            <a:ext cx="0" cy="68580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437920" y="2819160"/>
            <a:ext cx="2133720" cy="60948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09680" y="3490920"/>
          <a:ext cx="56376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90920"/>
                    <a:ext cx="5637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553080" y="5257800"/>
          <a:ext cx="400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5257800"/>
                    <a:ext cx="400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971800" y="3657600"/>
            <a:ext cx="1297080" cy="154080"/>
          </a:xfrm>
          <a:prstGeom prst="line">
            <a:avLst/>
          </a:prstGeom>
          <a:ln w="572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657600"/>
            <a:ext cx="3429000" cy="1371600"/>
          </a:xfrm>
          <a:prstGeom prst="line">
            <a:avLst/>
          </a:prstGeom>
          <a:ln w="572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C Placement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lace At Least One GC in Each Sit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e Aware of Bridgeheads in Replication Topolog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sider Making All DCs GCs, Particularly if Using Exchange 2000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frastructure Master Role Can Reside on a GC if All DCs are GCs, or DCs That Hold the Infrastructure Master Role May Be Left as D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 an Implementation with an Empty Root and One Production Domain, Making All DCs GCs Adds Negligibly to Ntds.dit Size or Replication Traffic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NS Server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n Be Domain Controllers, Member Servers or Standalone Serv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n Non-DCs, Can Host Standard Primary or Standard Secondary Zon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n DCs, Can Host Standard Primary, Standard Secondary or AD-Integrated Zon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-Integrated Zones Are Replicated as Part of the Domain Partition and Therefore an AD-Integrated Zone Cannot Be AD-Integrated in More Than One AD Domai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Changes in .Net with the Addition of the Application Par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C/DNS Servers Can be Secondary for Other Domains’ AD-Integrated Zon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NS Server Placement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t Least One DNS Server in Each Sit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NS Servers Do Not Have to be DCs, Even if You Are Using AD-Integrated DNS Zon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reate Secondary DNS Servers for AD-Integrated Z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Cs That Run DNS Can Host Both AD-Integrated and Standard DNS Z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C/DNS Servers for a Domain Should Be Secondaries for AD-Integrated Zones Stored in and Representing Other Active Directory Domai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lacement of AD-Integrated DNS Zon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ay Decide to Place All AD-Integrated Zones in Root Domai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Cs in Empty Root Tend to Be Underutiliz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entralizes Zones and Security of Z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ay Decide to Place All AD-Integrated Zones in a Production Domai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voids “DNS Island” Issu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NS Island Issue Can be Avoided Without Doing Th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NS Zones are Accessible by Several Groups in Domain- Can Affect Security Configur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ecure Dynamic Updat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D-Integrated DNS Zones Onl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NS Records are Created as AD Objects with AC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cords Cannot be Updated by Machines that Do Not Own the Record or Individuals Without Permiss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achines Cannot Register Their Records Unless They Have Been Authenticat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NSUpdateProxy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llows DHCP Servers to Register DNS Records in AD-Integrated Zones without an Own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rst Security Principal That Modifies the Record Becomes the Own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otential Security Risk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HCP Server Should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be a DC!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ctive Directory Replication Partition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omain Parti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l Objects Contained Within a Dom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figuration Parti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formation that Represents the “Physical” Aspects of Active Directory and Information Needed for Domain Controllers to Establish Replication Topolog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chema Parti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Definition of the Database Structures in a Single Active Directory Fore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Organizational Unit Desig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sign Upper-Level OUs for Delegation of Author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reate OUs for Administrative Boundaries Within a Domain and Delegate Specific Levels of Control to Administrative Staff in that “Boundary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Not Store Administrative Staff User Objects in OUs Over Which They Have Been Delegated Contro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sign Lower-Level OUs for Application of Group Polic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nsider Creating a “Group Policies” OU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omain Controller Concern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hysically Secur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o Not Install Applications on DCs Unless Required by the Appl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o Not Allow Administrators to Locally Access D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o Not Give Administrators Domain Admin Accoun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reate Day-to-Day Administrative Accounts that Are Granted Appropriate Rights and Permissions, but Do Not Make Them Members of Domain Admi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hen Physical Access and/or Domain Admin Privileges are Needed, Require Smart Card/Biometric Logon, etc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ding Objects in Active Directory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bjects in a Domain Cannot Be Hidden from Domain Admins- It May Look Possible, But There is a Glitch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em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dministrative Role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erform Job Task Analysis of Administrative Functio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legate Specific Permissions and Rights to User Accounts that Will be Used to Perform Various Administrative Tasks Based on Job Task Analys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o Not Utilize Domain Admin Accounts for Administration Except when Absolutely Necessa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reful Placement of Services and Serve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hysical Protection and Securing of Domain/Enterprise/Schema Admin Accounts Vit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y-to-Day Administration Should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be Performed Using Accounts with “True” Administrative Right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Tahoma"/>
              </a:rPr>
              <a:t>Questions?</a:t>
            </a:r>
            <a:endParaRPr b="1" lang="en-US" sz="72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Tahoma"/>
              </a:rPr>
              <a:t>Thank you!</a:t>
            </a:r>
            <a:endParaRPr b="1" lang="en-US" sz="7200" spc="-1" strike="noStrike">
              <a:solidFill>
                <a:srgbClr val="33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omain Partition Contain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Groupings of Security Principa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tities with SIDs (Security Identifier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Be Assigned Permissions to Re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System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Directory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Us are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Security Principals in Active Directo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omain Partition Contain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bjects that Organize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rganizational Uni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Organize Security Principals, Contacts, Printer Objects, Share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FS (Distributed File System) structu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to Organize Multiple Shares on Multipl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Windows-Based Computers, NetWare, NF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Replication Top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Servers that Publish Replicas of DFS-included Share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May Replicate Content of Shares in the DFS Topology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omain Partition Contain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Shares and Print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that Represent Shared Folders and Printers; A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hares Themsel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parate ACLs from the Objects they Represen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 Security Principal May Not Have Permission to Access a Shared Folder/Printer, but May Still Have Read Access to the Object Representing the Shar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hange Default ACLs on Share Objects so that Principals that Do Not Have Access to the Share Also Do Not Have Read Permission for the Objec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Domain Partition Contains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D-Integrated DNS Zon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Stored in Active Directory that Represent DNS Resource Rec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DNS Servers that Are Domain Controllers for that Domain Load Zone Information from AD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on-DC DNS Servers Can be Secondaries for the Zone(s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e Among Domain Controllers for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ame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No Replication Across Domains; Only Secondary DNS Servers, Even if the Servers that Are Secondaries Happen to be DCs for a Domain in the Forest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to Represent Only the Domain in Which They Are Sto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onfiguration Partitio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plicates to Every DC in Fore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s the “Map” of Active Directo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mai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us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main Controller Loc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ubn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lication Topolog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onfiguration Partition</a:t>
            </a:r>
            <a:endParaRPr b="1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nless Delegated, Many Objects in the Configuration Partition Can be Created/ Modified Only by Enterprise Admins or DC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wever- a Domain Admin with Physical Access to a Domain Controller for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An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Domain in the Forest May Modify the Configuration Parti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ain Controllers Can Modify the Configuration Partition, Therefore, the DC Itself Could Damage the Configuration Partition as a Result of Administrative 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nstalling Hack/Crack Application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Installing Unintentionally Damaging Application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9:03:09Z</dcterms:created>
  <dc:creator>Laura A. Robinson</dc:creator>
  <dc:description/>
  <dc:language>en-US</dc:language>
  <cp:lastModifiedBy>test</cp:lastModifiedBy>
  <dcterms:modified xsi:type="dcterms:W3CDTF">2002-02-15T07:16:36Z</dcterms:modified>
  <cp:revision>64</cp:revision>
  <dc:subject/>
  <dc:title>PowerPoint Presentation</dc:title>
</cp:coreProperties>
</file>