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597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46560" y="210132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6560" y="458820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8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48240" y="2101320"/>
            <a:ext cx="2768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55240" y="2101320"/>
            <a:ext cx="2768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68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48240" y="4588200"/>
            <a:ext cx="2768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55240" y="4588200"/>
            <a:ext cx="2768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54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6560" y="2101320"/>
            <a:ext cx="41954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0880" y="465120"/>
            <a:ext cx="85978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560" y="2101320"/>
            <a:ext cx="41954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54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6560" y="210132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6560" y="458820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6560" y="2101320"/>
            <a:ext cx="41954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597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5920" y="0"/>
            <a:ext cx="603360" cy="7548480"/>
          </a:xfrm>
          <a:custGeom>
            <a:avLst/>
            <a:gdLst>
              <a:gd name="textAreaLeft" fmla="*/ 360 w 603360"/>
              <a:gd name="textAreaRight" fmla="*/ 603000 w 603360"/>
              <a:gd name="textAreaTop" fmla="*/ 360 h 7548480"/>
              <a:gd name="textAreaBottom" fmla="*/ 7548120 h 7548480"/>
            </a:gdLst>
            <a:ahLst/>
            <a:rect l="textAreaLeft" t="textAreaTop" r="textAreaRight" b="textAreaBottom"/>
            <a:pathLst>
              <a:path w="21600" h="270084">
                <a:moveTo>
                  <a:pt x="56" y="0"/>
                </a:moveTo>
                <a:arcTo wR="56" hR="56" stAng="16200000" swAng="-5400000"/>
                <a:lnTo>
                  <a:pt x="0" y="270028"/>
                </a:lnTo>
                <a:arcTo wR="56" hR="56" stAng="10800000" swAng="-5400000"/>
                <a:lnTo>
                  <a:pt x="21544" y="270084"/>
                </a:lnTo>
                <a:arcTo wR="56" hR="56" stAng="5400000" swAng="-5400000"/>
                <a:lnTo>
                  <a:pt x="21600" y="56"/>
                </a:lnTo>
                <a:arcTo wR="56" hR="56" stAng="0" swAng="-5400000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03360" cy="7548480"/>
          </a:xfrm>
          <a:custGeom>
            <a:avLst/>
            <a:gdLst>
              <a:gd name="textAreaLeft" fmla="*/ 360 w 603360"/>
              <a:gd name="textAreaRight" fmla="*/ 603000 w 603360"/>
              <a:gd name="textAreaTop" fmla="*/ 360 h 7548480"/>
              <a:gd name="textAreaBottom" fmla="*/ 7548120 h 7548480"/>
            </a:gdLst>
            <a:ahLst/>
            <a:rect l="textAreaLeft" t="textAreaTop" r="textAreaRight" b="textAreaBottom"/>
            <a:pathLst>
              <a:path w="21600" h="270084">
                <a:moveTo>
                  <a:pt x="56" y="0"/>
                </a:moveTo>
                <a:arcTo wR="56" hR="56" stAng="16200000" swAng="-5400000"/>
                <a:lnTo>
                  <a:pt x="0" y="270028"/>
                </a:lnTo>
                <a:arcTo wR="56" hR="56" stAng="10800000" swAng="-5400000"/>
                <a:lnTo>
                  <a:pt x="21544" y="270084"/>
                </a:lnTo>
                <a:arcTo wR="56" hR="56" stAng="5400000" swAng="-5400000"/>
                <a:lnTo>
                  <a:pt x="21600" y="56"/>
                </a:lnTo>
                <a:arcTo wR="56" hR="56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853400" y="6942240"/>
            <a:ext cx="612720" cy="606240"/>
            <a:chOff x="7853400" y="6942240"/>
            <a:chExt cx="612720" cy="606240"/>
          </a:xfrm>
        </p:grpSpPr>
        <p:sp>
          <p:nvSpPr>
            <p:cNvPr id="3" name=""/>
            <p:cNvSpPr/>
            <p:nvPr/>
          </p:nvSpPr>
          <p:spPr>
            <a:xfrm>
              <a:off x="7989840" y="6942240"/>
              <a:ext cx="476280" cy="606240"/>
            </a:xfrm>
            <a:custGeom>
              <a:avLst/>
              <a:gdLst>
                <a:gd name="textAreaLeft" fmla="*/ 360 w 476280"/>
                <a:gd name="textAreaRight" fmla="*/ 475920 w 476280"/>
                <a:gd name="textAreaTop" fmla="*/ 360 h 606240"/>
                <a:gd name="textAreaBottom" fmla="*/ 605880 h 606240"/>
              </a:gdLst>
              <a:ahLst/>
              <a:rect l="textAreaLeft" t="textAreaTop" r="textAreaRight" b="textAreaBottom"/>
              <a:pathLst>
                <a:path w="21600" h="27489">
                  <a:moveTo>
                    <a:pt x="72" y="0"/>
                  </a:moveTo>
                  <a:arcTo wR="72" hR="72" stAng="16200000" swAng="-5400000"/>
                  <a:lnTo>
                    <a:pt x="0" y="27417"/>
                  </a:lnTo>
                  <a:arcTo wR="72" hR="72" stAng="10800000" swAng="-5400000"/>
                  <a:lnTo>
                    <a:pt x="21528" y="27489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53400" y="6942240"/>
              <a:ext cx="476280" cy="606240"/>
            </a:xfrm>
            <a:custGeom>
              <a:avLst/>
              <a:gdLst>
                <a:gd name="textAreaLeft" fmla="*/ 360 w 476280"/>
                <a:gd name="textAreaRight" fmla="*/ 475920 w 476280"/>
                <a:gd name="textAreaTop" fmla="*/ 360 h 606240"/>
                <a:gd name="textAreaBottom" fmla="*/ 605880 h 606240"/>
              </a:gdLst>
              <a:ahLst/>
              <a:rect l="textAreaLeft" t="textAreaTop" r="textAreaRight" b="textAreaBottom"/>
              <a:pathLst>
                <a:path w="21600" h="27489">
                  <a:moveTo>
                    <a:pt x="72" y="0"/>
                  </a:moveTo>
                  <a:arcTo wR="72" hR="72" stAng="16200000" swAng="-5400000"/>
                  <a:lnTo>
                    <a:pt x="0" y="27417"/>
                  </a:lnTo>
                  <a:arcTo wR="72" hR="72" stAng="10800000" swAng="-5400000"/>
                  <a:lnTo>
                    <a:pt x="21528" y="27489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640720" y="6942240"/>
            <a:ext cx="612720" cy="606240"/>
            <a:chOff x="8640720" y="6942240"/>
            <a:chExt cx="612720" cy="606240"/>
          </a:xfrm>
        </p:grpSpPr>
        <p:sp>
          <p:nvSpPr>
            <p:cNvPr id="6" name=""/>
            <p:cNvSpPr/>
            <p:nvPr/>
          </p:nvSpPr>
          <p:spPr>
            <a:xfrm>
              <a:off x="8778960" y="6942240"/>
              <a:ext cx="474480" cy="606240"/>
            </a:xfrm>
            <a:custGeom>
              <a:avLst/>
              <a:gdLst>
                <a:gd name="textAreaLeft" fmla="*/ 360 w 474480"/>
                <a:gd name="textAreaRight" fmla="*/ 474120 w 474480"/>
                <a:gd name="textAreaTop" fmla="*/ 360 h 606240"/>
                <a:gd name="textAreaBottom" fmla="*/ 605880 h 606240"/>
              </a:gdLst>
              <a:ahLst/>
              <a:rect l="textAreaLeft" t="textAreaTop" r="textAreaRight" b="textAreaBottom"/>
              <a:pathLst>
                <a:path w="21600" h="27594">
                  <a:moveTo>
                    <a:pt x="72" y="0"/>
                  </a:moveTo>
                  <a:arcTo wR="72" hR="72" stAng="16200000" swAng="-5400000"/>
                  <a:lnTo>
                    <a:pt x="0" y="27522"/>
                  </a:lnTo>
                  <a:arcTo wR="72" hR="72" stAng="10800000" swAng="-5400000"/>
                  <a:lnTo>
                    <a:pt x="21528" y="27594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40720" y="6942240"/>
              <a:ext cx="474840" cy="606240"/>
            </a:xfrm>
            <a:custGeom>
              <a:avLst/>
              <a:gdLst>
                <a:gd name="textAreaLeft" fmla="*/ 360 w 474840"/>
                <a:gd name="textAreaRight" fmla="*/ 474480 w 474840"/>
                <a:gd name="textAreaTop" fmla="*/ 360 h 606240"/>
                <a:gd name="textAreaBottom" fmla="*/ 605880 h 606240"/>
              </a:gdLst>
              <a:ahLst/>
              <a:rect l="textAreaLeft" t="textAreaTop" r="textAreaRight" b="textAreaBottom"/>
              <a:pathLst>
                <a:path w="21600" h="27573">
                  <a:moveTo>
                    <a:pt x="72" y="0"/>
                  </a:moveTo>
                  <a:arcTo wR="72" hR="72" stAng="16200000" swAng="-5400000"/>
                  <a:lnTo>
                    <a:pt x="0" y="27501"/>
                  </a:lnTo>
                  <a:arcTo wR="72" hR="72" stAng="10800000" swAng="-5400000"/>
                  <a:lnTo>
                    <a:pt x="21528" y="27573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9455040" y="6942240"/>
            <a:ext cx="612720" cy="606240"/>
            <a:chOff x="9455040" y="6942240"/>
            <a:chExt cx="612720" cy="606240"/>
          </a:xfrm>
        </p:grpSpPr>
        <p:sp>
          <p:nvSpPr>
            <p:cNvPr id="9" name=""/>
            <p:cNvSpPr/>
            <p:nvPr/>
          </p:nvSpPr>
          <p:spPr>
            <a:xfrm>
              <a:off x="9593280" y="6942240"/>
              <a:ext cx="474480" cy="606240"/>
            </a:xfrm>
            <a:custGeom>
              <a:avLst/>
              <a:gdLst>
                <a:gd name="textAreaLeft" fmla="*/ 360 w 474480"/>
                <a:gd name="textAreaRight" fmla="*/ 474120 w 474480"/>
                <a:gd name="textAreaTop" fmla="*/ 360 h 606240"/>
                <a:gd name="textAreaBottom" fmla="*/ 605880 h 606240"/>
              </a:gdLst>
              <a:ahLst/>
              <a:rect l="textAreaLeft" t="textAreaTop" r="textAreaRight" b="textAreaBottom"/>
              <a:pathLst>
                <a:path w="21600" h="27594">
                  <a:moveTo>
                    <a:pt x="72" y="0"/>
                  </a:moveTo>
                  <a:arcTo wR="72" hR="72" stAng="16200000" swAng="-5400000"/>
                  <a:lnTo>
                    <a:pt x="0" y="27522"/>
                  </a:lnTo>
                  <a:arcTo wR="72" hR="72" stAng="10800000" swAng="-5400000"/>
                  <a:lnTo>
                    <a:pt x="21528" y="27594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455040" y="6942240"/>
              <a:ext cx="476280" cy="606240"/>
            </a:xfrm>
            <a:custGeom>
              <a:avLst/>
              <a:gdLst>
                <a:gd name="textAreaLeft" fmla="*/ 360 w 476280"/>
                <a:gd name="textAreaRight" fmla="*/ 475920 w 476280"/>
                <a:gd name="textAreaTop" fmla="*/ 360 h 606240"/>
                <a:gd name="textAreaBottom" fmla="*/ 605880 h 606240"/>
              </a:gdLst>
              <a:ahLst/>
              <a:rect l="textAreaLeft" t="textAreaTop" r="textAreaRight" b="textAreaBottom"/>
              <a:pathLst>
                <a:path w="21600" h="27489">
                  <a:moveTo>
                    <a:pt x="72" y="0"/>
                  </a:moveTo>
                  <a:arcTo wR="72" hR="72" stAng="16200000" swAng="-5400000"/>
                  <a:lnTo>
                    <a:pt x="0" y="27417"/>
                  </a:lnTo>
                  <a:arcTo wR="72" hR="72" stAng="10800000" swAng="-5400000"/>
                  <a:lnTo>
                    <a:pt x="21528" y="27489"/>
                  </a:lnTo>
                  <a:arcTo wR="72" hR="72" stAng="5400000" swAng="-5400000"/>
                  <a:lnTo>
                    <a:pt x="21600" y="72"/>
                  </a:lnTo>
                  <a:arcTo wR="72" hR="72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2" marL="1069920" indent="-42228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3" marL="1357200" indent="-42516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4" marL="1646280" indent="-4255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5" marL="1646280" indent="-425520">
              <a:spcAft>
                <a:spcPts val="1338"/>
              </a:spcAft>
              <a:buClr>
                <a:srgbClr val="000000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6" marL="1646280" indent="-425520">
              <a:spcAft>
                <a:spcPts val="1338"/>
              </a:spcAft>
              <a:buClr>
                <a:srgbClr val="000000"/>
              </a:buClr>
              <a:buSzPct val="75000"/>
              <a:buFont typeface="StarBats" charset="2"/>
              <a:buChar char="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Data Hiding on NT/2K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741240" y="3934080"/>
            <a:ext cx="8597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06280" indent="-206280" algn="ctr">
              <a:lnSpc>
                <a:spcPct val="100000"/>
              </a:lnSpc>
              <a:tabLst>
                <a:tab algn="l" pos="0"/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by Harlan Ca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6280" indent="-206280" algn="ctr">
              <a:lnSpc>
                <a:spcPct val="100000"/>
              </a:lnSpc>
              <a:tabLst>
                <a:tab algn="l" pos="0"/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keydet89@yahoo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File Splitting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ile Splitting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Almost as old as DO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Many programs availabl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Malicious us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File Splitting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2703600"/>
            <a:ext cx="1803240" cy="3541680"/>
          </a:xfrm>
          <a:custGeom>
            <a:avLst/>
            <a:gdLst>
              <a:gd name="textAreaLeft" fmla="*/ 360 w 1803240"/>
              <a:gd name="textAreaRight" fmla="*/ 1802880 w 1803240"/>
              <a:gd name="textAreaTop" fmla="*/ 360 h 3541680"/>
              <a:gd name="textAreaBottom" fmla="*/ 3541320 h 3541680"/>
            </a:gdLst>
            <a:ahLst/>
            <a:rect l="textAreaLeft" t="textAreaTop" r="textAreaRight" b="textAreaBottom"/>
            <a:pathLst>
              <a:path w="21600" h="42420">
                <a:moveTo>
                  <a:pt x="19" y="0"/>
                </a:moveTo>
                <a:arcTo wR="19" hR="19" stAng="16200000" swAng="-5400000"/>
                <a:lnTo>
                  <a:pt x="0" y="42401"/>
                </a:lnTo>
                <a:arcTo wR="19" hR="19" stAng="10800000" swAng="-5400000"/>
                <a:lnTo>
                  <a:pt x="21581" y="42420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97720" y="3319560"/>
            <a:ext cx="2139840" cy="530280"/>
          </a:xfrm>
          <a:prstGeom prst="roundRect">
            <a:avLst>
              <a:gd name="adj" fmla="val 29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83320" y="3949560"/>
            <a:ext cx="2139840" cy="530280"/>
          </a:xfrm>
          <a:prstGeom prst="roundRect">
            <a:avLst>
              <a:gd name="adj" fmla="val 29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7720" y="4608360"/>
            <a:ext cx="2139840" cy="530280"/>
          </a:xfrm>
          <a:prstGeom prst="roundRect">
            <a:avLst>
              <a:gd name="adj" fmla="val 29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11760" y="5295960"/>
            <a:ext cx="2140200" cy="530280"/>
          </a:xfrm>
          <a:prstGeom prst="roundRect">
            <a:avLst>
              <a:gd name="adj" fmla="val 29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6160" y="5967360"/>
            <a:ext cx="2139840" cy="530280"/>
          </a:xfrm>
          <a:prstGeom prst="roundRect">
            <a:avLst>
              <a:gd name="adj" fmla="val 29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11760" y="2662200"/>
            <a:ext cx="2140200" cy="530280"/>
          </a:xfrm>
          <a:prstGeom prst="roundRect">
            <a:avLst>
              <a:gd name="adj" fmla="val 29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73280" y="4173480"/>
            <a:ext cx="2395800" cy="0"/>
          </a:xfrm>
          <a:prstGeom prst="line">
            <a:avLst/>
          </a:prstGeom>
          <a:ln w="146160">
            <a:solidFill>
              <a:srgbClr val="2300d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60360" y="2087640"/>
            <a:ext cx="163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88240" y="2116080"/>
            <a:ext cx="322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ily sized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touching” fil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Alter the creation, last access, last modification dat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'touch' in Unix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Microsoft SetFileTime() API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Hide from search tools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dir /t[:a]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afind.exe (FoundStone)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File Binding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Elite Wrap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aran Wrap, Silk Rop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OLE/COM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MS OLE/COM API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“</a:t>
            </a: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Structured Storage”, “Compound files”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“</a:t>
            </a: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File system within a file”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Proprietary formats (serialization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NTFS Alternate Data Stream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NTFS4 (NT) and NTFS5 (2K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Creating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Using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Running executables hidden in ADS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NTFS4 vs. NTFS5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Creating ADS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Type command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Type notepad.exe &gt; myfile.txt:np.exe 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Cp.exe from Resource Kit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Bind to file or directory listing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Notepad myfile.txt:hidden.tx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Notepad :hidden.tx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Executing ADS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Running executables hidden in ADSs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Native method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NTFS4 - ‘start’ (FoundStone)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NTFS5 - several methods (Zenkin &amp; Kaspersky)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Detecting ADS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lads.exe, by Frank Heyne (heysoft.de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sfind.exe (FoundStone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streams.exe (SysInternals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ads.pl (Perl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Encryption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PGP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crypt (ntsecurity.nu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Perl (Crypt::TripleDES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465120"/>
            <a:ext cx="859788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Updated Slides/Scripts/Demo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741240" y="4208400"/>
            <a:ext cx="8597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06280" indent="-206280" algn="ctr">
              <a:lnSpc>
                <a:spcPct val="100000"/>
              </a:lnSpc>
              <a:tabLst>
                <a:tab algn="l" pos="0"/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ttp://patriot.net/~carvdawg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Steganography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he art of hiding information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-Tools4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http://www.citi.umich.edu/u/provos/stego/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Registry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Licensing information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Software installation dates and information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"Hidden" Functionality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Registry keys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Used by various malwar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The ubiquitous "Run" key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Autorun.inf (NT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StartUp directori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hosts fil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4640" y="1537920"/>
            <a:ext cx="859788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"</a:t>
            </a:r>
            <a:r>
              <a:rPr b="1" lang="en-US" sz="4000" spc="-1" strike="noStrike">
                <a:solidFill>
                  <a:srgbClr val="99284c"/>
                </a:solidFill>
                <a:latin typeface="Comic Sans MS"/>
              </a:rPr>
              <a:t>Life is fine when things combine,</a:t>
            </a:r>
            <a:br>
              <a:rPr sz="4000"/>
            </a:br>
            <a:r>
              <a:rPr b="1" lang="en-US" sz="4000" spc="-1" strike="noStrike">
                <a:solidFill>
                  <a:srgbClr val="99284c"/>
                </a:solidFill>
                <a:latin typeface="Comic Sans MS"/>
              </a:rPr>
              <a:t>Like ham and beef chow mien...</a:t>
            </a: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"</a:t>
            </a: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99284c"/>
                </a:solidFill>
                <a:latin typeface="Comic Sans MS"/>
              </a:rPr>
              <a:t>Berkeley Breathed</a:t>
            </a:r>
            <a:br>
              <a:rPr sz="4000"/>
            </a:br>
            <a:r>
              <a:rPr b="1" lang="en-US" sz="4000" spc="-1" strike="noStrike">
                <a:solidFill>
                  <a:srgbClr val="99284c"/>
                </a:solidFill>
                <a:latin typeface="Comic Sans MS"/>
              </a:rPr>
              <a:t>circa '84</a:t>
            </a:r>
            <a:endParaRPr b="1" lang="en-US" sz="4000" spc="-1" strike="noStrike">
              <a:solidFill>
                <a:srgbClr val="99284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163080"/>
            <a:ext cx="8597880" cy="21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Combining Techniques</a:t>
            </a:r>
            <a:br>
              <a:rPr sz="4400"/>
            </a:br>
            <a:r>
              <a:rPr b="1" lang="en-US" sz="4000" spc="-1" strike="noStrike">
                <a:solidFill>
                  <a:srgbClr val="99284c"/>
                </a:solidFill>
                <a:latin typeface="Comic Sans MS"/>
              </a:rPr>
              <a:t>(Encrypt the data, transplant file signatures, then ‘touch’)</a:t>
            </a:r>
            <a:endParaRPr b="1" lang="en-US" sz="40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274760" y="4076640"/>
            <a:ext cx="1354320" cy="2390760"/>
          </a:xfrm>
          <a:custGeom>
            <a:avLst/>
            <a:gdLst>
              <a:gd name="textAreaLeft" fmla="*/ 360 w 1354320"/>
              <a:gd name="textAreaRight" fmla="*/ 1353960 w 1354320"/>
              <a:gd name="textAreaTop" fmla="*/ 360 h 2390760"/>
              <a:gd name="textAreaBottom" fmla="*/ 2390400 h 2390760"/>
            </a:gdLst>
            <a:ahLst/>
            <a:rect l="textAreaLeft" t="textAreaTop" r="textAreaRight" b="textAreaBottom"/>
            <a:pathLst>
              <a:path w="21600" h="38126">
                <a:moveTo>
                  <a:pt x="25" y="0"/>
                </a:moveTo>
                <a:arcTo wR="25" hR="25" stAng="16200000" swAng="-5400000"/>
                <a:lnTo>
                  <a:pt x="0" y="38101"/>
                </a:lnTo>
                <a:arcTo wR="25" hR="25" stAng="10800000" swAng="-5400000"/>
                <a:lnTo>
                  <a:pt x="21575" y="38126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2880" y="3879720"/>
            <a:ext cx="1339920" cy="696960"/>
          </a:xfrm>
          <a:prstGeom prst="roundRect">
            <a:avLst>
              <a:gd name="adj" fmla="val 227"/>
            </a:avLst>
          </a:prstGeom>
          <a:solidFill>
            <a:srgbClr val="e6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65840" y="3781440"/>
            <a:ext cx="1339920" cy="696960"/>
          </a:xfrm>
          <a:prstGeom prst="roundRect">
            <a:avLst>
              <a:gd name="adj" fmla="val 227"/>
            </a:avLst>
          </a:prstGeom>
          <a:solidFill>
            <a:srgbClr val="e6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65840" y="4510080"/>
            <a:ext cx="1339920" cy="1830240"/>
          </a:xfrm>
          <a:custGeom>
            <a:avLst/>
            <a:gdLst>
              <a:gd name="textAreaLeft" fmla="*/ 360 w 1339920"/>
              <a:gd name="textAreaRight" fmla="*/ 1339560 w 1339920"/>
              <a:gd name="textAreaTop" fmla="*/ 360 h 1830240"/>
              <a:gd name="textAreaBottom" fmla="*/ 1829880 h 1830240"/>
            </a:gdLst>
            <a:ahLst/>
            <a:rect l="textAreaLeft" t="textAreaTop" r="textAreaRight" b="textAreaBottom"/>
            <a:pathLst>
              <a:path w="21600" h="29502">
                <a:moveTo>
                  <a:pt x="25" y="0"/>
                </a:moveTo>
                <a:arcTo wR="25" hR="25" stAng="16200000" swAng="-5400000"/>
                <a:lnTo>
                  <a:pt x="0" y="29477"/>
                </a:lnTo>
                <a:arcTo wR="25" hR="25" stAng="10800000" swAng="-5400000"/>
                <a:lnTo>
                  <a:pt x="21575" y="29502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720" y="6653160"/>
            <a:ext cx="2489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gate DL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4520" y="5589720"/>
            <a:ext cx="1508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ed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09080" y="3446640"/>
            <a:ext cx="1704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lanted signatur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3760" y="4202280"/>
            <a:ext cx="3194280" cy="0"/>
          </a:xfrm>
          <a:prstGeom prst="line">
            <a:avLst/>
          </a:prstGeom>
          <a:ln w="1645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43320" y="4425840"/>
            <a:ext cx="80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e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6760" y="3390840"/>
            <a:ext cx="292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ignatur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3360" y="6429240"/>
            <a:ext cx="2506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touch' file to alter creation dat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How to prevent/detect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Reactiv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Real-tim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Reactive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Tripwire-like utiliti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Requires a baseline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napshot of files/Registry at one tim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Compare at a later dat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Needs to include searches for ADS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New files or file modifications based on MD5 hash, not filetim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Reactive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EventLog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et file/dir ACLs appropriately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Enable appropriate auditing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Periodic scan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Appropriate settings can also be considered proactive, real-time prevention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Real-time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Make use of API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In Perl, use Win32::AdvNotify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'Watch' for File Event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FSW.pl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;Times"/>
              </a:rPr>
              <a:t>Combine w/ Win32::Daemon, perhaps Net::Syslog to create a Win32 Service w/ syslog reporting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Questions?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38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Purpose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Present/discuss different techniques for hiding data on NT/2K system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Address methods of preventing and detecting this activity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What is NOT covered?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Maintenance tracks, boot sector, file slack, etc.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What is being hidden?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Data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Text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Output of commands (samdump, etc.)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Executabl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Program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Game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Rootkits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Who are we hiding it from?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Other user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Administrator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Investigators/forensics analyst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Altering fil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File Change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Nam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Extension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  <a:p>
            <a:pPr lvl="1" marL="781200" indent="-424080">
              <a:spcAft>
                <a:spcPts val="1049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;Times"/>
              </a:rPr>
              <a:t>Signature</a:t>
            </a:r>
            <a:endParaRPr b="0" lang="en-US" sz="28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Altering Names/Extension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2743200"/>
            <a:ext cx="79250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amdump.log -&gt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:\winnt\system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\MSODBC32.D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Altering file signatur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First 20 bytes of the fil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Change JFIF/GIF89a in graphics file to something else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Executables (.exe, .dll, .sys, .ocx, .scr) begin w/ “MZ”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;Times"/>
              </a:rPr>
              <a:t>Sigs.pl performs signature analysis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0">
              <a:spcAft>
                <a:spcPts val="1338"/>
              </a:spcAft>
              <a:buNone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978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6280" indent="0" algn="ctr">
              <a:buNone/>
              <a:tabLst>
                <a:tab algn="l" pos="0"/>
                <a:tab algn="l" pos="206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99284c"/>
                </a:solidFill>
                <a:latin typeface="Comic Sans MS"/>
              </a:rPr>
              <a:t>DOS Attributes</a:t>
            </a:r>
            <a:endParaRPr b="1" lang="en-US" sz="4400" spc="-1" strike="noStrike">
              <a:solidFill>
                <a:srgbClr val="99284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'Attrib' command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Explorer settings 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'dir' switch (dir /a[:h]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Perl ignores (opendir/readdir, glob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  <a:p>
            <a:pPr marL="493560" indent="-423720">
              <a:spcAft>
                <a:spcPts val="1338"/>
              </a:spcAft>
              <a:buClr>
                <a:srgbClr val="99284c"/>
              </a:buClr>
              <a:buSzPct val="75000"/>
              <a:buFont typeface="StarBats" charset="2"/>
              <a:buChar char="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;Times"/>
              </a:rPr>
              <a:t>hfind.exe (FoundStone)</a:t>
            </a:r>
            <a:endParaRPr b="0" lang="en-US" sz="3200" spc="-1" strike="noStrike">
              <a:solidFill>
                <a:srgbClr val="000080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15:51:17Z</dcterms:created>
  <dc:creator/>
  <dc:description/>
  <dc:language>en-US</dc:language>
  <cp:lastModifiedBy>H. Carvey</cp:lastModifiedBy>
  <cp:lastPrinted>2001-09-07T01:38:56Z</cp:lastPrinted>
  <dcterms:modified xsi:type="dcterms:W3CDTF">2002-02-02T19:10:53Z</dcterms:modified>
  <cp:revision>30</cp:revision>
  <dc:subject/>
  <dc:title>Data Hiding on NT/2K</dc:title>
</cp:coreProperties>
</file>