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CF57-4200-4804-87F3-77C51A0F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2914-349D-4D7D-B02E-8C103451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98CF-DF51-444D-8C40-265EC01F0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7F50-4EA7-4B48-BFC9-71F3082D2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7CE6-BBEE-47F9-B2F1-65F8597D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DA31-73DD-4615-92A6-6DC81700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287D-8B5A-413E-961A-7226F5B2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300D-2CF1-4432-B240-506D4B75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C513-F6D0-430C-891A-6D3E05F6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16D9-679E-4C0E-911D-BA4C407C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C91D-41EB-439B-A2BC-270EF1A6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BE39-E0A1-4831-A20A-BB206838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B382-3114-4D93-A3A0-BDAC5FC79D6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0 Microsoft Corp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F2C2-1D5A-4FBF-A3F4-EC5AA9AB8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tf.org/internet-drafts/draft-ietf-ipsec-isakmp-gss-auth-06.txt" TargetMode="External"/><Relationship Id="rId2" Type="http://schemas.openxmlformats.org/officeDocument/2006/relationships/hyperlink" Target="http://www.microsoft.com/Windows2000/Library/technologies/security" TargetMode="External"/><Relationship Id="rId3" Type="http://schemas.openxmlformats.org/officeDocument/2006/relationships/hyperlink" Target="http://www.microsoft.com/Windows2000/Library/technologies/security" TargetMode="External"/><Relationship Id="rId4" Type="http://schemas.openxmlformats.org/officeDocument/2006/relationships/hyperlink" Target="http://www.cybersafe.com/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KE Authentication using GSS-API Kerberos v5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draft-ietf-ipsec-isakmp-gss-auth-06.tx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36576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iam Dix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Manager, Network Security, IP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KE GSS-API MM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ows 2000 Beta2 (Aug 1998), Beta3 (Mar 1999) had to work within current draft docs, so us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dor id = “GSSAPI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KE Auth method = 65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KE Payload identifier = 1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S-API Identity Name class value = 3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D586-DB2D-477E-BDD5-F85D2D1948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KE GSS-API HASH Gene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_I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SS_Wra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prf(SKEYID, g^xi | g^xr | CKY-I | CKY-R | SAi_b |IDii_b |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SSIi [ | GSSi2]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_R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SS_Wra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prf(SKEYID, g^xr | g^xi | CKY-R | CKY-I | SAi_b |IDir_b |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SSIr [ | GSSr2]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binds GSS-API identities and tokens to Main M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SS_Wrap on prf output for smaller amount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D82E-663D-4F1D-9E45-AD32B18880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 Experi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1805040" y="3486240"/>
            <a:ext cx="861840" cy="8334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-720" y="36565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-720" y="1446840"/>
            <a:ext cx="200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2000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main (KD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505320" y="3276720"/>
            <a:ext cx="3200400" cy="1008720"/>
          </a:xfrm>
          <a:prstGeom prst="borderCallout2">
            <a:avLst>
              <a:gd name="adj1" fmla="val 18750"/>
              <a:gd name="adj2" fmla="val -8333"/>
              <a:gd name="adj3" fmla="val 8532"/>
              <a:gd name="adj4" fmla="val 8930"/>
              <a:gd name="adj5" fmla="val 157972"/>
              <a:gd name="adj6" fmla="val 8925"/>
            </a:avLst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 exchange contains GSS-Kerb5 Token formats (RFC 196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1371600" y="1295280"/>
            <a:ext cx="1803240" cy="1424160"/>
            <a:chOff x="1371600" y="1295280"/>
            <a:chExt cx="1803240" cy="1424160"/>
          </a:xfrm>
        </p:grpSpPr>
        <p:sp>
          <p:nvSpPr>
            <p:cNvPr id="391" name=""/>
            <p:cNvSpPr/>
            <p:nvPr/>
          </p:nvSpPr>
          <p:spPr>
            <a:xfrm>
              <a:off x="1371600" y="1295280"/>
              <a:ext cx="1803240" cy="1424160"/>
            </a:xfrm>
            <a:prstGeom prst="triangle">
              <a:avLst>
                <a:gd name="adj" fmla="val 49986"/>
              </a:avLst>
            </a:prstGeom>
            <a:gradFill rotWithShape="0">
              <a:gsLst>
                <a:gs pos="0">
                  <a:srgbClr val="65657e"/>
                </a:gs>
                <a:gs pos="100000">
                  <a:srgbClr val="ccccff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280960" y="1735920"/>
              <a:ext cx="0" cy="1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99960" y="1609200"/>
              <a:ext cx="158400" cy="115920"/>
            </a:xfrm>
            <a:prstGeom prst="ellipse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2114280" y="1922760"/>
              <a:ext cx="166320" cy="24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296800" y="1937520"/>
              <a:ext cx="248760" cy="25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203200" y="1839240"/>
              <a:ext cx="156600" cy="117720"/>
            </a:xfrm>
            <a:prstGeom prst="ellipse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1809000" y="2231640"/>
              <a:ext cx="27900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14280" y="2222280"/>
              <a:ext cx="298080" cy="30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114280" y="2215800"/>
              <a:ext cx="0" cy="31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52400" y="2201400"/>
              <a:ext cx="16956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731600" y="2465640"/>
              <a:ext cx="158400" cy="116280"/>
            </a:xfrm>
            <a:prstGeom prst="ellipse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72840" y="2150280"/>
              <a:ext cx="158400" cy="116280"/>
            </a:xfrm>
            <a:prstGeom prst="ellipse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028600" y="2150280"/>
              <a:ext cx="156600" cy="116280"/>
            </a:xfrm>
            <a:prstGeom prst="ellipse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634840" y="2465640"/>
              <a:ext cx="158400" cy="116280"/>
            </a:xfrm>
            <a:prstGeom prst="ellipse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331720" y="2465640"/>
              <a:ext cx="156960" cy="116280"/>
            </a:xfrm>
            <a:prstGeom prst="ellipse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34720" y="2465640"/>
              <a:ext cx="158400" cy="116280"/>
            </a:xfrm>
            <a:prstGeom prst="ellipse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V="1">
            <a:off x="2514600" y="2742840"/>
            <a:ext cx="76320" cy="1066680"/>
          </a:xfrm>
          <a:prstGeom prst="line">
            <a:avLst/>
          </a:prstGeom>
          <a:ln w="38160">
            <a:solidFill>
              <a:srgbClr val="cc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473400" y="4479120"/>
            <a:ext cx="2925360" cy="1487880"/>
            <a:chOff x="473400" y="4479120"/>
            <a:chExt cx="2925360" cy="1487880"/>
          </a:xfrm>
        </p:grpSpPr>
        <p:sp>
          <p:nvSpPr>
            <p:cNvPr id="409" name=""/>
            <p:cNvSpPr/>
            <p:nvPr/>
          </p:nvSpPr>
          <p:spPr>
            <a:xfrm>
              <a:off x="554760" y="5036400"/>
              <a:ext cx="75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SP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96440" y="5568120"/>
              <a:ext cx="1877040" cy="398880"/>
            </a:xfrm>
            <a:prstGeom prst="rect">
              <a:avLst/>
            </a:prstGeom>
            <a:gradFill rotWithShape="0">
              <a:gsLst>
                <a:gs pos="0">
                  <a:srgbClr val="5e5e75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erberos S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73400" y="4479120"/>
              <a:ext cx="2925360" cy="398880"/>
            </a:xfrm>
            <a:prstGeom prst="rect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ternet Key Excha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1334880" y="5254200"/>
              <a:ext cx="2001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77920" y="4913280"/>
              <a:ext cx="0" cy="63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740400" y="4800600"/>
            <a:ext cx="147600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 Ex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ed In All Windows 2000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6779520" y="2657160"/>
            <a:ext cx="160920" cy="822600"/>
          </a:xfrm>
          <a:prstGeom prst="line">
            <a:avLst/>
          </a:prstGeom>
          <a:ln w="38160">
            <a:solidFill>
              <a:srgbClr val="cc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429000" y="4572000"/>
            <a:ext cx="2133720" cy="0"/>
          </a:xfrm>
          <a:prstGeom prst="line">
            <a:avLst/>
          </a:prstGeom>
          <a:ln w="38160">
            <a:solidFill>
              <a:srgbClr val="99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6553080" y="3429000"/>
            <a:ext cx="862200" cy="833400"/>
          </a:xfrm>
          <a:prstGeom prst="rect">
            <a:avLst/>
          </a:prstGeom>
          <a:ln w="0">
            <a:noFill/>
          </a:ln>
        </p:spPr>
      </p:pic>
      <p:grpSp>
        <p:nvGrpSpPr>
          <p:cNvPr id="419" name=""/>
          <p:cNvGrpSpPr/>
          <p:nvPr/>
        </p:nvGrpSpPr>
        <p:grpSpPr>
          <a:xfrm>
            <a:off x="5713560" y="4494960"/>
            <a:ext cx="2925360" cy="1487880"/>
            <a:chOff x="5713560" y="4494960"/>
            <a:chExt cx="2925360" cy="1487880"/>
          </a:xfrm>
        </p:grpSpPr>
        <p:sp>
          <p:nvSpPr>
            <p:cNvPr id="420" name=""/>
            <p:cNvSpPr/>
            <p:nvPr/>
          </p:nvSpPr>
          <p:spPr>
            <a:xfrm>
              <a:off x="5794920" y="5052240"/>
              <a:ext cx="75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SP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636600" y="5583960"/>
              <a:ext cx="1877040" cy="398880"/>
            </a:xfrm>
            <a:prstGeom prst="rect">
              <a:avLst/>
            </a:prstGeom>
            <a:gradFill rotWithShape="0">
              <a:gsLst>
                <a:gs pos="0">
                  <a:srgbClr val="5e5e75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erberos S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13560" y="4494960"/>
              <a:ext cx="2925360" cy="398880"/>
            </a:xfrm>
            <a:prstGeom prst="rect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ternet Key Excha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6575040" y="5270040"/>
              <a:ext cx="2001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318080" y="4929120"/>
              <a:ext cx="0" cy="63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5638680" y="1295280"/>
            <a:ext cx="1803600" cy="1424160"/>
            <a:chOff x="5638680" y="1295280"/>
            <a:chExt cx="1803600" cy="1424160"/>
          </a:xfrm>
        </p:grpSpPr>
        <p:sp>
          <p:nvSpPr>
            <p:cNvPr id="426" name=""/>
            <p:cNvSpPr/>
            <p:nvPr/>
          </p:nvSpPr>
          <p:spPr>
            <a:xfrm>
              <a:off x="5638680" y="1295280"/>
              <a:ext cx="1803600" cy="1424160"/>
            </a:xfrm>
            <a:prstGeom prst="triangle">
              <a:avLst>
                <a:gd name="adj" fmla="val 49986"/>
              </a:avLst>
            </a:prstGeom>
            <a:gradFill rotWithShape="0">
              <a:gsLst>
                <a:gs pos="0">
                  <a:srgbClr val="65657e"/>
                </a:gs>
                <a:gs pos="100000">
                  <a:srgbClr val="ccccff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548400" y="1735920"/>
              <a:ext cx="0" cy="1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67400" y="1609200"/>
              <a:ext cx="158760" cy="115920"/>
            </a:xfrm>
            <a:prstGeom prst="ellipse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381360" y="1922760"/>
              <a:ext cx="166680" cy="24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564240" y="1937520"/>
              <a:ext cx="249120" cy="25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70640" y="1839240"/>
              <a:ext cx="156960" cy="117720"/>
            </a:xfrm>
            <a:prstGeom prst="ellipse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6076800" y="2231640"/>
              <a:ext cx="27936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381720" y="2222280"/>
              <a:ext cx="298440" cy="30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381720" y="2215800"/>
              <a:ext cx="0" cy="31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819840" y="2201400"/>
              <a:ext cx="16992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999040" y="2465640"/>
              <a:ext cx="158760" cy="116280"/>
            </a:xfrm>
            <a:prstGeom prst="ellipse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740280" y="2150280"/>
              <a:ext cx="158760" cy="116280"/>
            </a:xfrm>
            <a:prstGeom prst="ellipse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296040" y="2150280"/>
              <a:ext cx="156960" cy="116280"/>
            </a:xfrm>
            <a:prstGeom prst="ellipse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02280" y="2465640"/>
              <a:ext cx="158760" cy="116280"/>
            </a:xfrm>
            <a:prstGeom prst="ellipse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99160" y="2465640"/>
              <a:ext cx="157320" cy="116280"/>
            </a:xfrm>
            <a:prstGeom prst="ellipse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02160" y="2465640"/>
              <a:ext cx="158760" cy="116280"/>
            </a:xfrm>
            <a:prstGeom prst="ellipse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2895480" y="2209680"/>
            <a:ext cx="3124440" cy="0"/>
          </a:xfrm>
          <a:prstGeom prst="line">
            <a:avLst/>
          </a:prstGeom>
          <a:ln w="12600">
            <a:solidFill>
              <a:srgbClr val="333333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95480" y="22096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main/Forest Kerberos tr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009560" y="29707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7280" y="1522800"/>
            <a:ext cx="200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2000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main (KD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ABAB-D219-4521-96E3-0FDD84719893}" type="slidenum">
              <a:t>13</a:t>
            </a:fld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1805040" y="3409920"/>
            <a:ext cx="861840" cy="8334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-720" y="358056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47040" y="1675440"/>
            <a:ext cx="200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2000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962520" y="3200400"/>
            <a:ext cx="2743200" cy="1008720"/>
          </a:xfrm>
          <a:prstGeom prst="borderCallout2">
            <a:avLst>
              <a:gd name="adj1" fmla="val 18750"/>
              <a:gd name="adj2" fmla="val -8333"/>
              <a:gd name="adj3" fmla="val 11041"/>
              <a:gd name="adj4" fmla="val -4398"/>
              <a:gd name="adj5" fmla="val 157935"/>
              <a:gd name="adj6" fmla="val -6245"/>
            </a:avLst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 payload contains GSS-Kerb5 Token formats (RFC 196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1828800" y="1523880"/>
            <a:ext cx="1803240" cy="1424160"/>
            <a:chOff x="1828800" y="1523880"/>
            <a:chExt cx="1803240" cy="1424160"/>
          </a:xfrm>
        </p:grpSpPr>
        <p:sp>
          <p:nvSpPr>
            <p:cNvPr id="451" name=""/>
            <p:cNvSpPr/>
            <p:nvPr/>
          </p:nvSpPr>
          <p:spPr>
            <a:xfrm>
              <a:off x="1828800" y="1523880"/>
              <a:ext cx="1803240" cy="1424160"/>
            </a:xfrm>
            <a:prstGeom prst="triangle">
              <a:avLst>
                <a:gd name="adj" fmla="val 49986"/>
              </a:avLst>
            </a:prstGeom>
            <a:gradFill rotWithShape="0">
              <a:gsLst>
                <a:gs pos="0">
                  <a:srgbClr val="65657e"/>
                </a:gs>
                <a:gs pos="100000">
                  <a:srgbClr val="ccccff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38160" y="1964520"/>
              <a:ext cx="0" cy="1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57160" y="1837800"/>
              <a:ext cx="158400" cy="115920"/>
            </a:xfrm>
            <a:prstGeom prst="ellipse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2571480" y="2151360"/>
              <a:ext cx="166320" cy="24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754000" y="2166120"/>
              <a:ext cx="248760" cy="25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660400" y="2067840"/>
              <a:ext cx="156600" cy="117720"/>
            </a:xfrm>
            <a:prstGeom prst="ellipse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2266200" y="2460240"/>
              <a:ext cx="27900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571480" y="2450880"/>
              <a:ext cx="298080" cy="30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71480" y="2444400"/>
              <a:ext cx="0" cy="31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009600" y="2430000"/>
              <a:ext cx="16956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188800" y="2694240"/>
              <a:ext cx="158400" cy="116280"/>
            </a:xfrm>
            <a:prstGeom prst="ellipse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30040" y="2378880"/>
              <a:ext cx="158400" cy="116280"/>
            </a:xfrm>
            <a:prstGeom prst="ellipse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485800" y="2378880"/>
              <a:ext cx="156600" cy="116280"/>
            </a:xfrm>
            <a:prstGeom prst="ellipse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92040" y="2694240"/>
              <a:ext cx="158400" cy="116280"/>
            </a:xfrm>
            <a:prstGeom prst="ellipse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788920" y="2694240"/>
              <a:ext cx="156960" cy="116280"/>
            </a:xfrm>
            <a:prstGeom prst="ellipse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91920" y="2694240"/>
              <a:ext cx="158400" cy="116280"/>
            </a:xfrm>
            <a:prstGeom prst="ellipse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V="1">
            <a:off x="2514600" y="2895120"/>
            <a:ext cx="380880" cy="838440"/>
          </a:xfrm>
          <a:prstGeom prst="line">
            <a:avLst/>
          </a:prstGeom>
          <a:ln w="38160">
            <a:solidFill>
              <a:srgbClr val="cc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473400" y="4402800"/>
            <a:ext cx="2925360" cy="1487880"/>
            <a:chOff x="473400" y="4402800"/>
            <a:chExt cx="2925360" cy="1487880"/>
          </a:xfrm>
        </p:grpSpPr>
        <p:sp>
          <p:nvSpPr>
            <p:cNvPr id="469" name=""/>
            <p:cNvSpPr/>
            <p:nvPr/>
          </p:nvSpPr>
          <p:spPr>
            <a:xfrm>
              <a:off x="554760" y="4959720"/>
              <a:ext cx="75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SP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396440" y="5491800"/>
              <a:ext cx="1877040" cy="398880"/>
            </a:xfrm>
            <a:prstGeom prst="rect">
              <a:avLst/>
            </a:prstGeom>
            <a:gradFill rotWithShape="0">
              <a:gsLst>
                <a:gs pos="0">
                  <a:srgbClr val="5e5e75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erberos S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73400" y="4402800"/>
              <a:ext cx="2925360" cy="398880"/>
            </a:xfrm>
            <a:prstGeom prst="rect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ternet Key Excha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1334880" y="5178240"/>
              <a:ext cx="2001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077920" y="4836960"/>
              <a:ext cx="0" cy="63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3324240" y="5684760"/>
            <a:ext cx="2435040" cy="0"/>
          </a:xfrm>
          <a:prstGeom prst="line">
            <a:avLst/>
          </a:prstGeom>
          <a:ln w="38160">
            <a:solidFill>
              <a:srgbClr val="cccc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740400" y="4724280"/>
            <a:ext cx="129636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ed between Win2k as member of MIT Kerberos Rea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638680" y="1752480"/>
            <a:ext cx="2362320" cy="1067040"/>
          </a:xfrm>
          <a:prstGeom prst="ellipse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860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x K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124080" y="2209680"/>
            <a:ext cx="2511720" cy="0"/>
          </a:xfrm>
          <a:prstGeom prst="line">
            <a:avLst/>
          </a:prstGeom>
          <a:ln w="38160">
            <a:solidFill>
              <a:srgbClr val="cccc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429000" y="4495680"/>
            <a:ext cx="2133720" cy="0"/>
          </a:xfrm>
          <a:prstGeom prst="line">
            <a:avLst/>
          </a:prstGeom>
          <a:ln w="38160">
            <a:solidFill>
              <a:srgbClr val="99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352680" y="1752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beros t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6553080" y="3429000"/>
            <a:ext cx="862200" cy="833400"/>
          </a:xfrm>
          <a:prstGeom prst="rect">
            <a:avLst/>
          </a:prstGeom>
          <a:ln w="0">
            <a:noFill/>
          </a:ln>
        </p:spPr>
      </p:pic>
      <p:grpSp>
        <p:nvGrpSpPr>
          <p:cNvPr id="483" name=""/>
          <p:cNvGrpSpPr/>
          <p:nvPr/>
        </p:nvGrpSpPr>
        <p:grpSpPr>
          <a:xfrm>
            <a:off x="5713560" y="4494960"/>
            <a:ext cx="2925360" cy="1487880"/>
            <a:chOff x="5713560" y="4494960"/>
            <a:chExt cx="2925360" cy="1487880"/>
          </a:xfrm>
        </p:grpSpPr>
        <p:sp>
          <p:nvSpPr>
            <p:cNvPr id="484" name=""/>
            <p:cNvSpPr/>
            <p:nvPr/>
          </p:nvSpPr>
          <p:spPr>
            <a:xfrm>
              <a:off x="5794920" y="5052240"/>
              <a:ext cx="75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SP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636600" y="5583960"/>
              <a:ext cx="1877040" cy="398880"/>
            </a:xfrm>
            <a:prstGeom prst="rect">
              <a:avLst/>
            </a:prstGeom>
            <a:gradFill rotWithShape="0">
              <a:gsLst>
                <a:gs pos="0">
                  <a:srgbClr val="5e5e75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erberos S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13560" y="4494960"/>
              <a:ext cx="2925360" cy="398880"/>
            </a:xfrm>
            <a:prstGeom prst="rect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ternet Key Excha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6575040" y="5270040"/>
              <a:ext cx="2001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318080" y="4929120"/>
              <a:ext cx="0" cy="63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 flipH="1" flipV="1">
            <a:off x="7086600" y="2742840"/>
            <a:ext cx="76320" cy="685800"/>
          </a:xfrm>
          <a:prstGeom prst="line">
            <a:avLst/>
          </a:prstGeom>
          <a:ln w="38160">
            <a:solidFill>
              <a:srgbClr val="cc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00E4-89B9-4235-8C08-1A8C5658C701}" type="slidenum">
              <a:t>14</a:t>
            </a:fld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1805040" y="3481560"/>
            <a:ext cx="861840" cy="833400"/>
          </a:xfrm>
          <a:prstGeom prst="rect">
            <a:avLst/>
          </a:prstGeom>
          <a:ln w="0">
            <a:noFill/>
          </a:ln>
        </p:spPr>
      </p:pic>
      <p:grpSp>
        <p:nvGrpSpPr>
          <p:cNvPr id="491" name=""/>
          <p:cNvGrpSpPr/>
          <p:nvPr/>
        </p:nvGrpSpPr>
        <p:grpSpPr>
          <a:xfrm>
            <a:off x="6680160" y="3481560"/>
            <a:ext cx="690480" cy="750600"/>
            <a:chOff x="6680160" y="3481560"/>
            <a:chExt cx="690480" cy="750600"/>
          </a:xfrm>
        </p:grpSpPr>
        <p:sp>
          <p:nvSpPr>
            <p:cNvPr id="492" name=""/>
            <p:cNvSpPr/>
            <p:nvPr/>
          </p:nvSpPr>
          <p:spPr>
            <a:xfrm>
              <a:off x="6919920" y="3505320"/>
              <a:ext cx="299880" cy="72684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37200" y="3888000"/>
              <a:ext cx="266760" cy="30924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937200" y="3638520"/>
              <a:ext cx="254160" cy="20808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80160" y="3483000"/>
              <a:ext cx="539640" cy="3024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680160" y="3483000"/>
              <a:ext cx="241200" cy="74916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892920" y="3508560"/>
              <a:ext cx="28440" cy="72360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937200" y="3637080"/>
              <a:ext cx="266760" cy="21744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937200" y="3597480"/>
              <a:ext cx="2667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37200" y="3532320"/>
              <a:ext cx="26676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680160" y="3481560"/>
              <a:ext cx="5396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18120" y="3505320"/>
              <a:ext cx="301680" cy="72684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680160" y="3483000"/>
              <a:ext cx="239760" cy="74916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892920" y="3510000"/>
              <a:ext cx="0" cy="70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92920" y="351936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92920" y="357192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37200" y="3532320"/>
              <a:ext cx="26676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892920" y="358776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892920" y="36370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92920" y="383544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937200" y="364824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202520" y="363852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37200" y="3638520"/>
              <a:ext cx="254160" cy="20628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189560" y="3830760"/>
              <a:ext cx="129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6936840" y="3703680"/>
              <a:ext cx="2523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6936840" y="3770280"/>
              <a:ext cx="2523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892920" y="3888000"/>
              <a:ext cx="326880" cy="266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892920" y="4167360"/>
              <a:ext cx="326880" cy="3312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937200" y="39038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202520" y="3888000"/>
              <a:ext cx="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937200" y="4148280"/>
              <a:ext cx="266760" cy="3312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37200" y="413532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37200" y="4124520"/>
              <a:ext cx="2667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937200" y="4111560"/>
              <a:ext cx="266760" cy="2880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37200" y="4097520"/>
              <a:ext cx="266760" cy="2988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37200" y="3533760"/>
              <a:ext cx="254160" cy="3348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189560" y="355752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99120" y="3597480"/>
              <a:ext cx="14292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937200" y="3597480"/>
              <a:ext cx="266760" cy="3780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937200" y="3614760"/>
              <a:ext cx="20484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7140600" y="3618000"/>
              <a:ext cx="619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140600" y="3597480"/>
              <a:ext cx="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950160" y="354960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986520" y="3548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022880" y="3548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061040" y="3548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099200" y="3546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134120" y="3543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172280" y="3543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176960" y="3638520"/>
              <a:ext cx="27000" cy="19368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218360" y="4129200"/>
              <a:ext cx="152280" cy="7128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-720" y="365184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416000" y="3540600"/>
            <a:ext cx="97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962520" y="3271680"/>
            <a:ext cx="2743200" cy="1008720"/>
          </a:xfrm>
          <a:prstGeom prst="borderCallout2">
            <a:avLst>
              <a:gd name="adj1" fmla="val 18750"/>
              <a:gd name="adj2" fmla="val -8333"/>
              <a:gd name="adj3" fmla="val 11041"/>
              <a:gd name="adj4" fmla="val -4398"/>
              <a:gd name="adj5" fmla="val 158041"/>
              <a:gd name="adj6" fmla="val -6245"/>
            </a:avLst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 payload contains GSS-Kerb5 Token formats (RFC 196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2514600" y="2738160"/>
            <a:ext cx="1523880" cy="1066680"/>
          </a:xfrm>
          <a:prstGeom prst="line">
            <a:avLst/>
          </a:prstGeom>
          <a:ln w="38160">
            <a:solidFill>
              <a:srgbClr val="cc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473400" y="4474440"/>
            <a:ext cx="2925360" cy="1487880"/>
            <a:chOff x="473400" y="4474440"/>
            <a:chExt cx="2925360" cy="1487880"/>
          </a:xfrm>
        </p:grpSpPr>
        <p:sp>
          <p:nvSpPr>
            <p:cNvPr id="547" name=""/>
            <p:cNvSpPr/>
            <p:nvPr/>
          </p:nvSpPr>
          <p:spPr>
            <a:xfrm>
              <a:off x="554760" y="5031720"/>
              <a:ext cx="75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SP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396440" y="5563440"/>
              <a:ext cx="1877040" cy="398880"/>
            </a:xfrm>
            <a:prstGeom prst="rect">
              <a:avLst/>
            </a:prstGeom>
            <a:gradFill rotWithShape="0">
              <a:gsLst>
                <a:gs pos="0">
                  <a:srgbClr val="5e5e75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erberos S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3400" y="4474440"/>
              <a:ext cx="2925360" cy="398880"/>
            </a:xfrm>
            <a:prstGeom prst="rect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ternet Key Excha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1334880" y="5249520"/>
              <a:ext cx="2001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077920" y="4908600"/>
              <a:ext cx="0" cy="63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5604120" y="4474080"/>
            <a:ext cx="3446280" cy="1851480"/>
            <a:chOff x="5604120" y="4474080"/>
            <a:chExt cx="3446280" cy="1851480"/>
          </a:xfrm>
        </p:grpSpPr>
        <p:sp>
          <p:nvSpPr>
            <p:cNvPr id="553" name=""/>
            <p:cNvSpPr/>
            <p:nvPr/>
          </p:nvSpPr>
          <p:spPr>
            <a:xfrm>
              <a:off x="5604120" y="4474080"/>
              <a:ext cx="2925360" cy="398880"/>
            </a:xfrm>
            <a:prstGeom prst="rect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ternet Key Excha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5697360" y="5202000"/>
              <a:ext cx="2001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847120" y="5621760"/>
              <a:ext cx="1905840" cy="703800"/>
            </a:xfrm>
            <a:prstGeom prst="rect">
              <a:avLst/>
            </a:prstGeom>
            <a:gradFill rotWithShape="0">
              <a:gsLst>
                <a:gs pos="0">
                  <a:srgbClr val="5e5e75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SS Kerberos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824240" y="4980240"/>
              <a:ext cx="122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SS-AP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840360" y="4908240"/>
              <a:ext cx="0" cy="63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3324240" y="5756400"/>
            <a:ext cx="2435040" cy="0"/>
          </a:xfrm>
          <a:prstGeom prst="line">
            <a:avLst/>
          </a:prstGeom>
          <a:ln w="38160">
            <a:solidFill>
              <a:srgbClr val="cccc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740400" y="4795920"/>
            <a:ext cx="129636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tential Windows 2000 Integration with Rest of Kerberos Infra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581280" y="1824120"/>
            <a:ext cx="2362320" cy="1066680"/>
          </a:xfrm>
          <a:prstGeom prst="ellipse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038480" y="2357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x K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580000" y="2716560"/>
            <a:ext cx="1429200" cy="768960"/>
          </a:xfrm>
          <a:prstGeom prst="line">
            <a:avLst/>
          </a:prstGeom>
          <a:ln w="38160">
            <a:solidFill>
              <a:srgbClr val="cc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429000" y="4567320"/>
            <a:ext cx="2133720" cy="0"/>
          </a:xfrm>
          <a:prstGeom prst="line">
            <a:avLst/>
          </a:prstGeom>
          <a:ln w="38160">
            <a:solidFill>
              <a:srgbClr val="99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CE7F-F7E3-4466-929B-2E4AEDD6649A}" type="slidenum">
              <a:t>15</a:t>
            </a:fld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1805040" y="3409920"/>
            <a:ext cx="861840" cy="833400"/>
          </a:xfrm>
          <a:prstGeom prst="rect">
            <a:avLst/>
          </a:prstGeom>
          <a:ln w="0">
            <a:noFill/>
          </a:ln>
        </p:spPr>
      </p:pic>
      <p:grpSp>
        <p:nvGrpSpPr>
          <p:cNvPr id="566" name=""/>
          <p:cNvGrpSpPr/>
          <p:nvPr/>
        </p:nvGrpSpPr>
        <p:grpSpPr>
          <a:xfrm>
            <a:off x="6680160" y="3409920"/>
            <a:ext cx="690480" cy="750600"/>
            <a:chOff x="6680160" y="3409920"/>
            <a:chExt cx="690480" cy="750600"/>
          </a:xfrm>
        </p:grpSpPr>
        <p:sp>
          <p:nvSpPr>
            <p:cNvPr id="567" name=""/>
            <p:cNvSpPr/>
            <p:nvPr/>
          </p:nvSpPr>
          <p:spPr>
            <a:xfrm>
              <a:off x="6919920" y="3433680"/>
              <a:ext cx="299880" cy="72684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937200" y="3816360"/>
              <a:ext cx="266760" cy="30924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937200" y="3566880"/>
              <a:ext cx="254160" cy="20808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680160" y="3411360"/>
              <a:ext cx="539640" cy="3024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680160" y="3411360"/>
              <a:ext cx="241200" cy="74916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892920" y="3436920"/>
              <a:ext cx="28440" cy="72360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937200" y="3565440"/>
              <a:ext cx="266760" cy="21744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937200" y="3525840"/>
              <a:ext cx="2667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937200" y="3460680"/>
              <a:ext cx="26676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680160" y="3409920"/>
              <a:ext cx="5396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918120" y="3433680"/>
              <a:ext cx="301680" cy="72684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680160" y="3411360"/>
              <a:ext cx="239760" cy="74916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92920" y="3438360"/>
              <a:ext cx="0" cy="70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892920" y="344772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892920" y="35002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937200" y="3460680"/>
              <a:ext cx="26676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892920" y="351612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892920" y="356544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892920" y="376380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37200" y="357660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202520" y="356688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937200" y="3566880"/>
              <a:ext cx="254160" cy="20628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189560" y="3759120"/>
              <a:ext cx="129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6936840" y="3632040"/>
              <a:ext cx="2523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6936840" y="3698640"/>
              <a:ext cx="2523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892920" y="3816360"/>
              <a:ext cx="326880" cy="266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892920" y="4095720"/>
              <a:ext cx="326880" cy="3312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937200" y="383220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202520" y="3816360"/>
              <a:ext cx="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37200" y="4076640"/>
              <a:ext cx="266760" cy="3312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937200" y="406368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937200" y="4052880"/>
              <a:ext cx="2667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937200" y="4039920"/>
              <a:ext cx="266760" cy="2880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937200" y="4025880"/>
              <a:ext cx="266760" cy="2988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937200" y="3462120"/>
              <a:ext cx="254160" cy="3348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189560" y="348588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999120" y="3525840"/>
              <a:ext cx="14292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37200" y="3525840"/>
              <a:ext cx="266760" cy="3780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937200" y="3543120"/>
              <a:ext cx="20484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7140600" y="3546360"/>
              <a:ext cx="619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140600" y="3525840"/>
              <a:ext cx="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950160" y="347796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986520" y="3476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022880" y="3476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061040" y="3476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099200" y="3474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134120" y="3471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172280" y="3471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176960" y="3566880"/>
              <a:ext cx="27000" cy="19368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218360" y="4057560"/>
              <a:ext cx="152280" cy="7128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-720" y="358056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416000" y="3469320"/>
            <a:ext cx="97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47040" y="1675440"/>
            <a:ext cx="200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2000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3200400"/>
            <a:ext cx="2743200" cy="1008720"/>
          </a:xfrm>
          <a:prstGeom prst="borderCallout2">
            <a:avLst>
              <a:gd name="adj1" fmla="val 18750"/>
              <a:gd name="adj2" fmla="val -8333"/>
              <a:gd name="adj3" fmla="val 11041"/>
              <a:gd name="adj4" fmla="val -4398"/>
              <a:gd name="adj5" fmla="val 157935"/>
              <a:gd name="adj6" fmla="val -6245"/>
            </a:avLst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 payload contains GSS-Kerb5 Token formats (RFC 196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1828800" y="1523880"/>
            <a:ext cx="1803240" cy="1424160"/>
            <a:chOff x="1828800" y="1523880"/>
            <a:chExt cx="1803240" cy="1424160"/>
          </a:xfrm>
        </p:grpSpPr>
        <p:sp>
          <p:nvSpPr>
            <p:cNvPr id="622" name=""/>
            <p:cNvSpPr/>
            <p:nvPr/>
          </p:nvSpPr>
          <p:spPr>
            <a:xfrm>
              <a:off x="1828800" y="1523880"/>
              <a:ext cx="1803240" cy="1424160"/>
            </a:xfrm>
            <a:prstGeom prst="triangle">
              <a:avLst>
                <a:gd name="adj" fmla="val 49986"/>
              </a:avLst>
            </a:prstGeom>
            <a:gradFill rotWithShape="0">
              <a:gsLst>
                <a:gs pos="0">
                  <a:srgbClr val="65657e"/>
                </a:gs>
                <a:gs pos="100000">
                  <a:srgbClr val="ccccff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738160" y="1964520"/>
              <a:ext cx="0" cy="1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657160" y="1837800"/>
              <a:ext cx="158400" cy="115920"/>
            </a:xfrm>
            <a:prstGeom prst="ellipse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2571480" y="2151360"/>
              <a:ext cx="166320" cy="24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754000" y="2166120"/>
              <a:ext cx="248760" cy="25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660400" y="2067840"/>
              <a:ext cx="156600" cy="117720"/>
            </a:xfrm>
            <a:prstGeom prst="ellipse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2266200" y="2460240"/>
              <a:ext cx="27900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571480" y="2450880"/>
              <a:ext cx="298080" cy="30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571480" y="2444400"/>
              <a:ext cx="0" cy="31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009600" y="2430000"/>
              <a:ext cx="16956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188800" y="2694240"/>
              <a:ext cx="158400" cy="116280"/>
            </a:xfrm>
            <a:prstGeom prst="ellipse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930040" y="2378880"/>
              <a:ext cx="158400" cy="116280"/>
            </a:xfrm>
            <a:prstGeom prst="ellipse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485800" y="2378880"/>
              <a:ext cx="156600" cy="116280"/>
            </a:xfrm>
            <a:prstGeom prst="ellipse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092040" y="2694240"/>
              <a:ext cx="158400" cy="116280"/>
            </a:xfrm>
            <a:prstGeom prst="ellipse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788920" y="2694240"/>
              <a:ext cx="156960" cy="116280"/>
            </a:xfrm>
            <a:prstGeom prst="ellipse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491920" y="2694240"/>
              <a:ext cx="158400" cy="116280"/>
            </a:xfrm>
            <a:prstGeom prst="ellipse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 flipV="1">
            <a:off x="2514600" y="2895120"/>
            <a:ext cx="380880" cy="838440"/>
          </a:xfrm>
          <a:prstGeom prst="line">
            <a:avLst/>
          </a:prstGeom>
          <a:ln w="38160">
            <a:solidFill>
              <a:srgbClr val="cc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473400" y="4402800"/>
            <a:ext cx="2925360" cy="1487880"/>
            <a:chOff x="473400" y="4402800"/>
            <a:chExt cx="2925360" cy="1487880"/>
          </a:xfrm>
        </p:grpSpPr>
        <p:sp>
          <p:nvSpPr>
            <p:cNvPr id="640" name=""/>
            <p:cNvSpPr/>
            <p:nvPr/>
          </p:nvSpPr>
          <p:spPr>
            <a:xfrm>
              <a:off x="554760" y="4959720"/>
              <a:ext cx="75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SP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396440" y="5491800"/>
              <a:ext cx="1877040" cy="398880"/>
            </a:xfrm>
            <a:prstGeom prst="rect">
              <a:avLst/>
            </a:prstGeom>
            <a:gradFill rotWithShape="0">
              <a:gsLst>
                <a:gs pos="0">
                  <a:srgbClr val="5e5e75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erberos S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73400" y="4402800"/>
              <a:ext cx="2925360" cy="398880"/>
            </a:xfrm>
            <a:prstGeom prst="rect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ternet Key Excha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1334880" y="5178240"/>
              <a:ext cx="2001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077920" y="4836960"/>
              <a:ext cx="0" cy="63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5604120" y="4402800"/>
            <a:ext cx="3446280" cy="1851480"/>
            <a:chOff x="5604120" y="4402800"/>
            <a:chExt cx="3446280" cy="1851480"/>
          </a:xfrm>
        </p:grpSpPr>
        <p:sp>
          <p:nvSpPr>
            <p:cNvPr id="646" name=""/>
            <p:cNvSpPr/>
            <p:nvPr/>
          </p:nvSpPr>
          <p:spPr>
            <a:xfrm>
              <a:off x="5604120" y="4402800"/>
              <a:ext cx="2925360" cy="398880"/>
            </a:xfrm>
            <a:prstGeom prst="rect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ternet Key Excha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5697360" y="5130720"/>
              <a:ext cx="2001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47120" y="5550480"/>
              <a:ext cx="1905840" cy="703800"/>
            </a:xfrm>
            <a:prstGeom prst="rect">
              <a:avLst/>
            </a:prstGeom>
            <a:gradFill rotWithShape="0">
              <a:gsLst>
                <a:gs pos="0">
                  <a:srgbClr val="5e5e75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SS Kerberos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824240" y="4908960"/>
              <a:ext cx="122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SS-AP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840360" y="4836960"/>
              <a:ext cx="0" cy="63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3324240" y="5684760"/>
            <a:ext cx="2435040" cy="0"/>
          </a:xfrm>
          <a:prstGeom prst="line">
            <a:avLst/>
          </a:prstGeom>
          <a:ln w="38160">
            <a:solidFill>
              <a:srgbClr val="cccc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740400" y="4724280"/>
            <a:ext cx="129636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tential Windows 2000 Integration with Rest of Kerberos Infra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638680" y="1752480"/>
            <a:ext cx="2362320" cy="1067040"/>
          </a:xfrm>
          <a:prstGeom prst="ellipse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95880" y="22860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x K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846120" y="2823480"/>
            <a:ext cx="163440" cy="591840"/>
          </a:xfrm>
          <a:prstGeom prst="line">
            <a:avLst/>
          </a:prstGeom>
          <a:ln w="38160">
            <a:solidFill>
              <a:srgbClr val="cc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124080" y="2209680"/>
            <a:ext cx="2511720" cy="0"/>
          </a:xfrm>
          <a:prstGeom prst="line">
            <a:avLst/>
          </a:prstGeom>
          <a:ln w="38160">
            <a:solidFill>
              <a:srgbClr val="cccc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429000" y="4495680"/>
            <a:ext cx="2133720" cy="0"/>
          </a:xfrm>
          <a:prstGeom prst="line">
            <a:avLst/>
          </a:prstGeom>
          <a:ln w="38160">
            <a:solidFill>
              <a:srgbClr val="99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352680" y="1752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beros t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1041-494C-497D-94C2-9D513EF049B4}" type="slidenum">
              <a:t>16</a:t>
            </a:fld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Try This At Hom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ows 2000 Server Domain Controller (KD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ows 2000 Professional or Server as domain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IPSec Step-by-Step walk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Win9x, NT3/4, use 3rd party Kerb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non-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MIT or other Kerb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computer account in NT domain for your platform (see walkthrough proced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BD40-E8B4-4F3B-B2C7-4AFDD5209A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GSS-API as IKE Authentication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define boundary of trust for IPSec secure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to connect is implicit in successful mutual authentication, and explicit agreement of IPSec policy set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 to PKI, uses native Windows 2000 trus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Kerberos v5 for authentication and mutual trust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b not used to generate sessions keys for IPSec SAs.  Session keys derived from DH via RFC 24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ides trust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rty (KDC) that identities are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st connected to IP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Sec policy has filters, but these are general (e.g. Me to Any).  IKE uses source IP to select main mode policy to reply, enforces quick mode Proxy I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KE does call GSS accept security context, which ensures peer is using IP address that is inside Kerberos encrypted ticket.  IP address in win2k machine ticket by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B46E-B34C-4A1B-B320-B8D1FA15D0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GSS-API as IKE Authentication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with IKE Identity Protect Mode – because it has 3 round tr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ited usefulness in IKE Aggressive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MM exchange includes Kerberos SPN machine name, so don’t have peer identity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ill have traffic flow protection – protocol and ports &amp; protection suite for IPSec SAs negotiated in encrypted quick mode after authentication succ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SPN allows cross-forest (realm) machine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ed IETF draft since 1998, only Windows 2000 supporting this curr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s with MIT K5 K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authorization data in Microsoft Kerberos tickets for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Sec and related services in Windows 2000 jointly developed by Microsoft and Cisco System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57A2-14D7-4FE4-823E-65928969A7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 for tal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Sec Scenarios To En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 Detailed Expla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beros v5 specific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ing extra round tr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 Experience with Windows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436E-5D32-4FF8-A838-E70CC350A4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ore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ETF Dra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Century Schoolbook"/>
                <a:hlinkClick r:id="rId1"/>
              </a:rPr>
              <a:t>http://www.ietf.org/internet-drafts/draft-ietf-ipsec-isakmp-gss-auth-06.t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ndows 2000 IPSec Step-by-Step walk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microsoft.com/Windows2000/Library/technologies/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ndows 2000 Kerberos Paper, Interoperability 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microsoft.com/Windows2000/Library/technologies/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 Platform S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soft Windows NT Security Suppor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beros for non-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 Distribution, http://web.mit.edu/kerberos/www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berSafe Kerberos -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cybersaf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Windows IPSec client that does GSS-A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of 1/31/2001, none y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58EC-B605-4214-81A7-3E75E94C65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523880" y="2438280"/>
            <a:ext cx="690480" cy="750600"/>
            <a:chOff x="1523880" y="2438280"/>
            <a:chExt cx="690480" cy="750600"/>
          </a:xfrm>
        </p:grpSpPr>
        <p:sp>
          <p:nvSpPr>
            <p:cNvPr id="46" name=""/>
            <p:cNvSpPr/>
            <p:nvPr/>
          </p:nvSpPr>
          <p:spPr>
            <a:xfrm>
              <a:off x="1763640" y="2462040"/>
              <a:ext cx="299880" cy="72684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80920" y="2844720"/>
              <a:ext cx="266760" cy="30924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80920" y="2595240"/>
              <a:ext cx="254160" cy="20808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523880" y="2439720"/>
              <a:ext cx="539640" cy="3024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23880" y="2439720"/>
              <a:ext cx="241200" cy="74916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36640" y="2465280"/>
              <a:ext cx="28440" cy="72360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80920" y="2593800"/>
              <a:ext cx="266760" cy="21744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80920" y="2554200"/>
              <a:ext cx="2667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80920" y="2489040"/>
              <a:ext cx="26676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23880" y="2438280"/>
              <a:ext cx="5396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61840" y="2462040"/>
              <a:ext cx="301680" cy="72684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3880" y="2439720"/>
              <a:ext cx="239760" cy="74916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36640" y="2466720"/>
              <a:ext cx="0" cy="70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36640" y="24760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36640" y="252864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80920" y="2489040"/>
              <a:ext cx="26676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736640" y="25444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36640" y="259380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736640" y="279216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780920" y="260496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6240" y="259524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80920" y="2595240"/>
              <a:ext cx="254160" cy="20628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33280" y="2787480"/>
              <a:ext cx="129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1780560" y="2660400"/>
              <a:ext cx="2523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1780560" y="2727000"/>
              <a:ext cx="2523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36640" y="2844720"/>
              <a:ext cx="326880" cy="266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36640" y="3124080"/>
              <a:ext cx="326880" cy="3312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780920" y="286056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46240" y="2844720"/>
              <a:ext cx="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80920" y="3105000"/>
              <a:ext cx="266760" cy="3312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80920" y="309204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80920" y="3081240"/>
              <a:ext cx="2667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80920" y="3068280"/>
              <a:ext cx="266760" cy="2880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780920" y="3054240"/>
              <a:ext cx="266760" cy="2988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780920" y="2490480"/>
              <a:ext cx="254160" cy="3348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33280" y="251424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42840" y="2554200"/>
              <a:ext cx="14292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80920" y="2554200"/>
              <a:ext cx="266760" cy="3780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80920" y="2571480"/>
              <a:ext cx="20484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1984320" y="2574720"/>
              <a:ext cx="619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984320" y="2554200"/>
              <a:ext cx="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793880" y="250632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30240" y="2504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66600" y="2504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04760" y="2504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42920" y="2503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977840" y="2500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16000" y="2500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20680" y="2595240"/>
              <a:ext cx="27000" cy="19368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62080" y="3085920"/>
              <a:ext cx="152280" cy="7128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629400" y="2514600"/>
            <a:ext cx="690480" cy="750600"/>
            <a:chOff x="6629400" y="2514600"/>
            <a:chExt cx="690480" cy="750600"/>
          </a:xfrm>
        </p:grpSpPr>
        <p:sp>
          <p:nvSpPr>
            <p:cNvPr id="97" name=""/>
            <p:cNvSpPr/>
            <p:nvPr/>
          </p:nvSpPr>
          <p:spPr>
            <a:xfrm>
              <a:off x="6869160" y="2538360"/>
              <a:ext cx="299880" cy="72684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886440" y="2921040"/>
              <a:ext cx="266760" cy="30924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86440" y="2671560"/>
              <a:ext cx="254160" cy="20808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29400" y="2516040"/>
              <a:ext cx="539640" cy="3024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629400" y="2516040"/>
              <a:ext cx="241200" cy="74916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42160" y="2541600"/>
              <a:ext cx="28440" cy="72360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670120"/>
              <a:ext cx="266760" cy="21744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86440" y="2630520"/>
              <a:ext cx="2667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86440" y="2565360"/>
              <a:ext cx="26676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29400" y="2514600"/>
              <a:ext cx="5396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67360" y="2538360"/>
              <a:ext cx="301680" cy="72684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29400" y="2516040"/>
              <a:ext cx="239760" cy="74916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42160" y="2543040"/>
              <a:ext cx="0" cy="70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42160" y="255240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2160" y="260496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2565360"/>
              <a:ext cx="26676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42160" y="262080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42160" y="267012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2160" y="28684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86440" y="268128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51760" y="267156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86440" y="2671560"/>
              <a:ext cx="254160" cy="20628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38800" y="2863800"/>
              <a:ext cx="129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886080" y="2736720"/>
              <a:ext cx="2523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886080" y="2803320"/>
              <a:ext cx="2523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2160" y="2921040"/>
              <a:ext cx="326880" cy="266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42160" y="3200400"/>
              <a:ext cx="326880" cy="3312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86440" y="29368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51760" y="2921040"/>
              <a:ext cx="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86440" y="3181320"/>
              <a:ext cx="266760" cy="3312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86440" y="316836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86440" y="3157560"/>
              <a:ext cx="2667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86440" y="3144600"/>
              <a:ext cx="266760" cy="2880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86440" y="3130560"/>
              <a:ext cx="266760" cy="2988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86440" y="2566800"/>
              <a:ext cx="254160" cy="3348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138800" y="259056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48360" y="2630520"/>
              <a:ext cx="14292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86440" y="2630520"/>
              <a:ext cx="266760" cy="3780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86440" y="2647800"/>
              <a:ext cx="20484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7089840" y="2651040"/>
              <a:ext cx="619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89840" y="2630520"/>
              <a:ext cx="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99400" y="258264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935760" y="2581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72120" y="2581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10280" y="2581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48440" y="2579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83360" y="2576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21520" y="2576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26200" y="2671560"/>
              <a:ext cx="27000" cy="19368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7600" y="3162240"/>
              <a:ext cx="152280" cy="7128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62120" y="17524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Station Platform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181296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Station Platform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39625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81560" y="3581280"/>
            <a:ext cx="202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/UDP/TCP secured by IP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ss-Platform End-to-End Security for Network Traff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066680" y="3429000"/>
            <a:ext cx="1676520" cy="2209680"/>
            <a:chOff x="1066680" y="3429000"/>
            <a:chExt cx="1676520" cy="2209680"/>
          </a:xfrm>
        </p:grpSpPr>
        <p:sp>
          <p:nvSpPr>
            <p:cNvPr id="153" name=""/>
            <p:cNvSpPr/>
            <p:nvPr/>
          </p:nvSpPr>
          <p:spPr>
            <a:xfrm>
              <a:off x="1066680" y="3429000"/>
              <a:ext cx="1676520" cy="1447920"/>
            </a:xfrm>
            <a:prstGeom prst="rect">
              <a:avLst/>
            </a:prstGeom>
            <a:gradFill rotWithShape="0">
              <a:gsLst>
                <a:gs pos="0">
                  <a:srgbClr val="5e5e75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5257800"/>
              <a:ext cx="1676520" cy="3808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PS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23880" y="4114800"/>
              <a:ext cx="1219320" cy="1143000"/>
            </a:xfrm>
            <a:prstGeom prst="rect">
              <a:avLst/>
            </a:prstGeom>
            <a:gradFill rotWithShape="0">
              <a:gsLst>
                <a:gs pos="0">
                  <a:srgbClr val="5e5e75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K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66680" y="4876920"/>
              <a:ext cx="1067040" cy="3808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SS/K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248520" y="3505320"/>
            <a:ext cx="1676160" cy="2209680"/>
            <a:chOff x="6248520" y="3505320"/>
            <a:chExt cx="1676160" cy="2209680"/>
          </a:xfrm>
        </p:grpSpPr>
        <p:sp>
          <p:nvSpPr>
            <p:cNvPr id="158" name=""/>
            <p:cNvSpPr/>
            <p:nvPr/>
          </p:nvSpPr>
          <p:spPr>
            <a:xfrm>
              <a:off x="6248520" y="3505320"/>
              <a:ext cx="1676160" cy="1447920"/>
            </a:xfrm>
            <a:prstGeom prst="rect">
              <a:avLst/>
            </a:prstGeom>
            <a:gradFill rotWithShape="0">
              <a:gsLst>
                <a:gs pos="0">
                  <a:srgbClr val="5e5e75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48520" y="5334120"/>
              <a:ext cx="1676160" cy="3808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PS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05360" y="4191120"/>
              <a:ext cx="1218960" cy="1143000"/>
            </a:xfrm>
            <a:prstGeom prst="rect">
              <a:avLst/>
            </a:prstGeom>
            <a:gradFill rotWithShape="0">
              <a:gsLst>
                <a:gs pos="0">
                  <a:srgbClr val="5e5e75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K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48520" y="4953240"/>
              <a:ext cx="1066320" cy="3808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SS/K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200400" y="1676520"/>
            <a:ext cx="2362320" cy="1066680"/>
            <a:chOff x="3200400" y="1676520"/>
            <a:chExt cx="2362320" cy="1066680"/>
          </a:xfrm>
        </p:grpSpPr>
        <p:sp>
          <p:nvSpPr>
            <p:cNvPr id="163" name=""/>
            <p:cNvSpPr/>
            <p:nvPr/>
          </p:nvSpPr>
          <p:spPr>
            <a:xfrm>
              <a:off x="3200400" y="1676520"/>
              <a:ext cx="2362320" cy="1066680"/>
            </a:xfrm>
            <a:prstGeom prst="ellipse">
              <a:avLst/>
            </a:prstGeom>
            <a:gradFill rotWithShape="0">
              <a:gsLst>
                <a:gs pos="0">
                  <a:srgbClr val="5e5e75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05320" y="1833480"/>
              <a:ext cx="1752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erberos v5 Realm- KD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42960" y="1574640"/>
            <a:ext cx="3502080" cy="231840"/>
          </a:xfrm>
          <a:custGeom>
            <a:avLst/>
            <a:gdLst/>
            <a:ahLst/>
            <a:rect l="l" t="t" r="r" b="b"/>
            <a:pathLst>
              <a:path w="2206" h="146">
                <a:moveTo>
                  <a:pt x="2206" y="60"/>
                </a:moveTo>
                <a:cubicBezTo>
                  <a:pt x="2084" y="54"/>
                  <a:pt x="1722" y="27"/>
                  <a:pt x="1473" y="21"/>
                </a:cubicBezTo>
                <a:cubicBezTo>
                  <a:pt x="1224" y="15"/>
                  <a:pt x="954" y="0"/>
                  <a:pt x="709" y="21"/>
                </a:cubicBezTo>
                <a:cubicBezTo>
                  <a:pt x="464" y="42"/>
                  <a:pt x="148" y="120"/>
                  <a:pt x="0" y="146"/>
                </a:cubicBezTo>
              </a:path>
            </a:pathLst>
          </a:custGeom>
          <a:noFill/>
          <a:ln w="19080">
            <a:solidFill>
              <a:srgbClr val="6666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648320" y="1600200"/>
            <a:ext cx="3502080" cy="231840"/>
          </a:xfrm>
          <a:custGeom>
            <a:avLst/>
            <a:gdLst/>
            <a:ahLst/>
            <a:rect l="l" t="t" r="r" b="b"/>
            <a:pathLst>
              <a:path w="2206" h="146">
                <a:moveTo>
                  <a:pt x="2206" y="60"/>
                </a:moveTo>
                <a:cubicBezTo>
                  <a:pt x="2084" y="54"/>
                  <a:pt x="1722" y="27"/>
                  <a:pt x="1473" y="21"/>
                </a:cubicBezTo>
                <a:cubicBezTo>
                  <a:pt x="1224" y="15"/>
                  <a:pt x="954" y="0"/>
                  <a:pt x="709" y="21"/>
                </a:cubicBezTo>
                <a:cubicBezTo>
                  <a:pt x="464" y="42"/>
                  <a:pt x="148" y="120"/>
                  <a:pt x="0" y="146"/>
                </a:cubicBezTo>
              </a:path>
            </a:pathLst>
          </a:custGeom>
          <a:noFill/>
          <a:ln w="19080">
            <a:solidFill>
              <a:srgbClr val="6666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D005-10D1-4422-8709-8176169EFD0A}" type="slidenum">
              <a:t>3</a:t>
            </a:fld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1523880" y="2438280"/>
            <a:ext cx="690480" cy="750600"/>
            <a:chOff x="1523880" y="2438280"/>
            <a:chExt cx="690480" cy="750600"/>
          </a:xfrm>
        </p:grpSpPr>
        <p:sp>
          <p:nvSpPr>
            <p:cNvPr id="168" name=""/>
            <p:cNvSpPr/>
            <p:nvPr/>
          </p:nvSpPr>
          <p:spPr>
            <a:xfrm>
              <a:off x="1763640" y="2462040"/>
              <a:ext cx="299880" cy="72684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80920" y="2844720"/>
              <a:ext cx="266760" cy="30924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80920" y="2595240"/>
              <a:ext cx="254160" cy="20808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23880" y="2439720"/>
              <a:ext cx="539640" cy="3024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880" y="2439720"/>
              <a:ext cx="241200" cy="74916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36640" y="2465280"/>
              <a:ext cx="28440" cy="72360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80920" y="2593800"/>
              <a:ext cx="266760" cy="21744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80920" y="2554200"/>
              <a:ext cx="2667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80920" y="2489040"/>
              <a:ext cx="26676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23880" y="2438280"/>
              <a:ext cx="5396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61840" y="2462040"/>
              <a:ext cx="301680" cy="72684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23880" y="2439720"/>
              <a:ext cx="239760" cy="74916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36640" y="2466720"/>
              <a:ext cx="0" cy="70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36640" y="24760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36640" y="252864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80920" y="2489040"/>
              <a:ext cx="26676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36640" y="25444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36640" y="259380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36640" y="279216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80920" y="260496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46240" y="259524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780920" y="2595240"/>
              <a:ext cx="254160" cy="20628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33280" y="2787480"/>
              <a:ext cx="129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1780560" y="2660400"/>
              <a:ext cx="2523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1780560" y="2727000"/>
              <a:ext cx="2523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36640" y="2844720"/>
              <a:ext cx="326880" cy="266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36640" y="3124080"/>
              <a:ext cx="326880" cy="3312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80920" y="286056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46240" y="2844720"/>
              <a:ext cx="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80920" y="3105000"/>
              <a:ext cx="266760" cy="3312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80920" y="309204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80920" y="3081240"/>
              <a:ext cx="2667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780920" y="3068280"/>
              <a:ext cx="266760" cy="2880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80920" y="3054240"/>
              <a:ext cx="266760" cy="2988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80920" y="2490480"/>
              <a:ext cx="254160" cy="3348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33280" y="251424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42840" y="2554200"/>
              <a:ext cx="14292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80920" y="2554200"/>
              <a:ext cx="266760" cy="3780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80920" y="2571480"/>
              <a:ext cx="20484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984320" y="2574720"/>
              <a:ext cx="619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84320" y="2554200"/>
              <a:ext cx="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93880" y="250632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830240" y="2504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66600" y="2504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04760" y="2504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42920" y="2503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77840" y="2500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016000" y="2500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20680" y="2595240"/>
              <a:ext cx="27000" cy="19368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62080" y="3085920"/>
              <a:ext cx="152280" cy="7128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762120" y="17524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Station Platform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22096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71800" y="3505320"/>
            <a:ext cx="307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Sec transport to router for mg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ss-Platform Tunnel Security for Network Traff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66680" y="3429000"/>
            <a:ext cx="1676520" cy="182880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5257800"/>
            <a:ext cx="1676520" cy="380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3880" y="4114800"/>
            <a:ext cx="1219320" cy="114300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0" y="4876920"/>
            <a:ext cx="1066680" cy="380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S/K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5257800"/>
            <a:ext cx="1676160" cy="380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4114800"/>
            <a:ext cx="1143000" cy="114300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553080" y="4876920"/>
            <a:ext cx="1067040" cy="380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S/K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200400" y="1676520"/>
            <a:ext cx="2362320" cy="1066680"/>
            <a:chOff x="3200400" y="1676520"/>
            <a:chExt cx="2362320" cy="1066680"/>
          </a:xfrm>
        </p:grpSpPr>
        <p:sp>
          <p:nvSpPr>
            <p:cNvPr id="230" name=""/>
            <p:cNvSpPr/>
            <p:nvPr/>
          </p:nvSpPr>
          <p:spPr>
            <a:xfrm>
              <a:off x="3200400" y="1676520"/>
              <a:ext cx="2362320" cy="1066680"/>
            </a:xfrm>
            <a:prstGeom prst="ellipse">
              <a:avLst/>
            </a:prstGeom>
            <a:gradFill rotWithShape="0">
              <a:gsLst>
                <a:gs pos="0">
                  <a:srgbClr val="5e5e75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505320" y="1833480"/>
              <a:ext cx="1752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erberos v5 Realm- KD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642960" y="1574640"/>
            <a:ext cx="3502080" cy="231840"/>
          </a:xfrm>
          <a:custGeom>
            <a:avLst/>
            <a:gdLst/>
            <a:ahLst/>
            <a:rect l="l" t="t" r="r" b="b"/>
            <a:pathLst>
              <a:path w="2206" h="146">
                <a:moveTo>
                  <a:pt x="2206" y="60"/>
                </a:moveTo>
                <a:cubicBezTo>
                  <a:pt x="2084" y="54"/>
                  <a:pt x="1722" y="27"/>
                  <a:pt x="1473" y="21"/>
                </a:cubicBezTo>
                <a:cubicBezTo>
                  <a:pt x="1224" y="15"/>
                  <a:pt x="954" y="0"/>
                  <a:pt x="709" y="21"/>
                </a:cubicBezTo>
                <a:cubicBezTo>
                  <a:pt x="464" y="42"/>
                  <a:pt x="148" y="120"/>
                  <a:pt x="0" y="146"/>
                </a:cubicBezTo>
              </a:path>
            </a:pathLst>
          </a:custGeom>
          <a:noFill/>
          <a:ln w="19080">
            <a:solidFill>
              <a:srgbClr val="6666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648320" y="1600200"/>
            <a:ext cx="3502080" cy="231840"/>
          </a:xfrm>
          <a:custGeom>
            <a:avLst/>
            <a:gdLst/>
            <a:ahLst/>
            <a:rect l="l" t="t" r="r" b="b"/>
            <a:pathLst>
              <a:path w="2206" h="146">
                <a:moveTo>
                  <a:pt x="2206" y="60"/>
                </a:moveTo>
                <a:cubicBezTo>
                  <a:pt x="2084" y="54"/>
                  <a:pt x="1722" y="27"/>
                  <a:pt x="1473" y="21"/>
                </a:cubicBezTo>
                <a:cubicBezTo>
                  <a:pt x="1224" y="15"/>
                  <a:pt x="954" y="0"/>
                  <a:pt x="709" y="21"/>
                </a:cubicBezTo>
                <a:cubicBezTo>
                  <a:pt x="464" y="42"/>
                  <a:pt x="148" y="120"/>
                  <a:pt x="0" y="146"/>
                </a:cubicBezTo>
              </a:path>
            </a:pathLst>
          </a:custGeom>
          <a:noFill/>
          <a:ln w="19080">
            <a:solidFill>
              <a:srgbClr val="6666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248520" y="2666880"/>
          <a:ext cx="1523880" cy="5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666880"/>
                    <a:ext cx="152388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6" name=""/>
          <p:cNvGrpSpPr/>
          <p:nvPr/>
        </p:nvGrpSpPr>
        <p:grpSpPr>
          <a:xfrm>
            <a:off x="1143000" y="3962520"/>
            <a:ext cx="7505640" cy="1675800"/>
            <a:chOff x="1143000" y="3962520"/>
            <a:chExt cx="7505640" cy="1675800"/>
          </a:xfrm>
        </p:grpSpPr>
        <p:grpSp>
          <p:nvGrpSpPr>
            <p:cNvPr id="237" name=""/>
            <p:cNvGrpSpPr/>
            <p:nvPr/>
          </p:nvGrpSpPr>
          <p:grpSpPr>
            <a:xfrm>
              <a:off x="2857680" y="5410080"/>
              <a:ext cx="3352320" cy="228240"/>
              <a:chOff x="2857680" y="5410080"/>
              <a:chExt cx="3352320" cy="228240"/>
            </a:xfrm>
          </p:grpSpPr>
          <p:sp>
            <p:nvSpPr>
              <p:cNvPr id="238" name=""/>
              <p:cNvSpPr/>
              <p:nvPr/>
            </p:nvSpPr>
            <p:spPr>
              <a:xfrm>
                <a:off x="2933640" y="5410080"/>
                <a:ext cx="320004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857680" y="5410080"/>
                <a:ext cx="152280" cy="2282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057720" y="5410080"/>
                <a:ext cx="152280" cy="2282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1143000" y="3962520"/>
              <a:ext cx="7505640" cy="1650600"/>
            </a:xfrm>
            <a:custGeom>
              <a:avLst/>
              <a:gdLst/>
              <a:ahLst/>
              <a:rect l="l" t="t" r="r" b="b"/>
              <a:pathLst>
                <a:path w="4872" h="1040">
                  <a:moveTo>
                    <a:pt x="24" y="0"/>
                  </a:moveTo>
                  <a:cubicBezTo>
                    <a:pt x="12" y="324"/>
                    <a:pt x="0" y="648"/>
                    <a:pt x="24" y="816"/>
                  </a:cubicBezTo>
                  <a:cubicBezTo>
                    <a:pt x="48" y="984"/>
                    <a:pt x="0" y="976"/>
                    <a:pt x="168" y="1008"/>
                  </a:cubicBezTo>
                  <a:cubicBezTo>
                    <a:pt x="336" y="1040"/>
                    <a:pt x="248" y="1008"/>
                    <a:pt x="1032" y="1008"/>
                  </a:cubicBezTo>
                  <a:cubicBezTo>
                    <a:pt x="1816" y="1008"/>
                    <a:pt x="3344" y="1008"/>
                    <a:pt x="4872" y="1008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219320" y="3733920"/>
            <a:ext cx="5219640" cy="1650960"/>
          </a:xfrm>
          <a:custGeom>
            <a:avLst/>
            <a:gdLst/>
            <a:ahLst/>
            <a:rect l="l" t="t" r="r" b="b"/>
            <a:pathLst>
              <a:path w="4872" h="1040">
                <a:moveTo>
                  <a:pt x="24" y="0"/>
                </a:moveTo>
                <a:cubicBezTo>
                  <a:pt x="12" y="324"/>
                  <a:pt x="0" y="648"/>
                  <a:pt x="24" y="816"/>
                </a:cubicBezTo>
                <a:cubicBezTo>
                  <a:pt x="48" y="984"/>
                  <a:pt x="0" y="976"/>
                  <a:pt x="168" y="1008"/>
                </a:cubicBezTo>
                <a:cubicBezTo>
                  <a:pt x="336" y="1040"/>
                  <a:pt x="248" y="1008"/>
                  <a:pt x="1032" y="1008"/>
                </a:cubicBezTo>
                <a:cubicBezTo>
                  <a:pt x="1816" y="1008"/>
                  <a:pt x="3344" y="1008"/>
                  <a:pt x="4872" y="100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4419720"/>
            <a:ext cx="307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Sec tunnel to router for 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95BF-0794-459B-A59D-9AB89E61A124}" type="slidenum">
              <a:t>4</a:t>
            </a:fld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1523880" y="2438280"/>
            <a:ext cx="690480" cy="750600"/>
            <a:chOff x="1523880" y="2438280"/>
            <a:chExt cx="690480" cy="750600"/>
          </a:xfrm>
        </p:grpSpPr>
        <p:sp>
          <p:nvSpPr>
            <p:cNvPr id="245" name=""/>
            <p:cNvSpPr/>
            <p:nvPr/>
          </p:nvSpPr>
          <p:spPr>
            <a:xfrm>
              <a:off x="1763640" y="2462040"/>
              <a:ext cx="299880" cy="72684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80920" y="2844720"/>
              <a:ext cx="266760" cy="30924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80920" y="2595240"/>
              <a:ext cx="254160" cy="20808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23880" y="2439720"/>
              <a:ext cx="539640" cy="3024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523880" y="2439720"/>
              <a:ext cx="241200" cy="74916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36640" y="2465280"/>
              <a:ext cx="28440" cy="72360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80920" y="2593800"/>
              <a:ext cx="266760" cy="21744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80920" y="2554200"/>
              <a:ext cx="2667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80920" y="2489040"/>
              <a:ext cx="26676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23880" y="2438280"/>
              <a:ext cx="5396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761840" y="2462040"/>
              <a:ext cx="301680" cy="72684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23880" y="2439720"/>
              <a:ext cx="239760" cy="74916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736640" y="2466720"/>
              <a:ext cx="0" cy="70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736640" y="24760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36640" y="252864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80920" y="2489040"/>
              <a:ext cx="26676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36640" y="25444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36640" y="259380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36640" y="279216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80920" y="260496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46240" y="259524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80920" y="2595240"/>
              <a:ext cx="254160" cy="20628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33280" y="2787480"/>
              <a:ext cx="129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780560" y="2660400"/>
              <a:ext cx="2523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1780560" y="2727000"/>
              <a:ext cx="2523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36640" y="2844720"/>
              <a:ext cx="326880" cy="266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36640" y="3124080"/>
              <a:ext cx="326880" cy="3312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80920" y="286056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46240" y="2844720"/>
              <a:ext cx="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80920" y="3105000"/>
              <a:ext cx="266760" cy="3312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80920" y="309204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80920" y="3081240"/>
              <a:ext cx="2667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80920" y="3068280"/>
              <a:ext cx="266760" cy="2880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80920" y="3054240"/>
              <a:ext cx="266760" cy="2988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80920" y="2490480"/>
              <a:ext cx="254160" cy="3348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33280" y="251424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842840" y="2554200"/>
              <a:ext cx="14292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80920" y="2554200"/>
              <a:ext cx="266760" cy="3780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80920" y="2571480"/>
              <a:ext cx="20484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1984320" y="2574720"/>
              <a:ext cx="619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984320" y="2554200"/>
              <a:ext cx="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93880" y="250632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30240" y="2504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66600" y="2504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04760" y="2504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42920" y="2503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77840" y="2500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16000" y="2500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20680" y="2595240"/>
              <a:ext cx="27000" cy="19368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62080" y="3085920"/>
              <a:ext cx="152280" cy="7128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762120" y="17524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Station Platform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19920" y="22096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ss-Platform Tunnel Security for Network Traff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438280" y="1676520"/>
            <a:ext cx="1752840" cy="838080"/>
            <a:chOff x="2438280" y="1676520"/>
            <a:chExt cx="1752840" cy="838080"/>
          </a:xfrm>
        </p:grpSpPr>
        <p:sp>
          <p:nvSpPr>
            <p:cNvPr id="299" name=""/>
            <p:cNvSpPr/>
            <p:nvPr/>
          </p:nvSpPr>
          <p:spPr>
            <a:xfrm>
              <a:off x="2438280" y="1676520"/>
              <a:ext cx="1752840" cy="838080"/>
            </a:xfrm>
            <a:prstGeom prst="ellipse">
              <a:avLst/>
            </a:prstGeom>
            <a:gradFill rotWithShape="0">
              <a:gsLst>
                <a:gs pos="0">
                  <a:srgbClr val="5e5e75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663280" y="1799640"/>
              <a:ext cx="130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erberos v5 Realm- KD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42960" y="1574640"/>
            <a:ext cx="2557440" cy="406440"/>
          </a:xfrm>
          <a:custGeom>
            <a:avLst/>
            <a:gdLst/>
            <a:ahLst/>
            <a:rect l="l" t="t" r="r" b="b"/>
            <a:pathLst>
              <a:path w="2206" h="146">
                <a:moveTo>
                  <a:pt x="2206" y="60"/>
                </a:moveTo>
                <a:cubicBezTo>
                  <a:pt x="2084" y="54"/>
                  <a:pt x="1722" y="27"/>
                  <a:pt x="1473" y="21"/>
                </a:cubicBezTo>
                <a:cubicBezTo>
                  <a:pt x="1224" y="15"/>
                  <a:pt x="954" y="0"/>
                  <a:pt x="709" y="21"/>
                </a:cubicBezTo>
                <a:cubicBezTo>
                  <a:pt x="464" y="42"/>
                  <a:pt x="148" y="120"/>
                  <a:pt x="0" y="146"/>
                </a:cubicBezTo>
              </a:path>
            </a:pathLst>
          </a:custGeom>
          <a:noFill/>
          <a:ln w="19080">
            <a:solidFill>
              <a:srgbClr val="6666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6248520" y="2666880"/>
          <a:ext cx="1523880" cy="5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666880"/>
                    <a:ext cx="152388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4" name=""/>
          <p:cNvGrpSpPr/>
          <p:nvPr/>
        </p:nvGrpSpPr>
        <p:grpSpPr>
          <a:xfrm>
            <a:off x="4572000" y="1676520"/>
            <a:ext cx="1752480" cy="838080"/>
            <a:chOff x="4572000" y="1676520"/>
            <a:chExt cx="1752480" cy="838080"/>
          </a:xfrm>
        </p:grpSpPr>
        <p:sp>
          <p:nvSpPr>
            <p:cNvPr id="305" name=""/>
            <p:cNvSpPr/>
            <p:nvPr/>
          </p:nvSpPr>
          <p:spPr>
            <a:xfrm>
              <a:off x="4572000" y="1676520"/>
              <a:ext cx="1752480" cy="838080"/>
            </a:xfrm>
            <a:prstGeom prst="ellipse">
              <a:avLst/>
            </a:prstGeom>
            <a:gradFill rotWithShape="0">
              <a:gsLst>
                <a:gs pos="0">
                  <a:srgbClr val="5e5e75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797000" y="1799640"/>
              <a:ext cx="130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erberos v5 Realm- KD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 flipH="1">
            <a:off x="6172200" y="1676520"/>
            <a:ext cx="2557440" cy="406440"/>
          </a:xfrm>
          <a:custGeom>
            <a:avLst/>
            <a:gdLst/>
            <a:ahLst/>
            <a:rect l="l" t="t" r="r" b="b"/>
            <a:pathLst>
              <a:path w="2206" h="146">
                <a:moveTo>
                  <a:pt x="2206" y="60"/>
                </a:moveTo>
                <a:cubicBezTo>
                  <a:pt x="2084" y="54"/>
                  <a:pt x="1722" y="27"/>
                  <a:pt x="1473" y="21"/>
                </a:cubicBezTo>
                <a:cubicBezTo>
                  <a:pt x="1224" y="15"/>
                  <a:pt x="954" y="0"/>
                  <a:pt x="709" y="21"/>
                </a:cubicBezTo>
                <a:cubicBezTo>
                  <a:pt x="464" y="42"/>
                  <a:pt x="148" y="120"/>
                  <a:pt x="0" y="146"/>
                </a:cubicBezTo>
              </a:path>
            </a:pathLst>
          </a:custGeom>
          <a:noFill/>
          <a:ln w="19080">
            <a:solidFill>
              <a:srgbClr val="6666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91120" y="2057400"/>
            <a:ext cx="380880" cy="0"/>
          </a:xfrm>
          <a:prstGeom prst="line">
            <a:avLst/>
          </a:prstGeom>
          <a:ln w="25560">
            <a:solidFill>
              <a:srgbClr val="66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971800" y="3505320"/>
            <a:ext cx="307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Sec transport to router for mg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3429000"/>
            <a:ext cx="1676520" cy="182880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66680" y="5257800"/>
            <a:ext cx="1676520" cy="380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23880" y="4114800"/>
            <a:ext cx="1219320" cy="114300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371600" y="4876920"/>
            <a:ext cx="1066680" cy="380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S/K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48520" y="5257800"/>
            <a:ext cx="1676160" cy="380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48520" y="4114800"/>
            <a:ext cx="1143000" cy="114300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53080" y="4876920"/>
            <a:ext cx="1067040" cy="380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S/K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143000" y="3962520"/>
            <a:ext cx="7505640" cy="1675800"/>
            <a:chOff x="1143000" y="3962520"/>
            <a:chExt cx="7505640" cy="1675800"/>
          </a:xfrm>
        </p:grpSpPr>
        <p:grpSp>
          <p:nvGrpSpPr>
            <p:cNvPr id="318" name=""/>
            <p:cNvGrpSpPr/>
            <p:nvPr/>
          </p:nvGrpSpPr>
          <p:grpSpPr>
            <a:xfrm>
              <a:off x="2857680" y="5410080"/>
              <a:ext cx="3352320" cy="228240"/>
              <a:chOff x="2857680" y="5410080"/>
              <a:chExt cx="3352320" cy="228240"/>
            </a:xfrm>
          </p:grpSpPr>
          <p:sp>
            <p:nvSpPr>
              <p:cNvPr id="319" name=""/>
              <p:cNvSpPr/>
              <p:nvPr/>
            </p:nvSpPr>
            <p:spPr>
              <a:xfrm>
                <a:off x="2933640" y="5410080"/>
                <a:ext cx="320004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857680" y="5410080"/>
                <a:ext cx="152280" cy="2282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057720" y="5410080"/>
                <a:ext cx="152280" cy="2282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1143000" y="3962520"/>
              <a:ext cx="7505640" cy="1650600"/>
            </a:xfrm>
            <a:custGeom>
              <a:avLst/>
              <a:gdLst/>
              <a:ahLst/>
              <a:rect l="l" t="t" r="r" b="b"/>
              <a:pathLst>
                <a:path w="4872" h="1040">
                  <a:moveTo>
                    <a:pt x="24" y="0"/>
                  </a:moveTo>
                  <a:cubicBezTo>
                    <a:pt x="12" y="324"/>
                    <a:pt x="0" y="648"/>
                    <a:pt x="24" y="816"/>
                  </a:cubicBezTo>
                  <a:cubicBezTo>
                    <a:pt x="48" y="984"/>
                    <a:pt x="0" y="976"/>
                    <a:pt x="168" y="1008"/>
                  </a:cubicBezTo>
                  <a:cubicBezTo>
                    <a:pt x="336" y="1040"/>
                    <a:pt x="248" y="1008"/>
                    <a:pt x="1032" y="1008"/>
                  </a:cubicBezTo>
                  <a:cubicBezTo>
                    <a:pt x="1816" y="1008"/>
                    <a:pt x="3344" y="1008"/>
                    <a:pt x="4872" y="1008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1219320" y="3733920"/>
            <a:ext cx="5219640" cy="1650960"/>
          </a:xfrm>
          <a:custGeom>
            <a:avLst/>
            <a:gdLst/>
            <a:ahLst/>
            <a:rect l="l" t="t" r="r" b="b"/>
            <a:pathLst>
              <a:path w="4872" h="1040">
                <a:moveTo>
                  <a:pt x="24" y="0"/>
                </a:moveTo>
                <a:cubicBezTo>
                  <a:pt x="12" y="324"/>
                  <a:pt x="0" y="648"/>
                  <a:pt x="24" y="816"/>
                </a:cubicBezTo>
                <a:cubicBezTo>
                  <a:pt x="48" y="984"/>
                  <a:pt x="0" y="976"/>
                  <a:pt x="168" y="1008"/>
                </a:cubicBezTo>
                <a:cubicBezTo>
                  <a:pt x="336" y="1040"/>
                  <a:pt x="248" y="1008"/>
                  <a:pt x="1032" y="1008"/>
                </a:cubicBezTo>
                <a:cubicBezTo>
                  <a:pt x="1816" y="1008"/>
                  <a:pt x="3344" y="1008"/>
                  <a:pt x="4872" y="100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48120" y="4419720"/>
            <a:ext cx="307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Sec tunnel to router for 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3405-C679-42C2-BBE3-F3011FC66C33}" type="slidenum">
              <a:t>5</a:t>
            </a:fld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162840" y="5867280"/>
            <a:ext cx="27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 Successf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19840" y="1343160"/>
            <a:ext cx="2671560" cy="6206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 inb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dent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00840" y="1066680"/>
            <a:ext cx="2428920" cy="276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s_import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43480" y="2239920"/>
            <a:ext cx="2186280" cy="6206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ste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19840" y="3619440"/>
            <a:ext cx="2833560" cy="276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s_accept_sec_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81840" y="2998800"/>
            <a:ext cx="2428920" cy="552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ly M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81840" y="3895560"/>
            <a:ext cx="2428920" cy="552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tr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243480" y="4654440"/>
            <a:ext cx="2267280" cy="965160"/>
          </a:xfrm>
          <a:prstGeom prst="flowChartDecision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ed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3" name=""/>
          <p:cNvCxnSpPr>
            <a:stCxn id="332" idx="3"/>
            <a:endCxn id="330" idx="0"/>
          </p:cNvCxnSpPr>
          <p:nvPr/>
        </p:nvCxnSpPr>
        <p:spPr>
          <a:xfrm flipV="1">
            <a:off x="8510760" y="3412440"/>
            <a:ext cx="2160" cy="172476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4" name=""/>
          <p:cNvSpPr/>
          <p:nvPr/>
        </p:nvSpPr>
        <p:spPr>
          <a:xfrm>
            <a:off x="6081840" y="1963800"/>
            <a:ext cx="2428920" cy="276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s_acquire_c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KE using GSS-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352680" y="3581280"/>
            <a:ext cx="1676520" cy="381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352680" y="2438280"/>
            <a:ext cx="1676520" cy="114300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62520" y="3200400"/>
            <a:ext cx="1066680" cy="380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S/K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3581280"/>
            <a:ext cx="1676520" cy="381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5800" y="2438280"/>
            <a:ext cx="1676520" cy="114300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" y="3200400"/>
            <a:ext cx="1066680" cy="380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S/K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2971800"/>
            <a:ext cx="1676520" cy="380880"/>
          </a:xfrm>
          <a:custGeom>
            <a:avLst/>
            <a:gdLst/>
            <a:ahLst/>
            <a:rect l="l" t="t" r="r" b="b"/>
            <a:pathLst>
              <a:path w="960" h="240">
                <a:moveTo>
                  <a:pt x="0" y="240"/>
                </a:moveTo>
                <a:cubicBezTo>
                  <a:pt x="112" y="188"/>
                  <a:pt x="224" y="136"/>
                  <a:pt x="384" y="96"/>
                </a:cubicBezTo>
                <a:cubicBezTo>
                  <a:pt x="544" y="56"/>
                  <a:pt x="752" y="28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105520" y="3505320"/>
            <a:ext cx="1143000" cy="2590560"/>
          </a:xfrm>
          <a:custGeom>
            <a:avLst/>
            <a:gdLst/>
            <a:ahLst/>
            <a:rect l="l" t="t" r="r" b="b"/>
            <a:pathLst>
              <a:path w="1456" h="688">
                <a:moveTo>
                  <a:pt x="1344" y="672"/>
                </a:moveTo>
                <a:cubicBezTo>
                  <a:pt x="1400" y="680"/>
                  <a:pt x="1456" y="688"/>
                  <a:pt x="1296" y="672"/>
                </a:cubicBezTo>
                <a:cubicBezTo>
                  <a:pt x="1136" y="656"/>
                  <a:pt x="600" y="688"/>
                  <a:pt x="384" y="576"/>
                </a:cubicBezTo>
                <a:cubicBezTo>
                  <a:pt x="168" y="464"/>
                  <a:pt x="84" y="23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62320" y="2666880"/>
            <a:ext cx="1447560" cy="457200"/>
          </a:xfrm>
          <a:prstGeom prst="rightArrow">
            <a:avLst>
              <a:gd name="adj1" fmla="val 50000"/>
              <a:gd name="adj2" fmla="val 791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1981080" y="312408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33520" y="16765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tform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00400" y="16765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tform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7B69-3ADC-47C4-8EAF-8C973EEB0C8C}" type="slidenum">
              <a:t>6</a:t>
            </a:fld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762120" y="1143000"/>
            <a:ext cx="2743200" cy="5335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 outb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dent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5800" y="1676520"/>
            <a:ext cx="297180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quireCredentialsHand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90720" y="2133720"/>
            <a:ext cx="2361960" cy="4572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 aut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2590920"/>
            <a:ext cx="274320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izeSecurity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66680" y="2895480"/>
            <a:ext cx="2362320" cy="6098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tr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990720" y="3733920"/>
            <a:ext cx="243828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it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43200" y="4343400"/>
            <a:ext cx="1676520" cy="457200"/>
          </a:xfrm>
          <a:prstGeom prst="leftArrow">
            <a:avLst>
              <a:gd name="adj1" fmla="val 50000"/>
              <a:gd name="adj2" fmla="val 91673"/>
            </a:avLst>
          </a:pr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14400" y="4648320"/>
            <a:ext cx="2514600" cy="6094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ly M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066680" y="5257800"/>
            <a:ext cx="2133720" cy="1066680"/>
          </a:xfrm>
          <a:prstGeom prst="flowChartDecision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ed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6" idx="1"/>
            <a:endCxn id="351" idx="1"/>
          </p:cNvCxnSpPr>
          <p:nvPr/>
        </p:nvCxnSpPr>
        <p:spPr>
          <a:xfrm rot="10800000">
            <a:off x="837360" y="2742480"/>
            <a:ext cx="229320" cy="3048840"/>
          </a:xfrm>
          <a:prstGeom prst="bentConnector3">
            <a:avLst>
              <a:gd name="adj1" fmla="val 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8" name=""/>
          <p:cNvSpPr/>
          <p:nvPr/>
        </p:nvSpPr>
        <p:spPr>
          <a:xfrm>
            <a:off x="2743200" y="3352680"/>
            <a:ext cx="1752480" cy="457200"/>
          </a:xfrm>
          <a:prstGeom prst="rightArrow">
            <a:avLst>
              <a:gd name="adj1" fmla="val 50000"/>
              <a:gd name="adj2" fmla="val 95827"/>
            </a:avLst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562720" y="1523880"/>
            <a:ext cx="251460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 inb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dent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638680" y="1219320"/>
            <a:ext cx="228600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s_import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867280" y="2514600"/>
            <a:ext cx="205740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ste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562720" y="4038480"/>
            <a:ext cx="266688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s_accept_sec_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724280" y="3124080"/>
            <a:ext cx="1524240" cy="457200"/>
          </a:xfrm>
          <a:prstGeom prst="rightArrow">
            <a:avLst>
              <a:gd name="adj1" fmla="val 50000"/>
              <a:gd name="adj2" fmla="val 83346"/>
            </a:avLst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715000" y="3352680"/>
            <a:ext cx="2286000" cy="6098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ly M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715000" y="4343400"/>
            <a:ext cx="2286000" cy="6094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tr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876920" y="4876920"/>
            <a:ext cx="1676160" cy="457200"/>
          </a:xfrm>
          <a:prstGeom prst="leftArrow">
            <a:avLst>
              <a:gd name="adj1" fmla="val 50000"/>
              <a:gd name="adj2" fmla="val 91654"/>
            </a:avLst>
          </a:pr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867280" y="5181480"/>
            <a:ext cx="2133720" cy="1067040"/>
          </a:xfrm>
          <a:prstGeom prst="flowChartDecision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ed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8" name=""/>
          <p:cNvCxnSpPr>
            <a:stCxn id="367" idx="3"/>
          </p:cNvCxnSpPr>
          <p:nvPr/>
        </p:nvCxnSpPr>
        <p:spPr>
          <a:xfrm flipH="1" flipV="1">
            <a:off x="7238160" y="3580560"/>
            <a:ext cx="762840" cy="2134440"/>
          </a:xfrm>
          <a:prstGeom prst="bentConnector4">
            <a:avLst>
              <a:gd name="adj1" fmla="val -59962"/>
              <a:gd name="adj2" fmla="val 1011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9" name=""/>
          <p:cNvSpPr/>
          <p:nvPr/>
        </p:nvSpPr>
        <p:spPr>
          <a:xfrm>
            <a:off x="5715000" y="2209680"/>
            <a:ext cx="228600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s_acquire_c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dows 2000 SSPI Client To GSS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8080" y="652140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 Successf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562720" y="652140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 Successf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981080" y="60958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0" y="60958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794A-A8C3-470E-9B15-1B21BCA535F2}" type="slidenum">
              <a:t>7</a:t>
            </a:fld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SS-API using Kerberos v5 specific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SS Accept_Sec_Context may return Continue-Needed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le session ti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cks out of sy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need an extra round trip with KD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S-API supports arbitrary round tr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KE Auth must be done in 3 round trips, s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8CFC-277B-4256-AF28-D018B995B4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KE GSS-API MM Ex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iti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DR, SA (w/GSS ID Name attrib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DR, KE, Ni, GSSi --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DR*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GSSi2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ii, HASH_I --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419720" y="16765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-- HDR, SA (w/GSS ID Name attri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-- HDR, KE, Nr, GS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-- HDR*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GSSr2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Dir, HASH_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6B30-7F25-4F0E-9BF4-EDD22B5DB8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4T22:11:11Z</dcterms:created>
  <dc:creator>William Dixon</dc:creator>
  <dc:description/>
  <dc:language>en-US</dc:language>
  <cp:lastModifiedBy>Ping Look</cp:lastModifiedBy>
  <cp:lastPrinted>1998-12-09T10:32:16Z</cp:lastPrinted>
  <dcterms:modified xsi:type="dcterms:W3CDTF">2001-02-02T02:40:43Z</dcterms:modified>
  <cp:revision>40</cp:revision>
  <dc:subject/>
  <dc:title>IKE Authentication using GSS-API Kerberos v5</dc:title>
</cp:coreProperties>
</file>