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1200" y="684000"/>
            <a:ext cx="457668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45A00BD-4F97-473B-B4AA-3EDF032E1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7FA6549-F43B-4970-BBF6-64E763F36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PSec driver compares each outbound IP packet against filters contained in IPSec poli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packet matches a filter, stall packet in queue and call IKE to negotiate IPSec security associ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96F44D-DFA8-4882-BD15-CED5E03E2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87280" y="692280"/>
            <a:ext cx="4483440" cy="33620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54276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60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548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80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548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80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48196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60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3120" indent="-46044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3992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26360" indent="-46044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6640" indent="-43812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6640" indent="-438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6640" indent="-438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42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pct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pct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Windows 2000 L2TP/IPSec VPN Tunnel Design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liam Dix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am Manager, Network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7200" y="228240"/>
            <a:ext cx="895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IPSec with Internet Key Exchange – Sending packets initiates security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-360" y="5130360"/>
            <a:ext cx="8967960" cy="1632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75"/>
              </a:spcBef>
              <a:buClr>
                <a:srgbClr val="fdd01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 Key Exchange (IKE) - Identity Protect Mode – defined in RFC 24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601"/>
              </a:spcBef>
              <a:buClr>
                <a:srgbClr val="fdd01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1 “Main Mode” establishes IKE SA – trusted channel between systems, negotiation establishes encrypted channel, mutual trust, and dynamically generates shared secret key (“master” key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601"/>
              </a:spcBef>
              <a:buClr>
                <a:srgbClr val="fdd01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2 “Quick Mode” establishes IPSec SAs – for data protection, one SA for each direction identified by packet label (SPI), algorithms and packet formats agreed, generates shared “session” secret keys derived from “master”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364000" y="1459080"/>
            <a:ext cx="3176640" cy="30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5364000" y="3368160"/>
            <a:ext cx="3176640" cy="24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364000" y="4245120"/>
            <a:ext cx="749520" cy="31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5720760" y="4253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374800" y="2357280"/>
            <a:ext cx="316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875200" y="3530520"/>
            <a:ext cx="1091880" cy="800280"/>
            <a:chOff x="5875200" y="3530520"/>
            <a:chExt cx="1091880" cy="800280"/>
          </a:xfrm>
        </p:grpSpPr>
        <p:sp>
          <p:nvSpPr>
            <p:cNvPr id="575" name=""/>
            <p:cNvSpPr/>
            <p:nvPr/>
          </p:nvSpPr>
          <p:spPr>
            <a:xfrm>
              <a:off x="5875200" y="3530520"/>
              <a:ext cx="1091880" cy="8002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11920" y="368748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821200" y="1482840"/>
            <a:ext cx="2152800" cy="849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or Gate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66000" y="3502080"/>
            <a:ext cx="1272960" cy="673200"/>
          </a:xfrm>
          <a:prstGeom prst="ellipse">
            <a:avLst/>
          </a:prstGeom>
          <a:gradFill rotWithShape="0">
            <a:gsLst>
              <a:gs pos="0">
                <a:srgbClr val="8a76f0"/>
              </a:gs>
              <a:gs pos="100000">
                <a:srgbClr val="3f366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d013"/>
                </a:solidFill>
                <a:latin typeface="Times New Roman"/>
              </a:rPr>
              <a:t>IP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d013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770240" y="4103640"/>
            <a:ext cx="667080" cy="315360"/>
            <a:chOff x="7770240" y="4103640"/>
            <a:chExt cx="667080" cy="315360"/>
          </a:xfrm>
        </p:grpSpPr>
        <p:sp>
          <p:nvSpPr>
            <p:cNvPr id="580" name=""/>
            <p:cNvSpPr/>
            <p:nvPr/>
          </p:nvSpPr>
          <p:spPr>
            <a:xfrm>
              <a:off x="7831440" y="4103640"/>
              <a:ext cx="605880" cy="276480"/>
            </a:xfrm>
            <a:prstGeom prst="flowChartMultidocument">
              <a:avLst/>
            </a:prstGeom>
            <a:solidFill>
              <a:srgbClr val="8a76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70240" y="4111920"/>
              <a:ext cx="599760" cy="307080"/>
            </a:xfrm>
            <a:prstGeom prst="rect">
              <a:avLst/>
            </a:prstGeom>
            <a:solidFill>
              <a:srgbClr val="8a7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ilt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172280" y="2390760"/>
            <a:ext cx="1383840" cy="665280"/>
            <a:chOff x="7172280" y="2390760"/>
            <a:chExt cx="1383840" cy="665280"/>
          </a:xfrm>
        </p:grpSpPr>
        <p:sp>
          <p:nvSpPr>
            <p:cNvPr id="583" name=""/>
            <p:cNvSpPr/>
            <p:nvPr/>
          </p:nvSpPr>
          <p:spPr>
            <a:xfrm>
              <a:off x="7172280" y="2390760"/>
              <a:ext cx="1383840" cy="665280"/>
            </a:xfrm>
            <a:prstGeom prst="ellipse">
              <a:avLst/>
            </a:prstGeom>
            <a:gradFill rotWithShape="0">
              <a:gsLst>
                <a:gs pos="0">
                  <a:srgbClr val="8a76f0"/>
                </a:gs>
                <a:gs pos="100000">
                  <a:srgbClr val="3f366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76960" y="2410920"/>
              <a:ext cx="1298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dd013"/>
                  </a:solidFill>
                  <a:latin typeface="Times New Roman"/>
                </a:rPr>
                <a:t>IPS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dd013"/>
                  </a:solidFill>
                  <a:latin typeface="Times New Roman"/>
                </a:rPr>
                <a:t>PolicyAg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810400" y="2651040"/>
            <a:ext cx="1918800" cy="730440"/>
            <a:chOff x="5810400" y="2651040"/>
            <a:chExt cx="1918800" cy="730440"/>
          </a:xfrm>
        </p:grpSpPr>
        <p:sp>
          <p:nvSpPr>
            <p:cNvPr id="586" name=""/>
            <p:cNvSpPr/>
            <p:nvPr/>
          </p:nvSpPr>
          <p:spPr>
            <a:xfrm>
              <a:off x="5826240" y="2651040"/>
              <a:ext cx="1736280" cy="730440"/>
            </a:xfrm>
            <a:prstGeom prst="ellipse">
              <a:avLst/>
            </a:prstGeom>
            <a:gradFill rotWithShape="0">
              <a:gsLst>
                <a:gs pos="0">
                  <a:srgbClr val="8a76f0"/>
                </a:gs>
                <a:gs pos="100000">
                  <a:srgbClr val="3f366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10400" y="2819160"/>
              <a:ext cx="19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d013"/>
                  </a:solidFill>
                  <a:latin typeface="Times New Roman"/>
                </a:rPr>
                <a:t>IKE (ISAKMP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588960" y="1459080"/>
            <a:ext cx="3043080" cy="30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1200" y="3560760"/>
            <a:ext cx="1271520" cy="673200"/>
          </a:xfrm>
          <a:prstGeom prst="ellipse">
            <a:avLst/>
          </a:prstGeom>
          <a:gradFill rotWithShape="0">
            <a:gsLst>
              <a:gs pos="0">
                <a:srgbClr val="8a76f0"/>
              </a:gs>
              <a:gs pos="100000">
                <a:srgbClr val="3f366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d013"/>
                </a:solidFill>
                <a:latin typeface="Times New Roman"/>
              </a:rPr>
              <a:t>IP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d013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88960" y="2446200"/>
            <a:ext cx="1383840" cy="665280"/>
            <a:chOff x="588960" y="2446200"/>
            <a:chExt cx="1383840" cy="665280"/>
          </a:xfrm>
        </p:grpSpPr>
        <p:sp>
          <p:nvSpPr>
            <p:cNvPr id="591" name=""/>
            <p:cNvSpPr/>
            <p:nvPr/>
          </p:nvSpPr>
          <p:spPr>
            <a:xfrm>
              <a:off x="588960" y="2446200"/>
              <a:ext cx="1383840" cy="665280"/>
            </a:xfrm>
            <a:prstGeom prst="ellipse">
              <a:avLst/>
            </a:prstGeom>
            <a:gradFill rotWithShape="0">
              <a:gsLst>
                <a:gs pos="0">
                  <a:srgbClr val="8a76f0"/>
                </a:gs>
                <a:gs pos="100000">
                  <a:srgbClr val="3f366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3640" y="2466360"/>
              <a:ext cx="1298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dd013"/>
                  </a:solidFill>
                  <a:latin typeface="Times New Roman"/>
                </a:rPr>
                <a:t>IPS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dd013"/>
                  </a:solidFill>
                  <a:latin typeface="Times New Roman"/>
                </a:rPr>
                <a:t>PolicyAg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557360" y="2668680"/>
            <a:ext cx="1917360" cy="731880"/>
            <a:chOff x="1557360" y="2668680"/>
            <a:chExt cx="1917360" cy="731880"/>
          </a:xfrm>
        </p:grpSpPr>
        <p:sp>
          <p:nvSpPr>
            <p:cNvPr id="594" name=""/>
            <p:cNvSpPr/>
            <p:nvPr/>
          </p:nvSpPr>
          <p:spPr>
            <a:xfrm>
              <a:off x="1573200" y="2668680"/>
              <a:ext cx="1734840" cy="731880"/>
            </a:xfrm>
            <a:prstGeom prst="ellipse">
              <a:avLst/>
            </a:prstGeom>
            <a:gradFill rotWithShape="0">
              <a:gsLst>
                <a:gs pos="0">
                  <a:srgbClr val="8a76f0"/>
                </a:gs>
                <a:gs pos="100000">
                  <a:srgbClr val="3f366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2837160"/>
              <a:ext cx="19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d013"/>
                  </a:solidFill>
                  <a:latin typeface="Times New Roman"/>
                </a:rPr>
                <a:t>IKE (ISAKMP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906640" y="4230720"/>
            <a:ext cx="719280" cy="312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97280" y="424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8960" y="2449440"/>
            <a:ext cx="303228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033640" y="3592440"/>
            <a:ext cx="1091880" cy="800280"/>
            <a:chOff x="2033640" y="3592440"/>
            <a:chExt cx="1091880" cy="800280"/>
          </a:xfrm>
        </p:grpSpPr>
        <p:sp>
          <p:nvSpPr>
            <p:cNvPr id="600" name=""/>
            <p:cNvSpPr/>
            <p:nvPr/>
          </p:nvSpPr>
          <p:spPr>
            <a:xfrm>
              <a:off x="2033640" y="3592440"/>
              <a:ext cx="1091880" cy="8002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70360" y="374940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24960" y="4208400"/>
            <a:ext cx="667080" cy="317160"/>
            <a:chOff x="624960" y="4208400"/>
            <a:chExt cx="667080" cy="317160"/>
          </a:xfrm>
        </p:grpSpPr>
        <p:sp>
          <p:nvSpPr>
            <p:cNvPr id="603" name=""/>
            <p:cNvSpPr/>
            <p:nvPr/>
          </p:nvSpPr>
          <p:spPr>
            <a:xfrm>
              <a:off x="685800" y="4208400"/>
              <a:ext cx="606240" cy="275400"/>
            </a:xfrm>
            <a:prstGeom prst="flowChartMultidocument">
              <a:avLst/>
            </a:prstGeom>
            <a:solidFill>
              <a:srgbClr val="8a76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960" y="4218480"/>
              <a:ext cx="599760" cy="307080"/>
            </a:xfrm>
            <a:prstGeom prst="rect">
              <a:avLst/>
            </a:prstGeom>
            <a:solidFill>
              <a:srgbClr val="8a7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ilt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201680" y="1490760"/>
            <a:ext cx="2154240" cy="849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 o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01760" y="4560840"/>
            <a:ext cx="8262720" cy="393840"/>
            <a:chOff x="401760" y="4560840"/>
            <a:chExt cx="8262720" cy="393840"/>
          </a:xfrm>
        </p:grpSpPr>
        <p:sp>
          <p:nvSpPr>
            <p:cNvPr id="607" name=""/>
            <p:cNvSpPr/>
            <p:nvPr/>
          </p:nvSpPr>
          <p:spPr>
            <a:xfrm>
              <a:off x="5221440" y="4560840"/>
              <a:ext cx="34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KE Responder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1760" y="4586400"/>
              <a:ext cx="34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KE Initiator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08040" y="3417840"/>
            <a:ext cx="3031920" cy="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798560" y="3147840"/>
            <a:ext cx="476280" cy="603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1480" y="2133720"/>
            <a:ext cx="333360" cy="1701720"/>
          </a:xfrm>
          <a:custGeom>
            <a:avLst/>
            <a:gdLst/>
            <a:ahLst/>
            <a:rect l="l" t="t" r="r" b="b"/>
            <a:pathLst>
              <a:path w="307" h="1170">
                <a:moveTo>
                  <a:pt x="100" y="0"/>
                </a:moveTo>
                <a:cubicBezTo>
                  <a:pt x="203" y="222"/>
                  <a:pt x="307" y="445"/>
                  <a:pt x="290" y="640"/>
                </a:cubicBezTo>
                <a:cubicBezTo>
                  <a:pt x="273" y="835"/>
                  <a:pt x="136" y="1002"/>
                  <a:pt x="0" y="1170"/>
                </a:cubicBezTo>
              </a:path>
            </a:pathLst>
          </a:custGeom>
          <a:noFill/>
          <a:ln w="34920">
            <a:solidFill>
              <a:srgbClr val="ffffff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825560" y="3817800"/>
            <a:ext cx="89712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600200" y="3124080"/>
            <a:ext cx="5607000" cy="703440"/>
            <a:chOff x="1600200" y="3124080"/>
            <a:chExt cx="5607000" cy="703440"/>
          </a:xfrm>
        </p:grpSpPr>
        <p:sp>
          <p:nvSpPr>
            <p:cNvPr id="614" name=""/>
            <p:cNvSpPr/>
            <p:nvPr/>
          </p:nvSpPr>
          <p:spPr>
            <a:xfrm flipH="1">
              <a:off x="1600200" y="3124080"/>
              <a:ext cx="349200" cy="63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4280" y="3224160"/>
              <a:ext cx="142920" cy="603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352680" y="2111400"/>
            <a:ext cx="2362320" cy="1059840"/>
            <a:chOff x="3352680" y="2111400"/>
            <a:chExt cx="2362320" cy="1059840"/>
          </a:xfrm>
        </p:grpSpPr>
        <p:sp>
          <p:nvSpPr>
            <p:cNvPr id="617" name=""/>
            <p:cNvSpPr/>
            <p:nvPr/>
          </p:nvSpPr>
          <p:spPr>
            <a:xfrm>
              <a:off x="3352680" y="2805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75080" y="2111400"/>
              <a:ext cx="22366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DP port 500 negoti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IKE 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400560" y="3241800"/>
            <a:ext cx="2383920" cy="601560"/>
            <a:chOff x="3400560" y="3241800"/>
            <a:chExt cx="2383920" cy="601560"/>
          </a:xfrm>
        </p:grpSpPr>
        <p:sp>
          <p:nvSpPr>
            <p:cNvPr id="620" name=""/>
            <p:cNvSpPr/>
            <p:nvPr/>
          </p:nvSpPr>
          <p:spPr>
            <a:xfrm>
              <a:off x="3436920" y="3475080"/>
              <a:ext cx="22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 IPSec S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22520" y="3241800"/>
              <a:ext cx="2361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00560" y="3433680"/>
              <a:ext cx="2361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825560" y="3986280"/>
            <a:ext cx="3889440" cy="896760"/>
            <a:chOff x="1825560" y="3986280"/>
            <a:chExt cx="3889440" cy="896760"/>
          </a:xfrm>
        </p:grpSpPr>
        <p:sp>
          <p:nvSpPr>
            <p:cNvPr id="624" name=""/>
            <p:cNvSpPr/>
            <p:nvPr/>
          </p:nvSpPr>
          <p:spPr>
            <a:xfrm>
              <a:off x="1825560" y="3986280"/>
              <a:ext cx="3889440" cy="487440"/>
            </a:xfrm>
            <a:custGeom>
              <a:avLst/>
              <a:gdLst/>
              <a:ahLst/>
              <a:rect l="l" t="t" r="r" b="b"/>
              <a:pathLst>
                <a:path w="2340" h="287">
                  <a:moveTo>
                    <a:pt x="0" y="0"/>
                  </a:moveTo>
                  <a:cubicBezTo>
                    <a:pt x="166" y="67"/>
                    <a:pt x="332" y="135"/>
                    <a:pt x="520" y="180"/>
                  </a:cubicBezTo>
                  <a:cubicBezTo>
                    <a:pt x="708" y="225"/>
                    <a:pt x="827" y="253"/>
                    <a:pt x="1130" y="270"/>
                  </a:cubicBezTo>
                  <a:cubicBezTo>
                    <a:pt x="1433" y="287"/>
                    <a:pt x="1886" y="283"/>
                    <a:pt x="2340" y="28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33600" y="4514760"/>
              <a:ext cx="22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 protocol 50/5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emote Access L2TP VPN Client – Automatic IPSec configuration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554360" y="1512720"/>
            <a:ext cx="4262760" cy="51451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184320" y="1509840"/>
            <a:ext cx="42782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264440" y="2770200"/>
            <a:ext cx="1708200" cy="1236600"/>
          </a:xfrm>
          <a:prstGeom prst="rect">
            <a:avLst/>
          </a:prstGeom>
          <a:solidFill>
            <a:srgbClr val="333333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39960" y="2021040"/>
            <a:ext cx="1784520" cy="1066680"/>
          </a:xfrm>
          <a:custGeom>
            <a:avLst/>
            <a:gdLst/>
            <a:ahLst/>
            <a:rect l="l" t="t" r="r" b="b"/>
            <a:pathLst>
              <a:path w="1685" h="1152">
                <a:moveTo>
                  <a:pt x="1176" y="869"/>
                </a:moveTo>
                <a:lnTo>
                  <a:pt x="1185" y="912"/>
                </a:lnTo>
                <a:lnTo>
                  <a:pt x="1185" y="962"/>
                </a:lnTo>
                <a:lnTo>
                  <a:pt x="1176" y="1007"/>
                </a:lnTo>
                <a:lnTo>
                  <a:pt x="1156" y="1050"/>
                </a:lnTo>
                <a:lnTo>
                  <a:pt x="1124" y="1089"/>
                </a:lnTo>
                <a:lnTo>
                  <a:pt x="1086" y="1117"/>
                </a:lnTo>
                <a:lnTo>
                  <a:pt x="1041" y="1138"/>
                </a:lnTo>
                <a:lnTo>
                  <a:pt x="991" y="1151"/>
                </a:lnTo>
                <a:lnTo>
                  <a:pt x="944" y="1151"/>
                </a:lnTo>
                <a:lnTo>
                  <a:pt x="891" y="1140"/>
                </a:lnTo>
                <a:lnTo>
                  <a:pt x="844" y="1122"/>
                </a:lnTo>
                <a:lnTo>
                  <a:pt x="807" y="1093"/>
                </a:lnTo>
                <a:lnTo>
                  <a:pt x="771" y="1058"/>
                </a:lnTo>
                <a:lnTo>
                  <a:pt x="751" y="1017"/>
                </a:lnTo>
                <a:lnTo>
                  <a:pt x="738" y="971"/>
                </a:lnTo>
                <a:lnTo>
                  <a:pt x="698" y="1002"/>
                </a:lnTo>
                <a:lnTo>
                  <a:pt x="647" y="1027"/>
                </a:lnTo>
                <a:lnTo>
                  <a:pt x="596" y="1041"/>
                </a:lnTo>
                <a:lnTo>
                  <a:pt x="544" y="1047"/>
                </a:lnTo>
                <a:lnTo>
                  <a:pt x="491" y="1038"/>
                </a:lnTo>
                <a:lnTo>
                  <a:pt x="435" y="1022"/>
                </a:lnTo>
                <a:lnTo>
                  <a:pt x="392" y="994"/>
                </a:lnTo>
                <a:lnTo>
                  <a:pt x="354" y="959"/>
                </a:lnTo>
                <a:lnTo>
                  <a:pt x="323" y="916"/>
                </a:lnTo>
                <a:lnTo>
                  <a:pt x="300" y="869"/>
                </a:lnTo>
                <a:lnTo>
                  <a:pt x="255" y="880"/>
                </a:lnTo>
                <a:lnTo>
                  <a:pt x="204" y="880"/>
                </a:lnTo>
                <a:lnTo>
                  <a:pt x="157" y="869"/>
                </a:lnTo>
                <a:lnTo>
                  <a:pt x="107" y="851"/>
                </a:lnTo>
                <a:lnTo>
                  <a:pt x="69" y="820"/>
                </a:lnTo>
                <a:lnTo>
                  <a:pt x="36" y="785"/>
                </a:lnTo>
                <a:lnTo>
                  <a:pt x="12" y="745"/>
                </a:lnTo>
                <a:lnTo>
                  <a:pt x="1" y="697"/>
                </a:lnTo>
                <a:lnTo>
                  <a:pt x="0" y="648"/>
                </a:lnTo>
                <a:lnTo>
                  <a:pt x="11" y="605"/>
                </a:lnTo>
                <a:lnTo>
                  <a:pt x="31" y="562"/>
                </a:lnTo>
                <a:lnTo>
                  <a:pt x="63" y="522"/>
                </a:lnTo>
                <a:lnTo>
                  <a:pt x="100" y="494"/>
                </a:lnTo>
                <a:lnTo>
                  <a:pt x="144" y="471"/>
                </a:lnTo>
                <a:lnTo>
                  <a:pt x="195" y="460"/>
                </a:lnTo>
                <a:lnTo>
                  <a:pt x="159" y="424"/>
                </a:lnTo>
                <a:lnTo>
                  <a:pt x="135" y="381"/>
                </a:lnTo>
                <a:lnTo>
                  <a:pt x="124" y="340"/>
                </a:lnTo>
                <a:lnTo>
                  <a:pt x="121" y="292"/>
                </a:lnTo>
                <a:lnTo>
                  <a:pt x="132" y="248"/>
                </a:lnTo>
                <a:lnTo>
                  <a:pt x="152" y="205"/>
                </a:lnTo>
                <a:lnTo>
                  <a:pt x="180" y="171"/>
                </a:lnTo>
                <a:lnTo>
                  <a:pt x="219" y="142"/>
                </a:lnTo>
                <a:lnTo>
                  <a:pt x="263" y="122"/>
                </a:lnTo>
                <a:lnTo>
                  <a:pt x="309" y="113"/>
                </a:lnTo>
                <a:lnTo>
                  <a:pt x="360" y="117"/>
                </a:lnTo>
                <a:lnTo>
                  <a:pt x="407" y="129"/>
                </a:lnTo>
                <a:lnTo>
                  <a:pt x="450" y="149"/>
                </a:lnTo>
                <a:lnTo>
                  <a:pt x="486" y="181"/>
                </a:lnTo>
                <a:lnTo>
                  <a:pt x="513" y="218"/>
                </a:lnTo>
                <a:lnTo>
                  <a:pt x="524" y="169"/>
                </a:lnTo>
                <a:lnTo>
                  <a:pt x="544" y="122"/>
                </a:lnTo>
                <a:lnTo>
                  <a:pt x="573" y="82"/>
                </a:lnTo>
                <a:lnTo>
                  <a:pt x="610" y="48"/>
                </a:lnTo>
                <a:lnTo>
                  <a:pt x="656" y="20"/>
                </a:lnTo>
                <a:lnTo>
                  <a:pt x="709" y="4"/>
                </a:lnTo>
                <a:lnTo>
                  <a:pt x="760" y="0"/>
                </a:lnTo>
                <a:lnTo>
                  <a:pt x="812" y="2"/>
                </a:lnTo>
                <a:lnTo>
                  <a:pt x="870" y="15"/>
                </a:lnTo>
                <a:lnTo>
                  <a:pt x="919" y="40"/>
                </a:lnTo>
                <a:lnTo>
                  <a:pt x="969" y="71"/>
                </a:lnTo>
                <a:lnTo>
                  <a:pt x="1005" y="110"/>
                </a:lnTo>
                <a:lnTo>
                  <a:pt x="1035" y="153"/>
                </a:lnTo>
                <a:lnTo>
                  <a:pt x="1056" y="202"/>
                </a:lnTo>
                <a:lnTo>
                  <a:pt x="1066" y="253"/>
                </a:lnTo>
                <a:lnTo>
                  <a:pt x="1072" y="205"/>
                </a:lnTo>
                <a:lnTo>
                  <a:pt x="1093" y="161"/>
                </a:lnTo>
                <a:lnTo>
                  <a:pt x="1120" y="120"/>
                </a:lnTo>
                <a:lnTo>
                  <a:pt x="1157" y="87"/>
                </a:lnTo>
                <a:lnTo>
                  <a:pt x="1201" y="66"/>
                </a:lnTo>
                <a:lnTo>
                  <a:pt x="1249" y="48"/>
                </a:lnTo>
                <a:lnTo>
                  <a:pt x="1301" y="47"/>
                </a:lnTo>
                <a:lnTo>
                  <a:pt x="1353" y="51"/>
                </a:lnTo>
                <a:lnTo>
                  <a:pt x="1397" y="67"/>
                </a:lnTo>
                <a:lnTo>
                  <a:pt x="1443" y="96"/>
                </a:lnTo>
                <a:lnTo>
                  <a:pt x="1479" y="129"/>
                </a:lnTo>
                <a:lnTo>
                  <a:pt x="1503" y="169"/>
                </a:lnTo>
                <a:lnTo>
                  <a:pt x="1522" y="217"/>
                </a:lnTo>
                <a:lnTo>
                  <a:pt x="1526" y="261"/>
                </a:lnTo>
                <a:lnTo>
                  <a:pt x="1522" y="312"/>
                </a:lnTo>
                <a:lnTo>
                  <a:pt x="1503" y="356"/>
                </a:lnTo>
                <a:lnTo>
                  <a:pt x="1547" y="369"/>
                </a:lnTo>
                <a:lnTo>
                  <a:pt x="1590" y="388"/>
                </a:lnTo>
                <a:lnTo>
                  <a:pt x="1627" y="418"/>
                </a:lnTo>
                <a:lnTo>
                  <a:pt x="1655" y="456"/>
                </a:lnTo>
                <a:lnTo>
                  <a:pt x="1678" y="494"/>
                </a:lnTo>
                <a:lnTo>
                  <a:pt x="1684" y="539"/>
                </a:lnTo>
                <a:lnTo>
                  <a:pt x="1684" y="582"/>
                </a:lnTo>
                <a:lnTo>
                  <a:pt x="1678" y="625"/>
                </a:lnTo>
                <a:lnTo>
                  <a:pt x="1655" y="669"/>
                </a:lnTo>
                <a:lnTo>
                  <a:pt x="1627" y="702"/>
                </a:lnTo>
                <a:lnTo>
                  <a:pt x="1590" y="732"/>
                </a:lnTo>
                <a:lnTo>
                  <a:pt x="1547" y="752"/>
                </a:lnTo>
                <a:lnTo>
                  <a:pt x="1503" y="765"/>
                </a:lnTo>
                <a:lnTo>
                  <a:pt x="1522" y="804"/>
                </a:lnTo>
                <a:lnTo>
                  <a:pt x="1526" y="845"/>
                </a:lnTo>
                <a:lnTo>
                  <a:pt x="1523" y="889"/>
                </a:lnTo>
                <a:lnTo>
                  <a:pt x="1508" y="926"/>
                </a:lnTo>
                <a:lnTo>
                  <a:pt x="1482" y="959"/>
                </a:lnTo>
                <a:lnTo>
                  <a:pt x="1448" y="986"/>
                </a:lnTo>
                <a:lnTo>
                  <a:pt x="1403" y="1007"/>
                </a:lnTo>
                <a:lnTo>
                  <a:pt x="1362" y="1014"/>
                </a:lnTo>
                <a:lnTo>
                  <a:pt x="1317" y="1011"/>
                </a:lnTo>
                <a:lnTo>
                  <a:pt x="1277" y="998"/>
                </a:lnTo>
                <a:lnTo>
                  <a:pt x="1237" y="976"/>
                </a:lnTo>
                <a:lnTo>
                  <a:pt x="1206" y="948"/>
                </a:lnTo>
                <a:lnTo>
                  <a:pt x="1185" y="907"/>
                </a:lnTo>
                <a:lnTo>
                  <a:pt x="1176" y="869"/>
                </a:lnTo>
              </a:path>
            </a:pathLst>
          </a:custGeom>
          <a:solidFill>
            <a:srgbClr val="ccff66">
              <a:alpha val="50000"/>
            </a:srgbClr>
          </a:solidFill>
          <a:ln cap="rnd" w="1260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69640" y="236520"/>
            <a:ext cx="83804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Windows 2000 L2TP/IPSec VPN Client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62840" y="2293920"/>
            <a:ext cx="2601720" cy="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8166240" y="2284560"/>
            <a:ext cx="1440" cy="54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616720" y="1820880"/>
            <a:ext cx="690480" cy="750960"/>
            <a:chOff x="5616720" y="1820880"/>
            <a:chExt cx="690480" cy="750960"/>
          </a:xfrm>
        </p:grpSpPr>
        <p:sp>
          <p:nvSpPr>
            <p:cNvPr id="635" name=""/>
            <p:cNvSpPr/>
            <p:nvPr/>
          </p:nvSpPr>
          <p:spPr>
            <a:xfrm>
              <a:off x="5856480" y="184464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73760" y="222732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73760" y="197820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16720" y="182268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16720" y="182268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29480" y="184788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73760" y="197640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73760" y="19368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73760" y="187164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16720" y="18208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4680" y="184464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16720" y="182268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29480" y="184968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29480" y="18590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29480" y="1911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73760" y="187164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29480" y="1927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29480" y="19764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29480" y="21751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73760" y="198756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39080" y="197820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73760" y="197820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26120" y="217008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873400" y="204336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873400" y="210996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29480" y="2227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29480" y="250668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73760" y="22431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9080" y="222732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73760" y="248760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73760" y="247500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873760" y="24638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73760" y="245124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73760" y="243684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73760" y="187344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26120" y="189720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35680" y="19368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73760" y="193680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73760" y="19544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077160" y="195768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77160" y="19368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86720" y="18892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23080" y="188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59440" y="188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97600" y="188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35760" y="188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70680" y="18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08840" y="18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13520" y="197820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54920" y="246852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805880" y="1135080"/>
            <a:ext cx="690480" cy="1227240"/>
            <a:chOff x="7805880" y="1135080"/>
            <a:chExt cx="690480" cy="1227240"/>
          </a:xfrm>
        </p:grpSpPr>
        <p:sp>
          <p:nvSpPr>
            <p:cNvPr id="686" name=""/>
            <p:cNvSpPr/>
            <p:nvPr/>
          </p:nvSpPr>
          <p:spPr>
            <a:xfrm>
              <a:off x="8161200" y="1903320"/>
              <a:ext cx="0" cy="45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7805880" y="1135080"/>
              <a:ext cx="690480" cy="750960"/>
              <a:chOff x="7805880" y="1135080"/>
              <a:chExt cx="690480" cy="750960"/>
            </a:xfrm>
          </p:grpSpPr>
          <p:sp>
            <p:nvSpPr>
              <p:cNvPr id="688" name=""/>
              <p:cNvSpPr/>
              <p:nvPr/>
            </p:nvSpPr>
            <p:spPr>
              <a:xfrm>
                <a:off x="8045640" y="115884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062920" y="154152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62920" y="129240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05880" y="113688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05880" y="113688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18640" y="116208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62920" y="129060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62920" y="125100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62920" y="11858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05880" y="113508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43840" y="115884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805880" y="113688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18640" y="116388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18640" y="1173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8640" y="12258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62920" y="11858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18640" y="1241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018640" y="1290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18640" y="14893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62920" y="130176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328240" y="12924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062920" y="129240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315280" y="148428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8062560" y="135756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8062560" y="142416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18640" y="1541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18640" y="182088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62920" y="15573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328240" y="154152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62920" y="18018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920" y="17892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2920" y="177804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62920" y="176544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62920" y="175104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62920" y="118764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5280" y="121140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24840" y="125100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062920" y="125100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062920" y="126864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8266320" y="127188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266320" y="125100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075880" y="12034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12240" y="1201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8600" y="1201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86760" y="1201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24920" y="120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259840" y="1197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298000" y="1197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302680" y="129240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344080" y="178272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411120" y="2033640"/>
            <a:ext cx="1427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739" name=""/>
          <p:cNvGrpSpPr/>
          <p:nvPr/>
        </p:nvGrpSpPr>
        <p:grpSpPr>
          <a:xfrm>
            <a:off x="2044440" y="1730880"/>
            <a:ext cx="4892760" cy="1788120"/>
            <a:chOff x="2044440" y="1730880"/>
            <a:chExt cx="4892760" cy="1788120"/>
          </a:xfrm>
        </p:grpSpPr>
        <p:sp>
          <p:nvSpPr>
            <p:cNvPr id="740" name=""/>
            <p:cNvSpPr/>
            <p:nvPr/>
          </p:nvSpPr>
          <p:spPr>
            <a:xfrm flipV="1" rot="20752200">
              <a:off x="2092320" y="2138760"/>
              <a:ext cx="3448080" cy="819360"/>
            </a:xfrm>
            <a:custGeom>
              <a:avLst/>
              <a:gdLst/>
              <a:ahLst/>
              <a:rect l="l" t="t" r="r" b="b"/>
              <a:pathLst>
                <a:path w="1661" h="965">
                  <a:moveTo>
                    <a:pt x="0" y="965"/>
                  </a:moveTo>
                  <a:cubicBezTo>
                    <a:pt x="128" y="857"/>
                    <a:pt x="257" y="749"/>
                    <a:pt x="453" y="617"/>
                  </a:cubicBezTo>
                  <a:cubicBezTo>
                    <a:pt x="649" y="485"/>
                    <a:pt x="973" y="276"/>
                    <a:pt x="1174" y="173"/>
                  </a:cubicBezTo>
                  <a:cubicBezTo>
                    <a:pt x="1375" y="70"/>
                    <a:pt x="1518" y="35"/>
                    <a:pt x="1661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65560" y="2938320"/>
              <a:ext cx="277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. IPSec IKE negotiation, machine certificate au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1292400" y="2009520"/>
            <a:ext cx="4359240" cy="1582200"/>
            <a:chOff x="1292400" y="2009520"/>
            <a:chExt cx="4359240" cy="1582200"/>
          </a:xfrm>
        </p:grpSpPr>
        <p:sp>
          <p:nvSpPr>
            <p:cNvPr id="743" name=""/>
            <p:cNvSpPr/>
            <p:nvPr/>
          </p:nvSpPr>
          <p:spPr>
            <a:xfrm rot="612000">
              <a:off x="2019600" y="2322360"/>
              <a:ext cx="3597120" cy="715680"/>
            </a:xfrm>
            <a:custGeom>
              <a:avLst/>
              <a:gdLst/>
              <a:ahLst/>
              <a:rect l="l" t="t" r="r" b="b"/>
              <a:pathLst>
                <a:path w="1757" h="1026">
                  <a:moveTo>
                    <a:pt x="1757" y="0"/>
                  </a:moveTo>
                  <a:cubicBezTo>
                    <a:pt x="1699" y="137"/>
                    <a:pt x="1641" y="274"/>
                    <a:pt x="1435" y="426"/>
                  </a:cubicBezTo>
                  <a:cubicBezTo>
                    <a:pt x="1229" y="578"/>
                    <a:pt x="761" y="813"/>
                    <a:pt x="522" y="913"/>
                  </a:cubicBezTo>
                  <a:cubicBezTo>
                    <a:pt x="283" y="1013"/>
                    <a:pt x="141" y="1019"/>
                    <a:pt x="0" y="102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92400" y="3011040"/>
              <a:ext cx="284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. Establish IPSec SA for L2TP, UDP port 17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V="1">
            <a:off x="2124000" y="2293920"/>
            <a:ext cx="2511360" cy="143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1880" y="3711600"/>
            <a:ext cx="832824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dd013"/>
                </a:solidFill>
                <a:uFillTx/>
                <a:latin typeface="Arial"/>
              </a:rPr>
              <a:t>No traffic gets in until</a:t>
            </a:r>
            <a:r>
              <a:rPr b="1" lang="en-US" sz="2000" spc="-1" strike="noStrike">
                <a:solidFill>
                  <a:srgbClr val="fdd01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Sec SAs established – strong security based on mutual cert tr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2TP user authenticated – all protected by IPSec.  PPP could use CHAP, MS-CHAP (userid/password), EAP (smartcard or token card), Radius client in gateway permits single sign-on for Active Directory user acc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Access Control Policy OK – VPN Server, AD &amp; IAS.  IAS RADIUS server integrates 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arty gateway to 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226360" y="3068640"/>
            <a:ext cx="622440" cy="739800"/>
            <a:chOff x="8226360" y="3068640"/>
            <a:chExt cx="622440" cy="739800"/>
          </a:xfrm>
        </p:grpSpPr>
        <p:sp>
          <p:nvSpPr>
            <p:cNvPr id="748" name=""/>
            <p:cNvSpPr/>
            <p:nvPr/>
          </p:nvSpPr>
          <p:spPr>
            <a:xfrm>
              <a:off x="8226360" y="3068640"/>
              <a:ext cx="622440" cy="73980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443a77"/>
                </a:gs>
                <a:gs pos="100000">
                  <a:srgbClr val="8a76f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40280" y="3297240"/>
              <a:ext cx="0" cy="5436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12200" y="3231720"/>
              <a:ext cx="54720" cy="6012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8482320" y="3394800"/>
              <a:ext cx="57240" cy="12816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545680" y="3402000"/>
              <a:ext cx="85680" cy="13212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13280" y="3351240"/>
              <a:ext cx="54000" cy="6084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8377200" y="3555000"/>
              <a:ext cx="96120" cy="15192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482680" y="3550320"/>
              <a:ext cx="102960" cy="15948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82680" y="3546720"/>
              <a:ext cx="0" cy="16272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33880" y="3539160"/>
              <a:ext cx="58320" cy="16488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50560" y="3676680"/>
              <a:ext cx="54720" cy="604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06520" y="3512880"/>
              <a:ext cx="54720" cy="604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53160" y="3512880"/>
              <a:ext cx="54000" cy="604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662320" y="3676680"/>
              <a:ext cx="54720" cy="604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557920" y="3676680"/>
              <a:ext cx="54000" cy="604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455320" y="3676680"/>
              <a:ext cx="54720" cy="604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8172360" y="2790720"/>
            <a:ext cx="971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d01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288200" y="3068640"/>
            <a:ext cx="941400" cy="649440"/>
          </a:xfrm>
          <a:prstGeom prst="ellipse">
            <a:avLst/>
          </a:prstGeom>
          <a:gradFill rotWithShape="0">
            <a:gsLst>
              <a:gs pos="0">
                <a:srgbClr val="586e7d"/>
              </a:gs>
              <a:gs pos="100000">
                <a:srgbClr val="b3e0ff"/>
              </a:gs>
            </a:gsLst>
            <a:lin ang="5400000"/>
          </a:gra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rbero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KD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13760" y="3755880"/>
            <a:ext cx="1830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d013"/>
                </a:solidFill>
                <a:latin typeface="Arial"/>
              </a:rPr>
              <a:t>Windows 2000 domain control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05920" y="1220760"/>
            <a:ext cx="8380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d013"/>
                </a:solidFill>
                <a:latin typeface="Arial"/>
              </a:rPr>
              <a:t>IAS Radius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226200" y="1488960"/>
            <a:ext cx="2093760" cy="1374840"/>
            <a:chOff x="6226200" y="1488960"/>
            <a:chExt cx="2093760" cy="1374840"/>
          </a:xfrm>
        </p:grpSpPr>
        <p:sp>
          <p:nvSpPr>
            <p:cNvPr id="769" name=""/>
            <p:cNvSpPr/>
            <p:nvPr/>
          </p:nvSpPr>
          <p:spPr>
            <a:xfrm>
              <a:off x="6226200" y="1488960"/>
              <a:ext cx="2093760" cy="1374840"/>
            </a:xfrm>
            <a:custGeom>
              <a:avLst/>
              <a:gdLst/>
              <a:ahLst/>
              <a:rect l="l" t="t" r="r" b="b"/>
              <a:pathLst>
                <a:path w="1319" h="866">
                  <a:moveTo>
                    <a:pt x="0" y="443"/>
                  </a:moveTo>
                  <a:cubicBezTo>
                    <a:pt x="450" y="221"/>
                    <a:pt x="901" y="0"/>
                    <a:pt x="1110" y="70"/>
                  </a:cubicBezTo>
                  <a:cubicBezTo>
                    <a:pt x="1319" y="140"/>
                    <a:pt x="1286" y="503"/>
                    <a:pt x="1254" y="866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51720" y="1913040"/>
              <a:ext cx="14302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r authent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74840" y="1828800"/>
            <a:ext cx="7924320" cy="5029200"/>
            <a:chOff x="474840" y="1828800"/>
            <a:chExt cx="7924320" cy="5029200"/>
          </a:xfrm>
        </p:grpSpPr>
        <p:grpSp>
          <p:nvGrpSpPr>
            <p:cNvPr id="772" name=""/>
            <p:cNvGrpSpPr/>
            <p:nvPr/>
          </p:nvGrpSpPr>
          <p:grpSpPr>
            <a:xfrm>
              <a:off x="474840" y="1828800"/>
              <a:ext cx="7924320" cy="5029200"/>
              <a:chOff x="474840" y="1828800"/>
              <a:chExt cx="7924320" cy="5029200"/>
            </a:xfrm>
          </p:grpSpPr>
          <p:sp>
            <p:nvSpPr>
              <p:cNvPr id="773" name=""/>
              <p:cNvSpPr/>
              <p:nvPr/>
            </p:nvSpPr>
            <p:spPr>
              <a:xfrm>
                <a:off x="1990800" y="6105600"/>
                <a:ext cx="5580000" cy="752400"/>
              </a:xfrm>
              <a:prstGeom prst="rect">
                <a:avLst/>
              </a:prstGeom>
              <a:solidFill>
                <a:srgbClr val="8a76f0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520" rIns="1825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1903680" y="1828800"/>
                <a:ext cx="4090320" cy="909720"/>
                <a:chOff x="1903680" y="1828800"/>
                <a:chExt cx="4090320" cy="909720"/>
              </a:xfrm>
            </p:grpSpPr>
            <p:grpSp>
              <p:nvGrpSpPr>
                <p:cNvPr id="775" name=""/>
                <p:cNvGrpSpPr/>
                <p:nvPr/>
              </p:nvGrpSpPr>
              <p:grpSpPr>
                <a:xfrm>
                  <a:off x="1903680" y="1828800"/>
                  <a:ext cx="4090320" cy="754200"/>
                  <a:chOff x="1903680" y="1828800"/>
                  <a:chExt cx="4090320" cy="754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 flipV="1">
                    <a:off x="1998720" y="2576520"/>
                    <a:ext cx="3471840" cy="648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1903680" y="1828800"/>
                    <a:ext cx="4090320" cy="666360"/>
                    <a:chOff x="1903680" y="1828800"/>
                    <a:chExt cx="4090320" cy="66636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1903680" y="1828800"/>
                      <a:ext cx="292680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2TP tunnel setup, management over IPS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2492280" y="2489040"/>
                      <a:ext cx="3501720" cy="61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0" name=""/>
                <p:cNvSpPr/>
                <p:nvPr/>
              </p:nvSpPr>
              <p:spPr>
                <a:xfrm flipV="1">
                  <a:off x="2022480" y="2724120"/>
                  <a:ext cx="3341880" cy="144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74840" y="6246720"/>
                <a:ext cx="7924320" cy="533160"/>
                <a:chOff x="474840" y="6246720"/>
                <a:chExt cx="7924320" cy="533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4894200" y="6246720"/>
                  <a:ext cx="685440" cy="533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C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D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580000" y="6246720"/>
                  <a:ext cx="1980720" cy="533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lication Dat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998720" y="6246720"/>
                  <a:ext cx="76140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D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74840" y="6246720"/>
                  <a:ext cx="68544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208400" y="6246720"/>
                  <a:ext cx="685440" cy="533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160280" y="6246720"/>
                  <a:ext cx="83808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PSE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760480" y="6246720"/>
                  <a:ext cx="68544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2T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446280" y="6246720"/>
                  <a:ext cx="76176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P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561080" y="6246720"/>
                  <a:ext cx="83808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PSE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1" name=""/>
            <p:cNvSpPr/>
            <p:nvPr/>
          </p:nvSpPr>
          <p:spPr>
            <a:xfrm>
              <a:off x="5621400" y="5850000"/>
              <a:ext cx="2246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a76f0"/>
                  </a:solidFill>
                  <a:latin typeface="Arial"/>
                </a:rPr>
                <a:t>IPSec encryp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343400" y="1523880"/>
            <a:ext cx="1036800" cy="807840"/>
            <a:chOff x="4343400" y="1523880"/>
            <a:chExt cx="1036800" cy="807840"/>
          </a:xfrm>
        </p:grpSpPr>
        <p:sp>
          <p:nvSpPr>
            <p:cNvPr id="793" name=""/>
            <p:cNvSpPr/>
            <p:nvPr/>
          </p:nvSpPr>
          <p:spPr>
            <a:xfrm>
              <a:off x="4430880" y="1523880"/>
              <a:ext cx="807840" cy="807840"/>
            </a:xfrm>
            <a:prstGeom prst="noSmoking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43400" y="1738080"/>
              <a:ext cx="10368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61800" y="-360"/>
            <a:ext cx="84312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d013"/>
                </a:solidFill>
                <a:latin typeface="Arial"/>
              </a:rPr>
              <a:t>Centrally Managed Remote Access</a:t>
            </a:r>
            <a:br>
              <a:rPr sz="4400"/>
            </a:br>
            <a:endParaRPr b="1" lang="en-US" sz="4400" spc="-1" strike="noStrike">
              <a:solidFill>
                <a:srgbClr val="fdd013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5780160" y="2171880"/>
            <a:ext cx="660240" cy="922320"/>
          </a:xfrm>
          <a:prstGeom prst="rect">
            <a:avLst/>
          </a:prstGeom>
          <a:ln w="0">
            <a:noFill/>
          </a:ln>
        </p:spPr>
      </p:pic>
      <p:grpSp>
        <p:nvGrpSpPr>
          <p:cNvPr id="797" name=""/>
          <p:cNvGrpSpPr/>
          <p:nvPr/>
        </p:nvGrpSpPr>
        <p:grpSpPr>
          <a:xfrm>
            <a:off x="7394400" y="1417680"/>
            <a:ext cx="1749240" cy="1485360"/>
            <a:chOff x="7394400" y="1417680"/>
            <a:chExt cx="1749240" cy="1485360"/>
          </a:xfrm>
        </p:grpSpPr>
        <p:sp>
          <p:nvSpPr>
            <p:cNvPr id="798" name=""/>
            <p:cNvSpPr/>
            <p:nvPr/>
          </p:nvSpPr>
          <p:spPr>
            <a:xfrm>
              <a:off x="7394400" y="1417680"/>
              <a:ext cx="1749240" cy="1485360"/>
            </a:xfrm>
            <a:prstGeom prst="triangle">
              <a:avLst>
                <a:gd name="adj" fmla="val 49986"/>
              </a:avLst>
            </a:prstGeom>
            <a:solidFill>
              <a:srgbClr val="01a55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7688520" y="1715040"/>
              <a:ext cx="1029240" cy="1013400"/>
              <a:chOff x="7688520" y="1715040"/>
              <a:chExt cx="1029240" cy="1013400"/>
            </a:xfrm>
          </p:grpSpPr>
          <p:sp>
            <p:nvSpPr>
              <p:cNvPr id="800" name=""/>
              <p:cNvSpPr/>
              <p:nvPr/>
            </p:nvSpPr>
            <p:spPr>
              <a:xfrm>
                <a:off x="8220960" y="184716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142480" y="1715040"/>
                <a:ext cx="153720" cy="12132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8059320" y="2041920"/>
                <a:ext cx="16128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236440" y="2057040"/>
                <a:ext cx="241200" cy="26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145720" y="1954800"/>
                <a:ext cx="151920" cy="12240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7763760" y="2363400"/>
                <a:ext cx="270720" cy="30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059320" y="2354040"/>
                <a:ext cx="289080" cy="32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059320" y="2347200"/>
                <a:ext cx="0" cy="3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484120" y="2332080"/>
                <a:ext cx="164520" cy="33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88520" y="2607480"/>
                <a:ext cx="153720" cy="12096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407080" y="2279160"/>
                <a:ext cx="153720" cy="12096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75800" y="2279160"/>
                <a:ext cx="152280" cy="12096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64040" y="2607480"/>
                <a:ext cx="153720" cy="12096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270280" y="2607480"/>
                <a:ext cx="151920" cy="12096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982280" y="2607480"/>
                <a:ext cx="153720" cy="12096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2560680" y="934920"/>
            <a:ext cx="418680" cy="696600"/>
            <a:chOff x="2560680" y="934920"/>
            <a:chExt cx="418680" cy="696600"/>
          </a:xfrm>
        </p:grpSpPr>
        <p:sp>
          <p:nvSpPr>
            <p:cNvPr id="816" name=""/>
            <p:cNvSpPr/>
            <p:nvPr/>
          </p:nvSpPr>
          <p:spPr>
            <a:xfrm>
              <a:off x="2706120" y="956880"/>
              <a:ext cx="181800" cy="6746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16560" y="1311840"/>
              <a:ext cx="161640" cy="2872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16560" y="1080720"/>
              <a:ext cx="154080" cy="19296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60680" y="936360"/>
              <a:ext cx="327600" cy="277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60680" y="936360"/>
              <a:ext cx="146160" cy="695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89560" y="959760"/>
              <a:ext cx="16920" cy="6717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16560" y="1078920"/>
              <a:ext cx="161640" cy="20196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16560" y="1042200"/>
              <a:ext cx="161640" cy="396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16560" y="981720"/>
              <a:ext cx="16164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60680" y="934920"/>
              <a:ext cx="327600" cy="2916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05040" y="956880"/>
              <a:ext cx="182880" cy="6746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60680" y="936360"/>
              <a:ext cx="145440" cy="695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89560" y="96156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89560" y="97020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89560" y="101880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16560" y="981720"/>
              <a:ext cx="16164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89560" y="10335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89560" y="107892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89560" y="126360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16560" y="108936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7480" y="108072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16560" y="1080720"/>
              <a:ext cx="154080" cy="19116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9920" y="1258920"/>
              <a:ext cx="75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2716200" y="1141200"/>
              <a:ext cx="15300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716200" y="1203120"/>
              <a:ext cx="15300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89560" y="131184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89560" y="1571400"/>
              <a:ext cx="198360" cy="3096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16560" y="1326600"/>
              <a:ext cx="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77480" y="1311840"/>
              <a:ext cx="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16560" y="1553400"/>
              <a:ext cx="16164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16560" y="1541880"/>
              <a:ext cx="16164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16560" y="1531440"/>
              <a:ext cx="161640" cy="2916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16560" y="1519920"/>
              <a:ext cx="161640" cy="262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16560" y="1506600"/>
              <a:ext cx="161640" cy="2772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16560" y="983520"/>
              <a:ext cx="154080" cy="306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69920" y="1005480"/>
              <a:ext cx="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4000" y="1042200"/>
              <a:ext cx="86760" cy="396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16560" y="1042200"/>
              <a:ext cx="161640" cy="3528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16560" y="1058760"/>
              <a:ext cx="124200" cy="248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2840040" y="1061640"/>
              <a:ext cx="374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40040" y="1042200"/>
              <a:ext cx="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24480" y="99828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46440" y="9964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68400" y="9964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91800" y="9964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14840" y="9950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6080" y="9921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59120" y="9921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2000" y="1080720"/>
              <a:ext cx="16200" cy="17964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887200" y="1535760"/>
              <a:ext cx="92160" cy="66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579760" y="2452680"/>
            <a:ext cx="418680" cy="696600"/>
            <a:chOff x="2579760" y="2452680"/>
            <a:chExt cx="418680" cy="696600"/>
          </a:xfrm>
        </p:grpSpPr>
        <p:sp>
          <p:nvSpPr>
            <p:cNvPr id="867" name=""/>
            <p:cNvSpPr/>
            <p:nvPr/>
          </p:nvSpPr>
          <p:spPr>
            <a:xfrm>
              <a:off x="2725200" y="2474640"/>
              <a:ext cx="181800" cy="6746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35640" y="2829600"/>
              <a:ext cx="161640" cy="2872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35640" y="2598480"/>
              <a:ext cx="154080" cy="19296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579760" y="2454120"/>
              <a:ext cx="327600" cy="277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79760" y="2454120"/>
              <a:ext cx="146160" cy="695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8640" y="2477520"/>
              <a:ext cx="16920" cy="6717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35640" y="2596680"/>
              <a:ext cx="161640" cy="20196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35640" y="2559960"/>
              <a:ext cx="161640" cy="396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35640" y="2499480"/>
              <a:ext cx="16164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79760" y="2452680"/>
              <a:ext cx="327600" cy="2916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24120" y="2474640"/>
              <a:ext cx="182880" cy="6746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79760" y="2454120"/>
              <a:ext cx="145440" cy="695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08640" y="247932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08640" y="24879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08640" y="25365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35640" y="2499480"/>
              <a:ext cx="16164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08640" y="255132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08640" y="259668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08640" y="27813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35640" y="260712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96560" y="259848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35640" y="2598480"/>
              <a:ext cx="154080" cy="19116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89000" y="2776680"/>
              <a:ext cx="75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735280" y="2658960"/>
              <a:ext cx="15300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2735280" y="2720880"/>
              <a:ext cx="15300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08640" y="282960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08640" y="3089160"/>
              <a:ext cx="198360" cy="3096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35640" y="2844360"/>
              <a:ext cx="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96560" y="2829600"/>
              <a:ext cx="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35640" y="3071160"/>
              <a:ext cx="16164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35640" y="3059640"/>
              <a:ext cx="16164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5640" y="3049200"/>
              <a:ext cx="161640" cy="2916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35640" y="3037680"/>
              <a:ext cx="161640" cy="262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35640" y="3024360"/>
              <a:ext cx="161640" cy="2772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35640" y="2501280"/>
              <a:ext cx="154080" cy="306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89000" y="2523240"/>
              <a:ext cx="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73080" y="2559960"/>
              <a:ext cx="86760" cy="396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35640" y="2559960"/>
              <a:ext cx="161640" cy="3528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35640" y="2576520"/>
              <a:ext cx="124200" cy="248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859120" y="2579400"/>
              <a:ext cx="374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59120" y="2559960"/>
              <a:ext cx="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43560" y="251604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65520" y="25142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87480" y="25142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810880" y="25142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33920" y="251280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55160" y="250992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78200" y="250992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1080" y="2598480"/>
              <a:ext cx="16200" cy="17964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06280" y="3053520"/>
              <a:ext cx="92160" cy="66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602080" y="1735200"/>
            <a:ext cx="416880" cy="694800"/>
            <a:chOff x="2602080" y="1735200"/>
            <a:chExt cx="416880" cy="694800"/>
          </a:xfrm>
        </p:grpSpPr>
        <p:sp>
          <p:nvSpPr>
            <p:cNvPr id="918" name=""/>
            <p:cNvSpPr/>
            <p:nvPr/>
          </p:nvSpPr>
          <p:spPr>
            <a:xfrm>
              <a:off x="2746800" y="1757160"/>
              <a:ext cx="181080" cy="672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57240" y="2111400"/>
              <a:ext cx="160920" cy="28656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57240" y="1880640"/>
              <a:ext cx="153360" cy="1926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602080" y="1736640"/>
              <a:ext cx="326160" cy="2736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02080" y="1736640"/>
              <a:ext cx="145800" cy="6933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30600" y="1760040"/>
              <a:ext cx="16920" cy="669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57240" y="1878840"/>
              <a:ext cx="160920" cy="2016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57240" y="1842480"/>
              <a:ext cx="160920" cy="396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57240" y="1782000"/>
              <a:ext cx="16092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602080" y="1735200"/>
              <a:ext cx="326160" cy="2916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45720" y="1757160"/>
              <a:ext cx="182160" cy="672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02080" y="1736640"/>
              <a:ext cx="144720" cy="6933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30600" y="176184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0600" y="1770480"/>
              <a:ext cx="19728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30600" y="1819080"/>
              <a:ext cx="19728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57240" y="1782000"/>
              <a:ext cx="16092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30600" y="1833840"/>
              <a:ext cx="19728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30600" y="1878840"/>
              <a:ext cx="19728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30600" y="2062800"/>
              <a:ext cx="19728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7240" y="1889280"/>
              <a:ext cx="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17800" y="1880640"/>
              <a:ext cx="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57240" y="1880640"/>
              <a:ext cx="153360" cy="1908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909880" y="2058120"/>
              <a:ext cx="75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756880" y="1941120"/>
              <a:ext cx="1522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2756880" y="2002680"/>
              <a:ext cx="15228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30600" y="2111400"/>
              <a:ext cx="19728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30600" y="2369880"/>
              <a:ext cx="197280" cy="3096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57240" y="2125800"/>
              <a:ext cx="0" cy="27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917800" y="2111400"/>
              <a:ext cx="0" cy="25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57240" y="2352240"/>
              <a:ext cx="16092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57240" y="2340720"/>
              <a:ext cx="16092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57240" y="2330280"/>
              <a:ext cx="160920" cy="2916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7240" y="2318400"/>
              <a:ext cx="160920" cy="262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7240" y="2305080"/>
              <a:ext cx="160920" cy="2772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57240" y="1783800"/>
              <a:ext cx="153360" cy="306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09880" y="1805760"/>
              <a:ext cx="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794680" y="1842480"/>
              <a:ext cx="86040" cy="396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757240" y="1842480"/>
              <a:ext cx="160920" cy="3528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57240" y="1858680"/>
              <a:ext cx="123480" cy="248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880000" y="1861560"/>
              <a:ext cx="3708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880360" y="1842480"/>
              <a:ext cx="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65160" y="179820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87120" y="17967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09080" y="17967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32120" y="17967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55160" y="179532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76400" y="17924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99440" y="17924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02320" y="1880640"/>
              <a:ext cx="16200" cy="1792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927160" y="2334600"/>
              <a:ext cx="91800" cy="66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508120" y="3608280"/>
            <a:ext cx="419400" cy="696600"/>
            <a:chOff x="2508120" y="3608280"/>
            <a:chExt cx="419400" cy="696600"/>
          </a:xfrm>
        </p:grpSpPr>
        <p:sp>
          <p:nvSpPr>
            <p:cNvPr id="969" name=""/>
            <p:cNvSpPr/>
            <p:nvPr/>
          </p:nvSpPr>
          <p:spPr>
            <a:xfrm>
              <a:off x="2653560" y="3630240"/>
              <a:ext cx="182160" cy="6746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64000" y="3985200"/>
              <a:ext cx="162000" cy="2872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64000" y="3754080"/>
              <a:ext cx="154080" cy="19296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8120" y="3609720"/>
              <a:ext cx="327600" cy="277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08120" y="3609720"/>
              <a:ext cx="146520" cy="695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7360" y="3633120"/>
              <a:ext cx="17280" cy="6717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64000" y="3752280"/>
              <a:ext cx="162000" cy="20196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64000" y="3715560"/>
              <a:ext cx="162000" cy="396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64000" y="3655080"/>
              <a:ext cx="16200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08120" y="3608280"/>
              <a:ext cx="327600" cy="2916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52480" y="3630240"/>
              <a:ext cx="183240" cy="6746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08120" y="3609720"/>
              <a:ext cx="145440" cy="695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37360" y="363492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37360" y="36435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37360" y="36921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64000" y="3655080"/>
              <a:ext cx="16200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37360" y="370692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37360" y="375228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37360" y="39369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64000" y="376272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25280" y="375408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664000" y="3754080"/>
              <a:ext cx="154080" cy="19116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17360" y="3932280"/>
              <a:ext cx="75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663640" y="3814560"/>
              <a:ext cx="15300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663640" y="3876480"/>
              <a:ext cx="15300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37360" y="398520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37360" y="4244760"/>
              <a:ext cx="198360" cy="3096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664000" y="3999960"/>
              <a:ext cx="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25280" y="3985200"/>
              <a:ext cx="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664000" y="4226760"/>
              <a:ext cx="16200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64000" y="4215240"/>
              <a:ext cx="16200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64000" y="4204800"/>
              <a:ext cx="162000" cy="2916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664000" y="4193280"/>
              <a:ext cx="162000" cy="262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64000" y="4179960"/>
              <a:ext cx="162000" cy="2772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64000" y="3656880"/>
              <a:ext cx="154080" cy="306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17360" y="3678840"/>
              <a:ext cx="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01800" y="3715560"/>
              <a:ext cx="86760" cy="396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64000" y="3715560"/>
              <a:ext cx="162000" cy="3528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64000" y="3732120"/>
              <a:ext cx="124200" cy="248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2787840" y="3735000"/>
              <a:ext cx="374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87840" y="3715560"/>
              <a:ext cx="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71920" y="367164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94240" y="36698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16200" y="36698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39240" y="36698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62640" y="366840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83880" y="366552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06920" y="366552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09800" y="3754080"/>
              <a:ext cx="16200" cy="17964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35000" y="4209120"/>
              <a:ext cx="92520" cy="66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2509920" y="4332240"/>
            <a:ext cx="418680" cy="696600"/>
            <a:chOff x="2509920" y="4332240"/>
            <a:chExt cx="418680" cy="696600"/>
          </a:xfrm>
        </p:grpSpPr>
        <p:sp>
          <p:nvSpPr>
            <p:cNvPr id="1020" name=""/>
            <p:cNvSpPr/>
            <p:nvPr/>
          </p:nvSpPr>
          <p:spPr>
            <a:xfrm>
              <a:off x="2655360" y="4354200"/>
              <a:ext cx="181800" cy="6746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65800" y="4709160"/>
              <a:ext cx="161640" cy="2872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65800" y="4478040"/>
              <a:ext cx="154080" cy="19296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09920" y="4333680"/>
              <a:ext cx="327600" cy="277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09920" y="4333680"/>
              <a:ext cx="146160" cy="695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638800" y="4357080"/>
              <a:ext cx="16920" cy="6717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665800" y="4476240"/>
              <a:ext cx="161640" cy="20196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665800" y="4439520"/>
              <a:ext cx="161640" cy="396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65800" y="4379040"/>
              <a:ext cx="16164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09920" y="4332240"/>
              <a:ext cx="327600" cy="2916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54280" y="4354200"/>
              <a:ext cx="182880" cy="6746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09920" y="4333680"/>
              <a:ext cx="145440" cy="695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38800" y="435888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38800" y="436752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38800" y="441612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65800" y="4379040"/>
              <a:ext cx="16164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38800" y="443088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38800" y="447624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8800" y="466092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65800" y="448668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26720" y="447804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65800" y="4478040"/>
              <a:ext cx="154080" cy="19116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19160" y="4656240"/>
              <a:ext cx="75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2665440" y="4538520"/>
              <a:ext cx="15300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2665440" y="4600440"/>
              <a:ext cx="15300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38800" y="4709160"/>
              <a:ext cx="19836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38800" y="4968720"/>
              <a:ext cx="198360" cy="3096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65800" y="4723920"/>
              <a:ext cx="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6720" y="4709160"/>
              <a:ext cx="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65800" y="4950720"/>
              <a:ext cx="16164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65800" y="4939200"/>
              <a:ext cx="16164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65800" y="4928760"/>
              <a:ext cx="161640" cy="2916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65800" y="4917240"/>
              <a:ext cx="161640" cy="262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65800" y="4903920"/>
              <a:ext cx="161640" cy="2772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665800" y="4380840"/>
              <a:ext cx="154080" cy="306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19160" y="4402800"/>
              <a:ext cx="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03240" y="4439520"/>
              <a:ext cx="86760" cy="396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5800" y="4439520"/>
              <a:ext cx="161640" cy="3528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65800" y="4456080"/>
              <a:ext cx="124200" cy="248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2789280" y="4458960"/>
              <a:ext cx="374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789280" y="4439520"/>
              <a:ext cx="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73720" y="439560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95680" y="439380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17640" y="439380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41040" y="439380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64080" y="43923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85320" y="43894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08360" y="43894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11240" y="4478040"/>
              <a:ext cx="16200" cy="17964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36440" y="4933080"/>
              <a:ext cx="92160" cy="66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481120" y="5226120"/>
            <a:ext cx="417240" cy="696600"/>
            <a:chOff x="2481120" y="5226120"/>
            <a:chExt cx="417240" cy="696600"/>
          </a:xfrm>
        </p:grpSpPr>
        <p:sp>
          <p:nvSpPr>
            <p:cNvPr id="1071" name=""/>
            <p:cNvSpPr/>
            <p:nvPr/>
          </p:nvSpPr>
          <p:spPr>
            <a:xfrm>
              <a:off x="2625840" y="5248080"/>
              <a:ext cx="181080" cy="6746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36280" y="5603040"/>
              <a:ext cx="161280" cy="2872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36280" y="5371920"/>
              <a:ext cx="153720" cy="19296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81120" y="5227560"/>
              <a:ext cx="326160" cy="277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81120" y="5227560"/>
              <a:ext cx="145800" cy="695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09640" y="5250960"/>
              <a:ext cx="16920" cy="6717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36280" y="5370120"/>
              <a:ext cx="161280" cy="20196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36280" y="5333400"/>
              <a:ext cx="161280" cy="396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36280" y="5272920"/>
              <a:ext cx="16128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81120" y="5226120"/>
              <a:ext cx="326160" cy="2916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24760" y="5248080"/>
              <a:ext cx="182160" cy="6746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81120" y="5227560"/>
              <a:ext cx="144720" cy="695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09640" y="525276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09640" y="5261400"/>
              <a:ext cx="19764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09640" y="5310000"/>
              <a:ext cx="19764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36280" y="5272920"/>
              <a:ext cx="161280" cy="3384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09640" y="5324760"/>
              <a:ext cx="19764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09640" y="5370120"/>
              <a:ext cx="19764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09640" y="5554800"/>
              <a:ext cx="19764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36280" y="538056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96840" y="537192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36280" y="5371920"/>
              <a:ext cx="153720" cy="19116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89280" y="5550120"/>
              <a:ext cx="75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2636280" y="5432400"/>
              <a:ext cx="152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2636280" y="5494320"/>
              <a:ext cx="15264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09640" y="5603040"/>
              <a:ext cx="197640" cy="248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09640" y="5862600"/>
              <a:ext cx="197640" cy="3096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36280" y="5617800"/>
              <a:ext cx="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96840" y="5603040"/>
              <a:ext cx="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36280" y="5844600"/>
              <a:ext cx="16128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36280" y="5833080"/>
              <a:ext cx="161280" cy="3096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36280" y="5822640"/>
              <a:ext cx="161280" cy="2916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36280" y="5811120"/>
              <a:ext cx="161280" cy="262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6280" y="5797800"/>
              <a:ext cx="161280" cy="2772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6280" y="5274720"/>
              <a:ext cx="153720" cy="306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89280" y="5296680"/>
              <a:ext cx="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674080" y="5333400"/>
              <a:ext cx="86400" cy="396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636280" y="5333400"/>
              <a:ext cx="161280" cy="3528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636280" y="5349960"/>
              <a:ext cx="123840" cy="248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759400" y="5352840"/>
              <a:ext cx="374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59400" y="5333400"/>
              <a:ext cx="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44200" y="528948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66160" y="52876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88120" y="52876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11520" y="528768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34560" y="528624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55440" y="52833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78840" y="5283360"/>
              <a:ext cx="16200" cy="248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81360" y="5371920"/>
              <a:ext cx="16200" cy="17964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06560" y="5826960"/>
              <a:ext cx="91800" cy="66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3003480" y="546264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e0ff"/>
                </a:solidFill>
                <a:latin typeface="Arial"/>
              </a:rPr>
              <a:t>VP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e0ff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634320" y="4019760"/>
            <a:ext cx="1913760" cy="1731600"/>
            <a:chOff x="634320" y="4019760"/>
            <a:chExt cx="1913760" cy="1731600"/>
          </a:xfrm>
        </p:grpSpPr>
        <p:grpSp>
          <p:nvGrpSpPr>
            <p:cNvPr id="1123" name=""/>
            <p:cNvGrpSpPr/>
            <p:nvPr/>
          </p:nvGrpSpPr>
          <p:grpSpPr>
            <a:xfrm>
              <a:off x="634320" y="4019760"/>
              <a:ext cx="1913760" cy="1731600"/>
              <a:chOff x="634320" y="4019760"/>
              <a:chExt cx="1913760" cy="1731600"/>
            </a:xfrm>
          </p:grpSpPr>
          <p:sp>
            <p:nvSpPr>
              <p:cNvPr id="1124" name=""/>
              <p:cNvSpPr/>
              <p:nvPr/>
            </p:nvSpPr>
            <p:spPr>
              <a:xfrm rot="20700000">
                <a:off x="1497600" y="5360400"/>
                <a:ext cx="290880" cy="35928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20700000">
                <a:off x="1268640" y="4051440"/>
                <a:ext cx="293760" cy="36000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20700000">
                <a:off x="878040" y="4301640"/>
                <a:ext cx="177480" cy="22104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20700000">
                <a:off x="910440" y="5176440"/>
                <a:ext cx="177120" cy="21168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20700000">
                <a:off x="748440" y="4858200"/>
                <a:ext cx="291600" cy="34956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20700000">
                <a:off x="1043640" y="4142160"/>
                <a:ext cx="292680" cy="35712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20700000">
                <a:off x="2211120" y="4988880"/>
                <a:ext cx="295200" cy="35820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20700000">
                <a:off x="1998360" y="5149440"/>
                <a:ext cx="295200" cy="36432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2" name=""/>
              <p:cNvGrpSpPr/>
              <p:nvPr/>
            </p:nvGrpSpPr>
            <p:grpSpPr>
              <a:xfrm>
                <a:off x="634320" y="4035600"/>
                <a:ext cx="1889280" cy="1713600"/>
                <a:chOff x="634320" y="4035600"/>
                <a:chExt cx="1889280" cy="1713600"/>
              </a:xfrm>
            </p:grpSpPr>
            <p:sp>
              <p:nvSpPr>
                <p:cNvPr id="1133" name=""/>
                <p:cNvSpPr/>
                <p:nvPr/>
              </p:nvSpPr>
              <p:spPr>
                <a:xfrm rot="20700000">
                  <a:off x="709200" y="4454640"/>
                  <a:ext cx="525240" cy="64980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4" name=""/>
                <p:cNvGrpSpPr/>
                <p:nvPr/>
              </p:nvGrpSpPr>
              <p:grpSpPr>
                <a:xfrm>
                  <a:off x="800640" y="4321800"/>
                  <a:ext cx="1266120" cy="1427400"/>
                  <a:chOff x="800640" y="4321800"/>
                  <a:chExt cx="1266120" cy="142740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rot="20700000">
                    <a:off x="940680" y="4428720"/>
                    <a:ext cx="985680" cy="121356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900000" y="4726440"/>
                    <a:ext cx="152640" cy="34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ff7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7" name=""/>
                <p:cNvSpPr/>
                <p:nvPr/>
              </p:nvSpPr>
              <p:spPr>
                <a:xfrm rot="20700000">
                  <a:off x="1301040" y="4421880"/>
                  <a:ext cx="986760" cy="121428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20700000">
                  <a:off x="2120040" y="4421880"/>
                  <a:ext cx="353160" cy="43452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20700000">
                  <a:off x="2109960" y="5113080"/>
                  <a:ext cx="234000" cy="29340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20700000">
                  <a:off x="1978560" y="4360680"/>
                  <a:ext cx="234720" cy="28260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20700000">
                  <a:off x="2113560" y="4726440"/>
                  <a:ext cx="354600" cy="42948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20700000">
                  <a:off x="965160" y="4204440"/>
                  <a:ext cx="526680" cy="64512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20700000">
                  <a:off x="1492560" y="4136040"/>
                  <a:ext cx="526680" cy="64548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20700000">
                  <a:off x="1243080" y="4092840"/>
                  <a:ext cx="527040" cy="64512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20700000">
                  <a:off x="1208520" y="4915800"/>
                  <a:ext cx="523080" cy="646560"/>
                </a:xfrm>
                <a:prstGeom prst="ellipse">
                  <a:avLst/>
                </a:prstGeom>
                <a:solidFill>
                  <a:srgbClr val="ff7c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27440" y="4218120"/>
                  <a:ext cx="1309320" cy="1319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7" name=""/>
            <p:cNvSpPr/>
            <p:nvPr/>
          </p:nvSpPr>
          <p:spPr>
            <a:xfrm>
              <a:off x="1010880" y="4740120"/>
              <a:ext cx="1299240" cy="4597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033920" y="1111680"/>
            <a:ext cx="1629720" cy="1581120"/>
            <a:chOff x="1033920" y="1111680"/>
            <a:chExt cx="1629720" cy="1581120"/>
          </a:xfrm>
        </p:grpSpPr>
        <p:grpSp>
          <p:nvGrpSpPr>
            <p:cNvPr id="1149" name=""/>
            <p:cNvGrpSpPr/>
            <p:nvPr/>
          </p:nvGrpSpPr>
          <p:grpSpPr>
            <a:xfrm>
              <a:off x="1033920" y="1111680"/>
              <a:ext cx="1629720" cy="1581120"/>
              <a:chOff x="1033920" y="1111680"/>
              <a:chExt cx="1629720" cy="1581120"/>
            </a:xfrm>
          </p:grpSpPr>
          <p:sp>
            <p:nvSpPr>
              <p:cNvPr id="1150" name=""/>
              <p:cNvSpPr/>
              <p:nvPr/>
            </p:nvSpPr>
            <p:spPr>
              <a:xfrm rot="20700000">
                <a:off x="1770840" y="2337120"/>
                <a:ext cx="246240" cy="32904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0700000">
                <a:off x="1577160" y="1137960"/>
                <a:ext cx="248760" cy="33012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700000">
                <a:off x="1245600" y="1367640"/>
                <a:ext cx="150120" cy="20268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0700000">
                <a:off x="1273320" y="2168640"/>
                <a:ext cx="149760" cy="19368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0700000">
                <a:off x="1136520" y="1877760"/>
                <a:ext cx="246960" cy="32040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0700000">
                <a:off x="1386360" y="1221840"/>
                <a:ext cx="248040" cy="32724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700000">
                <a:off x="2375640" y="1997280"/>
                <a:ext cx="249840" cy="32832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700000">
                <a:off x="2195280" y="2144520"/>
                <a:ext cx="249840" cy="334080"/>
              </a:xfrm>
              <a:prstGeom prst="ellipse">
                <a:avLst/>
              </a:prstGeom>
              <a:solidFill>
                <a:srgbClr val="01a55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8" name=""/>
              <p:cNvGrpSpPr/>
              <p:nvPr/>
            </p:nvGrpSpPr>
            <p:grpSpPr>
              <a:xfrm>
                <a:off x="1033920" y="1128240"/>
                <a:ext cx="1609920" cy="1556280"/>
                <a:chOff x="1033920" y="1128240"/>
                <a:chExt cx="1609920" cy="1556280"/>
              </a:xfrm>
            </p:grpSpPr>
            <p:sp>
              <p:nvSpPr>
                <p:cNvPr id="1159" name=""/>
                <p:cNvSpPr/>
                <p:nvPr/>
              </p:nvSpPr>
              <p:spPr>
                <a:xfrm rot="20700000">
                  <a:off x="1103040" y="1507680"/>
                  <a:ext cx="444960" cy="59544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0" name=""/>
                <p:cNvGrpSpPr/>
                <p:nvPr/>
              </p:nvGrpSpPr>
              <p:grpSpPr>
                <a:xfrm>
                  <a:off x="1169640" y="1394640"/>
                  <a:ext cx="1094400" cy="1289880"/>
                  <a:chOff x="1169640" y="1394640"/>
                  <a:chExt cx="1094400" cy="128988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rot="20700000">
                    <a:off x="1299240" y="1483560"/>
                    <a:ext cx="835200" cy="1111680"/>
                  </a:xfrm>
                  <a:prstGeom prst="ellipse">
                    <a:avLst/>
                  </a:prstGeom>
                  <a:solidFill>
                    <a:srgbClr val="01a55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1264680" y="1756080"/>
                    <a:ext cx="12924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01a5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3" name=""/>
                <p:cNvSpPr/>
                <p:nvPr/>
              </p:nvSpPr>
              <p:spPr>
                <a:xfrm rot="20700000">
                  <a:off x="1604880" y="1477800"/>
                  <a:ext cx="835920" cy="111240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20700000">
                  <a:off x="2297880" y="1477800"/>
                  <a:ext cx="299160" cy="39816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20700000">
                  <a:off x="2289600" y="2111040"/>
                  <a:ext cx="198360" cy="26856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20700000">
                  <a:off x="2178000" y="1421280"/>
                  <a:ext cx="199080" cy="25884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20700000">
                  <a:off x="2292480" y="1756440"/>
                  <a:ext cx="300240" cy="39348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20700000">
                  <a:off x="1320120" y="1278000"/>
                  <a:ext cx="446040" cy="59112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20700000">
                  <a:off x="1766880" y="1215360"/>
                  <a:ext cx="446040" cy="59148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20700000">
                  <a:off x="1555560" y="1175760"/>
                  <a:ext cx="446760" cy="59112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20700000">
                  <a:off x="1526040" y="1929600"/>
                  <a:ext cx="443160" cy="592200"/>
                </a:xfrm>
                <a:prstGeom prst="ellipse">
                  <a:avLst/>
                </a:prstGeom>
                <a:solidFill>
                  <a:srgbClr val="01a55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372680" y="1290960"/>
                  <a:ext cx="1109160" cy="120888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01a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3" name=""/>
            <p:cNvSpPr/>
            <p:nvPr/>
          </p:nvSpPr>
          <p:spPr>
            <a:xfrm>
              <a:off x="1429560" y="1706040"/>
              <a:ext cx="1125720" cy="520560"/>
            </a:xfrm>
            <a:prstGeom prst="rect">
              <a:avLst/>
            </a:prstGeom>
            <a:solidFill>
              <a:srgbClr val="01a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f5f5f"/>
                  </a:solidFill>
                  <a:latin typeface="Arial"/>
                </a:rPr>
                <a:t>PST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0" y="3149640"/>
            <a:ext cx="1031400" cy="1090080"/>
            <a:chOff x="0" y="3149640"/>
            <a:chExt cx="1031400" cy="1090080"/>
          </a:xfrm>
        </p:grpSpPr>
        <p:graphicFrame>
          <p:nvGraphicFramePr>
            <p:cNvPr id="1175" name=""/>
            <p:cNvGraphicFramePr/>
            <p:nvPr/>
          </p:nvGraphicFramePr>
          <p:xfrm>
            <a:off x="0" y="3431880"/>
            <a:ext cx="47736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1880"/>
                      <a:ext cx="4773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7" name=""/>
            <p:cNvGraphicFramePr/>
            <p:nvPr/>
          </p:nvGraphicFramePr>
          <p:xfrm>
            <a:off x="231120" y="3149640"/>
            <a:ext cx="477000" cy="66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1120" y="3149640"/>
                      <a:ext cx="477000" cy="66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9" name=""/>
            <p:cNvGraphicFramePr/>
            <p:nvPr/>
          </p:nvGraphicFramePr>
          <p:xfrm>
            <a:off x="92520" y="3573360"/>
            <a:ext cx="477000" cy="66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520" y="3573360"/>
                      <a:ext cx="477000" cy="66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1" name=""/>
            <p:cNvGraphicFramePr/>
            <p:nvPr/>
          </p:nvGraphicFramePr>
          <p:xfrm>
            <a:off x="276840" y="3290760"/>
            <a:ext cx="477360" cy="66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6840" y="3290760"/>
                      <a:ext cx="4773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3" name=""/>
            <p:cNvGraphicFramePr/>
            <p:nvPr/>
          </p:nvGraphicFramePr>
          <p:xfrm>
            <a:off x="415440" y="3573360"/>
            <a:ext cx="477360" cy="666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8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5440" y="3573360"/>
                      <a:ext cx="477360" cy="66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5" name=""/>
            <p:cNvGraphicFramePr/>
            <p:nvPr/>
          </p:nvGraphicFramePr>
          <p:xfrm>
            <a:off x="554040" y="3290760"/>
            <a:ext cx="477360" cy="666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4040" y="3290760"/>
                      <a:ext cx="4773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7" name=""/>
          <p:cNvSpPr/>
          <p:nvPr/>
        </p:nvSpPr>
        <p:spPr>
          <a:xfrm>
            <a:off x="5181480" y="3078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e0ff"/>
                </a:solidFill>
                <a:latin typeface="Arial"/>
              </a:rPr>
              <a:t>Internet Authent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e0ff"/>
                </a:solidFill>
                <a:latin typeface="Arial"/>
              </a:rPr>
              <a:t>Service (RADI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13120" y="1150920"/>
            <a:ext cx="28098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930400" y="2624040"/>
            <a:ext cx="2944800" cy="120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963880" y="2692080"/>
            <a:ext cx="2827440" cy="122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981160" y="2120760"/>
            <a:ext cx="282600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2913120" y="2658960"/>
            <a:ext cx="2809800" cy="288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793960" y="2630520"/>
            <a:ext cx="3013200" cy="198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435720" y="2668680"/>
            <a:ext cx="1081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7366400">
            <a:off x="300600" y="2486520"/>
            <a:ext cx="1525680" cy="333720"/>
          </a:xfrm>
          <a:custGeom>
            <a:avLst/>
            <a:gdLst/>
            <a:ahLst/>
            <a:rect l="l" t="t" r="r" b="b"/>
            <a:pathLst>
              <a:path w="1133" h="194">
                <a:moveTo>
                  <a:pt x="0" y="98"/>
                </a:moveTo>
                <a:lnTo>
                  <a:pt x="638" y="0"/>
                </a:lnTo>
                <a:lnTo>
                  <a:pt x="585" y="137"/>
                </a:lnTo>
                <a:lnTo>
                  <a:pt x="1133" y="98"/>
                </a:lnTo>
                <a:lnTo>
                  <a:pt x="496" y="194"/>
                </a:lnTo>
                <a:lnTo>
                  <a:pt x="549" y="59"/>
                </a:lnTo>
                <a:lnTo>
                  <a:pt x="0" y="98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65080" y="3776760"/>
            <a:ext cx="1606680" cy="10000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572000" y="3849840"/>
            <a:ext cx="4572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 Management and Polic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al AAA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ng Authent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Access Policy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, Audi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01320" y="144468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e0ff"/>
                </a:solidFill>
                <a:latin typeface="Arial"/>
              </a:rPr>
              <a:t>Remote</a:t>
            </a:r>
            <a:br>
              <a:rPr sz="1800"/>
            </a:br>
            <a:r>
              <a:rPr b="1" lang="en-US" sz="1800" spc="-1" strike="noStrike">
                <a:solidFill>
                  <a:srgbClr val="b3e0ff"/>
                </a:solidFill>
                <a:latin typeface="Arial"/>
              </a:rPr>
              <a:t>Access</a:t>
            </a:r>
            <a:br>
              <a:rPr sz="1800"/>
            </a:br>
            <a:r>
              <a:rPr b="1" lang="en-US" sz="1800" spc="-1" strike="noStrike">
                <a:solidFill>
                  <a:srgbClr val="b3e0ff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L2TP/IPSec VPN Gateway to Gateway Tunnel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0248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mmended over IPSec Tunnel M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er to configure and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 default policy uses machine certific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secure IPSec authentication, easiest to deplo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 IPSec policy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hared key specific to destination peer – must be like a strong pass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possible if DC is reachable by both tunnel end-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 null encryption, DES, 3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lifeti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6_97%20tagline" descr=""/>
          <p:cNvPicPr/>
          <p:nvPr/>
        </p:nvPicPr>
        <p:blipFill>
          <a:blip r:embed="rId2"/>
          <a:srcRect l="28942" t="29055" r="24183" b="28752"/>
          <a:stretch/>
        </p:blipFill>
        <p:spPr>
          <a:xfrm>
            <a:off x="1569960" y="1050840"/>
            <a:ext cx="624852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849240" y="4554360"/>
            <a:ext cx="1104840" cy="211140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319560" y="1627200"/>
            <a:ext cx="225900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05280" y="1114560"/>
            <a:ext cx="1082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64680" y="228240"/>
            <a:ext cx="85899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d013"/>
                </a:solidFill>
                <a:latin typeface="Arial"/>
              </a:rPr>
              <a:t>VPN Tunnel Packet Flows</a:t>
            </a:r>
            <a:endParaRPr b="1" lang="en-US" sz="44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844560" y="5751360"/>
            <a:ext cx="942840" cy="23508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P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49240" y="1627200"/>
            <a:ext cx="225900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59280" y="1627200"/>
            <a:ext cx="225936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319560" y="3957480"/>
            <a:ext cx="225900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river Lay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19560" y="2403360"/>
            <a:ext cx="225900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CP, UD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319560" y="4554360"/>
            <a:ext cx="112392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317760" y="2982960"/>
            <a:ext cx="2259000" cy="849240"/>
            <a:chOff x="3317760" y="2982960"/>
            <a:chExt cx="2259000" cy="849240"/>
          </a:xfrm>
        </p:grpSpPr>
        <p:sp>
          <p:nvSpPr>
            <p:cNvPr id="1213" name=""/>
            <p:cNvSpPr/>
            <p:nvPr/>
          </p:nvSpPr>
          <p:spPr>
            <a:xfrm>
              <a:off x="3317760" y="2982960"/>
              <a:ext cx="2259000" cy="841320"/>
            </a:xfrm>
            <a:prstGeom prst="rect">
              <a:avLst/>
            </a:prstGeom>
            <a:solidFill>
              <a:srgbClr val="01a5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319200" y="3538440"/>
              <a:ext cx="932040" cy="293760"/>
            </a:xfrm>
            <a:prstGeom prst="rect">
              <a:avLst/>
            </a:prstGeom>
            <a:solidFill>
              <a:srgbClr val="01a5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PS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95800" y="3089160"/>
              <a:ext cx="4932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849240" y="5130720"/>
            <a:ext cx="101304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49240" y="3957480"/>
            <a:ext cx="225900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river Lay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49240" y="2403360"/>
            <a:ext cx="225900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CP, UD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4320" y="4554360"/>
            <a:ext cx="112392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940440" y="4554360"/>
            <a:ext cx="1078200" cy="105264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2T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05600" y="5130720"/>
            <a:ext cx="101304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59280" y="3957480"/>
            <a:ext cx="225936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river Lay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59280" y="2403360"/>
            <a:ext cx="225936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CP, UD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759280" y="4554360"/>
            <a:ext cx="112428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757840" y="2982960"/>
            <a:ext cx="2259000" cy="84132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759280" y="3538440"/>
            <a:ext cx="971640" cy="293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635880" y="3089160"/>
            <a:ext cx="493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54760" y="1114560"/>
            <a:ext cx="1046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96440" y="1114560"/>
            <a:ext cx="1985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2TP/IPSe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849240" y="2992320"/>
            <a:ext cx="2259000" cy="827280"/>
            <a:chOff x="849240" y="2992320"/>
            <a:chExt cx="2259000" cy="827280"/>
          </a:xfrm>
        </p:grpSpPr>
        <p:sp>
          <p:nvSpPr>
            <p:cNvPr id="1231" name=""/>
            <p:cNvSpPr/>
            <p:nvPr/>
          </p:nvSpPr>
          <p:spPr>
            <a:xfrm>
              <a:off x="849240" y="2992320"/>
              <a:ext cx="2259000" cy="827280"/>
            </a:xfrm>
            <a:prstGeom prst="rect">
              <a:avLst/>
            </a:prstGeom>
            <a:solidFill>
              <a:srgbClr val="01a5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754280" y="3089160"/>
              <a:ext cx="4932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7682040" y="1938240"/>
            <a:ext cx="144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789120" y="1744560"/>
            <a:ext cx="338040" cy="3452760"/>
            <a:chOff x="789120" y="1744560"/>
            <a:chExt cx="338040" cy="3452760"/>
          </a:xfrm>
        </p:grpSpPr>
        <p:sp>
          <p:nvSpPr>
            <p:cNvPr id="1235" name=""/>
            <p:cNvSpPr/>
            <p:nvPr/>
          </p:nvSpPr>
          <p:spPr>
            <a:xfrm>
              <a:off x="976320" y="1996920"/>
              <a:ext cx="1080" cy="3200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9120" y="1744560"/>
              <a:ext cx="33804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486560" y="2225520"/>
            <a:ext cx="957240" cy="3360600"/>
            <a:chOff x="7486560" y="2225520"/>
            <a:chExt cx="957240" cy="3360600"/>
          </a:xfrm>
        </p:grpSpPr>
        <p:sp>
          <p:nvSpPr>
            <p:cNvPr id="1238" name=""/>
            <p:cNvSpPr/>
            <p:nvPr/>
          </p:nvSpPr>
          <p:spPr>
            <a:xfrm>
              <a:off x="7486560" y="2225520"/>
              <a:ext cx="957240" cy="3200400"/>
            </a:xfrm>
            <a:custGeom>
              <a:avLst/>
              <a:gdLst/>
              <a:ahLst/>
              <a:rect l="l" t="t" r="r" b="b"/>
              <a:pathLst>
                <a:path w="720" h="2016">
                  <a:moveTo>
                    <a:pt x="432" y="2016"/>
                  </a:moveTo>
                  <a:lnTo>
                    <a:pt x="720" y="2016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72920" y="5248080"/>
              <a:ext cx="28296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6586560" y="2695680"/>
            <a:ext cx="927000" cy="949320"/>
          </a:xfrm>
          <a:custGeom>
            <a:avLst/>
            <a:gdLst/>
            <a:ahLst/>
            <a:rect l="l" t="t" r="r" b="b"/>
            <a:pathLst>
              <a:path w="584" h="598">
                <a:moveTo>
                  <a:pt x="569" y="0"/>
                </a:moveTo>
                <a:lnTo>
                  <a:pt x="584" y="456"/>
                </a:lnTo>
                <a:lnTo>
                  <a:pt x="309" y="523"/>
                </a:lnTo>
                <a:lnTo>
                  <a:pt x="0" y="598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70800" y="3097080"/>
            <a:ext cx="338040" cy="33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5819760" y="3716280"/>
            <a:ext cx="338040" cy="2921760"/>
            <a:chOff x="5819760" y="3716280"/>
            <a:chExt cx="338040" cy="2921760"/>
          </a:xfrm>
        </p:grpSpPr>
        <p:grpSp>
          <p:nvGrpSpPr>
            <p:cNvPr id="1243" name=""/>
            <p:cNvGrpSpPr/>
            <p:nvPr/>
          </p:nvGrpSpPr>
          <p:grpSpPr>
            <a:xfrm>
              <a:off x="6067440" y="3845520"/>
              <a:ext cx="0" cy="2792520"/>
              <a:chOff x="6067440" y="3845520"/>
              <a:chExt cx="0" cy="2792520"/>
            </a:xfrm>
          </p:grpSpPr>
          <p:sp>
            <p:nvSpPr>
              <p:cNvPr id="1244" name=""/>
              <p:cNvSpPr/>
              <p:nvPr/>
            </p:nvSpPr>
            <p:spPr>
              <a:xfrm>
                <a:off x="6067440" y="3845520"/>
                <a:ext cx="0" cy="2792520"/>
              </a:xfrm>
              <a:prstGeom prst="line">
                <a:avLst/>
              </a:prstGeom>
              <a:ln w="1015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067440" y="3845520"/>
                <a:ext cx="0" cy="2548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5819760" y="3716280"/>
              <a:ext cx="338040" cy="39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744640" y="3281400"/>
            <a:ext cx="338040" cy="3357000"/>
            <a:chOff x="2744640" y="3281400"/>
            <a:chExt cx="338040" cy="3357000"/>
          </a:xfrm>
        </p:grpSpPr>
        <p:grpSp>
          <p:nvGrpSpPr>
            <p:cNvPr id="1248" name=""/>
            <p:cNvGrpSpPr/>
            <p:nvPr/>
          </p:nvGrpSpPr>
          <p:grpSpPr>
            <a:xfrm>
              <a:off x="2914560" y="3313440"/>
              <a:ext cx="0" cy="3324960"/>
              <a:chOff x="2914560" y="3313440"/>
              <a:chExt cx="0" cy="3324960"/>
            </a:xfrm>
          </p:grpSpPr>
          <p:sp>
            <p:nvSpPr>
              <p:cNvPr id="1249" name=""/>
              <p:cNvSpPr/>
              <p:nvPr/>
            </p:nvSpPr>
            <p:spPr>
              <a:xfrm>
                <a:off x="2914560" y="3313440"/>
                <a:ext cx="0" cy="3324960"/>
              </a:xfrm>
              <a:prstGeom prst="line">
                <a:avLst/>
              </a:prstGeom>
              <a:ln w="10152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14560" y="3313440"/>
                <a:ext cx="0" cy="3034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2744640" y="3281400"/>
              <a:ext cx="33804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228840" y="1811160"/>
            <a:ext cx="338040" cy="1727280"/>
            <a:chOff x="3228840" y="1811160"/>
            <a:chExt cx="338040" cy="1727280"/>
          </a:xfrm>
        </p:grpSpPr>
        <p:sp>
          <p:nvSpPr>
            <p:cNvPr id="1253" name=""/>
            <p:cNvSpPr/>
            <p:nvPr/>
          </p:nvSpPr>
          <p:spPr>
            <a:xfrm>
              <a:off x="3490920" y="1996920"/>
              <a:ext cx="0" cy="1541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228840" y="1811160"/>
              <a:ext cx="33804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3228840" y="3716280"/>
            <a:ext cx="338040" cy="2948760"/>
            <a:chOff x="3228840" y="3716280"/>
            <a:chExt cx="338040" cy="2948760"/>
          </a:xfrm>
        </p:grpSpPr>
        <p:grpSp>
          <p:nvGrpSpPr>
            <p:cNvPr id="1256" name=""/>
            <p:cNvGrpSpPr/>
            <p:nvPr/>
          </p:nvGrpSpPr>
          <p:grpSpPr>
            <a:xfrm>
              <a:off x="3490920" y="3846600"/>
              <a:ext cx="0" cy="2818440"/>
              <a:chOff x="3490920" y="3846600"/>
              <a:chExt cx="0" cy="2818440"/>
            </a:xfrm>
          </p:grpSpPr>
          <p:sp>
            <p:nvSpPr>
              <p:cNvPr id="1257" name=""/>
              <p:cNvSpPr/>
              <p:nvPr/>
            </p:nvSpPr>
            <p:spPr>
              <a:xfrm>
                <a:off x="3490920" y="3846600"/>
                <a:ext cx="0" cy="2818440"/>
              </a:xfrm>
              <a:prstGeom prst="line">
                <a:avLst/>
              </a:prstGeom>
              <a:ln w="1015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490920" y="3846600"/>
                <a:ext cx="0" cy="2571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3228840" y="3716280"/>
              <a:ext cx="33804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817560" y="6216480"/>
            <a:ext cx="1012680" cy="45576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711360" y="5851440"/>
            <a:ext cx="338040" cy="603360"/>
            <a:chOff x="711360" y="5851440"/>
            <a:chExt cx="338040" cy="603360"/>
          </a:xfrm>
        </p:grpSpPr>
        <p:sp>
          <p:nvSpPr>
            <p:cNvPr id="1262" name=""/>
            <p:cNvSpPr/>
            <p:nvPr/>
          </p:nvSpPr>
          <p:spPr>
            <a:xfrm>
              <a:off x="1008360" y="6156360"/>
              <a:ext cx="0" cy="298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1360" y="5851440"/>
              <a:ext cx="33804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114480" y="2955960"/>
            <a:ext cx="1834920" cy="3511440"/>
            <a:chOff x="114480" y="2955960"/>
            <a:chExt cx="1834920" cy="3511440"/>
          </a:xfrm>
        </p:grpSpPr>
        <p:sp>
          <p:nvSpPr>
            <p:cNvPr id="1265" name=""/>
            <p:cNvSpPr/>
            <p:nvPr/>
          </p:nvSpPr>
          <p:spPr>
            <a:xfrm>
              <a:off x="114480" y="5913360"/>
              <a:ext cx="338040" cy="42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4120" y="2955960"/>
              <a:ext cx="1565280" cy="3511440"/>
            </a:xfrm>
            <a:custGeom>
              <a:avLst/>
              <a:gdLst/>
              <a:ahLst/>
              <a:rect l="l" t="t" r="r" b="b"/>
              <a:pathLst>
                <a:path w="986" h="2212">
                  <a:moveTo>
                    <a:pt x="259" y="2212"/>
                  </a:moveTo>
                  <a:lnTo>
                    <a:pt x="0" y="2212"/>
                  </a:lnTo>
                  <a:lnTo>
                    <a:pt x="0" y="0"/>
                  </a:lnTo>
                  <a:lnTo>
                    <a:pt x="986" y="0"/>
                  </a:lnTo>
                  <a:lnTo>
                    <a:pt x="986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3884760" y="2114640"/>
            <a:ext cx="942840" cy="23472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K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289560" y="2135160"/>
            <a:ext cx="943200" cy="235080"/>
          </a:xfrm>
          <a:prstGeom prst="rect">
            <a:avLst/>
          </a:prstGeom>
          <a:solidFill>
            <a:srgbClr val="01a5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K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918040" y="2049480"/>
            <a:ext cx="416160" cy="1528920"/>
            <a:chOff x="5918040" y="2049480"/>
            <a:chExt cx="416160" cy="1528920"/>
          </a:xfrm>
        </p:grpSpPr>
        <p:sp>
          <p:nvSpPr>
            <p:cNvPr id="1270" name=""/>
            <p:cNvSpPr/>
            <p:nvPr/>
          </p:nvSpPr>
          <p:spPr>
            <a:xfrm>
              <a:off x="5975280" y="2049480"/>
              <a:ext cx="33804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18040" y="2313000"/>
              <a:ext cx="416160" cy="1265400"/>
            </a:xfrm>
            <a:custGeom>
              <a:avLst/>
              <a:gdLst/>
              <a:ahLst/>
              <a:rect l="l" t="t" r="r" b="b"/>
              <a:pathLst>
                <a:path w="262" h="797">
                  <a:moveTo>
                    <a:pt x="262" y="21"/>
                  </a:moveTo>
                  <a:cubicBezTo>
                    <a:pt x="143" y="10"/>
                    <a:pt x="24" y="0"/>
                    <a:pt x="12" y="129"/>
                  </a:cubicBezTo>
                  <a:cubicBezTo>
                    <a:pt x="0" y="258"/>
                    <a:pt x="93" y="527"/>
                    <a:pt x="187" y="797"/>
                  </a:cubicBezTo>
                </a:path>
              </a:pathLst>
            </a:custGeom>
            <a:noFill/>
            <a:ln w="25560">
              <a:solidFill>
                <a:srgbClr val="fdd0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3538440" y="2068560"/>
            <a:ext cx="416160" cy="1528200"/>
            <a:chOff x="3538440" y="2068560"/>
            <a:chExt cx="416160" cy="1528200"/>
          </a:xfrm>
        </p:grpSpPr>
        <p:sp>
          <p:nvSpPr>
            <p:cNvPr id="1273" name=""/>
            <p:cNvSpPr/>
            <p:nvPr/>
          </p:nvSpPr>
          <p:spPr>
            <a:xfrm>
              <a:off x="3595680" y="2068560"/>
              <a:ext cx="338040" cy="337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38440" y="2331720"/>
              <a:ext cx="416160" cy="1265040"/>
            </a:xfrm>
            <a:custGeom>
              <a:avLst/>
              <a:gdLst/>
              <a:ahLst/>
              <a:rect l="l" t="t" r="r" b="b"/>
              <a:pathLst>
                <a:path w="262" h="797">
                  <a:moveTo>
                    <a:pt x="262" y="21"/>
                  </a:moveTo>
                  <a:cubicBezTo>
                    <a:pt x="143" y="10"/>
                    <a:pt x="24" y="0"/>
                    <a:pt x="12" y="129"/>
                  </a:cubicBezTo>
                  <a:cubicBezTo>
                    <a:pt x="0" y="258"/>
                    <a:pt x="93" y="527"/>
                    <a:pt x="187" y="797"/>
                  </a:cubicBezTo>
                </a:path>
              </a:pathLst>
            </a:custGeom>
            <a:noFill/>
            <a:ln w="25560">
              <a:solidFill>
                <a:srgbClr val="fdd0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668760" y="3036960"/>
            <a:ext cx="33804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310400" y="2800440"/>
            <a:ext cx="1805760" cy="4058280"/>
            <a:chOff x="1310400" y="2800440"/>
            <a:chExt cx="1805760" cy="4058280"/>
          </a:xfrm>
        </p:grpSpPr>
        <p:grpSp>
          <p:nvGrpSpPr>
            <p:cNvPr id="1277" name=""/>
            <p:cNvGrpSpPr/>
            <p:nvPr/>
          </p:nvGrpSpPr>
          <p:grpSpPr>
            <a:xfrm>
              <a:off x="1310400" y="2800440"/>
              <a:ext cx="1583280" cy="3917520"/>
              <a:chOff x="1310400" y="2800440"/>
              <a:chExt cx="1583280" cy="3917520"/>
            </a:xfrm>
          </p:grpSpPr>
          <p:sp>
            <p:nvSpPr>
              <p:cNvPr id="1278" name=""/>
              <p:cNvSpPr/>
              <p:nvPr/>
            </p:nvSpPr>
            <p:spPr>
              <a:xfrm rot="19984800">
                <a:off x="1517400" y="3220560"/>
                <a:ext cx="401040" cy="445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310400" y="2800440"/>
                <a:ext cx="1583280" cy="3917520"/>
              </a:xfrm>
              <a:prstGeom prst="line">
                <a:avLst/>
              </a:prstGeom>
              <a:ln w="38160">
                <a:solidFill>
                  <a:srgbClr val="8a76f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1913040" y="6518160"/>
              <a:ext cx="1203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589040" y="5129280"/>
            <a:ext cx="1254240" cy="1042920"/>
            <a:chOff x="1589040" y="5129280"/>
            <a:chExt cx="1254240" cy="1042920"/>
          </a:xfrm>
        </p:grpSpPr>
        <p:sp>
          <p:nvSpPr>
            <p:cNvPr id="1282" name=""/>
            <p:cNvSpPr/>
            <p:nvPr/>
          </p:nvSpPr>
          <p:spPr>
            <a:xfrm>
              <a:off x="1712880" y="5129280"/>
              <a:ext cx="33804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627200" y="5494320"/>
              <a:ext cx="39600" cy="406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28720" y="5454720"/>
              <a:ext cx="416160" cy="189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736640" y="5661000"/>
              <a:ext cx="1106640" cy="235080"/>
            </a:xfrm>
            <a:prstGeom prst="rect">
              <a:avLst/>
            </a:prstGeom>
            <a:solidFill>
              <a:srgbClr val="01a5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S CHAP/EA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589040" y="5937120"/>
              <a:ext cx="1106640" cy="235080"/>
            </a:xfrm>
            <a:prstGeom prst="rect">
              <a:avLst/>
            </a:prstGeom>
            <a:solidFill>
              <a:srgbClr val="01a5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HCP Infor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663480" y="5214960"/>
            <a:ext cx="338400" cy="585720"/>
            <a:chOff x="663480" y="5214960"/>
            <a:chExt cx="338400" cy="585720"/>
          </a:xfrm>
        </p:grpSpPr>
        <p:sp>
          <p:nvSpPr>
            <p:cNvPr id="1288" name=""/>
            <p:cNvSpPr/>
            <p:nvPr/>
          </p:nvSpPr>
          <p:spPr>
            <a:xfrm>
              <a:off x="976320" y="5502240"/>
              <a:ext cx="0" cy="298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3480" y="5214960"/>
              <a:ext cx="33840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3895560" y="2373480"/>
            <a:ext cx="982800" cy="4132800"/>
            <a:chOff x="3895560" y="2373480"/>
            <a:chExt cx="982800" cy="4132800"/>
          </a:xfrm>
        </p:grpSpPr>
        <p:grpSp>
          <p:nvGrpSpPr>
            <p:cNvPr id="1291" name=""/>
            <p:cNvGrpSpPr/>
            <p:nvPr/>
          </p:nvGrpSpPr>
          <p:grpSpPr>
            <a:xfrm>
              <a:off x="4331880" y="2373480"/>
              <a:ext cx="535320" cy="3855600"/>
              <a:chOff x="4331880" y="2373480"/>
              <a:chExt cx="535320" cy="3855600"/>
            </a:xfrm>
          </p:grpSpPr>
          <p:sp>
            <p:nvSpPr>
              <p:cNvPr id="1292" name=""/>
              <p:cNvSpPr/>
              <p:nvPr/>
            </p:nvSpPr>
            <p:spPr>
              <a:xfrm>
                <a:off x="4529160" y="2863800"/>
                <a:ext cx="338040" cy="40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4331880" y="2373480"/>
                <a:ext cx="304920" cy="3855600"/>
              </a:xfrm>
              <a:prstGeom prst="line">
                <a:avLst/>
              </a:prstGeom>
              <a:ln w="38160">
                <a:solidFill>
                  <a:srgbClr val="8a76f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3895560" y="6165720"/>
              <a:ext cx="982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6588000" y="2354400"/>
            <a:ext cx="982800" cy="4116960"/>
            <a:chOff x="6588000" y="2354400"/>
            <a:chExt cx="982800" cy="4116960"/>
          </a:xfrm>
        </p:grpSpPr>
        <p:grpSp>
          <p:nvGrpSpPr>
            <p:cNvPr id="1296" name=""/>
            <p:cNvGrpSpPr/>
            <p:nvPr/>
          </p:nvGrpSpPr>
          <p:grpSpPr>
            <a:xfrm>
              <a:off x="6643800" y="2354400"/>
              <a:ext cx="602640" cy="3906360"/>
              <a:chOff x="6643800" y="2354400"/>
              <a:chExt cx="602640" cy="3906360"/>
            </a:xfrm>
          </p:grpSpPr>
          <p:sp>
            <p:nvSpPr>
              <p:cNvPr id="1297" name=""/>
              <p:cNvSpPr/>
              <p:nvPr/>
            </p:nvSpPr>
            <p:spPr>
              <a:xfrm>
                <a:off x="6865560" y="2851200"/>
                <a:ext cx="38088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6643800" y="2354400"/>
                <a:ext cx="343440" cy="3906360"/>
              </a:xfrm>
              <a:prstGeom prst="line">
                <a:avLst/>
              </a:prstGeom>
              <a:ln w="38160">
                <a:solidFill>
                  <a:srgbClr val="8a76f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6588000" y="6130800"/>
              <a:ext cx="982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" y="252360"/>
            <a:ext cx="8888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Client Remote Access VPN Protocols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540400" y="2518920"/>
            <a:ext cx="3267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56440" y="2556000"/>
            <a:ext cx="8622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20040" y="244476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64360" y="1676520"/>
            <a:ext cx="690480" cy="750240"/>
            <a:chOff x="6264360" y="1676520"/>
            <a:chExt cx="690480" cy="750240"/>
          </a:xfrm>
        </p:grpSpPr>
        <p:sp>
          <p:nvSpPr>
            <p:cNvPr id="53" name=""/>
            <p:cNvSpPr/>
            <p:nvPr/>
          </p:nvSpPr>
          <p:spPr>
            <a:xfrm>
              <a:off x="6504120" y="169992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21400" y="208260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21400" y="1833480"/>
              <a:ext cx="254160" cy="20772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64360" y="1677960"/>
              <a:ext cx="539640" cy="295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64360" y="1677960"/>
              <a:ext cx="241200" cy="74880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77120" y="170316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21400" y="183168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21400" y="1792080"/>
              <a:ext cx="266760" cy="424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1400" y="172692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64360" y="1676520"/>
              <a:ext cx="539640" cy="3132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02320" y="169992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64360" y="1677960"/>
              <a:ext cx="239760" cy="74880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1704960"/>
              <a:ext cx="0" cy="7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7120" y="17143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77120" y="176688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21400" y="172692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120" y="1782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83168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0304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1400" y="18428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6720" y="183348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21400" y="1833480"/>
              <a:ext cx="254160" cy="20592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73760" y="202536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521040" y="1898640"/>
              <a:ext cx="25236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521040" y="1965240"/>
              <a:ext cx="2523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77120" y="20826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7120" y="236196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21400" y="2098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6720" y="208260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21400" y="234288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21400" y="233028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21400" y="2319120"/>
              <a:ext cx="266760" cy="3132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21400" y="2306520"/>
              <a:ext cx="266760" cy="280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21400" y="229212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21400" y="1728720"/>
              <a:ext cx="254160" cy="3276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73760" y="1752480"/>
              <a:ext cx="12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83320" y="1792080"/>
              <a:ext cx="142920" cy="4248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1400" y="179208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21400" y="1809720"/>
              <a:ext cx="204840" cy="266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4800" y="1812960"/>
              <a:ext cx="619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24800" y="179208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34360" y="174456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70720" y="17427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7080" y="17427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45240" y="17427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3400" y="1741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18320" y="1738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56480" y="1738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61160" y="1833480"/>
              <a:ext cx="27000" cy="19332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02560" y="232380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41320" y="3898800"/>
            <a:ext cx="1427040" cy="1059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924200" y="4838760"/>
            <a:ext cx="1427040" cy="1058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368520" y="5396040"/>
            <a:ext cx="1427400" cy="105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918040" y="5272200"/>
            <a:ext cx="1427400" cy="105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556080" y="2122560"/>
          <a:ext cx="2692440" cy="93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080" y="2122560"/>
                    <a:ext cx="26924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040360" y="6173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360" y="4870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ndows 95 with DUN 1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47880" y="5726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ndows 98 with DUN 1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54240" y="626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ndows NT4 with sp3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59120" y="2421720"/>
            <a:ext cx="335880" cy="3448080"/>
            <a:chOff x="5559120" y="2421720"/>
            <a:chExt cx="335880" cy="3448080"/>
          </a:xfrm>
        </p:grpSpPr>
        <p:sp>
          <p:nvSpPr>
            <p:cNvPr id="114" name=""/>
            <p:cNvSpPr/>
            <p:nvPr/>
          </p:nvSpPr>
          <p:spPr>
            <a:xfrm>
              <a:off x="5613120" y="2421720"/>
              <a:ext cx="281880" cy="3430080"/>
            </a:xfrm>
            <a:prstGeom prst="line">
              <a:avLst/>
            </a:prstGeom>
            <a:ln w="12600">
              <a:solidFill>
                <a:srgbClr val="8a76f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59120" y="2439360"/>
              <a:ext cx="281520" cy="3430440"/>
            </a:xfrm>
            <a:prstGeom prst="line">
              <a:avLst/>
            </a:prstGeom>
            <a:ln w="38160">
              <a:solidFill>
                <a:srgbClr val="fdd01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32240" y="5173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P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5720" y="364320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P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8360" y="45594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P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34600" y="2392560"/>
            <a:ext cx="2111040" cy="1831680"/>
          </a:xfrm>
          <a:prstGeom prst="line">
            <a:avLst/>
          </a:prstGeom>
          <a:ln w="38160">
            <a:solidFill>
              <a:srgbClr val="fdd01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322800" y="2468880"/>
            <a:ext cx="1340280" cy="2657160"/>
          </a:xfrm>
          <a:prstGeom prst="line">
            <a:avLst/>
          </a:prstGeom>
          <a:ln w="38160">
            <a:solidFill>
              <a:srgbClr val="fdd01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338360" y="2486160"/>
            <a:ext cx="581400" cy="2858760"/>
          </a:xfrm>
          <a:prstGeom prst="line">
            <a:avLst/>
          </a:prstGeom>
          <a:ln w="38160">
            <a:solidFill>
              <a:srgbClr val="fdd01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15080" y="2695680"/>
            <a:ext cx="332892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 PK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P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 PK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PTP – user certs if gateway supports E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2TP/IPSec – machine certs required, and optional user certs if gateway supports E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960" y="1011240"/>
            <a:ext cx="2187720" cy="2398680"/>
          </a:xfrm>
          <a:prstGeom prst="borderCallout1">
            <a:avLst>
              <a:gd name="adj1" fmla="val 18750"/>
              <a:gd name="adj2" fmla="val -8333"/>
              <a:gd name="adj3" fmla="val 49569"/>
              <a:gd name="adj4" fmla="val 161467"/>
            </a:avLst>
          </a:prstGeom>
          <a:solidFill>
            <a:srgbClr val="01a553"/>
          </a:solidFill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cent/Asc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osoft, In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kia, 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5600" y="252360"/>
            <a:ext cx="8888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L2TP Architectures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1960" y="1585800"/>
            <a:ext cx="690480" cy="750960"/>
            <a:chOff x="3801960" y="1585800"/>
            <a:chExt cx="690480" cy="750960"/>
          </a:xfrm>
        </p:grpSpPr>
        <p:sp>
          <p:nvSpPr>
            <p:cNvPr id="126" name=""/>
            <p:cNvSpPr/>
            <p:nvPr/>
          </p:nvSpPr>
          <p:spPr>
            <a:xfrm>
              <a:off x="4041720" y="160956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59000" y="199224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9000" y="174312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1960" y="158760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1960" y="158760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4720" y="161280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9000" y="174132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9000" y="170172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9000" y="163656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1960" y="158580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9920" y="160956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1960" y="158760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4720" y="161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4720" y="1623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14720" y="16765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59000" y="163656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14720" y="16923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14720" y="1741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720" y="19400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59000" y="175248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24320" y="17431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59000" y="174312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11360" y="193500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058640" y="180828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058640" y="187488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4720" y="19922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4720" y="227160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9000" y="2008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24320" y="199224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9000" y="22525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59000" y="22399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9000" y="222876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59000" y="221616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59000" y="220176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59000" y="163836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11360" y="16621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20920" y="170172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59000" y="170172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9000" y="171936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2400" y="172260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2400" y="17017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71960" y="1654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8320" y="165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4680" y="165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82840" y="165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1000" y="165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55920" y="164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94080" y="164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98760" y="174312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40160" y="223344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11880" y="1563840"/>
            <a:ext cx="690480" cy="750240"/>
            <a:chOff x="6311880" y="1563840"/>
            <a:chExt cx="690480" cy="750240"/>
          </a:xfrm>
        </p:grpSpPr>
        <p:sp>
          <p:nvSpPr>
            <p:cNvPr id="177" name=""/>
            <p:cNvSpPr/>
            <p:nvPr/>
          </p:nvSpPr>
          <p:spPr>
            <a:xfrm>
              <a:off x="6551640" y="15872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68920" y="19699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68920" y="1720800"/>
              <a:ext cx="254160" cy="20772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11880" y="1565280"/>
              <a:ext cx="539640" cy="295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11880" y="1565280"/>
              <a:ext cx="241200" cy="74880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24640" y="15904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68920" y="17190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68920" y="1679400"/>
              <a:ext cx="266760" cy="424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68920" y="16142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1880" y="1563840"/>
              <a:ext cx="539640" cy="3132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9840" y="15872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1880" y="1565280"/>
              <a:ext cx="239760" cy="74880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24640" y="1592280"/>
              <a:ext cx="0" cy="7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24640" y="160164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24640" y="16542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68920" y="16142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24640" y="167004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24640" y="17190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24640" y="1917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68920" y="17301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34240" y="17208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68920" y="1720800"/>
              <a:ext cx="254160" cy="20592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1280" y="19126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568560" y="1785960"/>
              <a:ext cx="25236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568560" y="1852560"/>
              <a:ext cx="2523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24640" y="19699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4640" y="22492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8920" y="1985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34240" y="19699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68920" y="22302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68920" y="22176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68920" y="2206440"/>
              <a:ext cx="266760" cy="3132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68920" y="2193840"/>
              <a:ext cx="266760" cy="280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68920" y="21794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68920" y="1616040"/>
              <a:ext cx="254160" cy="3276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1280" y="1639800"/>
              <a:ext cx="12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0840" y="1679400"/>
              <a:ext cx="142920" cy="4248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68920" y="16794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8920" y="1697040"/>
              <a:ext cx="204840" cy="266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772320" y="1700280"/>
              <a:ext cx="619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72320" y="16794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81880" y="163188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18240" y="1630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4600" y="1630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2760" y="1630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0920" y="1628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5840" y="16254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04000" y="16254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08680" y="1720800"/>
              <a:ext cx="27000" cy="19332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0080" y="22111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360520" y="2054160"/>
            <a:ext cx="113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itial P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227480" y="1788840"/>
            <a:ext cx="2398680" cy="126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5360" y="1095480"/>
            <a:ext cx="1427400" cy="1058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09760" y="1460520"/>
            <a:ext cx="1427040" cy="1058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831960" y="1784520"/>
            <a:ext cx="1427040" cy="1058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43680" y="2305080"/>
            <a:ext cx="112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44920" y="2325600"/>
            <a:ext cx="112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1960" y="1782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2TP/IP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93960" y="1789200"/>
            <a:ext cx="4759200" cy="372960"/>
          </a:xfrm>
          <a:custGeom>
            <a:avLst/>
            <a:gdLst/>
            <a:ahLst/>
            <a:rect l="l" t="t" r="r" b="b"/>
            <a:pathLst>
              <a:path w="2998" h="235">
                <a:moveTo>
                  <a:pt x="0" y="235"/>
                </a:moveTo>
                <a:lnTo>
                  <a:pt x="1487" y="0"/>
                </a:lnTo>
                <a:lnTo>
                  <a:pt x="2998" y="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36840" y="1736640"/>
            <a:ext cx="5089320" cy="65160"/>
          </a:xfrm>
          <a:custGeom>
            <a:avLst/>
            <a:gdLst/>
            <a:ahLst/>
            <a:rect l="l" t="t" r="r" b="b"/>
            <a:pathLst>
              <a:path w="3206" h="41">
                <a:moveTo>
                  <a:pt x="0" y="0"/>
                </a:moveTo>
                <a:lnTo>
                  <a:pt x="1712" y="41"/>
                </a:lnTo>
                <a:lnTo>
                  <a:pt x="3206" y="4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5920" y="1311120"/>
            <a:ext cx="5379840" cy="478080"/>
          </a:xfrm>
          <a:custGeom>
            <a:avLst/>
            <a:gdLst/>
            <a:ahLst/>
            <a:rect l="l" t="t" r="r" b="b"/>
            <a:pathLst>
              <a:path w="3389" h="301">
                <a:moveTo>
                  <a:pt x="0" y="0"/>
                </a:moveTo>
                <a:lnTo>
                  <a:pt x="1861" y="301"/>
                </a:lnTo>
                <a:lnTo>
                  <a:pt x="3389" y="30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68640" y="1119240"/>
            <a:ext cx="113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itial PPP for user au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43280" y="1730520"/>
            <a:ext cx="113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itial P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4320" y="2859120"/>
            <a:ext cx="23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9x, NT4, Win2k PPP dial cl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95720" y="1177920"/>
            <a:ext cx="1484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t of client PPP inside L2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11920" y="1536840"/>
            <a:ext cx="2014560" cy="795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15240" y="1655640"/>
            <a:ext cx="17636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Q company internal 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60720" y="5376960"/>
            <a:ext cx="6805440" cy="1314360"/>
            <a:chOff x="2160720" y="5376960"/>
            <a:chExt cx="6805440" cy="1314360"/>
          </a:xfrm>
        </p:grpSpPr>
        <p:grpSp>
          <p:nvGrpSpPr>
            <p:cNvPr id="245" name=""/>
            <p:cNvGrpSpPr/>
            <p:nvPr/>
          </p:nvGrpSpPr>
          <p:grpSpPr>
            <a:xfrm>
              <a:off x="3903840" y="5473800"/>
              <a:ext cx="690480" cy="750960"/>
              <a:chOff x="3903840" y="5473800"/>
              <a:chExt cx="690480" cy="750960"/>
            </a:xfrm>
          </p:grpSpPr>
          <p:sp>
            <p:nvSpPr>
              <p:cNvPr id="246" name=""/>
              <p:cNvSpPr/>
              <p:nvPr/>
            </p:nvSpPr>
            <p:spPr>
              <a:xfrm>
                <a:off x="4143600" y="549756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60880" y="588024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60880" y="56311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03840" y="547560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03840" y="54756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16600" y="550080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60880" y="562932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60880" y="558972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60880" y="552456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03840" y="547380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41800" y="549756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903840" y="54756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16600" y="55026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16600" y="5511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16600" y="5564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60880" y="552456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6600" y="55803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16600" y="56293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16600" y="58280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60880" y="564048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26200" y="56311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60880" y="56311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13240" y="582300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160520" y="56962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160520" y="57628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16600" y="5880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16600" y="615960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0880" y="589608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26200" y="5880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60880" y="61405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60880" y="61279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60880" y="611676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60880" y="610416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60880" y="608976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60880" y="552636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3240" y="55501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22800" y="558972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60880" y="558972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60880" y="56073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64280" y="56106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64280" y="558972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73840" y="5542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0200" y="554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46560" y="554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84720" y="554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22880" y="553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57800" y="553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5960" y="553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00640" y="56311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42040" y="612144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413400" y="5451480"/>
              <a:ext cx="690480" cy="750960"/>
              <a:chOff x="6413400" y="5451480"/>
              <a:chExt cx="690480" cy="750960"/>
            </a:xfrm>
          </p:grpSpPr>
          <p:sp>
            <p:nvSpPr>
              <p:cNvPr id="297" name=""/>
              <p:cNvSpPr/>
              <p:nvPr/>
            </p:nvSpPr>
            <p:spPr>
              <a:xfrm>
                <a:off x="6653160" y="547524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70440" y="585792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670440" y="560880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13400" y="545328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13400" y="545328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26160" y="547848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70440" y="560700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70440" y="556740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0440" y="55022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13400" y="545148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51360" y="547524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13400" y="545328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26160" y="548028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26160" y="5489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26160" y="5542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70440" y="55022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26160" y="55580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26160" y="5607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26160" y="5805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670440" y="561816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35760" y="56088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70440" y="560880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22800" y="580068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670080" y="567396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70080" y="574056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26160" y="5857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6160" y="613728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70440" y="58737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35760" y="585792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70440" y="61182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70440" y="61056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70440" y="609444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70440" y="608184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70440" y="606744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70440" y="550404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22800" y="552780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32360" y="556740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0440" y="556740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70440" y="558504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873840" y="558828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73840" y="556740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83400" y="55198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19760" y="5518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56120" y="5518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94280" y="5518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32440" y="551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67360" y="5513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05520" y="5513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910200" y="560880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51600" y="609912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329000" y="5689440"/>
              <a:ext cx="21733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5200" y="6192720"/>
              <a:ext cx="112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46440" y="6213600"/>
              <a:ext cx="112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720" y="5499000"/>
              <a:ext cx="2014560" cy="795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98520" y="5657760"/>
              <a:ext cx="1764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te company internal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51600" y="5386320"/>
              <a:ext cx="2014560" cy="795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54920" y="5505480"/>
              <a:ext cx="17636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Q company internal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08640" y="537696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2TP/IPSe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473800" y="1484280"/>
            <a:ext cx="15876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-152280" y="3795840"/>
            <a:ext cx="9045360" cy="1856160"/>
            <a:chOff x="-152280" y="3795840"/>
            <a:chExt cx="9045360" cy="1856160"/>
          </a:xfrm>
        </p:grpSpPr>
        <p:sp>
          <p:nvSpPr>
            <p:cNvPr id="357" name=""/>
            <p:cNvSpPr/>
            <p:nvPr/>
          </p:nvSpPr>
          <p:spPr>
            <a:xfrm>
              <a:off x="198360" y="4948200"/>
              <a:ext cx="165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in2k Pro VPN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848040" y="3990960"/>
              <a:ext cx="690480" cy="750960"/>
              <a:chOff x="3848040" y="3990960"/>
              <a:chExt cx="690480" cy="750960"/>
            </a:xfrm>
          </p:grpSpPr>
          <p:sp>
            <p:nvSpPr>
              <p:cNvPr id="359" name=""/>
              <p:cNvSpPr/>
              <p:nvPr/>
            </p:nvSpPr>
            <p:spPr>
              <a:xfrm>
                <a:off x="4087800" y="401472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105080" y="439740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05080" y="41482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48040" y="399276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48040" y="39927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60800" y="401796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05080" y="414648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05080" y="41068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05080" y="40417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48040" y="39909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86000" y="401472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48040" y="39927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60800" y="40197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60800" y="4029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60800" y="4081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05080" y="40417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60800" y="4097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60800" y="4146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60800" y="4345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05080" y="415764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70400" y="41482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05080" y="41482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57440" y="434016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4104720" y="42134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4104720" y="42800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60800" y="43974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60800" y="467676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05080" y="441324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70400" y="43974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05080" y="4657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05080" y="46450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05080" y="46339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105080" y="462132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05080" y="46069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05080" y="404352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57440" y="40672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167000" y="41068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05080" y="410688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05080" y="41245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4308480" y="41277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08480" y="410688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18040" y="40593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4400" y="405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90760" y="405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228920" y="405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267080" y="4056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02000" y="4052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40160" y="4052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44840" y="41482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86240" y="463860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09" name="" descr=""/>
            <p:cNvPicPr/>
            <p:nvPr/>
          </p:nvPicPr>
          <p:blipFill>
            <a:blip r:embed="rId5"/>
            <a:stretch/>
          </p:blipFill>
          <p:spPr>
            <a:xfrm>
              <a:off x="622440" y="4037040"/>
              <a:ext cx="1427040" cy="10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"/>
            <p:cNvGrpSpPr/>
            <p:nvPr/>
          </p:nvGrpSpPr>
          <p:grpSpPr>
            <a:xfrm>
              <a:off x="6357960" y="3968640"/>
              <a:ext cx="690480" cy="750960"/>
              <a:chOff x="6357960" y="3968640"/>
              <a:chExt cx="690480" cy="750960"/>
            </a:xfrm>
          </p:grpSpPr>
          <p:sp>
            <p:nvSpPr>
              <p:cNvPr id="411" name=""/>
              <p:cNvSpPr/>
              <p:nvPr/>
            </p:nvSpPr>
            <p:spPr>
              <a:xfrm>
                <a:off x="6597720" y="399240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15000" y="437508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15000" y="412596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57960" y="397044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7960" y="397044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70720" y="399564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15000" y="412416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15000" y="408456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15000" y="40194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357960" y="396864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95920" y="399240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357960" y="397044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70720" y="399744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70720" y="40068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70720" y="40593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15000" y="40194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70720" y="4075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70720" y="4124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70720" y="43228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15000" y="41353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80320" y="412596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15000" y="412596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67360" y="431784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614640" y="419112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614640" y="425772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70720" y="43750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70720" y="465444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15000" y="439092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880320" y="4375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615000" y="46353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615000" y="46227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15000" y="461160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15000" y="459900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615000" y="45846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15000" y="402120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67360" y="404496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76920" y="408456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15000" y="408456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15000" y="410220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818400" y="410544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18400" y="408456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27960" y="40370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664320" y="40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00680" y="40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38840" y="40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77000" y="403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811920" y="40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50080" y="40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54760" y="412596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96160" y="461628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 flipV="1">
              <a:off x="1874880" y="4354560"/>
              <a:ext cx="206856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62280" y="4538520"/>
              <a:ext cx="19764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ial access via PPP or Ethernet (DSL/Cable), ISDN, et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22600" y="4159080"/>
              <a:ext cx="4949640" cy="292320"/>
            </a:xfrm>
            <a:custGeom>
              <a:avLst/>
              <a:gdLst/>
              <a:ahLst/>
              <a:rect l="l" t="t" r="r" b="b"/>
              <a:pathLst>
                <a:path w="3118" h="184">
                  <a:moveTo>
                    <a:pt x="0" y="184"/>
                  </a:moveTo>
                  <a:lnTo>
                    <a:pt x="1528" y="0"/>
                  </a:lnTo>
                  <a:lnTo>
                    <a:pt x="3118" y="22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5040" y="4676760"/>
              <a:ext cx="112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16760" y="4710240"/>
              <a:ext cx="112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28720" y="4159080"/>
              <a:ext cx="4951440" cy="301680"/>
            </a:xfrm>
            <a:custGeom>
              <a:avLst/>
              <a:gdLst/>
              <a:ahLst/>
              <a:rect l="l" t="t" r="r" b="b"/>
              <a:pathLst>
                <a:path w="3119" h="190">
                  <a:moveTo>
                    <a:pt x="0" y="190"/>
                  </a:moveTo>
                  <a:lnTo>
                    <a:pt x="1516" y="0"/>
                  </a:lnTo>
                  <a:lnTo>
                    <a:pt x="3119" y="2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23960" y="3848040"/>
              <a:ext cx="1139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PP inside L2T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13080" y="4106880"/>
              <a:ext cx="158760" cy="23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78520" y="3895560"/>
              <a:ext cx="2014560" cy="795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81840" y="4014720"/>
              <a:ext cx="17636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Q company internal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79760" y="3795840"/>
              <a:ext cx="181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2TP/IPSe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52280" y="3908520"/>
              <a:ext cx="1430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lient LA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338120" y="674640"/>
            <a:ext cx="7805880" cy="4878360"/>
            <a:chOff x="1338120" y="674640"/>
            <a:chExt cx="7805880" cy="4878360"/>
          </a:xfrm>
        </p:grpSpPr>
        <p:sp>
          <p:nvSpPr>
            <p:cNvPr id="474" name=""/>
            <p:cNvSpPr/>
            <p:nvPr/>
          </p:nvSpPr>
          <p:spPr>
            <a:xfrm flipH="1">
              <a:off x="6624720" y="1495440"/>
              <a:ext cx="636480" cy="160200"/>
            </a:xfrm>
            <a:prstGeom prst="line">
              <a:avLst/>
            </a:prstGeom>
            <a:ln w="936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62760" y="674640"/>
              <a:ext cx="308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d013"/>
                  </a:solidFill>
                  <a:latin typeface="Times New Roman"/>
                </a:rPr>
                <a:t>Windows 2000 Server can perform these ro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303800" y="1535040"/>
              <a:ext cx="3060720" cy="2622600"/>
            </a:xfrm>
            <a:prstGeom prst="line">
              <a:avLst/>
            </a:prstGeom>
            <a:ln w="936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38920" y="1536840"/>
              <a:ext cx="582480" cy="2398680"/>
            </a:xfrm>
            <a:prstGeom prst="line">
              <a:avLst/>
            </a:prstGeom>
            <a:ln w="936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91120" y="1576440"/>
              <a:ext cx="569880" cy="3976560"/>
            </a:xfrm>
            <a:prstGeom prst="line">
              <a:avLst/>
            </a:prstGeom>
            <a:ln w="936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222800" y="1535040"/>
              <a:ext cx="3154320" cy="3948120"/>
            </a:xfrm>
            <a:prstGeom prst="line">
              <a:avLst/>
            </a:prstGeom>
            <a:ln w="936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338120" y="1511280"/>
              <a:ext cx="5989680" cy="2610000"/>
            </a:xfrm>
            <a:prstGeom prst="line">
              <a:avLst/>
            </a:prstGeom>
            <a:ln w="936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dd013"/>
                </a:solidFill>
                <a:latin typeface="Arial"/>
              </a:rPr>
              <a:t>Point to Point Protocol PPP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520" y="1146240"/>
            <a:ext cx="85028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P, CHAP, MS-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-CHAPv2, RFC 2759, Jan 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adds extensible user au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68520" indent="-53352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P EAP RFC 2284, EAP-TLS RFC 271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68520" indent="-53352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certificate, smartcard, tokencard, bio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oke Network Layer Protocol(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.g. IP Address Assig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PC Informational RFC 2118, Mar 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ata Prot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ft-ietf-pppext-mppe-04.txt, Oct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lnSpc>
                <a:spcPct val="8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ft-ietf-pppext-mppe-keys-02.txt, Sep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Layer 2 Tunneling Protocol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968400"/>
            <a:ext cx="841536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0880" indent="-5608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in IETF PPP Extensions working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120" indent="-46044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ation of Cisco L2F &amp; PPTP features, L2TP RFC 2661, Aug 9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3120" indent="-46044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2TP Extensions working group establish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UDP for control and data packets, well known port is 17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PPP for packet encapsulation – carries most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 UDP packet security provided by IPSec transport mode, as in RFC 2401, 2409, et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8200" y="5516640"/>
            <a:ext cx="5580000" cy="752400"/>
          </a:xfrm>
          <a:prstGeom prst="rect">
            <a:avLst/>
          </a:prstGeom>
          <a:solidFill>
            <a:srgbClr val="8a76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61880" y="5657760"/>
            <a:ext cx="7925040" cy="533160"/>
            <a:chOff x="461880" y="5657760"/>
            <a:chExt cx="7925040" cy="533160"/>
          </a:xfrm>
        </p:grpSpPr>
        <p:sp>
          <p:nvSpPr>
            <p:cNvPr id="487" name=""/>
            <p:cNvSpPr/>
            <p:nvPr/>
          </p:nvSpPr>
          <p:spPr>
            <a:xfrm>
              <a:off x="4881600" y="5657760"/>
              <a:ext cx="68580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7400" y="5657760"/>
              <a:ext cx="198108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 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6120" y="5657760"/>
              <a:ext cx="7617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880" y="5657760"/>
              <a:ext cx="6858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95800" y="5657760"/>
              <a:ext cx="68580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47680" y="5657760"/>
              <a:ext cx="838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47880" y="5657760"/>
              <a:ext cx="6858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2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33680" y="5657760"/>
              <a:ext cx="7621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48480" y="5657760"/>
              <a:ext cx="838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165560" y="5154480"/>
            <a:ext cx="443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76f0"/>
                </a:solidFill>
                <a:latin typeface="Arial"/>
              </a:rPr>
              <a:t>IPSec DES or 3DES encryp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L2TP/IPSec VPN Client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1023480"/>
            <a:ext cx="8502840" cy="64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s migration from PPTP, same functionality, much more sec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 integrated with IPSe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 IPSec Poli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SAs requested before L2TP tunnel conn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SAs deleted when tunnel disconn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s machine certificate beca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secure IPSec authent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p pre-shared key is very in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server (domain controller) not accessible to client o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a machine certific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2k domain group policy autoenroll from Microsoft 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dmin import certificate wiz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75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dmin browser to CA web pag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69640" y="236160"/>
            <a:ext cx="88246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L2TP/IPSec Client Automatically Generates IPSec Security Rule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00120" y="2046240"/>
            <a:ext cx="1427040" cy="10587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68200" y="3227400"/>
            <a:ext cx="43830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dd013"/>
                </a:solidFill>
                <a:uFillTx/>
                <a:latin typeface="Arial"/>
              </a:rPr>
              <a:t>Outbound Filter</a:t>
            </a:r>
            <a:r>
              <a:rPr b="1" lang="en-US" sz="1800" spc="-1" strike="noStrike">
                <a:solidFill>
                  <a:srgbClr val="fdd01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IP = My IP Address (Interne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 IP = Gateway 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 = U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 1701, Dest port 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3440" y="3238560"/>
            <a:ext cx="43833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dd013"/>
                </a:solidFill>
                <a:uFillTx/>
                <a:latin typeface="Arial"/>
              </a:rPr>
              <a:t>Inbound Filter</a:t>
            </a:r>
            <a:r>
              <a:rPr b="1" lang="en-US" sz="1800" spc="-1" strike="noStrike">
                <a:solidFill>
                  <a:srgbClr val="fdd01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IP = Gateway 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 IP = My IP Address (Interne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 = U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 Any, Dest port 17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300400" y="2063880"/>
            <a:ext cx="4711680" cy="2709720"/>
            <a:chOff x="2300400" y="2063880"/>
            <a:chExt cx="4711680" cy="2709720"/>
          </a:xfrm>
        </p:grpSpPr>
        <p:sp>
          <p:nvSpPr>
            <p:cNvPr id="504" name=""/>
            <p:cNvSpPr/>
            <p:nvPr/>
          </p:nvSpPr>
          <p:spPr>
            <a:xfrm>
              <a:off x="2521080" y="2063880"/>
              <a:ext cx="4491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d013"/>
                  </a:solidFill>
                  <a:latin typeface="Arial"/>
                </a:rPr>
                <a:t>Win2k L2TP always uses UDP source port 1701, dest port 170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300400" y="2728800"/>
              <a:ext cx="2124000" cy="2044800"/>
            </a:xfrm>
            <a:prstGeom prst="line">
              <a:avLst/>
            </a:prstGeom>
            <a:ln w="9360">
              <a:solidFill>
                <a:srgbClr val="fdd0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330200" y="5149800"/>
            <a:ext cx="7034400" cy="1515240"/>
            <a:chOff x="1330200" y="5149800"/>
            <a:chExt cx="7034400" cy="1515240"/>
          </a:xfrm>
        </p:grpSpPr>
        <p:sp>
          <p:nvSpPr>
            <p:cNvPr id="507" name=""/>
            <p:cNvSpPr/>
            <p:nvPr/>
          </p:nvSpPr>
          <p:spPr>
            <a:xfrm>
              <a:off x="5433840" y="5518080"/>
              <a:ext cx="29307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d013"/>
                  </a:solidFill>
                  <a:latin typeface="Arial"/>
                </a:rPr>
                <a:t>Allows gateway to float response port (per L2TP RFC 266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57600" y="5149800"/>
              <a:ext cx="2622600" cy="405000"/>
            </a:xfrm>
            <a:custGeom>
              <a:avLst/>
              <a:gdLst/>
              <a:ahLst/>
              <a:rect l="l" t="t" r="r" b="b"/>
              <a:pathLst>
                <a:path w="1652" h="255">
                  <a:moveTo>
                    <a:pt x="0" y="0"/>
                  </a:moveTo>
                  <a:cubicBezTo>
                    <a:pt x="133" y="87"/>
                    <a:pt x="267" y="175"/>
                    <a:pt x="483" y="212"/>
                  </a:cubicBezTo>
                  <a:cubicBezTo>
                    <a:pt x="699" y="249"/>
                    <a:pt x="1101" y="255"/>
                    <a:pt x="1296" y="221"/>
                  </a:cubicBezTo>
                  <a:cubicBezTo>
                    <a:pt x="1491" y="187"/>
                    <a:pt x="1571" y="98"/>
                    <a:pt x="1652" y="9"/>
                  </a:cubicBezTo>
                </a:path>
              </a:pathLst>
            </a:custGeom>
            <a:noFill/>
            <a:ln w="9360">
              <a:solidFill>
                <a:srgbClr val="fdd01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0200" y="5475240"/>
              <a:ext cx="3630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d013"/>
                  </a:solidFill>
                  <a:latin typeface="Arial"/>
                </a:rPr>
                <a:t>IPSec IKE negotiation is for dest port = Any, so that filter mirror for inbound port = An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9640" y="236160"/>
            <a:ext cx="8380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L2TP/IPSec Client Automatically Generates IPSec Security Rule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00120" y="2046240"/>
            <a:ext cx="1427040" cy="105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2" name=""/>
          <p:cNvGraphicFramePr/>
          <p:nvPr/>
        </p:nvGraphicFramePr>
        <p:xfrm>
          <a:off x="1727280" y="3772080"/>
          <a:ext cx="60948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772080"/>
                    <a:ext cx="6094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49120" y="3827520"/>
          <a:ext cx="6098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120" y="3827520"/>
                    <a:ext cx="609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1500120" y="3387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19040" y="4311720"/>
            <a:ext cx="1524240" cy="290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d013"/>
                </a:solidFill>
                <a:latin typeface="Arial"/>
              </a:rPr>
              <a:t>CA1 machine ce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0520" y="3400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usted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28760" y="4619520"/>
            <a:ext cx="1523880" cy="290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d013"/>
                </a:solidFill>
                <a:latin typeface="Arial"/>
              </a:rPr>
              <a:t>CA2 machine ce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63800" y="1692360"/>
            <a:ext cx="465300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dd013"/>
                </a:solidFill>
                <a:uFillTx/>
                <a:latin typeface="Arial"/>
              </a:rPr>
              <a:t>Filter Action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 is “negotiate security” with priority list of op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3DES, ESP DES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85640" y="4303800"/>
            <a:ext cx="8391600" cy="2206800"/>
            <a:chOff x="485640" y="4303800"/>
            <a:chExt cx="8391600" cy="2206800"/>
          </a:xfrm>
        </p:grpSpPr>
        <p:sp>
          <p:nvSpPr>
            <p:cNvPr id="522" name=""/>
            <p:cNvSpPr/>
            <p:nvPr/>
          </p:nvSpPr>
          <p:spPr>
            <a:xfrm>
              <a:off x="2879640" y="4303800"/>
              <a:ext cx="88920" cy="6192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5840 h 619200"/>
                <a:gd name="textAreaBottom" fmla="*/ 603360 h 6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dd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5640" y="5219640"/>
              <a:ext cx="3591000" cy="12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dd013"/>
                  </a:solidFill>
                  <a:uFillTx/>
                  <a:latin typeface="Arial"/>
                </a:rPr>
                <a:t>Authentication Method</a:t>
              </a:r>
              <a:r>
                <a:rPr b="1" lang="en-US" sz="2000" spc="-1" strike="noStrike">
                  <a:solidFill>
                    <a:srgbClr val="fdd013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1 root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2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08440" y="4883040"/>
              <a:ext cx="416880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buClr>
                  <a:srgbClr val="fdd01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Get Certificate Authority Root names from existing computer certifica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46400" y="4599000"/>
              <a:ext cx="2354040" cy="1425600"/>
            </a:xfrm>
            <a:custGeom>
              <a:avLst/>
              <a:gdLst/>
              <a:ahLst/>
              <a:rect l="l" t="t" r="r" b="b"/>
              <a:pathLst>
                <a:path w="1483" h="898">
                  <a:moveTo>
                    <a:pt x="465" y="0"/>
                  </a:moveTo>
                  <a:cubicBezTo>
                    <a:pt x="974" y="187"/>
                    <a:pt x="1483" y="375"/>
                    <a:pt x="1406" y="525"/>
                  </a:cubicBezTo>
                  <a:cubicBezTo>
                    <a:pt x="1329" y="675"/>
                    <a:pt x="664" y="786"/>
                    <a:pt x="0" y="898"/>
                  </a:cubicBezTo>
                </a:path>
              </a:pathLst>
            </a:custGeom>
            <a:noFill/>
            <a:ln w="15840">
              <a:solidFill>
                <a:srgbClr val="fdd01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697280" y="3606840"/>
            <a:ext cx="41688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teway controls what option to cho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546360" y="2892600"/>
            <a:ext cx="4975200" cy="190332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5237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L2TP/IPSec in Windows </a:t>
            </a: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2000/</a:t>
            </a: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Whistler</a:t>
            </a: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 TCP/IP Architecture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35000" y="4995720"/>
            <a:ext cx="6608880" cy="1517760"/>
          </a:xfrm>
          <a:prstGeom prst="rect">
            <a:avLst/>
          </a:prstGeom>
          <a:gradFill rotWithShape="0">
            <a:gsLst>
              <a:gs pos="0">
                <a:srgbClr val="3f366e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54080" y="2133720"/>
            <a:ext cx="6580440" cy="27432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54280" y="3475080"/>
            <a:ext cx="4800600" cy="36036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Packet Filter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3124080"/>
            <a:ext cx="1571760" cy="679680"/>
          </a:xfrm>
          <a:prstGeom prst="rect">
            <a:avLst/>
          </a:prstGeom>
          <a:gradFill rotWithShape="0">
            <a:gsLst>
              <a:gs pos="0">
                <a:srgbClr val="3f366e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HOOK Driver (DD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09960" y="2374920"/>
            <a:ext cx="83844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53160" y="2374920"/>
            <a:ext cx="83844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8760" y="2374920"/>
            <a:ext cx="83844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24360" y="2374920"/>
            <a:ext cx="83844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19640" y="900000"/>
            <a:ext cx="330516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S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16400" y="1295280"/>
            <a:ext cx="3303720" cy="50004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nsock Layered Servic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8680" y="3838680"/>
            <a:ext cx="4786200" cy="631800"/>
          </a:xfrm>
          <a:prstGeom prst="rect">
            <a:avLst/>
          </a:prstGeom>
          <a:gradFill rotWithShape="0">
            <a:gsLst>
              <a:gs pos="0">
                <a:srgbClr val="7f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Sec Filters, Transport &amp; Tu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73880" y="5632560"/>
            <a:ext cx="2974680" cy="776160"/>
          </a:xfrm>
          <a:prstGeom prst="rect">
            <a:avLst/>
          </a:prstGeom>
          <a:gradFill rotWithShape="0">
            <a:gsLst>
              <a:gs pos="0">
                <a:srgbClr val="7f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fload: checksum, IPSec, large TCP 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57520" y="4476600"/>
            <a:ext cx="4800600" cy="327240"/>
          </a:xfrm>
          <a:prstGeom prst="rect">
            <a:avLst/>
          </a:prstGeom>
          <a:gradFill rotWithShape="0">
            <a:gsLst>
              <a:gs pos="0">
                <a:srgbClr val="3f366e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Frag/Re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943360" y="5854680"/>
            <a:ext cx="2201760" cy="460440"/>
            <a:chOff x="2943360" y="5854680"/>
            <a:chExt cx="2201760" cy="460440"/>
          </a:xfrm>
        </p:grpSpPr>
        <p:sp>
          <p:nvSpPr>
            <p:cNvPr id="543" name=""/>
            <p:cNvSpPr/>
            <p:nvPr/>
          </p:nvSpPr>
          <p:spPr>
            <a:xfrm>
              <a:off x="2943360" y="5857920"/>
              <a:ext cx="1038240" cy="457200"/>
            </a:xfrm>
            <a:prstGeom prst="rect">
              <a:avLst/>
            </a:prstGeom>
            <a:gradFill rotWithShape="0">
              <a:gsLst>
                <a:gs pos="0">
                  <a:srgbClr val="453b78"/>
                </a:gs>
                <a:gs pos="100000">
                  <a:srgbClr val="8a76f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P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06880" y="5854680"/>
              <a:ext cx="1038240" cy="457200"/>
            </a:xfrm>
            <a:prstGeom prst="rect">
              <a:avLst/>
            </a:prstGeom>
            <a:gradFill rotWithShape="0">
              <a:gsLst>
                <a:gs pos="0">
                  <a:srgbClr val="453b78"/>
                </a:gs>
                <a:gs pos="100000">
                  <a:srgbClr val="8a76f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2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0" y="5791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/WAN mini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PN=PPP virtual inte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1120" y="50007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DIS 5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57520" y="3103560"/>
            <a:ext cx="4800600" cy="36036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HOOK call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33526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228600"/>
            <a:ext cx="3124080" cy="450720"/>
          </a:xfrm>
          <a:prstGeom prst="rect">
            <a:avLst/>
          </a:prstGeom>
          <a:gradFill rotWithShape="0">
            <a:gsLst>
              <a:gs pos="0">
                <a:srgbClr val="3f366e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PR, IPHLPAPI pf_ filter ap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839080" y="685800"/>
            <a:ext cx="0" cy="297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81529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920" y="2590920"/>
            <a:ext cx="213336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NAT.sys/</a:t>
            </a:r>
            <a:r>
              <a:rPr b="0" lang="en-US" sz="2400" spc="-1" strike="noStrike">
                <a:solidFill>
                  <a:srgbClr val="01a553"/>
                </a:solidFill>
                <a:latin typeface="Times New Roman"/>
              </a:rPr>
              <a:t>PF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971800"/>
            <a:ext cx="1333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05320" y="5562720"/>
            <a:ext cx="103824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2057400"/>
            <a:ext cx="342900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UDP/IP Connection UI Fil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05120" y="441972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d013"/>
                </a:solidFill>
                <a:latin typeface="Times New Roman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2438280"/>
            <a:ext cx="21333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5105520"/>
            <a:ext cx="29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mon Sniff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19720" y="2311560"/>
            <a:ext cx="2057400" cy="4889520"/>
          </a:xfrm>
          <a:custGeom>
            <a:avLst/>
            <a:gdLst/>
            <a:ahLst/>
            <a:rect l="l" t="t" r="r" b="b"/>
            <a:pathLst>
              <a:path w="1296" h="3080">
                <a:moveTo>
                  <a:pt x="1296" y="1088"/>
                </a:moveTo>
                <a:cubicBezTo>
                  <a:pt x="1260" y="544"/>
                  <a:pt x="1224" y="0"/>
                  <a:pt x="1104" y="272"/>
                </a:cubicBezTo>
                <a:cubicBezTo>
                  <a:pt x="984" y="544"/>
                  <a:pt x="760" y="2360"/>
                  <a:pt x="576" y="2720"/>
                </a:cubicBezTo>
                <a:cubicBezTo>
                  <a:pt x="392" y="3080"/>
                  <a:pt x="196" y="2756"/>
                  <a:pt x="0" y="243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6880" y="5105520"/>
            <a:ext cx="4267440" cy="45720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PP.S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553080" y="4267080"/>
            <a:ext cx="1905120" cy="2438640"/>
          </a:xfrm>
          <a:custGeom>
            <a:avLst/>
            <a:gdLst/>
            <a:ahLst/>
            <a:rect l="l" t="t" r="r" b="b"/>
            <a:pathLst>
              <a:path w="1200" h="1536">
                <a:moveTo>
                  <a:pt x="1200" y="1536"/>
                </a:moveTo>
                <a:cubicBezTo>
                  <a:pt x="868" y="1472"/>
                  <a:pt x="536" y="1408"/>
                  <a:pt x="336" y="1152"/>
                </a:cubicBezTo>
                <a:cubicBezTo>
                  <a:pt x="136" y="896"/>
                  <a:pt x="56" y="184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3276720"/>
            <a:ext cx="1440" cy="2666880"/>
          </a:xfrm>
          <a:custGeom>
            <a:avLst/>
            <a:gdLst/>
            <a:ahLst/>
            <a:rect l="l" t="t" r="r" b="b"/>
            <a:pathLst>
              <a:path w="1" h="1680">
                <a:moveTo>
                  <a:pt x="0" y="1680"/>
                </a:moveTo>
                <a:cubicBezTo>
                  <a:pt x="0" y="1412"/>
                  <a:pt x="0" y="1144"/>
                  <a:pt x="0" y="864"/>
                </a:cubicBezTo>
                <a:cubicBezTo>
                  <a:pt x="0" y="584"/>
                  <a:pt x="0" y="292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228600"/>
            <a:ext cx="762120" cy="533520"/>
          </a:xfrm>
          <a:prstGeom prst="ellipse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1981080"/>
            <a:ext cx="3657600" cy="347760"/>
          </a:xfrm>
          <a:prstGeom prst="rect">
            <a:avLst/>
          </a:prstGeom>
          <a:gradFill rotWithShape="0">
            <a:gsLst>
              <a:gs pos="0">
                <a:srgbClr val="453b78"/>
              </a:gs>
              <a:gs pos="100000">
                <a:srgbClr val="8a76f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DI API/AFD.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57800" y="685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4:56:52Z</dcterms:created>
  <dc:creator>William Dixon, Rob Trace</dc:creator>
  <dc:description>Windows 2000 Professional Core IT Pro Deck</dc:description>
  <cp:keywords>VPN L2TP IPSEC Tunnel PPTP</cp:keywords>
  <dc:language>en-US</dc:language>
  <cp:lastModifiedBy>Ping Look</cp:lastModifiedBy>
  <cp:lastPrinted>1999-02-04T20:17:39Z</cp:lastPrinted>
  <dcterms:modified xsi:type="dcterms:W3CDTF">2001-02-02T06:46:21Z</dcterms:modified>
  <cp:revision>8</cp:revision>
  <dc:subject>Windows 2000 VPN</dc:subject>
  <dc:title>Windows 2000 L2TP/IPSec VPN Tunnel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wAudience">
    <vt:lpwstr/>
  </property>
  <property fmtid="{D5CDD505-2E9C-101B-9397-08002B2CF9AE}" pid="3" name="iwAuthor">
    <vt:lpwstr>BED Client Marketing</vt:lpwstr>
  </property>
  <property fmtid="{D5CDD505-2E9C-101B-9397-08002B2CF9AE}" pid="4" name="iwCompany">
    <vt:lpwstr/>
  </property>
  <property fmtid="{D5CDD505-2E9C-101B-9397-08002B2CF9AE}" pid="5" name="iwDescription">
    <vt:lpwstr>Windows 2000 Professional Core IT Pro Deck</vt:lpwstr>
  </property>
  <property fmtid="{D5CDD505-2E9C-101B-9397-08002B2CF9AE}" pid="6" name="iwGeography">
    <vt:lpwstr/>
  </property>
  <property fmtid="{D5CDD505-2E9C-101B-9397-08002B2CF9AE}" pid="7" name="iwLanguage">
    <vt:lpwstr>Arabic</vt:lpwstr>
  </property>
  <property fmtid="{D5CDD505-2E9C-101B-9397-08002B2CF9AE}" pid="8" name="iwLastModifier">
    <vt:lpwstr/>
  </property>
  <property fmtid="{D5CDD505-2E9C-101B-9397-08002B2CF9AE}" pid="9" name="iwLicType">
    <vt:lpwstr/>
  </property>
  <property fmtid="{D5CDD505-2E9C-101B-9397-08002B2CF9AE}" pid="10" name="iwModifyDate">
    <vt:lpwstr>Dec 10 17:40:24 1999</vt:lpwstr>
  </property>
  <property fmtid="{D5CDD505-2E9C-101B-9397-08002B2CF9AE}" pid="11" name="iwProduct">
    <vt:lpwstr/>
  </property>
  <property fmtid="{D5CDD505-2E9C-101B-9397-08002B2CF9AE}" pid="12" name="iwResourceID">
    <vt:lpwstr>33829</vt:lpwstr>
  </property>
  <property fmtid="{D5CDD505-2E9C-101B-9397-08002B2CF9AE}" pid="13" name="iwSKKeywords">
    <vt:lpwstr/>
  </property>
  <property fmtid="{D5CDD505-2E9C-101B-9397-08002B2CF9AE}" pid="14" name="iwSecurity">
    <vt:lpwstr>External NDA</vt:lpwstr>
  </property>
  <property fmtid="{D5CDD505-2E9C-101B-9397-08002B2CF9AE}" pid="15" name="iwTitle">
    <vt:lpwstr>Windows 2000 Professional Core IT Pro Deck</vt:lpwstr>
  </property>
</Properties>
</file>