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5.png" ContentType="image/png"/>
  <Override PartName="/ppt/media/image3.pct" ContentType="image/x-pict"/>
  <Override PartName="/ppt/media/image6.png" ContentType="image/png"/>
  <Override PartName="/ppt/media/image4.pct" ContentType="image/x-pict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0F1-F245-46B3-B705-5FEE4882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8F3-527B-442F-82C0-8C92361E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136-4511-407B-A0B9-BA3AF5B2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D1B-0021-4FF0-AF99-C79701D8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AAB-7242-4533-9E8F-BEFFFE2C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3B60-DA19-405F-B66B-15B2C2E0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86D6-6EEC-4F8A-8CD8-3ADB6905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F46-BC73-4A44-BF37-DA3FB8CF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047-D5D3-49F0-8680-39E40068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AF0-1221-4583-A438-61022980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5E1-E4BE-4102-AA85-8D8FFAF2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832-1CDE-4BCF-BD34-2066CED6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FDA3-D50C-481D-8FAC-675E8DE7F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ct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pct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.pct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.pct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ct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ct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pct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.pct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.pct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4.pct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tocol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3160" y="401760"/>
            <a:ext cx="8613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PSec AH in Transport Mod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12800" y="2449440"/>
            <a:ext cx="1739880" cy="44460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65640" y="2449440"/>
            <a:ext cx="1282680" cy="44460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60920" y="2449440"/>
            <a:ext cx="2882880" cy="44460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6720" y="242244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39000" y="2422440"/>
            <a:ext cx="128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CP 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85800" y="2422440"/>
            <a:ext cx="163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 IP 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7240" y="3654360"/>
            <a:ext cx="1282680" cy="44460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92880" y="3654360"/>
            <a:ext cx="2882880" cy="44460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8320" y="362736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70600" y="3627360"/>
            <a:ext cx="128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CP 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695680" y="3648240"/>
            <a:ext cx="1495440" cy="470520"/>
            <a:chOff x="2695680" y="3648240"/>
            <a:chExt cx="1495440" cy="470520"/>
          </a:xfrm>
        </p:grpSpPr>
        <p:sp>
          <p:nvSpPr>
            <p:cNvPr id="92" name=""/>
            <p:cNvSpPr/>
            <p:nvPr/>
          </p:nvSpPr>
          <p:spPr>
            <a:xfrm>
              <a:off x="2719440" y="3648240"/>
              <a:ext cx="1471680" cy="461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95680" y="3664080"/>
              <a:ext cx="1442880" cy="4546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H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928800" y="3627360"/>
            <a:ext cx="1766880" cy="471240"/>
            <a:chOff x="928800" y="3627360"/>
            <a:chExt cx="1766880" cy="471240"/>
          </a:xfrm>
        </p:grpSpPr>
        <p:sp>
          <p:nvSpPr>
            <p:cNvPr id="95" name=""/>
            <p:cNvSpPr/>
            <p:nvPr/>
          </p:nvSpPr>
          <p:spPr>
            <a:xfrm>
              <a:off x="955800" y="3654360"/>
              <a:ext cx="1739880" cy="4442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28800" y="3627360"/>
              <a:ext cx="163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rig I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672920" y="4510080"/>
            <a:ext cx="66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ity hash coverage (except for mutable fields in IP hd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9960" y="4387680"/>
            <a:ext cx="74419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728800" y="2930400"/>
            <a:ext cx="627120" cy="682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97320" y="2973240"/>
            <a:ext cx="768240" cy="640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57400" y="3173400"/>
            <a:ext cx="10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Ins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6618240"/>
            <a:ext cx="23623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0 Microsoft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PSec AH in Tunnel Mod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576440" y="1981080"/>
            <a:ext cx="5958000" cy="471600"/>
            <a:chOff x="1576440" y="1981080"/>
            <a:chExt cx="5958000" cy="471600"/>
          </a:xfrm>
        </p:grpSpPr>
        <p:sp>
          <p:nvSpPr>
            <p:cNvPr id="105" name=""/>
            <p:cNvSpPr/>
            <p:nvPr/>
          </p:nvSpPr>
          <p:spPr>
            <a:xfrm>
              <a:off x="1603440" y="2008080"/>
              <a:ext cx="1739880" cy="4446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55920" y="2008080"/>
              <a:ext cx="1282680" cy="4446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51200" y="2008080"/>
              <a:ext cx="2883240" cy="4446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57000" y="198108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29280" y="1981080"/>
              <a:ext cx="1289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C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76440" y="1981080"/>
              <a:ext cx="163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rig I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824120" y="4405320"/>
            <a:ext cx="68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ity hash coverage (except for mutable new IP hdr field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4295880"/>
            <a:ext cx="8640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5960" y="3533760"/>
            <a:ext cx="1447920" cy="45720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 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84600" y="3533760"/>
            <a:ext cx="228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17560" y="3533760"/>
            <a:ext cx="1354320" cy="45468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 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3520" y="3581280"/>
            <a:ext cx="838080" cy="1447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33520" y="3581280"/>
            <a:ext cx="838080" cy="1447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93720" y="2471760"/>
            <a:ext cx="1447920" cy="1012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37320" y="2482920"/>
            <a:ext cx="1382760" cy="1050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13200" y="3517920"/>
            <a:ext cx="5957280" cy="471600"/>
            <a:chOff x="3013200" y="3517920"/>
            <a:chExt cx="5957280" cy="471600"/>
          </a:xfrm>
        </p:grpSpPr>
        <p:sp>
          <p:nvSpPr>
            <p:cNvPr id="121" name=""/>
            <p:cNvSpPr/>
            <p:nvPr/>
          </p:nvSpPr>
          <p:spPr>
            <a:xfrm>
              <a:off x="3039840" y="3544920"/>
              <a:ext cx="1739520" cy="4446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92320" y="3544920"/>
              <a:ext cx="1282320" cy="4446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87600" y="3544920"/>
              <a:ext cx="2882880" cy="4446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93040" y="351792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65680" y="3517920"/>
              <a:ext cx="1289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C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13200" y="3517920"/>
              <a:ext cx="163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rig I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04800" y="5338800"/>
            <a:ext cx="43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IP header with source &amp; destination IP add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4800">
            <a:off x="436320" y="3971520"/>
            <a:ext cx="1149480" cy="1358640"/>
          </a:xfrm>
          <a:custGeom>
            <a:avLst/>
            <a:gdLst>
              <a:gd name="textAreaLeft" fmla="*/ 734400 w 1149480"/>
              <a:gd name="textAreaRight" fmla="*/ 1149840 w 1149480"/>
              <a:gd name="textAreaTop" fmla="*/ 35280 h 1358640"/>
              <a:gd name="textAreaBottom" fmla="*/ 1323360 h 135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43"/>
                </a:lnTo>
                <a:cubicBezTo>
                  <a:pt x="10800" y="9143"/>
                  <a:pt x="5400" y="10043"/>
                  <a:pt x="0" y="10043"/>
                </a:cubicBezTo>
                <a:cubicBezTo>
                  <a:pt x="5400" y="10043"/>
                  <a:pt x="10800" y="10943"/>
                  <a:pt x="10800" y="118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6618240"/>
            <a:ext cx="23623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0 Microsoft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515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PSec ESP in Transport Mod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98800" y="2359080"/>
            <a:ext cx="1282680" cy="44460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94440" y="2359080"/>
            <a:ext cx="1822320" cy="44460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99880" y="233208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2160" y="2332080"/>
            <a:ext cx="128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CP 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119320" y="2332080"/>
            <a:ext cx="1766880" cy="471600"/>
            <a:chOff x="2119320" y="2332080"/>
            <a:chExt cx="1766880" cy="471600"/>
          </a:xfrm>
        </p:grpSpPr>
        <p:sp>
          <p:nvSpPr>
            <p:cNvPr id="136" name=""/>
            <p:cNvSpPr/>
            <p:nvPr/>
          </p:nvSpPr>
          <p:spPr>
            <a:xfrm>
              <a:off x="2146320" y="2359080"/>
              <a:ext cx="1739880" cy="4446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19320" y="2332080"/>
              <a:ext cx="163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rig I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456080" y="3403440"/>
            <a:ext cx="1496880" cy="462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61880" y="338292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84920" y="3400560"/>
            <a:ext cx="1289520" cy="454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CP 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24200" y="3400560"/>
            <a:ext cx="1269720" cy="45468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P 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0920" y="3373560"/>
            <a:ext cx="1677600" cy="482040"/>
            <a:chOff x="250920" y="3373560"/>
            <a:chExt cx="1677600" cy="482040"/>
          </a:xfrm>
        </p:grpSpPr>
        <p:sp>
          <p:nvSpPr>
            <p:cNvPr id="143" name=""/>
            <p:cNvSpPr/>
            <p:nvPr/>
          </p:nvSpPr>
          <p:spPr>
            <a:xfrm>
              <a:off x="276480" y="3400920"/>
              <a:ext cx="1652040" cy="454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0920" y="3373560"/>
              <a:ext cx="163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rig I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958000" y="3402000"/>
            <a:ext cx="1622160" cy="454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P Trai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539120" y="3400560"/>
            <a:ext cx="1397880" cy="454680"/>
            <a:chOff x="7539120" y="3400560"/>
            <a:chExt cx="1397880" cy="454680"/>
          </a:xfrm>
        </p:grpSpPr>
        <p:sp>
          <p:nvSpPr>
            <p:cNvPr id="147" name=""/>
            <p:cNvSpPr/>
            <p:nvPr/>
          </p:nvSpPr>
          <p:spPr>
            <a:xfrm>
              <a:off x="7539120" y="3400560"/>
              <a:ext cx="1295280" cy="444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5600" y="3400560"/>
              <a:ext cx="1391400" cy="4546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SP Au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225960" y="4037040"/>
            <a:ext cx="4252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48840" y="40338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encryp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4320" y="4541760"/>
            <a:ext cx="54831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43600" y="458640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ity hash cover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933200" y="2809800"/>
            <a:ext cx="1933560" cy="555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212640" y="2822400"/>
            <a:ext cx="668520" cy="528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970600" y="2809800"/>
            <a:ext cx="1052640" cy="58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51680" y="2809800"/>
            <a:ext cx="1862280" cy="54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51040" y="2900520"/>
            <a:ext cx="10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31120" y="2903400"/>
            <a:ext cx="12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6618240"/>
            <a:ext cx="23623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0 Microsoft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PSec ESP Tunnel Mod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19320" y="1981080"/>
            <a:ext cx="4897440" cy="471600"/>
            <a:chOff x="2119320" y="1981080"/>
            <a:chExt cx="4897440" cy="471600"/>
          </a:xfrm>
        </p:grpSpPr>
        <p:sp>
          <p:nvSpPr>
            <p:cNvPr id="162" name=""/>
            <p:cNvSpPr/>
            <p:nvPr/>
          </p:nvSpPr>
          <p:spPr>
            <a:xfrm>
              <a:off x="3898800" y="2008080"/>
              <a:ext cx="1282680" cy="4446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94440" y="2008080"/>
              <a:ext cx="1822320" cy="4446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99880" y="198108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72160" y="1981080"/>
              <a:ext cx="1289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C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119320" y="1981080"/>
              <a:ext cx="1766880" cy="471600"/>
              <a:chOff x="2119320" y="1981080"/>
              <a:chExt cx="1766880" cy="471600"/>
            </a:xfrm>
          </p:grpSpPr>
          <p:sp>
            <p:nvSpPr>
              <p:cNvPr id="167" name=""/>
              <p:cNvSpPr/>
              <p:nvPr/>
            </p:nvSpPr>
            <p:spPr>
              <a:xfrm>
                <a:off x="2146320" y="2008080"/>
                <a:ext cx="1739880" cy="44460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19320" y="1981080"/>
                <a:ext cx="1638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Orig IP Hd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5958000" y="3051000"/>
            <a:ext cx="1622160" cy="454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P Trai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539120" y="3049560"/>
            <a:ext cx="1397880" cy="454680"/>
            <a:chOff x="7539120" y="3049560"/>
            <a:chExt cx="1397880" cy="454680"/>
          </a:xfrm>
        </p:grpSpPr>
        <p:sp>
          <p:nvSpPr>
            <p:cNvPr id="171" name=""/>
            <p:cNvSpPr/>
            <p:nvPr/>
          </p:nvSpPr>
          <p:spPr>
            <a:xfrm>
              <a:off x="7539120" y="3049560"/>
              <a:ext cx="1295280" cy="444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45600" y="3049560"/>
              <a:ext cx="1391400" cy="4546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SP Au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70240" y="3670200"/>
            <a:ext cx="5108400" cy="15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48840" y="368316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encryp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4114800"/>
            <a:ext cx="63262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43600" y="423540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ity hash cover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0" y="3032280"/>
            <a:ext cx="5952960" cy="482400"/>
            <a:chOff x="0" y="3032280"/>
            <a:chExt cx="5952960" cy="482400"/>
          </a:xfrm>
        </p:grpSpPr>
        <p:sp>
          <p:nvSpPr>
            <p:cNvPr id="178" name=""/>
            <p:cNvSpPr/>
            <p:nvPr/>
          </p:nvSpPr>
          <p:spPr>
            <a:xfrm>
              <a:off x="4876920" y="3048120"/>
              <a:ext cx="1076040" cy="46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61880" y="303228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3048120"/>
              <a:ext cx="1303560" cy="454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C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43000" y="3048120"/>
              <a:ext cx="1270080" cy="4546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S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048120"/>
              <a:ext cx="1214280" cy="4546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P 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3048120"/>
              <a:ext cx="1150920" cy="454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PH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162160" y="2495520"/>
            <a:ext cx="198360" cy="506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979960" y="2484360"/>
            <a:ext cx="1038240" cy="517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2880" y="4807080"/>
            <a:ext cx="57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IP header with source &amp; destination IP add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6204800">
            <a:off x="-360" y="3544200"/>
            <a:ext cx="1149120" cy="1147680"/>
          </a:xfrm>
          <a:custGeom>
            <a:avLst/>
            <a:gdLst>
              <a:gd name="textAreaLeft" fmla="*/ 734040 w 1149120"/>
              <a:gd name="textAreaRight" fmla="*/ 1149480 w 1149120"/>
              <a:gd name="textAreaTop" fmla="*/ 29880 h 1147680"/>
              <a:gd name="textAreaBottom" fmla="*/ 1117800 h 114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43"/>
                </a:lnTo>
                <a:cubicBezTo>
                  <a:pt x="10800" y="9143"/>
                  <a:pt x="5400" y="10043"/>
                  <a:pt x="0" y="10043"/>
                </a:cubicBezTo>
                <a:cubicBezTo>
                  <a:pt x="5400" y="10043"/>
                  <a:pt x="10800" y="10943"/>
                  <a:pt x="10800" y="118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81680" y="6618240"/>
            <a:ext cx="23623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0 Microsoft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PSec Basic Archite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Sec Dr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cy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Key Exchange (IKE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1828800"/>
            <a:ext cx="1828800" cy="19051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3048120"/>
            <a:ext cx="114300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572000"/>
            <a:ext cx="17524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37339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620120" y="37339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43800" y="27432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y 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388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Sec 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4572000"/>
            <a:ext cx="137160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464832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CP/IP 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714640" y="4800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5000" y="5181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PSec Driv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tors and Secures IP traf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ryption and Authentication of outbound pac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yption and Authentication of inbound pac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pts IKE to negotiate secure channels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s secure channel state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licy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s IPSec policy and state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ributes filter rule sets to the IPSec Dr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ributes authentication and security settings to I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K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otiates secure channels based on settings received from the Policy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ributes secure channel information to the IPSec dr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It All Fits Togeth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914400" cy="833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7772400" y="2971800"/>
            <a:ext cx="914400" cy="8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3657600" y="2666880"/>
          <a:ext cx="182880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666880"/>
                    <a:ext cx="1828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86000" y="2743200"/>
          <a:ext cx="9144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743200"/>
                    <a:ext cx="914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943600" y="2971800"/>
          <a:ext cx="91440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29718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438280" y="1752480"/>
          <a:ext cx="4114800" cy="37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1752480"/>
                    <a:ext cx="41148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21" name=""/>
          <p:cNvCxnSpPr>
            <a:stCxn id="211" idx="0"/>
          </p:cNvCxnSpPr>
          <p:nvPr/>
        </p:nvCxnSpPr>
        <p:spPr>
          <a:xfrm flipH="1" flipV="1" rot="5400000">
            <a:off x="1198800" y="1656000"/>
            <a:ext cx="954720" cy="15246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22" name=""/>
          <p:cNvCxnSpPr>
            <a:endCxn id="212" idx="0"/>
          </p:cNvCxnSpPr>
          <p:nvPr/>
        </p:nvCxnSpPr>
        <p:spPr>
          <a:xfrm>
            <a:off x="6552720" y="1941480"/>
            <a:ext cx="1677240" cy="103104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4191120" y="1751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nn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1523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nding in Transport M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1676520" cy="15238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657600" y="160020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05740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251460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97180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251460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S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441972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441972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441972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S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4419720"/>
            <a:ext cx="9144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419720"/>
            <a:ext cx="9144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4343400"/>
            <a:ext cx="1600200" cy="609480"/>
          </a:xfrm>
          <a:prstGeom prst="rightArrow">
            <a:avLst>
              <a:gd name="adj1" fmla="val 50000"/>
              <a:gd name="adj2" fmla="val 65638"/>
            </a:avLst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PSe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two modes of pro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nnel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port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hentication and Integ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denti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y Pro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nding in Tunnel M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342900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342900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342900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S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3429000"/>
            <a:ext cx="9144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43600" y="3429000"/>
            <a:ext cx="9144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3352680"/>
            <a:ext cx="1600200" cy="609840"/>
          </a:xfrm>
          <a:prstGeom prst="rightArrow">
            <a:avLst>
              <a:gd name="adj1" fmla="val 50000"/>
              <a:gd name="adj2" fmla="val 65599"/>
            </a:avLst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434340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434340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S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4343400"/>
            <a:ext cx="9144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4343400"/>
            <a:ext cx="9144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5181480"/>
            <a:ext cx="91440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5181480"/>
            <a:ext cx="9144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S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5181480"/>
            <a:ext cx="914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5181480"/>
            <a:ext cx="914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0" y="518148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S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518148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518148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5105520"/>
            <a:ext cx="1600200" cy="609480"/>
          </a:xfrm>
          <a:prstGeom prst="rightArrow">
            <a:avLst>
              <a:gd name="adj1" fmla="val 50000"/>
              <a:gd name="adj2" fmla="val 65638"/>
            </a:avLst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886200" y="1676520"/>
          <a:ext cx="1371600" cy="1371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1676520"/>
                    <a:ext cx="13716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2666880" y="175248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220968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175248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S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175248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220968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0" y="175248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S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eiving in Tunnel M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10552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3400" y="510552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510552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S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5105520"/>
            <a:ext cx="9144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86600" y="5105520"/>
            <a:ext cx="9144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86200" y="1676520"/>
          <a:ext cx="13716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676520"/>
                    <a:ext cx="13716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380880" y="3352680"/>
            <a:ext cx="990720" cy="60984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67080" y="426708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1480" y="426708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S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5880" y="4267080"/>
            <a:ext cx="91440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10280" y="4267080"/>
            <a:ext cx="9144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67080" y="3429000"/>
            <a:ext cx="914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3429000"/>
            <a:ext cx="914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S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5880" y="3429000"/>
            <a:ext cx="9144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3429000"/>
            <a:ext cx="914400" cy="4572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342900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S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38280" y="342900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3880" y="342900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29600" y="502920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66880" y="175248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66880" y="220968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175248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S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62720" y="175248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2720" y="220968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175248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S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eiving in Transport M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1676520" cy="15238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3657600" y="160020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57600" y="205740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57600" y="251460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57600" y="297180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62320" y="251460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S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33920" y="441972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48320" y="441972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4419720"/>
            <a:ext cx="914400" cy="45720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PS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77120" y="4419720"/>
            <a:ext cx="9144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1520" y="4419720"/>
            <a:ext cx="9144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4343400"/>
            <a:ext cx="1600200" cy="609480"/>
          </a:xfrm>
          <a:prstGeom prst="rightArrow">
            <a:avLst>
              <a:gd name="adj1" fmla="val 50000"/>
              <a:gd name="adj2" fmla="val 65638"/>
            </a:avLst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yer Two Tunneling Protocol (L2TP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PPP encapsulation over 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P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n’t Prov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ethod of encryption for it’s traf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ion against injection of packets into an open L2TP s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L2TP Wor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16240" y="2036880"/>
            <a:ext cx="2259000" cy="4554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97400" y="4964040"/>
            <a:ext cx="1077840" cy="10526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2T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62560" y="5540400"/>
            <a:ext cx="1012680" cy="4557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16240" y="4367160"/>
            <a:ext cx="2259000" cy="4557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river Lay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16240" y="2813040"/>
            <a:ext cx="2259000" cy="4557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CP, UD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16240" y="4964040"/>
            <a:ext cx="1123920" cy="4557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14800" y="3392640"/>
            <a:ext cx="2259000" cy="841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16240" y="3948120"/>
            <a:ext cx="971640" cy="2937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S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92840" y="3498840"/>
            <a:ext cx="4932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53040" y="1523880"/>
            <a:ext cx="19850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2TP/IPSe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38640" y="2347920"/>
            <a:ext cx="1800" cy="3200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943520" y="2635200"/>
            <a:ext cx="957240" cy="3360600"/>
            <a:chOff x="4943520" y="2635200"/>
            <a:chExt cx="957240" cy="3360600"/>
          </a:xfrm>
        </p:grpSpPr>
        <p:sp>
          <p:nvSpPr>
            <p:cNvPr id="320" name=""/>
            <p:cNvSpPr/>
            <p:nvPr/>
          </p:nvSpPr>
          <p:spPr>
            <a:xfrm>
              <a:off x="4943520" y="2635200"/>
              <a:ext cx="957240" cy="3200400"/>
            </a:xfrm>
            <a:custGeom>
              <a:avLst/>
              <a:gdLst/>
              <a:ahLst/>
              <a:rect l="l" t="t" r="r" b="b"/>
              <a:pathLst>
                <a:path w="720" h="2016">
                  <a:moveTo>
                    <a:pt x="432" y="2016"/>
                  </a:moveTo>
                  <a:lnTo>
                    <a:pt x="720" y="2016"/>
                  </a:lnTo>
                  <a:lnTo>
                    <a:pt x="720" y="0"/>
                  </a:lnTo>
                  <a:lnTo>
                    <a:pt x="0" y="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29880" y="5657760"/>
              <a:ext cx="282960" cy="338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043520" y="3105000"/>
            <a:ext cx="927000" cy="949320"/>
          </a:xfrm>
          <a:custGeom>
            <a:avLst/>
            <a:gdLst/>
            <a:ahLst/>
            <a:rect l="l" t="t" r="r" b="b"/>
            <a:pathLst>
              <a:path w="584" h="598">
                <a:moveTo>
                  <a:pt x="569" y="0"/>
                </a:moveTo>
                <a:lnTo>
                  <a:pt x="584" y="456"/>
                </a:lnTo>
                <a:lnTo>
                  <a:pt x="309" y="523"/>
                </a:lnTo>
                <a:lnTo>
                  <a:pt x="0" y="598"/>
                </a:ln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27760" y="3506760"/>
            <a:ext cx="338040" cy="33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276720" y="4011480"/>
            <a:ext cx="338040" cy="2922120"/>
            <a:chOff x="3276720" y="4011480"/>
            <a:chExt cx="338040" cy="2922120"/>
          </a:xfrm>
        </p:grpSpPr>
        <p:grpSp>
          <p:nvGrpSpPr>
            <p:cNvPr id="325" name=""/>
            <p:cNvGrpSpPr/>
            <p:nvPr/>
          </p:nvGrpSpPr>
          <p:grpSpPr>
            <a:xfrm>
              <a:off x="3524400" y="4140720"/>
              <a:ext cx="0" cy="2792880"/>
              <a:chOff x="3524400" y="4140720"/>
              <a:chExt cx="0" cy="2792880"/>
            </a:xfrm>
          </p:grpSpPr>
          <p:sp>
            <p:nvSpPr>
              <p:cNvPr id="326" name=""/>
              <p:cNvSpPr/>
              <p:nvPr/>
            </p:nvSpPr>
            <p:spPr>
              <a:xfrm>
                <a:off x="3524400" y="4140720"/>
                <a:ext cx="0" cy="2792880"/>
              </a:xfrm>
              <a:prstGeom prst="line">
                <a:avLst/>
              </a:prstGeom>
              <a:ln w="10152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24400" y="4140720"/>
                <a:ext cx="0" cy="2548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276720" y="4011480"/>
              <a:ext cx="338040" cy="39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746520" y="2544840"/>
            <a:ext cx="942840" cy="2347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KE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375000" y="2459160"/>
            <a:ext cx="415800" cy="1528200"/>
            <a:chOff x="3375000" y="2459160"/>
            <a:chExt cx="415800" cy="1528200"/>
          </a:xfrm>
        </p:grpSpPr>
        <p:sp>
          <p:nvSpPr>
            <p:cNvPr id="331" name=""/>
            <p:cNvSpPr/>
            <p:nvPr/>
          </p:nvSpPr>
          <p:spPr>
            <a:xfrm>
              <a:off x="3431880" y="2459160"/>
              <a:ext cx="337680" cy="337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75000" y="2722320"/>
              <a:ext cx="415800" cy="1265040"/>
            </a:xfrm>
            <a:custGeom>
              <a:avLst/>
              <a:gdLst/>
              <a:ahLst/>
              <a:rect l="l" t="t" r="r" b="b"/>
              <a:pathLst>
                <a:path w="262" h="797">
                  <a:moveTo>
                    <a:pt x="262" y="21"/>
                  </a:moveTo>
                  <a:cubicBezTo>
                    <a:pt x="143" y="10"/>
                    <a:pt x="24" y="0"/>
                    <a:pt x="12" y="129"/>
                  </a:cubicBezTo>
                  <a:cubicBezTo>
                    <a:pt x="0" y="258"/>
                    <a:pt x="93" y="527"/>
                    <a:pt x="187" y="79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044960" y="2763720"/>
            <a:ext cx="982800" cy="4116960"/>
            <a:chOff x="4044960" y="2763720"/>
            <a:chExt cx="982800" cy="4116960"/>
          </a:xfrm>
        </p:grpSpPr>
        <p:grpSp>
          <p:nvGrpSpPr>
            <p:cNvPr id="334" name=""/>
            <p:cNvGrpSpPr/>
            <p:nvPr/>
          </p:nvGrpSpPr>
          <p:grpSpPr>
            <a:xfrm>
              <a:off x="4100760" y="2763720"/>
              <a:ext cx="602640" cy="3906360"/>
              <a:chOff x="4100760" y="2763720"/>
              <a:chExt cx="602640" cy="3906360"/>
            </a:xfrm>
          </p:grpSpPr>
          <p:sp>
            <p:nvSpPr>
              <p:cNvPr id="335" name=""/>
              <p:cNvSpPr/>
              <p:nvPr/>
            </p:nvSpPr>
            <p:spPr>
              <a:xfrm>
                <a:off x="4322520" y="3260520"/>
                <a:ext cx="380880" cy="41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4100760" y="2763720"/>
                <a:ext cx="343440" cy="3906360"/>
              </a:xfrm>
              <a:prstGeom prst="line">
                <a:avLst/>
              </a:prstGeom>
              <a:ln w="38160">
                <a:solidFill>
                  <a:srgbClr val="6699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4044960" y="6540120"/>
              <a:ext cx="9828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rber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authentication of network server and cl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Kerberos Provi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ual authentication of pa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209680" y="304812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057400" y="3047760"/>
            <a:ext cx="0" cy="1447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52680" y="304812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200400" y="3047760"/>
            <a:ext cx="0" cy="1447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Kerberos Wor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508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05120" y="1752480"/>
            <a:ext cx="1523880" cy="129564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4343400"/>
            <a:ext cx="1600200" cy="762120"/>
          </a:xfrm>
          <a:prstGeom prst="ellipse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4343400"/>
            <a:ext cx="1981440" cy="76212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29000" y="4724280"/>
            <a:ext cx="2438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5120" y="2514600"/>
            <a:ext cx="761760" cy="53352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6880" y="2514600"/>
            <a:ext cx="762120" cy="533520"/>
          </a:xfrm>
          <a:prstGeom prst="rect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35053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uthorization Reques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3505320"/>
            <a:ext cx="68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icket Granting Tick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66880" y="3276720"/>
            <a:ext cx="60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icket Reques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29000" y="35812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ick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14800" y="44956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ick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987720" y="1828800"/>
            <a:ext cx="1575000" cy="1143000"/>
            <a:chOff x="3987720" y="1828800"/>
            <a:chExt cx="1575000" cy="1143000"/>
          </a:xfrm>
        </p:grpSpPr>
        <p:sp>
          <p:nvSpPr>
            <p:cNvPr id="360" name=""/>
            <p:cNvSpPr/>
            <p:nvPr/>
          </p:nvSpPr>
          <p:spPr>
            <a:xfrm>
              <a:off x="3987720" y="1828800"/>
              <a:ext cx="1575000" cy="114300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324b00"/>
                </a:gs>
                <a:gs pos="100000">
                  <a:srgbClr val="669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81880" y="2182320"/>
              <a:ext cx="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11320" y="2080800"/>
              <a:ext cx="138600" cy="932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4636440" y="2332440"/>
              <a:ext cx="145440" cy="19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95920" y="2343960"/>
              <a:ext cx="217440" cy="20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14200" y="2265480"/>
              <a:ext cx="136800" cy="943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369680" y="2580120"/>
              <a:ext cx="243720" cy="23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36440" y="2572920"/>
              <a:ext cx="260280" cy="2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36440" y="2567520"/>
              <a:ext cx="0" cy="25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19120" y="2556000"/>
              <a:ext cx="148320" cy="25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02360" y="2768040"/>
              <a:ext cx="138600" cy="932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49640" y="2514960"/>
              <a:ext cx="138600" cy="932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61560" y="2514960"/>
              <a:ext cx="136800" cy="932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91120" y="2768040"/>
              <a:ext cx="138600" cy="932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26160" y="2768040"/>
              <a:ext cx="137160" cy="932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66960" y="2768040"/>
              <a:ext cx="138600" cy="932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76" name=""/>
          <p:cNvCxnSpPr>
            <a:stCxn id="348" idx="3"/>
            <a:endCxn id="360" idx="1"/>
          </p:cNvCxnSpPr>
          <p:nvPr/>
        </p:nvCxnSpPr>
        <p:spPr>
          <a:xfrm>
            <a:off x="3429000" y="2400120"/>
            <a:ext cx="95328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blic Key Infrastructure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Public Keys Are Used for Authent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unnel M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apsulates the entire IP packet within IPSec pro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nnels can be created between several different nod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teway to gate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st to gate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st to h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’s In a Certifica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PKI Wor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ree Types of Tunn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914400" cy="833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772400" y="2057400"/>
            <a:ext cx="914400" cy="8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3657600" y="1752480"/>
          <a:ext cx="182880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752480"/>
                    <a:ext cx="1828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286000" y="2057400"/>
          <a:ext cx="91440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0574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943600" y="2057400"/>
          <a:ext cx="91440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20574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438280" y="3429000"/>
          <a:ext cx="4114800" cy="37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429000"/>
                    <a:ext cx="41148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43000" y="4343400"/>
          <a:ext cx="5486400" cy="37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4343400"/>
                    <a:ext cx="5486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143000" y="5257800"/>
          <a:ext cx="6934320" cy="37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5257800"/>
                    <a:ext cx="69343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1" name=""/>
          <p:cNvCxnSpPr>
            <a:stCxn id="47" idx="2"/>
          </p:cNvCxnSpPr>
          <p:nvPr/>
        </p:nvCxnSpPr>
        <p:spPr>
          <a:xfrm flipH="1" rot="16200000">
            <a:off x="1273680" y="2454120"/>
            <a:ext cx="804240" cy="15246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2" name=""/>
          <p:cNvCxnSpPr>
            <a:endCxn id="47" idx="2"/>
          </p:cNvCxnSpPr>
          <p:nvPr/>
        </p:nvCxnSpPr>
        <p:spPr>
          <a:xfrm rot="10800000">
            <a:off x="913680" y="2813760"/>
            <a:ext cx="229320" cy="171864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3" name=""/>
          <p:cNvCxnSpPr>
            <a:endCxn id="47" idx="2"/>
          </p:cNvCxnSpPr>
          <p:nvPr/>
        </p:nvCxnSpPr>
        <p:spPr>
          <a:xfrm rot="10800000">
            <a:off x="913680" y="2813760"/>
            <a:ext cx="229320" cy="263304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4" name=""/>
          <p:cNvCxnSpPr>
            <a:endCxn id="48" idx="2"/>
          </p:cNvCxnSpPr>
          <p:nvPr/>
        </p:nvCxnSpPr>
        <p:spPr>
          <a:xfrm flipV="1">
            <a:off x="6552720" y="2890800"/>
            <a:ext cx="1677240" cy="7275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5" name=""/>
          <p:cNvCxnSpPr>
            <a:endCxn id="48" idx="2"/>
          </p:cNvCxnSpPr>
          <p:nvPr/>
        </p:nvCxnSpPr>
        <p:spPr>
          <a:xfrm flipV="1">
            <a:off x="6629040" y="2890440"/>
            <a:ext cx="1600920" cy="16423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6" name=""/>
          <p:cNvCxnSpPr>
            <a:endCxn id="48" idx="2"/>
          </p:cNvCxnSpPr>
          <p:nvPr/>
        </p:nvCxnSpPr>
        <p:spPr>
          <a:xfrm flipV="1">
            <a:off x="8076960" y="2890440"/>
            <a:ext cx="153000" cy="25567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3886200" y="525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to 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343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to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3428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eway to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nsport M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apsulates only the transport layer information within IPSec pro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only be created between host 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thentication and Integr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ification of the origi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rance that data sent is the data recei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rance that the network headers have not changed since the data was 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fidenti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rypts data to protect against eavesdro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hide data source when encryption is used over a tu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play Preven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retransmitted packets to be dropp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PSec Protection Protoc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hentication Hea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henticates payloa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henticates network h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s anti-replay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apsulated Security Payl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rypts payloa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henticates payloa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s anti-replay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02:50:56Z</dcterms:created>
  <dc:creator>Dan Kurc</dc:creator>
  <dc:description/>
  <dc:language>en-US</dc:language>
  <cp:lastModifiedBy>Ping Look</cp:lastModifiedBy>
  <dcterms:modified xsi:type="dcterms:W3CDTF">2001-02-02T02:08:50Z</dcterms:modified>
  <cp:revision>11</cp:revision>
  <dc:subject/>
  <dc:title>Protocol Basics</dc:title>
</cp:coreProperties>
</file>