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B4-1154-4334-B909-8A5FB6A1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9C0-84F6-422F-BD44-82497DB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A37-9A28-4AF2-9778-EC072711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1A6-0EB5-45ED-9D5A-40FEDE1A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D9B-80F9-4F49-A4B3-EFBDE25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A07-D7BE-4424-BEB7-CBEE6F9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74F-A468-406D-9E28-76D92658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254-57E3-4ED7-81D2-A7DBD49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88D-52A0-41DC-ACB1-4D09D9E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826-2411-4575-8F2A-E4C25AF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6EC-6A97-4780-95BD-7F2FA2E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6F9-0146-439A-8D78-C7BEBB2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A13-2FBE-4E8E-829E-593D1F34C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Sec In Dep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Mode (Kerbero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1800" y="3429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800" y="36576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343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800" y="4572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2578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971800" y="5486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5909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niti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750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spo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26088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A Proposa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35053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elected SA Propos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114800"/>
            <a:ext cx="3276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Kerberos Token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4419720"/>
            <a:ext cx="32004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Kerberos Token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1676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Hash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5318280"/>
            <a:ext cx="16765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Hash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4952880"/>
            <a:ext cx="8839440" cy="106704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600" y="4876920"/>
            <a:ext cx="201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ff"/>
                </a:solidFill>
                <a:latin typeface="Times New Roman"/>
              </a:rPr>
              <a:t>Encryp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Mode (Certificat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71800" y="3429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971800" y="36576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343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971800" y="4572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52578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971800" y="5486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909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niti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5750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spo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75280"/>
            <a:ext cx="327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5089680"/>
            <a:ext cx="29718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Certificat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Signatur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Certificate Reque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4419720"/>
            <a:ext cx="3200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Certificate Reque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5318280"/>
            <a:ext cx="2209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Certificat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Signatur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4952880"/>
            <a:ext cx="8839440" cy="106704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0600" y="4876920"/>
            <a:ext cx="201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ff"/>
                </a:solidFill>
                <a:latin typeface="Times New Roman"/>
              </a:rPr>
              <a:t>Encryp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26088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A Proposa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5053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elected SA Propos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Mode (Pre-shared Key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971800" y="3429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971800" y="36576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343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71800" y="4572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2578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800" y="5486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5909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niti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5750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spo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175280"/>
            <a:ext cx="327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5089680"/>
            <a:ext cx="1676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Hash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4419720"/>
            <a:ext cx="3200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D-H Key Exchange, Nonce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5318280"/>
            <a:ext cx="16765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d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, Hash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952880"/>
            <a:ext cx="8839440" cy="106704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600" y="4876920"/>
            <a:ext cx="201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ff"/>
                </a:solidFill>
                <a:latin typeface="Times New Roman"/>
              </a:rPr>
              <a:t>Encryp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26088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A Proposa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053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Selected SA Propos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raffic is encrypted using the ISAKMP Security Assoc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quick mode negotiation results in two IPSec Security Associations (one inbound, one outbou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Mode Negot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3429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971800" y="38862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48006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971800" y="52578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648320"/>
            <a:ext cx="16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Has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105520"/>
            <a:ext cx="2666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Connected Notifica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819520"/>
            <a:ext cx="8839440" cy="320040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0600" y="2803680"/>
            <a:ext cx="201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ff"/>
                </a:solidFill>
                <a:latin typeface="Times New Roman"/>
              </a:rPr>
              <a:t>Encryp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05120" y="25909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niti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5750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spo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1808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PSec Selected 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60880"/>
            <a:ext cx="243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eader, IPSec Proposed 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apsulated Security Payload (ES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encrypt and/or authenticate in each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ryption occurs before authen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entication is applied to data in the IPSec header as well as the data contained as pay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515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Encapsulating Security Payload (ESP) in Transport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8800" y="2008080"/>
            <a:ext cx="12826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4440" y="2008080"/>
            <a:ext cx="182232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99880" y="198108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2160" y="198108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19320" y="1981080"/>
            <a:ext cx="1766880" cy="471600"/>
            <a:chOff x="2119320" y="1981080"/>
            <a:chExt cx="1766880" cy="471600"/>
          </a:xfrm>
        </p:grpSpPr>
        <p:sp>
          <p:nvSpPr>
            <p:cNvPr id="50" name=""/>
            <p:cNvSpPr/>
            <p:nvPr/>
          </p:nvSpPr>
          <p:spPr>
            <a:xfrm>
              <a:off x="2146320" y="2008080"/>
              <a:ext cx="173988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9320" y="198108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456080" y="3052800"/>
            <a:ext cx="1496880" cy="46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1880" y="303228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4920" y="3049560"/>
            <a:ext cx="1289520" cy="454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24200" y="3049560"/>
            <a:ext cx="126972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0920" y="3022560"/>
            <a:ext cx="1677600" cy="482400"/>
            <a:chOff x="250920" y="3022560"/>
            <a:chExt cx="1677600" cy="482400"/>
          </a:xfrm>
        </p:grpSpPr>
        <p:sp>
          <p:nvSpPr>
            <p:cNvPr id="57" name=""/>
            <p:cNvSpPr/>
            <p:nvPr/>
          </p:nvSpPr>
          <p:spPr>
            <a:xfrm>
              <a:off x="276480" y="3049920"/>
              <a:ext cx="1652040" cy="4550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0920" y="302256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958000" y="3051000"/>
            <a:ext cx="1622160" cy="45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Tra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539120" y="3049560"/>
            <a:ext cx="1397880" cy="454680"/>
            <a:chOff x="7539120" y="3049560"/>
            <a:chExt cx="1397880" cy="454680"/>
          </a:xfrm>
        </p:grpSpPr>
        <p:sp>
          <p:nvSpPr>
            <p:cNvPr id="61" name=""/>
            <p:cNvSpPr/>
            <p:nvPr/>
          </p:nvSpPr>
          <p:spPr>
            <a:xfrm>
              <a:off x="7539120" y="3049560"/>
              <a:ext cx="1295280" cy="444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45600" y="3049560"/>
              <a:ext cx="1391400" cy="454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Au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25960" y="3686040"/>
            <a:ext cx="42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48840" y="36831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encryp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4320" y="4191120"/>
            <a:ext cx="5483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3600" y="42354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200" y="5175360"/>
            <a:ext cx="244620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Param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89720" y="5873760"/>
            <a:ext cx="194328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dd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1120" y="3544920"/>
            <a:ext cx="143676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91040" y="3562200"/>
            <a:ext cx="1773000" cy="1621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900520" y="3540240"/>
            <a:ext cx="3060720" cy="2322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13560" y="3562200"/>
            <a:ext cx="69840" cy="228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199280" y="3544920"/>
            <a:ext cx="349200" cy="1609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852040" y="3559320"/>
            <a:ext cx="102960" cy="16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5240" y="5873760"/>
            <a:ext cx="150264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d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57600" y="5873760"/>
            <a:ext cx="124812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5175360"/>
            <a:ext cx="81252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94600" y="5187960"/>
            <a:ext cx="167940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ed H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760" y="594360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-36 bytes to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1440" y="5175360"/>
            <a:ext cx="147348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V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33200" y="2459160"/>
            <a:ext cx="1933560" cy="55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12640" y="2471760"/>
            <a:ext cx="668520" cy="528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970600" y="2459160"/>
            <a:ext cx="1052640" cy="583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51680" y="2459160"/>
            <a:ext cx="1862280" cy="54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360" y="6227640"/>
            <a:ext cx="29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 is IP protocol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1040" y="2549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31120" y="255276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62292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ESP Tunnel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19320" y="1981080"/>
            <a:ext cx="4897440" cy="471600"/>
            <a:chOff x="2119320" y="1981080"/>
            <a:chExt cx="4897440" cy="471600"/>
          </a:xfrm>
        </p:grpSpPr>
        <p:sp>
          <p:nvSpPr>
            <p:cNvPr id="91" name=""/>
            <p:cNvSpPr/>
            <p:nvPr/>
          </p:nvSpPr>
          <p:spPr>
            <a:xfrm>
              <a:off x="3898800" y="2008080"/>
              <a:ext cx="128268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94440" y="2008080"/>
              <a:ext cx="182232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99880" y="19810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2160" y="198108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119320" y="1981080"/>
              <a:ext cx="1766880" cy="471600"/>
              <a:chOff x="2119320" y="1981080"/>
              <a:chExt cx="1766880" cy="471600"/>
            </a:xfrm>
          </p:grpSpPr>
          <p:sp>
            <p:nvSpPr>
              <p:cNvPr id="96" name=""/>
              <p:cNvSpPr/>
              <p:nvPr/>
            </p:nvSpPr>
            <p:spPr>
              <a:xfrm>
                <a:off x="2146320" y="2008080"/>
                <a:ext cx="173988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9320" y="1981080"/>
                <a:ext cx="1638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rig IP Hd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543800" y="3049560"/>
            <a:ext cx="1398240" cy="454680"/>
            <a:chOff x="7543800" y="3049560"/>
            <a:chExt cx="1398240" cy="454680"/>
          </a:xfrm>
        </p:grpSpPr>
        <p:sp>
          <p:nvSpPr>
            <p:cNvPr id="99" name=""/>
            <p:cNvSpPr/>
            <p:nvPr/>
          </p:nvSpPr>
          <p:spPr>
            <a:xfrm>
              <a:off x="7543800" y="3049560"/>
              <a:ext cx="1295640" cy="444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50640" y="3049560"/>
              <a:ext cx="1391400" cy="454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Au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370240" y="3670200"/>
            <a:ext cx="5108400" cy="15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8840" y="36831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encryp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0920" y="4114800"/>
            <a:ext cx="6326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3600" y="42354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3032280"/>
            <a:ext cx="5952960" cy="482400"/>
            <a:chOff x="0" y="3032280"/>
            <a:chExt cx="5952960" cy="482400"/>
          </a:xfrm>
        </p:grpSpPr>
        <p:sp>
          <p:nvSpPr>
            <p:cNvPr id="106" name=""/>
            <p:cNvSpPr/>
            <p:nvPr/>
          </p:nvSpPr>
          <p:spPr>
            <a:xfrm>
              <a:off x="4876920" y="3048120"/>
              <a:ext cx="1076040" cy="466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61880" y="3032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048120"/>
              <a:ext cx="1303560" cy="454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3000" y="3048120"/>
              <a:ext cx="1270080" cy="454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2320" y="3048120"/>
              <a:ext cx="1214280" cy="454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3048120"/>
              <a:ext cx="1150920" cy="4546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P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162160" y="2495520"/>
            <a:ext cx="198360" cy="50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979960" y="2484360"/>
            <a:ext cx="1038240" cy="51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880" y="4807080"/>
            <a:ext cx="57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P header with source &amp; destination 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4800">
            <a:off x="-360" y="3544200"/>
            <a:ext cx="1149120" cy="1147680"/>
          </a:xfrm>
          <a:custGeom>
            <a:avLst/>
            <a:gdLst>
              <a:gd name="textAreaLeft" fmla="*/ 734040 w 1149120"/>
              <a:gd name="textAreaRight" fmla="*/ 1149480 w 114912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3"/>
                </a:lnTo>
                <a:cubicBezTo>
                  <a:pt x="10800" y="9143"/>
                  <a:pt x="5400" y="10043"/>
                  <a:pt x="0" y="10043"/>
                </a:cubicBezTo>
                <a:cubicBezTo>
                  <a:pt x="5400" y="10043"/>
                  <a:pt x="10800" y="10943"/>
                  <a:pt x="10800" y="118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662292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51000"/>
            <a:ext cx="1622520" cy="454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Tra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hentication Header (AH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entication is applied to the entire packet, with the mutable fields in the IP header zero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oth ESP and AH are applied to a packet, AH follows E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3160" y="40176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Authentication Header (AH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 Transport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800" y="1922400"/>
            <a:ext cx="17398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65640" y="1922400"/>
            <a:ext cx="12826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60920" y="1922400"/>
            <a:ext cx="28828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66720" y="189540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39000" y="189540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5800" y="189540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 I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7240" y="3127320"/>
            <a:ext cx="12826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3127320"/>
            <a:ext cx="288288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98320" y="31003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0600" y="310032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95680" y="3121200"/>
            <a:ext cx="1495440" cy="470520"/>
            <a:chOff x="2695680" y="3121200"/>
            <a:chExt cx="1495440" cy="470520"/>
          </a:xfrm>
        </p:grpSpPr>
        <p:sp>
          <p:nvSpPr>
            <p:cNvPr id="132" name=""/>
            <p:cNvSpPr/>
            <p:nvPr/>
          </p:nvSpPr>
          <p:spPr>
            <a:xfrm>
              <a:off x="2719440" y="3121200"/>
              <a:ext cx="1471680" cy="461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5680" y="3137040"/>
              <a:ext cx="144288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H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28800" y="3100320"/>
            <a:ext cx="1766880" cy="471240"/>
            <a:chOff x="928800" y="3100320"/>
            <a:chExt cx="1766880" cy="471240"/>
          </a:xfrm>
        </p:grpSpPr>
        <p:sp>
          <p:nvSpPr>
            <p:cNvPr id="135" name=""/>
            <p:cNvSpPr/>
            <p:nvPr/>
          </p:nvSpPr>
          <p:spPr>
            <a:xfrm>
              <a:off x="955800" y="3127320"/>
              <a:ext cx="173988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8800" y="31003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1200" y="5003640"/>
            <a:ext cx="135396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62280" y="5003640"/>
            <a:ext cx="173340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 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7760" y="5003640"/>
            <a:ext cx="77328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s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2760" y="5003640"/>
            <a:ext cx="211140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Param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61200" y="5003640"/>
            <a:ext cx="170496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ed H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17400" y="3686040"/>
            <a:ext cx="2028960" cy="1235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46560" y="3673440"/>
            <a:ext cx="4573440" cy="1295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2920" y="398304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 (except for mutable fields in IP hd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39960" y="3860640"/>
            <a:ext cx="7441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003640"/>
            <a:ext cx="81108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080" y="56116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bytes to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20920" y="558792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 is IP protocol 5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728800" y="2403360"/>
            <a:ext cx="627120" cy="68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97320" y="2446200"/>
            <a:ext cx="768240" cy="64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57400" y="264636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662292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AH Tunnel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76440" y="1981080"/>
            <a:ext cx="5958000" cy="471600"/>
            <a:chOff x="1576440" y="1981080"/>
            <a:chExt cx="5958000" cy="471600"/>
          </a:xfrm>
        </p:grpSpPr>
        <p:sp>
          <p:nvSpPr>
            <p:cNvPr id="155" name=""/>
            <p:cNvSpPr/>
            <p:nvPr/>
          </p:nvSpPr>
          <p:spPr>
            <a:xfrm>
              <a:off x="1603440" y="2008080"/>
              <a:ext cx="173988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5920" y="2008080"/>
              <a:ext cx="128268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51200" y="2008080"/>
              <a:ext cx="2883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57000" y="19810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9280" y="198108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6440" y="198108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824120" y="44053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 (except for mutable new IP hdr fiel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" y="429588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960" y="3533760"/>
            <a:ext cx="1447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84600" y="3533760"/>
            <a:ext cx="228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7560" y="3533760"/>
            <a:ext cx="1354320" cy="454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3520" y="3581280"/>
            <a:ext cx="83808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33520" y="3581280"/>
            <a:ext cx="83808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3720" y="2471760"/>
            <a:ext cx="1447920" cy="101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37320" y="2482920"/>
            <a:ext cx="1382760" cy="1050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13200" y="3517920"/>
            <a:ext cx="5957280" cy="471600"/>
            <a:chOff x="3013200" y="3517920"/>
            <a:chExt cx="5957280" cy="471600"/>
          </a:xfrm>
        </p:grpSpPr>
        <p:sp>
          <p:nvSpPr>
            <p:cNvPr id="171" name=""/>
            <p:cNvSpPr/>
            <p:nvPr/>
          </p:nvSpPr>
          <p:spPr>
            <a:xfrm>
              <a:off x="3039840" y="3544920"/>
              <a:ext cx="173952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92320" y="3544920"/>
              <a:ext cx="128232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7600" y="3544920"/>
              <a:ext cx="288288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93040" y="351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5680" y="351792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13200" y="35179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04800" y="5338800"/>
            <a:ext cx="43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P header with source &amp; destination 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4800">
            <a:off x="436320" y="3971520"/>
            <a:ext cx="1149480" cy="1358640"/>
          </a:xfrm>
          <a:custGeom>
            <a:avLst/>
            <a:gdLst>
              <a:gd name="textAreaLeft" fmla="*/ 734400 w 1149480"/>
              <a:gd name="textAreaRight" fmla="*/ 1149840 w 1149480"/>
              <a:gd name="textAreaTop" fmla="*/ 35280 h 1358640"/>
              <a:gd name="textAreaBottom" fmla="*/ 1323360 h 135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3"/>
                </a:lnTo>
                <a:cubicBezTo>
                  <a:pt x="10800" y="9143"/>
                  <a:pt x="5400" y="10043"/>
                  <a:pt x="0" y="10043"/>
                </a:cubicBezTo>
                <a:cubicBezTo>
                  <a:pt x="5400" y="10043"/>
                  <a:pt x="10800" y="10943"/>
                  <a:pt x="10800" y="118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662292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Key Exchange (IK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a secure channel(ISAKMP 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e computer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s a secure channel between computers intended for the transmission of data (IPSec 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mode negotiates an ISAKMP SA which will be used to create IPSec 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 nego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e-Hellman and nonce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06:13:28Z</dcterms:created>
  <dc:creator>aeri</dc:creator>
  <dc:description/>
  <dc:language>en-US</dc:language>
  <cp:lastModifiedBy>Ping Look</cp:lastModifiedBy>
  <dcterms:modified xsi:type="dcterms:W3CDTF">2001-02-02T01:52:14Z</dcterms:modified>
  <cp:revision>2</cp:revision>
  <dc:subject/>
  <dc:title>IPSec In Depth</dc:title>
</cp:coreProperties>
</file>