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4.xml" ContentType="application/vnd.openxmlformats-officedocument.presentationml.notesSlide+xml"/>
  <Override PartName="/ppt/notesSlides/notesSlide52.xml" ContentType="application/vnd.openxmlformats-officedocument.presentationml.notesSlide+xml"/>
  <Override PartName="/ppt/notesSlides/notesSlide29.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21.pct" ContentType="image/x-pict"/>
  <Override PartName="/ppt/media/image9.png" ContentType="image/png"/>
  <Override PartName="/ppt/media/image6.pct" ContentType="image/x-pict"/>
  <Override PartName="/ppt/media/image12.png" ContentType="image/png"/>
  <Override PartName="/ppt/media/image7.png" ContentType="image/png"/>
  <Override PartName="/ppt/media/image1.jpeg" ContentType="image/jpeg"/>
  <Override PartName="/ppt/media/image4.pct" ContentType="image/x-pict"/>
  <Override PartName="/ppt/media/image11.png" ContentType="image/png"/>
  <Override PartName="/ppt/media/image3.pct" ContentType="image/x-pict"/>
  <Override PartName="/ppt/media/image2.jpeg" ContentType="image/jpeg"/>
  <Override PartName="/ppt/media/image23.jpeg" ContentType="image/jpeg"/>
  <Override PartName="/ppt/media/image26.png" ContentType="image/png"/>
  <Override PartName="/ppt/media/image14.png" ContentType="image/png"/>
  <Override PartName="/ppt/media/image25.pct" ContentType="image/x-pict"/>
  <Override PartName="/ppt/media/image16.png" ContentType="image/png"/>
  <Override PartName="/ppt/media/image24.pct" ContentType="image/x-pict"/>
  <Override PartName="/ppt/media/image15.png" ContentType="image/png"/>
  <Override PartName="/ppt/media/image22.png" ContentType="image/png"/>
  <Override PartName="/ppt/media/image5.png" ContentType="image/png"/>
  <Override PartName="/ppt/media/image10.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Click to move the slide</a:t>
            </a:r>
            <a:endParaRPr b="1" lang="en-US" sz="4800" spc="-1" strike="noStrike">
              <a:solidFill>
                <a:srgbClr val="fccf00"/>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2155-AFB6-4D51-B438-AEBA1619DB0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5" name="PlaceHolder 1"/>
          <p:cNvSpPr>
            <a:spLocks noGrp="1"/>
          </p:cNvSpPr>
          <p:nvPr>
            <p:ph type="sldImg"/>
          </p:nvPr>
        </p:nvSpPr>
        <p:spPr>
          <a:xfrm>
            <a:off x="1150920" y="692280"/>
            <a:ext cx="4556160" cy="3416040"/>
          </a:xfrm>
          <a:prstGeom prst="rect">
            <a:avLst/>
          </a:prstGeom>
          <a:ln w="0">
            <a:noFill/>
          </a:ln>
        </p:spPr>
      </p:sp>
      <p:sp>
        <p:nvSpPr>
          <p:cNvPr id="36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presenting this talk, please read all of and perform the Windows 2000 IPSec walk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crosoft.com/windows2000/library/planning/security/ipsecsteps.asp?bPrint=Tru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9" name="PlaceHolder 1"/>
          <p:cNvSpPr>
            <a:spLocks noGrp="1"/>
          </p:cNvSpPr>
          <p:nvPr>
            <p:ph type="sldImg"/>
          </p:nvPr>
        </p:nvSpPr>
        <p:spPr>
          <a:xfrm>
            <a:off x="1150920" y="692280"/>
            <a:ext cx="4556160" cy="3416040"/>
          </a:xfrm>
          <a:prstGeom prst="rect">
            <a:avLst/>
          </a:prstGeom>
          <a:ln w="0">
            <a:noFill/>
          </a:ln>
        </p:spPr>
      </p:sp>
      <p:sp>
        <p:nvSpPr>
          <p:cNvPr id="36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L2TP/IPSec for IKE authentication requires certificates.  And why we designed &amp; implemented secure IKE authentication using GSS-API (Kerberos), as specified in draft-ietf-ipsec-ike-gss-api-05.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1" name="PlaceHolder 1"/>
          <p:cNvSpPr>
            <a:spLocks noGrp="1"/>
          </p:cNvSpPr>
          <p:nvPr>
            <p:ph type="sldImg"/>
          </p:nvPr>
        </p:nvSpPr>
        <p:spPr>
          <a:xfrm>
            <a:off x="1150920" y="692280"/>
            <a:ext cx="4556160" cy="3416040"/>
          </a:xfrm>
          <a:prstGeom prst="rect">
            <a:avLst/>
          </a:prstGeom>
          <a:ln w="0">
            <a:noFill/>
          </a:ln>
        </p:spPr>
      </p:sp>
      <p:sp>
        <p:nvSpPr>
          <p:cNvPr id="3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ly for groups that only should communicate with themselves, not outside this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n’t specify Rule 1 filter action whether clients should fall back to clear, or server should fall back to clear.  Don’t fall back to be secure.  Don’t allow incoming clear text if clients will be initi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ertificates.  This just makes it easy to deploy iPSec, to use default domain trust with Kerberos as mutual auth method for IPSec IK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3" name="PlaceHolder 1"/>
          <p:cNvSpPr>
            <a:spLocks noGrp="1"/>
          </p:cNvSpPr>
          <p:nvPr>
            <p:ph type="sldImg"/>
          </p:nvPr>
        </p:nvSpPr>
        <p:spPr>
          <a:xfrm>
            <a:off x="1150920" y="692280"/>
            <a:ext cx="4556160" cy="3416040"/>
          </a:xfrm>
          <a:prstGeom prst="rect">
            <a:avLst/>
          </a:prstGeom>
          <a:ln w="0">
            <a:noFill/>
          </a:ln>
        </p:spPr>
      </p:sp>
      <p:sp>
        <p:nvSpPr>
          <p:cNvPr id="36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PSec driver compares each outbound IP packet against filters contained in IPSec polic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packet matches a filter, stall packet in queue and call IKE to negotiate IPSec security associations</a:t>
            </a: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5" name="PlaceHolder 1"/>
          <p:cNvSpPr>
            <a:spLocks noGrp="1"/>
          </p:cNvSpPr>
          <p:nvPr>
            <p:ph type="sldImg"/>
          </p:nvPr>
        </p:nvSpPr>
        <p:spPr>
          <a:xfrm>
            <a:off x="1166760" y="692280"/>
            <a:ext cx="4454640" cy="3341520"/>
          </a:xfrm>
          <a:prstGeom prst="rect">
            <a:avLst/>
          </a:prstGeom>
          <a:ln w="0">
            <a:noFill/>
          </a:ln>
        </p:spPr>
      </p:sp>
      <p:sp>
        <p:nvSpPr>
          <p:cNvPr id="3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Client sends clear packet to server</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Packet gets caught by IPSec filter on client that says to secure packet</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Client’s IKE requests security to server, asks what auth metho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Server chooses Kerberos for authentication</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Client gets ticket for server from DC/KDC</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Server used general or default response rule settings to negotiate with client</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IKE SA and two IPSec SA’s (with session keys) are established to cover traffic specified by filter</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Server now sends secured packet, both talk secure</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Session rekey happens automaticall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7" name="PlaceHolder 1"/>
          <p:cNvSpPr>
            <a:spLocks noGrp="1"/>
          </p:cNvSpPr>
          <p:nvPr>
            <p:ph type="sldImg"/>
          </p:nvPr>
        </p:nvSpPr>
        <p:spPr>
          <a:xfrm>
            <a:off x="1166760" y="692280"/>
            <a:ext cx="4454640" cy="3341520"/>
          </a:xfrm>
          <a:prstGeom prst="rect">
            <a:avLst/>
          </a:prstGeom>
          <a:ln w="0">
            <a:noFill/>
          </a:ln>
        </p:spPr>
      </p:sp>
      <p:sp>
        <p:nvSpPr>
          <p:cNvPr id="3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Secure Responder client, sends clear packet to server</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Secure Initiator server receives clear packet up to server application</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erver application responds back</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Server response gets down to IPSec, which matches filter that says to secure packet</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Server’s ISAKMP requests security to client</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Client uses specific or default response rule settings to negotiate with server</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IPSec SA’s establis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Server now sends secured packet, both talk secu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9" name="PlaceHolder 1"/>
          <p:cNvSpPr>
            <a:spLocks noGrp="1"/>
          </p:cNvSpPr>
          <p:nvPr>
            <p:ph type="sldImg"/>
          </p:nvPr>
        </p:nvSpPr>
        <p:spPr>
          <a:xfrm>
            <a:off x="1150920" y="692280"/>
            <a:ext cx="4556160" cy="3416040"/>
          </a:xfrm>
          <a:prstGeom prst="rect">
            <a:avLst/>
          </a:prstGeom>
          <a:ln w="0">
            <a:noFill/>
          </a:ln>
        </p:spPr>
      </p:sp>
      <p:sp>
        <p:nvSpPr>
          <p:cNvPr id="36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ly for groups that only should communicate with themselves, not outside this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n’t specify Rule 1 filter action whether clients should fall back to clear, or server should fall back to clear.  Don’t fall back to be secure.  Don’t allow incoming clear text if clients will be initi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ertificates.  This just makes it easy to deploy iPSec, to use default domain trust with Kerberos as mutual auth method for IPSec IK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1" name="PlaceHolder 1"/>
          <p:cNvSpPr>
            <a:spLocks noGrp="1"/>
          </p:cNvSpPr>
          <p:nvPr>
            <p:ph type="sldImg"/>
          </p:nvPr>
        </p:nvSpPr>
        <p:spPr>
          <a:xfrm>
            <a:off x="1150920" y="692280"/>
            <a:ext cx="4556160" cy="3416040"/>
          </a:xfrm>
          <a:prstGeom prst="rect">
            <a:avLst/>
          </a:prstGeom>
          <a:ln w="0">
            <a:noFill/>
          </a:ln>
        </p:spPr>
      </p:sp>
      <p:sp>
        <p:nvSpPr>
          <p:cNvPr id="36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ly for groups that only should communicate with themselves, not outside this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n’t specify Rule 1 filter action whether clients should fall back to clear, or server should fall back to clear.  Don’t fall back to be secure.  Don’t allow incoming clear text if clients will be initi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ertificates.  This just makes it easy to deploy iPSec, to use default domain trust with Kerberos as mutual auth method for IPSec 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KE authentication doesn’t guarantee an IP address = a specific machine</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doesn’t prevent IP spoofing by trusted system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3" name="PlaceHolder 1"/>
          <p:cNvSpPr>
            <a:spLocks noGrp="1"/>
          </p:cNvSpPr>
          <p:nvPr>
            <p:ph type="sldImg"/>
          </p:nvPr>
        </p:nvSpPr>
        <p:spPr>
          <a:xfrm>
            <a:off x="1150920" y="692280"/>
            <a:ext cx="4556160" cy="3416040"/>
          </a:xfrm>
          <a:prstGeom prst="rect">
            <a:avLst/>
          </a:prstGeom>
          <a:ln w="0">
            <a:noFill/>
          </a:ln>
        </p:spPr>
      </p:sp>
      <p:sp>
        <p:nvSpPr>
          <p:cNvPr id="36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ly for groups that only should communicate with themselves, not outside this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n’t specify Rule 1 filter action whether clients should fall back to clear, or server should fall back to clear.  Don’t fall back to be secure.  Don’t allow incoming clear text if clients will be initi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ertificates.  This just makes it easy to deploy iPSec, to use default domain trust with Kerberos as mutual auth method for IPSec 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KE authentication doesn’t guarantee an IP address = a specific machine</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doesn’t prevent IP spoofing by trusted system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5" name="PlaceHolder 1"/>
          <p:cNvSpPr>
            <a:spLocks noGrp="1"/>
          </p:cNvSpPr>
          <p:nvPr>
            <p:ph type="sldImg"/>
          </p:nvPr>
        </p:nvSpPr>
        <p:spPr>
          <a:xfrm>
            <a:off x="1150920" y="692280"/>
            <a:ext cx="4556160" cy="3416040"/>
          </a:xfrm>
          <a:prstGeom prst="rect">
            <a:avLst/>
          </a:prstGeom>
          <a:ln w="0">
            <a:noFill/>
          </a:ln>
        </p:spPr>
      </p:sp>
      <p:sp>
        <p:nvSpPr>
          <p:cNvPr id="36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user authentication for access from client in B to server in A will fail.  Some applications, like Outlook and file sharing can do their own remote login using different user credentials that those that the use logged onto the desktop with.  So we may need a solution to this problem, to enable B client to do “net use * \\serverA\share /u:Adom\useri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PlaceHolder 1"/>
          <p:cNvSpPr>
            <a:spLocks noGrp="1"/>
          </p:cNvSpPr>
          <p:nvPr>
            <p:ph type="sldImg"/>
          </p:nvPr>
        </p:nvSpPr>
        <p:spPr>
          <a:xfrm>
            <a:off x="1150920" y="692280"/>
            <a:ext cx="4556160" cy="3416040"/>
          </a:xfrm>
          <a:prstGeom prst="rect">
            <a:avLst/>
          </a:prstGeom>
          <a:ln w="0">
            <a:noFill/>
          </a:ln>
        </p:spPr>
      </p:sp>
      <p:sp>
        <p:nvSpPr>
          <p:cNvPr id="36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user authentication for access from client in B to server in A will fail.  Some applications, like Outlook and file sharing can do their own remote login using different user credentials that those that the use logged onto the desktop with.  So we may need a solution to allow IPSec first, to enable B client to do “net use * \\serverA\share /u:Adom\useri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9" name="PlaceHolder 1"/>
          <p:cNvSpPr>
            <a:spLocks noGrp="1"/>
          </p:cNvSpPr>
          <p:nvPr>
            <p:ph type="sldImg"/>
          </p:nvPr>
        </p:nvSpPr>
        <p:spPr>
          <a:xfrm>
            <a:off x="1150920" y="692280"/>
            <a:ext cx="4556160" cy="3416040"/>
          </a:xfrm>
          <a:prstGeom prst="rect">
            <a:avLst/>
          </a:prstGeom>
          <a:ln w="0">
            <a:noFill/>
          </a:ln>
        </p:spPr>
      </p:sp>
      <p:sp>
        <p:nvSpPr>
          <p:cNvPr id="36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user authentication for access from client in B to server in A will fail.  Some applications, like Outlook and file sharing can do their own remote login using different user credentials that those that the use logged onto the desktop with.  So we may need a solution to this problem, to enable B client to do “net use * \\serverA\share /u:Adom\use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1 and CA2 need to be Microsoft Windows 2000 Enterprise CAs, which provides autoenrollment.  Otherwise any CA vendor for which Win2k CAPI can validate a 2-hierarchy chain should work – just that enrollment will be manual.</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1" name="PlaceHolder 1"/>
          <p:cNvSpPr>
            <a:spLocks noGrp="1"/>
          </p:cNvSpPr>
          <p:nvPr>
            <p:ph type="sldImg"/>
          </p:nvPr>
        </p:nvSpPr>
        <p:spPr>
          <a:xfrm>
            <a:off x="1150920" y="692280"/>
            <a:ext cx="4556160" cy="3416040"/>
          </a:xfrm>
          <a:prstGeom prst="rect">
            <a:avLst/>
          </a:prstGeom>
          <a:ln w="0">
            <a:noFill/>
          </a:ln>
        </p:spPr>
      </p:sp>
      <p:sp>
        <p:nvSpPr>
          <p:cNvPr id="3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2TP/IPSec is recommended because it is easier to configure in RRA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Sec tunnel mode in this release is configured only the MMC IPSec policy snapin, and requires static routes to be managed</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Featured VPN Gateway</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anch office connections</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VPN remote acces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ull Featured NAT (IC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ull Featured Routing, Filtering</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mand dial connections &amp; tunnel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T Domain &amp; Active Directory integrated</a:t>
            </a:r>
            <a:endParaRPr b="0" lang="en-US" sz="16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3" name="PlaceHolder 1"/>
          <p:cNvSpPr>
            <a:spLocks noGrp="1"/>
          </p:cNvSpPr>
          <p:nvPr>
            <p:ph type="sldImg"/>
          </p:nvPr>
        </p:nvSpPr>
        <p:spPr>
          <a:xfrm>
            <a:off x="1150920" y="692280"/>
            <a:ext cx="4556160" cy="3416040"/>
          </a:xfrm>
          <a:prstGeom prst="rect">
            <a:avLst/>
          </a:prstGeom>
          <a:ln w="0">
            <a:noFill/>
          </a:ln>
        </p:spPr>
      </p:sp>
      <p:sp>
        <p:nvSpPr>
          <p:cNvPr id="36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s may be in secure facility where network physical access is controlled and assured only by authorized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to and from server may be watched by network intrusion de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to and from server may need to be clear for troubleshoo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 CPU cost better handled by router, than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r configuration of IPSec tunnel rule between two routers, than between all serve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5" name="PlaceHolder 1"/>
          <p:cNvSpPr>
            <a:spLocks noGrp="1"/>
          </p:cNvSpPr>
          <p:nvPr>
            <p:ph type="sldImg"/>
          </p:nvPr>
        </p:nvSpPr>
        <p:spPr>
          <a:xfrm>
            <a:off x="1150920" y="692280"/>
            <a:ext cx="4556160" cy="3416040"/>
          </a:xfrm>
          <a:prstGeom prst="rect">
            <a:avLst/>
          </a:prstGeom>
          <a:ln w="0">
            <a:noFill/>
          </a:ln>
        </p:spPr>
      </p:sp>
      <p:sp>
        <p:nvSpPr>
          <p:cNvPr id="36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On the interior corporate network, this scenario describes how the packet addresses will be handl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All addresses are internal IP addres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IPSec policy is configured on the router and the server end-host that requires IPSec tunnel protection between them for certain types of traff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riginal IP packet starts out on client, having source IP of the client’s IP, which may be DHCP addressed, and dest IP of the server’s IP addr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en that packet reaches the router, the router’s IPSec policy will require it to be tunneled to the destination, that is to the server’s static IP addr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o the router adds a new IP header (in the internal address space, of course), using source IP of the outbound interface on the router from which the tunnel will origina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Other internal routers see a destination IP of the server IP and route according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The server receives the IPSec packet, decrypts it, discovers that it is an IPSec tunnel packet, then removes the outer header to reveal the original packet insid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IP packet is received into the server and processed up the TCPIP stack because the dest IP is the server’s IP addr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wise in reply, the server application replies to the client’s packet by creating an IP packet with the dest address of the client’s IP addr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er’s IPSec policy requires that packet to be tunneled to a particular router interface IP address, so it will create a new IP header with a new dest IP address, encrypt that packet according to the security negotiated and send the packet into the network.</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transports the server’s packet to the router, where it decrypts it, unwraps the outside header to see the internal original IP header and routes it outbound into the network towards the client unsecur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tunnel established in both directions, from the server back to the rout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and yes.  Normally, the router will initiate the tunnel negotiation with the server when it has traffic to secure.   Technically the IKE main mode (phase 1) protocol negotiation results is one “IKE security association” which establishes master key material and trust (via mutual authentication) between the router and the server; and then the IKE quick mode negotiation establishes two one-way “IPSec tunnel security associations” (one from the router to the server, and one from the server to the router) which themselves form what we commonly know as one “tunnel” through which traffic can flow.  So no, the server doesn’t have to negotiate another “tunnel” back to the router; Yes there are two tunnel SAs established during the QM negotiation, each of which go one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the tunnel security associations are not used, they will idle timeout, typically after 5 minutes.  This is ok, as it conserves state on the router &amp; server.  If more packets need to be tunneled, a new IKE QM negotiation will re-establish a new tunnel SA pair.  The IKE main mode SA remains for much longer.  The QM tunnel SAs will automatically be rekeyed according to their policy lifetime setting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the router be the server’s default gateway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ecause such an  IPSec tunnel rule may interfere with other services in the Windows 2000 operating system that depend on receiving or sending clear text traffic to the default gateway IP addres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7" name="PlaceHolder 1"/>
          <p:cNvSpPr>
            <a:spLocks noGrp="1"/>
          </p:cNvSpPr>
          <p:nvPr>
            <p:ph type="sldImg"/>
          </p:nvPr>
        </p:nvSpPr>
        <p:spPr>
          <a:xfrm>
            <a:off x="1150920" y="692280"/>
            <a:ext cx="4556160" cy="3416040"/>
          </a:xfrm>
          <a:prstGeom prst="rect">
            <a:avLst/>
          </a:prstGeom>
          <a:ln w="0">
            <a:noFill/>
          </a:ln>
        </p:spPr>
      </p:sp>
      <p:sp>
        <p:nvSpPr>
          <p:cNvPr id="36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tage of this approach: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end systems don’t have to be IPSec aware/interoper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unnel to router requires less numbers of IPSec tunnel rules on VPN server</a:t>
            </a: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9" name=""/>
          <p:cNvSpPr txBox="1"/>
          <p:nvPr/>
        </p:nvSpPr>
        <p:spPr>
          <a:xfrm>
            <a:off x="3885840" y="8686800"/>
            <a:ext cx="297180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8631-FDA8-48F8-9526-ECB7EAF61E9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60" name=""/>
          <p:cNvSpPr txBox="1"/>
          <p:nvPr/>
        </p:nvSpPr>
        <p:spPr>
          <a:xfrm>
            <a:off x="-360" y="8686800"/>
            <a:ext cx="297180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61" name=""/>
          <p:cNvSpPr txBox="1"/>
          <p:nvPr/>
        </p:nvSpPr>
        <p:spPr>
          <a:xfrm>
            <a:off x="-360" y="0"/>
            <a:ext cx="297180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62" name=""/>
          <p:cNvSpPr txBox="1"/>
          <p:nvPr/>
        </p:nvSpPr>
        <p:spPr>
          <a:xfrm>
            <a:off x="3885840" y="0"/>
            <a:ext cx="297180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63" name="PlaceHolder 1"/>
          <p:cNvSpPr>
            <a:spLocks noGrp="1"/>
          </p:cNvSpPr>
          <p:nvPr>
            <p:ph type="sldImg"/>
          </p:nvPr>
        </p:nvSpPr>
        <p:spPr>
          <a:xfrm>
            <a:off x="1147680" y="419040"/>
            <a:ext cx="4572000" cy="3429000"/>
          </a:xfrm>
          <a:prstGeom prst="rect">
            <a:avLst/>
          </a:prstGeom>
          <a:ln w="0">
            <a:noFill/>
          </a:ln>
        </p:spPr>
      </p:sp>
      <p:sp>
        <p:nvSpPr>
          <p:cNvPr id="3664" name="PlaceHolder 2"/>
          <p:cNvSpPr>
            <a:spLocks noGrp="1"/>
          </p:cNvSpPr>
          <p:nvPr>
            <p:ph type="body"/>
          </p:nvPr>
        </p:nvSpPr>
        <p:spPr>
          <a:xfrm>
            <a:off x="395280" y="4336920"/>
            <a:ext cx="60674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Com performance testing shows the benefit of hardware accelerated encryption.  With software encryption, throughput drops dramatically to only 19.4 Mbps.  The encryption processing consumes nearly all of the CPU - CPU utilization rises to 93.4%.  With hardware accelerated encryption, high throughput is achieved (85.8.2 Mbps) and CPU utilization is lower (57.6%). The performance efficiency index (throughput/CPU utilization) is 0.21 for SW encryption versus 1.49 for HW encryption - HW encryption 7 times more efficient than SW encryption!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5" name=""/>
          <p:cNvSpPr txBox="1"/>
          <p:nvPr/>
        </p:nvSpPr>
        <p:spPr>
          <a:xfrm>
            <a:off x="3885840" y="8686800"/>
            <a:ext cx="297180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F1F1-B561-4FA0-86A8-057799D8953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66" name=""/>
          <p:cNvSpPr txBox="1"/>
          <p:nvPr/>
        </p:nvSpPr>
        <p:spPr>
          <a:xfrm>
            <a:off x="-360" y="8686800"/>
            <a:ext cx="297180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67" name=""/>
          <p:cNvSpPr txBox="1"/>
          <p:nvPr/>
        </p:nvSpPr>
        <p:spPr>
          <a:xfrm>
            <a:off x="-360" y="0"/>
            <a:ext cx="297180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68" name=""/>
          <p:cNvSpPr txBox="1"/>
          <p:nvPr/>
        </p:nvSpPr>
        <p:spPr>
          <a:xfrm>
            <a:off x="3885840" y="0"/>
            <a:ext cx="297180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69" name="PlaceHolder 1"/>
          <p:cNvSpPr>
            <a:spLocks noGrp="1"/>
          </p:cNvSpPr>
          <p:nvPr>
            <p:ph type="sldImg"/>
          </p:nvPr>
        </p:nvSpPr>
        <p:spPr>
          <a:xfrm>
            <a:off x="1143000" y="685800"/>
            <a:ext cx="4572000" cy="3429000"/>
          </a:xfrm>
          <a:prstGeom prst="rect">
            <a:avLst/>
          </a:prstGeom>
          <a:ln w="0">
            <a:noFill/>
          </a:ln>
        </p:spPr>
      </p:sp>
      <p:sp>
        <p:nvSpPr>
          <p:cNvPr id="36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7" name="PlaceHolder 1"/>
          <p:cNvSpPr>
            <a:spLocks noGrp="1"/>
          </p:cNvSpPr>
          <p:nvPr>
            <p:ph type="sldImg"/>
          </p:nvPr>
        </p:nvSpPr>
        <p:spPr>
          <a:xfrm>
            <a:off x="1150920" y="692280"/>
            <a:ext cx="4556160" cy="3416040"/>
          </a:xfrm>
          <a:prstGeom prst="rect">
            <a:avLst/>
          </a:prstGeom>
          <a:ln w="0">
            <a:noFill/>
          </a:ln>
        </p:spPr>
      </p:sp>
      <p:sp>
        <p:nvSpPr>
          <p:cNvPr id="36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ly, IPSec filters what it can secur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text of the IPSec walk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Security is applied to IP packets as they are sent and received. Packets are matched against filters when being sent (outbound) to see if they should be secured, blocked, or passed through in clear text. Packets are also matched when received (inbound) to see if they should have been secured, should be blocked, or should be permitted into the system. There are two types of filters: those that control IPSec transport mode security, and those that control IPSec tunnel mode security. IPSec tunnel filters are applied first to all packets. Then, if none match, the IPSec transport mode filters are searched. A few types of IP traffic cannot be secured by the design of IPSec transport filters in Windows 2000, inclu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cast addresses—usually ending with .25—with appropriate subnet mas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ast-addresses from 224.0.0.0 through 239.255.255.255.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IP protocol type 46. This is to allow RSVP to signal Quality of Service (QOS) requests for application traffic that may then be IPSec protect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beros-UDP source or dest port 88. Kerberos is itself a secure protocol, which the IPSec’s IKE negotiation service uses for authentication of other computers in a dom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UDP dest port 500. This is required to allow IKE to negotiate parameters for IPSec 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emptions apply to IPSec transport mode filters. Transport mode filters apply to host packets that have a source address of the computer that is sending the packet, or a destination address of the computer that is receiving the packet. IPSec tunnels can only secure unicast IP traffic. Filters used for IPSec tunnels must be based on addresses only, not on protocol and port fields. If the tunnel filter were to be protocol or port specific, then fragments of the original packet would not be carried by the tunnel, and the original full IP packet would be lost. If unicast Kerberos, IKE, or RSVP packets are received on one interface, and routed out of another interface, (using packet forwarding, or the Routing and Remote Access Service), then they are not exempt from IPSec tunnel mode filters, and thus could be carried inside the tunnel. IPSec tunnel mode filters cannot filter multicast or broadcast packets, so these would not be carried inside the IPSec tu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filter specifications are grouped into a filter list to enable complex patterns of traffic to be grouped and managed as one named filter list, such as </a:t>
            </a:r>
            <a:r>
              <a:rPr b="0" i="1" lang="en-US" sz="1200" spc="-1" strike="noStrike">
                <a:solidFill>
                  <a:srgbClr val="000000"/>
                </a:solidFill>
                <a:latin typeface="Times New Roman"/>
              </a:rPr>
              <a:t>Building 7 File Servers</a:t>
            </a:r>
            <a:r>
              <a:rPr b="0" lang="en-US" sz="1200" spc="-1" strike="noStrike">
                <a:solidFill>
                  <a:srgbClr val="000000"/>
                </a:solidFill>
                <a:latin typeface="Times New Roman"/>
              </a:rPr>
              <a:t>, or </a:t>
            </a:r>
            <a:r>
              <a:rPr b="0" i="1" lang="en-US" sz="1200" spc="-1" strike="noStrike">
                <a:solidFill>
                  <a:srgbClr val="000000"/>
                </a:solidFill>
                <a:latin typeface="Times New Roman"/>
              </a:rPr>
              <a:t>All blocked traffic</a:t>
            </a:r>
            <a:r>
              <a:rPr b="0" lang="en-US" sz="1200" spc="-1" strike="noStrike">
                <a:solidFill>
                  <a:srgbClr val="000000"/>
                </a:solidFill>
                <a:latin typeface="Times New Roman"/>
              </a:rPr>
              <a:t>. Filter lists can be shared as necessary between different IPSec rules in the same policy or different IPSec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figuring IP filters for traffic that must be secured, always be sure to mirror the filters. Mirroring the filters automatically configures both inbound and outbound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25" name="PlaceHolder 2"/>
          <p:cNvSpPr>
            <a:spLocks noGrp="1"/>
          </p:cNvSpPr>
          <p:nvPr>
            <p:ph/>
          </p:nvPr>
        </p:nvSpPr>
        <p:spPr>
          <a:xfrm>
            <a:off x="380880" y="14173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380880" y="354636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28" name="PlaceHolder 2"/>
          <p:cNvSpPr>
            <a:spLocks noGrp="1"/>
          </p:cNvSpPr>
          <p:nvPr>
            <p:ph/>
          </p:nvPr>
        </p:nvSpPr>
        <p:spPr>
          <a:xfrm>
            <a:off x="38088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9296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380880" y="354636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692960" y="354636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33" name="PlaceHolder 2"/>
          <p:cNvSpPr>
            <a:spLocks noGrp="1"/>
          </p:cNvSpPr>
          <p:nvPr>
            <p:ph/>
          </p:nvPr>
        </p:nvSpPr>
        <p:spPr>
          <a:xfrm>
            <a:off x="380880" y="14173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225960" y="14173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6071400" y="14173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380880" y="354636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225960" y="354636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6071400" y="354636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4" name="PlaceHolder 2"/>
          <p:cNvSpPr>
            <a:spLocks noGrp="1"/>
          </p:cNvSpPr>
          <p:nvPr>
            <p:ph type="subTitle"/>
          </p:nvPr>
        </p:nvSpPr>
        <p:spPr>
          <a:xfrm>
            <a:off x="380880" y="1417320"/>
            <a:ext cx="8415360" cy="40755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6" name="PlaceHolder 2"/>
          <p:cNvSpPr>
            <a:spLocks noGrp="1"/>
          </p:cNvSpPr>
          <p:nvPr>
            <p:ph/>
          </p:nvPr>
        </p:nvSpPr>
        <p:spPr>
          <a:xfrm>
            <a:off x="380880" y="1417320"/>
            <a:ext cx="841536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8" name="PlaceHolder 2"/>
          <p:cNvSpPr>
            <a:spLocks noGrp="1"/>
          </p:cNvSpPr>
          <p:nvPr>
            <p:ph/>
          </p:nvPr>
        </p:nvSpPr>
        <p:spPr>
          <a:xfrm>
            <a:off x="380880" y="141732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692960" y="141732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65040" y="228600"/>
            <a:ext cx="8431200" cy="65278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13" name="PlaceHolder 2"/>
          <p:cNvSpPr>
            <a:spLocks noGrp="1"/>
          </p:cNvSpPr>
          <p:nvPr>
            <p:ph/>
          </p:nvPr>
        </p:nvSpPr>
        <p:spPr>
          <a:xfrm>
            <a:off x="38088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92960" y="141732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380880" y="354636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17" name="PlaceHolder 2"/>
          <p:cNvSpPr>
            <a:spLocks noGrp="1"/>
          </p:cNvSpPr>
          <p:nvPr>
            <p:ph/>
          </p:nvPr>
        </p:nvSpPr>
        <p:spPr>
          <a:xfrm>
            <a:off x="380880" y="141732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9296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692960" y="354636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21" name="PlaceHolder 2"/>
          <p:cNvSpPr>
            <a:spLocks noGrp="1"/>
          </p:cNvSpPr>
          <p:nvPr>
            <p:ph/>
          </p:nvPr>
        </p:nvSpPr>
        <p:spPr>
          <a:xfrm>
            <a:off x="38088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9296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380880" y="354636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Click to edit the title text format</a:t>
            </a:r>
            <a:endParaRPr b="1" lang="en-US" sz="4800" spc="-1" strike="noStrike">
              <a:solidFill>
                <a:srgbClr val="fccf00"/>
              </a:solidFill>
              <a:latin typeface="Arial"/>
            </a:endParaRPr>
          </a:p>
        </p:txBody>
      </p:sp>
      <p:sp>
        <p:nvSpPr>
          <p:cNvPr id="1" name="PlaceHolder 2"/>
          <p:cNvSpPr>
            <a:spLocks noGrp="1"/>
          </p:cNvSpPr>
          <p:nvPr>
            <p:ph type="body"/>
          </p:nvPr>
        </p:nvSpPr>
        <p:spPr>
          <a:xfrm>
            <a:off x="380880" y="1417320"/>
            <a:ext cx="8415360" cy="40755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9880" indent="-44604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83560" indent="-46224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385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
          <p:cNvSpPr/>
          <p:nvPr/>
        </p:nvSpPr>
        <p:spPr>
          <a:xfrm>
            <a:off x="2664000" y="6626160"/>
            <a:ext cx="4346280" cy="2293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0 Microsoft Corporation</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ct"/><Relationship Id="rId4" Type="http://schemas.openxmlformats.org/officeDocument/2006/relationships/image" Target="../media/image3.pct"/><Relationship Id="rId5" Type="http://schemas.openxmlformats.org/officeDocument/2006/relationships/oleObject" Target="../embeddings/oleObject2.bin"/><Relationship Id="rId6" Type="http://schemas.openxmlformats.org/officeDocument/2006/relationships/image" Target="../media/image21.pct"/><Relationship Id="rId7" Type="http://schemas.openxmlformats.org/officeDocument/2006/relationships/slideLayout" Target="../slideLayouts/slideLayout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ct"/><Relationship Id="rId4" Type="http://schemas.openxmlformats.org/officeDocument/2006/relationships/image" Target="../media/image3.pct"/><Relationship Id="rId5" Type="http://schemas.openxmlformats.org/officeDocument/2006/relationships/oleObject" Target="../embeddings/oleObject2.bin"/><Relationship Id="rId6" Type="http://schemas.openxmlformats.org/officeDocument/2006/relationships/image" Target="../media/image21.pct"/><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oleObject" Target="../embeddings/oleObject1.bin"/><Relationship Id="rId4" Type="http://schemas.openxmlformats.org/officeDocument/2006/relationships/image" Target="../media/image4.pct"/><Relationship Id="rId5" Type="http://schemas.openxmlformats.org/officeDocument/2006/relationships/image" Target="../media/image3.pct"/><Relationship Id="rId6" Type="http://schemas.openxmlformats.org/officeDocument/2006/relationships/image" Target="../media/image5.png"/><Relationship Id="rId7" Type="http://schemas.openxmlformats.org/officeDocument/2006/relationships/image" Target="../media/image6.pct"/><Relationship Id="rId8" Type="http://schemas.openxmlformats.org/officeDocument/2006/relationships/image" Target="../media/image6.pct"/><Relationship Id="rId9" Type="http://schemas.openxmlformats.org/officeDocument/2006/relationships/image" Target="../media/image3.pct"/><Relationship Id="rId10"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5.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5.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image" Target="../media/image22.png"/><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image" Target="../media/image22.png"/><Relationship Id="rId4" Type="http://schemas.openxmlformats.org/officeDocument/2006/relationships/slideLayout" Target="../slideLayouts/slideLayout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20.png"/><Relationship Id="rId4" Type="http://schemas.openxmlformats.org/officeDocument/2006/relationships/slideLayout" Target="../slideLayouts/slideLayout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ct"/><Relationship Id="rId4" Type="http://schemas.openxmlformats.org/officeDocument/2006/relationships/slideLayout" Target="../slideLayouts/slideLayout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oleObject" Target="../embeddings/oleObject1.bin"/><Relationship Id="rId4" Type="http://schemas.openxmlformats.org/officeDocument/2006/relationships/image" Target="../media/image24.pct"/><Relationship Id="rId5" Type="http://schemas.openxmlformats.org/officeDocument/2006/relationships/oleObject" Target="../embeddings/oleObject2.bin"/><Relationship Id="rId6" Type="http://schemas.openxmlformats.org/officeDocument/2006/relationships/image" Target="../media/image25.pct"/><Relationship Id="rId7"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oft.com/windows2000/library/technologies/security/default.asp" TargetMode="External"/><Relationship Id="rId3" Type="http://schemas.openxmlformats.org/officeDocument/2006/relationships/hyperlink" Target="http://www.microsoft.com/security" TargetMode="External"/><Relationship Id="rId4" Type="http://schemas.openxmlformats.org/officeDocument/2006/relationships/hyperlink" Target="http://www.microsoft.com/communications" TargetMode="External"/><Relationship Id="rId5" Type="http://schemas.openxmlformats.org/officeDocument/2006/relationships/hyperlink" Target="http://www.ietf.org/html.charters/ipsec-charter.html" TargetMode="External"/><Relationship Id="rId6" Type="http://schemas.openxmlformats.org/officeDocument/2006/relationships/hyperlink" Target="http://www.ietf.org/html.charters/pppext-charter.html" TargetMode="External"/><Relationship Id="rId7" Type="http://schemas.openxmlformats.org/officeDocument/2006/relationships/hyperlink" Target="http://www.ietf.org/html.charters/pppext-charter.html" TargetMode="External"/><Relationship Id="rId8" Type="http://schemas.openxmlformats.org/officeDocument/2006/relationships/hyperlink" Target="http://www.ietf.org/html.charters/pppext-charter.html" TargetMode="External"/><Relationship Id="rId9" Type="http://schemas.openxmlformats.org/officeDocument/2006/relationships/hyperlink" Target="http://www.ietf.org/html.charters/pppext-charter.html" TargetMode="External"/><Relationship Id="rId10" Type="http://schemas.openxmlformats.org/officeDocument/2006/relationships/hyperlink" Target="http://www.ietf.org/html.charters/pppext-charter.html" TargetMode="External"/><Relationship Id="rId11" Type="http://schemas.openxmlformats.org/officeDocument/2006/relationships/hyperlink" Target="http://www.ietf.org/html.charters/l2tpext-charter.html" TargetMode="External"/><Relationship Id="rId12" Type="http://schemas.openxmlformats.org/officeDocument/2006/relationships/hyperlink" Target="http://www.ietf.org/html.charters/l2tpext-charter.html" TargetMode="External"/><Relationship Id="rId13" Type="http://schemas.openxmlformats.org/officeDocument/2006/relationships/hyperlink" Target="http://www.ietf.org/html.charters/l2tpext-charter.html" TargetMode="External"/><Relationship Id="rId14" Type="http://schemas.openxmlformats.org/officeDocument/2006/relationships/hyperlink" Target="http://csrc.nist.gov/" TargetMode="External"/><Relationship Id="rId15" Type="http://schemas.openxmlformats.org/officeDocument/2006/relationships/hyperlink" Target="http://csrc.nist.gov/" TargetMode="External"/><Relationship Id="rId16" Type="http://schemas.openxmlformats.org/officeDocument/2006/relationships/hyperlink" Target="http://csrc.nist.gov/" TargetMode="External"/><Relationship Id="rId17" Type="http://schemas.openxmlformats.org/officeDocument/2006/relationships/hyperlink" Target="http://csrc.nist.gov/" TargetMode="External"/><Relationship Id="rId18" Type="http://schemas.openxmlformats.org/officeDocument/2006/relationships/hyperlink" Target="http://csrc.nist.gov/" TargetMode="External"/><Relationship Id="rId19" Type="http://schemas.openxmlformats.org/officeDocument/2006/relationships/hyperlink" Target="http://csrc.nist.gov/" TargetMode="External"/><Relationship Id="rId20" Type="http://schemas.openxmlformats.org/officeDocument/2006/relationships/slideLayout" Target="../slideLayouts/slideLayout3.xml"/><Relationship Id="rId21"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752480"/>
            <a:ext cx="8172360" cy="21391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Windows</a:t>
            </a:r>
            <a:r>
              <a:rPr b="1" lang="en-US" sz="3600" spc="-1" strike="noStrike" baseline="50000">
                <a:solidFill>
                  <a:srgbClr val="fccf00"/>
                </a:solidFill>
                <a:latin typeface="Arial"/>
              </a:rPr>
              <a:t>®</a:t>
            </a:r>
            <a:r>
              <a:rPr b="1" lang="en-US" sz="4800" spc="-1" strike="noStrike">
                <a:solidFill>
                  <a:srgbClr val="fccf00"/>
                </a:solidFill>
                <a:latin typeface="Arial"/>
              </a:rPr>
              <a:t> 2000 IP Security</a:t>
            </a:r>
            <a:br>
              <a:rPr sz="4800"/>
            </a:br>
            <a:r>
              <a:rPr b="1" lang="en-US" sz="4800" spc="-1" strike="noStrike">
                <a:solidFill>
                  <a:srgbClr val="fccf00"/>
                </a:solidFill>
                <a:latin typeface="Arial"/>
              </a:rPr>
              <a:t>Deployment</a:t>
            </a:r>
            <a:br>
              <a:rPr sz="4800"/>
            </a:br>
            <a:endParaRPr b="1" lang="en-US" sz="4800" spc="-1" strike="noStrike">
              <a:solidFill>
                <a:srgbClr val="fccf00"/>
              </a:solidFill>
              <a:latin typeface="Arial"/>
            </a:endParaRPr>
          </a:p>
        </p:txBody>
      </p:sp>
      <p:sp>
        <p:nvSpPr>
          <p:cNvPr id="47" name="PlaceHolder 2"/>
          <p:cNvSpPr>
            <a:spLocks noGrp="1"/>
          </p:cNvSpPr>
          <p:nvPr>
            <p:ph type="subTitle"/>
          </p:nvPr>
        </p:nvSpPr>
        <p:spPr>
          <a:xfrm>
            <a:off x="3505320" y="3886200"/>
            <a:ext cx="5486400" cy="1846440"/>
          </a:xfrm>
          <a:prstGeom prst="rect">
            <a:avLst/>
          </a:prstGeom>
          <a:noFill/>
          <a:ln w="0">
            <a:noFill/>
          </a:ln>
        </p:spPr>
        <p:txBody>
          <a:bodyPr lIns="182520" rIns="182520" tIns="46080" bIns="460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lliam Dixon</a:t>
            </a:r>
            <a:br>
              <a:rPr sz="3200"/>
            </a:br>
            <a:r>
              <a:rPr b="1" lang="en-US" sz="3200" spc="-1" strike="noStrike">
                <a:solidFill>
                  <a:srgbClr val="ffffff"/>
                </a:solidFill>
                <a:latin typeface="Arial"/>
              </a:rPr>
              <a:t>IPSec Program Manager</a:t>
            </a:r>
            <a:br>
              <a:rPr sz="3200"/>
            </a:br>
            <a:r>
              <a:rPr b="1" lang="en-US" sz="3200" spc="-1" strike="noStrike">
                <a:solidFill>
                  <a:srgbClr val="ffffff"/>
                </a:solidFill>
                <a:latin typeface="Arial"/>
              </a:rPr>
              <a:t>Windows Networking</a:t>
            </a:r>
            <a:br>
              <a:rPr sz="3200"/>
            </a:br>
            <a:r>
              <a:rPr b="1" lang="en-US" sz="3200" spc="-1" strike="noStrike">
                <a:solidFill>
                  <a:srgbClr val="ffffff"/>
                </a:solidFill>
                <a:latin typeface="Arial"/>
              </a:rPr>
              <a:t>Microsoft Corporatio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22860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Filter Action Controls Filters &amp; Negotiation</a:t>
            </a:r>
            <a:endParaRPr b="1" lang="en-US" sz="4800" spc="-1" strike="noStrike">
              <a:solidFill>
                <a:srgbClr val="fccf00"/>
              </a:solidFill>
              <a:latin typeface="Arial"/>
            </a:endParaRPr>
          </a:p>
        </p:txBody>
      </p:sp>
      <p:pic>
        <p:nvPicPr>
          <p:cNvPr id="587" name="" descr=""/>
          <p:cNvPicPr/>
          <p:nvPr/>
        </p:nvPicPr>
        <p:blipFill>
          <a:blip r:embed="rId2"/>
          <a:stretch/>
        </p:blipFill>
        <p:spPr>
          <a:xfrm>
            <a:off x="398520" y="1679400"/>
            <a:ext cx="4762440" cy="4923000"/>
          </a:xfrm>
          <a:prstGeom prst="rect">
            <a:avLst/>
          </a:prstGeom>
          <a:ln w="0">
            <a:noFill/>
          </a:ln>
        </p:spPr>
      </p:pic>
      <p:sp>
        <p:nvSpPr>
          <p:cNvPr id="588" name=""/>
          <p:cNvSpPr/>
          <p:nvPr/>
        </p:nvSpPr>
        <p:spPr>
          <a:xfrm>
            <a:off x="5721480" y="1482840"/>
            <a:ext cx="3187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cept initial connection request, secure afterwards</a:t>
            </a:r>
            <a:endParaRPr b="0" lang="en-US" sz="3600" spc="-1" strike="noStrike">
              <a:solidFill>
                <a:srgbClr val="ffffff"/>
              </a:solidFill>
              <a:latin typeface="Times New Roman"/>
            </a:endParaRPr>
          </a:p>
        </p:txBody>
      </p:sp>
      <p:sp>
        <p:nvSpPr>
          <p:cNvPr id="589" name=""/>
          <p:cNvSpPr/>
          <p:nvPr/>
        </p:nvSpPr>
        <p:spPr>
          <a:xfrm>
            <a:off x="5708520" y="4835520"/>
            <a:ext cx="3249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ll-back to clear if no IKE </a:t>
            </a:r>
            <a:r>
              <a:rPr b="1" lang="en-US" sz="3600" spc="-1" strike="noStrike" u="sng">
                <a:solidFill>
                  <a:srgbClr val="ffffff"/>
                </a:solidFill>
                <a:uFillTx/>
                <a:latin typeface="Arial"/>
              </a:rPr>
              <a:t>reply</a:t>
            </a:r>
            <a:endParaRPr b="0" lang="en-US" sz="3600" spc="-1" strike="noStrike">
              <a:solidFill>
                <a:srgbClr val="ffffff"/>
              </a:solidFill>
              <a:latin typeface="Times New Roman"/>
            </a:endParaRPr>
          </a:p>
        </p:txBody>
      </p:sp>
      <p:sp>
        <p:nvSpPr>
          <p:cNvPr id="590" name=""/>
          <p:cNvSpPr/>
          <p:nvPr/>
        </p:nvSpPr>
        <p:spPr>
          <a:xfrm flipH="1">
            <a:off x="4597200" y="5189400"/>
            <a:ext cx="8650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flipH="1">
            <a:off x="4722480" y="3551400"/>
            <a:ext cx="965160" cy="1371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65040" y="22860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Authentication Method – Trust Model</a:t>
            </a:r>
            <a:endParaRPr b="1" lang="en-US" sz="4800" spc="-1" strike="noStrike">
              <a:solidFill>
                <a:srgbClr val="fccf00"/>
              </a:solidFill>
              <a:latin typeface="Arial"/>
            </a:endParaRPr>
          </a:p>
        </p:txBody>
      </p:sp>
      <p:sp>
        <p:nvSpPr>
          <p:cNvPr id="593" name=""/>
          <p:cNvSpPr/>
          <p:nvPr/>
        </p:nvSpPr>
        <p:spPr>
          <a:xfrm>
            <a:off x="182520" y="4167360"/>
            <a:ext cx="3002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Computer Certificates</a:t>
            </a:r>
            <a:endParaRPr b="0" lang="en-US" sz="3600" spc="-1" strike="noStrike">
              <a:solidFill>
                <a:srgbClr val="ffffff"/>
              </a:solidFill>
              <a:latin typeface="Times New Roman"/>
            </a:endParaRPr>
          </a:p>
        </p:txBody>
      </p:sp>
      <p:sp>
        <p:nvSpPr>
          <p:cNvPr id="594" name=""/>
          <p:cNvSpPr/>
          <p:nvPr/>
        </p:nvSpPr>
        <p:spPr>
          <a:xfrm>
            <a:off x="235080" y="1928880"/>
            <a:ext cx="3767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indows 2000 Domain Trust - Kerberos</a:t>
            </a:r>
            <a:endParaRPr b="0" lang="en-US" sz="3600" spc="-1" strike="noStrike">
              <a:solidFill>
                <a:srgbClr val="ffffff"/>
              </a:solidFill>
              <a:latin typeface="Times New Roman"/>
            </a:endParaRPr>
          </a:p>
        </p:txBody>
      </p:sp>
      <p:sp>
        <p:nvSpPr>
          <p:cNvPr id="595" name=""/>
          <p:cNvSpPr/>
          <p:nvPr/>
        </p:nvSpPr>
        <p:spPr>
          <a:xfrm flipH="1">
            <a:off x="2849400" y="3645000"/>
            <a:ext cx="1339920" cy="131580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flipV="1">
            <a:off x="2607840" y="3271680"/>
            <a:ext cx="1584360" cy="21600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97" name="" descr=""/>
          <p:cNvPicPr/>
          <p:nvPr/>
        </p:nvPicPr>
        <p:blipFill>
          <a:blip r:embed="rId2"/>
          <a:stretch/>
        </p:blipFill>
        <p:spPr>
          <a:xfrm>
            <a:off x="4192560" y="1160640"/>
            <a:ext cx="4700520" cy="5421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65040" y="228240"/>
            <a:ext cx="8431200" cy="1298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Don’t Use Pre-shared Key for IKE Authentication</a:t>
            </a:r>
            <a:endParaRPr b="1" lang="en-US" sz="4400" spc="-1" strike="noStrike">
              <a:solidFill>
                <a:srgbClr val="fccf00"/>
              </a:solidFill>
              <a:latin typeface="Arial"/>
            </a:endParaRPr>
          </a:p>
        </p:txBody>
      </p:sp>
      <p:sp>
        <p:nvSpPr>
          <p:cNvPr id="599" name="PlaceHolder 2"/>
          <p:cNvSpPr>
            <a:spLocks noGrp="1"/>
          </p:cNvSpPr>
          <p:nvPr>
            <p:ph/>
          </p:nvPr>
        </p:nvSpPr>
        <p:spPr>
          <a:xfrm>
            <a:off x="295200" y="1531440"/>
            <a:ext cx="8415360" cy="5243760"/>
          </a:xfrm>
          <a:prstGeom prst="rect">
            <a:avLst/>
          </a:prstGeom>
          <a:noFill/>
          <a:ln w="0">
            <a:noFill/>
          </a:ln>
        </p:spPr>
        <p:txBody>
          <a:bodyPr lIns="182520" rIns="182520" tIns="46080" bIns="46080" anchor="t">
            <a:normAutofit fontScale="99000"/>
          </a:bodyPr>
          <a:p>
            <a:pPr marL="571680" indent="-57168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KE RFC 2409 MUST authentication method</a:t>
            </a:r>
            <a:endParaRPr b="1" lang="en-US" sz="2000" spc="-1" strike="noStrike">
              <a:solidFill>
                <a:srgbClr val="ffffff"/>
              </a:solidFill>
              <a:latin typeface="Arial"/>
            </a:endParaRPr>
          </a:p>
          <a:p>
            <a:pPr lvl="1" marL="1019880" indent="-44604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Windows 2000 for testing, RFC compliance</a:t>
            </a:r>
            <a:endParaRPr b="1" lang="en-US" sz="1800" spc="-1" strike="noStrike">
              <a:solidFill>
                <a:srgbClr val="ffffff"/>
              </a:solidFill>
              <a:latin typeface="Arial"/>
            </a:endParaRPr>
          </a:p>
          <a:p>
            <a:pPr marL="571680" indent="-57168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t only secure if it is strong and never revealed</a:t>
            </a:r>
            <a:endParaRPr b="1" lang="en-US" sz="2000" spc="-1" strike="noStrike">
              <a:solidFill>
                <a:srgbClr val="ffffff"/>
              </a:solidFill>
              <a:latin typeface="Arial"/>
            </a:endParaRPr>
          </a:p>
          <a:p>
            <a:pPr marL="571680" indent="-57168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 key value can be attacked</a:t>
            </a:r>
            <a:endParaRPr b="1" lang="en-US" sz="2000" spc="-1" strike="noStrike">
              <a:solidFill>
                <a:srgbClr val="ffffff"/>
              </a:solidFill>
              <a:latin typeface="Arial"/>
            </a:endParaRPr>
          </a:p>
          <a:p>
            <a:pPr lvl="1" marL="1019880" indent="-44604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en-US" sz="1800" spc="-1" strike="noStrike" baseline="30000">
                <a:solidFill>
                  <a:srgbClr val="ffffff"/>
                </a:solidFill>
                <a:latin typeface="Arial"/>
              </a:rPr>
              <a:t>rd</a:t>
            </a:r>
            <a:r>
              <a:rPr b="1" lang="en-US" sz="1800" spc="-1" strike="noStrike">
                <a:solidFill>
                  <a:srgbClr val="ffffff"/>
                </a:solidFill>
                <a:latin typeface="Arial"/>
              </a:rPr>
              <a:t> party IPSec tunnel mode VPN clients using XAUTH may be vulnerable, may expose user’s password</a:t>
            </a:r>
            <a:endParaRPr b="1" lang="en-US" sz="1800" spc="-1" strike="noStrike">
              <a:solidFill>
                <a:srgbClr val="ffffff"/>
              </a:solidFill>
              <a:latin typeface="Arial"/>
            </a:endParaRPr>
          </a:p>
          <a:p>
            <a:pPr lvl="2" marL="1483560" indent="-46224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3</a:t>
            </a:r>
            <a:r>
              <a:rPr b="1" lang="en-US" sz="1800" spc="-1" strike="noStrike" baseline="30000">
                <a:solidFill>
                  <a:srgbClr val="ffffff"/>
                </a:solidFill>
                <a:latin typeface="Arial"/>
              </a:rPr>
              <a:t>rd</a:t>
            </a:r>
            <a:r>
              <a:rPr b="1" lang="en-US" sz="1800" spc="-1" strike="noStrike">
                <a:solidFill>
                  <a:srgbClr val="ffffff"/>
                </a:solidFill>
                <a:latin typeface="Arial"/>
              </a:rPr>
              <a:t> party IPSec VPN clients require one preshared key for all clients to authenticate – very bad</a:t>
            </a:r>
            <a:endParaRPr b="1" lang="en-US" sz="1800" spc="-1" strike="noStrike">
              <a:solidFill>
                <a:srgbClr val="ffffff"/>
              </a:solidFill>
              <a:latin typeface="Arial"/>
            </a:endParaRPr>
          </a:p>
          <a:p>
            <a:pPr lvl="1" marL="1019880" indent="-44604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tack details published: http://www.ima.umn.edu/~pliam/xauth/</a:t>
            </a:r>
            <a:endParaRPr b="1" lang="en-US" sz="1800" spc="-1" strike="noStrike">
              <a:solidFill>
                <a:srgbClr val="ffffff"/>
              </a:solidFill>
              <a:latin typeface="Arial"/>
            </a:endParaRPr>
          </a:p>
          <a:p>
            <a:pPr marL="571680" indent="-57168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2000 does not protect it like a password</a:t>
            </a:r>
            <a:endParaRPr b="1" lang="en-US" sz="2000" spc="-1" strike="noStrike">
              <a:solidFill>
                <a:srgbClr val="ffffff"/>
              </a:solidFill>
              <a:latin typeface="Arial"/>
            </a:endParaRPr>
          </a:p>
          <a:p>
            <a:pPr lvl="1" marL="1019880" indent="-44604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red in IPSec policy in readable form by administrators</a:t>
            </a:r>
            <a:endParaRPr b="1" lang="en-US" sz="1800" spc="-1" strike="noStrike">
              <a:solidFill>
                <a:srgbClr val="ffffff"/>
              </a:solidFill>
              <a:latin typeface="Arial"/>
            </a:endParaRPr>
          </a:p>
          <a:p>
            <a:pPr lvl="1" marL="1019880" indent="-44604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 default IPSec policy (and thus preshared keys) in Active Directory is readable by authenticated users.  Can restrict.</a:t>
            </a:r>
            <a:endParaRPr b="1" lang="en-US" sz="1800" spc="-1" strike="noStrike">
              <a:solidFill>
                <a:srgbClr val="ffffff"/>
              </a:solidFill>
              <a:latin typeface="Arial"/>
            </a:endParaRPr>
          </a:p>
          <a:p>
            <a:pPr marL="571680" indent="-57168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lutions for IKE initial authentication:</a:t>
            </a:r>
            <a:endParaRPr b="1" lang="en-US" sz="2000" spc="-1" strike="noStrike">
              <a:solidFill>
                <a:srgbClr val="ffffff"/>
              </a:solidFill>
              <a:latin typeface="Arial"/>
            </a:endParaRPr>
          </a:p>
          <a:p>
            <a:pPr lvl="1" marL="1019880" indent="-44604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certificates for remote access VPN</a:t>
            </a:r>
            <a:endParaRPr b="1" lang="en-US" sz="1800" spc="-1" strike="noStrike">
              <a:solidFill>
                <a:srgbClr val="ffffff"/>
              </a:solidFill>
              <a:latin typeface="Arial"/>
            </a:endParaRPr>
          </a:p>
          <a:p>
            <a:pPr lvl="1" marL="1019880" indent="-44604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certificates or Kerberos for end-to-end</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65040" y="228240"/>
            <a:ext cx="8778960" cy="53100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cf00"/>
                </a:solidFill>
                <a:latin typeface="Arial"/>
              </a:rPr>
              <a:t>IPSec Requires Computer Authentication</a:t>
            </a:r>
            <a:endParaRPr b="1" lang="en-US" sz="3200" spc="-1" strike="noStrike">
              <a:solidFill>
                <a:srgbClr val="fccf00"/>
              </a:solidFill>
              <a:latin typeface="Arial"/>
            </a:endParaRPr>
          </a:p>
        </p:txBody>
      </p:sp>
      <p:pic>
        <p:nvPicPr>
          <p:cNvPr id="601" name="" descr=""/>
          <p:cNvPicPr/>
          <p:nvPr/>
        </p:nvPicPr>
        <p:blipFill>
          <a:blip r:embed="rId2"/>
          <a:stretch/>
        </p:blipFill>
        <p:spPr>
          <a:xfrm>
            <a:off x="326880" y="1001880"/>
            <a:ext cx="8417160" cy="5695920"/>
          </a:xfrm>
          <a:prstGeom prst="rect">
            <a:avLst/>
          </a:prstGeom>
          <a:ln w="0">
            <a:noFill/>
          </a:ln>
        </p:spPr>
      </p:pic>
      <p:sp>
        <p:nvSpPr>
          <p:cNvPr id="602" name=""/>
          <p:cNvSpPr/>
          <p:nvPr/>
        </p:nvSpPr>
        <p:spPr>
          <a:xfrm>
            <a:off x="3751200" y="2495520"/>
            <a:ext cx="4917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chine Certificate – Stored in Local Computer Certificate Account</a:t>
            </a:r>
            <a:endParaRPr b="0" lang="en-US" sz="3600" spc="-1" strike="noStrike">
              <a:solidFill>
                <a:srgbClr val="ffffff"/>
              </a:solidFill>
              <a:latin typeface="Times New Roman"/>
            </a:endParaRPr>
          </a:p>
        </p:txBody>
      </p:sp>
      <p:sp>
        <p:nvSpPr>
          <p:cNvPr id="603" name=""/>
          <p:cNvSpPr/>
          <p:nvPr/>
        </p:nvSpPr>
        <p:spPr>
          <a:xfrm flipH="1">
            <a:off x="2027160" y="3187800"/>
            <a:ext cx="165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65040" y="228600"/>
            <a:ext cx="8431200" cy="9694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cf00"/>
                </a:solidFill>
                <a:latin typeface="Arial"/>
              </a:rPr>
              <a:t>Machine Certificates: Deploy with Group Policy Autoenrollment</a:t>
            </a:r>
            <a:endParaRPr b="1" lang="en-US" sz="3200" spc="-1" strike="noStrike">
              <a:solidFill>
                <a:srgbClr val="fccf00"/>
              </a:solidFill>
              <a:latin typeface="Arial"/>
            </a:endParaRPr>
          </a:p>
        </p:txBody>
      </p:sp>
      <p:pic>
        <p:nvPicPr>
          <p:cNvPr id="605" name="autoenrollgpsnapin" descr=""/>
          <p:cNvPicPr/>
          <p:nvPr/>
        </p:nvPicPr>
        <p:blipFill>
          <a:blip r:embed="rId2"/>
          <a:stretch/>
        </p:blipFill>
        <p:spPr>
          <a:xfrm>
            <a:off x="235080" y="1257480"/>
            <a:ext cx="5314680" cy="5114880"/>
          </a:xfrm>
          <a:prstGeom prst="rect">
            <a:avLst/>
          </a:prstGeom>
          <a:ln w="0">
            <a:noFill/>
          </a:ln>
        </p:spPr>
      </p:pic>
      <p:sp>
        <p:nvSpPr>
          <p:cNvPr id="606" name=""/>
          <p:cNvSpPr/>
          <p:nvPr/>
        </p:nvSpPr>
        <p:spPr>
          <a:xfrm>
            <a:off x="5745240" y="1273320"/>
            <a:ext cx="26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up policy object in AD</a:t>
            </a:r>
            <a:endParaRPr b="0" lang="en-US" sz="2400" spc="-1" strike="noStrike">
              <a:solidFill>
                <a:srgbClr val="ffffff"/>
              </a:solidFill>
              <a:latin typeface="Times New Roman"/>
            </a:endParaRPr>
          </a:p>
        </p:txBody>
      </p:sp>
      <p:sp>
        <p:nvSpPr>
          <p:cNvPr id="607" name=""/>
          <p:cNvSpPr/>
          <p:nvPr/>
        </p:nvSpPr>
        <p:spPr>
          <a:xfrm>
            <a:off x="5799240" y="2228760"/>
            <a:ext cx="292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enrollment policy setting</a:t>
            </a:r>
            <a:endParaRPr b="0" lang="en-US" sz="2400" spc="-1" strike="noStrike">
              <a:solidFill>
                <a:srgbClr val="ffffff"/>
              </a:solidFill>
              <a:latin typeface="Times New Roman"/>
            </a:endParaRPr>
          </a:p>
        </p:txBody>
      </p:sp>
      <p:pic>
        <p:nvPicPr>
          <p:cNvPr id="608" name="autoenrollprop" descr=""/>
          <p:cNvPicPr/>
          <p:nvPr/>
        </p:nvPicPr>
        <p:blipFill>
          <a:blip r:embed="rId3"/>
          <a:stretch/>
        </p:blipFill>
        <p:spPr>
          <a:xfrm>
            <a:off x="4352760" y="3043080"/>
            <a:ext cx="3440160" cy="3814920"/>
          </a:xfrm>
          <a:prstGeom prst="rect">
            <a:avLst/>
          </a:prstGeom>
          <a:ln w="0">
            <a:noFill/>
          </a:ln>
        </p:spPr>
      </p:pic>
      <p:sp>
        <p:nvSpPr>
          <p:cNvPr id="609" name=""/>
          <p:cNvSpPr/>
          <p:nvPr/>
        </p:nvSpPr>
        <p:spPr>
          <a:xfrm>
            <a:off x="8109000" y="5062680"/>
            <a:ext cx="103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 Name</a:t>
            </a:r>
            <a:endParaRPr b="0" lang="en-US" sz="2400" spc="-1" strike="noStrike">
              <a:solidFill>
                <a:srgbClr val="ffffff"/>
              </a:solidFill>
              <a:latin typeface="Times New Roman"/>
            </a:endParaRPr>
          </a:p>
        </p:txBody>
      </p:sp>
      <p:sp>
        <p:nvSpPr>
          <p:cNvPr id="610" name=""/>
          <p:cNvSpPr/>
          <p:nvPr/>
        </p:nvSpPr>
        <p:spPr>
          <a:xfrm flipH="1">
            <a:off x="7648560" y="5522760"/>
            <a:ext cx="457200" cy="0"/>
          </a:xfrm>
          <a:prstGeom prst="line">
            <a:avLst/>
          </a:prstGeom>
          <a:ln w="38160">
            <a:solidFill>
              <a:srgbClr val="fcc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flipH="1">
            <a:off x="3497040" y="2495520"/>
            <a:ext cx="2260440" cy="2508120"/>
          </a:xfrm>
          <a:prstGeom prst="line">
            <a:avLst/>
          </a:prstGeom>
          <a:ln w="38160">
            <a:solidFill>
              <a:srgbClr val="fcc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H="1">
            <a:off x="3520800" y="1569960"/>
            <a:ext cx="2236680" cy="1209600"/>
          </a:xfrm>
          <a:prstGeom prst="line">
            <a:avLst/>
          </a:prstGeom>
          <a:ln w="38160">
            <a:solidFill>
              <a:srgbClr val="fcc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7961400" y="3732120"/>
            <a:ext cx="103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 Type</a:t>
            </a:r>
            <a:endParaRPr b="0" lang="en-US" sz="2400" spc="-1" strike="noStrike">
              <a:solidFill>
                <a:srgbClr val="ffffff"/>
              </a:solidFill>
              <a:latin typeface="Times New Roman"/>
            </a:endParaRPr>
          </a:p>
        </p:txBody>
      </p:sp>
      <p:sp>
        <p:nvSpPr>
          <p:cNvPr id="614" name=""/>
          <p:cNvSpPr/>
          <p:nvPr/>
        </p:nvSpPr>
        <p:spPr>
          <a:xfrm flipH="1">
            <a:off x="7591320" y="4303800"/>
            <a:ext cx="408240" cy="0"/>
          </a:xfrm>
          <a:prstGeom prst="line">
            <a:avLst/>
          </a:prstGeom>
          <a:ln w="38160">
            <a:solidFill>
              <a:srgbClr val="fcc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2286000"/>
            <a:ext cx="77724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IPSec Policy Assignment &amp; Retrieval</a:t>
            </a:r>
            <a:endParaRPr b="1" lang="en-US" sz="4800" spc="-1" strike="noStrike">
              <a:solidFill>
                <a:srgbClr val="fccf00"/>
              </a:solidFill>
              <a:latin typeface="Arial"/>
            </a:endParaRPr>
          </a:p>
        </p:txBody>
      </p:sp>
      <p:sp>
        <p:nvSpPr>
          <p:cNvPr id="616" name="PlaceHolder 2"/>
          <p:cNvSpPr>
            <a:spLocks noGrp="1"/>
          </p:cNvSpPr>
          <p:nvPr>
            <p:ph type="subTitle"/>
          </p:nvPr>
        </p:nvSpPr>
        <p:spPr>
          <a:xfrm>
            <a:off x="1371600" y="3885840"/>
            <a:ext cx="6400800" cy="53028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76320" y="174600"/>
            <a:ext cx="906768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Active Directory™ IPSec Policy</a:t>
            </a:r>
            <a:endParaRPr b="1" lang="en-US" sz="4800" spc="-1" strike="noStrike">
              <a:solidFill>
                <a:srgbClr val="fccf00"/>
              </a:solidFill>
              <a:latin typeface="Arial"/>
            </a:endParaRPr>
          </a:p>
        </p:txBody>
      </p:sp>
      <p:grpSp>
        <p:nvGrpSpPr>
          <p:cNvPr id="618" name=""/>
          <p:cNvGrpSpPr/>
          <p:nvPr/>
        </p:nvGrpSpPr>
        <p:grpSpPr>
          <a:xfrm>
            <a:off x="4191120" y="1676520"/>
            <a:ext cx="3315600" cy="3512160"/>
            <a:chOff x="4191120" y="1676520"/>
            <a:chExt cx="3315600" cy="3512160"/>
          </a:xfrm>
        </p:grpSpPr>
        <p:sp>
          <p:nvSpPr>
            <p:cNvPr id="619" name=""/>
            <p:cNvSpPr/>
            <p:nvPr/>
          </p:nvSpPr>
          <p:spPr>
            <a:xfrm>
              <a:off x="4191120" y="1676520"/>
              <a:ext cx="3315600" cy="3512160"/>
            </a:xfrm>
            <a:prstGeom prst="triangle">
              <a:avLst>
                <a:gd name="adj" fmla="val 49986"/>
              </a:avLst>
            </a:prstGeom>
            <a:gradFill rotWithShape="0">
              <a:gsLst>
                <a:gs pos="0">
                  <a:srgbClr val="422021"/>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0" name=""/>
            <p:cNvGrpSpPr/>
            <p:nvPr/>
          </p:nvGrpSpPr>
          <p:grpSpPr>
            <a:xfrm>
              <a:off x="4748760" y="2379240"/>
              <a:ext cx="1951200" cy="2396520"/>
              <a:chOff x="4748760" y="2379240"/>
              <a:chExt cx="1951200" cy="2396520"/>
            </a:xfrm>
          </p:grpSpPr>
          <p:sp>
            <p:nvSpPr>
              <p:cNvPr id="621" name=""/>
              <p:cNvSpPr/>
              <p:nvPr/>
            </p:nvSpPr>
            <p:spPr>
              <a:xfrm>
                <a:off x="5758200" y="2691720"/>
                <a:ext cx="0" cy="25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5609160" y="2379240"/>
                <a:ext cx="291600" cy="286920"/>
              </a:xfrm>
              <a:prstGeom prst="ellipse">
                <a:avLst/>
              </a:prstGeom>
              <a:gradFill rotWithShape="0">
                <a:gsLst>
                  <a:gs pos="0">
                    <a:srgbClr val="413600"/>
                  </a:gs>
                  <a:gs pos="100000">
                    <a:srgbClr val="fccf00"/>
                  </a:gs>
                </a:gsLst>
                <a:lin ang="5400000"/>
              </a:gradFill>
              <a:ln w="12600">
                <a:solidFill>
                  <a:srgbClr val="000000"/>
                </a:solidFill>
                <a:miter/>
              </a:ln>
              <a:effectLst>
                <a:outerShdw dist="125751"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flipH="1">
                <a:off x="5451840" y="3152520"/>
                <a:ext cx="306000" cy="60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787360" y="3187800"/>
                <a:ext cx="457560" cy="62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5615280" y="2945880"/>
                <a:ext cx="288360" cy="289800"/>
              </a:xfrm>
              <a:prstGeom prst="ellipse">
                <a:avLst/>
              </a:prstGeom>
              <a:gradFill rotWithShape="0">
                <a:gsLst>
                  <a:gs pos="0">
                    <a:srgbClr val="413600"/>
                  </a:gs>
                  <a:gs pos="100000">
                    <a:srgbClr val="fccf00"/>
                  </a:gs>
                </a:gsLst>
                <a:lin ang="5400000"/>
              </a:gradFill>
              <a:ln w="12600">
                <a:solidFill>
                  <a:srgbClr val="000000"/>
                </a:solidFill>
                <a:miter/>
              </a:ln>
              <a:effectLst>
                <a:outerShdw dist="125751"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flipH="1">
                <a:off x="4891320" y="3912480"/>
                <a:ext cx="513360" cy="72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5451840" y="3889800"/>
                <a:ext cx="548280" cy="75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5451840" y="3873600"/>
                <a:ext cx="0" cy="77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256800" y="3838680"/>
                <a:ext cx="312120" cy="78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748760" y="4489560"/>
                <a:ext cx="291600" cy="286200"/>
              </a:xfrm>
              <a:prstGeom prst="ellipse">
                <a:avLst/>
              </a:prstGeom>
              <a:gradFill rotWithShape="0">
                <a:gsLst>
                  <a:gs pos="0">
                    <a:srgbClr val="413600"/>
                  </a:gs>
                  <a:gs pos="100000">
                    <a:srgbClr val="fccf00"/>
                  </a:gs>
                </a:gsLst>
                <a:lin ang="5400000"/>
              </a:gradFill>
              <a:ln w="12600">
                <a:solidFill>
                  <a:srgbClr val="000000"/>
                </a:solidFill>
                <a:miter/>
              </a:ln>
              <a:effectLst>
                <a:outerShdw dist="125751"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110640" y="3713040"/>
                <a:ext cx="291600" cy="286200"/>
              </a:xfrm>
              <a:prstGeom prst="ellipse">
                <a:avLst/>
              </a:prstGeom>
              <a:gradFill rotWithShape="0">
                <a:gsLst>
                  <a:gs pos="0">
                    <a:srgbClr val="413600"/>
                  </a:gs>
                  <a:gs pos="100000">
                    <a:srgbClr val="fccf00"/>
                  </a:gs>
                </a:gsLst>
                <a:lin ang="5400000"/>
              </a:gradFill>
              <a:ln w="12600">
                <a:solidFill>
                  <a:srgbClr val="000000"/>
                </a:solidFill>
                <a:miter/>
              </a:ln>
              <a:effectLst>
                <a:outerShdw dist="125751"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5293800" y="3713040"/>
                <a:ext cx="289080" cy="286200"/>
              </a:xfrm>
              <a:prstGeom prst="ellipse">
                <a:avLst/>
              </a:prstGeom>
              <a:gradFill rotWithShape="0">
                <a:gsLst>
                  <a:gs pos="0">
                    <a:srgbClr val="413600"/>
                  </a:gs>
                  <a:gs pos="100000">
                    <a:srgbClr val="fccf00"/>
                  </a:gs>
                </a:gsLst>
                <a:lin ang="5400000"/>
              </a:gradFill>
              <a:ln w="12600">
                <a:solidFill>
                  <a:srgbClr val="000000"/>
                </a:solidFill>
                <a:miter/>
              </a:ln>
              <a:effectLst>
                <a:outerShdw dist="125751"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6408360" y="4489560"/>
                <a:ext cx="291600" cy="286200"/>
              </a:xfrm>
              <a:prstGeom prst="ellipse">
                <a:avLst/>
              </a:prstGeom>
              <a:gradFill rotWithShape="0">
                <a:gsLst>
                  <a:gs pos="0">
                    <a:srgbClr val="413600"/>
                  </a:gs>
                  <a:gs pos="100000">
                    <a:srgbClr val="fccf00"/>
                  </a:gs>
                </a:gsLst>
                <a:lin ang="5400000"/>
              </a:gradFill>
              <a:ln w="12600">
                <a:solidFill>
                  <a:srgbClr val="000000"/>
                </a:solidFill>
                <a:miter/>
              </a:ln>
              <a:effectLst>
                <a:outerShdw dist="125751"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5851440" y="4489560"/>
                <a:ext cx="288360" cy="286200"/>
              </a:xfrm>
              <a:prstGeom prst="ellipse">
                <a:avLst/>
              </a:prstGeom>
              <a:gradFill rotWithShape="0">
                <a:gsLst>
                  <a:gs pos="0">
                    <a:srgbClr val="413600"/>
                  </a:gs>
                  <a:gs pos="100000">
                    <a:srgbClr val="fccf00"/>
                  </a:gs>
                </a:gsLst>
                <a:lin ang="5400000"/>
              </a:gradFill>
              <a:ln w="12600">
                <a:solidFill>
                  <a:srgbClr val="000000"/>
                </a:solidFill>
                <a:miter/>
              </a:ln>
              <a:effectLst>
                <a:outerShdw dist="125751"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305680" y="4489560"/>
                <a:ext cx="291600" cy="286200"/>
              </a:xfrm>
              <a:prstGeom prst="ellipse">
                <a:avLst/>
              </a:prstGeom>
              <a:gradFill rotWithShape="0">
                <a:gsLst>
                  <a:gs pos="0">
                    <a:srgbClr val="413600"/>
                  </a:gs>
                  <a:gs pos="100000">
                    <a:srgbClr val="fccf00"/>
                  </a:gs>
                </a:gsLst>
                <a:lin ang="5400000"/>
              </a:gradFill>
              <a:ln w="12600">
                <a:solidFill>
                  <a:srgbClr val="000000"/>
                </a:solidFill>
                <a:miter/>
              </a:ln>
              <a:effectLst>
                <a:outerShdw dist="125751"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636" name=""/>
          <p:cNvSpPr/>
          <p:nvPr/>
        </p:nvSpPr>
        <p:spPr>
          <a:xfrm>
            <a:off x="6248520" y="22860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MAIN</a:t>
            </a:r>
            <a:endParaRPr b="0" lang="en-US" sz="2400" spc="-1" strike="noStrike">
              <a:solidFill>
                <a:srgbClr val="ffffff"/>
              </a:solidFill>
              <a:latin typeface="Times New Roman"/>
            </a:endParaRPr>
          </a:p>
        </p:txBody>
      </p:sp>
      <p:sp>
        <p:nvSpPr>
          <p:cNvPr id="637" name=""/>
          <p:cNvSpPr/>
          <p:nvPr/>
        </p:nvSpPr>
        <p:spPr>
          <a:xfrm>
            <a:off x="6400800" y="2819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ational Unit</a:t>
            </a:r>
            <a:endParaRPr b="0" lang="en-US" sz="2400" spc="-1" strike="noStrike">
              <a:solidFill>
                <a:srgbClr val="ffffff"/>
              </a:solidFill>
              <a:latin typeface="Times New Roman"/>
            </a:endParaRPr>
          </a:p>
        </p:txBody>
      </p:sp>
      <p:sp>
        <p:nvSpPr>
          <p:cNvPr id="638" name=""/>
          <p:cNvSpPr/>
          <p:nvPr/>
        </p:nvSpPr>
        <p:spPr>
          <a:xfrm>
            <a:off x="4131720" y="4910040"/>
            <a:ext cx="14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ndy-Wrksta</a:t>
            </a:r>
            <a:endParaRPr b="0" lang="en-US" sz="1800" spc="-1" strike="noStrike">
              <a:solidFill>
                <a:srgbClr val="ffffff"/>
              </a:solidFill>
              <a:latin typeface="Times New Roman"/>
            </a:endParaRPr>
          </a:p>
        </p:txBody>
      </p:sp>
      <p:sp>
        <p:nvSpPr>
          <p:cNvPr id="639" name=""/>
          <p:cNvSpPr/>
          <p:nvPr/>
        </p:nvSpPr>
        <p:spPr>
          <a:xfrm>
            <a:off x="5897520" y="494172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up-Server</a:t>
            </a:r>
            <a:endParaRPr b="0" lang="en-US" sz="1800" spc="-1" strike="noStrike">
              <a:solidFill>
                <a:srgbClr val="ffffff"/>
              </a:solidFill>
              <a:latin typeface="Times New Roman"/>
            </a:endParaRPr>
          </a:p>
        </p:txBody>
      </p:sp>
      <p:sp>
        <p:nvSpPr>
          <p:cNvPr id="640" name=""/>
          <p:cNvSpPr/>
          <p:nvPr/>
        </p:nvSpPr>
        <p:spPr>
          <a:xfrm>
            <a:off x="3048120" y="2133720"/>
            <a:ext cx="1752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048120" y="2133720"/>
            <a:ext cx="213336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3048120" y="2133720"/>
            <a:ext cx="228600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587520" y="5494320"/>
            <a:ext cx="81277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sy and Scalable Management for 10 or 10,000</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main IPSec policy overrides local settings</a:t>
            </a:r>
            <a:endParaRPr b="0" lang="en-US" sz="2800" spc="-1" strike="noStrike">
              <a:solidFill>
                <a:srgbClr val="ffffff"/>
              </a:solidFill>
              <a:latin typeface="Times New Roman"/>
            </a:endParaRPr>
          </a:p>
        </p:txBody>
      </p:sp>
      <p:sp>
        <p:nvSpPr>
          <p:cNvPr id="644" name=""/>
          <p:cNvSpPr/>
          <p:nvPr/>
        </p:nvSpPr>
        <p:spPr>
          <a:xfrm>
            <a:off x="380880" y="1752480"/>
            <a:ext cx="32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up Policy</a:t>
            </a:r>
            <a:endParaRPr b="0" lang="en-US" sz="3200" spc="-1" strike="noStrike">
              <a:solidFill>
                <a:srgbClr val="ffffff"/>
              </a:solidFill>
              <a:latin typeface="Times New Roman"/>
            </a:endParaRPr>
          </a:p>
        </p:txBody>
      </p:sp>
      <p:sp>
        <p:nvSpPr>
          <p:cNvPr id="645" name=""/>
          <p:cNvSpPr/>
          <p:nvPr/>
        </p:nvSpPr>
        <p:spPr>
          <a:xfrm>
            <a:off x="6400800" y="36576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ational Unit</a:t>
            </a:r>
            <a:endParaRPr b="0" lang="en-US" sz="2400" spc="-1" strike="noStrike">
              <a:solidFill>
                <a:srgbClr val="ffffff"/>
              </a:solidFill>
              <a:latin typeface="Times New Roman"/>
            </a:endParaRPr>
          </a:p>
        </p:txBody>
      </p:sp>
      <p:sp>
        <p:nvSpPr>
          <p:cNvPr id="646" name=""/>
          <p:cNvSpPr/>
          <p:nvPr/>
        </p:nvSpPr>
        <p:spPr>
          <a:xfrm>
            <a:off x="762120" y="2362320"/>
            <a:ext cx="380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r Configuration</a:t>
            </a:r>
            <a:endParaRPr b="0" lang="en-US" sz="2400" spc="-1" strike="noStrike">
              <a:solidFill>
                <a:srgbClr val="ffffff"/>
              </a:solidFill>
              <a:latin typeface="Times New Roman"/>
            </a:endParaRPr>
          </a:p>
        </p:txBody>
      </p:sp>
      <p:sp>
        <p:nvSpPr>
          <p:cNvPr id="647" name=""/>
          <p:cNvSpPr/>
          <p:nvPr/>
        </p:nvSpPr>
        <p:spPr>
          <a:xfrm>
            <a:off x="1066680" y="2819520"/>
            <a:ext cx="38102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Settings</a:t>
            </a:r>
            <a:endParaRPr b="0" lang="en-US" sz="2400" spc="-1" strike="noStrike">
              <a:solidFill>
                <a:srgbClr val="ffffff"/>
              </a:solidFill>
              <a:latin typeface="Times New Roman"/>
            </a:endParaRPr>
          </a:p>
        </p:txBody>
      </p:sp>
      <p:sp>
        <p:nvSpPr>
          <p:cNvPr id="648" name=""/>
          <p:cNvSpPr/>
          <p:nvPr/>
        </p:nvSpPr>
        <p:spPr>
          <a:xfrm>
            <a:off x="1371600" y="3276720"/>
            <a:ext cx="380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Settings</a:t>
            </a:r>
            <a:endParaRPr b="0" lang="en-US" sz="2400" spc="-1" strike="noStrike">
              <a:solidFill>
                <a:srgbClr val="ffffff"/>
              </a:solidFill>
              <a:latin typeface="Times New Roman"/>
            </a:endParaRPr>
          </a:p>
        </p:txBody>
      </p:sp>
      <p:sp>
        <p:nvSpPr>
          <p:cNvPr id="649" name=""/>
          <p:cNvSpPr/>
          <p:nvPr/>
        </p:nvSpPr>
        <p:spPr>
          <a:xfrm>
            <a:off x="1828800" y="3770280"/>
            <a:ext cx="380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Security Policies</a:t>
            </a:r>
            <a:endParaRPr b="0" lang="en-US" sz="2400" spc="-1" strike="noStrike">
              <a:solidFill>
                <a:srgbClr val="ffffff"/>
              </a:solidFill>
              <a:latin typeface="Times New Roman"/>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65040" y="228240"/>
            <a:ext cx="8431200" cy="1298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Using Group Policy Security Policy with IPSec</a:t>
            </a:r>
            <a:endParaRPr b="1" lang="en-US" sz="4400" spc="-1" strike="noStrike">
              <a:solidFill>
                <a:srgbClr val="fccf00"/>
              </a:solidFill>
              <a:latin typeface="Arial"/>
            </a:endParaRPr>
          </a:p>
        </p:txBody>
      </p:sp>
      <p:grpSp>
        <p:nvGrpSpPr>
          <p:cNvPr id="651" name=""/>
          <p:cNvGrpSpPr/>
          <p:nvPr/>
        </p:nvGrpSpPr>
        <p:grpSpPr>
          <a:xfrm>
            <a:off x="7713720" y="4159080"/>
            <a:ext cx="690480" cy="711360"/>
            <a:chOff x="7713720" y="4159080"/>
            <a:chExt cx="690480" cy="711360"/>
          </a:xfrm>
        </p:grpSpPr>
        <p:sp>
          <p:nvSpPr>
            <p:cNvPr id="652" name=""/>
            <p:cNvSpPr/>
            <p:nvPr/>
          </p:nvSpPr>
          <p:spPr>
            <a:xfrm>
              <a:off x="7953480" y="4181400"/>
              <a:ext cx="29988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7970760" y="454392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7970760" y="43077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7713720" y="41605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656" name=""/>
            <p:cNvSpPr/>
            <p:nvPr/>
          </p:nvSpPr>
          <p:spPr>
            <a:xfrm>
              <a:off x="7713720" y="4160520"/>
              <a:ext cx="24120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7926480" y="4184640"/>
              <a:ext cx="284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7970760" y="4306320"/>
              <a:ext cx="26676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7970760" y="426888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660" name=""/>
            <p:cNvSpPr/>
            <p:nvPr/>
          </p:nvSpPr>
          <p:spPr>
            <a:xfrm>
              <a:off x="7970760" y="42069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661" name=""/>
            <p:cNvSpPr/>
            <p:nvPr/>
          </p:nvSpPr>
          <p:spPr>
            <a:xfrm>
              <a:off x="7713720" y="41590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2" name=""/>
            <p:cNvSpPr/>
            <p:nvPr/>
          </p:nvSpPr>
          <p:spPr>
            <a:xfrm>
              <a:off x="7951680" y="4181400"/>
              <a:ext cx="3016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7713720" y="4160520"/>
              <a:ext cx="23976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7926480" y="418608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7926480" y="41950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6" name=""/>
            <p:cNvSpPr/>
            <p:nvPr/>
          </p:nvSpPr>
          <p:spPr>
            <a:xfrm>
              <a:off x="7926480" y="42447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7" name=""/>
            <p:cNvSpPr/>
            <p:nvPr/>
          </p:nvSpPr>
          <p:spPr>
            <a:xfrm>
              <a:off x="7970760" y="42069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668" name=""/>
            <p:cNvSpPr/>
            <p:nvPr/>
          </p:nvSpPr>
          <p:spPr>
            <a:xfrm>
              <a:off x="7926480" y="42598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9" name=""/>
            <p:cNvSpPr/>
            <p:nvPr/>
          </p:nvSpPr>
          <p:spPr>
            <a:xfrm>
              <a:off x="7926480" y="43063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0" name=""/>
            <p:cNvSpPr/>
            <p:nvPr/>
          </p:nvSpPr>
          <p:spPr>
            <a:xfrm>
              <a:off x="7926480" y="449460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1" name=""/>
            <p:cNvSpPr/>
            <p:nvPr/>
          </p:nvSpPr>
          <p:spPr>
            <a:xfrm>
              <a:off x="7970760" y="431676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8236080" y="430776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7970760" y="43077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8223120" y="44895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75" name=""/>
            <p:cNvSpPr/>
            <p:nvPr/>
          </p:nvSpPr>
          <p:spPr>
            <a:xfrm flipH="1">
              <a:off x="7970400" y="43696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676" name=""/>
            <p:cNvSpPr/>
            <p:nvPr/>
          </p:nvSpPr>
          <p:spPr>
            <a:xfrm flipH="1">
              <a:off x="7970400" y="44326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677" name=""/>
            <p:cNvSpPr/>
            <p:nvPr/>
          </p:nvSpPr>
          <p:spPr>
            <a:xfrm>
              <a:off x="7926480" y="454392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8" name=""/>
            <p:cNvSpPr/>
            <p:nvPr/>
          </p:nvSpPr>
          <p:spPr>
            <a:xfrm>
              <a:off x="7926480" y="480852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79" name=""/>
            <p:cNvSpPr/>
            <p:nvPr/>
          </p:nvSpPr>
          <p:spPr>
            <a:xfrm>
              <a:off x="7970760" y="455904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8236080" y="454392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7970760" y="479052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2" name=""/>
            <p:cNvSpPr/>
            <p:nvPr/>
          </p:nvSpPr>
          <p:spPr>
            <a:xfrm>
              <a:off x="7970760" y="477864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 name=""/>
            <p:cNvSpPr/>
            <p:nvPr/>
          </p:nvSpPr>
          <p:spPr>
            <a:xfrm>
              <a:off x="7970760" y="47678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84" name=""/>
            <p:cNvSpPr/>
            <p:nvPr/>
          </p:nvSpPr>
          <p:spPr>
            <a:xfrm>
              <a:off x="7970760" y="475596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685" name=""/>
            <p:cNvSpPr/>
            <p:nvPr/>
          </p:nvSpPr>
          <p:spPr>
            <a:xfrm>
              <a:off x="7970760" y="474228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6" name=""/>
            <p:cNvSpPr/>
            <p:nvPr/>
          </p:nvSpPr>
          <p:spPr>
            <a:xfrm>
              <a:off x="7970760" y="42087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687" name=""/>
            <p:cNvSpPr/>
            <p:nvPr/>
          </p:nvSpPr>
          <p:spPr>
            <a:xfrm>
              <a:off x="8223120" y="42310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688" name=""/>
            <p:cNvSpPr/>
            <p:nvPr/>
          </p:nvSpPr>
          <p:spPr>
            <a:xfrm>
              <a:off x="8032680" y="426888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689" name=""/>
            <p:cNvSpPr/>
            <p:nvPr/>
          </p:nvSpPr>
          <p:spPr>
            <a:xfrm>
              <a:off x="7970760" y="426888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690" name=""/>
            <p:cNvSpPr/>
            <p:nvPr/>
          </p:nvSpPr>
          <p:spPr>
            <a:xfrm>
              <a:off x="7970760" y="42854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1" name=""/>
            <p:cNvSpPr/>
            <p:nvPr/>
          </p:nvSpPr>
          <p:spPr>
            <a:xfrm flipH="1">
              <a:off x="8174160" y="42883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692" name=""/>
            <p:cNvSpPr/>
            <p:nvPr/>
          </p:nvSpPr>
          <p:spPr>
            <a:xfrm>
              <a:off x="8174160" y="426888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693" name=""/>
            <p:cNvSpPr/>
            <p:nvPr/>
          </p:nvSpPr>
          <p:spPr>
            <a:xfrm>
              <a:off x="7983720" y="42235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4" name=""/>
            <p:cNvSpPr/>
            <p:nvPr/>
          </p:nvSpPr>
          <p:spPr>
            <a:xfrm>
              <a:off x="8020080" y="42220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5" name=""/>
            <p:cNvSpPr/>
            <p:nvPr/>
          </p:nvSpPr>
          <p:spPr>
            <a:xfrm>
              <a:off x="8056440" y="42220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6" name=""/>
            <p:cNvSpPr/>
            <p:nvPr/>
          </p:nvSpPr>
          <p:spPr>
            <a:xfrm>
              <a:off x="8094600" y="42220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7" name=""/>
            <p:cNvSpPr/>
            <p:nvPr/>
          </p:nvSpPr>
          <p:spPr>
            <a:xfrm>
              <a:off x="8132760" y="42206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8" name=""/>
            <p:cNvSpPr/>
            <p:nvPr/>
          </p:nvSpPr>
          <p:spPr>
            <a:xfrm>
              <a:off x="8167680" y="42174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9" name=""/>
            <p:cNvSpPr/>
            <p:nvPr/>
          </p:nvSpPr>
          <p:spPr>
            <a:xfrm>
              <a:off x="8205840" y="42174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0" name=""/>
            <p:cNvSpPr/>
            <p:nvPr/>
          </p:nvSpPr>
          <p:spPr>
            <a:xfrm>
              <a:off x="8210520" y="43077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8251920" y="477252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702" name="" descr=""/>
          <p:cNvPicPr/>
          <p:nvPr/>
        </p:nvPicPr>
        <p:blipFill>
          <a:blip r:embed="rId2"/>
          <a:stretch/>
        </p:blipFill>
        <p:spPr>
          <a:xfrm>
            <a:off x="1739880" y="4448160"/>
            <a:ext cx="862200" cy="577800"/>
          </a:xfrm>
          <a:prstGeom prst="rect">
            <a:avLst/>
          </a:prstGeom>
          <a:ln w="0">
            <a:noFill/>
          </a:ln>
        </p:spPr>
      </p:pic>
      <p:pic>
        <p:nvPicPr>
          <p:cNvPr id="703" name="" descr=""/>
          <p:cNvPicPr/>
          <p:nvPr/>
        </p:nvPicPr>
        <p:blipFill>
          <a:blip r:embed="rId3"/>
          <a:stretch/>
        </p:blipFill>
        <p:spPr>
          <a:xfrm>
            <a:off x="1236600" y="4111560"/>
            <a:ext cx="862200" cy="577800"/>
          </a:xfrm>
          <a:prstGeom prst="rect">
            <a:avLst/>
          </a:prstGeom>
          <a:ln w="0">
            <a:noFill/>
          </a:ln>
        </p:spPr>
      </p:pic>
      <p:grpSp>
        <p:nvGrpSpPr>
          <p:cNvPr id="704" name=""/>
          <p:cNvGrpSpPr/>
          <p:nvPr/>
        </p:nvGrpSpPr>
        <p:grpSpPr>
          <a:xfrm>
            <a:off x="7151760" y="4218120"/>
            <a:ext cx="690480" cy="711000"/>
            <a:chOff x="7151760" y="4218120"/>
            <a:chExt cx="690480" cy="711000"/>
          </a:xfrm>
        </p:grpSpPr>
        <p:sp>
          <p:nvSpPr>
            <p:cNvPr id="705" name=""/>
            <p:cNvSpPr/>
            <p:nvPr/>
          </p:nvSpPr>
          <p:spPr>
            <a:xfrm>
              <a:off x="7391520" y="424044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7408800" y="460260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7408800" y="436680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7151760" y="421956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709" name=""/>
            <p:cNvSpPr/>
            <p:nvPr/>
          </p:nvSpPr>
          <p:spPr>
            <a:xfrm>
              <a:off x="7151760" y="421956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7364520" y="424368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7408800" y="436536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7408800" y="432756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713" name=""/>
            <p:cNvSpPr/>
            <p:nvPr/>
          </p:nvSpPr>
          <p:spPr>
            <a:xfrm>
              <a:off x="7408800" y="426600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714" name=""/>
            <p:cNvSpPr/>
            <p:nvPr/>
          </p:nvSpPr>
          <p:spPr>
            <a:xfrm>
              <a:off x="7151760" y="421812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15" name=""/>
            <p:cNvSpPr/>
            <p:nvPr/>
          </p:nvSpPr>
          <p:spPr>
            <a:xfrm>
              <a:off x="7389720" y="424044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7151760" y="421956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7364520" y="424512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364520" y="425412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9" name=""/>
            <p:cNvSpPr/>
            <p:nvPr/>
          </p:nvSpPr>
          <p:spPr>
            <a:xfrm>
              <a:off x="7364520" y="4303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0" name=""/>
            <p:cNvSpPr/>
            <p:nvPr/>
          </p:nvSpPr>
          <p:spPr>
            <a:xfrm>
              <a:off x="7408800" y="426600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721" name=""/>
            <p:cNvSpPr/>
            <p:nvPr/>
          </p:nvSpPr>
          <p:spPr>
            <a:xfrm>
              <a:off x="7364520" y="43189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2" name=""/>
            <p:cNvSpPr/>
            <p:nvPr/>
          </p:nvSpPr>
          <p:spPr>
            <a:xfrm>
              <a:off x="7364520" y="43653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3" name=""/>
            <p:cNvSpPr/>
            <p:nvPr/>
          </p:nvSpPr>
          <p:spPr>
            <a:xfrm>
              <a:off x="7364520" y="455328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4" name=""/>
            <p:cNvSpPr/>
            <p:nvPr/>
          </p:nvSpPr>
          <p:spPr>
            <a:xfrm>
              <a:off x="7408800" y="437580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674120" y="436680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7408800" y="436680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7661160" y="454860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728" name=""/>
            <p:cNvSpPr/>
            <p:nvPr/>
          </p:nvSpPr>
          <p:spPr>
            <a:xfrm flipH="1">
              <a:off x="7408440" y="442872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729" name=""/>
            <p:cNvSpPr/>
            <p:nvPr/>
          </p:nvSpPr>
          <p:spPr>
            <a:xfrm flipH="1">
              <a:off x="7408440" y="449172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730" name=""/>
            <p:cNvSpPr/>
            <p:nvPr/>
          </p:nvSpPr>
          <p:spPr>
            <a:xfrm>
              <a:off x="7364520" y="460260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31" name=""/>
            <p:cNvSpPr/>
            <p:nvPr/>
          </p:nvSpPr>
          <p:spPr>
            <a:xfrm>
              <a:off x="7364520" y="486720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2" name=""/>
            <p:cNvSpPr/>
            <p:nvPr/>
          </p:nvSpPr>
          <p:spPr>
            <a:xfrm>
              <a:off x="7408800" y="461772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7674120" y="460260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7408800" y="484920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5" name=""/>
            <p:cNvSpPr/>
            <p:nvPr/>
          </p:nvSpPr>
          <p:spPr>
            <a:xfrm>
              <a:off x="7408800" y="483732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6" name=""/>
            <p:cNvSpPr/>
            <p:nvPr/>
          </p:nvSpPr>
          <p:spPr>
            <a:xfrm>
              <a:off x="7408800" y="482688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37" name=""/>
            <p:cNvSpPr/>
            <p:nvPr/>
          </p:nvSpPr>
          <p:spPr>
            <a:xfrm>
              <a:off x="7408800" y="481464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738" name=""/>
            <p:cNvSpPr/>
            <p:nvPr/>
          </p:nvSpPr>
          <p:spPr>
            <a:xfrm>
              <a:off x="7408800" y="480096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9" name=""/>
            <p:cNvSpPr/>
            <p:nvPr/>
          </p:nvSpPr>
          <p:spPr>
            <a:xfrm>
              <a:off x="7408800" y="426780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740" name=""/>
            <p:cNvSpPr/>
            <p:nvPr/>
          </p:nvSpPr>
          <p:spPr>
            <a:xfrm>
              <a:off x="7661160" y="429012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741" name=""/>
            <p:cNvSpPr/>
            <p:nvPr/>
          </p:nvSpPr>
          <p:spPr>
            <a:xfrm>
              <a:off x="7470720" y="432756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742" name=""/>
            <p:cNvSpPr/>
            <p:nvPr/>
          </p:nvSpPr>
          <p:spPr>
            <a:xfrm>
              <a:off x="7408800" y="432756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43" name=""/>
            <p:cNvSpPr/>
            <p:nvPr/>
          </p:nvSpPr>
          <p:spPr>
            <a:xfrm>
              <a:off x="7408800" y="434448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4" name=""/>
            <p:cNvSpPr/>
            <p:nvPr/>
          </p:nvSpPr>
          <p:spPr>
            <a:xfrm flipH="1">
              <a:off x="7612200" y="434736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745" name=""/>
            <p:cNvSpPr/>
            <p:nvPr/>
          </p:nvSpPr>
          <p:spPr>
            <a:xfrm>
              <a:off x="7612200" y="432756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746" name=""/>
            <p:cNvSpPr/>
            <p:nvPr/>
          </p:nvSpPr>
          <p:spPr>
            <a:xfrm>
              <a:off x="7421760" y="428256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7" name=""/>
            <p:cNvSpPr/>
            <p:nvPr/>
          </p:nvSpPr>
          <p:spPr>
            <a:xfrm>
              <a:off x="7458120" y="428112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8" name=""/>
            <p:cNvSpPr/>
            <p:nvPr/>
          </p:nvSpPr>
          <p:spPr>
            <a:xfrm>
              <a:off x="7494480" y="428112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9" name=""/>
            <p:cNvSpPr/>
            <p:nvPr/>
          </p:nvSpPr>
          <p:spPr>
            <a:xfrm>
              <a:off x="7532640" y="428112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0" name=""/>
            <p:cNvSpPr/>
            <p:nvPr/>
          </p:nvSpPr>
          <p:spPr>
            <a:xfrm>
              <a:off x="7570800" y="427968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1" name=""/>
            <p:cNvSpPr/>
            <p:nvPr/>
          </p:nvSpPr>
          <p:spPr>
            <a:xfrm>
              <a:off x="7605720" y="427644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2" name=""/>
            <p:cNvSpPr/>
            <p:nvPr/>
          </p:nvSpPr>
          <p:spPr>
            <a:xfrm>
              <a:off x="7643880" y="427644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3" name=""/>
            <p:cNvSpPr/>
            <p:nvPr/>
          </p:nvSpPr>
          <p:spPr>
            <a:xfrm>
              <a:off x="7648560" y="436680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7689960" y="483120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sp>
        <p:nvSpPr>
          <p:cNvPr id="755" name=""/>
          <p:cNvSpPr/>
          <p:nvPr/>
        </p:nvSpPr>
        <p:spPr>
          <a:xfrm>
            <a:off x="6157800" y="4959360"/>
            <a:ext cx="2986200" cy="8323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 or no policy for some servers: DC, VPN,  DNS, DHCP</a:t>
            </a:r>
            <a:endParaRPr b="0" lang="en-US" sz="1800" spc="-1" strike="noStrike">
              <a:solidFill>
                <a:srgbClr val="ffffff"/>
              </a:solidFill>
              <a:latin typeface="Times New Roman"/>
            </a:endParaRPr>
          </a:p>
        </p:txBody>
      </p:sp>
      <p:sp>
        <p:nvSpPr>
          <p:cNvPr id="756" name=""/>
          <p:cNvSpPr/>
          <p:nvPr/>
        </p:nvSpPr>
        <p:spPr>
          <a:xfrm>
            <a:off x="4394160" y="882720"/>
            <a:ext cx="3605400" cy="289080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6211800" y="1778040"/>
            <a:ext cx="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6051600" y="1519200"/>
            <a:ext cx="315720" cy="2365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a:off x="5879880" y="2157480"/>
            <a:ext cx="331560" cy="50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6243480" y="2185920"/>
            <a:ext cx="498600" cy="51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6058080" y="1987560"/>
            <a:ext cx="312480" cy="23796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flipH="1">
            <a:off x="5270040" y="2782800"/>
            <a:ext cx="55908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5880240" y="2765520"/>
            <a:ext cx="595080" cy="6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5880240" y="2751120"/>
            <a:ext cx="0" cy="6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6754680" y="2722680"/>
            <a:ext cx="339840" cy="64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5114880" y="3259080"/>
            <a:ext cx="317520" cy="23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6595920" y="2619360"/>
            <a:ext cx="317520" cy="23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5708520" y="2619360"/>
            <a:ext cx="314280" cy="23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6919920" y="3259080"/>
            <a:ext cx="317520" cy="23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6313320" y="3259080"/>
            <a:ext cx="314640" cy="23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5721480" y="3259080"/>
            <a:ext cx="317520" cy="23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2" name=""/>
          <p:cNvGrpSpPr/>
          <p:nvPr/>
        </p:nvGrpSpPr>
        <p:grpSpPr>
          <a:xfrm>
            <a:off x="4745160" y="4621320"/>
            <a:ext cx="690480" cy="711000"/>
            <a:chOff x="4745160" y="4621320"/>
            <a:chExt cx="690480" cy="711000"/>
          </a:xfrm>
        </p:grpSpPr>
        <p:sp>
          <p:nvSpPr>
            <p:cNvPr id="773" name=""/>
            <p:cNvSpPr/>
            <p:nvPr/>
          </p:nvSpPr>
          <p:spPr>
            <a:xfrm>
              <a:off x="4984920" y="464364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5002200" y="500580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002200" y="477000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4745160" y="462276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777" name=""/>
            <p:cNvSpPr/>
            <p:nvPr/>
          </p:nvSpPr>
          <p:spPr>
            <a:xfrm>
              <a:off x="4745160" y="462276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4957920" y="464688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5002200" y="476856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5002200" y="473076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781" name=""/>
            <p:cNvSpPr/>
            <p:nvPr/>
          </p:nvSpPr>
          <p:spPr>
            <a:xfrm>
              <a:off x="5002200" y="466920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782" name=""/>
            <p:cNvSpPr/>
            <p:nvPr/>
          </p:nvSpPr>
          <p:spPr>
            <a:xfrm>
              <a:off x="4745160" y="462132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83" name=""/>
            <p:cNvSpPr/>
            <p:nvPr/>
          </p:nvSpPr>
          <p:spPr>
            <a:xfrm>
              <a:off x="4983120" y="464364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4745160" y="462276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4957920" y="464832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4957920" y="465732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7" name=""/>
            <p:cNvSpPr/>
            <p:nvPr/>
          </p:nvSpPr>
          <p:spPr>
            <a:xfrm>
              <a:off x="4957920" y="47070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8" name=""/>
            <p:cNvSpPr/>
            <p:nvPr/>
          </p:nvSpPr>
          <p:spPr>
            <a:xfrm>
              <a:off x="5002200" y="466920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789" name=""/>
            <p:cNvSpPr/>
            <p:nvPr/>
          </p:nvSpPr>
          <p:spPr>
            <a:xfrm>
              <a:off x="4957920" y="47221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0" name=""/>
            <p:cNvSpPr/>
            <p:nvPr/>
          </p:nvSpPr>
          <p:spPr>
            <a:xfrm>
              <a:off x="4957920" y="47685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1" name=""/>
            <p:cNvSpPr/>
            <p:nvPr/>
          </p:nvSpPr>
          <p:spPr>
            <a:xfrm>
              <a:off x="4957920" y="495648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2" name=""/>
            <p:cNvSpPr/>
            <p:nvPr/>
          </p:nvSpPr>
          <p:spPr>
            <a:xfrm>
              <a:off x="5002200" y="477900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5267520" y="477000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02200" y="477000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5254560" y="495180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796" name=""/>
            <p:cNvSpPr/>
            <p:nvPr/>
          </p:nvSpPr>
          <p:spPr>
            <a:xfrm flipH="1">
              <a:off x="5001840" y="483192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797" name=""/>
            <p:cNvSpPr/>
            <p:nvPr/>
          </p:nvSpPr>
          <p:spPr>
            <a:xfrm flipH="1">
              <a:off x="5001840" y="489492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798" name=""/>
            <p:cNvSpPr/>
            <p:nvPr/>
          </p:nvSpPr>
          <p:spPr>
            <a:xfrm>
              <a:off x="4957920" y="500580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9" name=""/>
            <p:cNvSpPr/>
            <p:nvPr/>
          </p:nvSpPr>
          <p:spPr>
            <a:xfrm>
              <a:off x="4957920" y="527040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0" name=""/>
            <p:cNvSpPr/>
            <p:nvPr/>
          </p:nvSpPr>
          <p:spPr>
            <a:xfrm>
              <a:off x="5002200" y="502092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5267520" y="500580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5002200" y="525240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3" name=""/>
            <p:cNvSpPr/>
            <p:nvPr/>
          </p:nvSpPr>
          <p:spPr>
            <a:xfrm>
              <a:off x="5002200" y="524052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4" name=""/>
            <p:cNvSpPr/>
            <p:nvPr/>
          </p:nvSpPr>
          <p:spPr>
            <a:xfrm>
              <a:off x="5002200" y="523008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05" name=""/>
            <p:cNvSpPr/>
            <p:nvPr/>
          </p:nvSpPr>
          <p:spPr>
            <a:xfrm>
              <a:off x="5002200" y="521784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806" name=""/>
            <p:cNvSpPr/>
            <p:nvPr/>
          </p:nvSpPr>
          <p:spPr>
            <a:xfrm>
              <a:off x="5002200" y="520416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7" name=""/>
            <p:cNvSpPr/>
            <p:nvPr/>
          </p:nvSpPr>
          <p:spPr>
            <a:xfrm>
              <a:off x="5002200" y="467100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808" name=""/>
            <p:cNvSpPr/>
            <p:nvPr/>
          </p:nvSpPr>
          <p:spPr>
            <a:xfrm>
              <a:off x="5254560" y="469332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809" name=""/>
            <p:cNvSpPr/>
            <p:nvPr/>
          </p:nvSpPr>
          <p:spPr>
            <a:xfrm>
              <a:off x="5064120" y="473076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810" name=""/>
            <p:cNvSpPr/>
            <p:nvPr/>
          </p:nvSpPr>
          <p:spPr>
            <a:xfrm>
              <a:off x="5002200" y="473076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811" name=""/>
            <p:cNvSpPr/>
            <p:nvPr/>
          </p:nvSpPr>
          <p:spPr>
            <a:xfrm>
              <a:off x="5002200" y="474768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2" name=""/>
            <p:cNvSpPr/>
            <p:nvPr/>
          </p:nvSpPr>
          <p:spPr>
            <a:xfrm flipH="1">
              <a:off x="5205600" y="475056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813" name=""/>
            <p:cNvSpPr/>
            <p:nvPr/>
          </p:nvSpPr>
          <p:spPr>
            <a:xfrm>
              <a:off x="5205600" y="473076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814" name=""/>
            <p:cNvSpPr/>
            <p:nvPr/>
          </p:nvSpPr>
          <p:spPr>
            <a:xfrm>
              <a:off x="5015160" y="468576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5" name=""/>
            <p:cNvSpPr/>
            <p:nvPr/>
          </p:nvSpPr>
          <p:spPr>
            <a:xfrm>
              <a:off x="5051520" y="468432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6" name=""/>
            <p:cNvSpPr/>
            <p:nvPr/>
          </p:nvSpPr>
          <p:spPr>
            <a:xfrm>
              <a:off x="5087880" y="468432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7" name=""/>
            <p:cNvSpPr/>
            <p:nvPr/>
          </p:nvSpPr>
          <p:spPr>
            <a:xfrm>
              <a:off x="5126040" y="468432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8" name=""/>
            <p:cNvSpPr/>
            <p:nvPr/>
          </p:nvSpPr>
          <p:spPr>
            <a:xfrm>
              <a:off x="5164200" y="468288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9" name=""/>
            <p:cNvSpPr/>
            <p:nvPr/>
          </p:nvSpPr>
          <p:spPr>
            <a:xfrm>
              <a:off x="5199120" y="467964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20" name=""/>
            <p:cNvSpPr/>
            <p:nvPr/>
          </p:nvSpPr>
          <p:spPr>
            <a:xfrm>
              <a:off x="5237280" y="467964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21" name=""/>
            <p:cNvSpPr/>
            <p:nvPr/>
          </p:nvSpPr>
          <p:spPr>
            <a:xfrm>
              <a:off x="5241960" y="477000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5283360" y="523440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823" name=""/>
          <p:cNvGrpSpPr/>
          <p:nvPr/>
        </p:nvGrpSpPr>
        <p:grpSpPr>
          <a:xfrm>
            <a:off x="4133880" y="4237200"/>
            <a:ext cx="690480" cy="711000"/>
            <a:chOff x="4133880" y="4237200"/>
            <a:chExt cx="690480" cy="711000"/>
          </a:xfrm>
        </p:grpSpPr>
        <p:sp>
          <p:nvSpPr>
            <p:cNvPr id="824" name=""/>
            <p:cNvSpPr/>
            <p:nvPr/>
          </p:nvSpPr>
          <p:spPr>
            <a:xfrm>
              <a:off x="4373640" y="425952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4390920" y="462168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4390920" y="438588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4133880" y="423864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28" name=""/>
            <p:cNvSpPr/>
            <p:nvPr/>
          </p:nvSpPr>
          <p:spPr>
            <a:xfrm>
              <a:off x="4133880" y="423864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4346640" y="426276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4390920" y="438444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4390920" y="434664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832" name=""/>
            <p:cNvSpPr/>
            <p:nvPr/>
          </p:nvSpPr>
          <p:spPr>
            <a:xfrm>
              <a:off x="4390920" y="428508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33" name=""/>
            <p:cNvSpPr/>
            <p:nvPr/>
          </p:nvSpPr>
          <p:spPr>
            <a:xfrm>
              <a:off x="4133880" y="423720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34" name=""/>
            <p:cNvSpPr/>
            <p:nvPr/>
          </p:nvSpPr>
          <p:spPr>
            <a:xfrm>
              <a:off x="4371840" y="425952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4133880" y="423864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4346640" y="426420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4346640" y="427320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38" name=""/>
            <p:cNvSpPr/>
            <p:nvPr/>
          </p:nvSpPr>
          <p:spPr>
            <a:xfrm>
              <a:off x="4346640" y="43228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39" name=""/>
            <p:cNvSpPr/>
            <p:nvPr/>
          </p:nvSpPr>
          <p:spPr>
            <a:xfrm>
              <a:off x="4390920" y="428508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40" name=""/>
            <p:cNvSpPr/>
            <p:nvPr/>
          </p:nvSpPr>
          <p:spPr>
            <a:xfrm>
              <a:off x="4346640" y="43380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41" name=""/>
            <p:cNvSpPr/>
            <p:nvPr/>
          </p:nvSpPr>
          <p:spPr>
            <a:xfrm>
              <a:off x="4346640" y="43844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42" name=""/>
            <p:cNvSpPr/>
            <p:nvPr/>
          </p:nvSpPr>
          <p:spPr>
            <a:xfrm>
              <a:off x="4346640" y="457236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43" name=""/>
            <p:cNvSpPr/>
            <p:nvPr/>
          </p:nvSpPr>
          <p:spPr>
            <a:xfrm>
              <a:off x="4390920" y="439488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4656240" y="438588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4390920" y="438588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43280" y="456768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47" name=""/>
            <p:cNvSpPr/>
            <p:nvPr/>
          </p:nvSpPr>
          <p:spPr>
            <a:xfrm flipH="1">
              <a:off x="4390560" y="444780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848" name=""/>
            <p:cNvSpPr/>
            <p:nvPr/>
          </p:nvSpPr>
          <p:spPr>
            <a:xfrm flipH="1">
              <a:off x="4390560" y="451080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849" name=""/>
            <p:cNvSpPr/>
            <p:nvPr/>
          </p:nvSpPr>
          <p:spPr>
            <a:xfrm>
              <a:off x="4346640" y="462168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50" name=""/>
            <p:cNvSpPr/>
            <p:nvPr/>
          </p:nvSpPr>
          <p:spPr>
            <a:xfrm>
              <a:off x="4346640" y="488628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51" name=""/>
            <p:cNvSpPr/>
            <p:nvPr/>
          </p:nvSpPr>
          <p:spPr>
            <a:xfrm>
              <a:off x="4390920" y="463680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4656240" y="462168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4390920" y="486828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54" name=""/>
            <p:cNvSpPr/>
            <p:nvPr/>
          </p:nvSpPr>
          <p:spPr>
            <a:xfrm>
              <a:off x="4390920" y="485640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55" name=""/>
            <p:cNvSpPr/>
            <p:nvPr/>
          </p:nvSpPr>
          <p:spPr>
            <a:xfrm>
              <a:off x="4390920" y="484596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56" name=""/>
            <p:cNvSpPr/>
            <p:nvPr/>
          </p:nvSpPr>
          <p:spPr>
            <a:xfrm>
              <a:off x="4390920" y="483372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857" name=""/>
            <p:cNvSpPr/>
            <p:nvPr/>
          </p:nvSpPr>
          <p:spPr>
            <a:xfrm>
              <a:off x="4390920" y="482004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58" name=""/>
            <p:cNvSpPr/>
            <p:nvPr/>
          </p:nvSpPr>
          <p:spPr>
            <a:xfrm>
              <a:off x="4390920" y="428688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859" name=""/>
            <p:cNvSpPr/>
            <p:nvPr/>
          </p:nvSpPr>
          <p:spPr>
            <a:xfrm>
              <a:off x="4643280" y="430920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860" name=""/>
            <p:cNvSpPr/>
            <p:nvPr/>
          </p:nvSpPr>
          <p:spPr>
            <a:xfrm>
              <a:off x="4452840" y="434664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861" name=""/>
            <p:cNvSpPr/>
            <p:nvPr/>
          </p:nvSpPr>
          <p:spPr>
            <a:xfrm>
              <a:off x="4390920" y="434664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862" name=""/>
            <p:cNvSpPr/>
            <p:nvPr/>
          </p:nvSpPr>
          <p:spPr>
            <a:xfrm>
              <a:off x="4390920" y="436356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63" name=""/>
            <p:cNvSpPr/>
            <p:nvPr/>
          </p:nvSpPr>
          <p:spPr>
            <a:xfrm flipH="1">
              <a:off x="4594320" y="436644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864" name=""/>
            <p:cNvSpPr/>
            <p:nvPr/>
          </p:nvSpPr>
          <p:spPr>
            <a:xfrm>
              <a:off x="4594320" y="434664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865" name=""/>
            <p:cNvSpPr/>
            <p:nvPr/>
          </p:nvSpPr>
          <p:spPr>
            <a:xfrm>
              <a:off x="4403880" y="430164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66" name=""/>
            <p:cNvSpPr/>
            <p:nvPr/>
          </p:nvSpPr>
          <p:spPr>
            <a:xfrm>
              <a:off x="4440240" y="430020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67" name=""/>
            <p:cNvSpPr/>
            <p:nvPr/>
          </p:nvSpPr>
          <p:spPr>
            <a:xfrm>
              <a:off x="4476600" y="430020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68" name=""/>
            <p:cNvSpPr/>
            <p:nvPr/>
          </p:nvSpPr>
          <p:spPr>
            <a:xfrm>
              <a:off x="4514760" y="430020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69" name=""/>
            <p:cNvSpPr/>
            <p:nvPr/>
          </p:nvSpPr>
          <p:spPr>
            <a:xfrm>
              <a:off x="4552920" y="429876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70" name=""/>
            <p:cNvSpPr/>
            <p:nvPr/>
          </p:nvSpPr>
          <p:spPr>
            <a:xfrm>
              <a:off x="4587840" y="429552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71" name=""/>
            <p:cNvSpPr/>
            <p:nvPr/>
          </p:nvSpPr>
          <p:spPr>
            <a:xfrm>
              <a:off x="4626000" y="429552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72" name=""/>
            <p:cNvSpPr/>
            <p:nvPr/>
          </p:nvSpPr>
          <p:spPr>
            <a:xfrm>
              <a:off x="4630680" y="438588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4672080" y="485028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874" name=""/>
          <p:cNvGrpSpPr/>
          <p:nvPr/>
        </p:nvGrpSpPr>
        <p:grpSpPr>
          <a:xfrm>
            <a:off x="4324320" y="5032440"/>
            <a:ext cx="690480" cy="711000"/>
            <a:chOff x="4324320" y="5032440"/>
            <a:chExt cx="690480" cy="711000"/>
          </a:xfrm>
        </p:grpSpPr>
        <p:sp>
          <p:nvSpPr>
            <p:cNvPr id="875" name=""/>
            <p:cNvSpPr/>
            <p:nvPr/>
          </p:nvSpPr>
          <p:spPr>
            <a:xfrm>
              <a:off x="4564080" y="505476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4581360" y="541692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4581360" y="518112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4324320" y="503388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79" name=""/>
            <p:cNvSpPr/>
            <p:nvPr/>
          </p:nvSpPr>
          <p:spPr>
            <a:xfrm>
              <a:off x="4324320" y="503388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4537080" y="505800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4581360" y="517968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4581360" y="514188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883" name=""/>
            <p:cNvSpPr/>
            <p:nvPr/>
          </p:nvSpPr>
          <p:spPr>
            <a:xfrm>
              <a:off x="4581360" y="508032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84" name=""/>
            <p:cNvSpPr/>
            <p:nvPr/>
          </p:nvSpPr>
          <p:spPr>
            <a:xfrm>
              <a:off x="4324320" y="503244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85" name=""/>
            <p:cNvSpPr/>
            <p:nvPr/>
          </p:nvSpPr>
          <p:spPr>
            <a:xfrm>
              <a:off x="4562280" y="505476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4324320" y="503388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4537080" y="505944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4537080" y="506844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9" name=""/>
            <p:cNvSpPr/>
            <p:nvPr/>
          </p:nvSpPr>
          <p:spPr>
            <a:xfrm>
              <a:off x="4537080" y="51181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0" name=""/>
            <p:cNvSpPr/>
            <p:nvPr/>
          </p:nvSpPr>
          <p:spPr>
            <a:xfrm>
              <a:off x="4581360" y="508032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91" name=""/>
            <p:cNvSpPr/>
            <p:nvPr/>
          </p:nvSpPr>
          <p:spPr>
            <a:xfrm>
              <a:off x="4537080" y="51332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2" name=""/>
            <p:cNvSpPr/>
            <p:nvPr/>
          </p:nvSpPr>
          <p:spPr>
            <a:xfrm>
              <a:off x="4537080" y="51796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3" name=""/>
            <p:cNvSpPr/>
            <p:nvPr/>
          </p:nvSpPr>
          <p:spPr>
            <a:xfrm>
              <a:off x="4537080" y="536760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4" name=""/>
            <p:cNvSpPr/>
            <p:nvPr/>
          </p:nvSpPr>
          <p:spPr>
            <a:xfrm>
              <a:off x="4581360" y="519012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4846680" y="518112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4581360" y="518112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4833720" y="536292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98" name=""/>
            <p:cNvSpPr/>
            <p:nvPr/>
          </p:nvSpPr>
          <p:spPr>
            <a:xfrm flipH="1">
              <a:off x="4581000" y="524304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899" name=""/>
            <p:cNvSpPr/>
            <p:nvPr/>
          </p:nvSpPr>
          <p:spPr>
            <a:xfrm flipH="1">
              <a:off x="4581000" y="530604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900" name=""/>
            <p:cNvSpPr/>
            <p:nvPr/>
          </p:nvSpPr>
          <p:spPr>
            <a:xfrm>
              <a:off x="4537080" y="541692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01" name=""/>
            <p:cNvSpPr/>
            <p:nvPr/>
          </p:nvSpPr>
          <p:spPr>
            <a:xfrm>
              <a:off x="4537080" y="568152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02" name=""/>
            <p:cNvSpPr/>
            <p:nvPr/>
          </p:nvSpPr>
          <p:spPr>
            <a:xfrm>
              <a:off x="4581360" y="54320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4846680" y="541692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4581360" y="566352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05" name=""/>
            <p:cNvSpPr/>
            <p:nvPr/>
          </p:nvSpPr>
          <p:spPr>
            <a:xfrm>
              <a:off x="4581360" y="565164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06" name=""/>
            <p:cNvSpPr/>
            <p:nvPr/>
          </p:nvSpPr>
          <p:spPr>
            <a:xfrm>
              <a:off x="4581360" y="564120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07" name=""/>
            <p:cNvSpPr/>
            <p:nvPr/>
          </p:nvSpPr>
          <p:spPr>
            <a:xfrm>
              <a:off x="4581360" y="562896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08" name=""/>
            <p:cNvSpPr/>
            <p:nvPr/>
          </p:nvSpPr>
          <p:spPr>
            <a:xfrm>
              <a:off x="4581360" y="561528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9" name=""/>
            <p:cNvSpPr/>
            <p:nvPr/>
          </p:nvSpPr>
          <p:spPr>
            <a:xfrm>
              <a:off x="4581360" y="508212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910" name=""/>
            <p:cNvSpPr/>
            <p:nvPr/>
          </p:nvSpPr>
          <p:spPr>
            <a:xfrm>
              <a:off x="4833720" y="510444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11" name=""/>
            <p:cNvSpPr/>
            <p:nvPr/>
          </p:nvSpPr>
          <p:spPr>
            <a:xfrm>
              <a:off x="4643280" y="514188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912" name=""/>
            <p:cNvSpPr/>
            <p:nvPr/>
          </p:nvSpPr>
          <p:spPr>
            <a:xfrm>
              <a:off x="4581360" y="514188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913" name=""/>
            <p:cNvSpPr/>
            <p:nvPr/>
          </p:nvSpPr>
          <p:spPr>
            <a:xfrm>
              <a:off x="4581360" y="515880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14" name=""/>
            <p:cNvSpPr/>
            <p:nvPr/>
          </p:nvSpPr>
          <p:spPr>
            <a:xfrm flipH="1">
              <a:off x="4784760" y="516168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915" name=""/>
            <p:cNvSpPr/>
            <p:nvPr/>
          </p:nvSpPr>
          <p:spPr>
            <a:xfrm>
              <a:off x="4784760" y="514188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916" name=""/>
            <p:cNvSpPr/>
            <p:nvPr/>
          </p:nvSpPr>
          <p:spPr>
            <a:xfrm>
              <a:off x="4594320" y="509688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17" name=""/>
            <p:cNvSpPr/>
            <p:nvPr/>
          </p:nvSpPr>
          <p:spPr>
            <a:xfrm>
              <a:off x="4630680" y="509544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18" name=""/>
            <p:cNvSpPr/>
            <p:nvPr/>
          </p:nvSpPr>
          <p:spPr>
            <a:xfrm>
              <a:off x="4667040" y="509544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19" name=""/>
            <p:cNvSpPr/>
            <p:nvPr/>
          </p:nvSpPr>
          <p:spPr>
            <a:xfrm>
              <a:off x="4705200" y="509544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20" name=""/>
            <p:cNvSpPr/>
            <p:nvPr/>
          </p:nvSpPr>
          <p:spPr>
            <a:xfrm>
              <a:off x="4743360" y="509400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21" name=""/>
            <p:cNvSpPr/>
            <p:nvPr/>
          </p:nvSpPr>
          <p:spPr>
            <a:xfrm>
              <a:off x="4778280" y="509076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22" name=""/>
            <p:cNvSpPr/>
            <p:nvPr/>
          </p:nvSpPr>
          <p:spPr>
            <a:xfrm>
              <a:off x="4816440" y="509076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23" name=""/>
            <p:cNvSpPr/>
            <p:nvPr/>
          </p:nvSpPr>
          <p:spPr>
            <a:xfrm>
              <a:off x="4821120" y="518112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4862520" y="564552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925" name=""/>
          <p:cNvGrpSpPr/>
          <p:nvPr/>
        </p:nvGrpSpPr>
        <p:grpSpPr>
          <a:xfrm>
            <a:off x="3575160" y="4660920"/>
            <a:ext cx="690480" cy="711360"/>
            <a:chOff x="3575160" y="4660920"/>
            <a:chExt cx="690480" cy="711360"/>
          </a:xfrm>
        </p:grpSpPr>
        <p:sp>
          <p:nvSpPr>
            <p:cNvPr id="926" name=""/>
            <p:cNvSpPr/>
            <p:nvPr/>
          </p:nvSpPr>
          <p:spPr>
            <a:xfrm>
              <a:off x="3814920" y="4683240"/>
              <a:ext cx="29988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3832200" y="50457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3832200" y="480960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3575160" y="466236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30" name=""/>
            <p:cNvSpPr/>
            <p:nvPr/>
          </p:nvSpPr>
          <p:spPr>
            <a:xfrm>
              <a:off x="3575160" y="4662360"/>
              <a:ext cx="24120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3787920" y="4686480"/>
              <a:ext cx="284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3832200" y="4808160"/>
              <a:ext cx="26676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3832200" y="47707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934" name=""/>
            <p:cNvSpPr/>
            <p:nvPr/>
          </p:nvSpPr>
          <p:spPr>
            <a:xfrm>
              <a:off x="3832200" y="470880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935" name=""/>
            <p:cNvSpPr/>
            <p:nvPr/>
          </p:nvSpPr>
          <p:spPr>
            <a:xfrm>
              <a:off x="3575160" y="466092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36" name=""/>
            <p:cNvSpPr/>
            <p:nvPr/>
          </p:nvSpPr>
          <p:spPr>
            <a:xfrm>
              <a:off x="3813120" y="4683240"/>
              <a:ext cx="3016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3575160" y="4662360"/>
              <a:ext cx="23976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3787920" y="468792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3787920" y="469692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40" name=""/>
            <p:cNvSpPr/>
            <p:nvPr/>
          </p:nvSpPr>
          <p:spPr>
            <a:xfrm>
              <a:off x="3787920" y="47466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41" name=""/>
            <p:cNvSpPr/>
            <p:nvPr/>
          </p:nvSpPr>
          <p:spPr>
            <a:xfrm>
              <a:off x="3832200" y="470880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942" name=""/>
            <p:cNvSpPr/>
            <p:nvPr/>
          </p:nvSpPr>
          <p:spPr>
            <a:xfrm>
              <a:off x="3787920" y="4761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43" name=""/>
            <p:cNvSpPr/>
            <p:nvPr/>
          </p:nvSpPr>
          <p:spPr>
            <a:xfrm>
              <a:off x="3787920" y="4808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44" name=""/>
            <p:cNvSpPr/>
            <p:nvPr/>
          </p:nvSpPr>
          <p:spPr>
            <a:xfrm>
              <a:off x="3787920" y="49964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45" name=""/>
            <p:cNvSpPr/>
            <p:nvPr/>
          </p:nvSpPr>
          <p:spPr>
            <a:xfrm>
              <a:off x="3832200" y="481860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4097520" y="480960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832200" y="480960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a:off x="4084560" y="499140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949" name=""/>
            <p:cNvSpPr/>
            <p:nvPr/>
          </p:nvSpPr>
          <p:spPr>
            <a:xfrm flipH="1">
              <a:off x="3831840" y="487152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950" name=""/>
            <p:cNvSpPr/>
            <p:nvPr/>
          </p:nvSpPr>
          <p:spPr>
            <a:xfrm flipH="1">
              <a:off x="3831840" y="493452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951" name=""/>
            <p:cNvSpPr/>
            <p:nvPr/>
          </p:nvSpPr>
          <p:spPr>
            <a:xfrm>
              <a:off x="3787920" y="50457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52" name=""/>
            <p:cNvSpPr/>
            <p:nvPr/>
          </p:nvSpPr>
          <p:spPr>
            <a:xfrm>
              <a:off x="3787920" y="53103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3" name=""/>
            <p:cNvSpPr/>
            <p:nvPr/>
          </p:nvSpPr>
          <p:spPr>
            <a:xfrm>
              <a:off x="3832200" y="506088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4097520" y="50457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3832200" y="52923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6" name=""/>
            <p:cNvSpPr/>
            <p:nvPr/>
          </p:nvSpPr>
          <p:spPr>
            <a:xfrm>
              <a:off x="3832200" y="52804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7" name=""/>
            <p:cNvSpPr/>
            <p:nvPr/>
          </p:nvSpPr>
          <p:spPr>
            <a:xfrm>
              <a:off x="3832200" y="526968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58" name=""/>
            <p:cNvSpPr/>
            <p:nvPr/>
          </p:nvSpPr>
          <p:spPr>
            <a:xfrm>
              <a:off x="3832200" y="52578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59" name=""/>
            <p:cNvSpPr/>
            <p:nvPr/>
          </p:nvSpPr>
          <p:spPr>
            <a:xfrm>
              <a:off x="3832200" y="52441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0" name=""/>
            <p:cNvSpPr/>
            <p:nvPr/>
          </p:nvSpPr>
          <p:spPr>
            <a:xfrm>
              <a:off x="3832200" y="471060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961" name=""/>
            <p:cNvSpPr/>
            <p:nvPr/>
          </p:nvSpPr>
          <p:spPr>
            <a:xfrm>
              <a:off x="4084560" y="473292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62" name=""/>
            <p:cNvSpPr/>
            <p:nvPr/>
          </p:nvSpPr>
          <p:spPr>
            <a:xfrm>
              <a:off x="3894120" y="47707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963" name=""/>
            <p:cNvSpPr/>
            <p:nvPr/>
          </p:nvSpPr>
          <p:spPr>
            <a:xfrm>
              <a:off x="3832200" y="47707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964" name=""/>
            <p:cNvSpPr/>
            <p:nvPr/>
          </p:nvSpPr>
          <p:spPr>
            <a:xfrm>
              <a:off x="3832200" y="478728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65" name=""/>
            <p:cNvSpPr/>
            <p:nvPr/>
          </p:nvSpPr>
          <p:spPr>
            <a:xfrm flipH="1">
              <a:off x="4035600" y="479016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966" name=""/>
            <p:cNvSpPr/>
            <p:nvPr/>
          </p:nvSpPr>
          <p:spPr>
            <a:xfrm>
              <a:off x="4035600" y="47707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967" name=""/>
            <p:cNvSpPr/>
            <p:nvPr/>
          </p:nvSpPr>
          <p:spPr>
            <a:xfrm>
              <a:off x="3845160" y="472536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68" name=""/>
            <p:cNvSpPr/>
            <p:nvPr/>
          </p:nvSpPr>
          <p:spPr>
            <a:xfrm>
              <a:off x="3881520" y="472392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69" name=""/>
            <p:cNvSpPr/>
            <p:nvPr/>
          </p:nvSpPr>
          <p:spPr>
            <a:xfrm>
              <a:off x="3917880" y="472392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70" name=""/>
            <p:cNvSpPr/>
            <p:nvPr/>
          </p:nvSpPr>
          <p:spPr>
            <a:xfrm>
              <a:off x="3956040" y="472392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71" name=""/>
            <p:cNvSpPr/>
            <p:nvPr/>
          </p:nvSpPr>
          <p:spPr>
            <a:xfrm>
              <a:off x="3994200" y="472248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72" name=""/>
            <p:cNvSpPr/>
            <p:nvPr/>
          </p:nvSpPr>
          <p:spPr>
            <a:xfrm>
              <a:off x="4029120" y="471924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73" name=""/>
            <p:cNvSpPr/>
            <p:nvPr/>
          </p:nvSpPr>
          <p:spPr>
            <a:xfrm>
              <a:off x="4067280" y="471924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74" name=""/>
            <p:cNvSpPr/>
            <p:nvPr/>
          </p:nvSpPr>
          <p:spPr>
            <a:xfrm>
              <a:off x="4071960" y="480960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4113360" y="52743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sp>
        <p:nvSpPr>
          <p:cNvPr id="976" name=""/>
          <p:cNvSpPr/>
          <p:nvPr/>
        </p:nvSpPr>
        <p:spPr>
          <a:xfrm flipH="1" flipV="1">
            <a:off x="6467400" y="3362040"/>
            <a:ext cx="633600" cy="834840"/>
          </a:xfrm>
          <a:prstGeom prst="line">
            <a:avLst/>
          </a:prstGeom>
          <a:ln w="9360">
            <a:solidFill>
              <a:srgbClr val="fccf00"/>
            </a:solidFill>
            <a:miter/>
            <a:head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977" name="PlaceHolder 2"/>
          <p:cNvSpPr>
            <a:spLocks noGrp="1"/>
          </p:cNvSpPr>
          <p:nvPr>
            <p:ph/>
          </p:nvPr>
        </p:nvSpPr>
        <p:spPr>
          <a:xfrm>
            <a:off x="228600" y="1660680"/>
            <a:ext cx="4827600" cy="137700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PSec policy assigned in GPO</a:t>
            </a:r>
            <a:endParaRPr b="1" lang="en-US" sz="28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 OU</a:t>
            </a:r>
            <a:endParaRPr b="1" lang="en-US" sz="2800" spc="-1" strike="noStrike">
              <a:solidFill>
                <a:srgbClr val="ffffff"/>
              </a:solidFill>
              <a:latin typeface="Arial"/>
            </a:endParaRPr>
          </a:p>
        </p:txBody>
      </p:sp>
      <p:sp>
        <p:nvSpPr>
          <p:cNvPr id="978" name=""/>
          <p:cNvSpPr/>
          <p:nvPr/>
        </p:nvSpPr>
        <p:spPr>
          <a:xfrm flipV="1">
            <a:off x="5043600" y="3401640"/>
            <a:ext cx="792000" cy="1089000"/>
          </a:xfrm>
          <a:prstGeom prst="line">
            <a:avLst/>
          </a:prstGeom>
          <a:ln w="9360">
            <a:solidFill>
              <a:srgbClr val="fccf00"/>
            </a:solidFill>
            <a:miter/>
            <a:head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979" name=""/>
          <p:cNvSpPr/>
          <p:nvPr/>
        </p:nvSpPr>
        <p:spPr>
          <a:xfrm>
            <a:off x="3108240" y="5662440"/>
            <a:ext cx="2944800" cy="8323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r “IPSec Server” policy for these sever machines</a:t>
            </a:r>
            <a:endParaRPr b="0" lang="en-US" sz="1800" spc="-1" strike="noStrike">
              <a:solidFill>
                <a:srgbClr val="ffffff"/>
              </a:solidFill>
              <a:latin typeface="Times New Roman"/>
            </a:endParaRPr>
          </a:p>
        </p:txBody>
      </p:sp>
      <p:sp>
        <p:nvSpPr>
          <p:cNvPr id="980" name=""/>
          <p:cNvSpPr/>
          <p:nvPr/>
        </p:nvSpPr>
        <p:spPr>
          <a:xfrm>
            <a:off x="704880" y="5168880"/>
            <a:ext cx="252900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r “IPSec client” policy</a:t>
            </a:r>
            <a:endParaRPr b="0" lang="en-US" sz="1800" spc="-1" strike="noStrike">
              <a:solidFill>
                <a:srgbClr val="ffffff"/>
              </a:solidFill>
              <a:latin typeface="Times New Roman"/>
            </a:endParaRPr>
          </a:p>
        </p:txBody>
      </p:sp>
      <p:sp>
        <p:nvSpPr>
          <p:cNvPr id="981" name=""/>
          <p:cNvSpPr/>
          <p:nvPr/>
        </p:nvSpPr>
        <p:spPr>
          <a:xfrm flipV="1">
            <a:off x="3724200" y="2770200"/>
            <a:ext cx="2030400" cy="39600"/>
          </a:xfrm>
          <a:prstGeom prst="line">
            <a:avLst/>
          </a:prstGeom>
          <a:ln w="9360">
            <a:solidFill>
              <a:srgbClr val="ffffff"/>
            </a:solidFill>
            <a:miter/>
          </a:ln>
        </p:spPr>
        <p:style>
          <a:lnRef idx="0"/>
          <a:fillRef idx="0"/>
          <a:effectRef idx="0"/>
          <a:fontRef idx="minor"/>
        </p:style>
        <p:txBody>
          <a:bodyPr lIns="182520" rIns="182520" tIns="-6120" bIns="-6120" anchor="t">
            <a:noAutofit/>
          </a:bodyPr>
          <a:p>
            <a:endParaRPr b="0" lang="en-US" sz="2400" spc="-1" strike="noStrike">
              <a:solidFill>
                <a:srgbClr val="ffffff"/>
              </a:solidFill>
              <a:latin typeface="Times New Roman"/>
            </a:endParaRPr>
          </a:p>
        </p:txBody>
      </p:sp>
      <p:sp>
        <p:nvSpPr>
          <p:cNvPr id="982" name=""/>
          <p:cNvSpPr/>
          <p:nvPr/>
        </p:nvSpPr>
        <p:spPr>
          <a:xfrm>
            <a:off x="4610160" y="3411360"/>
            <a:ext cx="104940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 OU</a:t>
            </a:r>
            <a:endParaRPr b="0" lang="en-US" sz="1800" spc="-1" strike="noStrike">
              <a:solidFill>
                <a:srgbClr val="ffffff"/>
              </a:solidFill>
              <a:latin typeface="Times New Roman"/>
            </a:endParaRPr>
          </a:p>
        </p:txBody>
      </p:sp>
      <p:sp>
        <p:nvSpPr>
          <p:cNvPr id="983" name=""/>
          <p:cNvSpPr/>
          <p:nvPr/>
        </p:nvSpPr>
        <p:spPr>
          <a:xfrm>
            <a:off x="5353200" y="3390840"/>
            <a:ext cx="11300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 OU</a:t>
            </a:r>
            <a:endParaRPr b="0" lang="en-US" sz="1800" spc="-1" strike="noStrike">
              <a:solidFill>
                <a:srgbClr val="ffffff"/>
              </a:solidFill>
              <a:latin typeface="Times New Roman"/>
            </a:endParaRPr>
          </a:p>
        </p:txBody>
      </p:sp>
      <p:sp>
        <p:nvSpPr>
          <p:cNvPr id="984" name=""/>
          <p:cNvSpPr/>
          <p:nvPr/>
        </p:nvSpPr>
        <p:spPr>
          <a:xfrm>
            <a:off x="6519960" y="1949400"/>
            <a:ext cx="312480" cy="2383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6307200" y="1735200"/>
            <a:ext cx="282600" cy="25560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986" name=""/>
          <p:cNvSpPr/>
          <p:nvPr/>
        </p:nvSpPr>
        <p:spPr>
          <a:xfrm>
            <a:off x="6675480" y="1673280"/>
            <a:ext cx="1627200" cy="8323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ain Controllers OU</a:t>
            </a:r>
            <a:endParaRPr b="0" lang="en-US" sz="1800" spc="-1" strike="noStrike">
              <a:solidFill>
                <a:srgbClr val="ffffff"/>
              </a:solidFill>
              <a:latin typeface="Times New Roman"/>
            </a:endParaRPr>
          </a:p>
        </p:txBody>
      </p:sp>
      <p:sp>
        <p:nvSpPr>
          <p:cNvPr id="987" name=""/>
          <p:cNvSpPr/>
          <p:nvPr/>
        </p:nvSpPr>
        <p:spPr>
          <a:xfrm>
            <a:off x="6777000" y="2084400"/>
            <a:ext cx="1684440" cy="2030400"/>
          </a:xfrm>
          <a:custGeom>
            <a:avLst/>
            <a:gdLst/>
            <a:ahLst/>
            <a:rect l="l" t="t" r="r" b="b"/>
            <a:pathLst>
              <a:path w="1061" h="1279">
                <a:moveTo>
                  <a:pt x="0" y="0"/>
                </a:moveTo>
                <a:cubicBezTo>
                  <a:pt x="384" y="71"/>
                  <a:pt x="769" y="143"/>
                  <a:pt x="915" y="356"/>
                </a:cubicBezTo>
                <a:cubicBezTo>
                  <a:pt x="1061" y="569"/>
                  <a:pt x="967" y="924"/>
                  <a:pt x="873" y="1279"/>
                </a:cubicBezTo>
              </a:path>
            </a:pathLst>
          </a:custGeom>
          <a:noFill/>
          <a:ln w="9360">
            <a:solidFill>
              <a:srgbClr val="fccf00"/>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grpSp>
        <p:nvGrpSpPr>
          <p:cNvPr id="988" name=""/>
          <p:cNvGrpSpPr/>
          <p:nvPr/>
        </p:nvGrpSpPr>
        <p:grpSpPr>
          <a:xfrm>
            <a:off x="2058840" y="2857320"/>
            <a:ext cx="3689640" cy="1565640"/>
            <a:chOff x="2058840" y="2857320"/>
            <a:chExt cx="3689640" cy="1565640"/>
          </a:xfrm>
        </p:grpSpPr>
        <p:sp>
          <p:nvSpPr>
            <p:cNvPr id="989" name=""/>
            <p:cNvSpPr/>
            <p:nvPr/>
          </p:nvSpPr>
          <p:spPr>
            <a:xfrm flipV="1">
              <a:off x="2058840" y="3417480"/>
              <a:ext cx="3160800" cy="885960"/>
            </a:xfrm>
            <a:prstGeom prst="line">
              <a:avLst/>
            </a:prstGeom>
            <a:ln w="9360">
              <a:solidFill>
                <a:srgbClr val="fccf00"/>
              </a:solidFill>
              <a:miter/>
              <a:head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990" name=""/>
            <p:cNvSpPr/>
            <p:nvPr/>
          </p:nvSpPr>
          <p:spPr>
            <a:xfrm flipV="1">
              <a:off x="2090880" y="2857320"/>
              <a:ext cx="3657600" cy="1315800"/>
            </a:xfrm>
            <a:prstGeom prst="line">
              <a:avLst/>
            </a:prstGeom>
            <a:ln w="9360">
              <a:solidFill>
                <a:srgbClr val="fccf00"/>
              </a:solidFill>
              <a:miter/>
              <a:head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991" name=""/>
            <p:cNvSpPr/>
            <p:nvPr/>
          </p:nvSpPr>
          <p:spPr>
            <a:xfrm rot="20541600">
              <a:off x="2749320" y="3227040"/>
              <a:ext cx="2363760" cy="3391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 Policy, or</a:t>
              </a:r>
              <a:endParaRPr b="0" lang="en-US" sz="1800" spc="-1" strike="noStrike">
                <a:solidFill>
                  <a:srgbClr val="ffffff"/>
                </a:solidFill>
                <a:latin typeface="Times New Roman"/>
              </a:endParaRPr>
            </a:p>
          </p:txBody>
        </p:sp>
        <p:sp>
          <p:nvSpPr>
            <p:cNvPr id="992" name=""/>
            <p:cNvSpPr/>
            <p:nvPr/>
          </p:nvSpPr>
          <p:spPr>
            <a:xfrm rot="20611200">
              <a:off x="2725200" y="3836880"/>
              <a:ext cx="1789200" cy="3391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 Policy</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65040" y="228240"/>
            <a:ext cx="8431200" cy="1190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IPSec policy considerations for deployment</a:t>
            </a:r>
            <a:endParaRPr b="1" lang="en-US" sz="4000" spc="-1" strike="noStrike">
              <a:solidFill>
                <a:srgbClr val="fccf00"/>
              </a:solidFill>
              <a:latin typeface="Arial"/>
            </a:endParaRPr>
          </a:p>
        </p:txBody>
      </p:sp>
      <p:sp>
        <p:nvSpPr>
          <p:cNvPr id="994" name="PlaceHolder 2"/>
          <p:cNvSpPr>
            <a:spLocks noGrp="1"/>
          </p:cNvSpPr>
          <p:nvPr>
            <p:ph/>
          </p:nvPr>
        </p:nvSpPr>
        <p:spPr>
          <a:xfrm>
            <a:off x="380880" y="1608120"/>
            <a:ext cx="8415360" cy="5157720"/>
          </a:xfrm>
          <a:prstGeom prst="rect">
            <a:avLst/>
          </a:prstGeom>
          <a:noFill/>
          <a:ln w="0">
            <a:noFill/>
          </a:ln>
        </p:spPr>
        <p:txBody>
          <a:bodyPr lIns="182520" rIns="182520" tIns="46080" bIns="46080" anchor="t">
            <a:normAutofit fontScale="99000"/>
          </a:bodyPr>
          <a:p>
            <a:pPr marL="571680" indent="-571680">
              <a:lnSpc>
                <a:spcPct val="8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ory-based computer policy</a:t>
            </a:r>
            <a:endParaRPr b="1" lang="en-US" sz="2400" spc="-1" strike="noStrike">
              <a:solidFill>
                <a:srgbClr val="ffffff"/>
              </a:solidFill>
              <a:latin typeface="Arial"/>
            </a:endParaRPr>
          </a:p>
          <a:p>
            <a:pPr lvl="1" marL="1019880" indent="-44604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ignment detected &amp; updated initially on boot when AD is reachable, cached</a:t>
            </a:r>
            <a:endParaRPr b="1" lang="en-US" sz="2000" spc="-1" strike="noStrike">
              <a:solidFill>
                <a:srgbClr val="ffffff"/>
              </a:solidFill>
              <a:latin typeface="Arial"/>
            </a:endParaRPr>
          </a:p>
          <a:p>
            <a:pPr lvl="1" marL="1019880" indent="-44604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logon (Group Policy) polling will detect change in policy </a:t>
            </a:r>
            <a:r>
              <a:rPr b="1" lang="en-US" sz="2000" spc="-1" strike="noStrike" u="sng">
                <a:solidFill>
                  <a:srgbClr val="ffffff"/>
                </a:solidFill>
                <a:uFillTx/>
                <a:latin typeface="Arial"/>
              </a:rPr>
              <a:t>assignment</a:t>
            </a:r>
            <a:endParaRPr b="1" lang="en-US" sz="2000" spc="-1" strike="noStrike">
              <a:solidFill>
                <a:srgbClr val="ffffff"/>
              </a:solidFill>
              <a:latin typeface="Arial"/>
            </a:endParaRPr>
          </a:p>
          <a:p>
            <a:pPr lvl="1" marL="1019880" indent="-44604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Sec Policy Agent LDAP polling will detect change in already assigned IPSec policy</a:t>
            </a:r>
            <a:endParaRPr b="1" lang="en-US" sz="2000" spc="-1" strike="noStrike">
              <a:solidFill>
                <a:srgbClr val="ffffff"/>
              </a:solidFill>
              <a:latin typeface="Arial"/>
            </a:endParaRPr>
          </a:p>
          <a:p>
            <a:pPr lvl="2" marL="1483560" indent="-46224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ling interval set in IPSec policy</a:t>
            </a:r>
            <a:endParaRPr b="1" lang="en-US" sz="2000" spc="-1" strike="noStrike">
              <a:solidFill>
                <a:srgbClr val="ffffff"/>
              </a:solidFill>
              <a:latin typeface="Arial"/>
            </a:endParaRPr>
          </a:p>
          <a:p>
            <a:pPr lvl="2" marL="1483560" indent="-46224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Net start policyagent” will cause refresh</a:t>
            </a:r>
            <a:endParaRPr b="1" lang="en-US" sz="2000" spc="-1" strike="noStrike">
              <a:solidFill>
                <a:srgbClr val="ffffff"/>
              </a:solidFill>
              <a:latin typeface="Arial"/>
            </a:endParaRPr>
          </a:p>
          <a:p>
            <a:pPr lvl="1" marL="1019880" indent="-44604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Sec policy changes take effect on client when received</a:t>
            </a:r>
            <a:endParaRPr b="1" lang="en-US" sz="2000" spc="-1" strike="noStrike">
              <a:solidFill>
                <a:srgbClr val="ffffff"/>
              </a:solidFill>
              <a:latin typeface="Arial"/>
            </a:endParaRPr>
          </a:p>
          <a:p>
            <a:pPr marL="571680" indent="-571680">
              <a:lnSpc>
                <a:spcPct val="8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r policy updates for remote access users</a:t>
            </a:r>
            <a:endParaRPr b="1" lang="en-US" sz="2400" spc="-1" strike="noStrike">
              <a:solidFill>
                <a:srgbClr val="ffffff"/>
              </a:solidFill>
              <a:latin typeface="Arial"/>
            </a:endParaRPr>
          </a:p>
          <a:p>
            <a:pPr lvl="1" marL="1019880" indent="-44604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Secedit /refresh_policy machine_policy”</a:t>
            </a:r>
            <a:endParaRPr b="1" lang="en-US" sz="2000" spc="-1" strike="noStrike">
              <a:solidFill>
                <a:srgbClr val="ffffff"/>
              </a:solidFill>
              <a:latin typeface="Arial"/>
            </a:endParaRPr>
          </a:p>
          <a:p>
            <a:pPr lvl="2" marL="1483560" indent="-46224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S server login script</a:t>
            </a:r>
            <a:endParaRPr b="1" lang="en-US" sz="2000" spc="-1" strike="noStrike">
              <a:solidFill>
                <a:srgbClr val="ffffff"/>
              </a:solidFill>
              <a:latin typeface="Arial"/>
            </a:endParaRPr>
          </a:p>
          <a:p>
            <a:pPr lvl="2" marL="1483560" indent="-46224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st-connect action for Connection Manager</a:t>
            </a:r>
            <a:endParaRPr b="1" lang="en-US" sz="2000" spc="-1" strike="noStrike">
              <a:solidFill>
                <a:srgbClr val="ffffff"/>
              </a:solidFill>
              <a:latin typeface="Arial"/>
            </a:endParaRPr>
          </a:p>
          <a:p>
            <a:pPr lvl="1" marL="1019880" indent="-44604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Log on using dialup networking” will update machine policy &amp; user polic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286000"/>
            <a:ext cx="77724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IPSec Policy Enforcement</a:t>
            </a:r>
            <a:endParaRPr b="1" lang="en-US" sz="4800" spc="-1" strike="noStrike">
              <a:solidFill>
                <a:srgbClr val="fccf00"/>
              </a:solidFill>
              <a:latin typeface="Arial"/>
            </a:endParaRPr>
          </a:p>
        </p:txBody>
      </p:sp>
      <p:sp>
        <p:nvSpPr>
          <p:cNvPr id="996" name="PlaceHolder 2"/>
          <p:cNvSpPr>
            <a:spLocks noGrp="1"/>
          </p:cNvSpPr>
          <p:nvPr>
            <p:ph type="subTitle"/>
          </p:nvPr>
        </p:nvSpPr>
        <p:spPr>
          <a:xfrm>
            <a:off x="1371600" y="3885840"/>
            <a:ext cx="6400800" cy="53028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Outline</a:t>
            </a:r>
            <a:endParaRPr b="1" lang="en-US" sz="4800" spc="-1" strike="noStrike">
              <a:solidFill>
                <a:srgbClr val="fccf00"/>
              </a:solidFill>
              <a:latin typeface="Arial"/>
            </a:endParaRPr>
          </a:p>
        </p:txBody>
      </p:sp>
      <p:sp>
        <p:nvSpPr>
          <p:cNvPr id="49" name="PlaceHolder 2"/>
          <p:cNvSpPr>
            <a:spLocks noGrp="1"/>
          </p:cNvSpPr>
          <p:nvPr>
            <p:ph/>
          </p:nvPr>
        </p:nvSpPr>
        <p:spPr>
          <a:xfrm>
            <a:off x="380880" y="1417680"/>
            <a:ext cx="8415360" cy="615780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Sec Settings (Policy) Configuration</a:t>
            </a:r>
            <a:endParaRPr b="1" lang="en-US" sz="32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Sec Retrieval of Policy</a:t>
            </a:r>
            <a:endParaRPr b="1" lang="en-US" sz="32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Sec Enforcement of Policy</a:t>
            </a:r>
            <a:endParaRPr b="1" lang="en-US" sz="32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Sec End-to-End Scenarios</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ing IP connectivity across untrusted domains</a:t>
            </a:r>
            <a:endParaRPr b="1" lang="en-US" sz="28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Sec Tunnel Configuration</a:t>
            </a:r>
            <a:endParaRPr b="1" lang="en-US" sz="32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rewalls</a:t>
            </a:r>
            <a:endParaRPr b="1" lang="en-US" sz="32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a:p>
            <a:pPr marL="5778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78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7" name=""/>
          <p:cNvSpPr/>
          <p:nvPr/>
        </p:nvSpPr>
        <p:spPr>
          <a:xfrm>
            <a:off x="3546360" y="2892600"/>
            <a:ext cx="4975200" cy="190332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PlaceHolder 1"/>
          <p:cNvSpPr>
            <a:spLocks noGrp="1"/>
          </p:cNvSpPr>
          <p:nvPr>
            <p:ph type="title"/>
          </p:nvPr>
        </p:nvSpPr>
        <p:spPr>
          <a:xfrm>
            <a:off x="0" y="214200"/>
            <a:ext cx="5237280" cy="11908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Windows 2000 TCP/IP Architecture</a:t>
            </a:r>
            <a:endParaRPr b="1" lang="en-US" sz="4000" spc="-1" strike="noStrike">
              <a:solidFill>
                <a:srgbClr val="fccf00"/>
              </a:solidFill>
              <a:latin typeface="Arial"/>
            </a:endParaRPr>
          </a:p>
        </p:txBody>
      </p:sp>
      <p:sp>
        <p:nvSpPr>
          <p:cNvPr id="999" name=""/>
          <p:cNvSpPr/>
          <p:nvPr/>
        </p:nvSpPr>
        <p:spPr>
          <a:xfrm>
            <a:off x="1935000" y="4995720"/>
            <a:ext cx="6608880" cy="1517760"/>
          </a:xfrm>
          <a:prstGeom prst="rect">
            <a:avLst/>
          </a:prstGeom>
          <a:gradFill rotWithShape="0">
            <a:gsLst>
              <a:gs pos="0">
                <a:srgbClr val="75393b"/>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
          <p:cNvSpPr/>
          <p:nvPr/>
        </p:nvSpPr>
        <p:spPr>
          <a:xfrm>
            <a:off x="2908440" y="5222880"/>
            <a:ext cx="2590560" cy="45720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Scheduler</a:t>
            </a:r>
            <a:endParaRPr b="0" lang="en-US" sz="2400" spc="-1" strike="noStrike">
              <a:solidFill>
                <a:srgbClr val="ffffff"/>
              </a:solidFill>
              <a:latin typeface="Times New Roman"/>
            </a:endParaRPr>
          </a:p>
        </p:txBody>
      </p:sp>
      <p:sp>
        <p:nvSpPr>
          <p:cNvPr id="1001" name=""/>
          <p:cNvSpPr/>
          <p:nvPr/>
        </p:nvSpPr>
        <p:spPr>
          <a:xfrm>
            <a:off x="1954080" y="2133720"/>
            <a:ext cx="6580440" cy="274320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2049480" y="2133720"/>
            <a:ext cx="211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cf00"/>
                </a:solidFill>
                <a:latin typeface="Times New Roman"/>
              </a:rPr>
              <a:t>TCP/IP Stack</a:t>
            </a:r>
            <a:endParaRPr b="0" lang="en-US" sz="2400" spc="-1" strike="noStrike">
              <a:solidFill>
                <a:srgbClr val="ffffff"/>
              </a:solidFill>
              <a:latin typeface="Times New Roman"/>
            </a:endParaRPr>
          </a:p>
        </p:txBody>
      </p:sp>
      <p:sp>
        <p:nvSpPr>
          <p:cNvPr id="1003" name=""/>
          <p:cNvSpPr/>
          <p:nvPr/>
        </p:nvSpPr>
        <p:spPr>
          <a:xfrm>
            <a:off x="3554280" y="3475080"/>
            <a:ext cx="4800600" cy="36036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Packet Filter driver</a:t>
            </a:r>
            <a:endParaRPr b="0" lang="en-US" sz="2400" spc="-1" strike="noStrike">
              <a:solidFill>
                <a:srgbClr val="ffffff"/>
              </a:solidFill>
              <a:latin typeface="Times New Roman"/>
            </a:endParaRPr>
          </a:p>
        </p:txBody>
      </p:sp>
      <p:sp>
        <p:nvSpPr>
          <p:cNvPr id="1004" name=""/>
          <p:cNvSpPr/>
          <p:nvPr/>
        </p:nvSpPr>
        <p:spPr>
          <a:xfrm>
            <a:off x="776160" y="3011400"/>
            <a:ext cx="1571760" cy="679680"/>
          </a:xfrm>
          <a:prstGeom prst="rect">
            <a:avLst/>
          </a:prstGeom>
          <a:gradFill rotWithShape="0">
            <a:gsLst>
              <a:gs pos="0">
                <a:srgbClr val="75393b"/>
              </a:gs>
              <a:gs pos="100000">
                <a:srgbClr val="ff7c8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HOOK driver</a:t>
            </a:r>
            <a:endParaRPr b="0" lang="en-US" sz="2400" spc="-1" strike="noStrike">
              <a:solidFill>
                <a:srgbClr val="ffffff"/>
              </a:solidFill>
              <a:latin typeface="Times New Roman"/>
            </a:endParaRPr>
          </a:p>
        </p:txBody>
      </p:sp>
      <p:sp>
        <p:nvSpPr>
          <p:cNvPr id="1005" name=""/>
          <p:cNvSpPr/>
          <p:nvPr/>
        </p:nvSpPr>
        <p:spPr>
          <a:xfrm>
            <a:off x="4809960" y="2374920"/>
            <a:ext cx="838440" cy="45720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a:t>
            </a:r>
            <a:endParaRPr b="0" lang="en-US" sz="2400" spc="-1" strike="noStrike">
              <a:solidFill>
                <a:srgbClr val="ffffff"/>
              </a:solidFill>
              <a:latin typeface="Times New Roman"/>
            </a:endParaRPr>
          </a:p>
        </p:txBody>
      </p:sp>
      <p:sp>
        <p:nvSpPr>
          <p:cNvPr id="1006" name=""/>
          <p:cNvSpPr/>
          <p:nvPr/>
        </p:nvSpPr>
        <p:spPr>
          <a:xfrm>
            <a:off x="7553160" y="2374920"/>
            <a:ext cx="838440" cy="45720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w</a:t>
            </a:r>
            <a:endParaRPr b="0" lang="en-US" sz="2400" spc="-1" strike="noStrike">
              <a:solidFill>
                <a:srgbClr val="ffffff"/>
              </a:solidFill>
              <a:latin typeface="Times New Roman"/>
            </a:endParaRPr>
          </a:p>
        </p:txBody>
      </p:sp>
      <p:sp>
        <p:nvSpPr>
          <p:cNvPr id="1007" name=""/>
          <p:cNvSpPr/>
          <p:nvPr/>
        </p:nvSpPr>
        <p:spPr>
          <a:xfrm>
            <a:off x="6638760" y="2374920"/>
            <a:ext cx="838440" cy="45720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CMP</a:t>
            </a:r>
            <a:endParaRPr b="0" lang="en-US" sz="2400" spc="-1" strike="noStrike">
              <a:solidFill>
                <a:srgbClr val="ffffff"/>
              </a:solidFill>
              <a:latin typeface="Times New Roman"/>
            </a:endParaRPr>
          </a:p>
        </p:txBody>
      </p:sp>
      <p:sp>
        <p:nvSpPr>
          <p:cNvPr id="1008" name=""/>
          <p:cNvSpPr/>
          <p:nvPr/>
        </p:nvSpPr>
        <p:spPr>
          <a:xfrm>
            <a:off x="5724360" y="2374920"/>
            <a:ext cx="838440" cy="45720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DP</a:t>
            </a:r>
            <a:endParaRPr b="0" lang="en-US" sz="2400" spc="-1" strike="noStrike">
              <a:solidFill>
                <a:srgbClr val="ffffff"/>
              </a:solidFill>
              <a:latin typeface="Times New Roman"/>
            </a:endParaRPr>
          </a:p>
        </p:txBody>
      </p:sp>
      <p:sp>
        <p:nvSpPr>
          <p:cNvPr id="1009" name=""/>
          <p:cNvSpPr/>
          <p:nvPr/>
        </p:nvSpPr>
        <p:spPr>
          <a:xfrm>
            <a:off x="5219640" y="900000"/>
            <a:ext cx="3305160" cy="45720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nSock</a:t>
            </a:r>
            <a:endParaRPr b="0" lang="en-US" sz="2400" spc="-1" strike="noStrike">
              <a:solidFill>
                <a:srgbClr val="ffffff"/>
              </a:solidFill>
              <a:latin typeface="Times New Roman"/>
            </a:endParaRPr>
          </a:p>
        </p:txBody>
      </p:sp>
      <p:sp>
        <p:nvSpPr>
          <p:cNvPr id="1010" name=""/>
          <p:cNvSpPr/>
          <p:nvPr/>
        </p:nvSpPr>
        <p:spPr>
          <a:xfrm>
            <a:off x="5216400" y="1519200"/>
            <a:ext cx="3303720" cy="50004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oS Service Provider</a:t>
            </a:r>
            <a:endParaRPr b="0" lang="en-US" sz="2400" spc="-1" strike="noStrike">
              <a:solidFill>
                <a:srgbClr val="ffffff"/>
              </a:solidFill>
              <a:latin typeface="Times New Roman"/>
            </a:endParaRPr>
          </a:p>
        </p:txBody>
      </p:sp>
      <p:sp>
        <p:nvSpPr>
          <p:cNvPr id="1011" name=""/>
          <p:cNvSpPr/>
          <p:nvPr/>
        </p:nvSpPr>
        <p:spPr>
          <a:xfrm>
            <a:off x="3568680" y="3838680"/>
            <a:ext cx="4786200" cy="631800"/>
          </a:xfrm>
          <a:prstGeom prst="rect">
            <a:avLst/>
          </a:prstGeom>
          <a:gradFill rotWithShape="0">
            <a:gsLst>
              <a:gs pos="0">
                <a:srgbClr val="7f0000"/>
              </a:gs>
              <a:gs pos="100000">
                <a:srgbClr val="ff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Sec Filters, Transport &amp; Tunnel</a:t>
            </a:r>
            <a:endParaRPr b="0" lang="en-US" sz="2400" spc="-1" strike="noStrike">
              <a:solidFill>
                <a:srgbClr val="ffffff"/>
              </a:solidFill>
              <a:latin typeface="Times New Roman"/>
            </a:endParaRPr>
          </a:p>
        </p:txBody>
      </p:sp>
      <p:sp>
        <p:nvSpPr>
          <p:cNvPr id="1012" name=""/>
          <p:cNvSpPr/>
          <p:nvPr/>
        </p:nvSpPr>
        <p:spPr>
          <a:xfrm>
            <a:off x="5573880" y="5632560"/>
            <a:ext cx="2974680" cy="776160"/>
          </a:xfrm>
          <a:prstGeom prst="rect">
            <a:avLst/>
          </a:prstGeom>
          <a:gradFill rotWithShape="0">
            <a:gsLst>
              <a:gs pos="0">
                <a:srgbClr val="7f0000"/>
              </a:gs>
              <a:gs pos="100000">
                <a:srgbClr val="ff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load: checksum, IPSec, large TCP send</a:t>
            </a:r>
            <a:endParaRPr b="0" lang="en-US" sz="2400" spc="-1" strike="noStrike">
              <a:solidFill>
                <a:srgbClr val="ffffff"/>
              </a:solidFill>
              <a:latin typeface="Times New Roman"/>
            </a:endParaRPr>
          </a:p>
        </p:txBody>
      </p:sp>
      <p:sp>
        <p:nvSpPr>
          <p:cNvPr id="1013" name=""/>
          <p:cNvSpPr/>
          <p:nvPr/>
        </p:nvSpPr>
        <p:spPr>
          <a:xfrm>
            <a:off x="3557520" y="4476600"/>
            <a:ext cx="4800600" cy="327240"/>
          </a:xfrm>
          <a:prstGeom prst="rect">
            <a:avLst/>
          </a:prstGeom>
          <a:gradFill rotWithShape="0">
            <a:gsLst>
              <a:gs pos="0">
                <a:srgbClr val="75393b"/>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Frag/Reassembly</a:t>
            </a:r>
            <a:endParaRPr b="0" lang="en-US" sz="2400" spc="-1" strike="noStrike">
              <a:solidFill>
                <a:srgbClr val="ffffff"/>
              </a:solidFill>
              <a:latin typeface="Times New Roman"/>
            </a:endParaRPr>
          </a:p>
        </p:txBody>
      </p:sp>
      <p:grpSp>
        <p:nvGrpSpPr>
          <p:cNvPr id="1014" name=""/>
          <p:cNvGrpSpPr/>
          <p:nvPr/>
        </p:nvGrpSpPr>
        <p:grpSpPr>
          <a:xfrm>
            <a:off x="2943360" y="5854680"/>
            <a:ext cx="2201760" cy="460440"/>
            <a:chOff x="2943360" y="5854680"/>
            <a:chExt cx="2201760" cy="460440"/>
          </a:xfrm>
        </p:grpSpPr>
        <p:sp>
          <p:nvSpPr>
            <p:cNvPr id="1015" name=""/>
            <p:cNvSpPr/>
            <p:nvPr/>
          </p:nvSpPr>
          <p:spPr>
            <a:xfrm>
              <a:off x="2943360" y="5857920"/>
              <a:ext cx="1038240" cy="45720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PTP</a:t>
              </a:r>
              <a:endParaRPr b="0" lang="en-US" sz="2400" spc="-1" strike="noStrike">
                <a:solidFill>
                  <a:srgbClr val="ffffff"/>
                </a:solidFill>
                <a:latin typeface="Times New Roman"/>
              </a:endParaRPr>
            </a:p>
          </p:txBody>
        </p:sp>
        <p:sp>
          <p:nvSpPr>
            <p:cNvPr id="1016" name=""/>
            <p:cNvSpPr/>
            <p:nvPr/>
          </p:nvSpPr>
          <p:spPr>
            <a:xfrm>
              <a:off x="4106880" y="5854680"/>
              <a:ext cx="1038240" cy="45720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2TP</a:t>
              </a:r>
              <a:endParaRPr b="0" lang="en-US" sz="2400" spc="-1" strike="noStrike">
                <a:solidFill>
                  <a:srgbClr val="ffffff"/>
                </a:solidFill>
                <a:latin typeface="Times New Roman"/>
              </a:endParaRPr>
            </a:p>
          </p:txBody>
        </p:sp>
      </p:grpSp>
      <p:sp>
        <p:nvSpPr>
          <p:cNvPr id="1017" name=""/>
          <p:cNvSpPr/>
          <p:nvPr/>
        </p:nvSpPr>
        <p:spPr>
          <a:xfrm>
            <a:off x="276120" y="5167440"/>
            <a:ext cx="251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yered miniports</a:t>
            </a:r>
            <a:endParaRPr b="0" lang="en-US" sz="2400" spc="-1" strike="noStrike">
              <a:solidFill>
                <a:srgbClr val="ffffff"/>
              </a:solidFill>
              <a:latin typeface="Times New Roman"/>
            </a:endParaRPr>
          </a:p>
        </p:txBody>
      </p:sp>
      <p:sp>
        <p:nvSpPr>
          <p:cNvPr id="1018" name=""/>
          <p:cNvSpPr/>
          <p:nvPr/>
        </p:nvSpPr>
        <p:spPr>
          <a:xfrm>
            <a:off x="0" y="5819760"/>
            <a:ext cx="294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WAN miniports</a:t>
            </a:r>
            <a:endParaRPr b="0" lang="en-US" sz="2400" spc="-1" strike="noStrike">
              <a:solidFill>
                <a:srgbClr val="ffffff"/>
              </a:solidFill>
              <a:latin typeface="Times New Roman"/>
            </a:endParaRPr>
          </a:p>
        </p:txBody>
      </p:sp>
      <p:sp>
        <p:nvSpPr>
          <p:cNvPr id="1019" name=""/>
          <p:cNvSpPr/>
          <p:nvPr/>
        </p:nvSpPr>
        <p:spPr>
          <a:xfrm>
            <a:off x="7161120" y="5000760"/>
            <a:ext cx="139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DIS 5.0</a:t>
            </a:r>
            <a:endParaRPr b="0" lang="en-US" sz="2400" spc="-1" strike="noStrike">
              <a:solidFill>
                <a:srgbClr val="ffffff"/>
              </a:solidFill>
              <a:latin typeface="Times New Roman"/>
            </a:endParaRPr>
          </a:p>
        </p:txBody>
      </p:sp>
      <p:sp>
        <p:nvSpPr>
          <p:cNvPr id="1020" name=""/>
          <p:cNvSpPr/>
          <p:nvPr/>
        </p:nvSpPr>
        <p:spPr>
          <a:xfrm>
            <a:off x="3557520" y="3103560"/>
            <a:ext cx="4800600" cy="36036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HOOK callout</a:t>
            </a:r>
            <a:endParaRPr b="0" lang="en-US" sz="2400" spc="-1" strike="noStrike">
              <a:solidFill>
                <a:srgbClr val="ffffff"/>
              </a:solidFill>
              <a:latin typeface="Times New Roman"/>
            </a:endParaRPr>
          </a:p>
        </p:txBody>
      </p:sp>
      <p:sp>
        <p:nvSpPr>
          <p:cNvPr id="1021" name=""/>
          <p:cNvSpPr/>
          <p:nvPr/>
        </p:nvSpPr>
        <p:spPr>
          <a:xfrm>
            <a:off x="2324160" y="3267000"/>
            <a:ext cx="1333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022" name=""/>
          <p:cNvSpPr/>
          <p:nvPr/>
        </p:nvSpPr>
        <p:spPr>
          <a:xfrm>
            <a:off x="6934320" y="0"/>
            <a:ext cx="1981080" cy="679320"/>
          </a:xfrm>
          <a:prstGeom prst="rect">
            <a:avLst/>
          </a:prstGeom>
          <a:gradFill rotWithShape="0">
            <a:gsLst>
              <a:gs pos="0">
                <a:srgbClr val="75393b"/>
              </a:gs>
              <a:gs pos="100000">
                <a:srgbClr val="ff7c8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HLPAPI pf_ filter apis</a:t>
            </a:r>
            <a:endParaRPr b="0" lang="en-US" sz="2400" spc="-1" strike="noStrike">
              <a:solidFill>
                <a:srgbClr val="ffffff"/>
              </a:solidFill>
              <a:latin typeface="Times New Roman"/>
            </a:endParaRPr>
          </a:p>
        </p:txBody>
      </p:sp>
      <p:sp>
        <p:nvSpPr>
          <p:cNvPr id="1023" name=""/>
          <p:cNvSpPr/>
          <p:nvPr/>
        </p:nvSpPr>
        <p:spPr>
          <a:xfrm>
            <a:off x="8839080" y="685800"/>
            <a:ext cx="0" cy="2971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flipH="1">
            <a:off x="8152920" y="3657600"/>
            <a:ext cx="685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364680" y="228600"/>
            <a:ext cx="62010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IPSec policy filters</a:t>
            </a:r>
            <a:endParaRPr b="1" lang="en-US" sz="4800" spc="-1" strike="noStrike">
              <a:solidFill>
                <a:srgbClr val="fccf00"/>
              </a:solidFill>
              <a:latin typeface="Arial"/>
            </a:endParaRPr>
          </a:p>
        </p:txBody>
      </p:sp>
      <p:sp>
        <p:nvSpPr>
          <p:cNvPr id="1026" name=""/>
          <p:cNvSpPr/>
          <p:nvPr/>
        </p:nvSpPr>
        <p:spPr>
          <a:xfrm>
            <a:off x="1846440" y="4578480"/>
            <a:ext cx="4975200" cy="190332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7" name=""/>
          <p:cNvSpPr/>
          <p:nvPr/>
        </p:nvSpPr>
        <p:spPr>
          <a:xfrm>
            <a:off x="254160" y="3819600"/>
            <a:ext cx="6580080" cy="274320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762120" y="4191120"/>
            <a:ext cx="2111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Stack</a:t>
            </a:r>
            <a:endParaRPr b="0" lang="en-US" sz="2400" spc="-1" strike="noStrike">
              <a:solidFill>
                <a:srgbClr val="ffffff"/>
              </a:solidFill>
              <a:latin typeface="Times New Roman"/>
            </a:endParaRPr>
          </a:p>
        </p:txBody>
      </p:sp>
      <p:sp>
        <p:nvSpPr>
          <p:cNvPr id="1029" name=""/>
          <p:cNvSpPr/>
          <p:nvPr/>
        </p:nvSpPr>
        <p:spPr>
          <a:xfrm>
            <a:off x="1854360" y="4802040"/>
            <a:ext cx="4800600" cy="71928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Packet Filter Driver (ipfltdrv.sys)</a:t>
            </a:r>
            <a:endParaRPr b="0" lang="en-US" sz="2400" spc="-1" strike="noStrike">
              <a:solidFill>
                <a:srgbClr val="ffffff"/>
              </a:solidFill>
              <a:latin typeface="Times New Roman"/>
            </a:endParaRPr>
          </a:p>
        </p:txBody>
      </p:sp>
      <p:sp>
        <p:nvSpPr>
          <p:cNvPr id="1030" name=""/>
          <p:cNvSpPr/>
          <p:nvPr/>
        </p:nvSpPr>
        <p:spPr>
          <a:xfrm>
            <a:off x="3110040" y="3984480"/>
            <a:ext cx="838080" cy="45720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a:t>
            </a:r>
            <a:endParaRPr b="0" lang="en-US" sz="2400" spc="-1" strike="noStrike">
              <a:solidFill>
                <a:srgbClr val="ffffff"/>
              </a:solidFill>
              <a:latin typeface="Times New Roman"/>
            </a:endParaRPr>
          </a:p>
        </p:txBody>
      </p:sp>
      <p:sp>
        <p:nvSpPr>
          <p:cNvPr id="1031" name=""/>
          <p:cNvSpPr/>
          <p:nvPr/>
        </p:nvSpPr>
        <p:spPr>
          <a:xfrm>
            <a:off x="5853240" y="3984480"/>
            <a:ext cx="838080" cy="45720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w</a:t>
            </a:r>
            <a:endParaRPr b="0" lang="en-US" sz="2400" spc="-1" strike="noStrike">
              <a:solidFill>
                <a:srgbClr val="ffffff"/>
              </a:solidFill>
              <a:latin typeface="Times New Roman"/>
            </a:endParaRPr>
          </a:p>
        </p:txBody>
      </p:sp>
      <p:sp>
        <p:nvSpPr>
          <p:cNvPr id="1032" name=""/>
          <p:cNvSpPr/>
          <p:nvPr/>
        </p:nvSpPr>
        <p:spPr>
          <a:xfrm>
            <a:off x="4938840" y="3984480"/>
            <a:ext cx="838080" cy="45720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CMP</a:t>
            </a:r>
            <a:endParaRPr b="0" lang="en-US" sz="2400" spc="-1" strike="noStrike">
              <a:solidFill>
                <a:srgbClr val="ffffff"/>
              </a:solidFill>
              <a:latin typeface="Times New Roman"/>
            </a:endParaRPr>
          </a:p>
        </p:txBody>
      </p:sp>
      <p:sp>
        <p:nvSpPr>
          <p:cNvPr id="1033" name=""/>
          <p:cNvSpPr/>
          <p:nvPr/>
        </p:nvSpPr>
        <p:spPr>
          <a:xfrm>
            <a:off x="4024440" y="3984480"/>
            <a:ext cx="838080" cy="457200"/>
          </a:xfrm>
          <a:prstGeom prst="rect">
            <a:avLst/>
          </a:prstGeom>
          <a:gradFill rotWithShape="0">
            <a:gsLst>
              <a:gs pos="0">
                <a:srgbClr val="7f3e4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DP</a:t>
            </a:r>
            <a:endParaRPr b="0" lang="en-US" sz="2400" spc="-1" strike="noStrike">
              <a:solidFill>
                <a:srgbClr val="ffffff"/>
              </a:solidFill>
              <a:latin typeface="Times New Roman"/>
            </a:endParaRPr>
          </a:p>
        </p:txBody>
      </p:sp>
      <p:sp>
        <p:nvSpPr>
          <p:cNvPr id="1034" name=""/>
          <p:cNvSpPr/>
          <p:nvPr/>
        </p:nvSpPr>
        <p:spPr>
          <a:xfrm>
            <a:off x="1868400" y="5524560"/>
            <a:ext cx="4786560" cy="631800"/>
          </a:xfrm>
          <a:prstGeom prst="rect">
            <a:avLst/>
          </a:prstGeom>
          <a:gradFill rotWithShape="0">
            <a:gsLst>
              <a:gs pos="0">
                <a:srgbClr val="7f0000"/>
              </a:gs>
              <a:gs pos="100000">
                <a:srgbClr val="ff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Sec Driver (ipsec.sys)</a:t>
            </a:r>
            <a:endParaRPr b="0" lang="en-US" sz="2400" spc="-1" strike="noStrike">
              <a:solidFill>
                <a:srgbClr val="ffffff"/>
              </a:solidFill>
              <a:latin typeface="Times New Roman"/>
            </a:endParaRPr>
          </a:p>
        </p:txBody>
      </p:sp>
      <p:sp>
        <p:nvSpPr>
          <p:cNvPr id="1035" name=""/>
          <p:cNvSpPr/>
          <p:nvPr/>
        </p:nvSpPr>
        <p:spPr>
          <a:xfrm>
            <a:off x="1857240" y="6162840"/>
            <a:ext cx="4800600" cy="326880"/>
          </a:xfrm>
          <a:prstGeom prst="rect">
            <a:avLst/>
          </a:prstGeom>
          <a:gradFill rotWithShape="0">
            <a:gsLst>
              <a:gs pos="0">
                <a:srgbClr val="75393b"/>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Frag/Reassembly</a:t>
            </a:r>
            <a:endParaRPr b="0" lang="en-US" sz="2400" spc="-1" strike="noStrike">
              <a:solidFill>
                <a:srgbClr val="ffffff"/>
              </a:solidFill>
              <a:latin typeface="Times New Roman"/>
            </a:endParaRPr>
          </a:p>
        </p:txBody>
      </p:sp>
      <p:grpSp>
        <p:nvGrpSpPr>
          <p:cNvPr id="1036" name=""/>
          <p:cNvGrpSpPr/>
          <p:nvPr/>
        </p:nvGrpSpPr>
        <p:grpSpPr>
          <a:xfrm>
            <a:off x="774720" y="1506600"/>
            <a:ext cx="3413880" cy="1390320"/>
            <a:chOff x="774720" y="1506600"/>
            <a:chExt cx="3413880" cy="1390320"/>
          </a:xfrm>
        </p:grpSpPr>
        <p:sp>
          <p:nvSpPr>
            <p:cNvPr id="1037" name=""/>
            <p:cNvSpPr/>
            <p:nvPr/>
          </p:nvSpPr>
          <p:spPr>
            <a:xfrm>
              <a:off x="774720" y="1506600"/>
              <a:ext cx="3413880" cy="1390320"/>
            </a:xfrm>
            <a:prstGeom prst="ellipse">
              <a:avLst/>
            </a:prstGeom>
            <a:gradFill rotWithShape="0">
              <a:gsLst>
                <a:gs pos="0">
                  <a:srgbClr val="ff7c80"/>
                </a:gs>
                <a:gs pos="100000">
                  <a:srgbClr val="75393b"/>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86240" y="1548720"/>
              <a:ext cx="3204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PSec</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licyAgent</a:t>
              </a:r>
              <a:endParaRPr b="0" lang="en-US" sz="3600" spc="-1" strike="noStrike">
                <a:solidFill>
                  <a:srgbClr val="ffffff"/>
                </a:solidFill>
                <a:latin typeface="Times New Roman"/>
              </a:endParaRPr>
            </a:p>
          </p:txBody>
        </p:sp>
      </p:grpSp>
      <p:sp>
        <p:nvSpPr>
          <p:cNvPr id="1039" name=""/>
          <p:cNvSpPr/>
          <p:nvPr/>
        </p:nvSpPr>
        <p:spPr>
          <a:xfrm>
            <a:off x="2187720" y="2111400"/>
            <a:ext cx="3878280" cy="3630600"/>
          </a:xfrm>
          <a:custGeom>
            <a:avLst/>
            <a:gdLst/>
            <a:ahLst/>
            <a:rect l="l" t="t" r="r" b="b"/>
            <a:pathLst>
              <a:path w="2451" h="2347">
                <a:moveTo>
                  <a:pt x="2451" y="0"/>
                </a:moveTo>
                <a:cubicBezTo>
                  <a:pt x="1799" y="75"/>
                  <a:pt x="1148" y="151"/>
                  <a:pt x="748" y="381"/>
                </a:cubicBezTo>
                <a:cubicBezTo>
                  <a:pt x="348" y="611"/>
                  <a:pt x="108" y="1053"/>
                  <a:pt x="54" y="1381"/>
                </a:cubicBezTo>
                <a:cubicBezTo>
                  <a:pt x="0" y="1709"/>
                  <a:pt x="213" y="2028"/>
                  <a:pt x="426" y="2347"/>
                </a:cubicBezTo>
              </a:path>
            </a:pathLst>
          </a:custGeom>
          <a:noFill/>
          <a:ln w="25560">
            <a:solidFill>
              <a:srgbClr val="ffffff"/>
            </a:solidFill>
            <a:round/>
            <a:tailEnd len="med" type="triangle" w="lg"/>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grpSp>
        <p:nvGrpSpPr>
          <p:cNvPr id="1040" name=""/>
          <p:cNvGrpSpPr/>
          <p:nvPr/>
        </p:nvGrpSpPr>
        <p:grpSpPr>
          <a:xfrm>
            <a:off x="6361200" y="338040"/>
            <a:ext cx="2473200" cy="3530520"/>
            <a:chOff x="6361200" y="338040"/>
            <a:chExt cx="2473200" cy="3530520"/>
          </a:xfrm>
        </p:grpSpPr>
        <p:sp>
          <p:nvSpPr>
            <p:cNvPr id="1041" name=""/>
            <p:cNvSpPr/>
            <p:nvPr/>
          </p:nvSpPr>
          <p:spPr>
            <a:xfrm>
              <a:off x="6404040" y="338040"/>
              <a:ext cx="2259000" cy="4431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042" name=""/>
            <p:cNvSpPr/>
            <p:nvPr/>
          </p:nvSpPr>
          <p:spPr>
            <a:xfrm>
              <a:off x="6408720" y="773280"/>
              <a:ext cx="225756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043" name=""/>
            <p:cNvSpPr/>
            <p:nvPr/>
          </p:nvSpPr>
          <p:spPr>
            <a:xfrm>
              <a:off x="6400800" y="1222200"/>
              <a:ext cx="2259000" cy="4431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044" name=""/>
            <p:cNvSpPr/>
            <p:nvPr/>
          </p:nvSpPr>
          <p:spPr>
            <a:xfrm>
              <a:off x="6400800" y="1666800"/>
              <a:ext cx="2257560" cy="4431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045" name=""/>
            <p:cNvSpPr/>
            <p:nvPr/>
          </p:nvSpPr>
          <p:spPr>
            <a:xfrm>
              <a:off x="6804000" y="374760"/>
              <a:ext cx="15858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IP</a:t>
              </a:r>
              <a:endParaRPr b="0" lang="en-US" sz="2000" spc="-1" strike="noStrike">
                <a:solidFill>
                  <a:srgbClr val="ffffff"/>
                </a:solidFill>
                <a:latin typeface="Times New Roman"/>
              </a:endParaRPr>
            </a:p>
          </p:txBody>
        </p:sp>
        <p:sp>
          <p:nvSpPr>
            <p:cNvPr id="1046" name=""/>
            <p:cNvSpPr/>
            <p:nvPr/>
          </p:nvSpPr>
          <p:spPr>
            <a:xfrm>
              <a:off x="6396120" y="822240"/>
              <a:ext cx="24051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rc subnet mask</a:t>
              </a:r>
              <a:endParaRPr b="0" lang="en-US" sz="2000" spc="-1" strike="noStrike">
                <a:solidFill>
                  <a:srgbClr val="ffffff"/>
                </a:solidFill>
                <a:latin typeface="Times New Roman"/>
              </a:endParaRPr>
            </a:p>
          </p:txBody>
        </p:sp>
        <p:sp>
          <p:nvSpPr>
            <p:cNvPr id="1047" name=""/>
            <p:cNvSpPr/>
            <p:nvPr/>
          </p:nvSpPr>
          <p:spPr>
            <a:xfrm>
              <a:off x="6361200" y="1701720"/>
              <a:ext cx="24732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st subnet mask</a:t>
              </a:r>
              <a:endParaRPr b="0" lang="en-US" sz="2000" spc="-1" strike="noStrike">
                <a:solidFill>
                  <a:srgbClr val="ffffff"/>
                </a:solidFill>
                <a:latin typeface="Times New Roman"/>
              </a:endParaRPr>
            </a:p>
          </p:txBody>
        </p:sp>
        <p:sp>
          <p:nvSpPr>
            <p:cNvPr id="1048" name=""/>
            <p:cNvSpPr/>
            <p:nvPr/>
          </p:nvSpPr>
          <p:spPr>
            <a:xfrm>
              <a:off x="6905520" y="1266840"/>
              <a:ext cx="13845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t IP</a:t>
              </a:r>
              <a:endParaRPr b="0" lang="en-US" sz="2000" spc="-1" strike="noStrike">
                <a:solidFill>
                  <a:srgbClr val="ffffff"/>
                </a:solidFill>
                <a:latin typeface="Times New Roman"/>
              </a:endParaRPr>
            </a:p>
          </p:txBody>
        </p:sp>
        <p:sp>
          <p:nvSpPr>
            <p:cNvPr id="1049" name=""/>
            <p:cNvSpPr/>
            <p:nvPr/>
          </p:nvSpPr>
          <p:spPr>
            <a:xfrm>
              <a:off x="6408720" y="210672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050" name=""/>
            <p:cNvSpPr/>
            <p:nvPr/>
          </p:nvSpPr>
          <p:spPr>
            <a:xfrm>
              <a:off x="6400800" y="2554200"/>
              <a:ext cx="2259000" cy="4431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051" name=""/>
            <p:cNvSpPr/>
            <p:nvPr/>
          </p:nvSpPr>
          <p:spPr>
            <a:xfrm>
              <a:off x="6405480" y="299088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052" name=""/>
            <p:cNvSpPr/>
            <p:nvPr/>
          </p:nvSpPr>
          <p:spPr>
            <a:xfrm>
              <a:off x="6697800" y="2181240"/>
              <a:ext cx="18000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 Protocol</a:t>
              </a:r>
              <a:endParaRPr b="0" lang="en-US" sz="2000" spc="-1" strike="noStrike">
                <a:solidFill>
                  <a:srgbClr val="ffffff"/>
                </a:solidFill>
                <a:latin typeface="Times New Roman"/>
              </a:endParaRPr>
            </a:p>
          </p:txBody>
        </p:sp>
        <p:sp>
          <p:nvSpPr>
            <p:cNvPr id="1053" name=""/>
            <p:cNvSpPr/>
            <p:nvPr/>
          </p:nvSpPr>
          <p:spPr>
            <a:xfrm>
              <a:off x="6651720" y="3073320"/>
              <a:ext cx="18921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t Port</a:t>
              </a:r>
              <a:endParaRPr b="0" lang="en-US" sz="2000" spc="-1" strike="noStrike">
                <a:solidFill>
                  <a:srgbClr val="ffffff"/>
                </a:solidFill>
                <a:latin typeface="Times New Roman"/>
              </a:endParaRPr>
            </a:p>
          </p:txBody>
        </p:sp>
        <p:sp>
          <p:nvSpPr>
            <p:cNvPr id="1054" name=""/>
            <p:cNvSpPr/>
            <p:nvPr/>
          </p:nvSpPr>
          <p:spPr>
            <a:xfrm>
              <a:off x="6630840" y="2606760"/>
              <a:ext cx="19335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Port</a:t>
              </a:r>
              <a:endParaRPr b="0" lang="en-US" sz="2000" spc="-1" strike="noStrike">
                <a:solidFill>
                  <a:srgbClr val="ffffff"/>
                </a:solidFill>
                <a:latin typeface="Times New Roman"/>
              </a:endParaRPr>
            </a:p>
          </p:txBody>
        </p:sp>
        <p:sp>
          <p:nvSpPr>
            <p:cNvPr id="1055" name=""/>
            <p:cNvSpPr/>
            <p:nvPr/>
          </p:nvSpPr>
          <p:spPr>
            <a:xfrm>
              <a:off x="6381720" y="342576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grpSp>
      <p:sp>
        <p:nvSpPr>
          <p:cNvPr id="1056" name=""/>
          <p:cNvSpPr/>
          <p:nvPr/>
        </p:nvSpPr>
        <p:spPr>
          <a:xfrm>
            <a:off x="6305400" y="3508200"/>
            <a:ext cx="246888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Tunnel</a:t>
            </a:r>
            <a:endParaRPr b="0" lang="en-US" sz="2000" spc="-1" strike="noStrike">
              <a:solidFill>
                <a:srgbClr val="ffffff"/>
              </a:solidFill>
              <a:latin typeface="Times New Roman"/>
            </a:endParaRPr>
          </a:p>
        </p:txBody>
      </p:sp>
      <p:sp>
        <p:nvSpPr>
          <p:cNvPr id="1057" name=""/>
          <p:cNvSpPr/>
          <p:nvPr/>
        </p:nvSpPr>
        <p:spPr>
          <a:xfrm>
            <a:off x="6184800" y="322200"/>
            <a:ext cx="135000" cy="3551400"/>
          </a:xfrm>
          <a:custGeom>
            <a:avLst/>
            <a:gdLst>
              <a:gd name="textAreaLeft" fmla="*/ 86400 w 135000"/>
              <a:gd name="textAreaRight" fmla="*/ 135360 w 135000"/>
              <a:gd name="textAreaTop" fmla="*/ 92520 h 3551400"/>
              <a:gd name="textAreaBottom" fmla="*/ 3458880 h 355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1058" name=""/>
          <p:cNvSpPr/>
          <p:nvPr/>
        </p:nvSpPr>
        <p:spPr>
          <a:xfrm>
            <a:off x="2908440" y="2716200"/>
            <a:ext cx="3668400" cy="75060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rted order: most specific first by typ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87200" y="228240"/>
            <a:ext cx="8956800" cy="107964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f00"/>
                </a:solidFill>
                <a:latin typeface="Arial"/>
              </a:rPr>
              <a:t>IPSec with Internet Key Exchange – Sending packets initiates security</a:t>
            </a:r>
            <a:endParaRPr b="1" lang="en-US" sz="3600" spc="-1" strike="noStrike">
              <a:solidFill>
                <a:srgbClr val="fccf00"/>
              </a:solidFill>
              <a:latin typeface="Arial"/>
            </a:endParaRPr>
          </a:p>
        </p:txBody>
      </p:sp>
      <p:sp>
        <p:nvSpPr>
          <p:cNvPr id="1060" name="PlaceHolder 2"/>
          <p:cNvSpPr>
            <a:spLocks noGrp="1"/>
          </p:cNvSpPr>
          <p:nvPr>
            <p:ph/>
          </p:nvPr>
        </p:nvSpPr>
        <p:spPr>
          <a:xfrm>
            <a:off x="-360" y="5130360"/>
            <a:ext cx="8967960" cy="1630800"/>
          </a:xfrm>
          <a:prstGeom prst="rect">
            <a:avLst/>
          </a:prstGeom>
          <a:noFill/>
          <a:ln w="0">
            <a:noFill/>
          </a:ln>
        </p:spPr>
        <p:txBody>
          <a:bodyPr tIns="46080" bIns="46080" anchor="t">
            <a:normAutofit/>
          </a:bodyPr>
          <a:p>
            <a:pPr marL="577800" indent="-577800">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Key Exchange (IKE) - Identity Protect Mode – defined in RFC 2409</a:t>
            </a:r>
            <a:endParaRPr b="1" lang="en-US" sz="1800" spc="-1" strike="noStrike">
              <a:solidFill>
                <a:srgbClr val="ffffff"/>
              </a:solidFill>
              <a:latin typeface="Arial"/>
            </a:endParaRPr>
          </a:p>
          <a:p>
            <a:pPr lvl="1" marL="1030320" indent="-450720">
              <a:lnSpc>
                <a:spcPct val="8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1 “Main Mode” establishes IKE SA – trusted channel between systems, negotiation establishes encrypted channel, mutual trust, and dynamically generates shared secret key (“master” key)</a:t>
            </a:r>
            <a:endParaRPr b="1" lang="en-US" sz="1600" spc="-1" strike="noStrike">
              <a:solidFill>
                <a:srgbClr val="ffffff"/>
              </a:solidFill>
              <a:latin typeface="Arial"/>
            </a:endParaRPr>
          </a:p>
          <a:p>
            <a:pPr lvl="1" marL="1030320" indent="-450720">
              <a:lnSpc>
                <a:spcPct val="8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2 “Quick Mode” establishes IPSec SAs – for data protection, one SA for each direction identified by packet label (SPI), algorithms and packet formats agreed, generates shared “session” secret keys derived from “master” key</a:t>
            </a:r>
            <a:endParaRPr b="1" lang="en-US" sz="1600" spc="-1" strike="noStrike">
              <a:solidFill>
                <a:srgbClr val="ffffff"/>
              </a:solidFill>
              <a:latin typeface="Arial"/>
            </a:endParaRPr>
          </a:p>
        </p:txBody>
      </p:sp>
      <p:sp>
        <p:nvSpPr>
          <p:cNvPr id="1061" name=""/>
          <p:cNvSpPr/>
          <p:nvPr/>
        </p:nvSpPr>
        <p:spPr>
          <a:xfrm flipH="1">
            <a:off x="5364000" y="1459080"/>
            <a:ext cx="3176640" cy="3098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2" name=""/>
          <p:cNvSpPr/>
          <p:nvPr/>
        </p:nvSpPr>
        <p:spPr>
          <a:xfrm flipH="1" flipV="1">
            <a:off x="5364000" y="3368160"/>
            <a:ext cx="3176640" cy="24120"/>
          </a:xfrm>
          <a:prstGeom prst="line">
            <a:avLst/>
          </a:prstGeom>
          <a:ln w="9360">
            <a:solidFill>
              <a:srgbClr val="ffffff"/>
            </a:solidFill>
            <a:prstDash val="dash"/>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1063" name=""/>
          <p:cNvSpPr/>
          <p:nvPr/>
        </p:nvSpPr>
        <p:spPr>
          <a:xfrm flipH="1">
            <a:off x="5364000" y="4245120"/>
            <a:ext cx="749520" cy="31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5720760" y="4253040"/>
            <a:ext cx="48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IC</a:t>
            </a:r>
            <a:endParaRPr b="0" lang="en-US" sz="1400" spc="-1" strike="noStrike">
              <a:solidFill>
                <a:srgbClr val="ffffff"/>
              </a:solidFill>
              <a:latin typeface="Times New Roman"/>
            </a:endParaRPr>
          </a:p>
        </p:txBody>
      </p:sp>
      <p:sp>
        <p:nvSpPr>
          <p:cNvPr id="1065" name=""/>
          <p:cNvSpPr/>
          <p:nvPr/>
        </p:nvSpPr>
        <p:spPr>
          <a:xfrm flipH="1">
            <a:off x="5374800" y="2357280"/>
            <a:ext cx="31654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66" name=""/>
          <p:cNvGrpSpPr/>
          <p:nvPr/>
        </p:nvGrpSpPr>
        <p:grpSpPr>
          <a:xfrm>
            <a:off x="5875200" y="3530520"/>
            <a:ext cx="1091880" cy="800280"/>
            <a:chOff x="5875200" y="3530520"/>
            <a:chExt cx="1091880" cy="800280"/>
          </a:xfrm>
        </p:grpSpPr>
        <p:sp>
          <p:nvSpPr>
            <p:cNvPr id="1067" name=""/>
            <p:cNvSpPr/>
            <p:nvPr/>
          </p:nvSpPr>
          <p:spPr>
            <a:xfrm>
              <a:off x="5875200" y="3530520"/>
              <a:ext cx="1091880" cy="800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5911920" y="368748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IP</a:t>
              </a:r>
              <a:endParaRPr b="0" lang="en-US" sz="2400" spc="-1" strike="noStrike">
                <a:solidFill>
                  <a:srgbClr val="ffffff"/>
                </a:solidFill>
                <a:latin typeface="Times New Roman"/>
              </a:endParaRPr>
            </a:p>
          </p:txBody>
        </p:sp>
      </p:grpSp>
      <p:sp>
        <p:nvSpPr>
          <p:cNvPr id="1069" name=""/>
          <p:cNvSpPr/>
          <p:nvPr/>
        </p:nvSpPr>
        <p:spPr>
          <a:xfrm>
            <a:off x="5821200" y="1482840"/>
            <a:ext cx="2152800" cy="849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 or Gateway</a:t>
            </a:r>
            <a:endParaRPr b="0" lang="en-US" sz="2400" spc="-1" strike="noStrike">
              <a:solidFill>
                <a:srgbClr val="ffffff"/>
              </a:solidFill>
              <a:latin typeface="Times New Roman"/>
            </a:endParaRPr>
          </a:p>
        </p:txBody>
      </p:sp>
      <p:sp>
        <p:nvSpPr>
          <p:cNvPr id="1070" name=""/>
          <p:cNvSpPr/>
          <p:nvPr/>
        </p:nvSpPr>
        <p:spPr>
          <a:xfrm>
            <a:off x="6966000" y="3502080"/>
            <a:ext cx="1272960" cy="673200"/>
          </a:xfrm>
          <a:prstGeom prst="ellipse">
            <a:avLst/>
          </a:prstGeom>
          <a:gradFill rotWithShape="0">
            <a:gsLst>
              <a:gs pos="0">
                <a:srgbClr val="ff7c80"/>
              </a:gs>
              <a:gs pos="100000">
                <a:srgbClr val="75393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cf00"/>
                </a:solidFill>
                <a:latin typeface="Times New Roman"/>
              </a:rPr>
              <a:t>IPSe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cf00"/>
                </a:solidFill>
                <a:latin typeface="Times New Roman"/>
              </a:rPr>
              <a:t>Driver</a:t>
            </a:r>
            <a:endParaRPr b="0" lang="en-US" sz="2000" spc="-1" strike="noStrike">
              <a:solidFill>
                <a:srgbClr val="ffffff"/>
              </a:solidFill>
              <a:latin typeface="Times New Roman"/>
            </a:endParaRPr>
          </a:p>
        </p:txBody>
      </p:sp>
      <p:grpSp>
        <p:nvGrpSpPr>
          <p:cNvPr id="1071" name=""/>
          <p:cNvGrpSpPr/>
          <p:nvPr/>
        </p:nvGrpSpPr>
        <p:grpSpPr>
          <a:xfrm>
            <a:off x="7770240" y="4103640"/>
            <a:ext cx="667080" cy="315360"/>
            <a:chOff x="7770240" y="4103640"/>
            <a:chExt cx="667080" cy="315360"/>
          </a:xfrm>
        </p:grpSpPr>
        <p:sp>
          <p:nvSpPr>
            <p:cNvPr id="1072" name=""/>
            <p:cNvSpPr/>
            <p:nvPr/>
          </p:nvSpPr>
          <p:spPr>
            <a:xfrm>
              <a:off x="7831440" y="4103640"/>
              <a:ext cx="605880" cy="276480"/>
            </a:xfrm>
            <a:prstGeom prst="flowChartMultidocument">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7770240" y="4111920"/>
              <a:ext cx="599760" cy="307080"/>
            </a:xfrm>
            <a:prstGeom prst="rect">
              <a:avLst/>
            </a:prstGeom>
            <a:solidFill>
              <a:srgbClr val="ff7c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s</a:t>
              </a:r>
              <a:endParaRPr b="0" lang="en-US" sz="1400" spc="-1" strike="noStrike">
                <a:solidFill>
                  <a:srgbClr val="ffffff"/>
                </a:solidFill>
                <a:latin typeface="Times New Roman"/>
              </a:endParaRPr>
            </a:p>
          </p:txBody>
        </p:sp>
      </p:grpSp>
      <p:grpSp>
        <p:nvGrpSpPr>
          <p:cNvPr id="1074" name=""/>
          <p:cNvGrpSpPr/>
          <p:nvPr/>
        </p:nvGrpSpPr>
        <p:grpSpPr>
          <a:xfrm>
            <a:off x="7172280" y="2390760"/>
            <a:ext cx="1383840" cy="665280"/>
            <a:chOff x="7172280" y="2390760"/>
            <a:chExt cx="1383840" cy="665280"/>
          </a:xfrm>
        </p:grpSpPr>
        <p:sp>
          <p:nvSpPr>
            <p:cNvPr id="1075" name=""/>
            <p:cNvSpPr/>
            <p:nvPr/>
          </p:nvSpPr>
          <p:spPr>
            <a:xfrm>
              <a:off x="7172280" y="2390760"/>
              <a:ext cx="1383840" cy="665280"/>
            </a:xfrm>
            <a:prstGeom prst="ellipse">
              <a:avLst/>
            </a:prstGeom>
            <a:gradFill rotWithShape="0">
              <a:gsLst>
                <a:gs pos="0">
                  <a:srgbClr val="ff7c80"/>
                </a:gs>
                <a:gs pos="100000">
                  <a:srgbClr val="75393b"/>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7176960" y="2410920"/>
              <a:ext cx="1298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cf00"/>
                  </a:solidFill>
                  <a:latin typeface="Times New Roman"/>
                </a:rPr>
                <a:t>IPSe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cf00"/>
                  </a:solidFill>
                  <a:latin typeface="Times New Roman"/>
                </a:rPr>
                <a:t>PolicyAgent</a:t>
              </a:r>
              <a:endParaRPr b="0" lang="en-US" sz="1600" spc="-1" strike="noStrike">
                <a:solidFill>
                  <a:srgbClr val="ffffff"/>
                </a:solidFill>
                <a:latin typeface="Times New Roman"/>
              </a:endParaRPr>
            </a:p>
          </p:txBody>
        </p:sp>
      </p:grpSp>
      <p:grpSp>
        <p:nvGrpSpPr>
          <p:cNvPr id="1077" name=""/>
          <p:cNvGrpSpPr/>
          <p:nvPr/>
        </p:nvGrpSpPr>
        <p:grpSpPr>
          <a:xfrm>
            <a:off x="5810400" y="2651040"/>
            <a:ext cx="1918800" cy="730440"/>
            <a:chOff x="5810400" y="2651040"/>
            <a:chExt cx="1918800" cy="730440"/>
          </a:xfrm>
        </p:grpSpPr>
        <p:sp>
          <p:nvSpPr>
            <p:cNvPr id="1078" name=""/>
            <p:cNvSpPr/>
            <p:nvPr/>
          </p:nvSpPr>
          <p:spPr>
            <a:xfrm>
              <a:off x="5826240" y="2651040"/>
              <a:ext cx="1736280" cy="730440"/>
            </a:xfrm>
            <a:prstGeom prst="ellipse">
              <a:avLst/>
            </a:prstGeom>
            <a:gradFill rotWithShape="0">
              <a:gsLst>
                <a:gs pos="0">
                  <a:srgbClr val="ff7c80"/>
                </a:gs>
                <a:gs pos="100000">
                  <a:srgbClr val="75393b"/>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5810400" y="2819160"/>
              <a:ext cx="191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cf00"/>
                  </a:solidFill>
                  <a:latin typeface="Times New Roman"/>
                </a:rPr>
                <a:t>IKE (ISAKMP)</a:t>
              </a:r>
              <a:endParaRPr b="0" lang="en-US" sz="1800" spc="-1" strike="noStrike">
                <a:solidFill>
                  <a:srgbClr val="ffffff"/>
                </a:solidFill>
                <a:latin typeface="Times New Roman"/>
              </a:endParaRPr>
            </a:p>
          </p:txBody>
        </p:sp>
      </p:grpSp>
      <p:sp>
        <p:nvSpPr>
          <p:cNvPr id="1080" name=""/>
          <p:cNvSpPr/>
          <p:nvPr/>
        </p:nvSpPr>
        <p:spPr>
          <a:xfrm>
            <a:off x="588960" y="1459080"/>
            <a:ext cx="3043080" cy="3098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
          <p:cNvSpPr/>
          <p:nvPr/>
        </p:nvSpPr>
        <p:spPr>
          <a:xfrm>
            <a:off x="781200" y="3560760"/>
            <a:ext cx="1271520" cy="673200"/>
          </a:xfrm>
          <a:prstGeom prst="ellipse">
            <a:avLst/>
          </a:prstGeom>
          <a:gradFill rotWithShape="0">
            <a:gsLst>
              <a:gs pos="0">
                <a:srgbClr val="ff7c80"/>
              </a:gs>
              <a:gs pos="100000">
                <a:srgbClr val="75393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cf00"/>
                </a:solidFill>
                <a:latin typeface="Times New Roman"/>
              </a:rPr>
              <a:t>IPSe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cf00"/>
                </a:solidFill>
                <a:latin typeface="Times New Roman"/>
              </a:rPr>
              <a:t>Driver</a:t>
            </a:r>
            <a:endParaRPr b="0" lang="en-US" sz="2000" spc="-1" strike="noStrike">
              <a:solidFill>
                <a:srgbClr val="ffffff"/>
              </a:solidFill>
              <a:latin typeface="Times New Roman"/>
            </a:endParaRPr>
          </a:p>
        </p:txBody>
      </p:sp>
      <p:grpSp>
        <p:nvGrpSpPr>
          <p:cNvPr id="1082" name=""/>
          <p:cNvGrpSpPr/>
          <p:nvPr/>
        </p:nvGrpSpPr>
        <p:grpSpPr>
          <a:xfrm>
            <a:off x="588960" y="2446200"/>
            <a:ext cx="1383840" cy="665280"/>
            <a:chOff x="588960" y="2446200"/>
            <a:chExt cx="1383840" cy="665280"/>
          </a:xfrm>
        </p:grpSpPr>
        <p:sp>
          <p:nvSpPr>
            <p:cNvPr id="1083" name=""/>
            <p:cNvSpPr/>
            <p:nvPr/>
          </p:nvSpPr>
          <p:spPr>
            <a:xfrm>
              <a:off x="588960" y="2446200"/>
              <a:ext cx="1383840" cy="665280"/>
            </a:xfrm>
            <a:prstGeom prst="ellipse">
              <a:avLst/>
            </a:prstGeom>
            <a:gradFill rotWithShape="0">
              <a:gsLst>
                <a:gs pos="0">
                  <a:srgbClr val="ff7c80"/>
                </a:gs>
                <a:gs pos="100000">
                  <a:srgbClr val="75393b"/>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593640" y="2466360"/>
              <a:ext cx="1298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cf00"/>
                  </a:solidFill>
                  <a:latin typeface="Times New Roman"/>
                </a:rPr>
                <a:t>IPSe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cf00"/>
                  </a:solidFill>
                  <a:latin typeface="Times New Roman"/>
                </a:rPr>
                <a:t>PolicyAgent</a:t>
              </a:r>
              <a:endParaRPr b="0" lang="en-US" sz="1600" spc="-1" strike="noStrike">
                <a:solidFill>
                  <a:srgbClr val="ffffff"/>
                </a:solidFill>
                <a:latin typeface="Times New Roman"/>
              </a:endParaRPr>
            </a:p>
          </p:txBody>
        </p:sp>
      </p:grpSp>
      <p:grpSp>
        <p:nvGrpSpPr>
          <p:cNvPr id="1085" name=""/>
          <p:cNvGrpSpPr/>
          <p:nvPr/>
        </p:nvGrpSpPr>
        <p:grpSpPr>
          <a:xfrm>
            <a:off x="1557360" y="2668680"/>
            <a:ext cx="1917360" cy="731880"/>
            <a:chOff x="1557360" y="2668680"/>
            <a:chExt cx="1917360" cy="731880"/>
          </a:xfrm>
        </p:grpSpPr>
        <p:sp>
          <p:nvSpPr>
            <p:cNvPr id="1086" name=""/>
            <p:cNvSpPr/>
            <p:nvPr/>
          </p:nvSpPr>
          <p:spPr>
            <a:xfrm>
              <a:off x="1573200" y="2668680"/>
              <a:ext cx="1734840" cy="731880"/>
            </a:xfrm>
            <a:prstGeom prst="ellipse">
              <a:avLst/>
            </a:prstGeom>
            <a:gradFill rotWithShape="0">
              <a:gsLst>
                <a:gs pos="0">
                  <a:srgbClr val="ff7c80"/>
                </a:gs>
                <a:gs pos="100000">
                  <a:srgbClr val="75393b"/>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557360" y="2837160"/>
              <a:ext cx="191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cf00"/>
                  </a:solidFill>
                  <a:latin typeface="Times New Roman"/>
                </a:rPr>
                <a:t>IKE (ISAKMP)</a:t>
              </a:r>
              <a:endParaRPr b="0" lang="en-US" sz="1800" spc="-1" strike="noStrike">
                <a:solidFill>
                  <a:srgbClr val="ffffff"/>
                </a:solidFill>
                <a:latin typeface="Times New Roman"/>
              </a:endParaRPr>
            </a:p>
          </p:txBody>
        </p:sp>
      </p:grpSp>
      <p:sp>
        <p:nvSpPr>
          <p:cNvPr id="1088" name=""/>
          <p:cNvSpPr/>
          <p:nvPr/>
        </p:nvSpPr>
        <p:spPr>
          <a:xfrm>
            <a:off x="2906640" y="4230720"/>
            <a:ext cx="719280" cy="312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2897280" y="4240080"/>
            <a:ext cx="48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IC</a:t>
            </a:r>
            <a:endParaRPr b="0" lang="en-US" sz="1400" spc="-1" strike="noStrike">
              <a:solidFill>
                <a:srgbClr val="ffffff"/>
              </a:solidFill>
              <a:latin typeface="Times New Roman"/>
            </a:endParaRPr>
          </a:p>
        </p:txBody>
      </p:sp>
      <p:sp>
        <p:nvSpPr>
          <p:cNvPr id="1090" name=""/>
          <p:cNvSpPr/>
          <p:nvPr/>
        </p:nvSpPr>
        <p:spPr>
          <a:xfrm>
            <a:off x="588960" y="2449440"/>
            <a:ext cx="3032280" cy="1800"/>
          </a:xfrm>
          <a:prstGeom prst="line">
            <a:avLst/>
          </a:prstGeom>
          <a:ln cap="rnd" w="9360">
            <a:solidFill>
              <a:srgbClr val="ffffff"/>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nvGrpSpPr>
          <p:cNvPr id="1091" name=""/>
          <p:cNvGrpSpPr/>
          <p:nvPr/>
        </p:nvGrpSpPr>
        <p:grpSpPr>
          <a:xfrm>
            <a:off x="2033640" y="3592440"/>
            <a:ext cx="1091880" cy="800280"/>
            <a:chOff x="2033640" y="3592440"/>
            <a:chExt cx="1091880" cy="800280"/>
          </a:xfrm>
        </p:grpSpPr>
        <p:sp>
          <p:nvSpPr>
            <p:cNvPr id="1092" name=""/>
            <p:cNvSpPr/>
            <p:nvPr/>
          </p:nvSpPr>
          <p:spPr>
            <a:xfrm>
              <a:off x="2033640" y="3592440"/>
              <a:ext cx="1091880" cy="800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2070360" y="37494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IP</a:t>
              </a:r>
              <a:endParaRPr b="0" lang="en-US" sz="2400" spc="-1" strike="noStrike">
                <a:solidFill>
                  <a:srgbClr val="ffffff"/>
                </a:solidFill>
                <a:latin typeface="Times New Roman"/>
              </a:endParaRPr>
            </a:p>
          </p:txBody>
        </p:sp>
      </p:grpSp>
      <p:grpSp>
        <p:nvGrpSpPr>
          <p:cNvPr id="1094" name=""/>
          <p:cNvGrpSpPr/>
          <p:nvPr/>
        </p:nvGrpSpPr>
        <p:grpSpPr>
          <a:xfrm>
            <a:off x="624960" y="4208400"/>
            <a:ext cx="667080" cy="317160"/>
            <a:chOff x="624960" y="4208400"/>
            <a:chExt cx="667080" cy="317160"/>
          </a:xfrm>
        </p:grpSpPr>
        <p:sp>
          <p:nvSpPr>
            <p:cNvPr id="1095" name=""/>
            <p:cNvSpPr/>
            <p:nvPr/>
          </p:nvSpPr>
          <p:spPr>
            <a:xfrm>
              <a:off x="685800" y="4208400"/>
              <a:ext cx="606240" cy="275400"/>
            </a:xfrm>
            <a:prstGeom prst="flowChartMultidocument">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24960" y="4218480"/>
              <a:ext cx="599760" cy="307080"/>
            </a:xfrm>
            <a:prstGeom prst="rect">
              <a:avLst/>
            </a:prstGeom>
            <a:solidFill>
              <a:srgbClr val="ff7c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s</a:t>
              </a:r>
              <a:endParaRPr b="0" lang="en-US" sz="1400" spc="-1" strike="noStrike">
                <a:solidFill>
                  <a:srgbClr val="ffffff"/>
                </a:solidFill>
                <a:latin typeface="Times New Roman"/>
              </a:endParaRPr>
            </a:p>
          </p:txBody>
        </p:sp>
      </p:grpSp>
      <p:sp>
        <p:nvSpPr>
          <p:cNvPr id="1097" name=""/>
          <p:cNvSpPr/>
          <p:nvPr/>
        </p:nvSpPr>
        <p:spPr>
          <a:xfrm>
            <a:off x="1201680" y="1490760"/>
            <a:ext cx="2154240" cy="849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 or Servic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098" name=""/>
          <p:cNvGrpSpPr/>
          <p:nvPr/>
        </p:nvGrpSpPr>
        <p:grpSpPr>
          <a:xfrm>
            <a:off x="401760" y="4560840"/>
            <a:ext cx="8262720" cy="393840"/>
            <a:chOff x="401760" y="4560840"/>
            <a:chExt cx="8262720" cy="393840"/>
          </a:xfrm>
        </p:grpSpPr>
        <p:sp>
          <p:nvSpPr>
            <p:cNvPr id="1099" name=""/>
            <p:cNvSpPr/>
            <p:nvPr/>
          </p:nvSpPr>
          <p:spPr>
            <a:xfrm>
              <a:off x="5221440" y="4560840"/>
              <a:ext cx="3443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IKE Responder”</a:t>
              </a:r>
              <a:endParaRPr b="0" lang="en-US" sz="1800" spc="-1" strike="noStrike">
                <a:solidFill>
                  <a:srgbClr val="ffffff"/>
                </a:solidFill>
                <a:latin typeface="Times New Roman"/>
              </a:endParaRPr>
            </a:p>
          </p:txBody>
        </p:sp>
        <p:sp>
          <p:nvSpPr>
            <p:cNvPr id="1100" name=""/>
            <p:cNvSpPr/>
            <p:nvPr/>
          </p:nvSpPr>
          <p:spPr>
            <a:xfrm>
              <a:off x="401760" y="4586400"/>
              <a:ext cx="3443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IKE Initiator”</a:t>
              </a:r>
              <a:endParaRPr b="0" lang="en-US" sz="1800" spc="-1" strike="noStrike">
                <a:solidFill>
                  <a:srgbClr val="ffffff"/>
                </a:solidFill>
                <a:latin typeface="Times New Roman"/>
              </a:endParaRPr>
            </a:p>
          </p:txBody>
        </p:sp>
      </p:grpSp>
      <p:sp>
        <p:nvSpPr>
          <p:cNvPr id="1101" name=""/>
          <p:cNvSpPr/>
          <p:nvPr/>
        </p:nvSpPr>
        <p:spPr>
          <a:xfrm>
            <a:off x="608040" y="3417840"/>
            <a:ext cx="3031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flipV="1">
            <a:off x="1798560" y="3147840"/>
            <a:ext cx="476280" cy="603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3111480" y="2133720"/>
            <a:ext cx="333360" cy="1701720"/>
          </a:xfrm>
          <a:custGeom>
            <a:avLst/>
            <a:gdLst/>
            <a:ahLst/>
            <a:rect l="l" t="t" r="r" b="b"/>
            <a:pathLst>
              <a:path w="307" h="1170">
                <a:moveTo>
                  <a:pt x="100" y="0"/>
                </a:moveTo>
                <a:cubicBezTo>
                  <a:pt x="203" y="222"/>
                  <a:pt x="307" y="445"/>
                  <a:pt x="290" y="640"/>
                </a:cubicBezTo>
                <a:cubicBezTo>
                  <a:pt x="273" y="835"/>
                  <a:pt x="136" y="1002"/>
                  <a:pt x="0" y="1170"/>
                </a:cubicBezTo>
              </a:path>
            </a:pathLst>
          </a:custGeom>
          <a:noFill/>
          <a:ln w="3492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flipH="1">
            <a:off x="1825560" y="3817800"/>
            <a:ext cx="89712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nvGrpSpPr>
          <p:cNvPr id="1105" name=""/>
          <p:cNvGrpSpPr/>
          <p:nvPr/>
        </p:nvGrpSpPr>
        <p:grpSpPr>
          <a:xfrm>
            <a:off x="1600200" y="3124080"/>
            <a:ext cx="5607000" cy="703440"/>
            <a:chOff x="1600200" y="3124080"/>
            <a:chExt cx="5607000" cy="703440"/>
          </a:xfrm>
        </p:grpSpPr>
        <p:sp>
          <p:nvSpPr>
            <p:cNvPr id="1106" name=""/>
            <p:cNvSpPr/>
            <p:nvPr/>
          </p:nvSpPr>
          <p:spPr>
            <a:xfrm flipH="1">
              <a:off x="1600200" y="3124080"/>
              <a:ext cx="349200" cy="635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7064280" y="3224160"/>
              <a:ext cx="142920" cy="603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08" name=""/>
          <p:cNvGrpSpPr/>
          <p:nvPr/>
        </p:nvGrpSpPr>
        <p:grpSpPr>
          <a:xfrm>
            <a:off x="3352680" y="2111400"/>
            <a:ext cx="2362320" cy="1059840"/>
            <a:chOff x="3352680" y="2111400"/>
            <a:chExt cx="2362320" cy="1059840"/>
          </a:xfrm>
        </p:grpSpPr>
        <p:sp>
          <p:nvSpPr>
            <p:cNvPr id="1109" name=""/>
            <p:cNvSpPr/>
            <p:nvPr/>
          </p:nvSpPr>
          <p:spPr>
            <a:xfrm>
              <a:off x="3352680" y="2805120"/>
              <a:ext cx="23623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3475080" y="2111400"/>
              <a:ext cx="22366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DP port 500 negotiation</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IKE SA</a:t>
              </a:r>
              <a:endParaRPr b="0" lang="en-US" sz="1800" spc="-1" strike="noStrike">
                <a:solidFill>
                  <a:srgbClr val="ffffff"/>
                </a:solidFill>
                <a:latin typeface="Times New Roman"/>
              </a:endParaRPr>
            </a:p>
          </p:txBody>
        </p:sp>
      </p:grpSp>
      <p:grpSp>
        <p:nvGrpSpPr>
          <p:cNvPr id="1111" name=""/>
          <p:cNvGrpSpPr/>
          <p:nvPr/>
        </p:nvGrpSpPr>
        <p:grpSpPr>
          <a:xfrm>
            <a:off x="3400560" y="3241800"/>
            <a:ext cx="2383920" cy="601560"/>
            <a:chOff x="3400560" y="3241800"/>
            <a:chExt cx="2383920" cy="601560"/>
          </a:xfrm>
        </p:grpSpPr>
        <p:sp>
          <p:nvSpPr>
            <p:cNvPr id="1112" name=""/>
            <p:cNvSpPr/>
            <p:nvPr/>
          </p:nvSpPr>
          <p:spPr>
            <a:xfrm>
              <a:off x="3436920" y="3475080"/>
              <a:ext cx="2236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IPSec SAs</a:t>
              </a:r>
              <a:endParaRPr b="0" lang="en-US" sz="1800" spc="-1" strike="noStrike">
                <a:solidFill>
                  <a:srgbClr val="ffffff"/>
                </a:solidFill>
                <a:latin typeface="Times New Roman"/>
              </a:endParaRPr>
            </a:p>
          </p:txBody>
        </p:sp>
        <p:sp>
          <p:nvSpPr>
            <p:cNvPr id="1113" name=""/>
            <p:cNvSpPr/>
            <p:nvPr/>
          </p:nvSpPr>
          <p:spPr>
            <a:xfrm>
              <a:off x="3422520" y="3241800"/>
              <a:ext cx="236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3400560" y="3433680"/>
              <a:ext cx="23619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15" name=""/>
          <p:cNvGrpSpPr/>
          <p:nvPr/>
        </p:nvGrpSpPr>
        <p:grpSpPr>
          <a:xfrm>
            <a:off x="1825560" y="3986280"/>
            <a:ext cx="3889440" cy="896760"/>
            <a:chOff x="1825560" y="3986280"/>
            <a:chExt cx="3889440" cy="896760"/>
          </a:xfrm>
        </p:grpSpPr>
        <p:sp>
          <p:nvSpPr>
            <p:cNvPr id="1116" name=""/>
            <p:cNvSpPr/>
            <p:nvPr/>
          </p:nvSpPr>
          <p:spPr>
            <a:xfrm>
              <a:off x="1825560" y="3986280"/>
              <a:ext cx="3889440" cy="487440"/>
            </a:xfrm>
            <a:custGeom>
              <a:avLst/>
              <a:gdLst/>
              <a:ahLst/>
              <a:rect l="l" t="t" r="r" b="b"/>
              <a:pathLst>
                <a:path w="2340" h="287">
                  <a:moveTo>
                    <a:pt x="0" y="0"/>
                  </a:moveTo>
                  <a:cubicBezTo>
                    <a:pt x="166" y="67"/>
                    <a:pt x="332" y="135"/>
                    <a:pt x="520" y="180"/>
                  </a:cubicBezTo>
                  <a:cubicBezTo>
                    <a:pt x="708" y="225"/>
                    <a:pt x="827" y="253"/>
                    <a:pt x="1130" y="270"/>
                  </a:cubicBezTo>
                  <a:cubicBezTo>
                    <a:pt x="1433" y="287"/>
                    <a:pt x="1886" y="283"/>
                    <a:pt x="2340" y="28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3333600" y="4514760"/>
              <a:ext cx="223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 protocol 50/51</a:t>
              </a:r>
              <a:endParaRPr b="0" lang="en-US" sz="1800" spc="-1" strike="noStrike">
                <a:solidFill>
                  <a:srgbClr val="ffffff"/>
                </a:solidFill>
                <a:latin typeface="Times New Roman"/>
              </a:endParaRPr>
            </a:p>
          </p:txBody>
        </p:sp>
      </p:gr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65040" y="228240"/>
            <a:ext cx="8431200" cy="107964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f00"/>
                </a:solidFill>
                <a:latin typeface="Arial"/>
              </a:rPr>
              <a:t>IPSec with Internet Key Exchange – Receive IKE, use policy to reply</a:t>
            </a:r>
            <a:endParaRPr b="1" lang="en-US" sz="3600" spc="-1" strike="noStrike">
              <a:solidFill>
                <a:srgbClr val="fccf00"/>
              </a:solidFill>
              <a:latin typeface="Arial"/>
            </a:endParaRPr>
          </a:p>
        </p:txBody>
      </p:sp>
      <p:grpSp>
        <p:nvGrpSpPr>
          <p:cNvPr id="1119" name=""/>
          <p:cNvGrpSpPr/>
          <p:nvPr/>
        </p:nvGrpSpPr>
        <p:grpSpPr>
          <a:xfrm>
            <a:off x="6427800" y="1967040"/>
            <a:ext cx="2473200" cy="3101760"/>
            <a:chOff x="6427800" y="1967040"/>
            <a:chExt cx="2473200" cy="3101760"/>
          </a:xfrm>
        </p:grpSpPr>
        <p:sp>
          <p:nvSpPr>
            <p:cNvPr id="1120" name=""/>
            <p:cNvSpPr/>
            <p:nvPr/>
          </p:nvSpPr>
          <p:spPr>
            <a:xfrm>
              <a:off x="6470640" y="196704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21" name=""/>
            <p:cNvSpPr/>
            <p:nvPr/>
          </p:nvSpPr>
          <p:spPr>
            <a:xfrm>
              <a:off x="6475320" y="2401920"/>
              <a:ext cx="225756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22" name=""/>
            <p:cNvSpPr/>
            <p:nvPr/>
          </p:nvSpPr>
          <p:spPr>
            <a:xfrm>
              <a:off x="6467400" y="285120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23" name=""/>
            <p:cNvSpPr/>
            <p:nvPr/>
          </p:nvSpPr>
          <p:spPr>
            <a:xfrm>
              <a:off x="6467400" y="3295440"/>
              <a:ext cx="2257560" cy="4431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24" name=""/>
            <p:cNvSpPr/>
            <p:nvPr/>
          </p:nvSpPr>
          <p:spPr>
            <a:xfrm>
              <a:off x="6870600" y="2003400"/>
              <a:ext cx="15858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IP</a:t>
              </a:r>
              <a:endParaRPr b="0" lang="en-US" sz="2000" spc="-1" strike="noStrike">
                <a:solidFill>
                  <a:srgbClr val="ffffff"/>
                </a:solidFill>
                <a:latin typeface="Times New Roman"/>
              </a:endParaRPr>
            </a:p>
          </p:txBody>
        </p:sp>
        <p:sp>
          <p:nvSpPr>
            <p:cNvPr id="1125" name=""/>
            <p:cNvSpPr/>
            <p:nvPr/>
          </p:nvSpPr>
          <p:spPr>
            <a:xfrm>
              <a:off x="6462720" y="2450880"/>
              <a:ext cx="24048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rc subnet mask</a:t>
              </a:r>
              <a:endParaRPr b="0" lang="en-US" sz="2000" spc="-1" strike="noStrike">
                <a:solidFill>
                  <a:srgbClr val="ffffff"/>
                </a:solidFill>
                <a:latin typeface="Times New Roman"/>
              </a:endParaRPr>
            </a:p>
          </p:txBody>
        </p:sp>
        <p:sp>
          <p:nvSpPr>
            <p:cNvPr id="1126" name=""/>
            <p:cNvSpPr/>
            <p:nvPr/>
          </p:nvSpPr>
          <p:spPr>
            <a:xfrm>
              <a:off x="6427800" y="3330360"/>
              <a:ext cx="24732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st subnet mask</a:t>
              </a:r>
              <a:endParaRPr b="0" lang="en-US" sz="2000" spc="-1" strike="noStrike">
                <a:solidFill>
                  <a:srgbClr val="ffffff"/>
                </a:solidFill>
                <a:latin typeface="Times New Roman"/>
              </a:endParaRPr>
            </a:p>
          </p:txBody>
        </p:sp>
        <p:sp>
          <p:nvSpPr>
            <p:cNvPr id="1127" name=""/>
            <p:cNvSpPr/>
            <p:nvPr/>
          </p:nvSpPr>
          <p:spPr>
            <a:xfrm>
              <a:off x="6972120" y="2895480"/>
              <a:ext cx="13845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t IP</a:t>
              </a:r>
              <a:endParaRPr b="0" lang="en-US" sz="2000" spc="-1" strike="noStrike">
                <a:solidFill>
                  <a:srgbClr val="ffffff"/>
                </a:solidFill>
                <a:latin typeface="Times New Roman"/>
              </a:endParaRPr>
            </a:p>
          </p:txBody>
        </p:sp>
        <p:sp>
          <p:nvSpPr>
            <p:cNvPr id="1128" name=""/>
            <p:cNvSpPr/>
            <p:nvPr/>
          </p:nvSpPr>
          <p:spPr>
            <a:xfrm>
              <a:off x="6475320" y="373536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29" name=""/>
            <p:cNvSpPr/>
            <p:nvPr/>
          </p:nvSpPr>
          <p:spPr>
            <a:xfrm>
              <a:off x="6467400" y="4182840"/>
              <a:ext cx="2259000" cy="4431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30" name=""/>
            <p:cNvSpPr/>
            <p:nvPr/>
          </p:nvSpPr>
          <p:spPr>
            <a:xfrm>
              <a:off x="6472080" y="461952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31" name=""/>
            <p:cNvSpPr/>
            <p:nvPr/>
          </p:nvSpPr>
          <p:spPr>
            <a:xfrm>
              <a:off x="6764400" y="3809880"/>
              <a:ext cx="18000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 Protocol</a:t>
              </a:r>
              <a:endParaRPr b="0" lang="en-US" sz="2000" spc="-1" strike="noStrike">
                <a:solidFill>
                  <a:srgbClr val="ffffff"/>
                </a:solidFill>
                <a:latin typeface="Times New Roman"/>
              </a:endParaRPr>
            </a:p>
          </p:txBody>
        </p:sp>
        <p:sp>
          <p:nvSpPr>
            <p:cNvPr id="1132" name=""/>
            <p:cNvSpPr/>
            <p:nvPr/>
          </p:nvSpPr>
          <p:spPr>
            <a:xfrm>
              <a:off x="6718320" y="4701960"/>
              <a:ext cx="18921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t Port</a:t>
              </a:r>
              <a:endParaRPr b="0" lang="en-US" sz="2000" spc="-1" strike="noStrike">
                <a:solidFill>
                  <a:srgbClr val="ffffff"/>
                </a:solidFill>
                <a:latin typeface="Times New Roman"/>
              </a:endParaRPr>
            </a:p>
          </p:txBody>
        </p:sp>
        <p:sp>
          <p:nvSpPr>
            <p:cNvPr id="1133" name=""/>
            <p:cNvSpPr/>
            <p:nvPr/>
          </p:nvSpPr>
          <p:spPr>
            <a:xfrm>
              <a:off x="6697440" y="4235400"/>
              <a:ext cx="193356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Port</a:t>
              </a:r>
              <a:endParaRPr b="0" lang="en-US" sz="2000" spc="-1" strike="noStrike">
                <a:solidFill>
                  <a:srgbClr val="ffffff"/>
                </a:solidFill>
                <a:latin typeface="Times New Roman"/>
              </a:endParaRPr>
            </a:p>
          </p:txBody>
        </p:sp>
      </p:grpSp>
      <p:sp>
        <p:nvSpPr>
          <p:cNvPr id="1134" name=""/>
          <p:cNvSpPr/>
          <p:nvPr/>
        </p:nvSpPr>
        <p:spPr>
          <a:xfrm>
            <a:off x="2752560" y="2360520"/>
            <a:ext cx="3043440" cy="3098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35" name=""/>
          <p:cNvGrpSpPr/>
          <p:nvPr/>
        </p:nvGrpSpPr>
        <p:grpSpPr>
          <a:xfrm>
            <a:off x="3398760" y="3046320"/>
            <a:ext cx="1917360" cy="852120"/>
            <a:chOff x="3398760" y="3046320"/>
            <a:chExt cx="1917360" cy="852120"/>
          </a:xfrm>
        </p:grpSpPr>
        <p:sp>
          <p:nvSpPr>
            <p:cNvPr id="1136" name=""/>
            <p:cNvSpPr/>
            <p:nvPr/>
          </p:nvSpPr>
          <p:spPr>
            <a:xfrm>
              <a:off x="3414600" y="3046320"/>
              <a:ext cx="1734840" cy="852120"/>
            </a:xfrm>
            <a:prstGeom prst="ellipse">
              <a:avLst/>
            </a:prstGeom>
            <a:gradFill rotWithShape="0">
              <a:gsLst>
                <a:gs pos="0">
                  <a:srgbClr val="ff7c80"/>
                </a:gs>
                <a:gs pos="100000">
                  <a:srgbClr val="75393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3398760" y="3242520"/>
              <a:ext cx="191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cf00"/>
                  </a:solidFill>
                  <a:latin typeface="Times New Roman"/>
                </a:rPr>
                <a:t>IKE (ISAKMP)</a:t>
              </a:r>
              <a:endParaRPr b="0" lang="en-US" sz="1800" spc="-1" strike="noStrike">
                <a:solidFill>
                  <a:srgbClr val="ffffff"/>
                </a:solidFill>
                <a:latin typeface="Times New Roman"/>
              </a:endParaRPr>
            </a:p>
          </p:txBody>
        </p:sp>
      </p:grpSp>
      <p:grpSp>
        <p:nvGrpSpPr>
          <p:cNvPr id="1138" name=""/>
          <p:cNvGrpSpPr/>
          <p:nvPr/>
        </p:nvGrpSpPr>
        <p:grpSpPr>
          <a:xfrm>
            <a:off x="2762280" y="5145120"/>
            <a:ext cx="728640" cy="316440"/>
            <a:chOff x="2762280" y="5145120"/>
            <a:chExt cx="728640" cy="316440"/>
          </a:xfrm>
        </p:grpSpPr>
        <p:sp>
          <p:nvSpPr>
            <p:cNvPr id="1139" name=""/>
            <p:cNvSpPr/>
            <p:nvPr/>
          </p:nvSpPr>
          <p:spPr>
            <a:xfrm>
              <a:off x="2771640" y="5145120"/>
              <a:ext cx="719280" cy="31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2762280" y="5154480"/>
              <a:ext cx="48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IC</a:t>
              </a:r>
              <a:endParaRPr b="0" lang="en-US" sz="1400" spc="-1" strike="noStrike">
                <a:solidFill>
                  <a:srgbClr val="ffffff"/>
                </a:solidFill>
                <a:latin typeface="Times New Roman"/>
              </a:endParaRPr>
            </a:p>
          </p:txBody>
        </p:sp>
      </p:grpSp>
      <p:grpSp>
        <p:nvGrpSpPr>
          <p:cNvPr id="1141" name=""/>
          <p:cNvGrpSpPr/>
          <p:nvPr/>
        </p:nvGrpSpPr>
        <p:grpSpPr>
          <a:xfrm>
            <a:off x="3027240" y="4384800"/>
            <a:ext cx="1091880" cy="799920"/>
            <a:chOff x="3027240" y="4384800"/>
            <a:chExt cx="1091880" cy="799920"/>
          </a:xfrm>
        </p:grpSpPr>
        <p:sp>
          <p:nvSpPr>
            <p:cNvPr id="1142" name=""/>
            <p:cNvSpPr/>
            <p:nvPr/>
          </p:nvSpPr>
          <p:spPr>
            <a:xfrm>
              <a:off x="3027240" y="4384800"/>
              <a:ext cx="1091880" cy="799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3063960" y="45414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IP</a:t>
              </a:r>
              <a:endParaRPr b="0" lang="en-US" sz="2400" spc="-1" strike="noStrike">
                <a:solidFill>
                  <a:srgbClr val="ffffff"/>
                </a:solidFill>
                <a:latin typeface="Times New Roman"/>
              </a:endParaRPr>
            </a:p>
          </p:txBody>
        </p:sp>
      </p:grpSp>
      <p:grpSp>
        <p:nvGrpSpPr>
          <p:cNvPr id="1144" name=""/>
          <p:cNvGrpSpPr/>
          <p:nvPr/>
        </p:nvGrpSpPr>
        <p:grpSpPr>
          <a:xfrm>
            <a:off x="4403160" y="5094360"/>
            <a:ext cx="667080" cy="317160"/>
            <a:chOff x="4403160" y="5094360"/>
            <a:chExt cx="667080" cy="317160"/>
          </a:xfrm>
        </p:grpSpPr>
        <p:sp>
          <p:nvSpPr>
            <p:cNvPr id="1145" name=""/>
            <p:cNvSpPr/>
            <p:nvPr/>
          </p:nvSpPr>
          <p:spPr>
            <a:xfrm>
              <a:off x="4464360" y="5094360"/>
              <a:ext cx="605880" cy="275400"/>
            </a:xfrm>
            <a:prstGeom prst="flowChartMultidocument">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4403160" y="5104440"/>
              <a:ext cx="599760" cy="307080"/>
            </a:xfrm>
            <a:prstGeom prst="rect">
              <a:avLst/>
            </a:prstGeom>
            <a:solidFill>
              <a:srgbClr val="ff7c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s</a:t>
              </a:r>
              <a:endParaRPr b="0" lang="en-US" sz="1400" spc="-1" strike="noStrike">
                <a:solidFill>
                  <a:srgbClr val="ffffff"/>
                </a:solidFill>
                <a:latin typeface="Times New Roman"/>
              </a:endParaRPr>
            </a:p>
          </p:txBody>
        </p:sp>
      </p:grpSp>
      <p:sp>
        <p:nvSpPr>
          <p:cNvPr id="1147" name=""/>
          <p:cNvSpPr/>
          <p:nvPr/>
        </p:nvSpPr>
        <p:spPr>
          <a:xfrm>
            <a:off x="2759040" y="4319640"/>
            <a:ext cx="303228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8" name=""/>
          <p:cNvGrpSpPr/>
          <p:nvPr/>
        </p:nvGrpSpPr>
        <p:grpSpPr>
          <a:xfrm>
            <a:off x="3454560" y="1992240"/>
            <a:ext cx="2676240" cy="1719360"/>
            <a:chOff x="3454560" y="1992240"/>
            <a:chExt cx="2676240" cy="1719360"/>
          </a:xfrm>
        </p:grpSpPr>
        <p:sp>
          <p:nvSpPr>
            <p:cNvPr id="1149" name=""/>
            <p:cNvSpPr/>
            <p:nvPr/>
          </p:nvSpPr>
          <p:spPr>
            <a:xfrm>
              <a:off x="3570120" y="2519280"/>
              <a:ext cx="1584360" cy="6987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grpSp>
          <p:nvGrpSpPr>
            <p:cNvPr id="1150" name=""/>
            <p:cNvGrpSpPr/>
            <p:nvPr/>
          </p:nvGrpSpPr>
          <p:grpSpPr>
            <a:xfrm>
              <a:off x="3454560" y="1992240"/>
              <a:ext cx="2676240" cy="1719360"/>
              <a:chOff x="3454560" y="1992240"/>
              <a:chExt cx="2676240" cy="1719360"/>
            </a:xfrm>
          </p:grpSpPr>
          <p:sp>
            <p:nvSpPr>
              <p:cNvPr id="1151" name=""/>
              <p:cNvSpPr/>
              <p:nvPr/>
            </p:nvSpPr>
            <p:spPr>
              <a:xfrm>
                <a:off x="6010200" y="1992240"/>
                <a:ext cx="120600" cy="1719360"/>
              </a:xfrm>
              <a:custGeom>
                <a:avLst/>
                <a:gdLst>
                  <a:gd name="textAreaLeft" fmla="*/ 77040 w 120600"/>
                  <a:gd name="textAreaRight" fmla="*/ 120960 w 120600"/>
                  <a:gd name="textAreaTop" fmla="*/ 44640 h 1719360"/>
                  <a:gd name="textAreaBottom" fmla="*/ 1674720 h 17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52" name=""/>
              <p:cNvSpPr/>
              <p:nvPr/>
            </p:nvSpPr>
            <p:spPr>
              <a:xfrm flipH="1" flipV="1">
                <a:off x="5163840" y="2824200"/>
                <a:ext cx="831960" cy="39600"/>
              </a:xfrm>
              <a:prstGeom prst="line">
                <a:avLst/>
              </a:prstGeom>
              <a:ln w="9360">
                <a:solidFill>
                  <a:srgbClr val="ffffff"/>
                </a:solidFill>
                <a:miter/>
              </a:ln>
            </p:spPr>
            <p:style>
              <a:lnRef idx="0"/>
              <a:fillRef idx="0"/>
              <a:effectRef idx="0"/>
              <a:fontRef idx="minor"/>
            </p:style>
            <p:txBody>
              <a:bodyPr lIns="182520" rIns="182520" tIns="-6120" bIns="-6120" anchor="t">
                <a:noAutofit/>
              </a:bodyPr>
              <a:p>
                <a:endParaRPr b="0" lang="en-US" sz="2400" spc="-1" strike="noStrike">
                  <a:solidFill>
                    <a:srgbClr val="ffffff"/>
                  </a:solidFill>
                  <a:latin typeface="Times New Roman"/>
                </a:endParaRPr>
              </a:p>
            </p:txBody>
          </p:sp>
          <p:sp>
            <p:nvSpPr>
              <p:cNvPr id="1153" name=""/>
              <p:cNvSpPr/>
              <p:nvPr/>
            </p:nvSpPr>
            <p:spPr>
              <a:xfrm>
                <a:off x="3454560" y="2600280"/>
                <a:ext cx="1892160" cy="6411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in Mode Policy Table</a:t>
                </a:r>
                <a:endParaRPr b="0" lang="en-US" sz="2000" spc="-1" strike="noStrike">
                  <a:solidFill>
                    <a:srgbClr val="ffffff"/>
                  </a:solidFill>
                  <a:latin typeface="Times New Roman"/>
                </a:endParaRPr>
              </a:p>
            </p:txBody>
          </p:sp>
        </p:grpSp>
      </p:grpSp>
      <p:grpSp>
        <p:nvGrpSpPr>
          <p:cNvPr id="1154" name=""/>
          <p:cNvGrpSpPr/>
          <p:nvPr/>
        </p:nvGrpSpPr>
        <p:grpSpPr>
          <a:xfrm>
            <a:off x="306360" y="3740040"/>
            <a:ext cx="7975800" cy="2826720"/>
            <a:chOff x="306360" y="3740040"/>
            <a:chExt cx="7975800" cy="2826720"/>
          </a:xfrm>
        </p:grpSpPr>
        <p:sp>
          <p:nvSpPr>
            <p:cNvPr id="1155" name=""/>
            <p:cNvSpPr/>
            <p:nvPr/>
          </p:nvSpPr>
          <p:spPr>
            <a:xfrm>
              <a:off x="336600" y="6145200"/>
              <a:ext cx="794556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ick Mode negotiated based on full IPSec filter</a:t>
              </a:r>
              <a:endParaRPr b="0" lang="en-US" sz="2400" spc="-1" strike="noStrike">
                <a:solidFill>
                  <a:srgbClr val="ffffff"/>
                </a:solidFill>
                <a:latin typeface="Times New Roman"/>
              </a:endParaRPr>
            </a:p>
          </p:txBody>
        </p:sp>
        <p:grpSp>
          <p:nvGrpSpPr>
            <p:cNvPr id="1156" name=""/>
            <p:cNvGrpSpPr/>
            <p:nvPr/>
          </p:nvGrpSpPr>
          <p:grpSpPr>
            <a:xfrm>
              <a:off x="306360" y="3740040"/>
              <a:ext cx="3177720" cy="601560"/>
              <a:chOff x="306360" y="3740040"/>
              <a:chExt cx="3177720" cy="601560"/>
            </a:xfrm>
          </p:grpSpPr>
          <p:sp>
            <p:nvSpPr>
              <p:cNvPr id="1157" name=""/>
              <p:cNvSpPr/>
              <p:nvPr/>
            </p:nvSpPr>
            <p:spPr>
              <a:xfrm>
                <a:off x="354960" y="3973320"/>
                <a:ext cx="298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IPSec SAs</a:t>
                </a:r>
                <a:endParaRPr b="0" lang="en-US" sz="1800" spc="-1" strike="noStrike">
                  <a:solidFill>
                    <a:srgbClr val="ffffff"/>
                  </a:solidFill>
                  <a:latin typeface="Times New Roman"/>
                </a:endParaRPr>
              </a:p>
            </p:txBody>
          </p:sp>
          <p:sp>
            <p:nvSpPr>
              <p:cNvPr id="1158" name=""/>
              <p:cNvSpPr/>
              <p:nvPr/>
            </p:nvSpPr>
            <p:spPr>
              <a:xfrm>
                <a:off x="335880" y="3740040"/>
                <a:ext cx="3148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306360" y="3931920"/>
                <a:ext cx="31482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160" name=""/>
          <p:cNvGrpSpPr/>
          <p:nvPr/>
        </p:nvGrpSpPr>
        <p:grpSpPr>
          <a:xfrm>
            <a:off x="3376440" y="1969920"/>
            <a:ext cx="3015000" cy="3535560"/>
            <a:chOff x="3376440" y="1969920"/>
            <a:chExt cx="3015000" cy="3535560"/>
          </a:xfrm>
        </p:grpSpPr>
        <p:sp>
          <p:nvSpPr>
            <p:cNvPr id="1161" name=""/>
            <p:cNvSpPr/>
            <p:nvPr/>
          </p:nvSpPr>
          <p:spPr>
            <a:xfrm>
              <a:off x="3538440" y="3629160"/>
              <a:ext cx="1578240" cy="62676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62" name=""/>
            <p:cNvSpPr/>
            <p:nvPr/>
          </p:nvSpPr>
          <p:spPr>
            <a:xfrm>
              <a:off x="3376440" y="3675240"/>
              <a:ext cx="1976760" cy="6411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ck Mode Policy Table</a:t>
              </a:r>
              <a:endParaRPr b="0" lang="en-US" sz="2000" spc="-1" strike="noStrike">
                <a:solidFill>
                  <a:srgbClr val="ffffff"/>
                </a:solidFill>
                <a:latin typeface="Times New Roman"/>
              </a:endParaRPr>
            </a:p>
          </p:txBody>
        </p:sp>
        <p:sp>
          <p:nvSpPr>
            <p:cNvPr id="1163" name=""/>
            <p:cNvSpPr/>
            <p:nvPr/>
          </p:nvSpPr>
          <p:spPr>
            <a:xfrm>
              <a:off x="6243480" y="1969920"/>
              <a:ext cx="147960" cy="3535560"/>
            </a:xfrm>
            <a:custGeom>
              <a:avLst/>
              <a:gdLst>
                <a:gd name="textAreaLeft" fmla="*/ 94680 w 147960"/>
                <a:gd name="textAreaRight" fmla="*/ 148320 w 147960"/>
                <a:gd name="textAreaTop" fmla="*/ 92160 h 3535560"/>
                <a:gd name="textAreaBottom" fmla="*/ 3443400 h 3535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64" name=""/>
            <p:cNvSpPr/>
            <p:nvPr/>
          </p:nvSpPr>
          <p:spPr>
            <a:xfrm flipH="1">
              <a:off x="5114880" y="3738600"/>
              <a:ext cx="1123920" cy="19692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grpSp>
      <p:sp>
        <p:nvSpPr>
          <p:cNvPr id="1165" name=""/>
          <p:cNvSpPr/>
          <p:nvPr/>
        </p:nvSpPr>
        <p:spPr>
          <a:xfrm>
            <a:off x="6264360" y="1425600"/>
            <a:ext cx="2879640" cy="58608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Sec Filter</a:t>
            </a:r>
            <a:endParaRPr b="0" lang="en-US" sz="3600" spc="-1" strike="noStrike">
              <a:solidFill>
                <a:srgbClr val="ffffff"/>
              </a:solidFill>
              <a:latin typeface="Times New Roman"/>
            </a:endParaRPr>
          </a:p>
        </p:txBody>
      </p:sp>
      <p:sp>
        <p:nvSpPr>
          <p:cNvPr id="1166" name=""/>
          <p:cNvSpPr/>
          <p:nvPr/>
        </p:nvSpPr>
        <p:spPr>
          <a:xfrm>
            <a:off x="3994200" y="4491000"/>
            <a:ext cx="1271520" cy="673200"/>
          </a:xfrm>
          <a:prstGeom prst="ellipse">
            <a:avLst/>
          </a:prstGeom>
          <a:gradFill rotWithShape="0">
            <a:gsLst>
              <a:gs pos="0">
                <a:srgbClr val="ff7c80"/>
              </a:gs>
              <a:gs pos="100000">
                <a:srgbClr val="75393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cf00"/>
                </a:solidFill>
                <a:latin typeface="Times New Roman"/>
              </a:rPr>
              <a:t>IPSe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cf00"/>
                </a:solidFill>
                <a:latin typeface="Times New Roman"/>
              </a:rPr>
              <a:t>Driver</a:t>
            </a:r>
            <a:endParaRPr b="0" lang="en-US" sz="2000" spc="-1" strike="noStrike">
              <a:solidFill>
                <a:srgbClr val="ffffff"/>
              </a:solidFill>
              <a:latin typeface="Times New Roman"/>
            </a:endParaRPr>
          </a:p>
        </p:txBody>
      </p:sp>
      <p:grpSp>
        <p:nvGrpSpPr>
          <p:cNvPr id="1167" name=""/>
          <p:cNvGrpSpPr/>
          <p:nvPr/>
        </p:nvGrpSpPr>
        <p:grpSpPr>
          <a:xfrm>
            <a:off x="343080" y="2459160"/>
            <a:ext cx="7945200" cy="3601080"/>
            <a:chOff x="343080" y="2459160"/>
            <a:chExt cx="7945200" cy="3601080"/>
          </a:xfrm>
        </p:grpSpPr>
        <p:grpSp>
          <p:nvGrpSpPr>
            <p:cNvPr id="1168" name=""/>
            <p:cNvGrpSpPr/>
            <p:nvPr/>
          </p:nvGrpSpPr>
          <p:grpSpPr>
            <a:xfrm>
              <a:off x="447840" y="2459160"/>
              <a:ext cx="3101760" cy="1059840"/>
              <a:chOff x="447840" y="2459160"/>
              <a:chExt cx="3101760" cy="1059840"/>
            </a:xfrm>
          </p:grpSpPr>
          <p:sp>
            <p:nvSpPr>
              <p:cNvPr id="1169" name=""/>
              <p:cNvSpPr/>
              <p:nvPr/>
            </p:nvSpPr>
            <p:spPr>
              <a:xfrm>
                <a:off x="447840" y="3141720"/>
                <a:ext cx="3101760" cy="144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70" name=""/>
              <p:cNvSpPr/>
              <p:nvPr/>
            </p:nvSpPr>
            <p:spPr>
              <a:xfrm>
                <a:off x="476280" y="2459160"/>
                <a:ext cx="22366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DP port 500 negotiation</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IKE SA</a:t>
                </a:r>
                <a:endParaRPr b="0" lang="en-US" sz="1800" spc="-1" strike="noStrike">
                  <a:solidFill>
                    <a:srgbClr val="ffffff"/>
                  </a:solidFill>
                  <a:latin typeface="Times New Roman"/>
                </a:endParaRPr>
              </a:p>
            </p:txBody>
          </p:sp>
        </p:grpSp>
        <p:sp>
          <p:nvSpPr>
            <p:cNvPr id="1171" name=""/>
            <p:cNvSpPr/>
            <p:nvPr/>
          </p:nvSpPr>
          <p:spPr>
            <a:xfrm>
              <a:off x="343080" y="5638680"/>
              <a:ext cx="79452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 Mode negotiated based on IP address</a:t>
              </a:r>
              <a:endParaRPr b="0" lang="en-US" sz="2400" spc="-1" strike="noStrike">
                <a:solidFill>
                  <a:srgbClr val="ffffff"/>
                </a:solidFill>
                <a:latin typeface="Times New Roman"/>
              </a:endParaRPr>
            </a:p>
          </p:txBody>
        </p:sp>
      </p:grpSp>
      <p:sp>
        <p:nvSpPr>
          <p:cNvPr id="1172" name=""/>
          <p:cNvSpPr/>
          <p:nvPr/>
        </p:nvSpPr>
        <p:spPr>
          <a:xfrm>
            <a:off x="6462720" y="5052960"/>
            <a:ext cx="2259000" cy="442800"/>
          </a:xfrm>
          <a:prstGeom prst="rect">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173" name=""/>
          <p:cNvSpPr/>
          <p:nvPr/>
        </p:nvSpPr>
        <p:spPr>
          <a:xfrm>
            <a:off x="6386400" y="5135400"/>
            <a:ext cx="246852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Tunne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263160" y="401760"/>
            <a:ext cx="861372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IPSec Authentication Header (AH)</a:t>
            </a:r>
            <a:br>
              <a:rPr sz="4000"/>
            </a:br>
            <a:r>
              <a:rPr b="1" lang="en-US" sz="4000" spc="-1" strike="noStrike">
                <a:solidFill>
                  <a:srgbClr val="fccf00"/>
                </a:solidFill>
                <a:latin typeface="Arial"/>
              </a:rPr>
              <a:t>in Transport Mode</a:t>
            </a:r>
            <a:endParaRPr b="1" lang="en-US" sz="4000" spc="-1" strike="noStrike">
              <a:solidFill>
                <a:srgbClr val="fccf00"/>
              </a:solidFill>
              <a:latin typeface="Arial"/>
            </a:endParaRPr>
          </a:p>
        </p:txBody>
      </p:sp>
      <p:sp>
        <p:nvSpPr>
          <p:cNvPr id="1175" name=""/>
          <p:cNvSpPr/>
          <p:nvPr/>
        </p:nvSpPr>
        <p:spPr>
          <a:xfrm>
            <a:off x="1612800" y="1922400"/>
            <a:ext cx="173988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3365640" y="1922400"/>
            <a:ext cx="128268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4660920" y="1922400"/>
            <a:ext cx="288288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5166720" y="189540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1179" name=""/>
          <p:cNvSpPr/>
          <p:nvPr/>
        </p:nvSpPr>
        <p:spPr>
          <a:xfrm>
            <a:off x="3339000" y="1895400"/>
            <a:ext cx="128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 Hdr</a:t>
            </a:r>
            <a:endParaRPr b="0" lang="en-US" sz="2400" spc="-1" strike="noStrike">
              <a:solidFill>
                <a:srgbClr val="ffffff"/>
              </a:solidFill>
              <a:latin typeface="Times New Roman"/>
            </a:endParaRPr>
          </a:p>
        </p:txBody>
      </p:sp>
      <p:sp>
        <p:nvSpPr>
          <p:cNvPr id="1180" name=""/>
          <p:cNvSpPr/>
          <p:nvPr/>
        </p:nvSpPr>
        <p:spPr>
          <a:xfrm>
            <a:off x="1585800" y="1895400"/>
            <a:ext cx="1638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ig IP Hdr</a:t>
            </a:r>
            <a:endParaRPr b="0" lang="en-US" sz="2400" spc="-1" strike="noStrike">
              <a:solidFill>
                <a:srgbClr val="ffffff"/>
              </a:solidFill>
              <a:latin typeface="Times New Roman"/>
            </a:endParaRPr>
          </a:p>
        </p:txBody>
      </p:sp>
      <p:sp>
        <p:nvSpPr>
          <p:cNvPr id="1181" name=""/>
          <p:cNvSpPr/>
          <p:nvPr/>
        </p:nvSpPr>
        <p:spPr>
          <a:xfrm>
            <a:off x="4197240" y="3127320"/>
            <a:ext cx="128268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5492880" y="3127320"/>
            <a:ext cx="288288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5998320" y="310032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1184" name=""/>
          <p:cNvSpPr/>
          <p:nvPr/>
        </p:nvSpPr>
        <p:spPr>
          <a:xfrm>
            <a:off x="4170600" y="3100320"/>
            <a:ext cx="128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 Hdr</a:t>
            </a:r>
            <a:endParaRPr b="0" lang="en-US" sz="2400" spc="-1" strike="noStrike">
              <a:solidFill>
                <a:srgbClr val="ffffff"/>
              </a:solidFill>
              <a:latin typeface="Times New Roman"/>
            </a:endParaRPr>
          </a:p>
        </p:txBody>
      </p:sp>
      <p:grpSp>
        <p:nvGrpSpPr>
          <p:cNvPr id="1185" name=""/>
          <p:cNvGrpSpPr/>
          <p:nvPr/>
        </p:nvGrpSpPr>
        <p:grpSpPr>
          <a:xfrm>
            <a:off x="2695680" y="3121200"/>
            <a:ext cx="1495440" cy="470520"/>
            <a:chOff x="2695680" y="3121200"/>
            <a:chExt cx="1495440" cy="470520"/>
          </a:xfrm>
        </p:grpSpPr>
        <p:sp>
          <p:nvSpPr>
            <p:cNvPr id="1186" name=""/>
            <p:cNvSpPr/>
            <p:nvPr/>
          </p:nvSpPr>
          <p:spPr>
            <a:xfrm>
              <a:off x="2719440" y="3121200"/>
              <a:ext cx="1471680" cy="461880"/>
            </a:xfrm>
            <a:prstGeom prst="rect">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2695680" y="3137040"/>
              <a:ext cx="1442880" cy="454680"/>
            </a:xfrm>
            <a:prstGeom prst="rect">
              <a:avLst/>
            </a:prstGeom>
            <a:solidFill>
              <a:srgbClr val="ff7c80"/>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H Hdr</a:t>
              </a:r>
              <a:endParaRPr b="0" lang="en-US" sz="2400" spc="-1" strike="noStrike">
                <a:solidFill>
                  <a:srgbClr val="ffffff"/>
                </a:solidFill>
                <a:latin typeface="Times New Roman"/>
              </a:endParaRPr>
            </a:p>
          </p:txBody>
        </p:sp>
      </p:grpSp>
      <p:grpSp>
        <p:nvGrpSpPr>
          <p:cNvPr id="1188" name=""/>
          <p:cNvGrpSpPr/>
          <p:nvPr/>
        </p:nvGrpSpPr>
        <p:grpSpPr>
          <a:xfrm>
            <a:off x="928800" y="3100320"/>
            <a:ext cx="1766880" cy="471240"/>
            <a:chOff x="928800" y="3100320"/>
            <a:chExt cx="1766880" cy="471240"/>
          </a:xfrm>
        </p:grpSpPr>
        <p:sp>
          <p:nvSpPr>
            <p:cNvPr id="1189" name=""/>
            <p:cNvSpPr/>
            <p:nvPr/>
          </p:nvSpPr>
          <p:spPr>
            <a:xfrm>
              <a:off x="955800" y="3127320"/>
              <a:ext cx="1739880" cy="44424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928800" y="3100320"/>
              <a:ext cx="1638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ig IP Hdr</a:t>
              </a:r>
              <a:endParaRPr b="0" lang="en-US" sz="2400" spc="-1" strike="noStrike">
                <a:solidFill>
                  <a:srgbClr val="ffffff"/>
                </a:solidFill>
                <a:latin typeface="Times New Roman"/>
              </a:endParaRPr>
            </a:p>
          </p:txBody>
        </p:sp>
      </p:grpSp>
      <p:sp>
        <p:nvSpPr>
          <p:cNvPr id="1191" name=""/>
          <p:cNvSpPr/>
          <p:nvPr/>
        </p:nvSpPr>
        <p:spPr>
          <a:xfrm>
            <a:off x="511200" y="5003640"/>
            <a:ext cx="135396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xt Hdr</a:t>
            </a:r>
            <a:endParaRPr b="0" lang="en-US" sz="2400" spc="-1" strike="noStrike">
              <a:solidFill>
                <a:srgbClr val="ffffff"/>
              </a:solidFill>
              <a:latin typeface="Times New Roman"/>
            </a:endParaRPr>
          </a:p>
        </p:txBody>
      </p:sp>
      <p:sp>
        <p:nvSpPr>
          <p:cNvPr id="1192" name=""/>
          <p:cNvSpPr/>
          <p:nvPr/>
        </p:nvSpPr>
        <p:spPr>
          <a:xfrm>
            <a:off x="1862280" y="5003640"/>
            <a:ext cx="173340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yload Len</a:t>
            </a:r>
            <a:endParaRPr b="0" lang="en-US" sz="2400" spc="-1" strike="noStrike">
              <a:solidFill>
                <a:srgbClr val="ffffff"/>
              </a:solidFill>
              <a:latin typeface="Times New Roman"/>
            </a:endParaRPr>
          </a:p>
        </p:txBody>
      </p:sp>
      <p:sp>
        <p:nvSpPr>
          <p:cNvPr id="1193" name=""/>
          <p:cNvSpPr/>
          <p:nvPr/>
        </p:nvSpPr>
        <p:spPr>
          <a:xfrm>
            <a:off x="3587760" y="5003640"/>
            <a:ext cx="77328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srv</a:t>
            </a:r>
            <a:endParaRPr b="0" lang="en-US" sz="2400" spc="-1" strike="noStrike">
              <a:solidFill>
                <a:srgbClr val="ffffff"/>
              </a:solidFill>
              <a:latin typeface="Times New Roman"/>
            </a:endParaRPr>
          </a:p>
        </p:txBody>
      </p:sp>
      <p:sp>
        <p:nvSpPr>
          <p:cNvPr id="1194" name=""/>
          <p:cNvSpPr/>
          <p:nvPr/>
        </p:nvSpPr>
        <p:spPr>
          <a:xfrm>
            <a:off x="4352760" y="5003640"/>
            <a:ext cx="211140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ParamIndex</a:t>
            </a:r>
            <a:endParaRPr b="0" lang="en-US" sz="2400" spc="-1" strike="noStrike">
              <a:solidFill>
                <a:srgbClr val="ffffff"/>
              </a:solidFill>
              <a:latin typeface="Times New Roman"/>
            </a:endParaRPr>
          </a:p>
        </p:txBody>
      </p:sp>
      <p:sp>
        <p:nvSpPr>
          <p:cNvPr id="1195" name=""/>
          <p:cNvSpPr/>
          <p:nvPr/>
        </p:nvSpPr>
        <p:spPr>
          <a:xfrm>
            <a:off x="7261200" y="5003640"/>
            <a:ext cx="170496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ed Hash</a:t>
            </a:r>
            <a:endParaRPr b="0" lang="en-US" sz="2400" spc="-1" strike="noStrike">
              <a:solidFill>
                <a:srgbClr val="ffffff"/>
              </a:solidFill>
              <a:latin typeface="Times New Roman"/>
            </a:endParaRPr>
          </a:p>
        </p:txBody>
      </p:sp>
      <p:sp>
        <p:nvSpPr>
          <p:cNvPr id="1196" name=""/>
          <p:cNvSpPr/>
          <p:nvPr/>
        </p:nvSpPr>
        <p:spPr>
          <a:xfrm flipH="1">
            <a:off x="617400" y="3686040"/>
            <a:ext cx="2028960" cy="1235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4246560" y="3673440"/>
            <a:ext cx="4573440" cy="1295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1672920" y="3983040"/>
            <a:ext cx="66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ity hash coverage (except for mutable fields in IP hdr)</a:t>
            </a:r>
            <a:endParaRPr b="0" lang="en-US" sz="1800" spc="-1" strike="noStrike">
              <a:solidFill>
                <a:srgbClr val="ffffff"/>
              </a:solidFill>
              <a:latin typeface="Times New Roman"/>
            </a:endParaRPr>
          </a:p>
        </p:txBody>
      </p:sp>
      <p:sp>
        <p:nvSpPr>
          <p:cNvPr id="1199" name=""/>
          <p:cNvSpPr/>
          <p:nvPr/>
        </p:nvSpPr>
        <p:spPr>
          <a:xfrm>
            <a:off x="939960" y="3860640"/>
            <a:ext cx="7441920" cy="0"/>
          </a:xfrm>
          <a:prstGeom prst="line">
            <a:avLst/>
          </a:prstGeom>
          <a:ln w="12600">
            <a:solidFill>
              <a:srgbClr val="ffffff"/>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6458040" y="5003640"/>
            <a:ext cx="81108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q#</a:t>
            </a:r>
            <a:endParaRPr b="0" lang="en-US" sz="2400" spc="-1" strike="noStrike">
              <a:solidFill>
                <a:srgbClr val="ffffff"/>
              </a:solidFill>
              <a:latin typeface="Times New Roman"/>
            </a:endParaRPr>
          </a:p>
        </p:txBody>
      </p:sp>
      <p:sp>
        <p:nvSpPr>
          <p:cNvPr id="1201" name=""/>
          <p:cNvSpPr/>
          <p:nvPr/>
        </p:nvSpPr>
        <p:spPr>
          <a:xfrm>
            <a:off x="5257080" y="5611680"/>
            <a:ext cx="169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bytes total</a:t>
            </a:r>
            <a:endParaRPr b="0" lang="en-US" sz="2000" spc="-1" strike="noStrike">
              <a:solidFill>
                <a:srgbClr val="ffffff"/>
              </a:solidFill>
              <a:latin typeface="Times New Roman"/>
            </a:endParaRPr>
          </a:p>
        </p:txBody>
      </p:sp>
      <p:sp>
        <p:nvSpPr>
          <p:cNvPr id="1202" name=""/>
          <p:cNvSpPr/>
          <p:nvPr/>
        </p:nvSpPr>
        <p:spPr>
          <a:xfrm>
            <a:off x="1420920" y="5587920"/>
            <a:ext cx="290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 is IP protocol 51</a:t>
            </a:r>
            <a:endParaRPr b="0" lang="en-US" sz="2000" spc="-1" strike="noStrike">
              <a:solidFill>
                <a:srgbClr val="ffffff"/>
              </a:solidFill>
              <a:latin typeface="Times New Roman"/>
            </a:endParaRPr>
          </a:p>
        </p:txBody>
      </p:sp>
      <p:sp>
        <p:nvSpPr>
          <p:cNvPr id="1203" name=""/>
          <p:cNvSpPr/>
          <p:nvPr/>
        </p:nvSpPr>
        <p:spPr>
          <a:xfrm flipH="1">
            <a:off x="2728800" y="2403360"/>
            <a:ext cx="627120" cy="682920"/>
          </a:xfrm>
          <a:prstGeom prst="line">
            <a:avLst/>
          </a:prstGeom>
          <a:ln w="1260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3397320" y="2446200"/>
            <a:ext cx="768240" cy="640080"/>
          </a:xfrm>
          <a:prstGeom prst="line">
            <a:avLst/>
          </a:prstGeom>
          <a:ln w="1260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957400" y="2646360"/>
            <a:ext cx="10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Insert</a:t>
            </a:r>
            <a:endParaRPr b="0" lang="en-US" sz="2400" spc="-1" strike="noStrike">
              <a:solidFill>
                <a:srgbClr val="ffffff"/>
              </a:solidFill>
              <a:latin typeface="Times New Roman"/>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380880" y="456840"/>
            <a:ext cx="851544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IPSec Encapsulating Security Payload (ESP) in Transport Mode</a:t>
            </a:r>
            <a:endParaRPr b="1" lang="en-US" sz="4000" spc="-1" strike="noStrike">
              <a:solidFill>
                <a:srgbClr val="fccf00"/>
              </a:solidFill>
              <a:latin typeface="Arial"/>
            </a:endParaRPr>
          </a:p>
        </p:txBody>
      </p:sp>
      <p:sp>
        <p:nvSpPr>
          <p:cNvPr id="1207" name=""/>
          <p:cNvSpPr/>
          <p:nvPr/>
        </p:nvSpPr>
        <p:spPr>
          <a:xfrm>
            <a:off x="3898800" y="2008080"/>
            <a:ext cx="128268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194440" y="2008080"/>
            <a:ext cx="182232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5699880" y="198108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1210" name=""/>
          <p:cNvSpPr/>
          <p:nvPr/>
        </p:nvSpPr>
        <p:spPr>
          <a:xfrm>
            <a:off x="3872160" y="1981080"/>
            <a:ext cx="128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 Hdr</a:t>
            </a:r>
            <a:endParaRPr b="0" lang="en-US" sz="2400" spc="-1" strike="noStrike">
              <a:solidFill>
                <a:srgbClr val="ffffff"/>
              </a:solidFill>
              <a:latin typeface="Times New Roman"/>
            </a:endParaRPr>
          </a:p>
        </p:txBody>
      </p:sp>
      <p:grpSp>
        <p:nvGrpSpPr>
          <p:cNvPr id="1211" name=""/>
          <p:cNvGrpSpPr/>
          <p:nvPr/>
        </p:nvGrpSpPr>
        <p:grpSpPr>
          <a:xfrm>
            <a:off x="2119320" y="1981080"/>
            <a:ext cx="1766880" cy="471600"/>
            <a:chOff x="2119320" y="1981080"/>
            <a:chExt cx="1766880" cy="471600"/>
          </a:xfrm>
        </p:grpSpPr>
        <p:sp>
          <p:nvSpPr>
            <p:cNvPr id="1212" name=""/>
            <p:cNvSpPr/>
            <p:nvPr/>
          </p:nvSpPr>
          <p:spPr>
            <a:xfrm>
              <a:off x="2146320" y="2008080"/>
              <a:ext cx="173988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119320" y="1981080"/>
              <a:ext cx="1638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ig IP Hdr</a:t>
              </a:r>
              <a:endParaRPr b="0" lang="en-US" sz="2400" spc="-1" strike="noStrike">
                <a:solidFill>
                  <a:srgbClr val="ffffff"/>
                </a:solidFill>
                <a:latin typeface="Times New Roman"/>
              </a:endParaRPr>
            </a:p>
          </p:txBody>
        </p:sp>
      </p:grpSp>
      <p:sp>
        <p:nvSpPr>
          <p:cNvPr id="1214" name=""/>
          <p:cNvSpPr/>
          <p:nvPr/>
        </p:nvSpPr>
        <p:spPr>
          <a:xfrm>
            <a:off x="4456080" y="3052800"/>
            <a:ext cx="1496880" cy="46188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4961880" y="303228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1216" name=""/>
          <p:cNvSpPr/>
          <p:nvPr/>
        </p:nvSpPr>
        <p:spPr>
          <a:xfrm>
            <a:off x="3184920" y="3049560"/>
            <a:ext cx="1289520" cy="45468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 Hdr</a:t>
            </a:r>
            <a:endParaRPr b="0" lang="en-US" sz="2400" spc="-1" strike="noStrike">
              <a:solidFill>
                <a:srgbClr val="ffffff"/>
              </a:solidFill>
              <a:latin typeface="Times New Roman"/>
            </a:endParaRPr>
          </a:p>
        </p:txBody>
      </p:sp>
      <p:sp>
        <p:nvSpPr>
          <p:cNvPr id="1217" name=""/>
          <p:cNvSpPr/>
          <p:nvPr/>
        </p:nvSpPr>
        <p:spPr>
          <a:xfrm>
            <a:off x="1924200" y="3049560"/>
            <a:ext cx="126972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P Hdr</a:t>
            </a:r>
            <a:endParaRPr b="0" lang="en-US" sz="2400" spc="-1" strike="noStrike">
              <a:solidFill>
                <a:srgbClr val="ffffff"/>
              </a:solidFill>
              <a:latin typeface="Times New Roman"/>
            </a:endParaRPr>
          </a:p>
        </p:txBody>
      </p:sp>
      <p:grpSp>
        <p:nvGrpSpPr>
          <p:cNvPr id="1218" name=""/>
          <p:cNvGrpSpPr/>
          <p:nvPr/>
        </p:nvGrpSpPr>
        <p:grpSpPr>
          <a:xfrm>
            <a:off x="250920" y="3022560"/>
            <a:ext cx="1677600" cy="482400"/>
            <a:chOff x="250920" y="3022560"/>
            <a:chExt cx="1677600" cy="482400"/>
          </a:xfrm>
        </p:grpSpPr>
        <p:sp>
          <p:nvSpPr>
            <p:cNvPr id="1219" name=""/>
            <p:cNvSpPr/>
            <p:nvPr/>
          </p:nvSpPr>
          <p:spPr>
            <a:xfrm>
              <a:off x="276480" y="3049920"/>
              <a:ext cx="1652040" cy="45504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250920" y="3022560"/>
              <a:ext cx="1638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ig IP Hdr</a:t>
              </a:r>
              <a:endParaRPr b="0" lang="en-US" sz="2400" spc="-1" strike="noStrike">
                <a:solidFill>
                  <a:srgbClr val="ffffff"/>
                </a:solidFill>
                <a:latin typeface="Times New Roman"/>
              </a:endParaRPr>
            </a:p>
          </p:txBody>
        </p:sp>
      </p:grpSp>
      <p:sp>
        <p:nvSpPr>
          <p:cNvPr id="1221" name=""/>
          <p:cNvSpPr/>
          <p:nvPr/>
        </p:nvSpPr>
        <p:spPr>
          <a:xfrm>
            <a:off x="5958000" y="3051000"/>
            <a:ext cx="1622160" cy="45468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P Trailer</a:t>
            </a:r>
            <a:endParaRPr b="0" lang="en-US" sz="2400" spc="-1" strike="noStrike">
              <a:solidFill>
                <a:srgbClr val="ffffff"/>
              </a:solidFill>
              <a:latin typeface="Times New Roman"/>
            </a:endParaRPr>
          </a:p>
        </p:txBody>
      </p:sp>
      <p:grpSp>
        <p:nvGrpSpPr>
          <p:cNvPr id="1222" name=""/>
          <p:cNvGrpSpPr/>
          <p:nvPr/>
        </p:nvGrpSpPr>
        <p:grpSpPr>
          <a:xfrm>
            <a:off x="7539120" y="3049560"/>
            <a:ext cx="1397880" cy="454680"/>
            <a:chOff x="7539120" y="3049560"/>
            <a:chExt cx="1397880" cy="454680"/>
          </a:xfrm>
        </p:grpSpPr>
        <p:sp>
          <p:nvSpPr>
            <p:cNvPr id="1223" name=""/>
            <p:cNvSpPr/>
            <p:nvPr/>
          </p:nvSpPr>
          <p:spPr>
            <a:xfrm>
              <a:off x="7539120" y="3049560"/>
              <a:ext cx="1295280" cy="444240"/>
            </a:xfrm>
            <a:prstGeom prst="rect">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7545600" y="3049560"/>
              <a:ext cx="1391400" cy="454680"/>
            </a:xfrm>
            <a:prstGeom prst="rect">
              <a:avLst/>
            </a:prstGeom>
            <a:solidFill>
              <a:srgbClr val="ff7c80"/>
            </a:solid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P Auth</a:t>
              </a:r>
              <a:endParaRPr b="0" lang="en-US" sz="2400" spc="-1" strike="noStrike">
                <a:solidFill>
                  <a:srgbClr val="ffffff"/>
                </a:solidFill>
                <a:latin typeface="Times New Roman"/>
              </a:endParaRPr>
            </a:p>
          </p:txBody>
        </p:sp>
      </p:grpSp>
      <p:sp>
        <p:nvSpPr>
          <p:cNvPr id="1225" name=""/>
          <p:cNvSpPr/>
          <p:nvPr/>
        </p:nvSpPr>
        <p:spPr>
          <a:xfrm>
            <a:off x="3225960" y="3686040"/>
            <a:ext cx="4252680" cy="0"/>
          </a:xfrm>
          <a:prstGeom prst="line">
            <a:avLst/>
          </a:prstGeom>
          <a:ln w="12600">
            <a:solidFill>
              <a:srgbClr val="ffffff"/>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3948840" y="3683160"/>
            <a:ext cx="214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ually encrypted</a:t>
            </a:r>
            <a:endParaRPr b="0" lang="en-US" sz="1800" spc="-1" strike="noStrike">
              <a:solidFill>
                <a:srgbClr val="ffffff"/>
              </a:solidFill>
              <a:latin typeface="Times New Roman"/>
            </a:endParaRPr>
          </a:p>
        </p:txBody>
      </p:sp>
      <p:sp>
        <p:nvSpPr>
          <p:cNvPr id="1227" name=""/>
          <p:cNvSpPr/>
          <p:nvPr/>
        </p:nvSpPr>
        <p:spPr>
          <a:xfrm>
            <a:off x="1984320" y="4191120"/>
            <a:ext cx="5483160" cy="0"/>
          </a:xfrm>
          <a:prstGeom prst="line">
            <a:avLst/>
          </a:prstGeom>
          <a:ln w="12600">
            <a:solidFill>
              <a:srgbClr val="ffffff"/>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4143600" y="4235400"/>
            <a:ext cx="27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ity hash coverage</a:t>
            </a:r>
            <a:endParaRPr b="0" lang="en-US" sz="1800" spc="-1" strike="noStrike">
              <a:solidFill>
                <a:srgbClr val="ffffff"/>
              </a:solidFill>
              <a:latin typeface="Times New Roman"/>
            </a:endParaRPr>
          </a:p>
        </p:txBody>
      </p:sp>
      <p:sp>
        <p:nvSpPr>
          <p:cNvPr id="1229" name=""/>
          <p:cNvSpPr/>
          <p:nvPr/>
        </p:nvSpPr>
        <p:spPr>
          <a:xfrm>
            <a:off x="484200" y="5175360"/>
            <a:ext cx="244620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ParamIndex</a:t>
            </a:r>
            <a:endParaRPr b="0" lang="en-US" sz="2400" spc="-1" strike="noStrike">
              <a:solidFill>
                <a:srgbClr val="ffffff"/>
              </a:solidFill>
              <a:latin typeface="Times New Roman"/>
            </a:endParaRPr>
          </a:p>
        </p:txBody>
      </p:sp>
      <p:sp>
        <p:nvSpPr>
          <p:cNvPr id="1230" name=""/>
          <p:cNvSpPr/>
          <p:nvPr/>
        </p:nvSpPr>
        <p:spPr>
          <a:xfrm>
            <a:off x="2889720" y="5873760"/>
            <a:ext cx="1943280" cy="454680"/>
          </a:xfrm>
          <a:prstGeom prst="rect">
            <a:avLst/>
          </a:prstGeom>
          <a:solidFill>
            <a:srgbClr val="ff7c80"/>
          </a:solid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dding    </a:t>
            </a:r>
            <a:endParaRPr b="0" lang="en-US" sz="2400" spc="-1" strike="noStrike">
              <a:solidFill>
                <a:srgbClr val="ffffff"/>
              </a:solidFill>
              <a:latin typeface="Times New Roman"/>
            </a:endParaRPr>
          </a:p>
        </p:txBody>
      </p:sp>
      <p:sp>
        <p:nvSpPr>
          <p:cNvPr id="1231" name=""/>
          <p:cNvSpPr/>
          <p:nvPr/>
        </p:nvSpPr>
        <p:spPr>
          <a:xfrm flipH="1">
            <a:off x="501120" y="3544920"/>
            <a:ext cx="1436760" cy="1584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3191040" y="3562200"/>
            <a:ext cx="1773000" cy="162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flipH="1">
            <a:off x="2900520" y="3540240"/>
            <a:ext cx="3060720" cy="23223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7513560" y="3562200"/>
            <a:ext cx="69840" cy="22860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flipH="1">
            <a:off x="7199280" y="3544920"/>
            <a:ext cx="349200" cy="16095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flipH="1">
            <a:off x="8852040" y="3559320"/>
            <a:ext cx="102960" cy="1619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4845240" y="5873760"/>
            <a:ext cx="1502640" cy="454680"/>
          </a:xfrm>
          <a:prstGeom prst="rect">
            <a:avLst/>
          </a:prstGeom>
          <a:solidFill>
            <a:srgbClr val="ff7c80"/>
          </a:solid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dLength</a:t>
            </a:r>
            <a:endParaRPr b="0" lang="en-US" sz="2400" spc="-1" strike="noStrike">
              <a:solidFill>
                <a:srgbClr val="ffffff"/>
              </a:solidFill>
              <a:latin typeface="Times New Roman"/>
            </a:endParaRPr>
          </a:p>
        </p:txBody>
      </p:sp>
      <p:sp>
        <p:nvSpPr>
          <p:cNvPr id="1238" name=""/>
          <p:cNvSpPr/>
          <p:nvPr/>
        </p:nvSpPr>
        <p:spPr>
          <a:xfrm>
            <a:off x="6357600" y="5873760"/>
            <a:ext cx="1248120" cy="454680"/>
          </a:xfrm>
          <a:prstGeom prst="rect">
            <a:avLst/>
          </a:prstGeom>
          <a:solidFill>
            <a:srgbClr val="ff7c80"/>
          </a:solid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xtHdr</a:t>
            </a:r>
            <a:endParaRPr b="0" lang="en-US" sz="2400" spc="-1" strike="noStrike">
              <a:solidFill>
                <a:srgbClr val="ffffff"/>
              </a:solidFill>
              <a:latin typeface="Times New Roman"/>
            </a:endParaRPr>
          </a:p>
        </p:txBody>
      </p:sp>
      <p:sp>
        <p:nvSpPr>
          <p:cNvPr id="1239" name=""/>
          <p:cNvSpPr/>
          <p:nvPr/>
        </p:nvSpPr>
        <p:spPr>
          <a:xfrm>
            <a:off x="2698920" y="5175360"/>
            <a:ext cx="81252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q#</a:t>
            </a:r>
            <a:endParaRPr b="0" lang="en-US" sz="2400" spc="-1" strike="noStrike">
              <a:solidFill>
                <a:srgbClr val="ffffff"/>
              </a:solidFill>
              <a:latin typeface="Times New Roman"/>
            </a:endParaRPr>
          </a:p>
        </p:txBody>
      </p:sp>
      <p:sp>
        <p:nvSpPr>
          <p:cNvPr id="1240" name=""/>
          <p:cNvSpPr/>
          <p:nvPr/>
        </p:nvSpPr>
        <p:spPr>
          <a:xfrm>
            <a:off x="7194600" y="5187960"/>
            <a:ext cx="1679400" cy="454680"/>
          </a:xfrm>
          <a:prstGeom prst="rect">
            <a:avLst/>
          </a:prstGeom>
          <a:solidFill>
            <a:srgbClr val="ff7c80"/>
          </a:solid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ed Hash</a:t>
            </a:r>
            <a:endParaRPr b="0" lang="en-US" sz="2400" spc="-1" strike="noStrike">
              <a:solidFill>
                <a:srgbClr val="ffffff"/>
              </a:solidFill>
              <a:latin typeface="Times New Roman"/>
            </a:endParaRPr>
          </a:p>
        </p:txBody>
      </p:sp>
      <p:sp>
        <p:nvSpPr>
          <p:cNvPr id="1241" name=""/>
          <p:cNvSpPr/>
          <p:nvPr/>
        </p:nvSpPr>
        <p:spPr>
          <a:xfrm>
            <a:off x="518760" y="5943600"/>
            <a:ext cx="206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36 bytes total</a:t>
            </a:r>
            <a:endParaRPr b="0" lang="en-US" sz="2000" spc="-1" strike="noStrike">
              <a:solidFill>
                <a:srgbClr val="ffffff"/>
              </a:solidFill>
              <a:latin typeface="Times New Roman"/>
            </a:endParaRPr>
          </a:p>
        </p:txBody>
      </p:sp>
      <p:sp>
        <p:nvSpPr>
          <p:cNvPr id="1242" name=""/>
          <p:cNvSpPr/>
          <p:nvPr/>
        </p:nvSpPr>
        <p:spPr>
          <a:xfrm>
            <a:off x="3511440" y="5175360"/>
            <a:ext cx="147348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itVector</a:t>
            </a:r>
            <a:endParaRPr b="0" lang="en-US" sz="2400" spc="-1" strike="noStrike">
              <a:solidFill>
                <a:srgbClr val="ffffff"/>
              </a:solidFill>
              <a:latin typeface="Times New Roman"/>
            </a:endParaRPr>
          </a:p>
        </p:txBody>
      </p:sp>
      <p:sp>
        <p:nvSpPr>
          <p:cNvPr id="1243" name=""/>
          <p:cNvSpPr/>
          <p:nvPr/>
        </p:nvSpPr>
        <p:spPr>
          <a:xfrm flipH="1">
            <a:off x="1933200" y="2459160"/>
            <a:ext cx="1933560" cy="555480"/>
          </a:xfrm>
          <a:prstGeom prst="line">
            <a:avLst/>
          </a:prstGeom>
          <a:ln w="1260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flipH="1">
            <a:off x="3212640" y="2471760"/>
            <a:ext cx="668520" cy="528480"/>
          </a:xfrm>
          <a:prstGeom prst="line">
            <a:avLst/>
          </a:prstGeom>
          <a:ln w="1260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flipH="1">
            <a:off x="5970600" y="2459160"/>
            <a:ext cx="1052640" cy="583920"/>
          </a:xfrm>
          <a:prstGeom prst="line">
            <a:avLst/>
          </a:prstGeom>
          <a:ln w="1260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051680" y="2459160"/>
            <a:ext cx="1862280" cy="541080"/>
          </a:xfrm>
          <a:prstGeom prst="line">
            <a:avLst/>
          </a:prstGeom>
          <a:ln w="1260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225360" y="6227640"/>
            <a:ext cx="290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P is IP protocol 50</a:t>
            </a:r>
            <a:endParaRPr b="0" lang="en-US" sz="2000" spc="-1" strike="noStrike">
              <a:solidFill>
                <a:srgbClr val="ffffff"/>
              </a:solidFill>
              <a:latin typeface="Times New Roman"/>
            </a:endParaRPr>
          </a:p>
        </p:txBody>
      </p:sp>
      <p:sp>
        <p:nvSpPr>
          <p:cNvPr id="1248" name=""/>
          <p:cNvSpPr/>
          <p:nvPr/>
        </p:nvSpPr>
        <p:spPr>
          <a:xfrm>
            <a:off x="2651040" y="2549520"/>
            <a:ext cx="102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ert</a:t>
            </a:r>
            <a:endParaRPr b="0" lang="en-US" sz="2400" spc="-1" strike="noStrike">
              <a:solidFill>
                <a:srgbClr val="ffffff"/>
              </a:solidFill>
              <a:latin typeface="Times New Roman"/>
            </a:endParaRPr>
          </a:p>
        </p:txBody>
      </p:sp>
      <p:sp>
        <p:nvSpPr>
          <p:cNvPr id="1249" name=""/>
          <p:cNvSpPr/>
          <p:nvPr/>
        </p:nvSpPr>
        <p:spPr>
          <a:xfrm>
            <a:off x="6531120" y="2552760"/>
            <a:ext cx="123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end</a:t>
            </a:r>
            <a:endParaRPr b="0" lang="en-US" sz="2400" spc="-1" strike="noStrike">
              <a:solidFill>
                <a:srgbClr val="ffffff"/>
              </a:solidFill>
              <a:latin typeface="Times New Roman"/>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85800" y="2286000"/>
            <a:ext cx="77724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IPSec Transport Mode Deployment</a:t>
            </a:r>
            <a:endParaRPr b="1" lang="en-US" sz="4800" spc="-1" strike="noStrike">
              <a:solidFill>
                <a:srgbClr val="fcc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201240" y="296640"/>
            <a:ext cx="8728200" cy="75060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Ideal Protection: End-to-End</a:t>
            </a:r>
            <a:endParaRPr b="1" lang="en-US" sz="4800" spc="-1" strike="noStrike">
              <a:solidFill>
                <a:srgbClr val="fccf00"/>
              </a:solidFill>
              <a:latin typeface="Arial"/>
            </a:endParaRPr>
          </a:p>
        </p:txBody>
      </p:sp>
      <p:sp>
        <p:nvSpPr>
          <p:cNvPr id="1252" name=""/>
          <p:cNvSpPr/>
          <p:nvPr/>
        </p:nvSpPr>
        <p:spPr>
          <a:xfrm>
            <a:off x="6824520" y="3848040"/>
            <a:ext cx="0" cy="36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5421240" y="3828960"/>
            <a:ext cx="307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8021520" y="3851280"/>
            <a:ext cx="0" cy="43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55" name=""/>
          <p:cNvGrpSpPr/>
          <p:nvPr/>
        </p:nvGrpSpPr>
        <p:grpSpPr>
          <a:xfrm>
            <a:off x="7696080" y="4289400"/>
            <a:ext cx="690480" cy="711360"/>
            <a:chOff x="7696080" y="4289400"/>
            <a:chExt cx="690480" cy="711360"/>
          </a:xfrm>
        </p:grpSpPr>
        <p:sp>
          <p:nvSpPr>
            <p:cNvPr id="1256" name=""/>
            <p:cNvSpPr/>
            <p:nvPr/>
          </p:nvSpPr>
          <p:spPr>
            <a:xfrm>
              <a:off x="7935840" y="4311720"/>
              <a:ext cx="29988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953120" y="467424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7953120" y="443808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7696080" y="429084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60" name=""/>
            <p:cNvSpPr/>
            <p:nvPr/>
          </p:nvSpPr>
          <p:spPr>
            <a:xfrm>
              <a:off x="7696080" y="4290840"/>
              <a:ext cx="24120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7908840" y="4314960"/>
              <a:ext cx="284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2" name=""/>
            <p:cNvSpPr/>
            <p:nvPr/>
          </p:nvSpPr>
          <p:spPr>
            <a:xfrm>
              <a:off x="7953120" y="4436640"/>
              <a:ext cx="26676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7953120" y="439920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264" name=""/>
            <p:cNvSpPr/>
            <p:nvPr/>
          </p:nvSpPr>
          <p:spPr>
            <a:xfrm>
              <a:off x="7953120" y="433728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265" name=""/>
            <p:cNvSpPr/>
            <p:nvPr/>
          </p:nvSpPr>
          <p:spPr>
            <a:xfrm>
              <a:off x="7696080" y="428940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66" name=""/>
            <p:cNvSpPr/>
            <p:nvPr/>
          </p:nvSpPr>
          <p:spPr>
            <a:xfrm>
              <a:off x="7934040" y="4311720"/>
              <a:ext cx="3016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7696080" y="4290840"/>
              <a:ext cx="23976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7908840" y="431640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7908840" y="432540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0" name=""/>
            <p:cNvSpPr/>
            <p:nvPr/>
          </p:nvSpPr>
          <p:spPr>
            <a:xfrm>
              <a:off x="7908840" y="43750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1" name=""/>
            <p:cNvSpPr/>
            <p:nvPr/>
          </p:nvSpPr>
          <p:spPr>
            <a:xfrm>
              <a:off x="7953120" y="433728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272" name=""/>
            <p:cNvSpPr/>
            <p:nvPr/>
          </p:nvSpPr>
          <p:spPr>
            <a:xfrm>
              <a:off x="7908840" y="43902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3" name=""/>
            <p:cNvSpPr/>
            <p:nvPr/>
          </p:nvSpPr>
          <p:spPr>
            <a:xfrm>
              <a:off x="7908840" y="44366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4" name=""/>
            <p:cNvSpPr/>
            <p:nvPr/>
          </p:nvSpPr>
          <p:spPr>
            <a:xfrm>
              <a:off x="7908840" y="462492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5" name=""/>
            <p:cNvSpPr/>
            <p:nvPr/>
          </p:nvSpPr>
          <p:spPr>
            <a:xfrm>
              <a:off x="7953120" y="444708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8218440" y="443808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7953120" y="443808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8205480" y="461988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279" name=""/>
            <p:cNvSpPr/>
            <p:nvPr/>
          </p:nvSpPr>
          <p:spPr>
            <a:xfrm flipH="1">
              <a:off x="7952760" y="450000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280" name=""/>
            <p:cNvSpPr/>
            <p:nvPr/>
          </p:nvSpPr>
          <p:spPr>
            <a:xfrm flipH="1">
              <a:off x="7952760" y="456300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281" name=""/>
            <p:cNvSpPr/>
            <p:nvPr/>
          </p:nvSpPr>
          <p:spPr>
            <a:xfrm>
              <a:off x="7908840" y="467424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82" name=""/>
            <p:cNvSpPr/>
            <p:nvPr/>
          </p:nvSpPr>
          <p:spPr>
            <a:xfrm>
              <a:off x="7908840" y="493884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83" name=""/>
            <p:cNvSpPr/>
            <p:nvPr/>
          </p:nvSpPr>
          <p:spPr>
            <a:xfrm>
              <a:off x="7953120" y="46893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8218440" y="46742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7953120" y="492084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86" name=""/>
            <p:cNvSpPr/>
            <p:nvPr/>
          </p:nvSpPr>
          <p:spPr>
            <a:xfrm>
              <a:off x="7953120" y="490896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87" name=""/>
            <p:cNvSpPr/>
            <p:nvPr/>
          </p:nvSpPr>
          <p:spPr>
            <a:xfrm>
              <a:off x="7953120" y="489816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88" name=""/>
            <p:cNvSpPr/>
            <p:nvPr/>
          </p:nvSpPr>
          <p:spPr>
            <a:xfrm>
              <a:off x="7953120" y="488628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289" name=""/>
            <p:cNvSpPr/>
            <p:nvPr/>
          </p:nvSpPr>
          <p:spPr>
            <a:xfrm>
              <a:off x="7953120" y="487260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90" name=""/>
            <p:cNvSpPr/>
            <p:nvPr/>
          </p:nvSpPr>
          <p:spPr>
            <a:xfrm>
              <a:off x="7953120" y="433908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291" name=""/>
            <p:cNvSpPr/>
            <p:nvPr/>
          </p:nvSpPr>
          <p:spPr>
            <a:xfrm>
              <a:off x="8205480" y="436140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292" name=""/>
            <p:cNvSpPr/>
            <p:nvPr/>
          </p:nvSpPr>
          <p:spPr>
            <a:xfrm>
              <a:off x="8015040" y="439920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293" name=""/>
            <p:cNvSpPr/>
            <p:nvPr/>
          </p:nvSpPr>
          <p:spPr>
            <a:xfrm>
              <a:off x="7953120" y="439920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294" name=""/>
            <p:cNvSpPr/>
            <p:nvPr/>
          </p:nvSpPr>
          <p:spPr>
            <a:xfrm>
              <a:off x="7953120" y="441576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95" name=""/>
            <p:cNvSpPr/>
            <p:nvPr/>
          </p:nvSpPr>
          <p:spPr>
            <a:xfrm flipH="1">
              <a:off x="8156520" y="441864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296" name=""/>
            <p:cNvSpPr/>
            <p:nvPr/>
          </p:nvSpPr>
          <p:spPr>
            <a:xfrm>
              <a:off x="8156520" y="43992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297" name=""/>
            <p:cNvSpPr/>
            <p:nvPr/>
          </p:nvSpPr>
          <p:spPr>
            <a:xfrm>
              <a:off x="7966080" y="435384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98" name=""/>
            <p:cNvSpPr/>
            <p:nvPr/>
          </p:nvSpPr>
          <p:spPr>
            <a:xfrm>
              <a:off x="8002440" y="435240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99" name=""/>
            <p:cNvSpPr/>
            <p:nvPr/>
          </p:nvSpPr>
          <p:spPr>
            <a:xfrm>
              <a:off x="8038800" y="435240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00" name=""/>
            <p:cNvSpPr/>
            <p:nvPr/>
          </p:nvSpPr>
          <p:spPr>
            <a:xfrm>
              <a:off x="8076960" y="435240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01" name=""/>
            <p:cNvSpPr/>
            <p:nvPr/>
          </p:nvSpPr>
          <p:spPr>
            <a:xfrm>
              <a:off x="8115120" y="435096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02" name=""/>
            <p:cNvSpPr/>
            <p:nvPr/>
          </p:nvSpPr>
          <p:spPr>
            <a:xfrm>
              <a:off x="8150040" y="434772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03" name=""/>
            <p:cNvSpPr/>
            <p:nvPr/>
          </p:nvSpPr>
          <p:spPr>
            <a:xfrm>
              <a:off x="8188200" y="434772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04" name=""/>
            <p:cNvSpPr/>
            <p:nvPr/>
          </p:nvSpPr>
          <p:spPr>
            <a:xfrm>
              <a:off x="8192880" y="443808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234280" y="490284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sp>
        <p:nvSpPr>
          <p:cNvPr id="1306" name=""/>
          <p:cNvSpPr/>
          <p:nvPr/>
        </p:nvSpPr>
        <p:spPr>
          <a:xfrm>
            <a:off x="6354720" y="3255840"/>
            <a:ext cx="1800" cy="55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1457280" y="3608280"/>
            <a:ext cx="0" cy="36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1241280" y="3616200"/>
            <a:ext cx="183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2604960" y="3638520"/>
            <a:ext cx="0" cy="43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10" name=""/>
          <p:cNvGrpSpPr/>
          <p:nvPr/>
        </p:nvGrpSpPr>
        <p:grpSpPr>
          <a:xfrm>
            <a:off x="3075120" y="3300480"/>
            <a:ext cx="690480" cy="711000"/>
            <a:chOff x="3075120" y="3300480"/>
            <a:chExt cx="690480" cy="711000"/>
          </a:xfrm>
        </p:grpSpPr>
        <p:sp>
          <p:nvSpPr>
            <p:cNvPr id="1311" name=""/>
            <p:cNvSpPr/>
            <p:nvPr/>
          </p:nvSpPr>
          <p:spPr>
            <a:xfrm>
              <a:off x="3314880" y="33228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3332160" y="36849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3332160" y="34491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3075120" y="33019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15" name=""/>
            <p:cNvSpPr/>
            <p:nvPr/>
          </p:nvSpPr>
          <p:spPr>
            <a:xfrm>
              <a:off x="3075120" y="33019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3287880" y="33260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3332160" y="34477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3332160" y="34099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319" name=""/>
            <p:cNvSpPr/>
            <p:nvPr/>
          </p:nvSpPr>
          <p:spPr>
            <a:xfrm>
              <a:off x="3332160" y="33483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320" name=""/>
            <p:cNvSpPr/>
            <p:nvPr/>
          </p:nvSpPr>
          <p:spPr>
            <a:xfrm>
              <a:off x="3075120" y="33004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21" name=""/>
            <p:cNvSpPr/>
            <p:nvPr/>
          </p:nvSpPr>
          <p:spPr>
            <a:xfrm>
              <a:off x="3313080" y="33228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3075120" y="33019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3287880" y="33274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3287880" y="33364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25" name=""/>
            <p:cNvSpPr/>
            <p:nvPr/>
          </p:nvSpPr>
          <p:spPr>
            <a:xfrm>
              <a:off x="3287880" y="3386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26" name=""/>
            <p:cNvSpPr/>
            <p:nvPr/>
          </p:nvSpPr>
          <p:spPr>
            <a:xfrm>
              <a:off x="3332160" y="33483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327" name=""/>
            <p:cNvSpPr/>
            <p:nvPr/>
          </p:nvSpPr>
          <p:spPr>
            <a:xfrm>
              <a:off x="3287880" y="34012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28" name=""/>
            <p:cNvSpPr/>
            <p:nvPr/>
          </p:nvSpPr>
          <p:spPr>
            <a:xfrm>
              <a:off x="3287880" y="3447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29" name=""/>
            <p:cNvSpPr/>
            <p:nvPr/>
          </p:nvSpPr>
          <p:spPr>
            <a:xfrm>
              <a:off x="3287880" y="36356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30" name=""/>
            <p:cNvSpPr/>
            <p:nvPr/>
          </p:nvSpPr>
          <p:spPr>
            <a:xfrm>
              <a:off x="3332160" y="34581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3597480" y="34491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3332160" y="34491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3584520" y="3630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34" name=""/>
            <p:cNvSpPr/>
            <p:nvPr/>
          </p:nvSpPr>
          <p:spPr>
            <a:xfrm flipH="1">
              <a:off x="3331800" y="35110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335" name=""/>
            <p:cNvSpPr/>
            <p:nvPr/>
          </p:nvSpPr>
          <p:spPr>
            <a:xfrm flipH="1">
              <a:off x="3331800" y="35740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336" name=""/>
            <p:cNvSpPr/>
            <p:nvPr/>
          </p:nvSpPr>
          <p:spPr>
            <a:xfrm>
              <a:off x="3287880" y="36849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37" name=""/>
            <p:cNvSpPr/>
            <p:nvPr/>
          </p:nvSpPr>
          <p:spPr>
            <a:xfrm>
              <a:off x="3287880" y="39495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38" name=""/>
            <p:cNvSpPr/>
            <p:nvPr/>
          </p:nvSpPr>
          <p:spPr>
            <a:xfrm>
              <a:off x="3332160" y="37000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3597480" y="36849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3332160" y="39315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41" name=""/>
            <p:cNvSpPr/>
            <p:nvPr/>
          </p:nvSpPr>
          <p:spPr>
            <a:xfrm>
              <a:off x="3332160" y="39196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42" name=""/>
            <p:cNvSpPr/>
            <p:nvPr/>
          </p:nvSpPr>
          <p:spPr>
            <a:xfrm>
              <a:off x="3332160" y="39092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43" name=""/>
            <p:cNvSpPr/>
            <p:nvPr/>
          </p:nvSpPr>
          <p:spPr>
            <a:xfrm>
              <a:off x="3332160" y="38970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344" name=""/>
            <p:cNvSpPr/>
            <p:nvPr/>
          </p:nvSpPr>
          <p:spPr>
            <a:xfrm>
              <a:off x="3332160" y="38833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5" name=""/>
            <p:cNvSpPr/>
            <p:nvPr/>
          </p:nvSpPr>
          <p:spPr>
            <a:xfrm>
              <a:off x="3332160" y="33501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346" name=""/>
            <p:cNvSpPr/>
            <p:nvPr/>
          </p:nvSpPr>
          <p:spPr>
            <a:xfrm>
              <a:off x="3584520" y="33724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347" name=""/>
            <p:cNvSpPr/>
            <p:nvPr/>
          </p:nvSpPr>
          <p:spPr>
            <a:xfrm>
              <a:off x="3394080" y="34099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348" name=""/>
            <p:cNvSpPr/>
            <p:nvPr/>
          </p:nvSpPr>
          <p:spPr>
            <a:xfrm>
              <a:off x="3332160" y="34099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349" name=""/>
            <p:cNvSpPr/>
            <p:nvPr/>
          </p:nvSpPr>
          <p:spPr>
            <a:xfrm>
              <a:off x="3332160" y="34268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0" name=""/>
            <p:cNvSpPr/>
            <p:nvPr/>
          </p:nvSpPr>
          <p:spPr>
            <a:xfrm flipH="1">
              <a:off x="3535560" y="34297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351" name=""/>
            <p:cNvSpPr/>
            <p:nvPr/>
          </p:nvSpPr>
          <p:spPr>
            <a:xfrm>
              <a:off x="3535560" y="34099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352" name=""/>
            <p:cNvSpPr/>
            <p:nvPr/>
          </p:nvSpPr>
          <p:spPr>
            <a:xfrm>
              <a:off x="3345120" y="33649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3" name=""/>
            <p:cNvSpPr/>
            <p:nvPr/>
          </p:nvSpPr>
          <p:spPr>
            <a:xfrm>
              <a:off x="3381480" y="33634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4" name=""/>
            <p:cNvSpPr/>
            <p:nvPr/>
          </p:nvSpPr>
          <p:spPr>
            <a:xfrm>
              <a:off x="3417840" y="33634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5" name=""/>
            <p:cNvSpPr/>
            <p:nvPr/>
          </p:nvSpPr>
          <p:spPr>
            <a:xfrm>
              <a:off x="3456000" y="33634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6" name=""/>
            <p:cNvSpPr/>
            <p:nvPr/>
          </p:nvSpPr>
          <p:spPr>
            <a:xfrm>
              <a:off x="3494160" y="33620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7" name=""/>
            <p:cNvSpPr/>
            <p:nvPr/>
          </p:nvSpPr>
          <p:spPr>
            <a:xfrm>
              <a:off x="3529080" y="33588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8" name=""/>
            <p:cNvSpPr/>
            <p:nvPr/>
          </p:nvSpPr>
          <p:spPr>
            <a:xfrm>
              <a:off x="3567240" y="33588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9" name=""/>
            <p:cNvSpPr/>
            <p:nvPr/>
          </p:nvSpPr>
          <p:spPr>
            <a:xfrm>
              <a:off x="3571920" y="34491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3613320" y="39135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361" name="" descr=""/>
          <p:cNvPicPr/>
          <p:nvPr/>
        </p:nvPicPr>
        <p:blipFill>
          <a:blip r:embed="rId2"/>
          <a:stretch/>
        </p:blipFill>
        <p:spPr>
          <a:xfrm>
            <a:off x="960480" y="4005360"/>
            <a:ext cx="861840" cy="577800"/>
          </a:xfrm>
          <a:prstGeom prst="rect">
            <a:avLst/>
          </a:prstGeom>
          <a:ln w="0">
            <a:noFill/>
          </a:ln>
        </p:spPr>
      </p:pic>
      <p:pic>
        <p:nvPicPr>
          <p:cNvPr id="1362" name="" descr=""/>
          <p:cNvPicPr/>
          <p:nvPr/>
        </p:nvPicPr>
        <p:blipFill>
          <a:blip r:embed="rId3"/>
          <a:stretch/>
        </p:blipFill>
        <p:spPr>
          <a:xfrm>
            <a:off x="2174760" y="4111560"/>
            <a:ext cx="862200" cy="577800"/>
          </a:xfrm>
          <a:prstGeom prst="rect">
            <a:avLst/>
          </a:prstGeom>
          <a:ln w="0">
            <a:noFill/>
          </a:ln>
        </p:spPr>
      </p:pic>
      <p:pic>
        <p:nvPicPr>
          <p:cNvPr id="1363" name="" descr=""/>
          <p:cNvPicPr/>
          <p:nvPr/>
        </p:nvPicPr>
        <p:blipFill>
          <a:blip r:embed="rId4"/>
          <a:stretch/>
        </p:blipFill>
        <p:spPr>
          <a:xfrm>
            <a:off x="6504120" y="4227480"/>
            <a:ext cx="861840" cy="577800"/>
          </a:xfrm>
          <a:prstGeom prst="rect">
            <a:avLst/>
          </a:prstGeom>
          <a:ln w="0">
            <a:noFill/>
          </a:ln>
        </p:spPr>
      </p:pic>
      <p:sp>
        <p:nvSpPr>
          <p:cNvPr id="1364" name=""/>
          <p:cNvSpPr/>
          <p:nvPr/>
        </p:nvSpPr>
        <p:spPr>
          <a:xfrm>
            <a:off x="5999040" y="2933640"/>
            <a:ext cx="739800" cy="309600"/>
          </a:xfrm>
          <a:prstGeom prst="rect">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2014560" y="3268800"/>
            <a:ext cx="0" cy="36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1671480" y="2943360"/>
            <a:ext cx="739800" cy="309600"/>
          </a:xfrm>
          <a:prstGeom prst="rect">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flipV="1">
            <a:off x="2187720" y="2298240"/>
            <a:ext cx="0" cy="66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1960560" y="2298600"/>
            <a:ext cx="133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2768760" y="1959120"/>
            <a:ext cx="0" cy="361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2425680" y="1635120"/>
            <a:ext cx="739800" cy="309600"/>
          </a:xfrm>
          <a:prstGeom prst="rect">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3168720" y="1773360"/>
            <a:ext cx="34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5126040" y="2279520"/>
            <a:ext cx="133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a:off x="5934240" y="1941480"/>
            <a:ext cx="0" cy="362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5591160" y="1616040"/>
            <a:ext cx="739800" cy="311040"/>
          </a:xfrm>
          <a:prstGeom prst="rect">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flipV="1">
            <a:off x="6321600" y="2268000"/>
            <a:ext cx="0" cy="66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flipH="1">
            <a:off x="5087520" y="1758960"/>
            <a:ext cx="4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77" name=""/>
          <p:cNvGrpSpPr/>
          <p:nvPr/>
        </p:nvGrpSpPr>
        <p:grpSpPr>
          <a:xfrm>
            <a:off x="3270960" y="1323000"/>
            <a:ext cx="2028240" cy="985320"/>
            <a:chOff x="3270960" y="1323000"/>
            <a:chExt cx="2028240" cy="985320"/>
          </a:xfrm>
        </p:grpSpPr>
        <p:sp>
          <p:nvSpPr>
            <p:cNvPr id="1378" name=""/>
            <p:cNvSpPr/>
            <p:nvPr/>
          </p:nvSpPr>
          <p:spPr>
            <a:xfrm rot="20700000">
              <a:off x="4170960" y="2035440"/>
              <a:ext cx="320040" cy="1821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rot="20700000">
              <a:off x="3919320" y="1371600"/>
              <a:ext cx="323280" cy="182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rot="20700000">
              <a:off x="3489120" y="1498320"/>
              <a:ext cx="195120" cy="1119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381" name=""/>
            <p:cNvSpPr/>
            <p:nvPr/>
          </p:nvSpPr>
          <p:spPr>
            <a:xfrm rot="20700000">
              <a:off x="3525120" y="1941840"/>
              <a:ext cx="194760" cy="107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382" name=""/>
            <p:cNvSpPr/>
            <p:nvPr/>
          </p:nvSpPr>
          <p:spPr>
            <a:xfrm rot="20700000">
              <a:off x="3346560" y="1780920"/>
              <a:ext cx="320760" cy="177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rot="20700000">
              <a:off x="3671640" y="1417320"/>
              <a:ext cx="322200" cy="1810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rot="20700000">
              <a:off x="4956120" y="1846800"/>
              <a:ext cx="324720" cy="181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rot="20700000">
              <a:off x="4722480" y="1928160"/>
              <a:ext cx="324720" cy="1846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86" name=""/>
            <p:cNvGrpSpPr/>
            <p:nvPr/>
          </p:nvGrpSpPr>
          <p:grpSpPr>
            <a:xfrm>
              <a:off x="3270960" y="1323000"/>
              <a:ext cx="1995120" cy="985320"/>
              <a:chOff x="3270960" y="1323000"/>
              <a:chExt cx="1995120" cy="985320"/>
            </a:xfrm>
          </p:grpSpPr>
          <p:sp>
            <p:nvSpPr>
              <p:cNvPr id="1387" name=""/>
              <p:cNvSpPr/>
              <p:nvPr/>
            </p:nvSpPr>
            <p:spPr>
              <a:xfrm rot="20700000">
                <a:off x="3303720" y="1575720"/>
                <a:ext cx="578160" cy="329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88" name=""/>
              <p:cNvGrpSpPr/>
              <p:nvPr/>
            </p:nvGrpSpPr>
            <p:grpSpPr>
              <a:xfrm>
                <a:off x="3497040" y="1432800"/>
                <a:ext cx="1207440" cy="875520"/>
                <a:chOff x="3497040" y="1432800"/>
                <a:chExt cx="1207440" cy="875520"/>
              </a:xfrm>
            </p:grpSpPr>
            <p:sp>
              <p:nvSpPr>
                <p:cNvPr id="1389" name=""/>
                <p:cNvSpPr/>
                <p:nvPr/>
              </p:nvSpPr>
              <p:spPr>
                <a:xfrm rot="20700000">
                  <a:off x="3557880" y="1562400"/>
                  <a:ext cx="1085040" cy="615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3513240" y="1713600"/>
                  <a:ext cx="168120" cy="174240"/>
                </a:xfrm>
                <a:custGeom>
                  <a:avLst/>
                  <a:gdLst/>
                  <a:ahLst/>
                  <a:rect l="l" t="t" r="r" b="b"/>
                  <a:pathLst>
                    <a:path w="213" h="323">
                      <a:moveTo>
                        <a:pt x="164" y="0"/>
                      </a:moveTo>
                      <a:lnTo>
                        <a:pt x="0" y="316"/>
                      </a:lnTo>
                      <a:lnTo>
                        <a:pt x="121" y="322"/>
                      </a:lnTo>
                      <a:lnTo>
                        <a:pt x="212" y="13"/>
                      </a:lnTo>
                      <a:lnTo>
                        <a:pt x="164"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91" name=""/>
              <p:cNvSpPr/>
              <p:nvPr/>
            </p:nvSpPr>
            <p:spPr>
              <a:xfrm rot="20700000">
                <a:off x="3954960" y="1559160"/>
                <a:ext cx="1085760" cy="6159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rot="20700000">
                <a:off x="4855320" y="1559160"/>
                <a:ext cx="388440" cy="2203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rot="20700000">
                <a:off x="4844520" y="1910160"/>
                <a:ext cx="257760" cy="1486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rot="20700000">
                <a:off x="4700160" y="1528200"/>
                <a:ext cx="258480" cy="143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rot="20700000">
                <a:off x="4848120" y="1713960"/>
                <a:ext cx="390240" cy="2178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rot="20700000">
                <a:off x="3585240" y="1449000"/>
                <a:ext cx="579600" cy="3272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rot="20700000">
                <a:off x="4165560" y="1414440"/>
                <a:ext cx="579600" cy="3272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rot="20700000">
                <a:off x="3891240" y="1392120"/>
                <a:ext cx="580320" cy="3272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rot="20700000">
                <a:off x="3853080" y="1809360"/>
                <a:ext cx="575640" cy="3279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3653640" y="1455840"/>
                <a:ext cx="1440720" cy="669240"/>
              </a:xfrm>
              <a:custGeom>
                <a:avLst/>
                <a:gdLst/>
                <a:ahLst/>
                <a:rect l="l" t="t" r="r" b="b"/>
                <a:pathLst>
                  <a:path w="1827" h="1241">
                    <a:moveTo>
                      <a:pt x="300" y="77"/>
                    </a:moveTo>
                    <a:lnTo>
                      <a:pt x="656" y="143"/>
                    </a:lnTo>
                    <a:lnTo>
                      <a:pt x="1026" y="0"/>
                    </a:lnTo>
                    <a:lnTo>
                      <a:pt x="1348" y="231"/>
                    </a:lnTo>
                    <a:lnTo>
                      <a:pt x="1418" y="234"/>
                    </a:lnTo>
                    <a:lnTo>
                      <a:pt x="1614" y="282"/>
                    </a:lnTo>
                    <a:lnTo>
                      <a:pt x="1678" y="345"/>
                    </a:lnTo>
                    <a:lnTo>
                      <a:pt x="1826" y="455"/>
                    </a:lnTo>
                    <a:lnTo>
                      <a:pt x="1817" y="502"/>
                    </a:lnTo>
                    <a:lnTo>
                      <a:pt x="1657" y="981"/>
                    </a:lnTo>
                    <a:lnTo>
                      <a:pt x="1485" y="1083"/>
                    </a:lnTo>
                    <a:lnTo>
                      <a:pt x="868" y="1205"/>
                    </a:lnTo>
                    <a:lnTo>
                      <a:pt x="807" y="1152"/>
                    </a:lnTo>
                    <a:lnTo>
                      <a:pt x="388" y="1189"/>
                    </a:lnTo>
                    <a:lnTo>
                      <a:pt x="321" y="1240"/>
                    </a:lnTo>
                    <a:lnTo>
                      <a:pt x="0" y="612"/>
                    </a:lnTo>
                    <a:lnTo>
                      <a:pt x="300" y="77"/>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401" name=""/>
          <p:cNvSpPr/>
          <p:nvPr/>
        </p:nvSpPr>
        <p:spPr>
          <a:xfrm>
            <a:off x="1420920" y="1598760"/>
            <a:ext cx="6369120" cy="2963880"/>
          </a:xfrm>
          <a:custGeom>
            <a:avLst/>
            <a:gdLst/>
            <a:ahLst/>
            <a:rect l="l" t="t" r="r" b="b"/>
            <a:pathLst>
              <a:path w="4012" h="1970">
                <a:moveTo>
                  <a:pt x="0" y="1621"/>
                </a:moveTo>
                <a:cubicBezTo>
                  <a:pt x="121" y="1454"/>
                  <a:pt x="242" y="1288"/>
                  <a:pt x="403" y="1048"/>
                </a:cubicBezTo>
                <a:cubicBezTo>
                  <a:pt x="564" y="808"/>
                  <a:pt x="558" y="328"/>
                  <a:pt x="967" y="179"/>
                </a:cubicBezTo>
                <a:cubicBezTo>
                  <a:pt x="1376" y="30"/>
                  <a:pt x="2488" y="0"/>
                  <a:pt x="2857" y="152"/>
                </a:cubicBezTo>
                <a:cubicBezTo>
                  <a:pt x="3226" y="304"/>
                  <a:pt x="2987" y="789"/>
                  <a:pt x="3179" y="1092"/>
                </a:cubicBezTo>
                <a:cubicBezTo>
                  <a:pt x="3371" y="1395"/>
                  <a:pt x="3691" y="1682"/>
                  <a:pt x="4012" y="1970"/>
                </a:cubicBezTo>
              </a:path>
            </a:pathLst>
          </a:custGeom>
          <a:noFill/>
          <a:ln w="6336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7689960" y="4916520"/>
            <a:ext cx="103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r</a:t>
            </a:r>
            <a:endParaRPr b="0" lang="en-US" sz="1800" spc="-1" strike="noStrike">
              <a:solidFill>
                <a:srgbClr val="ffffff"/>
              </a:solidFill>
              <a:latin typeface="Times New Roman"/>
            </a:endParaRPr>
          </a:p>
        </p:txBody>
      </p:sp>
      <p:sp>
        <p:nvSpPr>
          <p:cNvPr id="1403" name=""/>
          <p:cNvSpPr/>
          <p:nvPr/>
        </p:nvSpPr>
        <p:spPr>
          <a:xfrm>
            <a:off x="533520" y="4505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ndows 2000</a:t>
            </a:r>
            <a:endParaRPr b="0" lang="en-US" sz="1800" spc="-1" strike="noStrike">
              <a:solidFill>
                <a:srgbClr val="ffffff"/>
              </a:solidFill>
              <a:latin typeface="Times New Roman"/>
            </a:endParaRPr>
          </a:p>
        </p:txBody>
      </p:sp>
      <p:sp>
        <p:nvSpPr>
          <p:cNvPr id="1404" name=""/>
          <p:cNvSpPr/>
          <p:nvPr/>
        </p:nvSpPr>
        <p:spPr>
          <a:xfrm>
            <a:off x="457200" y="5008680"/>
            <a:ext cx="8686800" cy="155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 security (SSL, https) does this for TCP</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s aware of/control SSL, are not for IPSec</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PSec designed for security of any IP packet, but in practice secures unicast</a:t>
            </a:r>
            <a:endParaRPr b="0" lang="en-US" sz="2400" spc="-1" strike="noStrike">
              <a:solidFill>
                <a:srgbClr val="ffffff"/>
              </a:solidFill>
              <a:latin typeface="Times New Roman"/>
            </a:endParaRPr>
          </a:p>
        </p:txBody>
      </p:sp>
      <p:sp>
        <p:nvSpPr>
          <p:cNvPr id="1405" name=""/>
          <p:cNvSpPr/>
          <p:nvPr/>
        </p:nvSpPr>
        <p:spPr>
          <a:xfrm>
            <a:off x="6705720" y="2971800"/>
            <a:ext cx="1752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ffffff"/>
              </a:solidFill>
              <a:latin typeface="Times New Roman"/>
            </a:endParaRPr>
          </a:p>
        </p:txBody>
      </p:sp>
      <p:sp>
        <p:nvSpPr>
          <p:cNvPr id="1406" name=""/>
          <p:cNvSpPr/>
          <p:nvPr/>
        </p:nvSpPr>
        <p:spPr>
          <a:xfrm>
            <a:off x="533520" y="1600200"/>
            <a:ext cx="19810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teway/Router</a:t>
            </a:r>
            <a:endParaRPr b="0" lang="en-US" sz="1800" spc="-1" strike="noStrike">
              <a:solidFill>
                <a:srgbClr val="ffffff"/>
              </a:solidFill>
              <a:latin typeface="Times New Roman"/>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284040" y="283680"/>
            <a:ext cx="8431200" cy="1298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IPSec using Windows 2000 Domain Trust – “Lockdown”</a:t>
            </a:r>
            <a:endParaRPr b="1" lang="en-US" sz="4400" spc="-1" strike="noStrike">
              <a:solidFill>
                <a:srgbClr val="fccf00"/>
              </a:solidFill>
              <a:latin typeface="Arial"/>
            </a:endParaRPr>
          </a:p>
        </p:txBody>
      </p:sp>
      <p:graphicFrame>
        <p:nvGraphicFramePr>
          <p:cNvPr id="1408" name=""/>
          <p:cNvGraphicFramePr/>
          <p:nvPr/>
        </p:nvGraphicFramePr>
        <p:xfrm>
          <a:off x="6076800" y="2203560"/>
          <a:ext cx="1114560" cy="1504800"/>
        </p:xfrm>
        <a:graphic>
          <a:graphicData uri="http://schemas.openxmlformats.org/presentationml/2006/ole">
            <p:oleObj r:id="rId2" spid="">
              <p:embed/>
              <p:pic>
                <p:nvPicPr>
                  <p:cNvPr id="1409" name="" descr=""/>
                  <p:cNvPicPr/>
                  <p:nvPr/>
                </p:nvPicPr>
                <p:blipFill>
                  <a:blip r:embed="rId3"/>
                  <a:stretch/>
                </p:blipFill>
                <p:spPr>
                  <a:xfrm>
                    <a:off x="6076800" y="2203560"/>
                    <a:ext cx="1114560" cy="1504800"/>
                  </a:xfrm>
                  <a:prstGeom prst="rect">
                    <a:avLst/>
                  </a:prstGeom>
                  <a:ln w="0">
                    <a:noFill/>
                  </a:ln>
                </p:spPr>
              </p:pic>
            </p:oleObj>
          </a:graphicData>
        </a:graphic>
      </p:graphicFrame>
      <p:pic>
        <p:nvPicPr>
          <p:cNvPr id="1410" name="" descr=""/>
          <p:cNvPicPr/>
          <p:nvPr/>
        </p:nvPicPr>
        <p:blipFill>
          <a:blip r:embed="rId4"/>
          <a:stretch/>
        </p:blipFill>
        <p:spPr>
          <a:xfrm>
            <a:off x="1117440" y="2673360"/>
            <a:ext cx="1054440" cy="1011240"/>
          </a:xfrm>
          <a:prstGeom prst="rect">
            <a:avLst/>
          </a:prstGeom>
          <a:ln w="0">
            <a:noFill/>
          </a:ln>
        </p:spPr>
      </p:pic>
      <p:graphicFrame>
        <p:nvGraphicFramePr>
          <p:cNvPr id="1411" name=""/>
          <p:cNvGraphicFramePr/>
          <p:nvPr/>
        </p:nvGraphicFramePr>
        <p:xfrm>
          <a:off x="2836800" y="5275440"/>
          <a:ext cx="944640" cy="1110960"/>
        </p:xfrm>
        <a:graphic>
          <a:graphicData uri="http://schemas.openxmlformats.org/presentationml/2006/ole">
            <p:oleObj r:id="rId5" spid="">
              <p:embed/>
              <p:pic>
                <p:nvPicPr>
                  <p:cNvPr id="1412" name="" descr=""/>
                  <p:cNvPicPr/>
                  <p:nvPr/>
                </p:nvPicPr>
                <p:blipFill>
                  <a:blip r:embed="rId6"/>
                  <a:stretch/>
                </p:blipFill>
                <p:spPr>
                  <a:xfrm>
                    <a:off x="2836800" y="5275440"/>
                    <a:ext cx="944640" cy="1110960"/>
                  </a:xfrm>
                  <a:prstGeom prst="rect">
                    <a:avLst/>
                  </a:prstGeom>
                  <a:ln w="0">
                    <a:noFill/>
                  </a:ln>
                </p:spPr>
              </p:pic>
            </p:oleObj>
          </a:graphicData>
        </a:graphic>
      </p:graphicFrame>
      <p:grpSp>
        <p:nvGrpSpPr>
          <p:cNvPr id="1413" name=""/>
          <p:cNvGrpSpPr/>
          <p:nvPr/>
        </p:nvGrpSpPr>
        <p:grpSpPr>
          <a:xfrm>
            <a:off x="3882960" y="5099040"/>
            <a:ext cx="2640240" cy="1451520"/>
            <a:chOff x="3882960" y="5099040"/>
            <a:chExt cx="2640240" cy="1451520"/>
          </a:xfrm>
        </p:grpSpPr>
        <p:grpSp>
          <p:nvGrpSpPr>
            <p:cNvPr id="1414" name=""/>
            <p:cNvGrpSpPr/>
            <p:nvPr/>
          </p:nvGrpSpPr>
          <p:grpSpPr>
            <a:xfrm>
              <a:off x="5265720" y="5437080"/>
              <a:ext cx="895320" cy="835200"/>
              <a:chOff x="5265720" y="5437080"/>
              <a:chExt cx="895320" cy="835200"/>
            </a:xfrm>
          </p:grpSpPr>
          <p:sp>
            <p:nvSpPr>
              <p:cNvPr id="1415" name=""/>
              <p:cNvSpPr/>
              <p:nvPr/>
            </p:nvSpPr>
            <p:spPr>
              <a:xfrm>
                <a:off x="5265720" y="5437080"/>
                <a:ext cx="895320" cy="835200"/>
              </a:xfrm>
              <a:prstGeom prst="triangle">
                <a:avLst>
                  <a:gd name="adj" fmla="val 49986"/>
                </a:avLst>
              </a:prstGeom>
              <a:gradFill rotWithShape="0">
                <a:gsLst>
                  <a:gs pos="0">
                    <a:srgbClr val="7e3d3f"/>
                  </a:gs>
                  <a:gs pos="100000">
                    <a:srgbClr val="ff7c80"/>
                  </a:gs>
                </a:gsLst>
                <a:lin ang="5400000"/>
              </a:gra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5717160" y="5695200"/>
                <a:ext cx="0" cy="61200"/>
              </a:xfrm>
              <a:prstGeom prst="line">
                <a:avLst/>
              </a:prstGeom>
              <a:ln w="12600">
                <a:solidFill>
                  <a:srgbClr val="3333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Times New Roman"/>
                </a:endParaRPr>
              </a:p>
            </p:txBody>
          </p:sp>
          <p:sp>
            <p:nvSpPr>
              <p:cNvPr id="1417" name=""/>
              <p:cNvSpPr/>
              <p:nvPr/>
            </p:nvSpPr>
            <p:spPr>
              <a:xfrm>
                <a:off x="5676840" y="5621040"/>
                <a:ext cx="7848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18" name=""/>
              <p:cNvSpPr/>
              <p:nvPr/>
            </p:nvSpPr>
            <p:spPr>
              <a:xfrm flipH="1">
                <a:off x="5634000" y="5805000"/>
                <a:ext cx="82440" cy="1447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9" name=""/>
              <p:cNvSpPr/>
              <p:nvPr/>
            </p:nvSpPr>
            <p:spPr>
              <a:xfrm>
                <a:off x="5725080" y="5813640"/>
                <a:ext cx="123480" cy="1494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a:off x="5678640" y="5756040"/>
                <a:ext cx="77760" cy="6876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21" name=""/>
              <p:cNvSpPr/>
              <p:nvPr/>
            </p:nvSpPr>
            <p:spPr>
              <a:xfrm flipH="1">
                <a:off x="5482800" y="5986080"/>
                <a:ext cx="138600" cy="1713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5634360" y="5980680"/>
                <a:ext cx="147960" cy="180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5634360" y="5977080"/>
                <a:ext cx="0" cy="1839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5852160" y="5968440"/>
                <a:ext cx="84240" cy="1861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5444640" y="6123240"/>
                <a:ext cx="7848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26" name=""/>
              <p:cNvSpPr/>
              <p:nvPr/>
            </p:nvSpPr>
            <p:spPr>
              <a:xfrm>
                <a:off x="5812560" y="5938560"/>
                <a:ext cx="7848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27" name=""/>
              <p:cNvSpPr/>
              <p:nvPr/>
            </p:nvSpPr>
            <p:spPr>
              <a:xfrm>
                <a:off x="5591880" y="5938560"/>
                <a:ext cx="7776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28" name=""/>
              <p:cNvSpPr/>
              <p:nvPr/>
            </p:nvSpPr>
            <p:spPr>
              <a:xfrm>
                <a:off x="5892840" y="6123240"/>
                <a:ext cx="7848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29" name=""/>
              <p:cNvSpPr/>
              <p:nvPr/>
            </p:nvSpPr>
            <p:spPr>
              <a:xfrm>
                <a:off x="5742360" y="6123240"/>
                <a:ext cx="7776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30" name=""/>
              <p:cNvSpPr/>
              <p:nvPr/>
            </p:nvSpPr>
            <p:spPr>
              <a:xfrm>
                <a:off x="5595120" y="6123240"/>
                <a:ext cx="7848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sp>
          <p:nvSpPr>
            <p:cNvPr id="1431" name=""/>
            <p:cNvSpPr/>
            <p:nvPr/>
          </p:nvSpPr>
          <p:spPr>
            <a:xfrm>
              <a:off x="5187960" y="5122800"/>
              <a:ext cx="1101600" cy="4755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e Directory</a:t>
              </a:r>
              <a:endParaRPr b="0" lang="en-US" sz="1400" spc="-1" strike="noStrike">
                <a:solidFill>
                  <a:srgbClr val="ffffff"/>
                </a:solidFill>
                <a:latin typeface="Times New Roman"/>
              </a:endParaRPr>
            </a:p>
          </p:txBody>
        </p:sp>
        <p:sp>
          <p:nvSpPr>
            <p:cNvPr id="1432" name=""/>
            <p:cNvSpPr/>
            <p:nvPr/>
          </p:nvSpPr>
          <p:spPr>
            <a:xfrm>
              <a:off x="3917880" y="5437080"/>
              <a:ext cx="1352520" cy="733680"/>
            </a:xfrm>
            <a:prstGeom prst="ellipse">
              <a:avLst/>
            </a:prstGeom>
            <a:gradFill rotWithShape="0">
              <a:gsLst>
                <a:gs pos="0">
                  <a:srgbClr val="755131"/>
                </a:gs>
                <a:gs pos="100000">
                  <a:srgbClr val="eea564"/>
                </a:gs>
              </a:gsLst>
              <a:lin ang="5400000"/>
            </a:gradFill>
            <a:ln w="12600">
              <a:solidFill>
                <a:srgbClr val="333300"/>
              </a:solidFill>
              <a:miter/>
            </a:ln>
          </p:spPr>
          <p:style>
            <a:lnRef idx="0"/>
            <a:fillRef idx="0"/>
            <a:effectRef idx="0"/>
            <a:fontRef idx="minor"/>
          </p:style>
          <p:txBody>
            <a:bodyPr wrap="none" lIns="92160" rIns="92160" tIns="46080" bIns="4608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y Distribution</a:t>
              </a:r>
              <a:br>
                <a:rPr sz="1200"/>
              </a:br>
              <a:r>
                <a:rPr b="1" lang="en-US" sz="1200" spc="-1" strike="noStrike">
                  <a:solidFill>
                    <a:srgbClr val="ffffff"/>
                  </a:solidFill>
                  <a:latin typeface="Arial"/>
                </a:rPr>
                <a:t>Center (KDC)</a:t>
              </a:r>
              <a:endParaRPr b="0" lang="en-US" sz="1200" spc="-1" strike="noStrike">
                <a:solidFill>
                  <a:srgbClr val="ffffff"/>
                </a:solidFill>
                <a:latin typeface="Times New Roman"/>
              </a:endParaRPr>
            </a:p>
          </p:txBody>
        </p:sp>
        <p:sp>
          <p:nvSpPr>
            <p:cNvPr id="1433" name=""/>
            <p:cNvSpPr/>
            <p:nvPr/>
          </p:nvSpPr>
          <p:spPr>
            <a:xfrm>
              <a:off x="3882960" y="5099040"/>
              <a:ext cx="2455920" cy="1397160"/>
            </a:xfrm>
            <a:prstGeom prst="rect">
              <a:avLst/>
            </a:prstGeom>
            <a:noFill/>
            <a:ln w="1908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3953160" y="6275520"/>
              <a:ext cx="2570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2000 domain controller</a:t>
              </a:r>
              <a:endParaRPr b="0" lang="en-US" sz="1200" spc="-1" strike="noStrike">
                <a:solidFill>
                  <a:srgbClr val="ffffff"/>
                </a:solidFill>
                <a:latin typeface="Times New Roman"/>
              </a:endParaRPr>
            </a:p>
          </p:txBody>
        </p:sp>
      </p:grpSp>
      <p:sp>
        <p:nvSpPr>
          <p:cNvPr id="1435" name=""/>
          <p:cNvSpPr/>
          <p:nvPr/>
        </p:nvSpPr>
        <p:spPr>
          <a:xfrm>
            <a:off x="5580000" y="1814400"/>
            <a:ext cx="1596960" cy="665280"/>
          </a:xfrm>
          <a:prstGeom prst="ellipse">
            <a:avLst/>
          </a:prstGeom>
          <a:solidFill>
            <a:srgbClr val="5686d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1436" name=""/>
          <p:cNvSpPr/>
          <p:nvPr/>
        </p:nvSpPr>
        <p:spPr>
          <a:xfrm>
            <a:off x="5800680" y="2803680"/>
            <a:ext cx="855720" cy="529920"/>
          </a:xfrm>
          <a:prstGeom prst="ellipse">
            <a:avLst/>
          </a:prstGeom>
          <a:gradFill rotWithShape="0">
            <a:gsLst>
              <a:gs pos="0">
                <a:srgbClr val="ff7c80"/>
              </a:gs>
              <a:gs pos="100000">
                <a:srgbClr val="75393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PSec</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river</a:t>
            </a:r>
            <a:endParaRPr b="0" lang="en-US" sz="1400" spc="-1" strike="noStrike">
              <a:solidFill>
                <a:srgbClr val="ffffff"/>
              </a:solidFill>
              <a:latin typeface="Times New Roman"/>
            </a:endParaRPr>
          </a:p>
        </p:txBody>
      </p:sp>
      <p:grpSp>
        <p:nvGrpSpPr>
          <p:cNvPr id="1437" name=""/>
          <p:cNvGrpSpPr/>
          <p:nvPr/>
        </p:nvGrpSpPr>
        <p:grpSpPr>
          <a:xfrm>
            <a:off x="6019200" y="3257640"/>
            <a:ext cx="667080" cy="315360"/>
            <a:chOff x="6019200" y="3257640"/>
            <a:chExt cx="667080" cy="315360"/>
          </a:xfrm>
        </p:grpSpPr>
        <p:sp>
          <p:nvSpPr>
            <p:cNvPr id="1438" name=""/>
            <p:cNvSpPr/>
            <p:nvPr/>
          </p:nvSpPr>
          <p:spPr>
            <a:xfrm>
              <a:off x="6080400" y="3257640"/>
              <a:ext cx="605880" cy="276120"/>
            </a:xfrm>
            <a:prstGeom prst="flowChartMultidocument">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019200" y="3265920"/>
              <a:ext cx="599760" cy="307080"/>
            </a:xfrm>
            <a:prstGeom prst="rect">
              <a:avLst/>
            </a:prstGeom>
            <a:solidFill>
              <a:srgbClr val="ff7c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s</a:t>
              </a:r>
              <a:endParaRPr b="0" lang="en-US" sz="1400" spc="-1" strike="noStrike">
                <a:solidFill>
                  <a:srgbClr val="ffffff"/>
                </a:solidFill>
                <a:latin typeface="Times New Roman"/>
              </a:endParaRPr>
            </a:p>
          </p:txBody>
        </p:sp>
      </p:grpSp>
      <p:sp>
        <p:nvSpPr>
          <p:cNvPr id="1440" name=""/>
          <p:cNvSpPr/>
          <p:nvPr/>
        </p:nvSpPr>
        <p:spPr>
          <a:xfrm>
            <a:off x="2182680" y="2376360"/>
            <a:ext cx="4256280" cy="1370160"/>
          </a:xfrm>
          <a:custGeom>
            <a:avLst/>
            <a:gdLst/>
            <a:ahLst/>
            <a:rect l="l" t="t" r="r" b="b"/>
            <a:pathLst>
              <a:path w="2681" h="863">
                <a:moveTo>
                  <a:pt x="0" y="736"/>
                </a:moveTo>
                <a:cubicBezTo>
                  <a:pt x="125" y="736"/>
                  <a:pt x="358" y="724"/>
                  <a:pt x="753" y="725"/>
                </a:cubicBezTo>
                <a:cubicBezTo>
                  <a:pt x="1148" y="726"/>
                  <a:pt x="2059" y="863"/>
                  <a:pt x="2370" y="742"/>
                </a:cubicBezTo>
                <a:cubicBezTo>
                  <a:pt x="2681" y="621"/>
                  <a:pt x="2647" y="317"/>
                  <a:pt x="2618"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a:off x="444600" y="1900080"/>
            <a:ext cx="191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stom Client Policy</a:t>
            </a:r>
            <a:endParaRPr b="0" lang="en-US" sz="1800" spc="-1" strike="noStrike">
              <a:solidFill>
                <a:srgbClr val="ffffff"/>
              </a:solidFill>
              <a:latin typeface="Times New Roman"/>
            </a:endParaRPr>
          </a:p>
        </p:txBody>
      </p:sp>
      <p:sp>
        <p:nvSpPr>
          <p:cNvPr id="1442" name=""/>
          <p:cNvSpPr/>
          <p:nvPr/>
        </p:nvSpPr>
        <p:spPr>
          <a:xfrm>
            <a:off x="7315200" y="1905120"/>
            <a:ext cx="113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stom Most Secure Server Policy</a:t>
            </a:r>
            <a:endParaRPr b="0" lang="en-US" sz="1800" spc="-1" strike="noStrike">
              <a:solidFill>
                <a:srgbClr val="ffffff"/>
              </a:solidFill>
              <a:latin typeface="Times New Roman"/>
            </a:endParaRPr>
          </a:p>
        </p:txBody>
      </p:sp>
      <p:sp>
        <p:nvSpPr>
          <p:cNvPr id="1443" name=""/>
          <p:cNvSpPr/>
          <p:nvPr/>
        </p:nvSpPr>
        <p:spPr>
          <a:xfrm>
            <a:off x="5800680" y="3693960"/>
            <a:ext cx="3094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Secure from me to any destination, all traffic. Don’t allow clear text in.  Trust domain members. ”</a:t>
            </a:r>
            <a:endParaRPr b="0" lang="en-US" sz="1800" spc="-1" strike="noStrike">
              <a:solidFill>
                <a:srgbClr val="ffffff"/>
              </a:solidFill>
              <a:latin typeface="Times New Roman"/>
            </a:endParaRPr>
          </a:p>
        </p:txBody>
      </p:sp>
      <p:sp>
        <p:nvSpPr>
          <p:cNvPr id="1444" name=""/>
          <p:cNvSpPr/>
          <p:nvPr/>
        </p:nvSpPr>
        <p:spPr>
          <a:xfrm>
            <a:off x="0" y="3718080"/>
            <a:ext cx="3170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General send in clear, must secure traffic to server IP, secure traffic if requested.  Trust domain members.”</a:t>
            </a:r>
            <a:endParaRPr b="0" lang="en-US" sz="1800" spc="-1" strike="noStrike">
              <a:solidFill>
                <a:srgbClr val="ffffff"/>
              </a:solidFill>
              <a:latin typeface="Times New Roman"/>
            </a:endParaRPr>
          </a:p>
        </p:txBody>
      </p:sp>
      <p:grpSp>
        <p:nvGrpSpPr>
          <p:cNvPr id="1445" name=""/>
          <p:cNvGrpSpPr/>
          <p:nvPr/>
        </p:nvGrpSpPr>
        <p:grpSpPr>
          <a:xfrm>
            <a:off x="2144880" y="1792800"/>
            <a:ext cx="3652560" cy="1156680"/>
            <a:chOff x="2144880" y="1792800"/>
            <a:chExt cx="3652560" cy="1156680"/>
          </a:xfrm>
        </p:grpSpPr>
        <p:sp>
          <p:nvSpPr>
            <p:cNvPr id="1446" name=""/>
            <p:cNvSpPr/>
            <p:nvPr/>
          </p:nvSpPr>
          <p:spPr>
            <a:xfrm>
              <a:off x="2144880" y="2587680"/>
              <a:ext cx="3652560" cy="361800"/>
            </a:xfrm>
            <a:custGeom>
              <a:avLst/>
              <a:gdLst/>
              <a:ahLst/>
              <a:rect l="l" t="t" r="r" b="b"/>
              <a:pathLst>
                <a:path w="2301" h="228">
                  <a:moveTo>
                    <a:pt x="2301" y="146"/>
                  </a:moveTo>
                  <a:cubicBezTo>
                    <a:pt x="1950" y="73"/>
                    <a:pt x="1599" y="0"/>
                    <a:pt x="1216" y="14"/>
                  </a:cubicBezTo>
                  <a:cubicBezTo>
                    <a:pt x="833" y="28"/>
                    <a:pt x="416" y="128"/>
                    <a:pt x="0" y="228"/>
                  </a:cubicBezTo>
                </a:path>
              </a:pathLst>
            </a:custGeom>
            <a:noFill/>
            <a:ln w="38160">
              <a:solidFill>
                <a:srgbClr val="ff7c80"/>
              </a:solidFill>
              <a:round/>
              <a:headEnd len="med" type="stealth" w="me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47" name=""/>
            <p:cNvSpPr/>
            <p:nvPr/>
          </p:nvSpPr>
          <p:spPr>
            <a:xfrm>
              <a:off x="2856240" y="1792800"/>
              <a:ext cx="2469600" cy="862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Arial"/>
                </a:rPr>
                <a:t>IKE SA negotiation</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Arial"/>
                </a:rPr>
                <a:t>UDP port 500</a:t>
              </a:r>
              <a:endParaRPr b="0" lang="en-US" sz="2000" spc="-1" strike="noStrike">
                <a:solidFill>
                  <a:srgbClr val="ffffff"/>
                </a:solidFill>
                <a:latin typeface="Times New Roman"/>
              </a:endParaRPr>
            </a:p>
          </p:txBody>
        </p:sp>
      </p:grpSp>
      <p:grpSp>
        <p:nvGrpSpPr>
          <p:cNvPr id="1448" name=""/>
          <p:cNvGrpSpPr/>
          <p:nvPr/>
        </p:nvGrpSpPr>
        <p:grpSpPr>
          <a:xfrm>
            <a:off x="1657440" y="2732040"/>
            <a:ext cx="1806480" cy="3237120"/>
            <a:chOff x="1657440" y="2732040"/>
            <a:chExt cx="1806480" cy="3237120"/>
          </a:xfrm>
        </p:grpSpPr>
        <p:sp>
          <p:nvSpPr>
            <p:cNvPr id="1449" name=""/>
            <p:cNvSpPr/>
            <p:nvPr/>
          </p:nvSpPr>
          <p:spPr>
            <a:xfrm>
              <a:off x="2994120" y="2732040"/>
              <a:ext cx="469800" cy="19836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cket</a:t>
              </a:r>
              <a:endParaRPr b="0" lang="en-US" sz="1400" spc="-1" strike="noStrike">
                <a:solidFill>
                  <a:srgbClr val="ffffff"/>
                </a:solidFill>
                <a:latin typeface="Times New Roman"/>
              </a:endParaRPr>
            </a:p>
          </p:txBody>
        </p:sp>
        <p:grpSp>
          <p:nvGrpSpPr>
            <p:cNvPr id="1450" name=""/>
            <p:cNvGrpSpPr/>
            <p:nvPr/>
          </p:nvGrpSpPr>
          <p:grpSpPr>
            <a:xfrm>
              <a:off x="1657440" y="4724280"/>
              <a:ext cx="1218960" cy="1244880"/>
              <a:chOff x="1657440" y="4724280"/>
              <a:chExt cx="1218960" cy="1244880"/>
            </a:xfrm>
          </p:grpSpPr>
          <p:sp>
            <p:nvSpPr>
              <p:cNvPr id="1451" name=""/>
              <p:cNvSpPr/>
              <p:nvPr/>
            </p:nvSpPr>
            <p:spPr>
              <a:xfrm>
                <a:off x="1884600" y="4724280"/>
                <a:ext cx="901800" cy="1244880"/>
              </a:xfrm>
              <a:custGeom>
                <a:avLst/>
                <a:gdLst/>
                <a:ahLst/>
                <a:rect l="l" t="t" r="r" b="b"/>
                <a:pathLst>
                  <a:path w="413" h="761">
                    <a:moveTo>
                      <a:pt x="413" y="732"/>
                    </a:moveTo>
                    <a:cubicBezTo>
                      <a:pt x="307" y="746"/>
                      <a:pt x="201" y="761"/>
                      <a:pt x="132" y="639"/>
                    </a:cubicBezTo>
                    <a:cubicBezTo>
                      <a:pt x="63" y="517"/>
                      <a:pt x="31" y="258"/>
                      <a:pt x="0" y="0"/>
                    </a:cubicBezTo>
                  </a:path>
                </a:pathLst>
              </a:custGeom>
              <a:noFill/>
              <a:ln w="25560">
                <a:solidFill>
                  <a:srgbClr val="eea564"/>
                </a:solidFill>
                <a:prstDash val="dash"/>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52" name=""/>
              <p:cNvSpPr/>
              <p:nvPr/>
            </p:nvSpPr>
            <p:spPr>
              <a:xfrm>
                <a:off x="1657440" y="5486400"/>
                <a:ext cx="1218960" cy="228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 Ticket</a:t>
                </a:r>
                <a:endParaRPr b="0" lang="en-US" sz="1400" spc="-1" strike="noStrike">
                  <a:solidFill>
                    <a:srgbClr val="ffffff"/>
                  </a:solidFill>
                  <a:latin typeface="Times New Roman"/>
                </a:endParaRPr>
              </a:p>
            </p:txBody>
          </p:sp>
        </p:grpSp>
      </p:grpSp>
      <p:grpSp>
        <p:nvGrpSpPr>
          <p:cNvPr id="1453" name=""/>
          <p:cNvGrpSpPr/>
          <p:nvPr/>
        </p:nvGrpSpPr>
        <p:grpSpPr>
          <a:xfrm>
            <a:off x="762120" y="4724280"/>
            <a:ext cx="7467120" cy="1600200"/>
            <a:chOff x="762120" y="4724280"/>
            <a:chExt cx="7467120" cy="1600200"/>
          </a:xfrm>
        </p:grpSpPr>
        <p:grpSp>
          <p:nvGrpSpPr>
            <p:cNvPr id="1454" name=""/>
            <p:cNvGrpSpPr/>
            <p:nvPr/>
          </p:nvGrpSpPr>
          <p:grpSpPr>
            <a:xfrm>
              <a:off x="762120" y="4876920"/>
              <a:ext cx="1904040" cy="1294920"/>
              <a:chOff x="762120" y="4876920"/>
              <a:chExt cx="1904040" cy="1294920"/>
            </a:xfrm>
          </p:grpSpPr>
          <p:sp>
            <p:nvSpPr>
              <p:cNvPr id="1455" name=""/>
              <p:cNvSpPr/>
              <p:nvPr/>
            </p:nvSpPr>
            <p:spPr>
              <a:xfrm>
                <a:off x="1259280" y="4876920"/>
                <a:ext cx="1406880" cy="1294920"/>
              </a:xfrm>
              <a:custGeom>
                <a:avLst/>
                <a:gdLst/>
                <a:ahLst/>
                <a:rect l="l" t="t" r="r" b="b"/>
                <a:pathLst>
                  <a:path w="413" h="761">
                    <a:moveTo>
                      <a:pt x="413" y="732"/>
                    </a:moveTo>
                    <a:cubicBezTo>
                      <a:pt x="307" y="746"/>
                      <a:pt x="201" y="761"/>
                      <a:pt x="132" y="639"/>
                    </a:cubicBezTo>
                    <a:cubicBezTo>
                      <a:pt x="63" y="517"/>
                      <a:pt x="31" y="258"/>
                      <a:pt x="0" y="0"/>
                    </a:cubicBezTo>
                  </a:path>
                </a:pathLst>
              </a:custGeom>
              <a:noFill/>
              <a:ln w="25560">
                <a:solidFill>
                  <a:srgbClr val="eea564"/>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56" name=""/>
              <p:cNvSpPr/>
              <p:nvPr/>
            </p:nvSpPr>
            <p:spPr>
              <a:xfrm>
                <a:off x="762120" y="5278680"/>
                <a:ext cx="1008360" cy="2124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GT</a:t>
                </a:r>
                <a:endParaRPr b="0" lang="en-US" sz="1400" spc="-1" strike="noStrike">
                  <a:solidFill>
                    <a:srgbClr val="ffffff"/>
                  </a:solidFill>
                  <a:latin typeface="Times New Roman"/>
                </a:endParaRPr>
              </a:p>
            </p:txBody>
          </p:sp>
        </p:grpSp>
        <p:grpSp>
          <p:nvGrpSpPr>
            <p:cNvPr id="1457" name=""/>
            <p:cNvGrpSpPr/>
            <p:nvPr/>
          </p:nvGrpSpPr>
          <p:grpSpPr>
            <a:xfrm>
              <a:off x="6476760" y="4724280"/>
              <a:ext cx="1752480" cy="1600200"/>
              <a:chOff x="6476760" y="4724280"/>
              <a:chExt cx="1752480" cy="1600200"/>
            </a:xfrm>
          </p:grpSpPr>
          <p:sp>
            <p:nvSpPr>
              <p:cNvPr id="1458" name=""/>
              <p:cNvSpPr/>
              <p:nvPr/>
            </p:nvSpPr>
            <p:spPr>
              <a:xfrm flipH="1">
                <a:off x="6476400" y="4724280"/>
                <a:ext cx="1407960" cy="1600200"/>
              </a:xfrm>
              <a:custGeom>
                <a:avLst/>
                <a:gdLst/>
                <a:ahLst/>
                <a:rect l="l" t="t" r="r" b="b"/>
                <a:pathLst>
                  <a:path w="413" h="761">
                    <a:moveTo>
                      <a:pt x="413" y="732"/>
                    </a:moveTo>
                    <a:cubicBezTo>
                      <a:pt x="307" y="746"/>
                      <a:pt x="201" y="761"/>
                      <a:pt x="132" y="639"/>
                    </a:cubicBezTo>
                    <a:cubicBezTo>
                      <a:pt x="63" y="517"/>
                      <a:pt x="31" y="258"/>
                      <a:pt x="0" y="0"/>
                    </a:cubicBezTo>
                  </a:path>
                </a:pathLst>
              </a:custGeom>
              <a:noFill/>
              <a:ln w="25560">
                <a:solidFill>
                  <a:srgbClr val="eea564"/>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59" name=""/>
              <p:cNvSpPr/>
              <p:nvPr/>
            </p:nvSpPr>
            <p:spPr>
              <a:xfrm flipH="1">
                <a:off x="7466760" y="5181480"/>
                <a:ext cx="762120" cy="2257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GT</a:t>
                </a:r>
                <a:endParaRPr b="0" lang="en-US" sz="1400" spc="-1" strike="noStrike">
                  <a:solidFill>
                    <a:srgbClr val="ffffff"/>
                  </a:solidFill>
                  <a:latin typeface="Times New Roman"/>
                </a:endParaRPr>
              </a:p>
            </p:txBody>
          </p:sp>
        </p:grpSp>
      </p:grpSp>
      <p:grpSp>
        <p:nvGrpSpPr>
          <p:cNvPr id="1460" name=""/>
          <p:cNvGrpSpPr/>
          <p:nvPr/>
        </p:nvGrpSpPr>
        <p:grpSpPr>
          <a:xfrm>
            <a:off x="2284560" y="3627360"/>
            <a:ext cx="3701880" cy="507600"/>
            <a:chOff x="2284560" y="3627360"/>
            <a:chExt cx="3701880" cy="507600"/>
          </a:xfrm>
        </p:grpSpPr>
        <p:sp>
          <p:nvSpPr>
            <p:cNvPr id="1461" name=""/>
            <p:cNvSpPr/>
            <p:nvPr/>
          </p:nvSpPr>
          <p:spPr>
            <a:xfrm>
              <a:off x="2284560" y="3627360"/>
              <a:ext cx="3692520" cy="12600"/>
            </a:xfrm>
            <a:custGeom>
              <a:avLst/>
              <a:gdLst/>
              <a:ahLst/>
              <a:rect l="l" t="t" r="r" b="b"/>
              <a:pathLst>
                <a:path w="2326" h="8">
                  <a:moveTo>
                    <a:pt x="2326" y="0"/>
                  </a:moveTo>
                  <a:cubicBezTo>
                    <a:pt x="2326" y="0"/>
                    <a:pt x="1163" y="4"/>
                    <a:pt x="0" y="8"/>
                  </a:cubicBezTo>
                </a:path>
              </a:pathLst>
            </a:custGeom>
            <a:noFill/>
            <a:ln w="38160">
              <a:solidFill>
                <a:srgbClr val="ff7c80"/>
              </a:solidFill>
              <a:round/>
              <a:tailEnd len="med" type="stealth" w="med"/>
            </a:ln>
          </p:spPr>
          <p:style>
            <a:lnRef idx="0"/>
            <a:fillRef idx="0"/>
            <a:effectRef idx="0"/>
            <a:fontRef idx="minor"/>
          </p:style>
          <p:txBody>
            <a:bodyPr wrap="none" tIns="-33120" bIns="-33120" anchor="ctr">
              <a:noAutofit/>
            </a:bodyPr>
            <a:p>
              <a:endParaRPr b="0" lang="en-US" sz="2400" spc="-1" strike="noStrike">
                <a:solidFill>
                  <a:srgbClr val="ffffff"/>
                </a:solidFill>
                <a:latin typeface="Times New Roman"/>
              </a:endParaRPr>
            </a:p>
          </p:txBody>
        </p:sp>
        <p:sp>
          <p:nvSpPr>
            <p:cNvPr id="1462" name=""/>
            <p:cNvSpPr/>
            <p:nvPr/>
          </p:nvSpPr>
          <p:spPr>
            <a:xfrm>
              <a:off x="2750040" y="3736080"/>
              <a:ext cx="2936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Arial"/>
                </a:rPr>
                <a:t>IPSec SAs Established</a:t>
              </a:r>
              <a:endParaRPr b="0" lang="en-US" sz="2000" spc="-1" strike="noStrike">
                <a:solidFill>
                  <a:srgbClr val="ffffff"/>
                </a:solidFill>
                <a:latin typeface="Times New Roman"/>
              </a:endParaRPr>
            </a:p>
          </p:txBody>
        </p:sp>
        <p:sp>
          <p:nvSpPr>
            <p:cNvPr id="1463" name=""/>
            <p:cNvSpPr/>
            <p:nvPr/>
          </p:nvSpPr>
          <p:spPr>
            <a:xfrm>
              <a:off x="2293920" y="3753000"/>
              <a:ext cx="3692520" cy="12600"/>
            </a:xfrm>
            <a:custGeom>
              <a:avLst/>
              <a:gdLst/>
              <a:ahLst/>
              <a:rect l="l" t="t" r="r" b="b"/>
              <a:pathLst>
                <a:path w="2326" h="8">
                  <a:moveTo>
                    <a:pt x="2326" y="0"/>
                  </a:moveTo>
                  <a:cubicBezTo>
                    <a:pt x="2326" y="0"/>
                    <a:pt x="1163" y="4"/>
                    <a:pt x="0" y="8"/>
                  </a:cubicBezTo>
                </a:path>
              </a:pathLst>
            </a:custGeom>
            <a:noFill/>
            <a:ln w="38160">
              <a:solidFill>
                <a:srgbClr val="ff7c80"/>
              </a:solidFill>
              <a:round/>
              <a:headEnd len="med" type="stealth" w="med"/>
            </a:ln>
          </p:spPr>
          <p:style>
            <a:lnRef idx="0"/>
            <a:fillRef idx="0"/>
            <a:effectRef idx="0"/>
            <a:fontRef idx="minor"/>
          </p:style>
          <p:txBody>
            <a:bodyPr wrap="none" tIns="-33120" bIns="-33120" anchor="ctr">
              <a:noAutofit/>
            </a:bodyPr>
            <a:p>
              <a:endParaRPr b="0" lang="en-US" sz="2400" spc="-1" strike="noStrike">
                <a:solidFill>
                  <a:srgbClr val="ffffff"/>
                </a:solidFill>
                <a:latin typeface="Times New Roman"/>
              </a:endParaRPr>
            </a:p>
          </p:txBody>
        </p:sp>
      </p:gr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284040" y="284040"/>
            <a:ext cx="8431200" cy="11908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IPSec using Windows 2000 Domain Trust – “Secure Server”</a:t>
            </a:r>
            <a:endParaRPr b="1" lang="en-US" sz="4000" spc="-1" strike="noStrike">
              <a:solidFill>
                <a:srgbClr val="fccf00"/>
              </a:solidFill>
              <a:latin typeface="Arial"/>
            </a:endParaRPr>
          </a:p>
        </p:txBody>
      </p:sp>
      <p:graphicFrame>
        <p:nvGraphicFramePr>
          <p:cNvPr id="1465" name=""/>
          <p:cNvGraphicFramePr/>
          <p:nvPr/>
        </p:nvGraphicFramePr>
        <p:xfrm>
          <a:off x="6076800" y="2203560"/>
          <a:ext cx="1114560" cy="1504800"/>
        </p:xfrm>
        <a:graphic>
          <a:graphicData uri="http://schemas.openxmlformats.org/presentationml/2006/ole">
            <p:oleObj r:id="rId2" spid="">
              <p:embed/>
              <p:pic>
                <p:nvPicPr>
                  <p:cNvPr id="1466" name="" descr=""/>
                  <p:cNvPicPr/>
                  <p:nvPr/>
                </p:nvPicPr>
                <p:blipFill>
                  <a:blip r:embed="rId3"/>
                  <a:stretch/>
                </p:blipFill>
                <p:spPr>
                  <a:xfrm>
                    <a:off x="6076800" y="2203560"/>
                    <a:ext cx="1114560" cy="1504800"/>
                  </a:xfrm>
                  <a:prstGeom prst="rect">
                    <a:avLst/>
                  </a:prstGeom>
                  <a:ln w="0">
                    <a:noFill/>
                  </a:ln>
                </p:spPr>
              </p:pic>
            </p:oleObj>
          </a:graphicData>
        </a:graphic>
      </p:graphicFrame>
      <p:pic>
        <p:nvPicPr>
          <p:cNvPr id="1467" name="" descr=""/>
          <p:cNvPicPr/>
          <p:nvPr/>
        </p:nvPicPr>
        <p:blipFill>
          <a:blip r:embed="rId4"/>
          <a:stretch/>
        </p:blipFill>
        <p:spPr>
          <a:xfrm>
            <a:off x="1117440" y="2673360"/>
            <a:ext cx="1054440" cy="1011240"/>
          </a:xfrm>
          <a:prstGeom prst="rect">
            <a:avLst/>
          </a:prstGeom>
          <a:ln w="0">
            <a:noFill/>
          </a:ln>
        </p:spPr>
      </p:pic>
      <p:graphicFrame>
        <p:nvGraphicFramePr>
          <p:cNvPr id="1468" name=""/>
          <p:cNvGraphicFramePr/>
          <p:nvPr/>
        </p:nvGraphicFramePr>
        <p:xfrm>
          <a:off x="2836800" y="5275440"/>
          <a:ext cx="944640" cy="1110960"/>
        </p:xfrm>
        <a:graphic>
          <a:graphicData uri="http://schemas.openxmlformats.org/presentationml/2006/ole">
            <p:oleObj r:id="rId5" spid="">
              <p:embed/>
              <p:pic>
                <p:nvPicPr>
                  <p:cNvPr id="1469" name="" descr=""/>
                  <p:cNvPicPr/>
                  <p:nvPr/>
                </p:nvPicPr>
                <p:blipFill>
                  <a:blip r:embed="rId6"/>
                  <a:stretch/>
                </p:blipFill>
                <p:spPr>
                  <a:xfrm>
                    <a:off x="2836800" y="5275440"/>
                    <a:ext cx="944640" cy="1110960"/>
                  </a:xfrm>
                  <a:prstGeom prst="rect">
                    <a:avLst/>
                  </a:prstGeom>
                  <a:ln w="0">
                    <a:noFill/>
                  </a:ln>
                </p:spPr>
              </p:pic>
            </p:oleObj>
          </a:graphicData>
        </a:graphic>
      </p:graphicFrame>
      <p:grpSp>
        <p:nvGrpSpPr>
          <p:cNvPr id="1470" name=""/>
          <p:cNvGrpSpPr/>
          <p:nvPr/>
        </p:nvGrpSpPr>
        <p:grpSpPr>
          <a:xfrm>
            <a:off x="3882960" y="5099040"/>
            <a:ext cx="2640240" cy="1451520"/>
            <a:chOff x="3882960" y="5099040"/>
            <a:chExt cx="2640240" cy="1451520"/>
          </a:xfrm>
        </p:grpSpPr>
        <p:grpSp>
          <p:nvGrpSpPr>
            <p:cNvPr id="1471" name=""/>
            <p:cNvGrpSpPr/>
            <p:nvPr/>
          </p:nvGrpSpPr>
          <p:grpSpPr>
            <a:xfrm>
              <a:off x="5265720" y="5437080"/>
              <a:ext cx="895320" cy="835200"/>
              <a:chOff x="5265720" y="5437080"/>
              <a:chExt cx="895320" cy="835200"/>
            </a:xfrm>
          </p:grpSpPr>
          <p:sp>
            <p:nvSpPr>
              <p:cNvPr id="1472" name=""/>
              <p:cNvSpPr/>
              <p:nvPr/>
            </p:nvSpPr>
            <p:spPr>
              <a:xfrm>
                <a:off x="5265720" y="5437080"/>
                <a:ext cx="895320" cy="835200"/>
              </a:xfrm>
              <a:prstGeom prst="triangle">
                <a:avLst>
                  <a:gd name="adj" fmla="val 49986"/>
                </a:avLst>
              </a:prstGeom>
              <a:gradFill rotWithShape="0">
                <a:gsLst>
                  <a:gs pos="0">
                    <a:srgbClr val="7e3d3f"/>
                  </a:gs>
                  <a:gs pos="100000">
                    <a:srgbClr val="ff7c80"/>
                  </a:gs>
                </a:gsLst>
                <a:lin ang="5400000"/>
              </a:gra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5717160" y="5695200"/>
                <a:ext cx="0" cy="61200"/>
              </a:xfrm>
              <a:prstGeom prst="line">
                <a:avLst/>
              </a:prstGeom>
              <a:ln w="12600">
                <a:solidFill>
                  <a:srgbClr val="3333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Times New Roman"/>
                </a:endParaRPr>
              </a:p>
            </p:txBody>
          </p:sp>
          <p:sp>
            <p:nvSpPr>
              <p:cNvPr id="1474" name=""/>
              <p:cNvSpPr/>
              <p:nvPr/>
            </p:nvSpPr>
            <p:spPr>
              <a:xfrm>
                <a:off x="5676840" y="5621040"/>
                <a:ext cx="7848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75" name=""/>
              <p:cNvSpPr/>
              <p:nvPr/>
            </p:nvSpPr>
            <p:spPr>
              <a:xfrm flipH="1">
                <a:off x="5634000" y="5805000"/>
                <a:ext cx="82440" cy="1447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5725080" y="5813640"/>
                <a:ext cx="123480" cy="1494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5678640" y="5756040"/>
                <a:ext cx="77760" cy="6876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78" name=""/>
              <p:cNvSpPr/>
              <p:nvPr/>
            </p:nvSpPr>
            <p:spPr>
              <a:xfrm flipH="1">
                <a:off x="5482800" y="5986080"/>
                <a:ext cx="138600" cy="1713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5634360" y="5980680"/>
                <a:ext cx="147960" cy="180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5634360" y="5977080"/>
                <a:ext cx="0" cy="1839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5852160" y="5968440"/>
                <a:ext cx="84240" cy="1861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5444640" y="6123240"/>
                <a:ext cx="7848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83" name=""/>
              <p:cNvSpPr/>
              <p:nvPr/>
            </p:nvSpPr>
            <p:spPr>
              <a:xfrm>
                <a:off x="5812560" y="5938560"/>
                <a:ext cx="7848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84" name=""/>
              <p:cNvSpPr/>
              <p:nvPr/>
            </p:nvSpPr>
            <p:spPr>
              <a:xfrm>
                <a:off x="5591880" y="5938560"/>
                <a:ext cx="7776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85" name=""/>
              <p:cNvSpPr/>
              <p:nvPr/>
            </p:nvSpPr>
            <p:spPr>
              <a:xfrm>
                <a:off x="5892840" y="6123240"/>
                <a:ext cx="7848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86" name=""/>
              <p:cNvSpPr/>
              <p:nvPr/>
            </p:nvSpPr>
            <p:spPr>
              <a:xfrm>
                <a:off x="5742360" y="6123240"/>
                <a:ext cx="7776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487" name=""/>
              <p:cNvSpPr/>
              <p:nvPr/>
            </p:nvSpPr>
            <p:spPr>
              <a:xfrm>
                <a:off x="5595120" y="6123240"/>
                <a:ext cx="78480" cy="68040"/>
              </a:xfrm>
              <a:prstGeom prst="ellipse">
                <a:avLst/>
              </a:prstGeom>
              <a:gradFill rotWithShape="0">
                <a:gsLst>
                  <a:gs pos="0">
                    <a:srgbClr val="005e46"/>
                  </a:gs>
                  <a:gs pos="100000">
                    <a:srgbClr val="00cc99"/>
                  </a:gs>
                </a:gsLst>
                <a:lin ang="5400000"/>
              </a:gradFill>
              <a:ln w="12600">
                <a:solidFill>
                  <a:srgbClr val="3333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sp>
          <p:nvSpPr>
            <p:cNvPr id="1488" name=""/>
            <p:cNvSpPr/>
            <p:nvPr/>
          </p:nvSpPr>
          <p:spPr>
            <a:xfrm>
              <a:off x="5187960" y="5122800"/>
              <a:ext cx="1101600" cy="4755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e Directory</a:t>
              </a:r>
              <a:endParaRPr b="0" lang="en-US" sz="1400" spc="-1" strike="noStrike">
                <a:solidFill>
                  <a:srgbClr val="ffffff"/>
                </a:solidFill>
                <a:latin typeface="Times New Roman"/>
              </a:endParaRPr>
            </a:p>
          </p:txBody>
        </p:sp>
        <p:sp>
          <p:nvSpPr>
            <p:cNvPr id="1489" name=""/>
            <p:cNvSpPr/>
            <p:nvPr/>
          </p:nvSpPr>
          <p:spPr>
            <a:xfrm>
              <a:off x="3917880" y="5437080"/>
              <a:ext cx="1352520" cy="733680"/>
            </a:xfrm>
            <a:prstGeom prst="ellipse">
              <a:avLst/>
            </a:prstGeom>
            <a:gradFill rotWithShape="0">
              <a:gsLst>
                <a:gs pos="0">
                  <a:srgbClr val="755131"/>
                </a:gs>
                <a:gs pos="100000">
                  <a:srgbClr val="eea564"/>
                </a:gs>
              </a:gsLst>
              <a:lin ang="5400000"/>
            </a:gradFill>
            <a:ln w="12600">
              <a:solidFill>
                <a:srgbClr val="333300"/>
              </a:solidFill>
              <a:miter/>
            </a:ln>
          </p:spPr>
          <p:style>
            <a:lnRef idx="0"/>
            <a:fillRef idx="0"/>
            <a:effectRef idx="0"/>
            <a:fontRef idx="minor"/>
          </p:style>
          <p:txBody>
            <a:bodyPr wrap="none" lIns="92160" rIns="92160" tIns="46080" bIns="4608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y Distribution</a:t>
              </a:r>
              <a:br>
                <a:rPr sz="1200"/>
              </a:br>
              <a:r>
                <a:rPr b="1" lang="en-US" sz="1200" spc="-1" strike="noStrike">
                  <a:solidFill>
                    <a:srgbClr val="ffffff"/>
                  </a:solidFill>
                  <a:latin typeface="Arial"/>
                </a:rPr>
                <a:t>Center (KDC)</a:t>
              </a:r>
              <a:endParaRPr b="0" lang="en-US" sz="1200" spc="-1" strike="noStrike">
                <a:solidFill>
                  <a:srgbClr val="ffffff"/>
                </a:solidFill>
                <a:latin typeface="Times New Roman"/>
              </a:endParaRPr>
            </a:p>
          </p:txBody>
        </p:sp>
        <p:sp>
          <p:nvSpPr>
            <p:cNvPr id="1490" name=""/>
            <p:cNvSpPr/>
            <p:nvPr/>
          </p:nvSpPr>
          <p:spPr>
            <a:xfrm>
              <a:off x="3882960" y="5099040"/>
              <a:ext cx="2455920" cy="1397160"/>
            </a:xfrm>
            <a:prstGeom prst="rect">
              <a:avLst/>
            </a:prstGeom>
            <a:noFill/>
            <a:ln w="1908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3953160" y="6275520"/>
              <a:ext cx="2570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2000 domain controller</a:t>
              </a:r>
              <a:endParaRPr b="0" lang="en-US" sz="1200" spc="-1" strike="noStrike">
                <a:solidFill>
                  <a:srgbClr val="ffffff"/>
                </a:solidFill>
                <a:latin typeface="Times New Roman"/>
              </a:endParaRPr>
            </a:p>
          </p:txBody>
        </p:sp>
      </p:grpSp>
      <p:sp>
        <p:nvSpPr>
          <p:cNvPr id="1492" name=""/>
          <p:cNvSpPr/>
          <p:nvPr/>
        </p:nvSpPr>
        <p:spPr>
          <a:xfrm>
            <a:off x="5580000" y="1814400"/>
            <a:ext cx="1596960" cy="665280"/>
          </a:xfrm>
          <a:prstGeom prst="ellipse">
            <a:avLst/>
          </a:prstGeom>
          <a:solidFill>
            <a:srgbClr val="5686d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1493" name=""/>
          <p:cNvSpPr/>
          <p:nvPr/>
        </p:nvSpPr>
        <p:spPr>
          <a:xfrm>
            <a:off x="5800680" y="2803680"/>
            <a:ext cx="855720" cy="529920"/>
          </a:xfrm>
          <a:prstGeom prst="ellipse">
            <a:avLst/>
          </a:prstGeom>
          <a:gradFill rotWithShape="0">
            <a:gsLst>
              <a:gs pos="0">
                <a:srgbClr val="ff7c80"/>
              </a:gs>
              <a:gs pos="100000">
                <a:srgbClr val="75393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PSec</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river</a:t>
            </a:r>
            <a:endParaRPr b="0" lang="en-US" sz="1400" spc="-1" strike="noStrike">
              <a:solidFill>
                <a:srgbClr val="ffffff"/>
              </a:solidFill>
              <a:latin typeface="Times New Roman"/>
            </a:endParaRPr>
          </a:p>
        </p:txBody>
      </p:sp>
      <p:grpSp>
        <p:nvGrpSpPr>
          <p:cNvPr id="1494" name=""/>
          <p:cNvGrpSpPr/>
          <p:nvPr/>
        </p:nvGrpSpPr>
        <p:grpSpPr>
          <a:xfrm>
            <a:off x="6019200" y="3257640"/>
            <a:ext cx="667080" cy="315360"/>
            <a:chOff x="6019200" y="3257640"/>
            <a:chExt cx="667080" cy="315360"/>
          </a:xfrm>
        </p:grpSpPr>
        <p:sp>
          <p:nvSpPr>
            <p:cNvPr id="1495" name=""/>
            <p:cNvSpPr/>
            <p:nvPr/>
          </p:nvSpPr>
          <p:spPr>
            <a:xfrm>
              <a:off x="6080400" y="3257640"/>
              <a:ext cx="605880" cy="276120"/>
            </a:xfrm>
            <a:prstGeom prst="flowChartMultidocument">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019200" y="3265920"/>
              <a:ext cx="599760" cy="307080"/>
            </a:xfrm>
            <a:prstGeom prst="rect">
              <a:avLst/>
            </a:prstGeom>
            <a:solidFill>
              <a:srgbClr val="ff7c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s</a:t>
              </a:r>
              <a:endParaRPr b="0" lang="en-US" sz="1400" spc="-1" strike="noStrike">
                <a:solidFill>
                  <a:srgbClr val="ffffff"/>
                </a:solidFill>
                <a:latin typeface="Times New Roman"/>
              </a:endParaRPr>
            </a:p>
          </p:txBody>
        </p:sp>
      </p:grpSp>
      <p:sp>
        <p:nvSpPr>
          <p:cNvPr id="1497" name=""/>
          <p:cNvSpPr/>
          <p:nvPr/>
        </p:nvSpPr>
        <p:spPr>
          <a:xfrm>
            <a:off x="2165400" y="2376360"/>
            <a:ext cx="4268880" cy="1160640"/>
          </a:xfrm>
          <a:custGeom>
            <a:avLst/>
            <a:gdLst/>
            <a:ahLst/>
            <a:rect l="l" t="t" r="r" b="b"/>
            <a:pathLst>
              <a:path w="2689" h="733">
                <a:moveTo>
                  <a:pt x="0" y="513"/>
                </a:moveTo>
                <a:cubicBezTo>
                  <a:pt x="125" y="520"/>
                  <a:pt x="366" y="532"/>
                  <a:pt x="762" y="553"/>
                </a:cubicBezTo>
                <a:cubicBezTo>
                  <a:pt x="1158" y="574"/>
                  <a:pt x="2066" y="733"/>
                  <a:pt x="2378" y="641"/>
                </a:cubicBezTo>
                <a:cubicBezTo>
                  <a:pt x="2689" y="549"/>
                  <a:pt x="2658" y="274"/>
                  <a:pt x="2628" y="0"/>
                </a:cubicBezTo>
              </a:path>
            </a:pathLst>
          </a:custGeom>
          <a:noFill/>
          <a:ln w="3816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444600" y="1900080"/>
            <a:ext cx="1917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 (Respond Only) Policy</a:t>
            </a:r>
            <a:endParaRPr b="0" lang="en-US" sz="1800" spc="-1" strike="noStrike">
              <a:solidFill>
                <a:srgbClr val="ffffff"/>
              </a:solidFill>
              <a:latin typeface="Times New Roman"/>
            </a:endParaRPr>
          </a:p>
        </p:txBody>
      </p:sp>
      <p:sp>
        <p:nvSpPr>
          <p:cNvPr id="1499" name=""/>
          <p:cNvSpPr/>
          <p:nvPr/>
        </p:nvSpPr>
        <p:spPr>
          <a:xfrm>
            <a:off x="7315200" y="1905120"/>
            <a:ext cx="113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e Server Policy</a:t>
            </a:r>
            <a:endParaRPr b="0" lang="en-US" sz="1800" spc="-1" strike="noStrike">
              <a:solidFill>
                <a:srgbClr val="ffffff"/>
              </a:solidFill>
              <a:latin typeface="Times New Roman"/>
            </a:endParaRPr>
          </a:p>
        </p:txBody>
      </p:sp>
      <p:sp>
        <p:nvSpPr>
          <p:cNvPr id="1500" name=""/>
          <p:cNvSpPr/>
          <p:nvPr/>
        </p:nvSpPr>
        <p:spPr>
          <a:xfrm>
            <a:off x="5800680" y="3693960"/>
            <a:ext cx="3094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Secure from me to any destination, all unicast traffic.  Accept unsecured.  Trust domain members. ”</a:t>
            </a:r>
            <a:endParaRPr b="0" lang="en-US" sz="1800" spc="-1" strike="noStrike">
              <a:solidFill>
                <a:srgbClr val="ffffff"/>
              </a:solidFill>
              <a:latin typeface="Times New Roman"/>
            </a:endParaRPr>
          </a:p>
        </p:txBody>
      </p:sp>
      <p:sp>
        <p:nvSpPr>
          <p:cNvPr id="1501" name=""/>
          <p:cNvSpPr/>
          <p:nvPr/>
        </p:nvSpPr>
        <p:spPr>
          <a:xfrm>
            <a:off x="316080" y="3718080"/>
            <a:ext cx="258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Send in clear, secure traffic only if requested.  Trust domain members.”</a:t>
            </a:r>
            <a:endParaRPr b="0" lang="en-US" sz="1800" spc="-1" strike="noStrike">
              <a:solidFill>
                <a:srgbClr val="ffffff"/>
              </a:solidFill>
              <a:latin typeface="Times New Roman"/>
            </a:endParaRPr>
          </a:p>
        </p:txBody>
      </p:sp>
      <p:sp>
        <p:nvSpPr>
          <p:cNvPr id="1502" name=""/>
          <p:cNvSpPr/>
          <p:nvPr/>
        </p:nvSpPr>
        <p:spPr>
          <a:xfrm>
            <a:off x="6093000" y="2076480"/>
            <a:ext cx="247320" cy="1146240"/>
          </a:xfrm>
          <a:custGeom>
            <a:avLst/>
            <a:gdLst/>
            <a:ahLst/>
            <a:rect l="l" t="t" r="r" b="b"/>
            <a:pathLst>
              <a:path w="156" h="722">
                <a:moveTo>
                  <a:pt x="156" y="138"/>
                </a:moveTo>
                <a:cubicBezTo>
                  <a:pt x="132" y="69"/>
                  <a:pt x="108" y="0"/>
                  <a:pt x="82" y="97"/>
                </a:cubicBezTo>
                <a:cubicBezTo>
                  <a:pt x="56" y="194"/>
                  <a:pt x="28" y="458"/>
                  <a:pt x="0" y="722"/>
                </a:cubicBezTo>
              </a:path>
            </a:pathLst>
          </a:custGeom>
          <a:noFill/>
          <a:ln w="38160">
            <a:solidFill>
              <a:srgbClr val="ffffff"/>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503" name=""/>
          <p:cNvGrpSpPr/>
          <p:nvPr/>
        </p:nvGrpSpPr>
        <p:grpSpPr>
          <a:xfrm>
            <a:off x="762120" y="4724280"/>
            <a:ext cx="7467120" cy="1600200"/>
            <a:chOff x="762120" y="4724280"/>
            <a:chExt cx="7467120" cy="1600200"/>
          </a:xfrm>
        </p:grpSpPr>
        <p:grpSp>
          <p:nvGrpSpPr>
            <p:cNvPr id="1504" name=""/>
            <p:cNvGrpSpPr/>
            <p:nvPr/>
          </p:nvGrpSpPr>
          <p:grpSpPr>
            <a:xfrm>
              <a:off x="762120" y="4876920"/>
              <a:ext cx="1904040" cy="1294920"/>
              <a:chOff x="762120" y="4876920"/>
              <a:chExt cx="1904040" cy="1294920"/>
            </a:xfrm>
          </p:grpSpPr>
          <p:sp>
            <p:nvSpPr>
              <p:cNvPr id="1505" name=""/>
              <p:cNvSpPr/>
              <p:nvPr/>
            </p:nvSpPr>
            <p:spPr>
              <a:xfrm>
                <a:off x="1259280" y="4876920"/>
                <a:ext cx="1406880" cy="1294920"/>
              </a:xfrm>
              <a:custGeom>
                <a:avLst/>
                <a:gdLst/>
                <a:ahLst/>
                <a:rect l="l" t="t" r="r" b="b"/>
                <a:pathLst>
                  <a:path w="413" h="761">
                    <a:moveTo>
                      <a:pt x="413" y="732"/>
                    </a:moveTo>
                    <a:cubicBezTo>
                      <a:pt x="307" y="746"/>
                      <a:pt x="201" y="761"/>
                      <a:pt x="132" y="639"/>
                    </a:cubicBezTo>
                    <a:cubicBezTo>
                      <a:pt x="63" y="517"/>
                      <a:pt x="31" y="258"/>
                      <a:pt x="0" y="0"/>
                    </a:cubicBezTo>
                  </a:path>
                </a:pathLst>
              </a:custGeom>
              <a:noFill/>
              <a:ln w="25560">
                <a:solidFill>
                  <a:srgbClr val="eea564"/>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506" name=""/>
              <p:cNvSpPr/>
              <p:nvPr/>
            </p:nvSpPr>
            <p:spPr>
              <a:xfrm>
                <a:off x="762120" y="5278680"/>
                <a:ext cx="1008360" cy="2124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GT</a:t>
                </a:r>
                <a:endParaRPr b="0" lang="en-US" sz="1400" spc="-1" strike="noStrike">
                  <a:solidFill>
                    <a:srgbClr val="ffffff"/>
                  </a:solidFill>
                  <a:latin typeface="Times New Roman"/>
                </a:endParaRPr>
              </a:p>
            </p:txBody>
          </p:sp>
        </p:grpSp>
        <p:grpSp>
          <p:nvGrpSpPr>
            <p:cNvPr id="1507" name=""/>
            <p:cNvGrpSpPr/>
            <p:nvPr/>
          </p:nvGrpSpPr>
          <p:grpSpPr>
            <a:xfrm>
              <a:off x="6476760" y="4724280"/>
              <a:ext cx="1752480" cy="1600200"/>
              <a:chOff x="6476760" y="4724280"/>
              <a:chExt cx="1752480" cy="1600200"/>
            </a:xfrm>
          </p:grpSpPr>
          <p:sp>
            <p:nvSpPr>
              <p:cNvPr id="1508" name=""/>
              <p:cNvSpPr/>
              <p:nvPr/>
            </p:nvSpPr>
            <p:spPr>
              <a:xfrm flipH="1">
                <a:off x="6476400" y="4724280"/>
                <a:ext cx="1407960" cy="1600200"/>
              </a:xfrm>
              <a:custGeom>
                <a:avLst/>
                <a:gdLst/>
                <a:ahLst/>
                <a:rect l="l" t="t" r="r" b="b"/>
                <a:pathLst>
                  <a:path w="413" h="761">
                    <a:moveTo>
                      <a:pt x="413" y="732"/>
                    </a:moveTo>
                    <a:cubicBezTo>
                      <a:pt x="307" y="746"/>
                      <a:pt x="201" y="761"/>
                      <a:pt x="132" y="639"/>
                    </a:cubicBezTo>
                    <a:cubicBezTo>
                      <a:pt x="63" y="517"/>
                      <a:pt x="31" y="258"/>
                      <a:pt x="0" y="0"/>
                    </a:cubicBezTo>
                  </a:path>
                </a:pathLst>
              </a:custGeom>
              <a:noFill/>
              <a:ln w="25560">
                <a:solidFill>
                  <a:srgbClr val="eea564"/>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509" name=""/>
              <p:cNvSpPr/>
              <p:nvPr/>
            </p:nvSpPr>
            <p:spPr>
              <a:xfrm flipH="1">
                <a:off x="7466760" y="5181480"/>
                <a:ext cx="762120" cy="2257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GT</a:t>
                </a:r>
                <a:endParaRPr b="0" lang="en-US" sz="1400" spc="-1" strike="noStrike">
                  <a:solidFill>
                    <a:srgbClr val="ffffff"/>
                  </a:solidFill>
                  <a:latin typeface="Times New Roman"/>
                </a:endParaRPr>
              </a:p>
            </p:txBody>
          </p:sp>
        </p:grpSp>
      </p:grpSp>
      <p:grpSp>
        <p:nvGrpSpPr>
          <p:cNvPr id="1510" name=""/>
          <p:cNvGrpSpPr/>
          <p:nvPr/>
        </p:nvGrpSpPr>
        <p:grpSpPr>
          <a:xfrm>
            <a:off x="2092320" y="1883520"/>
            <a:ext cx="3652920" cy="1156680"/>
            <a:chOff x="2092320" y="1883520"/>
            <a:chExt cx="3652920" cy="1156680"/>
          </a:xfrm>
        </p:grpSpPr>
        <p:sp>
          <p:nvSpPr>
            <p:cNvPr id="1511" name=""/>
            <p:cNvSpPr/>
            <p:nvPr/>
          </p:nvSpPr>
          <p:spPr>
            <a:xfrm>
              <a:off x="2092320" y="2678040"/>
              <a:ext cx="3652920" cy="362160"/>
            </a:xfrm>
            <a:custGeom>
              <a:avLst/>
              <a:gdLst/>
              <a:ahLst/>
              <a:rect l="l" t="t" r="r" b="b"/>
              <a:pathLst>
                <a:path w="2301" h="228">
                  <a:moveTo>
                    <a:pt x="2301" y="146"/>
                  </a:moveTo>
                  <a:cubicBezTo>
                    <a:pt x="1950" y="73"/>
                    <a:pt x="1599" y="0"/>
                    <a:pt x="1216" y="14"/>
                  </a:cubicBezTo>
                  <a:cubicBezTo>
                    <a:pt x="833" y="28"/>
                    <a:pt x="416" y="128"/>
                    <a:pt x="0" y="228"/>
                  </a:cubicBezTo>
                </a:path>
              </a:pathLst>
            </a:custGeom>
            <a:noFill/>
            <a:ln w="38160">
              <a:solidFill>
                <a:srgbClr val="ff7c80"/>
              </a:solidFill>
              <a:round/>
              <a:headEnd len="med" type="stealth" w="me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512" name=""/>
            <p:cNvSpPr/>
            <p:nvPr/>
          </p:nvSpPr>
          <p:spPr>
            <a:xfrm>
              <a:off x="2803680" y="1883520"/>
              <a:ext cx="2469600" cy="862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Arial"/>
                </a:rPr>
                <a:t>IKE SA negotiation</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Arial"/>
                </a:rPr>
                <a:t>UDP port 500</a:t>
              </a:r>
              <a:endParaRPr b="0" lang="en-US" sz="2000" spc="-1" strike="noStrike">
                <a:solidFill>
                  <a:srgbClr val="ffffff"/>
                </a:solidFill>
                <a:latin typeface="Times New Roman"/>
              </a:endParaRPr>
            </a:p>
          </p:txBody>
        </p:sp>
      </p:grpSp>
      <p:grpSp>
        <p:nvGrpSpPr>
          <p:cNvPr id="1513" name=""/>
          <p:cNvGrpSpPr/>
          <p:nvPr/>
        </p:nvGrpSpPr>
        <p:grpSpPr>
          <a:xfrm>
            <a:off x="2941560" y="2822400"/>
            <a:ext cx="4525920" cy="3146760"/>
            <a:chOff x="2941560" y="2822400"/>
            <a:chExt cx="4525920" cy="3146760"/>
          </a:xfrm>
        </p:grpSpPr>
        <p:grpSp>
          <p:nvGrpSpPr>
            <p:cNvPr id="1514" name=""/>
            <p:cNvGrpSpPr/>
            <p:nvPr/>
          </p:nvGrpSpPr>
          <p:grpSpPr>
            <a:xfrm>
              <a:off x="6248520" y="4724280"/>
              <a:ext cx="1218960" cy="1244880"/>
              <a:chOff x="6248520" y="4724280"/>
              <a:chExt cx="1218960" cy="1244880"/>
            </a:xfrm>
          </p:grpSpPr>
          <p:sp>
            <p:nvSpPr>
              <p:cNvPr id="1515" name=""/>
              <p:cNvSpPr/>
              <p:nvPr/>
            </p:nvSpPr>
            <p:spPr>
              <a:xfrm flipH="1">
                <a:off x="6338160" y="4724280"/>
                <a:ext cx="901800" cy="1244880"/>
              </a:xfrm>
              <a:custGeom>
                <a:avLst/>
                <a:gdLst/>
                <a:ahLst/>
                <a:rect l="l" t="t" r="r" b="b"/>
                <a:pathLst>
                  <a:path w="413" h="761">
                    <a:moveTo>
                      <a:pt x="413" y="732"/>
                    </a:moveTo>
                    <a:cubicBezTo>
                      <a:pt x="307" y="746"/>
                      <a:pt x="201" y="761"/>
                      <a:pt x="132" y="639"/>
                    </a:cubicBezTo>
                    <a:cubicBezTo>
                      <a:pt x="63" y="517"/>
                      <a:pt x="31" y="258"/>
                      <a:pt x="0" y="0"/>
                    </a:cubicBezTo>
                  </a:path>
                </a:pathLst>
              </a:custGeom>
              <a:noFill/>
              <a:ln w="25560">
                <a:solidFill>
                  <a:srgbClr val="eea564"/>
                </a:solidFill>
                <a:prstDash val="dash"/>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516" name=""/>
              <p:cNvSpPr/>
              <p:nvPr/>
            </p:nvSpPr>
            <p:spPr>
              <a:xfrm flipH="1">
                <a:off x="6248520" y="5486400"/>
                <a:ext cx="1218960" cy="228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 Ticket</a:t>
                </a:r>
                <a:endParaRPr b="0" lang="en-US" sz="1400" spc="-1" strike="noStrike">
                  <a:solidFill>
                    <a:srgbClr val="ffffff"/>
                  </a:solidFill>
                  <a:latin typeface="Times New Roman"/>
                </a:endParaRPr>
              </a:p>
            </p:txBody>
          </p:sp>
        </p:grpSp>
        <p:sp>
          <p:nvSpPr>
            <p:cNvPr id="1517" name=""/>
            <p:cNvSpPr/>
            <p:nvPr/>
          </p:nvSpPr>
          <p:spPr>
            <a:xfrm>
              <a:off x="2941560" y="2822400"/>
              <a:ext cx="469800" cy="1987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cket</a:t>
              </a:r>
              <a:endParaRPr b="0" lang="en-US" sz="1400" spc="-1" strike="noStrike">
                <a:solidFill>
                  <a:srgbClr val="ffffff"/>
                </a:solidFill>
                <a:latin typeface="Times New Roman"/>
              </a:endParaRPr>
            </a:p>
          </p:txBody>
        </p:sp>
      </p:grpSp>
      <p:grpSp>
        <p:nvGrpSpPr>
          <p:cNvPr id="1518" name=""/>
          <p:cNvGrpSpPr/>
          <p:nvPr/>
        </p:nvGrpSpPr>
        <p:grpSpPr>
          <a:xfrm>
            <a:off x="2263680" y="3495600"/>
            <a:ext cx="3697560" cy="522000"/>
            <a:chOff x="2263680" y="3495600"/>
            <a:chExt cx="3697560" cy="522000"/>
          </a:xfrm>
        </p:grpSpPr>
        <p:sp>
          <p:nvSpPr>
            <p:cNvPr id="1519" name=""/>
            <p:cNvSpPr/>
            <p:nvPr/>
          </p:nvSpPr>
          <p:spPr>
            <a:xfrm>
              <a:off x="2750040" y="3618720"/>
              <a:ext cx="2936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Arial"/>
                </a:rPr>
                <a:t>IPSec SAs Established</a:t>
              </a:r>
              <a:endParaRPr b="0" lang="en-US" sz="2000" spc="-1" strike="noStrike">
                <a:solidFill>
                  <a:srgbClr val="ffffff"/>
                </a:solidFill>
                <a:latin typeface="Times New Roman"/>
              </a:endParaRPr>
            </a:p>
          </p:txBody>
        </p:sp>
        <p:sp>
          <p:nvSpPr>
            <p:cNvPr id="1520" name=""/>
            <p:cNvSpPr/>
            <p:nvPr/>
          </p:nvSpPr>
          <p:spPr>
            <a:xfrm>
              <a:off x="2263680" y="3495600"/>
              <a:ext cx="3692520" cy="12600"/>
            </a:xfrm>
            <a:custGeom>
              <a:avLst/>
              <a:gdLst/>
              <a:ahLst/>
              <a:rect l="l" t="t" r="r" b="b"/>
              <a:pathLst>
                <a:path w="2326" h="8">
                  <a:moveTo>
                    <a:pt x="2326" y="0"/>
                  </a:moveTo>
                  <a:cubicBezTo>
                    <a:pt x="2326" y="0"/>
                    <a:pt x="1163" y="4"/>
                    <a:pt x="0" y="8"/>
                  </a:cubicBezTo>
                </a:path>
              </a:pathLst>
            </a:custGeom>
            <a:noFill/>
            <a:ln w="38160">
              <a:solidFill>
                <a:srgbClr val="ff7c80"/>
              </a:solidFill>
              <a:round/>
              <a:tailEnd len="med" type="stealth" w="med"/>
            </a:ln>
          </p:spPr>
          <p:style>
            <a:lnRef idx="0"/>
            <a:fillRef idx="0"/>
            <a:effectRef idx="0"/>
            <a:fontRef idx="minor"/>
          </p:style>
          <p:txBody>
            <a:bodyPr wrap="none" tIns="-33120" bIns="-33120" anchor="ctr">
              <a:noAutofit/>
            </a:bodyPr>
            <a:p>
              <a:endParaRPr b="0" lang="en-US" sz="2400" spc="-1" strike="noStrike">
                <a:solidFill>
                  <a:srgbClr val="ffffff"/>
                </a:solidFill>
                <a:latin typeface="Times New Roman"/>
              </a:endParaRPr>
            </a:p>
          </p:txBody>
        </p:sp>
        <p:sp>
          <p:nvSpPr>
            <p:cNvPr id="1521" name=""/>
            <p:cNvSpPr/>
            <p:nvPr/>
          </p:nvSpPr>
          <p:spPr>
            <a:xfrm>
              <a:off x="2268360" y="3648240"/>
              <a:ext cx="3692880" cy="12600"/>
            </a:xfrm>
            <a:custGeom>
              <a:avLst/>
              <a:gdLst/>
              <a:ahLst/>
              <a:rect l="l" t="t" r="r" b="b"/>
              <a:pathLst>
                <a:path w="2326" h="8">
                  <a:moveTo>
                    <a:pt x="2326" y="0"/>
                  </a:moveTo>
                  <a:cubicBezTo>
                    <a:pt x="2326" y="0"/>
                    <a:pt x="1163" y="4"/>
                    <a:pt x="0" y="8"/>
                  </a:cubicBezTo>
                </a:path>
              </a:pathLst>
            </a:custGeom>
            <a:noFill/>
            <a:ln w="38160">
              <a:solidFill>
                <a:srgbClr val="ff7c80"/>
              </a:solidFill>
              <a:round/>
              <a:headEnd len="med" type="stealth" w="med"/>
            </a:ln>
          </p:spPr>
          <p:style>
            <a:lnRef idx="0"/>
            <a:fillRef idx="0"/>
            <a:effectRef idx="0"/>
            <a:fontRef idx="minor"/>
          </p:style>
          <p:txBody>
            <a:bodyPr wrap="none" tIns="-33120" bIns="-33120" anchor="ctr">
              <a:noAutofit/>
            </a:bodyPr>
            <a:p>
              <a:endParaRPr b="0" lang="en-US" sz="2400" spc="-1" strike="noStrike">
                <a:solidFill>
                  <a:srgbClr val="ffffff"/>
                </a:solidFill>
                <a:latin typeface="Times New Roman"/>
              </a:endParaRPr>
            </a:p>
          </p:txBody>
        </p:sp>
      </p:grpSp>
      <p:sp>
        <p:nvSpPr>
          <p:cNvPr id="1522" name=""/>
          <p:cNvSpPr/>
          <p:nvPr/>
        </p:nvSpPr>
        <p:spPr>
          <a:xfrm>
            <a:off x="404640" y="6518160"/>
            <a:ext cx="8496360" cy="3391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Default policies provided as an example for testing, customize your own</a:t>
            </a:r>
            <a:endParaRPr b="0" lang="en-US" sz="1800" spc="-1" strike="noStrike">
              <a:solidFill>
                <a:srgbClr val="ffffff"/>
              </a:solidFill>
              <a:latin typeface="Times New Roman"/>
            </a:endParaRPr>
          </a:p>
        </p:txBody>
      </p:sp>
      <p:sp>
        <p:nvSpPr>
          <p:cNvPr id="1523" name=""/>
          <p:cNvSpPr/>
          <p:nvPr/>
        </p:nvSpPr>
        <p:spPr>
          <a:xfrm>
            <a:off x="2170080" y="2381400"/>
            <a:ext cx="4268880" cy="1160280"/>
          </a:xfrm>
          <a:custGeom>
            <a:avLst/>
            <a:gdLst/>
            <a:ahLst/>
            <a:rect l="l" t="t" r="r" b="b"/>
            <a:pathLst>
              <a:path w="2689" h="733">
                <a:moveTo>
                  <a:pt x="0" y="513"/>
                </a:moveTo>
                <a:cubicBezTo>
                  <a:pt x="125" y="520"/>
                  <a:pt x="366" y="532"/>
                  <a:pt x="762" y="553"/>
                </a:cubicBezTo>
                <a:cubicBezTo>
                  <a:pt x="1158" y="574"/>
                  <a:pt x="2066" y="733"/>
                  <a:pt x="2378" y="641"/>
                </a:cubicBezTo>
                <a:cubicBezTo>
                  <a:pt x="2689" y="549"/>
                  <a:pt x="2658" y="274"/>
                  <a:pt x="2628" y="0"/>
                </a:cubicBezTo>
              </a:path>
            </a:pathLst>
          </a:custGeom>
          <a:noFill/>
          <a:ln w="38160">
            <a:solidFill>
              <a:srgbClr val="ff00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463680" y="1927080"/>
            <a:ext cx="861840" cy="833760"/>
          </a:xfrm>
          <a:prstGeom prst="rect">
            <a:avLst/>
          </a:prstGeom>
          <a:ln w="0">
            <a:noFill/>
          </a:ln>
        </p:spPr>
      </p:pic>
      <p:sp>
        <p:nvSpPr>
          <p:cNvPr id="51" name=""/>
          <p:cNvSpPr/>
          <p:nvPr/>
        </p:nvSpPr>
        <p:spPr>
          <a:xfrm flipV="1">
            <a:off x="3932280" y="5825880"/>
            <a:ext cx="11001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2" name=""/>
          <p:cNvSpPr/>
          <p:nvPr/>
        </p:nvSpPr>
        <p:spPr>
          <a:xfrm>
            <a:off x="2222640" y="2135160"/>
            <a:ext cx="0" cy="92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1074600" y="2975040"/>
            <a:ext cx="364824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 name=""/>
          <p:cNvSpPr/>
          <p:nvPr/>
        </p:nvSpPr>
        <p:spPr>
          <a:xfrm>
            <a:off x="3492360" y="2708280"/>
            <a:ext cx="0" cy="262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2038320" y="4327560"/>
            <a:ext cx="2730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25520" y="2998800"/>
            <a:ext cx="0" cy="133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3933720" y="4375080"/>
            <a:ext cx="0" cy="146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 name=""/>
          <p:cNvGrpSpPr/>
          <p:nvPr/>
        </p:nvGrpSpPr>
        <p:grpSpPr>
          <a:xfrm>
            <a:off x="2122560" y="4991040"/>
            <a:ext cx="690480" cy="750600"/>
            <a:chOff x="2122560" y="4991040"/>
            <a:chExt cx="690480" cy="750600"/>
          </a:xfrm>
        </p:grpSpPr>
        <p:sp>
          <p:nvSpPr>
            <p:cNvPr id="59" name=""/>
            <p:cNvSpPr/>
            <p:nvPr/>
          </p:nvSpPr>
          <p:spPr>
            <a:xfrm>
              <a:off x="2362320" y="501480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2379600" y="539748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2379600" y="514800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2122560" y="499248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3" name=""/>
            <p:cNvSpPr/>
            <p:nvPr/>
          </p:nvSpPr>
          <p:spPr>
            <a:xfrm>
              <a:off x="2122560" y="499248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2335320" y="501804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2379600" y="514656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2379600" y="510696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 name=""/>
            <p:cNvSpPr/>
            <p:nvPr/>
          </p:nvSpPr>
          <p:spPr>
            <a:xfrm>
              <a:off x="2379600" y="504180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 name=""/>
            <p:cNvSpPr/>
            <p:nvPr/>
          </p:nvSpPr>
          <p:spPr>
            <a:xfrm>
              <a:off x="2122560" y="499104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2360520" y="501480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122560" y="499248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2335320" y="501948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335320" y="502884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 name=""/>
            <p:cNvSpPr/>
            <p:nvPr/>
          </p:nvSpPr>
          <p:spPr>
            <a:xfrm>
              <a:off x="2335320" y="508140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 name=""/>
            <p:cNvSpPr/>
            <p:nvPr/>
          </p:nvSpPr>
          <p:spPr>
            <a:xfrm>
              <a:off x="2379600" y="504180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 name=""/>
            <p:cNvSpPr/>
            <p:nvPr/>
          </p:nvSpPr>
          <p:spPr>
            <a:xfrm>
              <a:off x="2335320" y="509724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 name=""/>
            <p:cNvSpPr/>
            <p:nvPr/>
          </p:nvSpPr>
          <p:spPr>
            <a:xfrm>
              <a:off x="2335320" y="51465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 name=""/>
            <p:cNvSpPr/>
            <p:nvPr/>
          </p:nvSpPr>
          <p:spPr>
            <a:xfrm>
              <a:off x="2335320" y="534492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 name=""/>
            <p:cNvSpPr/>
            <p:nvPr/>
          </p:nvSpPr>
          <p:spPr>
            <a:xfrm>
              <a:off x="2379600" y="515772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644920" y="514800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2379600" y="514800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2631960" y="53402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2" name=""/>
            <p:cNvSpPr/>
            <p:nvPr/>
          </p:nvSpPr>
          <p:spPr>
            <a:xfrm flipH="1">
              <a:off x="2379240" y="521316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83" name=""/>
            <p:cNvSpPr/>
            <p:nvPr/>
          </p:nvSpPr>
          <p:spPr>
            <a:xfrm flipH="1">
              <a:off x="2379240" y="527976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4" name=""/>
            <p:cNvSpPr/>
            <p:nvPr/>
          </p:nvSpPr>
          <p:spPr>
            <a:xfrm>
              <a:off x="2335320" y="539748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85" name=""/>
            <p:cNvSpPr/>
            <p:nvPr/>
          </p:nvSpPr>
          <p:spPr>
            <a:xfrm>
              <a:off x="2335320" y="567684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6" name=""/>
            <p:cNvSpPr/>
            <p:nvPr/>
          </p:nvSpPr>
          <p:spPr>
            <a:xfrm>
              <a:off x="2379600" y="541332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2644920" y="5397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2379600" y="565776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9" name=""/>
            <p:cNvSpPr/>
            <p:nvPr/>
          </p:nvSpPr>
          <p:spPr>
            <a:xfrm>
              <a:off x="2379600" y="564480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0" name=""/>
            <p:cNvSpPr/>
            <p:nvPr/>
          </p:nvSpPr>
          <p:spPr>
            <a:xfrm>
              <a:off x="2379600" y="563400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1" name=""/>
            <p:cNvSpPr/>
            <p:nvPr/>
          </p:nvSpPr>
          <p:spPr>
            <a:xfrm>
              <a:off x="2379600" y="562104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2" name=""/>
            <p:cNvSpPr/>
            <p:nvPr/>
          </p:nvSpPr>
          <p:spPr>
            <a:xfrm>
              <a:off x="2379600" y="560700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3" name=""/>
            <p:cNvSpPr/>
            <p:nvPr/>
          </p:nvSpPr>
          <p:spPr>
            <a:xfrm>
              <a:off x="2379600" y="504324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 name=""/>
            <p:cNvSpPr/>
            <p:nvPr/>
          </p:nvSpPr>
          <p:spPr>
            <a:xfrm>
              <a:off x="2631960" y="506700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5" name=""/>
            <p:cNvSpPr/>
            <p:nvPr/>
          </p:nvSpPr>
          <p:spPr>
            <a:xfrm>
              <a:off x="2441520" y="510696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6" name=""/>
            <p:cNvSpPr/>
            <p:nvPr/>
          </p:nvSpPr>
          <p:spPr>
            <a:xfrm>
              <a:off x="2379600" y="510696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97" name=""/>
            <p:cNvSpPr/>
            <p:nvPr/>
          </p:nvSpPr>
          <p:spPr>
            <a:xfrm>
              <a:off x="2379600" y="512424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 name=""/>
            <p:cNvSpPr/>
            <p:nvPr/>
          </p:nvSpPr>
          <p:spPr>
            <a:xfrm flipH="1">
              <a:off x="2583000" y="512748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99" name=""/>
            <p:cNvSpPr/>
            <p:nvPr/>
          </p:nvSpPr>
          <p:spPr>
            <a:xfrm>
              <a:off x="2583000" y="51069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00" name=""/>
            <p:cNvSpPr/>
            <p:nvPr/>
          </p:nvSpPr>
          <p:spPr>
            <a:xfrm>
              <a:off x="2392560" y="505908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 name=""/>
            <p:cNvSpPr/>
            <p:nvPr/>
          </p:nvSpPr>
          <p:spPr>
            <a:xfrm>
              <a:off x="2428920" y="505764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 name=""/>
            <p:cNvSpPr/>
            <p:nvPr/>
          </p:nvSpPr>
          <p:spPr>
            <a:xfrm>
              <a:off x="2465280" y="505764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 name=""/>
            <p:cNvSpPr/>
            <p:nvPr/>
          </p:nvSpPr>
          <p:spPr>
            <a:xfrm>
              <a:off x="2503440" y="505764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 name=""/>
            <p:cNvSpPr/>
            <p:nvPr/>
          </p:nvSpPr>
          <p:spPr>
            <a:xfrm>
              <a:off x="2541600" y="505584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 name=""/>
            <p:cNvSpPr/>
            <p:nvPr/>
          </p:nvSpPr>
          <p:spPr>
            <a:xfrm>
              <a:off x="2576520" y="505296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 name=""/>
            <p:cNvSpPr/>
            <p:nvPr/>
          </p:nvSpPr>
          <p:spPr>
            <a:xfrm>
              <a:off x="2614680" y="505296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7" name=""/>
            <p:cNvSpPr/>
            <p:nvPr/>
          </p:nvSpPr>
          <p:spPr>
            <a:xfrm>
              <a:off x="2619360" y="514800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2660760" y="563868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109" name=""/>
          <p:cNvSpPr/>
          <p:nvPr/>
        </p:nvSpPr>
        <p:spPr>
          <a:xfrm>
            <a:off x="2390760" y="4343400"/>
            <a:ext cx="0" cy="69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734120" y="5743440"/>
            <a:ext cx="142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L Server</a:t>
            </a:r>
            <a:endParaRPr b="0" lang="en-US" sz="1800" spc="-1" strike="noStrike">
              <a:solidFill>
                <a:srgbClr val="ffffff"/>
              </a:solidFill>
              <a:latin typeface="Times New Roman"/>
            </a:endParaRPr>
          </a:p>
        </p:txBody>
      </p:sp>
      <p:graphicFrame>
        <p:nvGraphicFramePr>
          <p:cNvPr id="111" name=""/>
          <p:cNvGraphicFramePr/>
          <p:nvPr/>
        </p:nvGraphicFramePr>
        <p:xfrm>
          <a:off x="5506920" y="1508040"/>
          <a:ext cx="1844640" cy="4826160"/>
        </p:xfrm>
        <a:graphic>
          <a:graphicData uri="http://schemas.openxmlformats.org/presentationml/2006/ole">
            <p:oleObj r:id="rId3" spid="">
              <p:embed/>
              <p:pic>
                <p:nvPicPr>
                  <p:cNvPr id="112" name="" descr=""/>
                  <p:cNvPicPr/>
                  <p:nvPr/>
                </p:nvPicPr>
                <p:blipFill>
                  <a:blip r:embed="rId4"/>
                  <a:stretch/>
                </p:blipFill>
                <p:spPr>
                  <a:xfrm>
                    <a:off x="5506920" y="1508040"/>
                    <a:ext cx="1844640" cy="4826160"/>
                  </a:xfrm>
                  <a:prstGeom prst="rect">
                    <a:avLst/>
                  </a:prstGeom>
                  <a:ln w="0">
                    <a:noFill/>
                  </a:ln>
                </p:spPr>
              </p:pic>
            </p:oleObj>
          </a:graphicData>
        </a:graphic>
      </p:graphicFrame>
      <p:sp>
        <p:nvSpPr>
          <p:cNvPr id="113" name=""/>
          <p:cNvSpPr/>
          <p:nvPr/>
        </p:nvSpPr>
        <p:spPr>
          <a:xfrm>
            <a:off x="5875200" y="1968480"/>
            <a:ext cx="117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ffffff"/>
              </a:solidFill>
              <a:latin typeface="Times New Roman"/>
            </a:endParaRPr>
          </a:p>
        </p:txBody>
      </p:sp>
      <p:sp>
        <p:nvSpPr>
          <p:cNvPr id="114" name=""/>
          <p:cNvSpPr/>
          <p:nvPr/>
        </p:nvSpPr>
        <p:spPr>
          <a:xfrm>
            <a:off x="4743360" y="242568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746600" y="2984400"/>
            <a:ext cx="12600" cy="133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6" name=""/>
          <p:cNvGrpSpPr/>
          <p:nvPr/>
        </p:nvGrpSpPr>
        <p:grpSpPr>
          <a:xfrm>
            <a:off x="1111320" y="4662360"/>
            <a:ext cx="690480" cy="750600"/>
            <a:chOff x="1111320" y="4662360"/>
            <a:chExt cx="690480" cy="750600"/>
          </a:xfrm>
        </p:grpSpPr>
        <p:sp>
          <p:nvSpPr>
            <p:cNvPr id="117" name=""/>
            <p:cNvSpPr/>
            <p:nvPr/>
          </p:nvSpPr>
          <p:spPr>
            <a:xfrm>
              <a:off x="1351080" y="468612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368360" y="506880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368360" y="481932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111320" y="466380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1" name=""/>
            <p:cNvSpPr/>
            <p:nvPr/>
          </p:nvSpPr>
          <p:spPr>
            <a:xfrm>
              <a:off x="1111320" y="466380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324080" y="468936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368360" y="481788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1368360" y="477828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5" name=""/>
            <p:cNvSpPr/>
            <p:nvPr/>
          </p:nvSpPr>
          <p:spPr>
            <a:xfrm>
              <a:off x="1368360" y="471312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6" name=""/>
            <p:cNvSpPr/>
            <p:nvPr/>
          </p:nvSpPr>
          <p:spPr>
            <a:xfrm>
              <a:off x="1111320" y="466236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7" name=""/>
            <p:cNvSpPr/>
            <p:nvPr/>
          </p:nvSpPr>
          <p:spPr>
            <a:xfrm>
              <a:off x="1349280" y="468612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1111320" y="466380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324080" y="469080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324080" y="470016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1" name=""/>
            <p:cNvSpPr/>
            <p:nvPr/>
          </p:nvSpPr>
          <p:spPr>
            <a:xfrm>
              <a:off x="1324080" y="47527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2" name=""/>
            <p:cNvSpPr/>
            <p:nvPr/>
          </p:nvSpPr>
          <p:spPr>
            <a:xfrm>
              <a:off x="1368360" y="471312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3" name=""/>
            <p:cNvSpPr/>
            <p:nvPr/>
          </p:nvSpPr>
          <p:spPr>
            <a:xfrm>
              <a:off x="1324080" y="47685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 name=""/>
            <p:cNvSpPr/>
            <p:nvPr/>
          </p:nvSpPr>
          <p:spPr>
            <a:xfrm>
              <a:off x="1324080" y="48178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 name=""/>
            <p:cNvSpPr/>
            <p:nvPr/>
          </p:nvSpPr>
          <p:spPr>
            <a:xfrm>
              <a:off x="1324080" y="501624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6" name=""/>
            <p:cNvSpPr/>
            <p:nvPr/>
          </p:nvSpPr>
          <p:spPr>
            <a:xfrm>
              <a:off x="1368360" y="482904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1633680" y="48193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368360" y="481932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620720" y="50115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0" name=""/>
            <p:cNvSpPr/>
            <p:nvPr/>
          </p:nvSpPr>
          <p:spPr>
            <a:xfrm flipH="1">
              <a:off x="1368000" y="488448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41" name=""/>
            <p:cNvSpPr/>
            <p:nvPr/>
          </p:nvSpPr>
          <p:spPr>
            <a:xfrm flipH="1">
              <a:off x="1368000" y="495108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42" name=""/>
            <p:cNvSpPr/>
            <p:nvPr/>
          </p:nvSpPr>
          <p:spPr>
            <a:xfrm>
              <a:off x="1324080" y="506880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43" name=""/>
            <p:cNvSpPr/>
            <p:nvPr/>
          </p:nvSpPr>
          <p:spPr>
            <a:xfrm>
              <a:off x="1324080" y="534816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4" name=""/>
            <p:cNvSpPr/>
            <p:nvPr/>
          </p:nvSpPr>
          <p:spPr>
            <a:xfrm>
              <a:off x="1368360" y="508464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633680" y="50688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368360" y="532908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7" name=""/>
            <p:cNvSpPr/>
            <p:nvPr/>
          </p:nvSpPr>
          <p:spPr>
            <a:xfrm>
              <a:off x="1368360" y="531612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8" name=""/>
            <p:cNvSpPr/>
            <p:nvPr/>
          </p:nvSpPr>
          <p:spPr>
            <a:xfrm>
              <a:off x="1368360" y="530532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9" name=""/>
            <p:cNvSpPr/>
            <p:nvPr/>
          </p:nvSpPr>
          <p:spPr>
            <a:xfrm>
              <a:off x="1368360" y="529236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0" name=""/>
            <p:cNvSpPr/>
            <p:nvPr/>
          </p:nvSpPr>
          <p:spPr>
            <a:xfrm>
              <a:off x="1368360" y="527832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1" name=""/>
            <p:cNvSpPr/>
            <p:nvPr/>
          </p:nvSpPr>
          <p:spPr>
            <a:xfrm>
              <a:off x="1368360" y="471456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2" name=""/>
            <p:cNvSpPr/>
            <p:nvPr/>
          </p:nvSpPr>
          <p:spPr>
            <a:xfrm>
              <a:off x="1620720" y="473832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53" name=""/>
            <p:cNvSpPr/>
            <p:nvPr/>
          </p:nvSpPr>
          <p:spPr>
            <a:xfrm>
              <a:off x="1430280" y="477828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4" name=""/>
            <p:cNvSpPr/>
            <p:nvPr/>
          </p:nvSpPr>
          <p:spPr>
            <a:xfrm>
              <a:off x="1368360" y="477828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5" name=""/>
            <p:cNvSpPr/>
            <p:nvPr/>
          </p:nvSpPr>
          <p:spPr>
            <a:xfrm>
              <a:off x="1368360" y="479556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6" name=""/>
            <p:cNvSpPr/>
            <p:nvPr/>
          </p:nvSpPr>
          <p:spPr>
            <a:xfrm flipH="1">
              <a:off x="1571760" y="479880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7" name=""/>
            <p:cNvSpPr/>
            <p:nvPr/>
          </p:nvSpPr>
          <p:spPr>
            <a:xfrm>
              <a:off x="1571760" y="4778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58" name=""/>
            <p:cNvSpPr/>
            <p:nvPr/>
          </p:nvSpPr>
          <p:spPr>
            <a:xfrm>
              <a:off x="1381320" y="473040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9" name=""/>
            <p:cNvSpPr/>
            <p:nvPr/>
          </p:nvSpPr>
          <p:spPr>
            <a:xfrm>
              <a:off x="1417680" y="472896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0" name=""/>
            <p:cNvSpPr/>
            <p:nvPr/>
          </p:nvSpPr>
          <p:spPr>
            <a:xfrm>
              <a:off x="1454040" y="472896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1" name=""/>
            <p:cNvSpPr/>
            <p:nvPr/>
          </p:nvSpPr>
          <p:spPr>
            <a:xfrm>
              <a:off x="1492200" y="472896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 name=""/>
            <p:cNvSpPr/>
            <p:nvPr/>
          </p:nvSpPr>
          <p:spPr>
            <a:xfrm>
              <a:off x="1530360" y="472716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3" name=""/>
            <p:cNvSpPr/>
            <p:nvPr/>
          </p:nvSpPr>
          <p:spPr>
            <a:xfrm>
              <a:off x="1565280" y="472428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4" name=""/>
            <p:cNvSpPr/>
            <p:nvPr/>
          </p:nvSpPr>
          <p:spPr>
            <a:xfrm>
              <a:off x="1603440" y="472428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5" name=""/>
            <p:cNvSpPr/>
            <p:nvPr/>
          </p:nvSpPr>
          <p:spPr>
            <a:xfrm>
              <a:off x="1608120" y="481932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1649520" y="531000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167" name=""/>
          <p:cNvSpPr/>
          <p:nvPr/>
        </p:nvSpPr>
        <p:spPr>
          <a:xfrm>
            <a:off x="1584360" y="432900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923760" y="4913280"/>
            <a:ext cx="119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NA Server</a:t>
            </a:r>
            <a:endParaRPr b="0" lang="en-US" sz="2000" spc="-1" strike="noStrike">
              <a:solidFill>
                <a:srgbClr val="ffffff"/>
              </a:solidFill>
              <a:latin typeface="Times New Roman"/>
            </a:endParaRPr>
          </a:p>
        </p:txBody>
      </p:sp>
      <p:sp>
        <p:nvSpPr>
          <p:cNvPr id="169" name=""/>
          <p:cNvSpPr/>
          <p:nvPr/>
        </p:nvSpPr>
        <p:spPr>
          <a:xfrm flipH="1">
            <a:off x="622440" y="4962600"/>
            <a:ext cx="658800" cy="0"/>
          </a:xfrm>
          <a:prstGeom prst="line">
            <a:avLst/>
          </a:prstGeom>
          <a:ln w="38160">
            <a:solidFill>
              <a:srgbClr val="ff7c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70" name="" descr=""/>
          <p:cNvPicPr/>
          <p:nvPr/>
        </p:nvPicPr>
        <p:blipFill>
          <a:blip r:embed="rId5"/>
          <a:stretch/>
        </p:blipFill>
        <p:spPr>
          <a:xfrm>
            <a:off x="141120" y="5238720"/>
            <a:ext cx="858960" cy="831960"/>
          </a:xfrm>
          <a:prstGeom prst="rect">
            <a:avLst/>
          </a:prstGeom>
          <a:ln w="0">
            <a:noFill/>
          </a:ln>
        </p:spPr>
      </p:pic>
      <p:sp>
        <p:nvSpPr>
          <p:cNvPr id="171" name=""/>
          <p:cNvSpPr/>
          <p:nvPr/>
        </p:nvSpPr>
        <p:spPr>
          <a:xfrm>
            <a:off x="600120" y="4986360"/>
            <a:ext cx="11160" cy="223920"/>
          </a:xfrm>
          <a:prstGeom prst="line">
            <a:avLst/>
          </a:prstGeom>
          <a:ln w="2844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914400" y="4027320"/>
            <a:ext cx="0" cy="30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96760" y="4329000"/>
            <a:ext cx="1231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5018040" y="57974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016600" y="5359320"/>
            <a:ext cx="0" cy="45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6" name=""/>
          <p:cNvGrpSpPr/>
          <p:nvPr/>
        </p:nvGrpSpPr>
        <p:grpSpPr>
          <a:xfrm>
            <a:off x="4708440" y="4730760"/>
            <a:ext cx="690480" cy="750600"/>
            <a:chOff x="4708440" y="4730760"/>
            <a:chExt cx="690480" cy="750600"/>
          </a:xfrm>
        </p:grpSpPr>
        <p:sp>
          <p:nvSpPr>
            <p:cNvPr id="177" name=""/>
            <p:cNvSpPr/>
            <p:nvPr/>
          </p:nvSpPr>
          <p:spPr>
            <a:xfrm>
              <a:off x="4948200" y="475452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4965480" y="513720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4965480" y="488772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4708440" y="473220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1" name=""/>
            <p:cNvSpPr/>
            <p:nvPr/>
          </p:nvSpPr>
          <p:spPr>
            <a:xfrm>
              <a:off x="4708440" y="473220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4921200" y="475776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965480" y="488628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965480" y="484668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5" name=""/>
            <p:cNvSpPr/>
            <p:nvPr/>
          </p:nvSpPr>
          <p:spPr>
            <a:xfrm>
              <a:off x="4965480" y="478152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6" name=""/>
            <p:cNvSpPr/>
            <p:nvPr/>
          </p:nvSpPr>
          <p:spPr>
            <a:xfrm>
              <a:off x="4708440" y="473076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7" name=""/>
            <p:cNvSpPr/>
            <p:nvPr/>
          </p:nvSpPr>
          <p:spPr>
            <a:xfrm>
              <a:off x="4946400" y="475452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4708440" y="473220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921200" y="475920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921200" y="476856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1" name=""/>
            <p:cNvSpPr/>
            <p:nvPr/>
          </p:nvSpPr>
          <p:spPr>
            <a:xfrm>
              <a:off x="4921200" y="48211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 name=""/>
            <p:cNvSpPr/>
            <p:nvPr/>
          </p:nvSpPr>
          <p:spPr>
            <a:xfrm>
              <a:off x="4965480" y="478152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3" name=""/>
            <p:cNvSpPr/>
            <p:nvPr/>
          </p:nvSpPr>
          <p:spPr>
            <a:xfrm>
              <a:off x="4921200" y="48369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 name=""/>
            <p:cNvSpPr/>
            <p:nvPr/>
          </p:nvSpPr>
          <p:spPr>
            <a:xfrm>
              <a:off x="4921200" y="48862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5" name=""/>
            <p:cNvSpPr/>
            <p:nvPr/>
          </p:nvSpPr>
          <p:spPr>
            <a:xfrm>
              <a:off x="4921200" y="508464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 name=""/>
            <p:cNvSpPr/>
            <p:nvPr/>
          </p:nvSpPr>
          <p:spPr>
            <a:xfrm>
              <a:off x="4965480" y="489744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230800" y="48877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965480" y="488772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5217840" y="5079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
            <p:cNvSpPr/>
            <p:nvPr/>
          </p:nvSpPr>
          <p:spPr>
            <a:xfrm flipH="1">
              <a:off x="4965120" y="495288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01" name=""/>
            <p:cNvSpPr/>
            <p:nvPr/>
          </p:nvSpPr>
          <p:spPr>
            <a:xfrm flipH="1">
              <a:off x="4965120" y="501948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02" name=""/>
            <p:cNvSpPr/>
            <p:nvPr/>
          </p:nvSpPr>
          <p:spPr>
            <a:xfrm>
              <a:off x="4921200" y="513720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3" name=""/>
            <p:cNvSpPr/>
            <p:nvPr/>
          </p:nvSpPr>
          <p:spPr>
            <a:xfrm>
              <a:off x="4921200" y="541656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4" name=""/>
            <p:cNvSpPr/>
            <p:nvPr/>
          </p:nvSpPr>
          <p:spPr>
            <a:xfrm>
              <a:off x="4965480" y="515304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230800" y="51372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965480" y="539748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7" name=""/>
            <p:cNvSpPr/>
            <p:nvPr/>
          </p:nvSpPr>
          <p:spPr>
            <a:xfrm>
              <a:off x="4965480" y="538452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8" name=""/>
            <p:cNvSpPr/>
            <p:nvPr/>
          </p:nvSpPr>
          <p:spPr>
            <a:xfrm>
              <a:off x="4965480" y="537372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9" name=""/>
            <p:cNvSpPr/>
            <p:nvPr/>
          </p:nvSpPr>
          <p:spPr>
            <a:xfrm>
              <a:off x="4965480" y="536076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0" name=""/>
            <p:cNvSpPr/>
            <p:nvPr/>
          </p:nvSpPr>
          <p:spPr>
            <a:xfrm>
              <a:off x="4965480" y="534672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1" name=""/>
            <p:cNvSpPr/>
            <p:nvPr/>
          </p:nvSpPr>
          <p:spPr>
            <a:xfrm>
              <a:off x="4965480" y="478296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2" name=""/>
            <p:cNvSpPr/>
            <p:nvPr/>
          </p:nvSpPr>
          <p:spPr>
            <a:xfrm>
              <a:off x="5217840" y="480672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13" name=""/>
            <p:cNvSpPr/>
            <p:nvPr/>
          </p:nvSpPr>
          <p:spPr>
            <a:xfrm>
              <a:off x="5027400" y="484668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4" name=""/>
            <p:cNvSpPr/>
            <p:nvPr/>
          </p:nvSpPr>
          <p:spPr>
            <a:xfrm>
              <a:off x="4965480" y="484668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5" name=""/>
            <p:cNvSpPr/>
            <p:nvPr/>
          </p:nvSpPr>
          <p:spPr>
            <a:xfrm>
              <a:off x="4965480" y="486396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 name=""/>
            <p:cNvSpPr/>
            <p:nvPr/>
          </p:nvSpPr>
          <p:spPr>
            <a:xfrm flipH="1">
              <a:off x="5168880" y="486720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17" name=""/>
            <p:cNvSpPr/>
            <p:nvPr/>
          </p:nvSpPr>
          <p:spPr>
            <a:xfrm>
              <a:off x="5168880" y="48466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18" name=""/>
            <p:cNvSpPr/>
            <p:nvPr/>
          </p:nvSpPr>
          <p:spPr>
            <a:xfrm>
              <a:off x="4978440" y="479880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 name=""/>
            <p:cNvSpPr/>
            <p:nvPr/>
          </p:nvSpPr>
          <p:spPr>
            <a:xfrm>
              <a:off x="5014800" y="479736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0" name=""/>
            <p:cNvSpPr/>
            <p:nvPr/>
          </p:nvSpPr>
          <p:spPr>
            <a:xfrm>
              <a:off x="5051160" y="479736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 name=""/>
            <p:cNvSpPr/>
            <p:nvPr/>
          </p:nvSpPr>
          <p:spPr>
            <a:xfrm>
              <a:off x="5089320" y="479736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 name=""/>
            <p:cNvSpPr/>
            <p:nvPr/>
          </p:nvSpPr>
          <p:spPr>
            <a:xfrm>
              <a:off x="5127480" y="479556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 name=""/>
            <p:cNvSpPr/>
            <p:nvPr/>
          </p:nvSpPr>
          <p:spPr>
            <a:xfrm>
              <a:off x="5162400" y="479268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4" name=""/>
            <p:cNvSpPr/>
            <p:nvPr/>
          </p:nvSpPr>
          <p:spPr>
            <a:xfrm>
              <a:off x="5200560" y="479268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5" name=""/>
            <p:cNvSpPr/>
            <p:nvPr/>
          </p:nvSpPr>
          <p:spPr>
            <a:xfrm>
              <a:off x="5205240" y="488772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246640" y="537840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227" name=""/>
          <p:cNvGrpSpPr/>
          <p:nvPr/>
        </p:nvGrpSpPr>
        <p:grpSpPr>
          <a:xfrm>
            <a:off x="1328760" y="2714760"/>
            <a:ext cx="4481640" cy="2550960"/>
            <a:chOff x="1328760" y="2714760"/>
            <a:chExt cx="4481640" cy="2550960"/>
          </a:xfrm>
        </p:grpSpPr>
        <p:sp>
          <p:nvSpPr>
            <p:cNvPr id="228" name=""/>
            <p:cNvSpPr/>
            <p:nvPr/>
          </p:nvSpPr>
          <p:spPr>
            <a:xfrm>
              <a:off x="1328760" y="2714760"/>
              <a:ext cx="3375000" cy="204768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5272200" y="5138640"/>
              <a:ext cx="538200" cy="127080"/>
            </a:xfrm>
            <a:prstGeom prst="line">
              <a:avLst/>
            </a:prstGeom>
            <a:ln w="38160">
              <a:solidFill>
                <a:srgbClr val="cc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0" name=""/>
          <p:cNvSpPr/>
          <p:nvPr/>
        </p:nvSpPr>
        <p:spPr>
          <a:xfrm>
            <a:off x="3178080" y="433692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1" name="sun450" descr=""/>
          <p:cNvPicPr/>
          <p:nvPr/>
        </p:nvPicPr>
        <p:blipFill>
          <a:blip r:embed="rId6"/>
          <a:stretch/>
        </p:blipFill>
        <p:spPr>
          <a:xfrm>
            <a:off x="2990880" y="4606920"/>
            <a:ext cx="819000" cy="965160"/>
          </a:xfrm>
          <a:prstGeom prst="rect">
            <a:avLst/>
          </a:prstGeom>
          <a:ln w="0">
            <a:noFill/>
          </a:ln>
        </p:spPr>
      </p:pic>
      <p:sp>
        <p:nvSpPr>
          <p:cNvPr id="232" name=""/>
          <p:cNvSpPr/>
          <p:nvPr/>
        </p:nvSpPr>
        <p:spPr>
          <a:xfrm>
            <a:off x="2941560" y="4933800"/>
            <a:ext cx="10717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1800" spc="-1" strike="noStrike">
                <a:solidFill>
                  <a:srgbClr val="ffffff"/>
                </a:solidFill>
                <a:latin typeface="Arial"/>
              </a:rPr>
              <a:t>Other Server</a:t>
            </a:r>
            <a:endParaRPr b="0" lang="en-US" sz="1800" spc="-1" strike="noStrike">
              <a:solidFill>
                <a:srgbClr val="ffffff"/>
              </a:solidFill>
              <a:latin typeface="Times New Roman"/>
            </a:endParaRPr>
          </a:p>
        </p:txBody>
      </p:sp>
      <p:sp>
        <p:nvSpPr>
          <p:cNvPr id="233" name="PlaceHolder 1"/>
          <p:cNvSpPr>
            <a:spLocks noGrp="1"/>
          </p:cNvSpPr>
          <p:nvPr>
            <p:ph type="title"/>
          </p:nvPr>
        </p:nvSpPr>
        <p:spPr>
          <a:xfrm>
            <a:off x="48960" y="128160"/>
            <a:ext cx="9094680" cy="1190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Windows 2000 IPSec Secures Business</a:t>
            </a:r>
            <a:endParaRPr b="1" lang="en-US" sz="4000" spc="-1" strike="noStrike">
              <a:solidFill>
                <a:srgbClr val="fccf00"/>
              </a:solidFill>
              <a:latin typeface="Arial"/>
            </a:endParaRPr>
          </a:p>
        </p:txBody>
      </p:sp>
      <p:pic>
        <p:nvPicPr>
          <p:cNvPr id="234" name="" descr=""/>
          <p:cNvPicPr/>
          <p:nvPr/>
        </p:nvPicPr>
        <p:blipFill>
          <a:blip r:embed="rId7"/>
          <a:stretch/>
        </p:blipFill>
        <p:spPr>
          <a:xfrm>
            <a:off x="285840" y="3359160"/>
            <a:ext cx="933480" cy="712800"/>
          </a:xfrm>
          <a:prstGeom prst="rect">
            <a:avLst/>
          </a:prstGeom>
          <a:ln w="0">
            <a:noFill/>
          </a:ln>
        </p:spPr>
      </p:pic>
      <p:pic>
        <p:nvPicPr>
          <p:cNvPr id="235" name="" descr=""/>
          <p:cNvPicPr/>
          <p:nvPr/>
        </p:nvPicPr>
        <p:blipFill>
          <a:blip r:embed="rId8"/>
          <a:stretch/>
        </p:blipFill>
        <p:spPr>
          <a:xfrm>
            <a:off x="8210520" y="3043080"/>
            <a:ext cx="933480" cy="712800"/>
          </a:xfrm>
          <a:prstGeom prst="rect">
            <a:avLst/>
          </a:prstGeom>
          <a:ln w="0">
            <a:noFill/>
          </a:ln>
        </p:spPr>
      </p:pic>
      <p:grpSp>
        <p:nvGrpSpPr>
          <p:cNvPr id="236" name=""/>
          <p:cNvGrpSpPr/>
          <p:nvPr/>
        </p:nvGrpSpPr>
        <p:grpSpPr>
          <a:xfrm>
            <a:off x="5375160" y="3362400"/>
            <a:ext cx="3060720" cy="1147680"/>
            <a:chOff x="5375160" y="3362400"/>
            <a:chExt cx="3060720" cy="1147680"/>
          </a:xfrm>
        </p:grpSpPr>
        <p:sp>
          <p:nvSpPr>
            <p:cNvPr id="237" name=""/>
            <p:cNvSpPr/>
            <p:nvPr/>
          </p:nvSpPr>
          <p:spPr>
            <a:xfrm flipH="1">
              <a:off x="5375160" y="3362400"/>
              <a:ext cx="3060720" cy="619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5943600" y="3776760"/>
              <a:ext cx="149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PTP or L2TP/IPSec tunnels</a:t>
              </a:r>
              <a:endParaRPr b="0" lang="en-US" sz="1400" spc="-1" strike="noStrike">
                <a:solidFill>
                  <a:srgbClr val="ffffff"/>
                </a:solidFill>
                <a:latin typeface="Times New Roman"/>
              </a:endParaRPr>
            </a:p>
          </p:txBody>
        </p:sp>
      </p:grpSp>
      <p:grpSp>
        <p:nvGrpSpPr>
          <p:cNvPr id="239" name=""/>
          <p:cNvGrpSpPr/>
          <p:nvPr/>
        </p:nvGrpSpPr>
        <p:grpSpPr>
          <a:xfrm>
            <a:off x="7790040" y="4546440"/>
            <a:ext cx="693360" cy="750600"/>
            <a:chOff x="7790040" y="4546440"/>
            <a:chExt cx="693360" cy="750600"/>
          </a:xfrm>
        </p:grpSpPr>
        <p:sp>
          <p:nvSpPr>
            <p:cNvPr id="240" name=""/>
            <p:cNvSpPr/>
            <p:nvPr/>
          </p:nvSpPr>
          <p:spPr>
            <a:xfrm>
              <a:off x="8030880" y="4570200"/>
              <a:ext cx="30096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8048160" y="4952880"/>
              <a:ext cx="26784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8048160" y="4703400"/>
              <a:ext cx="25524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7790040" y="4547880"/>
              <a:ext cx="54216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4" name=""/>
            <p:cNvSpPr/>
            <p:nvPr/>
          </p:nvSpPr>
          <p:spPr>
            <a:xfrm>
              <a:off x="7790040" y="4547880"/>
              <a:ext cx="24228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8003520" y="457344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8048160" y="4701960"/>
              <a:ext cx="26784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8048160" y="4662360"/>
              <a:ext cx="26784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8" name=""/>
            <p:cNvSpPr/>
            <p:nvPr/>
          </p:nvSpPr>
          <p:spPr>
            <a:xfrm>
              <a:off x="8048160" y="4597200"/>
              <a:ext cx="26784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9" name=""/>
            <p:cNvSpPr/>
            <p:nvPr/>
          </p:nvSpPr>
          <p:spPr>
            <a:xfrm>
              <a:off x="7790040" y="4546440"/>
              <a:ext cx="54216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0" name=""/>
            <p:cNvSpPr/>
            <p:nvPr/>
          </p:nvSpPr>
          <p:spPr>
            <a:xfrm>
              <a:off x="8029080" y="4570200"/>
              <a:ext cx="30276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7790040" y="4547880"/>
              <a:ext cx="24084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8003520" y="457488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8003520" y="4584240"/>
              <a:ext cx="32832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4" name=""/>
            <p:cNvSpPr/>
            <p:nvPr/>
          </p:nvSpPr>
          <p:spPr>
            <a:xfrm>
              <a:off x="8003520" y="463680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 name=""/>
            <p:cNvSpPr/>
            <p:nvPr/>
          </p:nvSpPr>
          <p:spPr>
            <a:xfrm>
              <a:off x="8048160" y="4597200"/>
              <a:ext cx="26784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6" name=""/>
            <p:cNvSpPr/>
            <p:nvPr/>
          </p:nvSpPr>
          <p:spPr>
            <a:xfrm>
              <a:off x="8003520" y="465264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 name=""/>
            <p:cNvSpPr/>
            <p:nvPr/>
          </p:nvSpPr>
          <p:spPr>
            <a:xfrm>
              <a:off x="8003520" y="470196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 name=""/>
            <p:cNvSpPr/>
            <p:nvPr/>
          </p:nvSpPr>
          <p:spPr>
            <a:xfrm>
              <a:off x="8003520" y="4900320"/>
              <a:ext cx="32832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 name=""/>
            <p:cNvSpPr/>
            <p:nvPr/>
          </p:nvSpPr>
          <p:spPr>
            <a:xfrm>
              <a:off x="8048160" y="471312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8314560" y="470340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8048160" y="4703400"/>
              <a:ext cx="25524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8301600" y="48956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3" name=""/>
            <p:cNvSpPr/>
            <p:nvPr/>
          </p:nvSpPr>
          <p:spPr>
            <a:xfrm flipH="1">
              <a:off x="8048160" y="4768560"/>
              <a:ext cx="2534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64" name=""/>
            <p:cNvSpPr/>
            <p:nvPr/>
          </p:nvSpPr>
          <p:spPr>
            <a:xfrm flipH="1">
              <a:off x="8048160" y="4835160"/>
              <a:ext cx="253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65" name=""/>
            <p:cNvSpPr/>
            <p:nvPr/>
          </p:nvSpPr>
          <p:spPr>
            <a:xfrm>
              <a:off x="8003520" y="4952880"/>
              <a:ext cx="32832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6" name=""/>
            <p:cNvSpPr/>
            <p:nvPr/>
          </p:nvSpPr>
          <p:spPr>
            <a:xfrm>
              <a:off x="8003520" y="5232240"/>
              <a:ext cx="32832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7" name=""/>
            <p:cNvSpPr/>
            <p:nvPr/>
          </p:nvSpPr>
          <p:spPr>
            <a:xfrm>
              <a:off x="8048160" y="496872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8314560" y="49528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8048160" y="5213160"/>
              <a:ext cx="26784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0" name=""/>
            <p:cNvSpPr/>
            <p:nvPr/>
          </p:nvSpPr>
          <p:spPr>
            <a:xfrm>
              <a:off x="8048160" y="5200200"/>
              <a:ext cx="26784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1" name=""/>
            <p:cNvSpPr/>
            <p:nvPr/>
          </p:nvSpPr>
          <p:spPr>
            <a:xfrm>
              <a:off x="8048160" y="5189400"/>
              <a:ext cx="26784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2" name=""/>
            <p:cNvSpPr/>
            <p:nvPr/>
          </p:nvSpPr>
          <p:spPr>
            <a:xfrm>
              <a:off x="8048160" y="5176440"/>
              <a:ext cx="26784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73" name=""/>
            <p:cNvSpPr/>
            <p:nvPr/>
          </p:nvSpPr>
          <p:spPr>
            <a:xfrm>
              <a:off x="8048160" y="5162400"/>
              <a:ext cx="26784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4" name=""/>
            <p:cNvSpPr/>
            <p:nvPr/>
          </p:nvSpPr>
          <p:spPr>
            <a:xfrm>
              <a:off x="8048160" y="4598640"/>
              <a:ext cx="25524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5" name=""/>
            <p:cNvSpPr/>
            <p:nvPr/>
          </p:nvSpPr>
          <p:spPr>
            <a:xfrm>
              <a:off x="8301600" y="462240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76" name=""/>
            <p:cNvSpPr/>
            <p:nvPr/>
          </p:nvSpPr>
          <p:spPr>
            <a:xfrm>
              <a:off x="8110440" y="4662360"/>
              <a:ext cx="14328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7" name=""/>
            <p:cNvSpPr/>
            <p:nvPr/>
          </p:nvSpPr>
          <p:spPr>
            <a:xfrm>
              <a:off x="8048160" y="4662360"/>
              <a:ext cx="26784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78" name=""/>
            <p:cNvSpPr/>
            <p:nvPr/>
          </p:nvSpPr>
          <p:spPr>
            <a:xfrm>
              <a:off x="8048160" y="4679640"/>
              <a:ext cx="20556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9" name=""/>
            <p:cNvSpPr/>
            <p:nvPr/>
          </p:nvSpPr>
          <p:spPr>
            <a:xfrm flipH="1">
              <a:off x="8252280" y="468288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80" name=""/>
            <p:cNvSpPr/>
            <p:nvPr/>
          </p:nvSpPr>
          <p:spPr>
            <a:xfrm>
              <a:off x="8252280" y="4662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81" name=""/>
            <p:cNvSpPr/>
            <p:nvPr/>
          </p:nvSpPr>
          <p:spPr>
            <a:xfrm>
              <a:off x="8061120" y="461448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2" name=""/>
            <p:cNvSpPr/>
            <p:nvPr/>
          </p:nvSpPr>
          <p:spPr>
            <a:xfrm>
              <a:off x="8097480" y="461304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 name=""/>
            <p:cNvSpPr/>
            <p:nvPr/>
          </p:nvSpPr>
          <p:spPr>
            <a:xfrm>
              <a:off x="8134200" y="461304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 name=""/>
            <p:cNvSpPr/>
            <p:nvPr/>
          </p:nvSpPr>
          <p:spPr>
            <a:xfrm>
              <a:off x="8172360" y="461304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5" name=""/>
            <p:cNvSpPr/>
            <p:nvPr/>
          </p:nvSpPr>
          <p:spPr>
            <a:xfrm>
              <a:off x="8210880" y="461124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6" name=""/>
            <p:cNvSpPr/>
            <p:nvPr/>
          </p:nvSpPr>
          <p:spPr>
            <a:xfrm>
              <a:off x="8245800" y="460836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7" name=""/>
            <p:cNvSpPr/>
            <p:nvPr/>
          </p:nvSpPr>
          <p:spPr>
            <a:xfrm>
              <a:off x="8284320" y="460836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8" name=""/>
            <p:cNvSpPr/>
            <p:nvPr/>
          </p:nvSpPr>
          <p:spPr>
            <a:xfrm>
              <a:off x="8289000" y="470340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8330760" y="5194080"/>
              <a:ext cx="15264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290" name=""/>
          <p:cNvGrpSpPr/>
          <p:nvPr/>
        </p:nvGrpSpPr>
        <p:grpSpPr>
          <a:xfrm>
            <a:off x="5288400" y="4267080"/>
            <a:ext cx="2510640" cy="668160"/>
            <a:chOff x="5288400" y="4267080"/>
            <a:chExt cx="2510640" cy="668160"/>
          </a:xfrm>
        </p:grpSpPr>
        <p:sp>
          <p:nvSpPr>
            <p:cNvPr id="291" name=""/>
            <p:cNvSpPr/>
            <p:nvPr/>
          </p:nvSpPr>
          <p:spPr>
            <a:xfrm flipH="1" flipV="1">
              <a:off x="5290200" y="4267080"/>
              <a:ext cx="2508840" cy="61596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flipV="1">
              <a:off x="5288400" y="4319640"/>
              <a:ext cx="2509560" cy="61560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3" name=""/>
          <p:cNvSpPr/>
          <p:nvPr/>
        </p:nvSpPr>
        <p:spPr>
          <a:xfrm>
            <a:off x="8007480" y="5259240"/>
            <a:ext cx="0" cy="52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031240" y="5776920"/>
            <a:ext cx="681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5" name=""/>
          <p:cNvGrpSpPr/>
          <p:nvPr/>
        </p:nvGrpSpPr>
        <p:grpSpPr>
          <a:xfrm>
            <a:off x="4503600" y="1692360"/>
            <a:ext cx="693360" cy="750600"/>
            <a:chOff x="4503600" y="1692360"/>
            <a:chExt cx="693360" cy="750600"/>
          </a:xfrm>
        </p:grpSpPr>
        <p:sp>
          <p:nvSpPr>
            <p:cNvPr id="296" name=""/>
            <p:cNvSpPr/>
            <p:nvPr/>
          </p:nvSpPr>
          <p:spPr>
            <a:xfrm>
              <a:off x="4744440" y="1716120"/>
              <a:ext cx="30096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4761720" y="2098800"/>
              <a:ext cx="26784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4761720" y="1849320"/>
              <a:ext cx="25524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503600" y="1693800"/>
              <a:ext cx="54216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0" name=""/>
            <p:cNvSpPr/>
            <p:nvPr/>
          </p:nvSpPr>
          <p:spPr>
            <a:xfrm>
              <a:off x="4503600" y="1693800"/>
              <a:ext cx="24228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717080" y="171936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761720" y="1847880"/>
              <a:ext cx="26784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4761720" y="1808280"/>
              <a:ext cx="26784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04" name=""/>
            <p:cNvSpPr/>
            <p:nvPr/>
          </p:nvSpPr>
          <p:spPr>
            <a:xfrm>
              <a:off x="4761720" y="1743120"/>
              <a:ext cx="26784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05" name=""/>
            <p:cNvSpPr/>
            <p:nvPr/>
          </p:nvSpPr>
          <p:spPr>
            <a:xfrm>
              <a:off x="4503600" y="1692360"/>
              <a:ext cx="54216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6" name=""/>
            <p:cNvSpPr/>
            <p:nvPr/>
          </p:nvSpPr>
          <p:spPr>
            <a:xfrm>
              <a:off x="4742640" y="1716120"/>
              <a:ext cx="30276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503600" y="1693800"/>
              <a:ext cx="24084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717080" y="172080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717080" y="1730160"/>
              <a:ext cx="32832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0" name=""/>
            <p:cNvSpPr/>
            <p:nvPr/>
          </p:nvSpPr>
          <p:spPr>
            <a:xfrm>
              <a:off x="4717080" y="178272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4761720" y="1743120"/>
              <a:ext cx="26784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 name=""/>
            <p:cNvSpPr/>
            <p:nvPr/>
          </p:nvSpPr>
          <p:spPr>
            <a:xfrm>
              <a:off x="4717080" y="179856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4717080" y="184788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4" name=""/>
            <p:cNvSpPr/>
            <p:nvPr/>
          </p:nvSpPr>
          <p:spPr>
            <a:xfrm>
              <a:off x="4717080" y="2046240"/>
              <a:ext cx="32832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 name=""/>
            <p:cNvSpPr/>
            <p:nvPr/>
          </p:nvSpPr>
          <p:spPr>
            <a:xfrm>
              <a:off x="4761720" y="185904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028120" y="18493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761720" y="1849320"/>
              <a:ext cx="25524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5015160" y="20415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9" name=""/>
            <p:cNvSpPr/>
            <p:nvPr/>
          </p:nvSpPr>
          <p:spPr>
            <a:xfrm flipH="1">
              <a:off x="4761720" y="1914480"/>
              <a:ext cx="2534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20" name=""/>
            <p:cNvSpPr/>
            <p:nvPr/>
          </p:nvSpPr>
          <p:spPr>
            <a:xfrm flipH="1">
              <a:off x="4761720" y="1981080"/>
              <a:ext cx="253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321" name=""/>
            <p:cNvSpPr/>
            <p:nvPr/>
          </p:nvSpPr>
          <p:spPr>
            <a:xfrm>
              <a:off x="4717080" y="2098800"/>
              <a:ext cx="32832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22" name=""/>
            <p:cNvSpPr/>
            <p:nvPr/>
          </p:nvSpPr>
          <p:spPr>
            <a:xfrm>
              <a:off x="4717080" y="2378160"/>
              <a:ext cx="32832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3" name=""/>
            <p:cNvSpPr/>
            <p:nvPr/>
          </p:nvSpPr>
          <p:spPr>
            <a:xfrm>
              <a:off x="4761720" y="211464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028120" y="20988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761720" y="2359080"/>
              <a:ext cx="26784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6" name=""/>
            <p:cNvSpPr/>
            <p:nvPr/>
          </p:nvSpPr>
          <p:spPr>
            <a:xfrm>
              <a:off x="4761720" y="2346120"/>
              <a:ext cx="26784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7" name=""/>
            <p:cNvSpPr/>
            <p:nvPr/>
          </p:nvSpPr>
          <p:spPr>
            <a:xfrm>
              <a:off x="4761720" y="2335320"/>
              <a:ext cx="26784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8" name=""/>
            <p:cNvSpPr/>
            <p:nvPr/>
          </p:nvSpPr>
          <p:spPr>
            <a:xfrm>
              <a:off x="4761720" y="2322360"/>
              <a:ext cx="26784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9" name=""/>
            <p:cNvSpPr/>
            <p:nvPr/>
          </p:nvSpPr>
          <p:spPr>
            <a:xfrm>
              <a:off x="4761720" y="2308320"/>
              <a:ext cx="26784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30" name=""/>
            <p:cNvSpPr/>
            <p:nvPr/>
          </p:nvSpPr>
          <p:spPr>
            <a:xfrm>
              <a:off x="4761720" y="1744560"/>
              <a:ext cx="25524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31" name=""/>
            <p:cNvSpPr/>
            <p:nvPr/>
          </p:nvSpPr>
          <p:spPr>
            <a:xfrm>
              <a:off x="5015160" y="176832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32" name=""/>
            <p:cNvSpPr/>
            <p:nvPr/>
          </p:nvSpPr>
          <p:spPr>
            <a:xfrm>
              <a:off x="4824000" y="1808280"/>
              <a:ext cx="14328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33" name=""/>
            <p:cNvSpPr/>
            <p:nvPr/>
          </p:nvSpPr>
          <p:spPr>
            <a:xfrm>
              <a:off x="4761720" y="1808280"/>
              <a:ext cx="26784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34" name=""/>
            <p:cNvSpPr/>
            <p:nvPr/>
          </p:nvSpPr>
          <p:spPr>
            <a:xfrm>
              <a:off x="4761720" y="1825560"/>
              <a:ext cx="20556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5" name=""/>
            <p:cNvSpPr/>
            <p:nvPr/>
          </p:nvSpPr>
          <p:spPr>
            <a:xfrm flipH="1">
              <a:off x="4965840" y="182880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6" name=""/>
            <p:cNvSpPr/>
            <p:nvPr/>
          </p:nvSpPr>
          <p:spPr>
            <a:xfrm>
              <a:off x="4965840" y="1808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337" name=""/>
            <p:cNvSpPr/>
            <p:nvPr/>
          </p:nvSpPr>
          <p:spPr>
            <a:xfrm>
              <a:off x="4774680" y="176040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8" name=""/>
            <p:cNvSpPr/>
            <p:nvPr/>
          </p:nvSpPr>
          <p:spPr>
            <a:xfrm>
              <a:off x="4811040" y="175896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9" name=""/>
            <p:cNvSpPr/>
            <p:nvPr/>
          </p:nvSpPr>
          <p:spPr>
            <a:xfrm>
              <a:off x="4847760" y="175896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0" name=""/>
            <p:cNvSpPr/>
            <p:nvPr/>
          </p:nvSpPr>
          <p:spPr>
            <a:xfrm>
              <a:off x="4885920" y="175896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1" name=""/>
            <p:cNvSpPr/>
            <p:nvPr/>
          </p:nvSpPr>
          <p:spPr>
            <a:xfrm>
              <a:off x="4924440" y="175716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2" name=""/>
            <p:cNvSpPr/>
            <p:nvPr/>
          </p:nvSpPr>
          <p:spPr>
            <a:xfrm>
              <a:off x="4959360" y="175428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3" name=""/>
            <p:cNvSpPr/>
            <p:nvPr/>
          </p:nvSpPr>
          <p:spPr>
            <a:xfrm>
              <a:off x="4997880" y="175428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4" name=""/>
            <p:cNvSpPr/>
            <p:nvPr/>
          </p:nvSpPr>
          <p:spPr>
            <a:xfrm>
              <a:off x="5002560" y="184932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5044320" y="2340000"/>
              <a:ext cx="15264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46" name=""/>
          <p:cNvSpPr/>
          <p:nvPr/>
        </p:nvSpPr>
        <p:spPr>
          <a:xfrm>
            <a:off x="4673520" y="17938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AS</a:t>
            </a:r>
            <a:endParaRPr b="0" lang="en-US" sz="2000" spc="-1" strike="noStrike">
              <a:solidFill>
                <a:srgbClr val="ffffff"/>
              </a:solidFill>
              <a:latin typeface="Times New Roman"/>
            </a:endParaRPr>
          </a:p>
        </p:txBody>
      </p:sp>
      <p:grpSp>
        <p:nvGrpSpPr>
          <p:cNvPr id="347" name=""/>
          <p:cNvGrpSpPr/>
          <p:nvPr/>
        </p:nvGrpSpPr>
        <p:grpSpPr>
          <a:xfrm>
            <a:off x="8331120" y="5321160"/>
            <a:ext cx="812880" cy="675000"/>
            <a:chOff x="8331120" y="5321160"/>
            <a:chExt cx="812880" cy="675000"/>
          </a:xfrm>
        </p:grpSpPr>
        <p:sp>
          <p:nvSpPr>
            <p:cNvPr id="348" name=""/>
            <p:cNvSpPr/>
            <p:nvPr/>
          </p:nvSpPr>
          <p:spPr>
            <a:xfrm>
              <a:off x="8331120" y="5321160"/>
              <a:ext cx="812880" cy="67500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8741160" y="5529960"/>
              <a:ext cx="0" cy="49320"/>
            </a:xfrm>
            <a:prstGeom prst="line">
              <a:avLst/>
            </a:prstGeom>
            <a:ln w="1260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50" name=""/>
            <p:cNvSpPr/>
            <p:nvPr/>
          </p:nvSpPr>
          <p:spPr>
            <a:xfrm>
              <a:off x="8704440" y="5469840"/>
              <a:ext cx="71280" cy="5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351" name=""/>
            <p:cNvSpPr/>
            <p:nvPr/>
          </p:nvSpPr>
          <p:spPr>
            <a:xfrm flipH="1">
              <a:off x="8665920" y="5618520"/>
              <a:ext cx="74880" cy="1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8748360" y="5625360"/>
              <a:ext cx="1119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8705880" y="5578920"/>
              <a:ext cx="70560" cy="5580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flipH="1">
              <a:off x="8528040" y="5765040"/>
              <a:ext cx="125640" cy="13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8665920" y="5760720"/>
              <a:ext cx="134280" cy="14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8665920" y="5757480"/>
              <a:ext cx="0" cy="14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8863560" y="5750640"/>
              <a:ext cx="76320" cy="150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8493480" y="5875920"/>
              <a:ext cx="71280" cy="5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359" name=""/>
            <p:cNvSpPr/>
            <p:nvPr/>
          </p:nvSpPr>
          <p:spPr>
            <a:xfrm>
              <a:off x="8827560" y="5726520"/>
              <a:ext cx="71280" cy="5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360" name=""/>
            <p:cNvSpPr/>
            <p:nvPr/>
          </p:nvSpPr>
          <p:spPr>
            <a:xfrm>
              <a:off x="8627400" y="5726520"/>
              <a:ext cx="70560" cy="5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361" name=""/>
            <p:cNvSpPr/>
            <p:nvPr/>
          </p:nvSpPr>
          <p:spPr>
            <a:xfrm>
              <a:off x="8900640" y="5875920"/>
              <a:ext cx="71280" cy="5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362" name=""/>
            <p:cNvSpPr/>
            <p:nvPr/>
          </p:nvSpPr>
          <p:spPr>
            <a:xfrm>
              <a:off x="8763840" y="5875920"/>
              <a:ext cx="70920" cy="5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363" name=""/>
            <p:cNvSpPr/>
            <p:nvPr/>
          </p:nvSpPr>
          <p:spPr>
            <a:xfrm>
              <a:off x="8629920" y="5875920"/>
              <a:ext cx="71280" cy="550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64" name=""/>
          <p:cNvSpPr/>
          <p:nvPr/>
        </p:nvSpPr>
        <p:spPr>
          <a:xfrm>
            <a:off x="4624560" y="4889520"/>
            <a:ext cx="107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Proxy</a:t>
            </a:r>
            <a:endParaRPr b="0" lang="en-US" sz="2000" spc="-1" strike="noStrike">
              <a:solidFill>
                <a:srgbClr val="ffffff"/>
              </a:solidFill>
              <a:latin typeface="Times New Roman"/>
            </a:endParaRPr>
          </a:p>
        </p:txBody>
      </p:sp>
      <p:grpSp>
        <p:nvGrpSpPr>
          <p:cNvPr id="365" name=""/>
          <p:cNvGrpSpPr/>
          <p:nvPr/>
        </p:nvGrpSpPr>
        <p:grpSpPr>
          <a:xfrm>
            <a:off x="4619520" y="5846760"/>
            <a:ext cx="1055880" cy="848160"/>
            <a:chOff x="4619520" y="5846760"/>
            <a:chExt cx="1055880" cy="848160"/>
          </a:xfrm>
        </p:grpSpPr>
        <p:grpSp>
          <p:nvGrpSpPr>
            <p:cNvPr id="366" name=""/>
            <p:cNvGrpSpPr/>
            <p:nvPr/>
          </p:nvGrpSpPr>
          <p:grpSpPr>
            <a:xfrm>
              <a:off x="4756320" y="5846760"/>
              <a:ext cx="690480" cy="750600"/>
              <a:chOff x="4756320" y="5846760"/>
              <a:chExt cx="690480" cy="750600"/>
            </a:xfrm>
          </p:grpSpPr>
          <p:sp>
            <p:nvSpPr>
              <p:cNvPr id="367" name=""/>
              <p:cNvSpPr/>
              <p:nvPr/>
            </p:nvSpPr>
            <p:spPr>
              <a:xfrm>
                <a:off x="4996080" y="587052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5013360" y="625320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013360" y="600372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4756320" y="584820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71" name=""/>
              <p:cNvSpPr/>
              <p:nvPr/>
            </p:nvSpPr>
            <p:spPr>
              <a:xfrm>
                <a:off x="4756320" y="584820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969080" y="587376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5013360" y="600228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013360" y="596268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5" name=""/>
              <p:cNvSpPr/>
              <p:nvPr/>
            </p:nvSpPr>
            <p:spPr>
              <a:xfrm>
                <a:off x="5013360" y="589752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 name=""/>
              <p:cNvSpPr/>
              <p:nvPr/>
            </p:nvSpPr>
            <p:spPr>
              <a:xfrm>
                <a:off x="4756320" y="584676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77" name=""/>
              <p:cNvSpPr/>
              <p:nvPr/>
            </p:nvSpPr>
            <p:spPr>
              <a:xfrm>
                <a:off x="4994280" y="587052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4756320" y="584820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4969080" y="587520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969080" y="588456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1" name=""/>
              <p:cNvSpPr/>
              <p:nvPr/>
            </p:nvSpPr>
            <p:spPr>
              <a:xfrm>
                <a:off x="4969080" y="59371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2" name=""/>
              <p:cNvSpPr/>
              <p:nvPr/>
            </p:nvSpPr>
            <p:spPr>
              <a:xfrm>
                <a:off x="5013360" y="589752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3" name=""/>
              <p:cNvSpPr/>
              <p:nvPr/>
            </p:nvSpPr>
            <p:spPr>
              <a:xfrm>
                <a:off x="4969080" y="595296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4" name=""/>
              <p:cNvSpPr/>
              <p:nvPr/>
            </p:nvSpPr>
            <p:spPr>
              <a:xfrm>
                <a:off x="4969080" y="60022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5" name=""/>
              <p:cNvSpPr/>
              <p:nvPr/>
            </p:nvSpPr>
            <p:spPr>
              <a:xfrm>
                <a:off x="4969080" y="620064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6" name=""/>
              <p:cNvSpPr/>
              <p:nvPr/>
            </p:nvSpPr>
            <p:spPr>
              <a:xfrm>
                <a:off x="5013360" y="601344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5278680" y="60037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013360" y="600372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5265720" y="6195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90" name=""/>
              <p:cNvSpPr/>
              <p:nvPr/>
            </p:nvSpPr>
            <p:spPr>
              <a:xfrm flipH="1">
                <a:off x="5013000" y="606888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91" name=""/>
              <p:cNvSpPr/>
              <p:nvPr/>
            </p:nvSpPr>
            <p:spPr>
              <a:xfrm flipH="1">
                <a:off x="5013000" y="613548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392" name=""/>
              <p:cNvSpPr/>
              <p:nvPr/>
            </p:nvSpPr>
            <p:spPr>
              <a:xfrm>
                <a:off x="4969080" y="625320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93" name=""/>
              <p:cNvSpPr/>
              <p:nvPr/>
            </p:nvSpPr>
            <p:spPr>
              <a:xfrm>
                <a:off x="4969080" y="653256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4" name=""/>
              <p:cNvSpPr/>
              <p:nvPr/>
            </p:nvSpPr>
            <p:spPr>
              <a:xfrm>
                <a:off x="5013360" y="626904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5278680" y="62532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5013360" y="651348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7" name=""/>
              <p:cNvSpPr/>
              <p:nvPr/>
            </p:nvSpPr>
            <p:spPr>
              <a:xfrm>
                <a:off x="5013360" y="650052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98" name=""/>
              <p:cNvSpPr/>
              <p:nvPr/>
            </p:nvSpPr>
            <p:spPr>
              <a:xfrm>
                <a:off x="5013360" y="648972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9" name=""/>
              <p:cNvSpPr/>
              <p:nvPr/>
            </p:nvSpPr>
            <p:spPr>
              <a:xfrm>
                <a:off x="5013360" y="647676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0" name=""/>
              <p:cNvSpPr/>
              <p:nvPr/>
            </p:nvSpPr>
            <p:spPr>
              <a:xfrm>
                <a:off x="5013360" y="646272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01" name=""/>
              <p:cNvSpPr/>
              <p:nvPr/>
            </p:nvSpPr>
            <p:spPr>
              <a:xfrm>
                <a:off x="5013360" y="589896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02" name=""/>
              <p:cNvSpPr/>
              <p:nvPr/>
            </p:nvSpPr>
            <p:spPr>
              <a:xfrm>
                <a:off x="5265720" y="592272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3" name=""/>
              <p:cNvSpPr/>
              <p:nvPr/>
            </p:nvSpPr>
            <p:spPr>
              <a:xfrm>
                <a:off x="5075280" y="596268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4" name=""/>
              <p:cNvSpPr/>
              <p:nvPr/>
            </p:nvSpPr>
            <p:spPr>
              <a:xfrm>
                <a:off x="5013360" y="596268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5" name=""/>
              <p:cNvSpPr/>
              <p:nvPr/>
            </p:nvSpPr>
            <p:spPr>
              <a:xfrm>
                <a:off x="5013360" y="597996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6" name=""/>
              <p:cNvSpPr/>
              <p:nvPr/>
            </p:nvSpPr>
            <p:spPr>
              <a:xfrm flipH="1">
                <a:off x="5216760" y="598320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07" name=""/>
              <p:cNvSpPr/>
              <p:nvPr/>
            </p:nvSpPr>
            <p:spPr>
              <a:xfrm>
                <a:off x="5216760" y="59626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408" name=""/>
              <p:cNvSpPr/>
              <p:nvPr/>
            </p:nvSpPr>
            <p:spPr>
              <a:xfrm>
                <a:off x="5026320" y="591480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9" name=""/>
              <p:cNvSpPr/>
              <p:nvPr/>
            </p:nvSpPr>
            <p:spPr>
              <a:xfrm>
                <a:off x="5062680" y="591336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0" name=""/>
              <p:cNvSpPr/>
              <p:nvPr/>
            </p:nvSpPr>
            <p:spPr>
              <a:xfrm>
                <a:off x="5099040" y="591336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1" name=""/>
              <p:cNvSpPr/>
              <p:nvPr/>
            </p:nvSpPr>
            <p:spPr>
              <a:xfrm>
                <a:off x="5137200" y="591336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2" name=""/>
              <p:cNvSpPr/>
              <p:nvPr/>
            </p:nvSpPr>
            <p:spPr>
              <a:xfrm>
                <a:off x="5175360" y="591156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3" name=""/>
              <p:cNvSpPr/>
              <p:nvPr/>
            </p:nvSpPr>
            <p:spPr>
              <a:xfrm>
                <a:off x="5210280" y="590868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4" name=""/>
              <p:cNvSpPr/>
              <p:nvPr/>
            </p:nvSpPr>
            <p:spPr>
              <a:xfrm>
                <a:off x="5248440" y="590868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5" name=""/>
              <p:cNvSpPr/>
              <p:nvPr/>
            </p:nvSpPr>
            <p:spPr>
              <a:xfrm>
                <a:off x="5253120" y="600372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5294520" y="649440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17" name=""/>
            <p:cNvSpPr/>
            <p:nvPr/>
          </p:nvSpPr>
          <p:spPr>
            <a:xfrm>
              <a:off x="4619520" y="5991120"/>
              <a:ext cx="105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Server</a:t>
              </a:r>
              <a:endParaRPr b="0" lang="en-US" sz="2000" spc="-1" strike="noStrike">
                <a:solidFill>
                  <a:srgbClr val="ffffff"/>
                </a:solidFill>
                <a:latin typeface="Times New Roman"/>
              </a:endParaRPr>
            </a:p>
          </p:txBody>
        </p:sp>
      </p:grpSp>
      <p:grpSp>
        <p:nvGrpSpPr>
          <p:cNvPr id="418" name=""/>
          <p:cNvGrpSpPr/>
          <p:nvPr/>
        </p:nvGrpSpPr>
        <p:grpSpPr>
          <a:xfrm>
            <a:off x="4686480" y="3660840"/>
            <a:ext cx="1303200" cy="750600"/>
            <a:chOff x="4686480" y="3660840"/>
            <a:chExt cx="1303200" cy="750600"/>
          </a:xfrm>
        </p:grpSpPr>
        <p:grpSp>
          <p:nvGrpSpPr>
            <p:cNvPr id="419" name=""/>
            <p:cNvGrpSpPr/>
            <p:nvPr/>
          </p:nvGrpSpPr>
          <p:grpSpPr>
            <a:xfrm>
              <a:off x="4732200" y="3660840"/>
              <a:ext cx="693360" cy="750600"/>
              <a:chOff x="4732200" y="3660840"/>
              <a:chExt cx="693360" cy="750600"/>
            </a:xfrm>
          </p:grpSpPr>
          <p:sp>
            <p:nvSpPr>
              <p:cNvPr id="420" name=""/>
              <p:cNvSpPr/>
              <p:nvPr/>
            </p:nvSpPr>
            <p:spPr>
              <a:xfrm>
                <a:off x="4973040" y="3684600"/>
                <a:ext cx="30096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4990320" y="4067280"/>
                <a:ext cx="26784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4990320" y="3817800"/>
                <a:ext cx="25524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4732200" y="3662280"/>
                <a:ext cx="54216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4" name=""/>
              <p:cNvSpPr/>
              <p:nvPr/>
            </p:nvSpPr>
            <p:spPr>
              <a:xfrm>
                <a:off x="4732200" y="3662280"/>
                <a:ext cx="24228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4945680" y="368784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4990320" y="3816360"/>
                <a:ext cx="26784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990320" y="3776760"/>
                <a:ext cx="26784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28" name=""/>
              <p:cNvSpPr/>
              <p:nvPr/>
            </p:nvSpPr>
            <p:spPr>
              <a:xfrm>
                <a:off x="4990320" y="3711600"/>
                <a:ext cx="26784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9" name=""/>
              <p:cNvSpPr/>
              <p:nvPr/>
            </p:nvSpPr>
            <p:spPr>
              <a:xfrm>
                <a:off x="4732200" y="3660840"/>
                <a:ext cx="54216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0" name=""/>
              <p:cNvSpPr/>
              <p:nvPr/>
            </p:nvSpPr>
            <p:spPr>
              <a:xfrm>
                <a:off x="4971240" y="3684600"/>
                <a:ext cx="30276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4732200" y="3662280"/>
                <a:ext cx="24084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945680" y="368928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945680" y="3698640"/>
                <a:ext cx="32832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4" name=""/>
              <p:cNvSpPr/>
              <p:nvPr/>
            </p:nvSpPr>
            <p:spPr>
              <a:xfrm>
                <a:off x="4945680" y="375120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5" name=""/>
              <p:cNvSpPr/>
              <p:nvPr/>
            </p:nvSpPr>
            <p:spPr>
              <a:xfrm>
                <a:off x="4990320" y="3711600"/>
                <a:ext cx="26784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6" name=""/>
              <p:cNvSpPr/>
              <p:nvPr/>
            </p:nvSpPr>
            <p:spPr>
              <a:xfrm>
                <a:off x="4945680" y="376704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7" name=""/>
              <p:cNvSpPr/>
              <p:nvPr/>
            </p:nvSpPr>
            <p:spPr>
              <a:xfrm>
                <a:off x="4945680" y="3816360"/>
                <a:ext cx="32832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8" name=""/>
              <p:cNvSpPr/>
              <p:nvPr/>
            </p:nvSpPr>
            <p:spPr>
              <a:xfrm>
                <a:off x="4945680" y="4014720"/>
                <a:ext cx="32832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9" name=""/>
              <p:cNvSpPr/>
              <p:nvPr/>
            </p:nvSpPr>
            <p:spPr>
              <a:xfrm>
                <a:off x="4990320" y="382752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256720" y="381780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4990320" y="3817800"/>
                <a:ext cx="25524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5243760" y="40100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43" name=""/>
              <p:cNvSpPr/>
              <p:nvPr/>
            </p:nvSpPr>
            <p:spPr>
              <a:xfrm flipH="1">
                <a:off x="4990320" y="3882960"/>
                <a:ext cx="2534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444" name=""/>
              <p:cNvSpPr/>
              <p:nvPr/>
            </p:nvSpPr>
            <p:spPr>
              <a:xfrm flipH="1">
                <a:off x="4990320" y="3949560"/>
                <a:ext cx="253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45" name=""/>
              <p:cNvSpPr/>
              <p:nvPr/>
            </p:nvSpPr>
            <p:spPr>
              <a:xfrm>
                <a:off x="4945680" y="4067280"/>
                <a:ext cx="32832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46" name=""/>
              <p:cNvSpPr/>
              <p:nvPr/>
            </p:nvSpPr>
            <p:spPr>
              <a:xfrm>
                <a:off x="4945680" y="4346640"/>
                <a:ext cx="32832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7" name=""/>
              <p:cNvSpPr/>
              <p:nvPr/>
            </p:nvSpPr>
            <p:spPr>
              <a:xfrm>
                <a:off x="4990320" y="408312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256720" y="40672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4990320" y="4327560"/>
                <a:ext cx="26784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0" name=""/>
              <p:cNvSpPr/>
              <p:nvPr/>
            </p:nvSpPr>
            <p:spPr>
              <a:xfrm>
                <a:off x="4990320" y="4314600"/>
                <a:ext cx="26784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51" name=""/>
              <p:cNvSpPr/>
              <p:nvPr/>
            </p:nvSpPr>
            <p:spPr>
              <a:xfrm>
                <a:off x="4990320" y="4303800"/>
                <a:ext cx="26784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2" name=""/>
              <p:cNvSpPr/>
              <p:nvPr/>
            </p:nvSpPr>
            <p:spPr>
              <a:xfrm>
                <a:off x="4990320" y="4290840"/>
                <a:ext cx="26784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3" name=""/>
              <p:cNvSpPr/>
              <p:nvPr/>
            </p:nvSpPr>
            <p:spPr>
              <a:xfrm>
                <a:off x="4990320" y="4276800"/>
                <a:ext cx="26784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54" name=""/>
              <p:cNvSpPr/>
              <p:nvPr/>
            </p:nvSpPr>
            <p:spPr>
              <a:xfrm>
                <a:off x="4990320" y="3713040"/>
                <a:ext cx="25524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55" name=""/>
              <p:cNvSpPr/>
              <p:nvPr/>
            </p:nvSpPr>
            <p:spPr>
              <a:xfrm>
                <a:off x="5243760" y="373680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56" name=""/>
              <p:cNvSpPr/>
              <p:nvPr/>
            </p:nvSpPr>
            <p:spPr>
              <a:xfrm>
                <a:off x="5052600" y="3776760"/>
                <a:ext cx="14328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7" name=""/>
              <p:cNvSpPr/>
              <p:nvPr/>
            </p:nvSpPr>
            <p:spPr>
              <a:xfrm>
                <a:off x="4990320" y="3776760"/>
                <a:ext cx="26784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8" name=""/>
              <p:cNvSpPr/>
              <p:nvPr/>
            </p:nvSpPr>
            <p:spPr>
              <a:xfrm>
                <a:off x="4990320" y="3794040"/>
                <a:ext cx="20556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9" name=""/>
              <p:cNvSpPr/>
              <p:nvPr/>
            </p:nvSpPr>
            <p:spPr>
              <a:xfrm flipH="1">
                <a:off x="5194440" y="379728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60" name=""/>
              <p:cNvSpPr/>
              <p:nvPr/>
            </p:nvSpPr>
            <p:spPr>
              <a:xfrm>
                <a:off x="5194440" y="37767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461" name=""/>
              <p:cNvSpPr/>
              <p:nvPr/>
            </p:nvSpPr>
            <p:spPr>
              <a:xfrm>
                <a:off x="5003280" y="372888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2" name=""/>
              <p:cNvSpPr/>
              <p:nvPr/>
            </p:nvSpPr>
            <p:spPr>
              <a:xfrm>
                <a:off x="5039640" y="372744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 name=""/>
              <p:cNvSpPr/>
              <p:nvPr/>
            </p:nvSpPr>
            <p:spPr>
              <a:xfrm>
                <a:off x="5076360" y="372744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4" name=""/>
              <p:cNvSpPr/>
              <p:nvPr/>
            </p:nvSpPr>
            <p:spPr>
              <a:xfrm>
                <a:off x="5114520" y="372744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5" name=""/>
              <p:cNvSpPr/>
              <p:nvPr/>
            </p:nvSpPr>
            <p:spPr>
              <a:xfrm>
                <a:off x="5153040" y="372564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6" name=""/>
              <p:cNvSpPr/>
              <p:nvPr/>
            </p:nvSpPr>
            <p:spPr>
              <a:xfrm>
                <a:off x="5187960" y="372276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7" name=""/>
              <p:cNvSpPr/>
              <p:nvPr/>
            </p:nvSpPr>
            <p:spPr>
              <a:xfrm>
                <a:off x="5226480" y="372276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8" name=""/>
              <p:cNvSpPr/>
              <p:nvPr/>
            </p:nvSpPr>
            <p:spPr>
              <a:xfrm>
                <a:off x="5231160" y="381780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5272920" y="4308480"/>
                <a:ext cx="15264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70" name=""/>
            <p:cNvSpPr/>
            <p:nvPr/>
          </p:nvSpPr>
          <p:spPr>
            <a:xfrm>
              <a:off x="4686480" y="3660840"/>
              <a:ext cx="130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PN Gateway</a:t>
              </a:r>
              <a:endParaRPr b="0" lang="en-US" sz="2000" spc="-1" strike="noStrike">
                <a:solidFill>
                  <a:srgbClr val="ffffff"/>
                </a:solidFill>
                <a:latin typeface="Times New Roman"/>
              </a:endParaRPr>
            </a:p>
          </p:txBody>
        </p:sp>
      </p:grpSp>
      <p:pic>
        <p:nvPicPr>
          <p:cNvPr id="471" name="" descr=""/>
          <p:cNvPicPr/>
          <p:nvPr/>
        </p:nvPicPr>
        <p:blipFill>
          <a:blip r:embed="rId9"/>
          <a:stretch/>
        </p:blipFill>
        <p:spPr>
          <a:xfrm>
            <a:off x="7227720" y="3321000"/>
            <a:ext cx="858960" cy="247680"/>
          </a:xfrm>
          <a:prstGeom prst="rect">
            <a:avLst/>
          </a:prstGeom>
          <a:ln w="0">
            <a:noFill/>
          </a:ln>
        </p:spPr>
      </p:pic>
      <p:grpSp>
        <p:nvGrpSpPr>
          <p:cNvPr id="472" name=""/>
          <p:cNvGrpSpPr/>
          <p:nvPr/>
        </p:nvGrpSpPr>
        <p:grpSpPr>
          <a:xfrm>
            <a:off x="2771640" y="1587600"/>
            <a:ext cx="1435320" cy="1208160"/>
            <a:chOff x="2771640" y="1587600"/>
            <a:chExt cx="1435320" cy="1208160"/>
          </a:xfrm>
        </p:grpSpPr>
        <p:sp>
          <p:nvSpPr>
            <p:cNvPr id="473" name=""/>
            <p:cNvSpPr/>
            <p:nvPr/>
          </p:nvSpPr>
          <p:spPr>
            <a:xfrm>
              <a:off x="2771640" y="1587600"/>
              <a:ext cx="1435320" cy="120816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495600" y="1961280"/>
              <a:ext cx="0" cy="8856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475" name=""/>
            <p:cNvSpPr/>
            <p:nvPr/>
          </p:nvSpPr>
          <p:spPr>
            <a:xfrm>
              <a:off x="3431160" y="1854000"/>
              <a:ext cx="126000" cy="98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476" name=""/>
            <p:cNvSpPr/>
            <p:nvPr/>
          </p:nvSpPr>
          <p:spPr>
            <a:xfrm flipH="1">
              <a:off x="3362760" y="2120040"/>
              <a:ext cx="132480" cy="209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508200" y="2132280"/>
              <a:ext cx="19800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3433680" y="2049120"/>
              <a:ext cx="124560" cy="997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479" name=""/>
            <p:cNvSpPr/>
            <p:nvPr/>
          </p:nvSpPr>
          <p:spPr>
            <a:xfrm flipH="1">
              <a:off x="3119760" y="2381760"/>
              <a:ext cx="222120" cy="248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362760" y="2374200"/>
              <a:ext cx="237240" cy="26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362760" y="2368440"/>
              <a:ext cx="0" cy="26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3711600" y="2356200"/>
              <a:ext cx="135000" cy="26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3058200" y="2580480"/>
              <a:ext cx="126000" cy="9864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484" name=""/>
            <p:cNvSpPr/>
            <p:nvPr/>
          </p:nvSpPr>
          <p:spPr>
            <a:xfrm>
              <a:off x="3648240" y="2313000"/>
              <a:ext cx="126000" cy="9864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485" name=""/>
            <p:cNvSpPr/>
            <p:nvPr/>
          </p:nvSpPr>
          <p:spPr>
            <a:xfrm>
              <a:off x="3294720" y="2313000"/>
              <a:ext cx="124560" cy="9864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486" name=""/>
            <p:cNvSpPr/>
            <p:nvPr/>
          </p:nvSpPr>
          <p:spPr>
            <a:xfrm>
              <a:off x="3777120" y="2580480"/>
              <a:ext cx="126000" cy="9864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487" name=""/>
            <p:cNvSpPr/>
            <p:nvPr/>
          </p:nvSpPr>
          <p:spPr>
            <a:xfrm>
              <a:off x="3535920" y="2580480"/>
              <a:ext cx="124920" cy="9864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488" name=""/>
            <p:cNvSpPr/>
            <p:nvPr/>
          </p:nvSpPr>
          <p:spPr>
            <a:xfrm>
              <a:off x="3299400" y="2580480"/>
              <a:ext cx="126000" cy="9864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sp>
        <p:nvSpPr>
          <p:cNvPr id="489" name=""/>
          <p:cNvSpPr/>
          <p:nvPr/>
        </p:nvSpPr>
        <p:spPr>
          <a:xfrm>
            <a:off x="1066680" y="2693880"/>
            <a:ext cx="0" cy="30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64440" y="3065400"/>
            <a:ext cx="85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S</a:t>
            </a:r>
            <a:endParaRPr b="0" lang="en-US" sz="1600" spc="-1" strike="noStrike">
              <a:solidFill>
                <a:srgbClr val="ffffff"/>
              </a:solidFill>
              <a:latin typeface="Times New Roman"/>
            </a:endParaRPr>
          </a:p>
        </p:txBody>
      </p:sp>
      <p:sp>
        <p:nvSpPr>
          <p:cNvPr id="491" name=""/>
          <p:cNvSpPr/>
          <p:nvPr/>
        </p:nvSpPr>
        <p:spPr>
          <a:xfrm>
            <a:off x="2941560" y="1428840"/>
            <a:ext cx="12747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1800" spc="-1" strike="noStrike">
                <a:solidFill>
                  <a:srgbClr val="ffffff"/>
                </a:solidFill>
                <a:latin typeface="Arial"/>
              </a:rPr>
              <a:t>Active Directory</a:t>
            </a:r>
            <a:endParaRPr b="0" lang="en-US" sz="1800" spc="-1" strike="noStrike">
              <a:solidFill>
                <a:srgbClr val="ffffff"/>
              </a:solidFill>
              <a:latin typeface="Times New Roman"/>
            </a:endParaRPr>
          </a:p>
        </p:txBody>
      </p:sp>
      <p:sp>
        <p:nvSpPr>
          <p:cNvPr id="492" name=""/>
          <p:cNvSpPr/>
          <p:nvPr/>
        </p:nvSpPr>
        <p:spPr>
          <a:xfrm>
            <a:off x="7481880" y="4203720"/>
            <a:ext cx="16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te/Branch</a:t>
            </a:r>
            <a:endParaRPr b="0" lang="en-US" sz="2000" spc="-1" strike="noStrike">
              <a:solidFill>
                <a:srgbClr val="ffffff"/>
              </a:solidFill>
              <a:latin typeface="Times New Roman"/>
            </a:endParaRPr>
          </a:p>
        </p:txBody>
      </p:sp>
      <p:grpSp>
        <p:nvGrpSpPr>
          <p:cNvPr id="493" name=""/>
          <p:cNvGrpSpPr/>
          <p:nvPr/>
        </p:nvGrpSpPr>
        <p:grpSpPr>
          <a:xfrm>
            <a:off x="944640" y="2712960"/>
            <a:ext cx="2314080" cy="2225880"/>
            <a:chOff x="944640" y="2712960"/>
            <a:chExt cx="2314080" cy="2225880"/>
          </a:xfrm>
        </p:grpSpPr>
        <p:grpSp>
          <p:nvGrpSpPr>
            <p:cNvPr id="494" name=""/>
            <p:cNvGrpSpPr/>
            <p:nvPr/>
          </p:nvGrpSpPr>
          <p:grpSpPr>
            <a:xfrm>
              <a:off x="944640" y="2712960"/>
              <a:ext cx="2314080" cy="2225880"/>
              <a:chOff x="944640" y="2712960"/>
              <a:chExt cx="2314080" cy="2225880"/>
            </a:xfrm>
          </p:grpSpPr>
          <p:sp>
            <p:nvSpPr>
              <p:cNvPr id="495" name=""/>
              <p:cNvSpPr/>
              <p:nvPr/>
            </p:nvSpPr>
            <p:spPr>
              <a:xfrm>
                <a:off x="1039680" y="2778120"/>
                <a:ext cx="1337760" cy="216072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944640" y="2763720"/>
                <a:ext cx="545760" cy="189252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1182600" y="2712960"/>
                <a:ext cx="2076120" cy="19112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8" name=""/>
            <p:cNvSpPr/>
            <p:nvPr/>
          </p:nvSpPr>
          <p:spPr>
            <a:xfrm>
              <a:off x="1278000" y="3552840"/>
              <a:ext cx="11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PSec</a:t>
              </a:r>
              <a:endParaRPr b="0" lang="en-US" sz="2800" spc="-1" strike="noStrike">
                <a:solidFill>
                  <a:srgbClr val="ffffff"/>
                </a:solidFill>
                <a:latin typeface="Times New Roman"/>
              </a:endParaRPr>
            </a:p>
          </p:txBody>
        </p:sp>
      </p:grpSp>
      <p:grpSp>
        <p:nvGrpSpPr>
          <p:cNvPr id="499" name=""/>
          <p:cNvGrpSpPr/>
          <p:nvPr/>
        </p:nvGrpSpPr>
        <p:grpSpPr>
          <a:xfrm>
            <a:off x="2052720" y="1420920"/>
            <a:ext cx="690480" cy="750600"/>
            <a:chOff x="2052720" y="1420920"/>
            <a:chExt cx="690480" cy="750600"/>
          </a:xfrm>
        </p:grpSpPr>
        <p:sp>
          <p:nvSpPr>
            <p:cNvPr id="500" name=""/>
            <p:cNvSpPr/>
            <p:nvPr/>
          </p:nvSpPr>
          <p:spPr>
            <a:xfrm>
              <a:off x="2292480" y="1444680"/>
              <a:ext cx="299880" cy="72684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2309760" y="1827360"/>
              <a:ext cx="266760" cy="3092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2309760" y="1577880"/>
              <a:ext cx="254160" cy="20808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2052720" y="1422360"/>
              <a:ext cx="539640" cy="3024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4" name=""/>
            <p:cNvSpPr/>
            <p:nvPr/>
          </p:nvSpPr>
          <p:spPr>
            <a:xfrm>
              <a:off x="2052720" y="1422360"/>
              <a:ext cx="241200" cy="7491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2265480" y="1447920"/>
              <a:ext cx="28440" cy="7236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2309760" y="1576440"/>
              <a:ext cx="266760" cy="21744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2309760" y="1536840"/>
              <a:ext cx="266760" cy="4284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8" name=""/>
            <p:cNvSpPr/>
            <p:nvPr/>
          </p:nvSpPr>
          <p:spPr>
            <a:xfrm>
              <a:off x="2309760" y="1471680"/>
              <a:ext cx="266760" cy="363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09" name=""/>
            <p:cNvSpPr/>
            <p:nvPr/>
          </p:nvSpPr>
          <p:spPr>
            <a:xfrm>
              <a:off x="2052720" y="1420920"/>
              <a:ext cx="539640" cy="316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0" name=""/>
            <p:cNvSpPr/>
            <p:nvPr/>
          </p:nvSpPr>
          <p:spPr>
            <a:xfrm>
              <a:off x="2290680" y="1444680"/>
              <a:ext cx="301680" cy="72684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2052720" y="1422360"/>
              <a:ext cx="239760" cy="7491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2265480" y="1449360"/>
              <a:ext cx="0" cy="70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2265480" y="1458720"/>
              <a:ext cx="326880" cy="2700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4" name=""/>
            <p:cNvSpPr/>
            <p:nvPr/>
          </p:nvSpPr>
          <p:spPr>
            <a:xfrm>
              <a:off x="2265480" y="151128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5" name=""/>
            <p:cNvSpPr/>
            <p:nvPr/>
          </p:nvSpPr>
          <p:spPr>
            <a:xfrm>
              <a:off x="2309760" y="1471680"/>
              <a:ext cx="266760" cy="363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16" name=""/>
            <p:cNvSpPr/>
            <p:nvPr/>
          </p:nvSpPr>
          <p:spPr>
            <a:xfrm>
              <a:off x="2265480" y="152712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7" name=""/>
            <p:cNvSpPr/>
            <p:nvPr/>
          </p:nvSpPr>
          <p:spPr>
            <a:xfrm>
              <a:off x="2265480" y="1576440"/>
              <a:ext cx="326880" cy="2700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 name=""/>
            <p:cNvSpPr/>
            <p:nvPr/>
          </p:nvSpPr>
          <p:spPr>
            <a:xfrm>
              <a:off x="2265480" y="1774800"/>
              <a:ext cx="326880" cy="2700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9" name=""/>
            <p:cNvSpPr/>
            <p:nvPr/>
          </p:nvSpPr>
          <p:spPr>
            <a:xfrm>
              <a:off x="2309760" y="158760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575080" y="157788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309760" y="1577880"/>
              <a:ext cx="254160" cy="2062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2562120" y="177012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23" name=""/>
            <p:cNvSpPr/>
            <p:nvPr/>
          </p:nvSpPr>
          <p:spPr>
            <a:xfrm flipH="1">
              <a:off x="2309400" y="1643040"/>
              <a:ext cx="252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524" name=""/>
            <p:cNvSpPr/>
            <p:nvPr/>
          </p:nvSpPr>
          <p:spPr>
            <a:xfrm flipH="1">
              <a:off x="2309400" y="1709640"/>
              <a:ext cx="252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25" name=""/>
            <p:cNvSpPr/>
            <p:nvPr/>
          </p:nvSpPr>
          <p:spPr>
            <a:xfrm>
              <a:off x="2265480" y="1827360"/>
              <a:ext cx="326880" cy="2664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26" name=""/>
            <p:cNvSpPr/>
            <p:nvPr/>
          </p:nvSpPr>
          <p:spPr>
            <a:xfrm>
              <a:off x="2265480" y="2106720"/>
              <a:ext cx="326880" cy="3312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7" name=""/>
            <p:cNvSpPr/>
            <p:nvPr/>
          </p:nvSpPr>
          <p:spPr>
            <a:xfrm>
              <a:off x="2309760" y="184320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575080" y="182736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309760" y="2087640"/>
              <a:ext cx="266760" cy="3312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30" name=""/>
            <p:cNvSpPr/>
            <p:nvPr/>
          </p:nvSpPr>
          <p:spPr>
            <a:xfrm>
              <a:off x="2309760" y="2074680"/>
              <a:ext cx="266760" cy="334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31" name=""/>
            <p:cNvSpPr/>
            <p:nvPr/>
          </p:nvSpPr>
          <p:spPr>
            <a:xfrm>
              <a:off x="2309760" y="2063880"/>
              <a:ext cx="266760" cy="316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2" name=""/>
            <p:cNvSpPr/>
            <p:nvPr/>
          </p:nvSpPr>
          <p:spPr>
            <a:xfrm>
              <a:off x="2309760" y="2050920"/>
              <a:ext cx="266760" cy="288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33" name=""/>
            <p:cNvSpPr/>
            <p:nvPr/>
          </p:nvSpPr>
          <p:spPr>
            <a:xfrm>
              <a:off x="2309760" y="2036880"/>
              <a:ext cx="266760" cy="2988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34" name=""/>
            <p:cNvSpPr/>
            <p:nvPr/>
          </p:nvSpPr>
          <p:spPr>
            <a:xfrm>
              <a:off x="2309760" y="1473120"/>
              <a:ext cx="254160" cy="3348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35" name=""/>
            <p:cNvSpPr/>
            <p:nvPr/>
          </p:nvSpPr>
          <p:spPr>
            <a:xfrm>
              <a:off x="2562120" y="1496880"/>
              <a:ext cx="12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36" name=""/>
            <p:cNvSpPr/>
            <p:nvPr/>
          </p:nvSpPr>
          <p:spPr>
            <a:xfrm>
              <a:off x="2371680" y="1536840"/>
              <a:ext cx="142920" cy="4284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7" name=""/>
            <p:cNvSpPr/>
            <p:nvPr/>
          </p:nvSpPr>
          <p:spPr>
            <a:xfrm>
              <a:off x="2309760" y="1536840"/>
              <a:ext cx="266760" cy="378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38" name=""/>
            <p:cNvSpPr/>
            <p:nvPr/>
          </p:nvSpPr>
          <p:spPr>
            <a:xfrm>
              <a:off x="2309760" y="1554120"/>
              <a:ext cx="204840" cy="2700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9" name=""/>
            <p:cNvSpPr/>
            <p:nvPr/>
          </p:nvSpPr>
          <p:spPr>
            <a:xfrm flipH="1">
              <a:off x="2513160" y="1557360"/>
              <a:ext cx="61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40" name=""/>
            <p:cNvSpPr/>
            <p:nvPr/>
          </p:nvSpPr>
          <p:spPr>
            <a:xfrm>
              <a:off x="2513160" y="153684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541" name=""/>
            <p:cNvSpPr/>
            <p:nvPr/>
          </p:nvSpPr>
          <p:spPr>
            <a:xfrm>
              <a:off x="2322720" y="1488960"/>
              <a:ext cx="26640" cy="2700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2" name=""/>
            <p:cNvSpPr/>
            <p:nvPr/>
          </p:nvSpPr>
          <p:spPr>
            <a:xfrm>
              <a:off x="2359080" y="1487520"/>
              <a:ext cx="27000" cy="2700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3" name=""/>
            <p:cNvSpPr/>
            <p:nvPr/>
          </p:nvSpPr>
          <p:spPr>
            <a:xfrm>
              <a:off x="2395440" y="1487520"/>
              <a:ext cx="27000" cy="2700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4" name=""/>
            <p:cNvSpPr/>
            <p:nvPr/>
          </p:nvSpPr>
          <p:spPr>
            <a:xfrm>
              <a:off x="2433600" y="1487520"/>
              <a:ext cx="27000" cy="2700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5" name=""/>
            <p:cNvSpPr/>
            <p:nvPr/>
          </p:nvSpPr>
          <p:spPr>
            <a:xfrm>
              <a:off x="2471760" y="1485720"/>
              <a:ext cx="27000" cy="2700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6" name=""/>
            <p:cNvSpPr/>
            <p:nvPr/>
          </p:nvSpPr>
          <p:spPr>
            <a:xfrm>
              <a:off x="2506680" y="1482840"/>
              <a:ext cx="27000" cy="2700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7" name=""/>
            <p:cNvSpPr/>
            <p:nvPr/>
          </p:nvSpPr>
          <p:spPr>
            <a:xfrm>
              <a:off x="2544840" y="1482840"/>
              <a:ext cx="27000" cy="2700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8" name=""/>
            <p:cNvSpPr/>
            <p:nvPr/>
          </p:nvSpPr>
          <p:spPr>
            <a:xfrm>
              <a:off x="2549520" y="1577880"/>
              <a:ext cx="27000" cy="19368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2590920" y="2068560"/>
              <a:ext cx="152280" cy="712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550" name=""/>
          <p:cNvSpPr/>
          <p:nvPr/>
        </p:nvSpPr>
        <p:spPr>
          <a:xfrm>
            <a:off x="1071720" y="1106640"/>
            <a:ext cx="218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 Certificate Server</a:t>
            </a:r>
            <a:endParaRPr b="0" lang="en-US" sz="2000" spc="-1" strike="noStrike">
              <a:solidFill>
                <a:srgbClr val="ffffff"/>
              </a:solidFill>
              <a:latin typeface="Times New Roman"/>
            </a:endParaRPr>
          </a:p>
        </p:txBody>
      </p:sp>
      <p:sp>
        <p:nvSpPr>
          <p:cNvPr id="551" name=""/>
          <p:cNvSpPr/>
          <p:nvPr/>
        </p:nvSpPr>
        <p:spPr>
          <a:xfrm flipV="1">
            <a:off x="5297400" y="6278040"/>
            <a:ext cx="692280" cy="3240"/>
          </a:xfrm>
          <a:prstGeom prst="line">
            <a:avLst/>
          </a:prstGeom>
          <a:ln w="38160">
            <a:solidFill>
              <a:srgbClr val="ccffcc"/>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2" name=""/>
          <p:cNvGrpSpPr/>
          <p:nvPr/>
        </p:nvGrpSpPr>
        <p:grpSpPr>
          <a:xfrm>
            <a:off x="1080720" y="2604960"/>
            <a:ext cx="3102480" cy="1209960"/>
            <a:chOff x="1080720" y="2604960"/>
            <a:chExt cx="3102480" cy="1209960"/>
          </a:xfrm>
        </p:grpSpPr>
        <p:sp>
          <p:nvSpPr>
            <p:cNvPr id="553" name=""/>
            <p:cNvSpPr/>
            <p:nvPr/>
          </p:nvSpPr>
          <p:spPr>
            <a:xfrm flipH="1">
              <a:off x="1080720" y="2736720"/>
              <a:ext cx="1793880" cy="10782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H="1">
              <a:off x="1243080" y="2604960"/>
              <a:ext cx="1689120" cy="320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5" name=""/>
            <p:cNvSpPr/>
            <p:nvPr/>
          </p:nvSpPr>
          <p:spPr>
            <a:xfrm>
              <a:off x="2252520" y="2949480"/>
              <a:ext cx="193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beros trust &amp; Group Policy config</a:t>
              </a:r>
              <a:endParaRPr b="0" lang="en-US" sz="1400" spc="-1" strike="noStrike">
                <a:solidFill>
                  <a:srgbClr val="ffffff"/>
                </a:solidFill>
                <a:latin typeface="Times New Roman"/>
              </a:endParaRPr>
            </a:p>
          </p:txBody>
        </p:sp>
      </p:grpSp>
      <p:grpSp>
        <p:nvGrpSpPr>
          <p:cNvPr id="556" name=""/>
          <p:cNvGrpSpPr/>
          <p:nvPr/>
        </p:nvGrpSpPr>
        <p:grpSpPr>
          <a:xfrm>
            <a:off x="1056960" y="2098800"/>
            <a:ext cx="2157840" cy="1404720"/>
            <a:chOff x="1056960" y="2098800"/>
            <a:chExt cx="2157840" cy="1404720"/>
          </a:xfrm>
        </p:grpSpPr>
        <p:sp>
          <p:nvSpPr>
            <p:cNvPr id="557" name=""/>
            <p:cNvSpPr/>
            <p:nvPr/>
          </p:nvSpPr>
          <p:spPr>
            <a:xfrm flipH="1">
              <a:off x="1100160" y="2143080"/>
              <a:ext cx="1130400" cy="13604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flipH="1">
              <a:off x="1056960" y="2098800"/>
              <a:ext cx="1144440" cy="3823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1420920" y="2265480"/>
              <a:ext cx="179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chine Certificates</a:t>
              </a:r>
              <a:endParaRPr b="0" lang="en-US" sz="1400" spc="-1" strike="noStrike">
                <a:solidFill>
                  <a:srgbClr val="ffffff"/>
                </a:solidFill>
                <a:latin typeface="Times New Roman"/>
              </a:endParaRPr>
            </a:p>
          </p:txBody>
        </p:sp>
      </p:grpSp>
      <p:grpSp>
        <p:nvGrpSpPr>
          <p:cNvPr id="560" name=""/>
          <p:cNvGrpSpPr/>
          <p:nvPr/>
        </p:nvGrpSpPr>
        <p:grpSpPr>
          <a:xfrm>
            <a:off x="3487680" y="2819520"/>
            <a:ext cx="5033880" cy="2921040"/>
            <a:chOff x="3487680" y="2819520"/>
            <a:chExt cx="5033880" cy="2921040"/>
          </a:xfrm>
        </p:grpSpPr>
        <p:sp>
          <p:nvSpPr>
            <p:cNvPr id="561" name=""/>
            <p:cNvSpPr/>
            <p:nvPr/>
          </p:nvSpPr>
          <p:spPr>
            <a:xfrm>
              <a:off x="3487680" y="2819520"/>
              <a:ext cx="5033880" cy="2921040"/>
            </a:xfrm>
            <a:custGeom>
              <a:avLst/>
              <a:gdLst/>
              <a:ahLst/>
              <a:rect l="l" t="t" r="r" b="b"/>
              <a:pathLst>
                <a:path w="3171" h="1840">
                  <a:moveTo>
                    <a:pt x="3" y="0"/>
                  </a:moveTo>
                  <a:cubicBezTo>
                    <a:pt x="16" y="27"/>
                    <a:pt x="0" y="74"/>
                    <a:pt x="75" y="160"/>
                  </a:cubicBezTo>
                  <a:cubicBezTo>
                    <a:pt x="150" y="246"/>
                    <a:pt x="329" y="431"/>
                    <a:pt x="451" y="520"/>
                  </a:cubicBezTo>
                  <a:cubicBezTo>
                    <a:pt x="573" y="609"/>
                    <a:pt x="432" y="568"/>
                    <a:pt x="809" y="697"/>
                  </a:cubicBezTo>
                  <a:cubicBezTo>
                    <a:pt x="1186" y="826"/>
                    <a:pt x="2322" y="1107"/>
                    <a:pt x="2716" y="1297"/>
                  </a:cubicBezTo>
                  <a:cubicBezTo>
                    <a:pt x="3110" y="1487"/>
                    <a:pt x="3076" y="1727"/>
                    <a:pt x="3171" y="1840"/>
                  </a:cubicBezTo>
                </a:path>
              </a:pathLst>
            </a:custGeom>
            <a:noFill/>
            <a:ln w="28440">
              <a:solidFill>
                <a:srgbClr val="ff7c80"/>
              </a:solidFill>
              <a:prstDash val="sysDot"/>
              <a:round/>
              <a:headEnd len="med" type="triangle" w="me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62" name=""/>
            <p:cNvSpPr/>
            <p:nvPr/>
          </p:nvSpPr>
          <p:spPr>
            <a:xfrm>
              <a:off x="3935520" y="3346560"/>
              <a:ext cx="106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Arial"/>
                </a:rPr>
                <a:t>IPSec</a:t>
              </a:r>
              <a:endParaRPr b="0" lang="en-US" sz="2000" spc="-1" strike="noStrike">
                <a:solidFill>
                  <a:srgbClr val="ffffff"/>
                </a:solidFill>
                <a:latin typeface="Times New Roman"/>
              </a:endParaRPr>
            </a:p>
          </p:txBody>
        </p:sp>
      </p:grpSp>
      <p:grpSp>
        <p:nvGrpSpPr>
          <p:cNvPr id="563" name=""/>
          <p:cNvGrpSpPr/>
          <p:nvPr/>
        </p:nvGrpSpPr>
        <p:grpSpPr>
          <a:xfrm>
            <a:off x="2152800" y="3365640"/>
            <a:ext cx="6356160" cy="1587240"/>
            <a:chOff x="2152800" y="3365640"/>
            <a:chExt cx="6356160" cy="1587240"/>
          </a:xfrm>
        </p:grpSpPr>
        <p:sp>
          <p:nvSpPr>
            <p:cNvPr id="564" name=""/>
            <p:cNvSpPr/>
            <p:nvPr/>
          </p:nvSpPr>
          <p:spPr>
            <a:xfrm>
              <a:off x="2152800" y="3365640"/>
              <a:ext cx="6356160" cy="1587240"/>
            </a:xfrm>
            <a:custGeom>
              <a:avLst/>
              <a:gdLst/>
              <a:ahLst/>
              <a:rect l="l" t="t" r="r" b="b"/>
              <a:pathLst>
                <a:path w="4004" h="1000">
                  <a:moveTo>
                    <a:pt x="4004" y="0"/>
                  </a:moveTo>
                  <a:cubicBezTo>
                    <a:pt x="3874" y="16"/>
                    <a:pt x="3744" y="32"/>
                    <a:pt x="3404" y="96"/>
                  </a:cubicBezTo>
                  <a:cubicBezTo>
                    <a:pt x="3064" y="160"/>
                    <a:pt x="2251" y="327"/>
                    <a:pt x="1964" y="384"/>
                  </a:cubicBezTo>
                  <a:cubicBezTo>
                    <a:pt x="1677" y="441"/>
                    <a:pt x="1752" y="419"/>
                    <a:pt x="1684" y="440"/>
                  </a:cubicBezTo>
                  <a:cubicBezTo>
                    <a:pt x="1616" y="461"/>
                    <a:pt x="1795" y="482"/>
                    <a:pt x="1554" y="510"/>
                  </a:cubicBezTo>
                  <a:cubicBezTo>
                    <a:pt x="1313" y="538"/>
                    <a:pt x="472" y="526"/>
                    <a:pt x="236" y="608"/>
                  </a:cubicBezTo>
                  <a:cubicBezTo>
                    <a:pt x="0" y="690"/>
                    <a:pt x="66" y="836"/>
                    <a:pt x="140" y="1000"/>
                  </a:cubicBezTo>
                </a:path>
              </a:pathLst>
            </a:custGeom>
            <a:noFill/>
            <a:ln w="28440">
              <a:solidFill>
                <a:srgbClr val="ff7c80"/>
              </a:solidFill>
              <a:prstDash val="sysDot"/>
              <a:round/>
              <a:headEnd len="med" type="triangle" w="me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65" name=""/>
            <p:cNvSpPr/>
            <p:nvPr/>
          </p:nvSpPr>
          <p:spPr>
            <a:xfrm>
              <a:off x="3586320" y="3875040"/>
              <a:ext cx="106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Arial"/>
                </a:rPr>
                <a:t>IPSec</a:t>
              </a:r>
              <a:endParaRPr b="0" lang="en-US" sz="2000" spc="-1" strike="noStrike">
                <a:solidFill>
                  <a:srgbClr val="ffffff"/>
                </a:solidFill>
                <a:latin typeface="Times New Roman"/>
              </a:endParaRPr>
            </a:p>
          </p:txBody>
        </p:sp>
      </p:gr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365040" y="22860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IPSec End-to-End Between AD/DCs OK</a:t>
            </a:r>
            <a:endParaRPr b="1" lang="en-US" sz="4800" spc="-1" strike="noStrike">
              <a:solidFill>
                <a:srgbClr val="fccf00"/>
              </a:solidFill>
              <a:latin typeface="Arial"/>
            </a:endParaRPr>
          </a:p>
        </p:txBody>
      </p:sp>
      <p:sp>
        <p:nvSpPr>
          <p:cNvPr id="1525" name="PlaceHolder 2"/>
          <p:cNvSpPr>
            <a:spLocks noGrp="1"/>
          </p:cNvSpPr>
          <p:nvPr>
            <p:ph/>
          </p:nvPr>
        </p:nvSpPr>
        <p:spPr>
          <a:xfrm>
            <a:off x="341280" y="3503160"/>
            <a:ext cx="8415360" cy="3573720"/>
          </a:xfrm>
          <a:prstGeom prst="rect">
            <a:avLst/>
          </a:prstGeom>
          <a:noFill/>
          <a:ln w="0">
            <a:noFill/>
          </a:ln>
        </p:spPr>
        <p:txBody>
          <a:bodyPr lIns="182520" rIns="182520" tIns="46080" bIns="46080" anchor="t">
            <a:normAutofit/>
          </a:bodyPr>
          <a:p>
            <a:pPr marL="577800" indent="-577800">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ing IPSec Transport security between AD/DC IP addresses</a:t>
            </a:r>
            <a:endParaRPr b="1" lang="en-US" sz="1800" spc="-1" strike="noStrike">
              <a:solidFill>
                <a:srgbClr val="ffffff"/>
              </a:solidFill>
              <a:latin typeface="Arial"/>
            </a:endParaRPr>
          </a:p>
          <a:p>
            <a:pPr lvl="1" marL="1030320" indent="-450720">
              <a:lnSpc>
                <a:spcPct val="8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ful to make RPC directory replication look like IPSec traffic for minimal firewall filters</a:t>
            </a:r>
            <a:endParaRPr b="1" lang="en-US" sz="1600" spc="-1" strike="noStrike">
              <a:solidFill>
                <a:srgbClr val="ffffff"/>
              </a:solidFill>
              <a:latin typeface="Arial"/>
            </a:endParaRPr>
          </a:p>
          <a:p>
            <a:pPr lvl="1" marL="1030320" indent="-450720">
              <a:lnSpc>
                <a:spcPct val="8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IPSec hardware acceleration on A-IP1 &amp; B-IP1 interfaces</a:t>
            </a:r>
            <a:endParaRPr b="1" lang="en-US" sz="1600" spc="-1" strike="noStrike">
              <a:solidFill>
                <a:srgbClr val="ffffff"/>
              </a:solidFill>
              <a:latin typeface="Arial"/>
            </a:endParaRPr>
          </a:p>
          <a:p>
            <a:pPr lvl="1" marL="1030320" indent="-450720">
              <a:lnSpc>
                <a:spcPct val="8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certificate auth for IKE, or Kerberos if Kerberos allowed thru FW</a:t>
            </a:r>
            <a:endParaRPr b="1" lang="en-US" sz="1600" spc="-1" strike="noStrike">
              <a:solidFill>
                <a:srgbClr val="ffffff"/>
              </a:solidFill>
              <a:latin typeface="Arial"/>
            </a:endParaRPr>
          </a:p>
          <a:p>
            <a:pPr lvl="1" marL="1030320" indent="-450720">
              <a:lnSpc>
                <a:spcPct val="8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local machine IPSec policy, or GPO IPSec policy assigned to Domain Controllers OU</a:t>
            </a:r>
            <a:endParaRPr b="1" lang="en-US" sz="1600" spc="-1" strike="noStrike">
              <a:solidFill>
                <a:srgbClr val="ffffff"/>
              </a:solidFill>
              <a:latin typeface="Arial"/>
            </a:endParaRPr>
          </a:p>
          <a:p>
            <a:pPr marL="577800" indent="-577800">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wall needs to exempt IKE, IPSec traffic, and Kerberos</a:t>
            </a:r>
            <a:endParaRPr b="1" lang="en-US" sz="1800" spc="-1" strike="noStrike">
              <a:solidFill>
                <a:srgbClr val="ffffff"/>
              </a:solidFill>
              <a:latin typeface="Arial"/>
            </a:endParaRPr>
          </a:p>
          <a:p>
            <a:pPr lvl="1" marL="1030320" indent="-450720">
              <a:lnSpc>
                <a:spcPct val="8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ly Kerberos is exempted from IPSec filtering, so FW needs to exempt Kerberos also</a:t>
            </a:r>
            <a:endParaRPr b="1" lang="en-US" sz="1600" spc="-1" strike="noStrike">
              <a:solidFill>
                <a:srgbClr val="ffffff"/>
              </a:solidFill>
              <a:latin typeface="Arial"/>
            </a:endParaRPr>
          </a:p>
          <a:p>
            <a:pPr lvl="1" marL="1030320" indent="-450720">
              <a:lnSpc>
                <a:spcPct val="8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ing on registry key to include Kerberos traffic inside IPSec protection</a:t>
            </a:r>
            <a:endParaRPr b="1" lang="en-US" sz="1600" spc="-1" strike="noStrike">
              <a:solidFill>
                <a:srgbClr val="ffffff"/>
              </a:solidFill>
              <a:latin typeface="Arial"/>
            </a:endParaRPr>
          </a:p>
          <a:p>
            <a:pPr lvl="1" marL="1030320" indent="-450720">
              <a:lnSpc>
                <a:spcPct val="8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ewall can’t apply NAT to IPSec traffic</a:t>
            </a:r>
            <a:endParaRPr b="1" lang="en-US" sz="1600" spc="-1" strike="noStrike">
              <a:solidFill>
                <a:srgbClr val="ffffff"/>
              </a:solidFill>
              <a:latin typeface="Arial"/>
            </a:endParaRPr>
          </a:p>
          <a:p>
            <a:pPr marL="577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1526" name=""/>
          <p:cNvGrpSpPr/>
          <p:nvPr/>
        </p:nvGrpSpPr>
        <p:grpSpPr>
          <a:xfrm>
            <a:off x="509760" y="1711440"/>
            <a:ext cx="2005920" cy="1639800"/>
            <a:chOff x="509760" y="1711440"/>
            <a:chExt cx="2005920" cy="1639800"/>
          </a:xfrm>
        </p:grpSpPr>
        <p:sp>
          <p:nvSpPr>
            <p:cNvPr id="1527" name=""/>
            <p:cNvSpPr/>
            <p:nvPr/>
          </p:nvSpPr>
          <p:spPr>
            <a:xfrm>
              <a:off x="509760" y="1711440"/>
              <a:ext cx="2005920" cy="163980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21360" y="2218680"/>
              <a:ext cx="0" cy="12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1431360" y="2072880"/>
              <a:ext cx="176400" cy="13356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flipH="1">
              <a:off x="1335600" y="2433960"/>
              <a:ext cx="185400" cy="28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1539000" y="2450880"/>
              <a:ext cx="276840" cy="293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1434960" y="2337840"/>
              <a:ext cx="174240" cy="13536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flipH="1">
              <a:off x="996480" y="2789280"/>
              <a:ext cx="310680" cy="33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1335960" y="2778840"/>
              <a:ext cx="331920" cy="35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a:off x="1335960" y="2771280"/>
              <a:ext cx="0" cy="36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a:off x="1823400" y="2754720"/>
              <a:ext cx="189000" cy="365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7" name=""/>
            <p:cNvSpPr/>
            <p:nvPr/>
          </p:nvSpPr>
          <p:spPr>
            <a:xfrm>
              <a:off x="910440" y="3058920"/>
              <a:ext cx="1764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1734840" y="2696040"/>
              <a:ext cx="1764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1240920" y="2696040"/>
              <a:ext cx="17424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1915200" y="3058920"/>
              <a:ext cx="1764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a:off x="1577880" y="3058920"/>
              <a:ext cx="17496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1247760" y="3058920"/>
              <a:ext cx="1764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43" name=""/>
          <p:cNvGrpSpPr/>
          <p:nvPr/>
        </p:nvGrpSpPr>
        <p:grpSpPr>
          <a:xfrm>
            <a:off x="6647040" y="1689120"/>
            <a:ext cx="2005920" cy="1639800"/>
            <a:chOff x="6647040" y="1689120"/>
            <a:chExt cx="2005920" cy="1639800"/>
          </a:xfrm>
        </p:grpSpPr>
        <p:sp>
          <p:nvSpPr>
            <p:cNvPr id="1544" name=""/>
            <p:cNvSpPr/>
            <p:nvPr/>
          </p:nvSpPr>
          <p:spPr>
            <a:xfrm>
              <a:off x="6647040" y="1689120"/>
              <a:ext cx="2005920" cy="163980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a:off x="7658640" y="2196360"/>
              <a:ext cx="0" cy="12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a:off x="7568640" y="2050560"/>
              <a:ext cx="176400" cy="13356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flipH="1">
              <a:off x="7472880" y="2411640"/>
              <a:ext cx="185400" cy="28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7676280" y="2428560"/>
              <a:ext cx="276840" cy="293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9" name=""/>
            <p:cNvSpPr/>
            <p:nvPr/>
          </p:nvSpPr>
          <p:spPr>
            <a:xfrm>
              <a:off x="7572240" y="2315520"/>
              <a:ext cx="174240" cy="13536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flipH="1">
              <a:off x="7133760" y="2766960"/>
              <a:ext cx="310680" cy="33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a:off x="7473240" y="2756520"/>
              <a:ext cx="331920" cy="35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a:off x="7473240" y="2748960"/>
              <a:ext cx="0" cy="36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a:off x="7960680" y="2732400"/>
              <a:ext cx="189000" cy="365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7047720" y="3036600"/>
              <a:ext cx="1764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7872120" y="2673720"/>
              <a:ext cx="1764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7378200" y="2673720"/>
              <a:ext cx="17424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8052480" y="3036600"/>
              <a:ext cx="1764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715160" y="3036600"/>
              <a:ext cx="17496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9" name=""/>
            <p:cNvSpPr/>
            <p:nvPr/>
          </p:nvSpPr>
          <p:spPr>
            <a:xfrm>
              <a:off x="7385040" y="3036600"/>
              <a:ext cx="1764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60" name=""/>
          <p:cNvGrpSpPr/>
          <p:nvPr/>
        </p:nvGrpSpPr>
        <p:grpSpPr>
          <a:xfrm>
            <a:off x="2714760" y="2454120"/>
            <a:ext cx="690480" cy="711360"/>
            <a:chOff x="2714760" y="2454120"/>
            <a:chExt cx="690480" cy="711360"/>
          </a:xfrm>
        </p:grpSpPr>
        <p:sp>
          <p:nvSpPr>
            <p:cNvPr id="1561" name=""/>
            <p:cNvSpPr/>
            <p:nvPr/>
          </p:nvSpPr>
          <p:spPr>
            <a:xfrm>
              <a:off x="2954520" y="2476440"/>
              <a:ext cx="29988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a:off x="2971800" y="28389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2971800" y="260280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4" name=""/>
            <p:cNvSpPr/>
            <p:nvPr/>
          </p:nvSpPr>
          <p:spPr>
            <a:xfrm>
              <a:off x="2714760" y="245556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65" name=""/>
            <p:cNvSpPr/>
            <p:nvPr/>
          </p:nvSpPr>
          <p:spPr>
            <a:xfrm>
              <a:off x="2714760" y="2455560"/>
              <a:ext cx="24120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a:off x="2927520" y="2479680"/>
              <a:ext cx="284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
            <p:cNvSpPr/>
            <p:nvPr/>
          </p:nvSpPr>
          <p:spPr>
            <a:xfrm>
              <a:off x="2971800" y="2601360"/>
              <a:ext cx="26676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8" name=""/>
            <p:cNvSpPr/>
            <p:nvPr/>
          </p:nvSpPr>
          <p:spPr>
            <a:xfrm>
              <a:off x="2971800" y="25639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569" name=""/>
            <p:cNvSpPr/>
            <p:nvPr/>
          </p:nvSpPr>
          <p:spPr>
            <a:xfrm>
              <a:off x="2971800" y="250200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570" name=""/>
            <p:cNvSpPr/>
            <p:nvPr/>
          </p:nvSpPr>
          <p:spPr>
            <a:xfrm>
              <a:off x="2714760" y="245412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71" name=""/>
            <p:cNvSpPr/>
            <p:nvPr/>
          </p:nvSpPr>
          <p:spPr>
            <a:xfrm>
              <a:off x="2952720" y="2476440"/>
              <a:ext cx="3016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2" name=""/>
            <p:cNvSpPr/>
            <p:nvPr/>
          </p:nvSpPr>
          <p:spPr>
            <a:xfrm>
              <a:off x="2714760" y="2455560"/>
              <a:ext cx="23976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3" name=""/>
            <p:cNvSpPr/>
            <p:nvPr/>
          </p:nvSpPr>
          <p:spPr>
            <a:xfrm>
              <a:off x="2927520" y="248112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2927520" y="249012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5" name=""/>
            <p:cNvSpPr/>
            <p:nvPr/>
          </p:nvSpPr>
          <p:spPr>
            <a:xfrm>
              <a:off x="2927520" y="2539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6" name=""/>
            <p:cNvSpPr/>
            <p:nvPr/>
          </p:nvSpPr>
          <p:spPr>
            <a:xfrm>
              <a:off x="2971800" y="250200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577" name=""/>
            <p:cNvSpPr/>
            <p:nvPr/>
          </p:nvSpPr>
          <p:spPr>
            <a:xfrm>
              <a:off x="2927520" y="25549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8" name=""/>
            <p:cNvSpPr/>
            <p:nvPr/>
          </p:nvSpPr>
          <p:spPr>
            <a:xfrm>
              <a:off x="2927520" y="26013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9" name=""/>
            <p:cNvSpPr/>
            <p:nvPr/>
          </p:nvSpPr>
          <p:spPr>
            <a:xfrm>
              <a:off x="2927520" y="27896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0" name=""/>
            <p:cNvSpPr/>
            <p:nvPr/>
          </p:nvSpPr>
          <p:spPr>
            <a:xfrm>
              <a:off x="2971800" y="261180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1" name=""/>
            <p:cNvSpPr/>
            <p:nvPr/>
          </p:nvSpPr>
          <p:spPr>
            <a:xfrm>
              <a:off x="3237120" y="260280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971800" y="260280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3" name=""/>
            <p:cNvSpPr/>
            <p:nvPr/>
          </p:nvSpPr>
          <p:spPr>
            <a:xfrm>
              <a:off x="3224160" y="278460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84" name=""/>
            <p:cNvSpPr/>
            <p:nvPr/>
          </p:nvSpPr>
          <p:spPr>
            <a:xfrm flipH="1">
              <a:off x="2971440" y="266472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85" name=""/>
            <p:cNvSpPr/>
            <p:nvPr/>
          </p:nvSpPr>
          <p:spPr>
            <a:xfrm flipH="1">
              <a:off x="2971440" y="272772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586" name=""/>
            <p:cNvSpPr/>
            <p:nvPr/>
          </p:nvSpPr>
          <p:spPr>
            <a:xfrm>
              <a:off x="2927520" y="28389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7" name=""/>
            <p:cNvSpPr/>
            <p:nvPr/>
          </p:nvSpPr>
          <p:spPr>
            <a:xfrm>
              <a:off x="2927520" y="31035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8" name=""/>
            <p:cNvSpPr/>
            <p:nvPr/>
          </p:nvSpPr>
          <p:spPr>
            <a:xfrm>
              <a:off x="2971800" y="285408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3237120" y="28389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2971800" y="30855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1" name=""/>
            <p:cNvSpPr/>
            <p:nvPr/>
          </p:nvSpPr>
          <p:spPr>
            <a:xfrm>
              <a:off x="2971800" y="30736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2" name=""/>
            <p:cNvSpPr/>
            <p:nvPr/>
          </p:nvSpPr>
          <p:spPr>
            <a:xfrm>
              <a:off x="2971800" y="306288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93" name=""/>
            <p:cNvSpPr/>
            <p:nvPr/>
          </p:nvSpPr>
          <p:spPr>
            <a:xfrm>
              <a:off x="2971800" y="30510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94" name=""/>
            <p:cNvSpPr/>
            <p:nvPr/>
          </p:nvSpPr>
          <p:spPr>
            <a:xfrm>
              <a:off x="2971800" y="30373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95" name=""/>
            <p:cNvSpPr/>
            <p:nvPr/>
          </p:nvSpPr>
          <p:spPr>
            <a:xfrm>
              <a:off x="2971800" y="250380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96" name=""/>
            <p:cNvSpPr/>
            <p:nvPr/>
          </p:nvSpPr>
          <p:spPr>
            <a:xfrm>
              <a:off x="3224160" y="252612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597" name=""/>
            <p:cNvSpPr/>
            <p:nvPr/>
          </p:nvSpPr>
          <p:spPr>
            <a:xfrm>
              <a:off x="3033720" y="25639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598" name=""/>
            <p:cNvSpPr/>
            <p:nvPr/>
          </p:nvSpPr>
          <p:spPr>
            <a:xfrm>
              <a:off x="2971800" y="25639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599" name=""/>
            <p:cNvSpPr/>
            <p:nvPr/>
          </p:nvSpPr>
          <p:spPr>
            <a:xfrm>
              <a:off x="2971800" y="258048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0" name=""/>
            <p:cNvSpPr/>
            <p:nvPr/>
          </p:nvSpPr>
          <p:spPr>
            <a:xfrm flipH="1">
              <a:off x="3175200" y="258336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601" name=""/>
            <p:cNvSpPr/>
            <p:nvPr/>
          </p:nvSpPr>
          <p:spPr>
            <a:xfrm>
              <a:off x="3175200" y="25639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602" name=""/>
            <p:cNvSpPr/>
            <p:nvPr/>
          </p:nvSpPr>
          <p:spPr>
            <a:xfrm>
              <a:off x="2984760" y="251856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3" name=""/>
            <p:cNvSpPr/>
            <p:nvPr/>
          </p:nvSpPr>
          <p:spPr>
            <a:xfrm>
              <a:off x="3021120" y="251712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4" name=""/>
            <p:cNvSpPr/>
            <p:nvPr/>
          </p:nvSpPr>
          <p:spPr>
            <a:xfrm>
              <a:off x="3057480" y="251712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5" name=""/>
            <p:cNvSpPr/>
            <p:nvPr/>
          </p:nvSpPr>
          <p:spPr>
            <a:xfrm>
              <a:off x="3095640" y="251712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6" name=""/>
            <p:cNvSpPr/>
            <p:nvPr/>
          </p:nvSpPr>
          <p:spPr>
            <a:xfrm>
              <a:off x="3133800" y="251568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7" name=""/>
            <p:cNvSpPr/>
            <p:nvPr/>
          </p:nvSpPr>
          <p:spPr>
            <a:xfrm>
              <a:off x="3168720" y="251244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8" name=""/>
            <p:cNvSpPr/>
            <p:nvPr/>
          </p:nvSpPr>
          <p:spPr>
            <a:xfrm>
              <a:off x="3206880" y="251244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9" name=""/>
            <p:cNvSpPr/>
            <p:nvPr/>
          </p:nvSpPr>
          <p:spPr>
            <a:xfrm>
              <a:off x="3211560" y="260280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0" name=""/>
            <p:cNvSpPr/>
            <p:nvPr/>
          </p:nvSpPr>
          <p:spPr>
            <a:xfrm>
              <a:off x="3252960" y="30675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1611" name=""/>
          <p:cNvGrpSpPr/>
          <p:nvPr/>
        </p:nvGrpSpPr>
        <p:grpSpPr>
          <a:xfrm>
            <a:off x="5664240" y="2444760"/>
            <a:ext cx="690480" cy="711360"/>
            <a:chOff x="5664240" y="2444760"/>
            <a:chExt cx="690480" cy="711360"/>
          </a:xfrm>
        </p:grpSpPr>
        <p:sp>
          <p:nvSpPr>
            <p:cNvPr id="1612" name=""/>
            <p:cNvSpPr/>
            <p:nvPr/>
          </p:nvSpPr>
          <p:spPr>
            <a:xfrm>
              <a:off x="5904000" y="2467080"/>
              <a:ext cx="29988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3" name=""/>
            <p:cNvSpPr/>
            <p:nvPr/>
          </p:nvSpPr>
          <p:spPr>
            <a:xfrm>
              <a:off x="5921280" y="282960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4" name=""/>
            <p:cNvSpPr/>
            <p:nvPr/>
          </p:nvSpPr>
          <p:spPr>
            <a:xfrm>
              <a:off x="5921280" y="259344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5" name=""/>
            <p:cNvSpPr/>
            <p:nvPr/>
          </p:nvSpPr>
          <p:spPr>
            <a:xfrm>
              <a:off x="5664240" y="244620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6" name=""/>
            <p:cNvSpPr/>
            <p:nvPr/>
          </p:nvSpPr>
          <p:spPr>
            <a:xfrm>
              <a:off x="5664240" y="2446200"/>
              <a:ext cx="24120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7" name=""/>
            <p:cNvSpPr/>
            <p:nvPr/>
          </p:nvSpPr>
          <p:spPr>
            <a:xfrm>
              <a:off x="5877000" y="2470320"/>
              <a:ext cx="284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8" name=""/>
            <p:cNvSpPr/>
            <p:nvPr/>
          </p:nvSpPr>
          <p:spPr>
            <a:xfrm>
              <a:off x="5921280" y="2592000"/>
              <a:ext cx="26676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9" name=""/>
            <p:cNvSpPr/>
            <p:nvPr/>
          </p:nvSpPr>
          <p:spPr>
            <a:xfrm>
              <a:off x="5921280" y="255456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620" name=""/>
            <p:cNvSpPr/>
            <p:nvPr/>
          </p:nvSpPr>
          <p:spPr>
            <a:xfrm>
              <a:off x="5921280" y="249264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621" name=""/>
            <p:cNvSpPr/>
            <p:nvPr/>
          </p:nvSpPr>
          <p:spPr>
            <a:xfrm>
              <a:off x="5664240" y="244476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22" name=""/>
            <p:cNvSpPr/>
            <p:nvPr/>
          </p:nvSpPr>
          <p:spPr>
            <a:xfrm>
              <a:off x="5902200" y="2467080"/>
              <a:ext cx="3016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a:off x="5664240" y="2446200"/>
              <a:ext cx="23976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a:off x="5877000" y="247176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5" name=""/>
            <p:cNvSpPr/>
            <p:nvPr/>
          </p:nvSpPr>
          <p:spPr>
            <a:xfrm>
              <a:off x="5877000" y="248076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6" name=""/>
            <p:cNvSpPr/>
            <p:nvPr/>
          </p:nvSpPr>
          <p:spPr>
            <a:xfrm>
              <a:off x="5877000" y="25304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7" name=""/>
            <p:cNvSpPr/>
            <p:nvPr/>
          </p:nvSpPr>
          <p:spPr>
            <a:xfrm>
              <a:off x="5921280" y="249264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628" name=""/>
            <p:cNvSpPr/>
            <p:nvPr/>
          </p:nvSpPr>
          <p:spPr>
            <a:xfrm>
              <a:off x="5877000" y="25455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9" name=""/>
            <p:cNvSpPr/>
            <p:nvPr/>
          </p:nvSpPr>
          <p:spPr>
            <a:xfrm>
              <a:off x="5877000" y="25920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0" name=""/>
            <p:cNvSpPr/>
            <p:nvPr/>
          </p:nvSpPr>
          <p:spPr>
            <a:xfrm>
              <a:off x="5877000" y="278028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1" name=""/>
            <p:cNvSpPr/>
            <p:nvPr/>
          </p:nvSpPr>
          <p:spPr>
            <a:xfrm>
              <a:off x="5921280" y="260244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a:off x="6186600" y="259344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5921280" y="259344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a:off x="6173640" y="27752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35" name=""/>
            <p:cNvSpPr/>
            <p:nvPr/>
          </p:nvSpPr>
          <p:spPr>
            <a:xfrm flipH="1">
              <a:off x="5920920" y="265536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636" name=""/>
            <p:cNvSpPr/>
            <p:nvPr/>
          </p:nvSpPr>
          <p:spPr>
            <a:xfrm flipH="1">
              <a:off x="5920920" y="271836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637" name=""/>
            <p:cNvSpPr/>
            <p:nvPr/>
          </p:nvSpPr>
          <p:spPr>
            <a:xfrm>
              <a:off x="5877000" y="282960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8" name=""/>
            <p:cNvSpPr/>
            <p:nvPr/>
          </p:nvSpPr>
          <p:spPr>
            <a:xfrm>
              <a:off x="5877000" y="309420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39" name=""/>
            <p:cNvSpPr/>
            <p:nvPr/>
          </p:nvSpPr>
          <p:spPr>
            <a:xfrm>
              <a:off x="5921280" y="284472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6186600" y="282960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5921280" y="307620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42" name=""/>
            <p:cNvSpPr/>
            <p:nvPr/>
          </p:nvSpPr>
          <p:spPr>
            <a:xfrm>
              <a:off x="5921280" y="306432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43" name=""/>
            <p:cNvSpPr/>
            <p:nvPr/>
          </p:nvSpPr>
          <p:spPr>
            <a:xfrm>
              <a:off x="5921280" y="305352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4" name=""/>
            <p:cNvSpPr/>
            <p:nvPr/>
          </p:nvSpPr>
          <p:spPr>
            <a:xfrm>
              <a:off x="5921280" y="304164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5" name=""/>
            <p:cNvSpPr/>
            <p:nvPr/>
          </p:nvSpPr>
          <p:spPr>
            <a:xfrm>
              <a:off x="5921280" y="302796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46" name=""/>
            <p:cNvSpPr/>
            <p:nvPr/>
          </p:nvSpPr>
          <p:spPr>
            <a:xfrm>
              <a:off x="5921280" y="249444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47" name=""/>
            <p:cNvSpPr/>
            <p:nvPr/>
          </p:nvSpPr>
          <p:spPr>
            <a:xfrm>
              <a:off x="6173640" y="251676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648" name=""/>
            <p:cNvSpPr/>
            <p:nvPr/>
          </p:nvSpPr>
          <p:spPr>
            <a:xfrm>
              <a:off x="5983200" y="255456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649" name=""/>
            <p:cNvSpPr/>
            <p:nvPr/>
          </p:nvSpPr>
          <p:spPr>
            <a:xfrm>
              <a:off x="5921280" y="255456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650" name=""/>
            <p:cNvSpPr/>
            <p:nvPr/>
          </p:nvSpPr>
          <p:spPr>
            <a:xfrm>
              <a:off x="5921280" y="257112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1" name=""/>
            <p:cNvSpPr/>
            <p:nvPr/>
          </p:nvSpPr>
          <p:spPr>
            <a:xfrm flipH="1">
              <a:off x="6124680" y="257400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652" name=""/>
            <p:cNvSpPr/>
            <p:nvPr/>
          </p:nvSpPr>
          <p:spPr>
            <a:xfrm>
              <a:off x="6124680" y="255456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653" name=""/>
            <p:cNvSpPr/>
            <p:nvPr/>
          </p:nvSpPr>
          <p:spPr>
            <a:xfrm>
              <a:off x="5934240" y="250920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5970600" y="250776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5" name=""/>
            <p:cNvSpPr/>
            <p:nvPr/>
          </p:nvSpPr>
          <p:spPr>
            <a:xfrm>
              <a:off x="6006960" y="250776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6" name=""/>
            <p:cNvSpPr/>
            <p:nvPr/>
          </p:nvSpPr>
          <p:spPr>
            <a:xfrm>
              <a:off x="6045120" y="250776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7" name=""/>
            <p:cNvSpPr/>
            <p:nvPr/>
          </p:nvSpPr>
          <p:spPr>
            <a:xfrm>
              <a:off x="6083280" y="250632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8" name=""/>
            <p:cNvSpPr/>
            <p:nvPr/>
          </p:nvSpPr>
          <p:spPr>
            <a:xfrm>
              <a:off x="6118200" y="250308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9" name=""/>
            <p:cNvSpPr/>
            <p:nvPr/>
          </p:nvSpPr>
          <p:spPr>
            <a:xfrm>
              <a:off x="6156360" y="250308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60" name=""/>
            <p:cNvSpPr/>
            <p:nvPr/>
          </p:nvSpPr>
          <p:spPr>
            <a:xfrm>
              <a:off x="6161040" y="259344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a:off x="6202440" y="305820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sp>
        <p:nvSpPr>
          <p:cNvPr id="1662" name=""/>
          <p:cNvSpPr/>
          <p:nvPr/>
        </p:nvSpPr>
        <p:spPr>
          <a:xfrm flipH="1" flipV="1">
            <a:off x="2080800" y="2698920"/>
            <a:ext cx="4923000" cy="936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36360" bIns="-36360" anchor="t">
            <a:noAutofit/>
          </a:bodyPr>
          <a:p>
            <a:endParaRPr b="0" lang="en-US" sz="2400" spc="-1" strike="noStrike">
              <a:solidFill>
                <a:srgbClr val="ffffff"/>
              </a:solidFill>
              <a:latin typeface="Times New Roman"/>
            </a:endParaRPr>
          </a:p>
        </p:txBody>
      </p:sp>
      <p:grpSp>
        <p:nvGrpSpPr>
          <p:cNvPr id="1663" name=""/>
          <p:cNvGrpSpPr/>
          <p:nvPr/>
        </p:nvGrpSpPr>
        <p:grpSpPr>
          <a:xfrm>
            <a:off x="2322360" y="1630440"/>
            <a:ext cx="4211640" cy="847440"/>
            <a:chOff x="2322360" y="1630440"/>
            <a:chExt cx="4211640" cy="847440"/>
          </a:xfrm>
        </p:grpSpPr>
        <p:grpSp>
          <p:nvGrpSpPr>
            <p:cNvPr id="1664" name=""/>
            <p:cNvGrpSpPr/>
            <p:nvPr/>
          </p:nvGrpSpPr>
          <p:grpSpPr>
            <a:xfrm>
              <a:off x="2322360" y="1630440"/>
              <a:ext cx="1036800" cy="807840"/>
              <a:chOff x="2322360" y="1630440"/>
              <a:chExt cx="1036800" cy="807840"/>
            </a:xfrm>
          </p:grpSpPr>
          <p:sp>
            <p:nvSpPr>
              <p:cNvPr id="1665" name=""/>
              <p:cNvSpPr/>
              <p:nvPr/>
            </p:nvSpPr>
            <p:spPr>
              <a:xfrm>
                <a:off x="2409840" y="1630440"/>
                <a:ext cx="807840" cy="807840"/>
              </a:xfrm>
              <a:prstGeom prst="noSmoking">
                <a:avLst>
                  <a:gd name="adj" fmla="val 12500"/>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666" name=""/>
              <p:cNvSpPr/>
              <p:nvPr/>
            </p:nvSpPr>
            <p:spPr>
              <a:xfrm>
                <a:off x="2322360" y="1844640"/>
                <a:ext cx="10368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a:t>
                </a:r>
                <a:endParaRPr b="0" lang="en-US" sz="2400" spc="-1" strike="noStrike">
                  <a:solidFill>
                    <a:srgbClr val="ffffff"/>
                  </a:solidFill>
                  <a:latin typeface="Times New Roman"/>
                </a:endParaRPr>
              </a:p>
            </p:txBody>
          </p:sp>
        </p:grpSp>
        <p:grpSp>
          <p:nvGrpSpPr>
            <p:cNvPr id="1667" name=""/>
            <p:cNvGrpSpPr/>
            <p:nvPr/>
          </p:nvGrpSpPr>
          <p:grpSpPr>
            <a:xfrm>
              <a:off x="5497560" y="1670040"/>
              <a:ext cx="1036440" cy="807840"/>
              <a:chOff x="5497560" y="1670040"/>
              <a:chExt cx="1036440" cy="807840"/>
            </a:xfrm>
          </p:grpSpPr>
          <p:sp>
            <p:nvSpPr>
              <p:cNvPr id="1668" name=""/>
              <p:cNvSpPr/>
              <p:nvPr/>
            </p:nvSpPr>
            <p:spPr>
              <a:xfrm>
                <a:off x="5584680" y="1670040"/>
                <a:ext cx="807480" cy="807840"/>
              </a:xfrm>
              <a:prstGeom prst="noSmoking">
                <a:avLst>
                  <a:gd name="adj" fmla="val 12500"/>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669" name=""/>
              <p:cNvSpPr/>
              <p:nvPr/>
            </p:nvSpPr>
            <p:spPr>
              <a:xfrm>
                <a:off x="5497560" y="1884240"/>
                <a:ext cx="103644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a:t>
                </a:r>
                <a:endParaRPr b="0" lang="en-US" sz="2400" spc="-1" strike="noStrike">
                  <a:solidFill>
                    <a:srgbClr val="ffffff"/>
                  </a:solidFill>
                  <a:latin typeface="Times New Roman"/>
                </a:endParaRPr>
              </a:p>
            </p:txBody>
          </p:sp>
        </p:grpSp>
      </p:grpSp>
      <p:sp>
        <p:nvSpPr>
          <p:cNvPr id="1670" name=""/>
          <p:cNvSpPr/>
          <p:nvPr/>
        </p:nvSpPr>
        <p:spPr>
          <a:xfrm>
            <a:off x="6415200" y="2744640"/>
            <a:ext cx="1036440" cy="3391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P1</a:t>
            </a:r>
            <a:endParaRPr b="0" lang="en-US" sz="1800" spc="-1" strike="noStrike">
              <a:solidFill>
                <a:srgbClr val="ffffff"/>
              </a:solidFill>
              <a:latin typeface="Times New Roman"/>
            </a:endParaRPr>
          </a:p>
        </p:txBody>
      </p:sp>
      <p:sp>
        <p:nvSpPr>
          <p:cNvPr id="1671" name=""/>
          <p:cNvSpPr/>
          <p:nvPr/>
        </p:nvSpPr>
        <p:spPr>
          <a:xfrm>
            <a:off x="2063880" y="2790720"/>
            <a:ext cx="1035000" cy="3391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P1</a:t>
            </a:r>
            <a:endParaRPr b="0" lang="en-US" sz="1800" spc="-1" strike="noStrike">
              <a:solidFill>
                <a:srgbClr val="ffffff"/>
              </a:solidFill>
              <a:latin typeface="Times New Roman"/>
            </a:endParaRPr>
          </a:p>
        </p:txBody>
      </p:sp>
      <p:sp>
        <p:nvSpPr>
          <p:cNvPr id="1672" name=""/>
          <p:cNvSpPr/>
          <p:nvPr/>
        </p:nvSpPr>
        <p:spPr>
          <a:xfrm>
            <a:off x="754200" y="1951200"/>
            <a:ext cx="860400" cy="53100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endParaRPr b="0" lang="en-US" sz="3200" spc="-1" strike="noStrike">
              <a:solidFill>
                <a:srgbClr val="ffffff"/>
              </a:solidFill>
              <a:latin typeface="Times New Roman"/>
            </a:endParaRPr>
          </a:p>
        </p:txBody>
      </p:sp>
      <p:sp>
        <p:nvSpPr>
          <p:cNvPr id="1673" name=""/>
          <p:cNvSpPr/>
          <p:nvPr/>
        </p:nvSpPr>
        <p:spPr>
          <a:xfrm>
            <a:off x="6902280" y="1982880"/>
            <a:ext cx="860760" cy="53100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t>
            </a:r>
            <a:endParaRPr b="0" lang="en-US" sz="3200" spc="-1" strike="noStrike">
              <a:solidFill>
                <a:srgbClr val="ffffff"/>
              </a:solidFill>
              <a:latin typeface="Times New Roman"/>
            </a:endParaRPr>
          </a:p>
        </p:txBody>
      </p:sp>
      <p:sp>
        <p:nvSpPr>
          <p:cNvPr id="1674" name=""/>
          <p:cNvSpPr/>
          <p:nvPr/>
        </p:nvSpPr>
        <p:spPr>
          <a:xfrm>
            <a:off x="2773440" y="3005280"/>
            <a:ext cx="13572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wall</a:t>
            </a:r>
            <a:endParaRPr b="0" lang="en-US" sz="2000" spc="-1" strike="noStrike">
              <a:solidFill>
                <a:srgbClr val="ffffff"/>
              </a:solidFill>
              <a:latin typeface="Times New Roman"/>
            </a:endParaRPr>
          </a:p>
        </p:txBody>
      </p:sp>
      <p:sp>
        <p:nvSpPr>
          <p:cNvPr id="1675" name=""/>
          <p:cNvSpPr/>
          <p:nvPr/>
        </p:nvSpPr>
        <p:spPr>
          <a:xfrm>
            <a:off x="4754520" y="2997360"/>
            <a:ext cx="1357200" cy="36684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wal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365040" y="22860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Avoid IPSec between AD/DC and it’s members</a:t>
            </a:r>
            <a:endParaRPr b="1" lang="en-US" sz="4800" spc="-1" strike="noStrike">
              <a:solidFill>
                <a:srgbClr val="fccf00"/>
              </a:solidFill>
              <a:latin typeface="Arial"/>
            </a:endParaRPr>
          </a:p>
        </p:txBody>
      </p:sp>
      <p:sp>
        <p:nvSpPr>
          <p:cNvPr id="1677" name="PlaceHolder 2"/>
          <p:cNvSpPr>
            <a:spLocks noGrp="1"/>
          </p:cNvSpPr>
          <p:nvPr>
            <p:ph/>
          </p:nvPr>
        </p:nvSpPr>
        <p:spPr>
          <a:xfrm>
            <a:off x="3514320" y="1861920"/>
            <a:ext cx="5629320" cy="394596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s that AD/DC is IPSec protected all the time</a:t>
            </a:r>
            <a:endParaRPr b="1" lang="en-US" sz="28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chnically possible, but many issues to work around</a:t>
            </a:r>
            <a:endParaRPr b="1" lang="en-US" sz="2800" spc="-1" strike="noStrike">
              <a:solidFill>
                <a:srgbClr val="ffffff"/>
              </a:solidFill>
              <a:latin typeface="Arial"/>
            </a:endParaRPr>
          </a:p>
          <a:p>
            <a:pPr marL="577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IPSec between members &amp; AD/DC is an unsupported configuration</a:t>
            </a:r>
            <a:endParaRPr b="1" lang="en-US" sz="2800" spc="-1" strike="noStrike">
              <a:solidFill>
                <a:srgbClr val="ffffff"/>
              </a:solidFill>
              <a:latin typeface="Arial"/>
            </a:endParaRPr>
          </a:p>
        </p:txBody>
      </p:sp>
      <p:grpSp>
        <p:nvGrpSpPr>
          <p:cNvPr id="1678" name=""/>
          <p:cNvGrpSpPr/>
          <p:nvPr/>
        </p:nvGrpSpPr>
        <p:grpSpPr>
          <a:xfrm>
            <a:off x="490680" y="5707080"/>
            <a:ext cx="690480" cy="711360"/>
            <a:chOff x="490680" y="5707080"/>
            <a:chExt cx="690480" cy="711360"/>
          </a:xfrm>
        </p:grpSpPr>
        <p:sp>
          <p:nvSpPr>
            <p:cNvPr id="1679" name=""/>
            <p:cNvSpPr/>
            <p:nvPr/>
          </p:nvSpPr>
          <p:spPr>
            <a:xfrm>
              <a:off x="730440" y="5729400"/>
              <a:ext cx="29988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747720" y="609192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1" name=""/>
            <p:cNvSpPr/>
            <p:nvPr/>
          </p:nvSpPr>
          <p:spPr>
            <a:xfrm>
              <a:off x="747720" y="58557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490680" y="57085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3" name=""/>
            <p:cNvSpPr/>
            <p:nvPr/>
          </p:nvSpPr>
          <p:spPr>
            <a:xfrm>
              <a:off x="490680" y="5708520"/>
              <a:ext cx="24120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703440" y="5732640"/>
              <a:ext cx="284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747720" y="5854320"/>
              <a:ext cx="26676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747720" y="581688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687" name=""/>
            <p:cNvSpPr/>
            <p:nvPr/>
          </p:nvSpPr>
          <p:spPr>
            <a:xfrm>
              <a:off x="747720" y="57549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688" name=""/>
            <p:cNvSpPr/>
            <p:nvPr/>
          </p:nvSpPr>
          <p:spPr>
            <a:xfrm>
              <a:off x="490680" y="57070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9" name=""/>
            <p:cNvSpPr/>
            <p:nvPr/>
          </p:nvSpPr>
          <p:spPr>
            <a:xfrm>
              <a:off x="728640" y="5729400"/>
              <a:ext cx="3016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0" name=""/>
            <p:cNvSpPr/>
            <p:nvPr/>
          </p:nvSpPr>
          <p:spPr>
            <a:xfrm>
              <a:off x="490680" y="5708520"/>
              <a:ext cx="23976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1" name=""/>
            <p:cNvSpPr/>
            <p:nvPr/>
          </p:nvSpPr>
          <p:spPr>
            <a:xfrm>
              <a:off x="703440" y="573408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a:off x="703440" y="57430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93" name=""/>
            <p:cNvSpPr/>
            <p:nvPr/>
          </p:nvSpPr>
          <p:spPr>
            <a:xfrm>
              <a:off x="703440" y="57927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94" name=""/>
            <p:cNvSpPr/>
            <p:nvPr/>
          </p:nvSpPr>
          <p:spPr>
            <a:xfrm>
              <a:off x="747720" y="57549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695" name=""/>
            <p:cNvSpPr/>
            <p:nvPr/>
          </p:nvSpPr>
          <p:spPr>
            <a:xfrm>
              <a:off x="703440" y="58078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96" name=""/>
            <p:cNvSpPr/>
            <p:nvPr/>
          </p:nvSpPr>
          <p:spPr>
            <a:xfrm>
              <a:off x="703440" y="58543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97" name=""/>
            <p:cNvSpPr/>
            <p:nvPr/>
          </p:nvSpPr>
          <p:spPr>
            <a:xfrm>
              <a:off x="703440" y="604260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98" name=""/>
            <p:cNvSpPr/>
            <p:nvPr/>
          </p:nvSpPr>
          <p:spPr>
            <a:xfrm>
              <a:off x="747720" y="586476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1013040" y="585576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747720" y="58557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1" name=""/>
            <p:cNvSpPr/>
            <p:nvPr/>
          </p:nvSpPr>
          <p:spPr>
            <a:xfrm>
              <a:off x="1000080" y="60375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02" name=""/>
            <p:cNvSpPr/>
            <p:nvPr/>
          </p:nvSpPr>
          <p:spPr>
            <a:xfrm flipH="1">
              <a:off x="747360" y="59176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703" name=""/>
            <p:cNvSpPr/>
            <p:nvPr/>
          </p:nvSpPr>
          <p:spPr>
            <a:xfrm flipH="1">
              <a:off x="747360" y="59806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704" name=""/>
            <p:cNvSpPr/>
            <p:nvPr/>
          </p:nvSpPr>
          <p:spPr>
            <a:xfrm>
              <a:off x="703440" y="609192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05" name=""/>
            <p:cNvSpPr/>
            <p:nvPr/>
          </p:nvSpPr>
          <p:spPr>
            <a:xfrm>
              <a:off x="703440" y="635652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6" name=""/>
            <p:cNvSpPr/>
            <p:nvPr/>
          </p:nvSpPr>
          <p:spPr>
            <a:xfrm>
              <a:off x="747720" y="610704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7" name=""/>
            <p:cNvSpPr/>
            <p:nvPr/>
          </p:nvSpPr>
          <p:spPr>
            <a:xfrm>
              <a:off x="1013040" y="609192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747720" y="633852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9" name=""/>
            <p:cNvSpPr/>
            <p:nvPr/>
          </p:nvSpPr>
          <p:spPr>
            <a:xfrm>
              <a:off x="747720" y="632664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10" name=""/>
            <p:cNvSpPr/>
            <p:nvPr/>
          </p:nvSpPr>
          <p:spPr>
            <a:xfrm>
              <a:off x="747720" y="63158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1" name=""/>
            <p:cNvSpPr/>
            <p:nvPr/>
          </p:nvSpPr>
          <p:spPr>
            <a:xfrm>
              <a:off x="747720" y="630396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12" name=""/>
            <p:cNvSpPr/>
            <p:nvPr/>
          </p:nvSpPr>
          <p:spPr>
            <a:xfrm>
              <a:off x="747720" y="629028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13" name=""/>
            <p:cNvSpPr/>
            <p:nvPr/>
          </p:nvSpPr>
          <p:spPr>
            <a:xfrm>
              <a:off x="747720" y="57567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714" name=""/>
            <p:cNvSpPr/>
            <p:nvPr/>
          </p:nvSpPr>
          <p:spPr>
            <a:xfrm>
              <a:off x="1000080" y="57790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715" name=""/>
            <p:cNvSpPr/>
            <p:nvPr/>
          </p:nvSpPr>
          <p:spPr>
            <a:xfrm>
              <a:off x="809640" y="581688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716" name=""/>
            <p:cNvSpPr/>
            <p:nvPr/>
          </p:nvSpPr>
          <p:spPr>
            <a:xfrm>
              <a:off x="747720" y="581688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717" name=""/>
            <p:cNvSpPr/>
            <p:nvPr/>
          </p:nvSpPr>
          <p:spPr>
            <a:xfrm>
              <a:off x="747720" y="58334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18" name=""/>
            <p:cNvSpPr/>
            <p:nvPr/>
          </p:nvSpPr>
          <p:spPr>
            <a:xfrm flipH="1">
              <a:off x="951120" y="58363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719" name=""/>
            <p:cNvSpPr/>
            <p:nvPr/>
          </p:nvSpPr>
          <p:spPr>
            <a:xfrm>
              <a:off x="951120" y="581688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720" name=""/>
            <p:cNvSpPr/>
            <p:nvPr/>
          </p:nvSpPr>
          <p:spPr>
            <a:xfrm>
              <a:off x="760680" y="57715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1" name=""/>
            <p:cNvSpPr/>
            <p:nvPr/>
          </p:nvSpPr>
          <p:spPr>
            <a:xfrm>
              <a:off x="797040" y="57700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2" name=""/>
            <p:cNvSpPr/>
            <p:nvPr/>
          </p:nvSpPr>
          <p:spPr>
            <a:xfrm>
              <a:off x="833400" y="57700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3" name=""/>
            <p:cNvSpPr/>
            <p:nvPr/>
          </p:nvSpPr>
          <p:spPr>
            <a:xfrm>
              <a:off x="871560" y="57700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4" name=""/>
            <p:cNvSpPr/>
            <p:nvPr/>
          </p:nvSpPr>
          <p:spPr>
            <a:xfrm>
              <a:off x="909720" y="57686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5" name=""/>
            <p:cNvSpPr/>
            <p:nvPr/>
          </p:nvSpPr>
          <p:spPr>
            <a:xfrm>
              <a:off x="944640" y="57654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6" name=""/>
            <p:cNvSpPr/>
            <p:nvPr/>
          </p:nvSpPr>
          <p:spPr>
            <a:xfrm>
              <a:off x="982800" y="57654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7" name=""/>
            <p:cNvSpPr/>
            <p:nvPr/>
          </p:nvSpPr>
          <p:spPr>
            <a:xfrm>
              <a:off x="987480" y="58557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1028880" y="632052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729" name="" descr=""/>
          <p:cNvPicPr/>
          <p:nvPr/>
        </p:nvPicPr>
        <p:blipFill>
          <a:blip r:embed="rId2"/>
          <a:stretch/>
        </p:blipFill>
        <p:spPr>
          <a:xfrm>
            <a:off x="817560" y="4313160"/>
            <a:ext cx="861840" cy="577800"/>
          </a:xfrm>
          <a:prstGeom prst="rect">
            <a:avLst/>
          </a:prstGeom>
          <a:ln w="0">
            <a:noFill/>
          </a:ln>
        </p:spPr>
      </p:pic>
      <p:grpSp>
        <p:nvGrpSpPr>
          <p:cNvPr id="1730" name=""/>
          <p:cNvGrpSpPr/>
          <p:nvPr/>
        </p:nvGrpSpPr>
        <p:grpSpPr>
          <a:xfrm>
            <a:off x="1519200" y="2033640"/>
            <a:ext cx="2006280" cy="1639800"/>
            <a:chOff x="1519200" y="2033640"/>
            <a:chExt cx="2006280" cy="1639800"/>
          </a:xfrm>
        </p:grpSpPr>
        <p:sp>
          <p:nvSpPr>
            <p:cNvPr id="1731" name=""/>
            <p:cNvSpPr/>
            <p:nvPr/>
          </p:nvSpPr>
          <p:spPr>
            <a:xfrm>
              <a:off x="1519200" y="2033640"/>
              <a:ext cx="2006280" cy="163980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2531160" y="2540880"/>
              <a:ext cx="0" cy="12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3" name=""/>
            <p:cNvSpPr/>
            <p:nvPr/>
          </p:nvSpPr>
          <p:spPr>
            <a:xfrm>
              <a:off x="2441160" y="2395080"/>
              <a:ext cx="176400" cy="13356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H="1">
              <a:off x="2345400" y="2756160"/>
              <a:ext cx="185400" cy="28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a:off x="2548800" y="2773080"/>
              <a:ext cx="276840" cy="293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2444760" y="2660040"/>
              <a:ext cx="174600" cy="13536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flipH="1">
              <a:off x="2005920" y="3111480"/>
              <a:ext cx="310680" cy="33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a:off x="2345760" y="3101040"/>
              <a:ext cx="331920" cy="35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9" name=""/>
            <p:cNvSpPr/>
            <p:nvPr/>
          </p:nvSpPr>
          <p:spPr>
            <a:xfrm>
              <a:off x="2345760" y="3093480"/>
              <a:ext cx="0" cy="36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0" name=""/>
            <p:cNvSpPr/>
            <p:nvPr/>
          </p:nvSpPr>
          <p:spPr>
            <a:xfrm>
              <a:off x="2833200" y="3076920"/>
              <a:ext cx="189000" cy="365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1919880" y="3381120"/>
              <a:ext cx="1764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2744640" y="3018240"/>
              <a:ext cx="1764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3" name=""/>
            <p:cNvSpPr/>
            <p:nvPr/>
          </p:nvSpPr>
          <p:spPr>
            <a:xfrm>
              <a:off x="2250360" y="3018240"/>
              <a:ext cx="1746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4" name=""/>
            <p:cNvSpPr/>
            <p:nvPr/>
          </p:nvSpPr>
          <p:spPr>
            <a:xfrm>
              <a:off x="2925000" y="3381120"/>
              <a:ext cx="1764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5" name=""/>
            <p:cNvSpPr/>
            <p:nvPr/>
          </p:nvSpPr>
          <p:spPr>
            <a:xfrm>
              <a:off x="2587680" y="3381120"/>
              <a:ext cx="17496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6" name=""/>
            <p:cNvSpPr/>
            <p:nvPr/>
          </p:nvSpPr>
          <p:spPr>
            <a:xfrm>
              <a:off x="2257200" y="3381120"/>
              <a:ext cx="176400" cy="133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47" name=""/>
          <p:cNvGrpSpPr/>
          <p:nvPr/>
        </p:nvGrpSpPr>
        <p:grpSpPr>
          <a:xfrm>
            <a:off x="2511360" y="5816520"/>
            <a:ext cx="690480" cy="711360"/>
            <a:chOff x="2511360" y="5816520"/>
            <a:chExt cx="690480" cy="711360"/>
          </a:xfrm>
        </p:grpSpPr>
        <p:sp>
          <p:nvSpPr>
            <p:cNvPr id="1748" name=""/>
            <p:cNvSpPr/>
            <p:nvPr/>
          </p:nvSpPr>
          <p:spPr>
            <a:xfrm>
              <a:off x="2751120" y="5838840"/>
              <a:ext cx="29988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2768400" y="62013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2768400" y="596520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1" name=""/>
            <p:cNvSpPr/>
            <p:nvPr/>
          </p:nvSpPr>
          <p:spPr>
            <a:xfrm>
              <a:off x="2511360" y="581796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52" name=""/>
            <p:cNvSpPr/>
            <p:nvPr/>
          </p:nvSpPr>
          <p:spPr>
            <a:xfrm>
              <a:off x="2511360" y="5817960"/>
              <a:ext cx="24120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2724120" y="5842080"/>
              <a:ext cx="284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2768400" y="5963760"/>
              <a:ext cx="26676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2768400" y="59263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756" name=""/>
            <p:cNvSpPr/>
            <p:nvPr/>
          </p:nvSpPr>
          <p:spPr>
            <a:xfrm>
              <a:off x="2768400" y="586440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757" name=""/>
            <p:cNvSpPr/>
            <p:nvPr/>
          </p:nvSpPr>
          <p:spPr>
            <a:xfrm>
              <a:off x="2511360" y="581652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58" name=""/>
            <p:cNvSpPr/>
            <p:nvPr/>
          </p:nvSpPr>
          <p:spPr>
            <a:xfrm>
              <a:off x="2749320" y="5838840"/>
              <a:ext cx="3016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2511360" y="5817960"/>
              <a:ext cx="23976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0" name=""/>
            <p:cNvSpPr/>
            <p:nvPr/>
          </p:nvSpPr>
          <p:spPr>
            <a:xfrm>
              <a:off x="2724120" y="584352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2724120" y="585252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2" name=""/>
            <p:cNvSpPr/>
            <p:nvPr/>
          </p:nvSpPr>
          <p:spPr>
            <a:xfrm>
              <a:off x="2724120" y="59022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3" name=""/>
            <p:cNvSpPr/>
            <p:nvPr/>
          </p:nvSpPr>
          <p:spPr>
            <a:xfrm>
              <a:off x="2768400" y="586440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764" name=""/>
            <p:cNvSpPr/>
            <p:nvPr/>
          </p:nvSpPr>
          <p:spPr>
            <a:xfrm>
              <a:off x="2724120" y="59173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5" name=""/>
            <p:cNvSpPr/>
            <p:nvPr/>
          </p:nvSpPr>
          <p:spPr>
            <a:xfrm>
              <a:off x="2724120" y="59637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6" name=""/>
            <p:cNvSpPr/>
            <p:nvPr/>
          </p:nvSpPr>
          <p:spPr>
            <a:xfrm>
              <a:off x="2724120" y="61520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7" name=""/>
            <p:cNvSpPr/>
            <p:nvPr/>
          </p:nvSpPr>
          <p:spPr>
            <a:xfrm>
              <a:off x="2768400" y="597420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8" name=""/>
            <p:cNvSpPr/>
            <p:nvPr/>
          </p:nvSpPr>
          <p:spPr>
            <a:xfrm>
              <a:off x="3033720" y="596520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9" name=""/>
            <p:cNvSpPr/>
            <p:nvPr/>
          </p:nvSpPr>
          <p:spPr>
            <a:xfrm>
              <a:off x="2768400" y="596520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3020760" y="614700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71" name=""/>
            <p:cNvSpPr/>
            <p:nvPr/>
          </p:nvSpPr>
          <p:spPr>
            <a:xfrm flipH="1">
              <a:off x="2768040" y="602712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772" name=""/>
            <p:cNvSpPr/>
            <p:nvPr/>
          </p:nvSpPr>
          <p:spPr>
            <a:xfrm flipH="1">
              <a:off x="2768040" y="609012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773" name=""/>
            <p:cNvSpPr/>
            <p:nvPr/>
          </p:nvSpPr>
          <p:spPr>
            <a:xfrm>
              <a:off x="2724120" y="62013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74" name=""/>
            <p:cNvSpPr/>
            <p:nvPr/>
          </p:nvSpPr>
          <p:spPr>
            <a:xfrm>
              <a:off x="2724120" y="64659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5" name=""/>
            <p:cNvSpPr/>
            <p:nvPr/>
          </p:nvSpPr>
          <p:spPr>
            <a:xfrm>
              <a:off x="2768400" y="621648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6" name=""/>
            <p:cNvSpPr/>
            <p:nvPr/>
          </p:nvSpPr>
          <p:spPr>
            <a:xfrm>
              <a:off x="3033720" y="62013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a:off x="2768400" y="64479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8" name=""/>
            <p:cNvSpPr/>
            <p:nvPr/>
          </p:nvSpPr>
          <p:spPr>
            <a:xfrm>
              <a:off x="2768400" y="64360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9" name=""/>
            <p:cNvSpPr/>
            <p:nvPr/>
          </p:nvSpPr>
          <p:spPr>
            <a:xfrm>
              <a:off x="2768400" y="642528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80" name=""/>
            <p:cNvSpPr/>
            <p:nvPr/>
          </p:nvSpPr>
          <p:spPr>
            <a:xfrm>
              <a:off x="2768400" y="64134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81" name=""/>
            <p:cNvSpPr/>
            <p:nvPr/>
          </p:nvSpPr>
          <p:spPr>
            <a:xfrm>
              <a:off x="2768400" y="63997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82" name=""/>
            <p:cNvSpPr/>
            <p:nvPr/>
          </p:nvSpPr>
          <p:spPr>
            <a:xfrm>
              <a:off x="2768400" y="586620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783" name=""/>
            <p:cNvSpPr/>
            <p:nvPr/>
          </p:nvSpPr>
          <p:spPr>
            <a:xfrm>
              <a:off x="3020760" y="588852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784" name=""/>
            <p:cNvSpPr/>
            <p:nvPr/>
          </p:nvSpPr>
          <p:spPr>
            <a:xfrm>
              <a:off x="2830320" y="59263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785" name=""/>
            <p:cNvSpPr/>
            <p:nvPr/>
          </p:nvSpPr>
          <p:spPr>
            <a:xfrm>
              <a:off x="2768400" y="59263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786" name=""/>
            <p:cNvSpPr/>
            <p:nvPr/>
          </p:nvSpPr>
          <p:spPr>
            <a:xfrm>
              <a:off x="2768400" y="594288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87" name=""/>
            <p:cNvSpPr/>
            <p:nvPr/>
          </p:nvSpPr>
          <p:spPr>
            <a:xfrm flipH="1">
              <a:off x="2971800" y="594576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788" name=""/>
            <p:cNvSpPr/>
            <p:nvPr/>
          </p:nvSpPr>
          <p:spPr>
            <a:xfrm>
              <a:off x="2971800" y="59263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789" name=""/>
            <p:cNvSpPr/>
            <p:nvPr/>
          </p:nvSpPr>
          <p:spPr>
            <a:xfrm>
              <a:off x="2781360" y="588096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90" name=""/>
            <p:cNvSpPr/>
            <p:nvPr/>
          </p:nvSpPr>
          <p:spPr>
            <a:xfrm>
              <a:off x="2817720" y="587952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91" name=""/>
            <p:cNvSpPr/>
            <p:nvPr/>
          </p:nvSpPr>
          <p:spPr>
            <a:xfrm>
              <a:off x="2854080" y="587952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92" name=""/>
            <p:cNvSpPr/>
            <p:nvPr/>
          </p:nvSpPr>
          <p:spPr>
            <a:xfrm>
              <a:off x="2892240" y="587952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93" name=""/>
            <p:cNvSpPr/>
            <p:nvPr/>
          </p:nvSpPr>
          <p:spPr>
            <a:xfrm>
              <a:off x="2930400" y="587808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94" name=""/>
            <p:cNvSpPr/>
            <p:nvPr/>
          </p:nvSpPr>
          <p:spPr>
            <a:xfrm>
              <a:off x="2965320" y="587484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95" name=""/>
            <p:cNvSpPr/>
            <p:nvPr/>
          </p:nvSpPr>
          <p:spPr>
            <a:xfrm>
              <a:off x="3003480" y="587484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96" name=""/>
            <p:cNvSpPr/>
            <p:nvPr/>
          </p:nvSpPr>
          <p:spPr>
            <a:xfrm>
              <a:off x="3008160" y="596520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7" name=""/>
            <p:cNvSpPr/>
            <p:nvPr/>
          </p:nvSpPr>
          <p:spPr>
            <a:xfrm>
              <a:off x="3049560" y="64299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sp>
        <p:nvSpPr>
          <p:cNvPr id="1798" name=""/>
          <p:cNvSpPr/>
          <p:nvPr/>
        </p:nvSpPr>
        <p:spPr>
          <a:xfrm flipH="1">
            <a:off x="782280" y="4971960"/>
            <a:ext cx="320760" cy="67176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799" name=""/>
          <p:cNvSpPr/>
          <p:nvPr/>
        </p:nvSpPr>
        <p:spPr>
          <a:xfrm>
            <a:off x="1747800" y="3668760"/>
            <a:ext cx="363600" cy="390600"/>
          </a:xfrm>
          <a:prstGeom prst="noSmoking">
            <a:avLst>
              <a:gd name="adj" fmla="val 12500"/>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800" name=""/>
          <p:cNvSpPr/>
          <p:nvPr/>
        </p:nvSpPr>
        <p:spPr>
          <a:xfrm flipV="1">
            <a:off x="1149480" y="6039000"/>
            <a:ext cx="1279440" cy="144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4280" bIns="-44280" anchor="t">
            <a:noAutofit/>
          </a:bodyPr>
          <a:p>
            <a:endParaRPr b="0" lang="en-US" sz="2400" spc="-1" strike="noStrike">
              <a:solidFill>
                <a:srgbClr val="ffffff"/>
              </a:solidFill>
              <a:latin typeface="Times New Roman"/>
            </a:endParaRPr>
          </a:p>
        </p:txBody>
      </p:sp>
      <p:sp>
        <p:nvSpPr>
          <p:cNvPr id="1801" name=""/>
          <p:cNvSpPr/>
          <p:nvPr/>
        </p:nvSpPr>
        <p:spPr>
          <a:xfrm flipV="1">
            <a:off x="1533600" y="3616200"/>
            <a:ext cx="685800" cy="658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802" name=""/>
          <p:cNvSpPr/>
          <p:nvPr/>
        </p:nvSpPr>
        <p:spPr>
          <a:xfrm>
            <a:off x="1065240" y="5010120"/>
            <a:ext cx="2138400" cy="8323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Sec between domain members OK</a:t>
            </a:r>
            <a:endParaRPr b="0" lang="en-US" sz="1800" spc="-1" strike="noStrike">
              <a:solidFill>
                <a:srgbClr val="ffffff"/>
              </a:solidFill>
              <a:latin typeface="Times New Roman"/>
            </a:endParaRPr>
          </a:p>
        </p:txBody>
      </p:sp>
      <p:pic>
        <p:nvPicPr>
          <p:cNvPr id="1803" name="" descr=""/>
          <p:cNvPicPr/>
          <p:nvPr/>
        </p:nvPicPr>
        <p:blipFill>
          <a:blip r:embed="rId3"/>
          <a:stretch/>
        </p:blipFill>
        <p:spPr>
          <a:xfrm>
            <a:off x="2112840" y="4371840"/>
            <a:ext cx="862200" cy="578160"/>
          </a:xfrm>
          <a:prstGeom prst="rect">
            <a:avLst/>
          </a:prstGeom>
          <a:ln w="0">
            <a:noFill/>
          </a:ln>
        </p:spPr>
      </p:pic>
      <p:sp>
        <p:nvSpPr>
          <p:cNvPr id="1804" name=""/>
          <p:cNvSpPr/>
          <p:nvPr/>
        </p:nvSpPr>
        <p:spPr>
          <a:xfrm flipH="1">
            <a:off x="1552320" y="4519440"/>
            <a:ext cx="61596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805" name=""/>
          <p:cNvSpPr/>
          <p:nvPr/>
        </p:nvSpPr>
        <p:spPr>
          <a:xfrm flipH="1" flipV="1">
            <a:off x="3029040" y="3701880"/>
            <a:ext cx="15840" cy="202896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806" name=""/>
          <p:cNvSpPr/>
          <p:nvPr/>
        </p:nvSpPr>
        <p:spPr>
          <a:xfrm>
            <a:off x="2843280" y="3902040"/>
            <a:ext cx="363600" cy="390600"/>
          </a:xfrm>
          <a:prstGeom prst="noSmoking">
            <a:avLst>
              <a:gd name="adj" fmla="val 12500"/>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807" name=""/>
          <p:cNvSpPr/>
          <p:nvPr/>
        </p:nvSpPr>
        <p:spPr>
          <a:xfrm flipH="1" flipV="1">
            <a:off x="3254400" y="4168800"/>
            <a:ext cx="1008000" cy="565200"/>
          </a:xfrm>
          <a:prstGeom prst="line">
            <a:avLst/>
          </a:prstGeom>
          <a:ln w="9360">
            <a:solidFill>
              <a:srgbClr val="ffffff"/>
            </a:solidFill>
            <a:miter/>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365040" y="228240"/>
            <a:ext cx="8431200" cy="1298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Group Security with IPSec Example Policy</a:t>
            </a:r>
            <a:endParaRPr b="1" lang="en-US" sz="4400" spc="-1" strike="noStrike">
              <a:solidFill>
                <a:srgbClr val="fccf00"/>
              </a:solidFill>
              <a:latin typeface="Arial"/>
            </a:endParaRPr>
          </a:p>
        </p:txBody>
      </p:sp>
      <p:sp>
        <p:nvSpPr>
          <p:cNvPr id="1809" name="PlaceHolder 2"/>
          <p:cNvSpPr>
            <a:spLocks noGrp="1"/>
          </p:cNvSpPr>
          <p:nvPr>
            <p:ph/>
          </p:nvPr>
        </p:nvSpPr>
        <p:spPr>
          <a:xfrm>
            <a:off x="4037040" y="1417320"/>
            <a:ext cx="5106960" cy="5715000"/>
          </a:xfrm>
          <a:prstGeom prst="rect">
            <a:avLst/>
          </a:prstGeom>
          <a:noFill/>
          <a:ln w="0">
            <a:noFill/>
          </a:ln>
        </p:spPr>
        <p:txBody>
          <a:bodyPr lIns="182520" rIns="182520" tIns="46080" bIns="46080" anchor="t">
            <a:normAutofit/>
          </a:bodyPr>
          <a:p>
            <a:pPr marL="577800" indent="-577800">
              <a:lnSpc>
                <a:spcPct val="8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 1 – Secure All Unicast</a:t>
            </a:r>
            <a:endParaRPr b="1" lang="en-US" sz="2400" spc="-1" strike="noStrike">
              <a:solidFill>
                <a:srgbClr val="ffffff"/>
              </a:solidFill>
              <a:latin typeface="Arial"/>
            </a:endParaRPr>
          </a:p>
          <a:p>
            <a:pPr lvl="1" marL="1030320" indent="-45072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ter:</a:t>
            </a:r>
            <a:endParaRPr b="1" lang="en-US" sz="2000" spc="-1" strike="noStrike">
              <a:solidFill>
                <a:srgbClr val="ffffff"/>
              </a:solidFill>
              <a:latin typeface="Arial"/>
            </a:endParaRPr>
          </a:p>
          <a:p>
            <a:pPr lvl="2" marL="1498680" indent="-46692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Me to Any IP, all protocols</a:t>
            </a:r>
            <a:endParaRPr b="1" lang="en-US" sz="2000" spc="-1" strike="noStrike">
              <a:solidFill>
                <a:srgbClr val="ffffff"/>
              </a:solidFill>
              <a:latin typeface="Arial"/>
            </a:endParaRPr>
          </a:p>
          <a:p>
            <a:pPr lvl="2" marL="1498680" indent="-46692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ember std exceptions still apply)</a:t>
            </a:r>
            <a:endParaRPr b="1" lang="en-US" sz="2000" spc="-1" strike="noStrike">
              <a:solidFill>
                <a:srgbClr val="ffffff"/>
              </a:solidFill>
              <a:latin typeface="Arial"/>
            </a:endParaRPr>
          </a:p>
          <a:p>
            <a:pPr lvl="1" marL="1030320" indent="-45072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ter Action: ESP 3DES</a:t>
            </a:r>
            <a:endParaRPr b="1" lang="en-US" sz="2000" spc="-1" strike="noStrike">
              <a:solidFill>
                <a:srgbClr val="ffffff"/>
              </a:solidFill>
              <a:latin typeface="Arial"/>
            </a:endParaRPr>
          </a:p>
          <a:p>
            <a:pPr lvl="1" marL="1030320" indent="-45072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 Method: Kerberos only</a:t>
            </a:r>
            <a:endParaRPr b="1" lang="en-US" sz="2000" spc="-1" strike="noStrike">
              <a:solidFill>
                <a:srgbClr val="ffffff"/>
              </a:solidFill>
              <a:latin typeface="Arial"/>
            </a:endParaRPr>
          </a:p>
          <a:p>
            <a:pPr marL="577800" indent="-577800">
              <a:lnSpc>
                <a:spcPct val="8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 2 - Exceptions</a:t>
            </a:r>
            <a:endParaRPr b="1" lang="en-US" sz="2400" spc="-1" strike="noStrike">
              <a:solidFill>
                <a:srgbClr val="ffffff"/>
              </a:solidFill>
              <a:latin typeface="Arial"/>
            </a:endParaRPr>
          </a:p>
          <a:p>
            <a:pPr lvl="1" marL="1030320" indent="-45072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ter:</a:t>
            </a:r>
            <a:endParaRPr b="1" lang="en-US" sz="2000" spc="-1" strike="noStrike">
              <a:solidFill>
                <a:srgbClr val="ffffff"/>
              </a:solidFill>
              <a:latin typeface="Arial"/>
            </a:endParaRPr>
          </a:p>
          <a:p>
            <a:pPr lvl="2" marL="1498680" indent="-46692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 to each DC IP</a:t>
            </a:r>
            <a:endParaRPr b="1" lang="en-US" sz="2000" spc="-1" strike="noStrike">
              <a:solidFill>
                <a:srgbClr val="ffffff"/>
              </a:solidFill>
              <a:latin typeface="Arial"/>
            </a:endParaRPr>
          </a:p>
          <a:p>
            <a:pPr lvl="2" marL="1498680" indent="-46692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 to DHCP Server IP</a:t>
            </a:r>
            <a:endParaRPr b="1" lang="en-US" sz="2000" spc="-1" strike="noStrike">
              <a:solidFill>
                <a:srgbClr val="ffffff"/>
              </a:solidFill>
              <a:latin typeface="Arial"/>
            </a:endParaRPr>
          </a:p>
          <a:p>
            <a:pPr lvl="2" marL="1498680" indent="-46692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 to Default GW IP</a:t>
            </a:r>
            <a:endParaRPr b="1" lang="en-US" sz="2000" spc="-1" strike="noStrike">
              <a:solidFill>
                <a:srgbClr val="ffffff"/>
              </a:solidFill>
              <a:latin typeface="Arial"/>
            </a:endParaRPr>
          </a:p>
          <a:p>
            <a:pPr lvl="2" marL="1498680" indent="-46692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 to DNS IPs, DNS traffic</a:t>
            </a:r>
            <a:endParaRPr b="1" lang="en-US" sz="2000" spc="-1" strike="noStrike">
              <a:solidFill>
                <a:srgbClr val="ffffff"/>
              </a:solidFill>
              <a:latin typeface="Arial"/>
            </a:endParaRPr>
          </a:p>
          <a:p>
            <a:pPr lvl="2" marL="1498680" indent="-46692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CMP (optional)</a:t>
            </a:r>
            <a:endParaRPr b="1" lang="en-US" sz="2000" spc="-1" strike="noStrike">
              <a:solidFill>
                <a:srgbClr val="ffffff"/>
              </a:solidFill>
              <a:latin typeface="Arial"/>
            </a:endParaRPr>
          </a:p>
          <a:p>
            <a:pPr lvl="1" marL="1030320" indent="-450720">
              <a:lnSpc>
                <a:spcPct val="8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ter Action: Permit</a:t>
            </a:r>
            <a:endParaRPr b="1" lang="en-US" sz="2000" spc="-1" strike="noStrike">
              <a:solidFill>
                <a:srgbClr val="ffffff"/>
              </a:solidFill>
              <a:latin typeface="Arial"/>
            </a:endParaRPr>
          </a:p>
          <a:p>
            <a:pPr marL="577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1810" name=""/>
          <p:cNvGrpSpPr/>
          <p:nvPr/>
        </p:nvGrpSpPr>
        <p:grpSpPr>
          <a:xfrm>
            <a:off x="3005280" y="4040280"/>
            <a:ext cx="690480" cy="711000"/>
            <a:chOff x="3005280" y="4040280"/>
            <a:chExt cx="690480" cy="711000"/>
          </a:xfrm>
        </p:grpSpPr>
        <p:sp>
          <p:nvSpPr>
            <p:cNvPr id="1811" name=""/>
            <p:cNvSpPr/>
            <p:nvPr/>
          </p:nvSpPr>
          <p:spPr>
            <a:xfrm>
              <a:off x="3245040" y="40626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2" name=""/>
            <p:cNvSpPr/>
            <p:nvPr/>
          </p:nvSpPr>
          <p:spPr>
            <a:xfrm>
              <a:off x="3262320" y="44247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3262320" y="41889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a:off x="3005280" y="40417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5" name=""/>
            <p:cNvSpPr/>
            <p:nvPr/>
          </p:nvSpPr>
          <p:spPr>
            <a:xfrm>
              <a:off x="3005280" y="40417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a:off x="3218040" y="40658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7" name=""/>
            <p:cNvSpPr/>
            <p:nvPr/>
          </p:nvSpPr>
          <p:spPr>
            <a:xfrm>
              <a:off x="3262320" y="41875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3262320" y="41497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819" name=""/>
            <p:cNvSpPr/>
            <p:nvPr/>
          </p:nvSpPr>
          <p:spPr>
            <a:xfrm>
              <a:off x="3262320" y="40881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820" name=""/>
            <p:cNvSpPr/>
            <p:nvPr/>
          </p:nvSpPr>
          <p:spPr>
            <a:xfrm>
              <a:off x="3005280" y="40402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21" name=""/>
            <p:cNvSpPr/>
            <p:nvPr/>
          </p:nvSpPr>
          <p:spPr>
            <a:xfrm>
              <a:off x="3243240" y="40626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3005280" y="40417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3218040" y="40672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3218040" y="40762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25" name=""/>
            <p:cNvSpPr/>
            <p:nvPr/>
          </p:nvSpPr>
          <p:spPr>
            <a:xfrm>
              <a:off x="3218040" y="41259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26" name=""/>
            <p:cNvSpPr/>
            <p:nvPr/>
          </p:nvSpPr>
          <p:spPr>
            <a:xfrm>
              <a:off x="3262320" y="40881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827" name=""/>
            <p:cNvSpPr/>
            <p:nvPr/>
          </p:nvSpPr>
          <p:spPr>
            <a:xfrm>
              <a:off x="3218040" y="41410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28" name=""/>
            <p:cNvSpPr/>
            <p:nvPr/>
          </p:nvSpPr>
          <p:spPr>
            <a:xfrm>
              <a:off x="3218040" y="41875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29" name=""/>
            <p:cNvSpPr/>
            <p:nvPr/>
          </p:nvSpPr>
          <p:spPr>
            <a:xfrm>
              <a:off x="3218040" y="43754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30" name=""/>
            <p:cNvSpPr/>
            <p:nvPr/>
          </p:nvSpPr>
          <p:spPr>
            <a:xfrm>
              <a:off x="3262320" y="41979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1" name=""/>
            <p:cNvSpPr/>
            <p:nvPr/>
          </p:nvSpPr>
          <p:spPr>
            <a:xfrm>
              <a:off x="3527640" y="41889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2" name=""/>
            <p:cNvSpPr/>
            <p:nvPr/>
          </p:nvSpPr>
          <p:spPr>
            <a:xfrm>
              <a:off x="3262320" y="41889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3" name=""/>
            <p:cNvSpPr/>
            <p:nvPr/>
          </p:nvSpPr>
          <p:spPr>
            <a:xfrm>
              <a:off x="3514680" y="43707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34" name=""/>
            <p:cNvSpPr/>
            <p:nvPr/>
          </p:nvSpPr>
          <p:spPr>
            <a:xfrm flipH="1">
              <a:off x="3261960" y="42508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835" name=""/>
            <p:cNvSpPr/>
            <p:nvPr/>
          </p:nvSpPr>
          <p:spPr>
            <a:xfrm flipH="1">
              <a:off x="3261960" y="43138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836" name=""/>
            <p:cNvSpPr/>
            <p:nvPr/>
          </p:nvSpPr>
          <p:spPr>
            <a:xfrm>
              <a:off x="3218040" y="44247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37" name=""/>
            <p:cNvSpPr/>
            <p:nvPr/>
          </p:nvSpPr>
          <p:spPr>
            <a:xfrm>
              <a:off x="3218040" y="46893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8" name=""/>
            <p:cNvSpPr/>
            <p:nvPr/>
          </p:nvSpPr>
          <p:spPr>
            <a:xfrm>
              <a:off x="3262320" y="44398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9" name=""/>
            <p:cNvSpPr/>
            <p:nvPr/>
          </p:nvSpPr>
          <p:spPr>
            <a:xfrm>
              <a:off x="3527640" y="44247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0" name=""/>
            <p:cNvSpPr/>
            <p:nvPr/>
          </p:nvSpPr>
          <p:spPr>
            <a:xfrm>
              <a:off x="3262320" y="46713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41" name=""/>
            <p:cNvSpPr/>
            <p:nvPr/>
          </p:nvSpPr>
          <p:spPr>
            <a:xfrm>
              <a:off x="3262320" y="46594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42" name=""/>
            <p:cNvSpPr/>
            <p:nvPr/>
          </p:nvSpPr>
          <p:spPr>
            <a:xfrm>
              <a:off x="3262320" y="46490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43" name=""/>
            <p:cNvSpPr/>
            <p:nvPr/>
          </p:nvSpPr>
          <p:spPr>
            <a:xfrm>
              <a:off x="3262320" y="46368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44" name=""/>
            <p:cNvSpPr/>
            <p:nvPr/>
          </p:nvSpPr>
          <p:spPr>
            <a:xfrm>
              <a:off x="3262320" y="46231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45" name=""/>
            <p:cNvSpPr/>
            <p:nvPr/>
          </p:nvSpPr>
          <p:spPr>
            <a:xfrm>
              <a:off x="3262320" y="40899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46" name=""/>
            <p:cNvSpPr/>
            <p:nvPr/>
          </p:nvSpPr>
          <p:spPr>
            <a:xfrm>
              <a:off x="3514680" y="41122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847" name=""/>
            <p:cNvSpPr/>
            <p:nvPr/>
          </p:nvSpPr>
          <p:spPr>
            <a:xfrm>
              <a:off x="3324240" y="41497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848" name=""/>
            <p:cNvSpPr/>
            <p:nvPr/>
          </p:nvSpPr>
          <p:spPr>
            <a:xfrm>
              <a:off x="3262320" y="41497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849" name=""/>
            <p:cNvSpPr/>
            <p:nvPr/>
          </p:nvSpPr>
          <p:spPr>
            <a:xfrm>
              <a:off x="3262320" y="41666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50" name=""/>
            <p:cNvSpPr/>
            <p:nvPr/>
          </p:nvSpPr>
          <p:spPr>
            <a:xfrm flipH="1">
              <a:off x="3465720" y="41695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851" name=""/>
            <p:cNvSpPr/>
            <p:nvPr/>
          </p:nvSpPr>
          <p:spPr>
            <a:xfrm>
              <a:off x="3465720" y="41497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852" name=""/>
            <p:cNvSpPr/>
            <p:nvPr/>
          </p:nvSpPr>
          <p:spPr>
            <a:xfrm>
              <a:off x="3275280" y="41047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53" name=""/>
            <p:cNvSpPr/>
            <p:nvPr/>
          </p:nvSpPr>
          <p:spPr>
            <a:xfrm>
              <a:off x="3311640" y="41032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54" name=""/>
            <p:cNvSpPr/>
            <p:nvPr/>
          </p:nvSpPr>
          <p:spPr>
            <a:xfrm>
              <a:off x="3348000" y="41032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55" name=""/>
            <p:cNvSpPr/>
            <p:nvPr/>
          </p:nvSpPr>
          <p:spPr>
            <a:xfrm>
              <a:off x="3386160" y="41032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56" name=""/>
            <p:cNvSpPr/>
            <p:nvPr/>
          </p:nvSpPr>
          <p:spPr>
            <a:xfrm>
              <a:off x="3424320" y="41018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57" name=""/>
            <p:cNvSpPr/>
            <p:nvPr/>
          </p:nvSpPr>
          <p:spPr>
            <a:xfrm>
              <a:off x="3459240" y="40986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58" name=""/>
            <p:cNvSpPr/>
            <p:nvPr/>
          </p:nvSpPr>
          <p:spPr>
            <a:xfrm>
              <a:off x="3497400" y="40986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59" name=""/>
            <p:cNvSpPr/>
            <p:nvPr/>
          </p:nvSpPr>
          <p:spPr>
            <a:xfrm>
              <a:off x="3502080" y="41889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0" name=""/>
            <p:cNvSpPr/>
            <p:nvPr/>
          </p:nvSpPr>
          <p:spPr>
            <a:xfrm>
              <a:off x="3543480" y="46533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861" name="" descr=""/>
          <p:cNvPicPr/>
          <p:nvPr/>
        </p:nvPicPr>
        <p:blipFill>
          <a:blip r:embed="rId2"/>
          <a:stretch/>
        </p:blipFill>
        <p:spPr>
          <a:xfrm>
            <a:off x="1954080" y="4892760"/>
            <a:ext cx="862200" cy="577800"/>
          </a:xfrm>
          <a:prstGeom prst="rect">
            <a:avLst/>
          </a:prstGeom>
          <a:ln w="0">
            <a:noFill/>
          </a:ln>
        </p:spPr>
      </p:pic>
      <p:pic>
        <p:nvPicPr>
          <p:cNvPr id="1862" name="" descr=""/>
          <p:cNvPicPr/>
          <p:nvPr/>
        </p:nvPicPr>
        <p:blipFill>
          <a:blip r:embed="rId3"/>
          <a:stretch/>
        </p:blipFill>
        <p:spPr>
          <a:xfrm>
            <a:off x="885960" y="4046400"/>
            <a:ext cx="861840" cy="578160"/>
          </a:xfrm>
          <a:prstGeom prst="rect">
            <a:avLst/>
          </a:prstGeom>
          <a:ln w="0">
            <a:noFill/>
          </a:ln>
        </p:spPr>
      </p:pic>
      <p:grpSp>
        <p:nvGrpSpPr>
          <p:cNvPr id="1863" name=""/>
          <p:cNvGrpSpPr/>
          <p:nvPr/>
        </p:nvGrpSpPr>
        <p:grpSpPr>
          <a:xfrm>
            <a:off x="1449360" y="2201760"/>
            <a:ext cx="1803600" cy="1424160"/>
            <a:chOff x="1449360" y="2201760"/>
            <a:chExt cx="1803600" cy="1424160"/>
          </a:xfrm>
        </p:grpSpPr>
        <p:sp>
          <p:nvSpPr>
            <p:cNvPr id="1864" name=""/>
            <p:cNvSpPr/>
            <p:nvPr/>
          </p:nvSpPr>
          <p:spPr>
            <a:xfrm>
              <a:off x="1449360" y="2201760"/>
              <a:ext cx="1803600" cy="142416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5" name=""/>
            <p:cNvSpPr/>
            <p:nvPr/>
          </p:nvSpPr>
          <p:spPr>
            <a:xfrm>
              <a:off x="2359080" y="264240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6" name=""/>
            <p:cNvSpPr/>
            <p:nvPr/>
          </p:nvSpPr>
          <p:spPr>
            <a:xfrm>
              <a:off x="2278080" y="2515680"/>
              <a:ext cx="158760" cy="115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867" name=""/>
            <p:cNvSpPr/>
            <p:nvPr/>
          </p:nvSpPr>
          <p:spPr>
            <a:xfrm flipH="1">
              <a:off x="2192040" y="282924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2374920" y="284400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9" name=""/>
            <p:cNvSpPr/>
            <p:nvPr/>
          </p:nvSpPr>
          <p:spPr>
            <a:xfrm>
              <a:off x="2281320" y="2745720"/>
              <a:ext cx="156960" cy="1177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870" name=""/>
            <p:cNvSpPr/>
            <p:nvPr/>
          </p:nvSpPr>
          <p:spPr>
            <a:xfrm flipH="1">
              <a:off x="1887480" y="313812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a:off x="2192400" y="312876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a:off x="2192400" y="312228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a:off x="2630520" y="310788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a:off x="1809720" y="337212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875" name=""/>
            <p:cNvSpPr/>
            <p:nvPr/>
          </p:nvSpPr>
          <p:spPr>
            <a:xfrm>
              <a:off x="2550960" y="305676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876" name=""/>
            <p:cNvSpPr/>
            <p:nvPr/>
          </p:nvSpPr>
          <p:spPr>
            <a:xfrm>
              <a:off x="2106720" y="3056760"/>
              <a:ext cx="1569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877" name=""/>
            <p:cNvSpPr/>
            <p:nvPr/>
          </p:nvSpPr>
          <p:spPr>
            <a:xfrm>
              <a:off x="2712960" y="337212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878" name=""/>
            <p:cNvSpPr/>
            <p:nvPr/>
          </p:nvSpPr>
          <p:spPr>
            <a:xfrm>
              <a:off x="2409840" y="3372120"/>
              <a:ext cx="15732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879" name=""/>
            <p:cNvSpPr/>
            <p:nvPr/>
          </p:nvSpPr>
          <p:spPr>
            <a:xfrm>
              <a:off x="2112840" y="337212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880" name=""/>
          <p:cNvSpPr/>
          <p:nvPr/>
        </p:nvSpPr>
        <p:spPr>
          <a:xfrm>
            <a:off x="855720" y="1824120"/>
            <a:ext cx="3216240" cy="3391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a:t>
            </a:r>
            <a:endParaRPr b="0" lang="en-US" sz="1800" spc="-1" strike="noStrike">
              <a:solidFill>
                <a:srgbClr val="ffffff"/>
              </a:solidFill>
              <a:latin typeface="Times New Roman"/>
            </a:endParaRPr>
          </a:p>
        </p:txBody>
      </p:sp>
      <p:sp>
        <p:nvSpPr>
          <p:cNvPr id="1881" name=""/>
          <p:cNvSpPr/>
          <p:nvPr/>
        </p:nvSpPr>
        <p:spPr>
          <a:xfrm>
            <a:off x="1855800" y="434340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882" name=""/>
          <p:cNvSpPr/>
          <p:nvPr/>
        </p:nvSpPr>
        <p:spPr>
          <a:xfrm>
            <a:off x="1895400" y="446580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883" name=""/>
          <p:cNvSpPr/>
          <p:nvPr/>
        </p:nvSpPr>
        <p:spPr>
          <a:xfrm flipV="1">
            <a:off x="2502000" y="4478400"/>
            <a:ext cx="376200" cy="29664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884" name=""/>
          <p:cNvSpPr/>
          <p:nvPr/>
        </p:nvSpPr>
        <p:spPr>
          <a:xfrm>
            <a:off x="1065240" y="3792600"/>
            <a:ext cx="260820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Sec with Kerberos Authentication</a:t>
            </a:r>
            <a:endParaRPr b="0" lang="en-US" sz="1800" spc="-1" strike="noStrike">
              <a:solidFill>
                <a:srgbClr val="ffffff"/>
              </a:solidFill>
              <a:latin typeface="Times New Roman"/>
            </a:endParaRPr>
          </a:p>
        </p:txBody>
      </p:sp>
      <p:sp>
        <p:nvSpPr>
          <p:cNvPr id="1885" name=""/>
          <p:cNvSpPr/>
          <p:nvPr/>
        </p:nvSpPr>
        <p:spPr>
          <a:xfrm>
            <a:off x="604800" y="2192400"/>
            <a:ext cx="3522600" cy="37242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1886" name=""/>
          <p:cNvSpPr/>
          <p:nvPr/>
        </p:nvSpPr>
        <p:spPr>
          <a:xfrm>
            <a:off x="0" y="5965920"/>
            <a:ext cx="439740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Default Security Boundary = Kerberos Authentic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365040" y="228240"/>
            <a:ext cx="8431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IPSec Deployment Pitfall</a:t>
            </a:r>
            <a:endParaRPr b="1" lang="en-US" sz="4400" spc="-1" strike="noStrike">
              <a:solidFill>
                <a:srgbClr val="fccf00"/>
              </a:solidFill>
              <a:latin typeface="Arial"/>
            </a:endParaRPr>
          </a:p>
        </p:txBody>
      </p:sp>
      <p:sp>
        <p:nvSpPr>
          <p:cNvPr id="1888" name="PlaceHolder 2"/>
          <p:cNvSpPr>
            <a:spLocks noGrp="1"/>
          </p:cNvSpPr>
          <p:nvPr>
            <p:ph/>
          </p:nvPr>
        </p:nvSpPr>
        <p:spPr>
          <a:xfrm>
            <a:off x="539280" y="1095120"/>
            <a:ext cx="8604360" cy="604836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bility to establish IPSec SAs as </a:t>
            </a:r>
            <a:r>
              <a:rPr b="1" i="1" lang="en-US" sz="2800" spc="-1" strike="noStrike" u="sng">
                <a:solidFill>
                  <a:srgbClr val="ffffff"/>
                </a:solidFill>
                <a:uFillTx/>
                <a:latin typeface="Arial"/>
              </a:rPr>
              <a:t>data</a:t>
            </a:r>
            <a:r>
              <a:rPr b="1" lang="en-US" sz="2800" spc="-1" strike="noStrike">
                <a:solidFill>
                  <a:srgbClr val="ffffff"/>
                </a:solidFill>
                <a:latin typeface="Arial"/>
              </a:rPr>
              <a:t> access control</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access control is provided by object ACLs, based on user, not by IPSec</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Sec can ensure that a system exchanges IP packets securely with another trusted system</a:t>
            </a:r>
            <a:endParaRPr b="1" lang="en-US" sz="2400" spc="-1" strike="noStrike">
              <a:solidFill>
                <a:srgbClr val="ffffff"/>
              </a:solidFill>
              <a:latin typeface="Arial"/>
            </a:endParaRPr>
          </a:p>
          <a:p>
            <a:pPr lvl="2" marL="1498680" indent="-4669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2k IPSec does not guarantee that a particular trusted system is using a particular IP address</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IPSec should simply be used to:</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 a trusted communications environment - general access control</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 wire snooping of traffic for authorized users</a:t>
            </a:r>
            <a:endParaRPr b="1" lang="en-US" sz="2400" spc="-1" strike="noStrike">
              <a:solidFill>
                <a:srgbClr val="ffffff"/>
              </a:solidFill>
              <a:latin typeface="Arial"/>
            </a:endParaRPr>
          </a:p>
          <a:p>
            <a:pPr marL="577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365040" y="228240"/>
            <a:ext cx="8431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IPSec Deployment Pitfall</a:t>
            </a:r>
            <a:endParaRPr b="1" lang="en-US" sz="4400" spc="-1" strike="noStrike">
              <a:solidFill>
                <a:srgbClr val="fccf00"/>
              </a:solidFill>
              <a:latin typeface="Arial"/>
            </a:endParaRPr>
          </a:p>
        </p:txBody>
      </p:sp>
      <p:sp>
        <p:nvSpPr>
          <p:cNvPr id="1890" name="PlaceHolder 2"/>
          <p:cNvSpPr>
            <a:spLocks noGrp="1"/>
          </p:cNvSpPr>
          <p:nvPr>
            <p:ph/>
          </p:nvPr>
        </p:nvSpPr>
        <p:spPr>
          <a:xfrm>
            <a:off x="539280" y="1095480"/>
            <a:ext cx="8604360" cy="628956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policy </a:t>
            </a:r>
            <a:r>
              <a:rPr b="1" i="1" lang="en-US" sz="2800" spc="-1" strike="noStrike" u="sng">
                <a:solidFill>
                  <a:srgbClr val="ffffff"/>
                </a:solidFill>
                <a:uFillTx/>
                <a:latin typeface="Arial"/>
              </a:rPr>
              <a:t>assignment</a:t>
            </a:r>
            <a:r>
              <a:rPr b="1" lang="en-US" sz="2800" spc="-1" strike="noStrike" u="sng">
                <a:solidFill>
                  <a:srgbClr val="ffffff"/>
                </a:solidFill>
                <a:uFillTx/>
                <a:latin typeface="Arial"/>
              </a:rPr>
              <a:t> </a:t>
            </a:r>
            <a:r>
              <a:rPr b="1" lang="en-US" sz="2800" spc="-1" strike="noStrike">
                <a:solidFill>
                  <a:srgbClr val="ffffff"/>
                </a:solidFill>
                <a:latin typeface="Arial"/>
              </a:rPr>
              <a:t>as access control</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l admins can create their own IPSec policy</a:t>
            </a:r>
            <a:endParaRPr b="1" lang="en-US" sz="2400" spc="-1" strike="noStrike">
              <a:solidFill>
                <a:srgbClr val="ffffff"/>
              </a:solidFill>
              <a:latin typeface="Arial"/>
            </a:endParaRPr>
          </a:p>
          <a:p>
            <a:pPr lvl="2" marL="1498680" indent="-4669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policy if there is no domain policy</a:t>
            </a:r>
            <a:endParaRPr b="1" lang="en-US" sz="2000" spc="-1" strike="noStrike">
              <a:solidFill>
                <a:srgbClr val="ffffff"/>
              </a:solidFill>
              <a:latin typeface="Arial"/>
            </a:endParaRPr>
          </a:p>
          <a:p>
            <a:pPr lvl="2" marL="1498680" indent="-4669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mporary policy that can override the domain policy (add more specific filter) using Ipsecpol.exe in resource kit</a:t>
            </a:r>
            <a:endParaRPr b="1" lang="en-US" sz="20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l admins can see &amp; change domain Ipsec policy on their local system – not easy, but possible</a:t>
            </a:r>
            <a:endParaRPr b="1" lang="en-US" sz="2400" spc="-1" strike="noStrike">
              <a:solidFill>
                <a:srgbClr val="ffffff"/>
              </a:solidFill>
              <a:latin typeface="Arial"/>
            </a:endParaRPr>
          </a:p>
          <a:p>
            <a:pPr lvl="2" marL="1498680" indent="-4669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use preshared key authentication, if it is seen, then your “trust” is compromised</a:t>
            </a:r>
            <a:endParaRPr b="1" lang="en-US" sz="2000" spc="-1" strike="noStrike">
              <a:solidFill>
                <a:srgbClr val="ffffff"/>
              </a:solidFill>
              <a:latin typeface="Arial"/>
            </a:endParaRPr>
          </a:p>
          <a:p>
            <a:pPr lvl="2" marL="1498680" indent="-4669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trust based on Kerberos &amp; certificates, untrusted local local admins can’t give their machine a credential that will successfully authenticate</a:t>
            </a:r>
            <a:endParaRPr b="1" lang="en-US" sz="20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restrict local admin use &amp; ensure proper IPSec policy on remote systems</a:t>
            </a:r>
            <a:endParaRPr b="1" lang="en-US" sz="2800" spc="-1" strike="noStrike">
              <a:solidFill>
                <a:srgbClr val="ffffff"/>
              </a:solidFill>
              <a:latin typeface="Arial"/>
            </a:endParaRPr>
          </a:p>
          <a:p>
            <a:pPr lvl="1" marL="1030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364680" y="228240"/>
            <a:ext cx="86058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Crossing Untrusted Domains</a:t>
            </a:r>
            <a:endParaRPr b="1" lang="en-US" sz="4400" spc="-1" strike="noStrike">
              <a:solidFill>
                <a:srgbClr val="fccf00"/>
              </a:solidFill>
              <a:latin typeface="Arial"/>
            </a:endParaRPr>
          </a:p>
        </p:txBody>
      </p:sp>
      <p:grpSp>
        <p:nvGrpSpPr>
          <p:cNvPr id="1892" name=""/>
          <p:cNvGrpSpPr/>
          <p:nvPr/>
        </p:nvGrpSpPr>
        <p:grpSpPr>
          <a:xfrm>
            <a:off x="2978280" y="3219480"/>
            <a:ext cx="690480" cy="711000"/>
            <a:chOff x="2978280" y="3219480"/>
            <a:chExt cx="690480" cy="711000"/>
          </a:xfrm>
        </p:grpSpPr>
        <p:sp>
          <p:nvSpPr>
            <p:cNvPr id="1893" name=""/>
            <p:cNvSpPr/>
            <p:nvPr/>
          </p:nvSpPr>
          <p:spPr>
            <a:xfrm>
              <a:off x="3218040" y="32418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4" name=""/>
            <p:cNvSpPr/>
            <p:nvPr/>
          </p:nvSpPr>
          <p:spPr>
            <a:xfrm>
              <a:off x="3235320" y="36039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3235320" y="33681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2978280" y="32209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97" name=""/>
            <p:cNvSpPr/>
            <p:nvPr/>
          </p:nvSpPr>
          <p:spPr>
            <a:xfrm>
              <a:off x="2978280" y="32209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3191040" y="32450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3235320" y="33667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0" name=""/>
            <p:cNvSpPr/>
            <p:nvPr/>
          </p:nvSpPr>
          <p:spPr>
            <a:xfrm>
              <a:off x="3235320" y="33289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901" name=""/>
            <p:cNvSpPr/>
            <p:nvPr/>
          </p:nvSpPr>
          <p:spPr>
            <a:xfrm>
              <a:off x="3235320" y="32673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902" name=""/>
            <p:cNvSpPr/>
            <p:nvPr/>
          </p:nvSpPr>
          <p:spPr>
            <a:xfrm>
              <a:off x="2978280" y="32194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03" name=""/>
            <p:cNvSpPr/>
            <p:nvPr/>
          </p:nvSpPr>
          <p:spPr>
            <a:xfrm>
              <a:off x="3216240" y="32418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4" name=""/>
            <p:cNvSpPr/>
            <p:nvPr/>
          </p:nvSpPr>
          <p:spPr>
            <a:xfrm>
              <a:off x="2978280" y="32209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3191040" y="32464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3191040" y="32554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07" name=""/>
            <p:cNvSpPr/>
            <p:nvPr/>
          </p:nvSpPr>
          <p:spPr>
            <a:xfrm>
              <a:off x="3191040" y="3305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08" name=""/>
            <p:cNvSpPr/>
            <p:nvPr/>
          </p:nvSpPr>
          <p:spPr>
            <a:xfrm>
              <a:off x="3235320" y="32673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909" name=""/>
            <p:cNvSpPr/>
            <p:nvPr/>
          </p:nvSpPr>
          <p:spPr>
            <a:xfrm>
              <a:off x="3191040" y="33202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10" name=""/>
            <p:cNvSpPr/>
            <p:nvPr/>
          </p:nvSpPr>
          <p:spPr>
            <a:xfrm>
              <a:off x="3191040" y="3366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11" name=""/>
            <p:cNvSpPr/>
            <p:nvPr/>
          </p:nvSpPr>
          <p:spPr>
            <a:xfrm>
              <a:off x="3191040" y="35546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12" name=""/>
            <p:cNvSpPr/>
            <p:nvPr/>
          </p:nvSpPr>
          <p:spPr>
            <a:xfrm>
              <a:off x="3235320" y="33771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3" name=""/>
            <p:cNvSpPr/>
            <p:nvPr/>
          </p:nvSpPr>
          <p:spPr>
            <a:xfrm>
              <a:off x="3500640" y="33681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4" name=""/>
            <p:cNvSpPr/>
            <p:nvPr/>
          </p:nvSpPr>
          <p:spPr>
            <a:xfrm>
              <a:off x="3235320" y="33681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
            <p:cNvSpPr/>
            <p:nvPr/>
          </p:nvSpPr>
          <p:spPr>
            <a:xfrm>
              <a:off x="3487680" y="3549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16" name=""/>
            <p:cNvSpPr/>
            <p:nvPr/>
          </p:nvSpPr>
          <p:spPr>
            <a:xfrm flipH="1">
              <a:off x="3234960" y="34300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917" name=""/>
            <p:cNvSpPr/>
            <p:nvPr/>
          </p:nvSpPr>
          <p:spPr>
            <a:xfrm flipH="1">
              <a:off x="3234960" y="34930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918" name=""/>
            <p:cNvSpPr/>
            <p:nvPr/>
          </p:nvSpPr>
          <p:spPr>
            <a:xfrm>
              <a:off x="3191040" y="36039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19" name=""/>
            <p:cNvSpPr/>
            <p:nvPr/>
          </p:nvSpPr>
          <p:spPr>
            <a:xfrm>
              <a:off x="3191040" y="38685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20" name=""/>
            <p:cNvSpPr/>
            <p:nvPr/>
          </p:nvSpPr>
          <p:spPr>
            <a:xfrm>
              <a:off x="3235320" y="36190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1" name=""/>
            <p:cNvSpPr/>
            <p:nvPr/>
          </p:nvSpPr>
          <p:spPr>
            <a:xfrm>
              <a:off x="3500640" y="36039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3235320" y="38505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23" name=""/>
            <p:cNvSpPr/>
            <p:nvPr/>
          </p:nvSpPr>
          <p:spPr>
            <a:xfrm>
              <a:off x="3235320" y="38386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24" name=""/>
            <p:cNvSpPr/>
            <p:nvPr/>
          </p:nvSpPr>
          <p:spPr>
            <a:xfrm>
              <a:off x="3235320" y="38282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25" name=""/>
            <p:cNvSpPr/>
            <p:nvPr/>
          </p:nvSpPr>
          <p:spPr>
            <a:xfrm>
              <a:off x="3235320" y="38160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26" name=""/>
            <p:cNvSpPr/>
            <p:nvPr/>
          </p:nvSpPr>
          <p:spPr>
            <a:xfrm>
              <a:off x="3235320" y="38023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27" name=""/>
            <p:cNvSpPr/>
            <p:nvPr/>
          </p:nvSpPr>
          <p:spPr>
            <a:xfrm>
              <a:off x="3235320" y="32691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928" name=""/>
            <p:cNvSpPr/>
            <p:nvPr/>
          </p:nvSpPr>
          <p:spPr>
            <a:xfrm>
              <a:off x="3487680" y="32914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929" name=""/>
            <p:cNvSpPr/>
            <p:nvPr/>
          </p:nvSpPr>
          <p:spPr>
            <a:xfrm>
              <a:off x="3297240" y="33289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930" name=""/>
            <p:cNvSpPr/>
            <p:nvPr/>
          </p:nvSpPr>
          <p:spPr>
            <a:xfrm>
              <a:off x="3235320" y="33289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931" name=""/>
            <p:cNvSpPr/>
            <p:nvPr/>
          </p:nvSpPr>
          <p:spPr>
            <a:xfrm>
              <a:off x="3235320" y="33458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32" name=""/>
            <p:cNvSpPr/>
            <p:nvPr/>
          </p:nvSpPr>
          <p:spPr>
            <a:xfrm flipH="1">
              <a:off x="3438720" y="33487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933" name=""/>
            <p:cNvSpPr/>
            <p:nvPr/>
          </p:nvSpPr>
          <p:spPr>
            <a:xfrm>
              <a:off x="3438720" y="33289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934" name=""/>
            <p:cNvSpPr/>
            <p:nvPr/>
          </p:nvSpPr>
          <p:spPr>
            <a:xfrm>
              <a:off x="3248280" y="32839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35" name=""/>
            <p:cNvSpPr/>
            <p:nvPr/>
          </p:nvSpPr>
          <p:spPr>
            <a:xfrm>
              <a:off x="3284640" y="32824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36" name=""/>
            <p:cNvSpPr/>
            <p:nvPr/>
          </p:nvSpPr>
          <p:spPr>
            <a:xfrm>
              <a:off x="3321000" y="32824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37" name=""/>
            <p:cNvSpPr/>
            <p:nvPr/>
          </p:nvSpPr>
          <p:spPr>
            <a:xfrm>
              <a:off x="3359160" y="32824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38" name=""/>
            <p:cNvSpPr/>
            <p:nvPr/>
          </p:nvSpPr>
          <p:spPr>
            <a:xfrm>
              <a:off x="3397320" y="32810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39" name=""/>
            <p:cNvSpPr/>
            <p:nvPr/>
          </p:nvSpPr>
          <p:spPr>
            <a:xfrm>
              <a:off x="3432240" y="32778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40" name=""/>
            <p:cNvSpPr/>
            <p:nvPr/>
          </p:nvSpPr>
          <p:spPr>
            <a:xfrm>
              <a:off x="3470400" y="32778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41" name=""/>
            <p:cNvSpPr/>
            <p:nvPr/>
          </p:nvSpPr>
          <p:spPr>
            <a:xfrm>
              <a:off x="3475080" y="33681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2" name=""/>
            <p:cNvSpPr/>
            <p:nvPr/>
          </p:nvSpPr>
          <p:spPr>
            <a:xfrm>
              <a:off x="3516480" y="38325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1943" name="" descr=""/>
          <p:cNvPicPr/>
          <p:nvPr/>
        </p:nvPicPr>
        <p:blipFill>
          <a:blip r:embed="rId2"/>
          <a:stretch/>
        </p:blipFill>
        <p:spPr>
          <a:xfrm>
            <a:off x="1927080" y="4071960"/>
            <a:ext cx="862200" cy="577800"/>
          </a:xfrm>
          <a:prstGeom prst="rect">
            <a:avLst/>
          </a:prstGeom>
          <a:ln w="0">
            <a:noFill/>
          </a:ln>
        </p:spPr>
      </p:pic>
      <p:pic>
        <p:nvPicPr>
          <p:cNvPr id="1944" name="" descr=""/>
          <p:cNvPicPr/>
          <p:nvPr/>
        </p:nvPicPr>
        <p:blipFill>
          <a:blip r:embed="rId3"/>
          <a:stretch/>
        </p:blipFill>
        <p:spPr>
          <a:xfrm>
            <a:off x="858960" y="3225960"/>
            <a:ext cx="861840" cy="577800"/>
          </a:xfrm>
          <a:prstGeom prst="rect">
            <a:avLst/>
          </a:prstGeom>
          <a:ln w="0">
            <a:noFill/>
          </a:ln>
        </p:spPr>
      </p:pic>
      <p:grpSp>
        <p:nvGrpSpPr>
          <p:cNvPr id="1945" name=""/>
          <p:cNvGrpSpPr/>
          <p:nvPr/>
        </p:nvGrpSpPr>
        <p:grpSpPr>
          <a:xfrm>
            <a:off x="1422360" y="1380960"/>
            <a:ext cx="1803600" cy="1424160"/>
            <a:chOff x="1422360" y="1380960"/>
            <a:chExt cx="1803600" cy="1424160"/>
          </a:xfrm>
        </p:grpSpPr>
        <p:sp>
          <p:nvSpPr>
            <p:cNvPr id="1946" name=""/>
            <p:cNvSpPr/>
            <p:nvPr/>
          </p:nvSpPr>
          <p:spPr>
            <a:xfrm>
              <a:off x="1422360" y="1380960"/>
              <a:ext cx="1803600" cy="142416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2332080" y="182160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8" name=""/>
            <p:cNvSpPr/>
            <p:nvPr/>
          </p:nvSpPr>
          <p:spPr>
            <a:xfrm>
              <a:off x="2251080" y="1694880"/>
              <a:ext cx="158760" cy="115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949" name=""/>
            <p:cNvSpPr/>
            <p:nvPr/>
          </p:nvSpPr>
          <p:spPr>
            <a:xfrm flipH="1">
              <a:off x="2165040" y="200844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0" name=""/>
            <p:cNvSpPr/>
            <p:nvPr/>
          </p:nvSpPr>
          <p:spPr>
            <a:xfrm>
              <a:off x="2347920" y="202320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1" name=""/>
            <p:cNvSpPr/>
            <p:nvPr/>
          </p:nvSpPr>
          <p:spPr>
            <a:xfrm>
              <a:off x="2254320" y="1924920"/>
              <a:ext cx="156960" cy="1177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952" name=""/>
            <p:cNvSpPr/>
            <p:nvPr/>
          </p:nvSpPr>
          <p:spPr>
            <a:xfrm flipH="1">
              <a:off x="1860480" y="231732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3" name=""/>
            <p:cNvSpPr/>
            <p:nvPr/>
          </p:nvSpPr>
          <p:spPr>
            <a:xfrm>
              <a:off x="2165400" y="230796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4" name=""/>
            <p:cNvSpPr/>
            <p:nvPr/>
          </p:nvSpPr>
          <p:spPr>
            <a:xfrm>
              <a:off x="2165400" y="230148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5" name=""/>
            <p:cNvSpPr/>
            <p:nvPr/>
          </p:nvSpPr>
          <p:spPr>
            <a:xfrm>
              <a:off x="2603520" y="228708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6" name=""/>
            <p:cNvSpPr/>
            <p:nvPr/>
          </p:nvSpPr>
          <p:spPr>
            <a:xfrm>
              <a:off x="1782720" y="255132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57" name=""/>
            <p:cNvSpPr/>
            <p:nvPr/>
          </p:nvSpPr>
          <p:spPr>
            <a:xfrm>
              <a:off x="2523960" y="223596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58" name=""/>
            <p:cNvSpPr/>
            <p:nvPr/>
          </p:nvSpPr>
          <p:spPr>
            <a:xfrm>
              <a:off x="2079720" y="2235960"/>
              <a:ext cx="1569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59" name=""/>
            <p:cNvSpPr/>
            <p:nvPr/>
          </p:nvSpPr>
          <p:spPr>
            <a:xfrm>
              <a:off x="2685960" y="255132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60" name=""/>
            <p:cNvSpPr/>
            <p:nvPr/>
          </p:nvSpPr>
          <p:spPr>
            <a:xfrm>
              <a:off x="2382840" y="2551320"/>
              <a:ext cx="15732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961" name=""/>
            <p:cNvSpPr/>
            <p:nvPr/>
          </p:nvSpPr>
          <p:spPr>
            <a:xfrm>
              <a:off x="2085840" y="255132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1962" name=""/>
          <p:cNvSpPr/>
          <p:nvPr/>
        </p:nvSpPr>
        <p:spPr>
          <a:xfrm>
            <a:off x="465120" y="1057320"/>
            <a:ext cx="3216240" cy="3391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A</a:t>
            </a:r>
            <a:endParaRPr b="0" lang="en-US" sz="1800" spc="-1" strike="noStrike">
              <a:solidFill>
                <a:srgbClr val="ffffff"/>
              </a:solidFill>
              <a:latin typeface="Times New Roman"/>
            </a:endParaRPr>
          </a:p>
        </p:txBody>
      </p:sp>
      <p:sp>
        <p:nvSpPr>
          <p:cNvPr id="1963" name=""/>
          <p:cNvSpPr/>
          <p:nvPr/>
        </p:nvSpPr>
        <p:spPr>
          <a:xfrm>
            <a:off x="1828800" y="352260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1964" name=""/>
          <p:cNvSpPr/>
          <p:nvPr/>
        </p:nvSpPr>
        <p:spPr>
          <a:xfrm>
            <a:off x="1868400" y="364500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965" name=""/>
          <p:cNvSpPr/>
          <p:nvPr/>
        </p:nvSpPr>
        <p:spPr>
          <a:xfrm flipV="1">
            <a:off x="2475000" y="3657240"/>
            <a:ext cx="376200" cy="2970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1966" name=""/>
          <p:cNvSpPr/>
          <p:nvPr/>
        </p:nvSpPr>
        <p:spPr>
          <a:xfrm>
            <a:off x="1038240" y="2971800"/>
            <a:ext cx="260820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Sec with Kerberos Authentication</a:t>
            </a:r>
            <a:endParaRPr b="0" lang="en-US" sz="1800" spc="-1" strike="noStrike">
              <a:solidFill>
                <a:srgbClr val="ffffff"/>
              </a:solidFill>
              <a:latin typeface="Times New Roman"/>
            </a:endParaRPr>
          </a:p>
        </p:txBody>
      </p:sp>
      <p:sp>
        <p:nvSpPr>
          <p:cNvPr id="1967" name=""/>
          <p:cNvSpPr/>
          <p:nvPr/>
        </p:nvSpPr>
        <p:spPr>
          <a:xfrm>
            <a:off x="363600" y="1411200"/>
            <a:ext cx="3522600" cy="37242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grpSp>
        <p:nvGrpSpPr>
          <p:cNvPr id="1968" name=""/>
          <p:cNvGrpSpPr/>
          <p:nvPr/>
        </p:nvGrpSpPr>
        <p:grpSpPr>
          <a:xfrm>
            <a:off x="7527960" y="3292560"/>
            <a:ext cx="690480" cy="711000"/>
            <a:chOff x="7527960" y="3292560"/>
            <a:chExt cx="690480" cy="711000"/>
          </a:xfrm>
        </p:grpSpPr>
        <p:sp>
          <p:nvSpPr>
            <p:cNvPr id="1969" name=""/>
            <p:cNvSpPr/>
            <p:nvPr/>
          </p:nvSpPr>
          <p:spPr>
            <a:xfrm>
              <a:off x="7767720" y="331488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7785000" y="367704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a:off x="7785000" y="344124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7527960" y="329400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73" name=""/>
            <p:cNvSpPr/>
            <p:nvPr/>
          </p:nvSpPr>
          <p:spPr>
            <a:xfrm>
              <a:off x="7527960" y="329400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7740720" y="331812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a:off x="7785000" y="343980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6" name=""/>
            <p:cNvSpPr/>
            <p:nvPr/>
          </p:nvSpPr>
          <p:spPr>
            <a:xfrm>
              <a:off x="7785000" y="340200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977" name=""/>
            <p:cNvSpPr/>
            <p:nvPr/>
          </p:nvSpPr>
          <p:spPr>
            <a:xfrm>
              <a:off x="7785000" y="334044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978" name=""/>
            <p:cNvSpPr/>
            <p:nvPr/>
          </p:nvSpPr>
          <p:spPr>
            <a:xfrm>
              <a:off x="7527960" y="329256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79" name=""/>
            <p:cNvSpPr/>
            <p:nvPr/>
          </p:nvSpPr>
          <p:spPr>
            <a:xfrm>
              <a:off x="7765920" y="331488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7527960" y="329400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7740720" y="331956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2" name=""/>
            <p:cNvSpPr/>
            <p:nvPr/>
          </p:nvSpPr>
          <p:spPr>
            <a:xfrm>
              <a:off x="7740720" y="332856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3" name=""/>
            <p:cNvSpPr/>
            <p:nvPr/>
          </p:nvSpPr>
          <p:spPr>
            <a:xfrm>
              <a:off x="7740720" y="33782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4" name=""/>
            <p:cNvSpPr/>
            <p:nvPr/>
          </p:nvSpPr>
          <p:spPr>
            <a:xfrm>
              <a:off x="7785000" y="334044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985" name=""/>
            <p:cNvSpPr/>
            <p:nvPr/>
          </p:nvSpPr>
          <p:spPr>
            <a:xfrm>
              <a:off x="7740720" y="33933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6" name=""/>
            <p:cNvSpPr/>
            <p:nvPr/>
          </p:nvSpPr>
          <p:spPr>
            <a:xfrm>
              <a:off x="7740720" y="3439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7" name=""/>
            <p:cNvSpPr/>
            <p:nvPr/>
          </p:nvSpPr>
          <p:spPr>
            <a:xfrm>
              <a:off x="7740720" y="362772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8" name=""/>
            <p:cNvSpPr/>
            <p:nvPr/>
          </p:nvSpPr>
          <p:spPr>
            <a:xfrm>
              <a:off x="7785000" y="345024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8050320" y="344124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0" name=""/>
            <p:cNvSpPr/>
            <p:nvPr/>
          </p:nvSpPr>
          <p:spPr>
            <a:xfrm>
              <a:off x="7785000" y="344124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8037360" y="36230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2" name=""/>
            <p:cNvSpPr/>
            <p:nvPr/>
          </p:nvSpPr>
          <p:spPr>
            <a:xfrm flipH="1">
              <a:off x="7784640" y="350316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993" name=""/>
            <p:cNvSpPr/>
            <p:nvPr/>
          </p:nvSpPr>
          <p:spPr>
            <a:xfrm flipH="1">
              <a:off x="7784640" y="356616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1994" name=""/>
            <p:cNvSpPr/>
            <p:nvPr/>
          </p:nvSpPr>
          <p:spPr>
            <a:xfrm>
              <a:off x="7740720" y="367704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95" name=""/>
            <p:cNvSpPr/>
            <p:nvPr/>
          </p:nvSpPr>
          <p:spPr>
            <a:xfrm>
              <a:off x="7740720" y="394164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96" name=""/>
            <p:cNvSpPr/>
            <p:nvPr/>
          </p:nvSpPr>
          <p:spPr>
            <a:xfrm>
              <a:off x="7785000" y="369216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7" name=""/>
            <p:cNvSpPr/>
            <p:nvPr/>
          </p:nvSpPr>
          <p:spPr>
            <a:xfrm>
              <a:off x="8050320" y="36770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8" name=""/>
            <p:cNvSpPr/>
            <p:nvPr/>
          </p:nvSpPr>
          <p:spPr>
            <a:xfrm>
              <a:off x="7785000" y="392364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99" name=""/>
            <p:cNvSpPr/>
            <p:nvPr/>
          </p:nvSpPr>
          <p:spPr>
            <a:xfrm>
              <a:off x="7785000" y="391176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00" name=""/>
            <p:cNvSpPr/>
            <p:nvPr/>
          </p:nvSpPr>
          <p:spPr>
            <a:xfrm>
              <a:off x="7785000" y="390132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01" name=""/>
            <p:cNvSpPr/>
            <p:nvPr/>
          </p:nvSpPr>
          <p:spPr>
            <a:xfrm>
              <a:off x="7785000" y="388908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02" name=""/>
            <p:cNvSpPr/>
            <p:nvPr/>
          </p:nvSpPr>
          <p:spPr>
            <a:xfrm>
              <a:off x="7785000" y="387540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03" name=""/>
            <p:cNvSpPr/>
            <p:nvPr/>
          </p:nvSpPr>
          <p:spPr>
            <a:xfrm>
              <a:off x="7785000" y="334224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04" name=""/>
            <p:cNvSpPr/>
            <p:nvPr/>
          </p:nvSpPr>
          <p:spPr>
            <a:xfrm>
              <a:off x="8037360" y="336456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005" name=""/>
            <p:cNvSpPr/>
            <p:nvPr/>
          </p:nvSpPr>
          <p:spPr>
            <a:xfrm>
              <a:off x="7846920" y="340200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006" name=""/>
            <p:cNvSpPr/>
            <p:nvPr/>
          </p:nvSpPr>
          <p:spPr>
            <a:xfrm>
              <a:off x="7785000" y="340200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007" name=""/>
            <p:cNvSpPr/>
            <p:nvPr/>
          </p:nvSpPr>
          <p:spPr>
            <a:xfrm>
              <a:off x="7785000" y="341892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08" name=""/>
            <p:cNvSpPr/>
            <p:nvPr/>
          </p:nvSpPr>
          <p:spPr>
            <a:xfrm flipH="1">
              <a:off x="7988400" y="342180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009" name=""/>
            <p:cNvSpPr/>
            <p:nvPr/>
          </p:nvSpPr>
          <p:spPr>
            <a:xfrm>
              <a:off x="7988400" y="34020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010" name=""/>
            <p:cNvSpPr/>
            <p:nvPr/>
          </p:nvSpPr>
          <p:spPr>
            <a:xfrm>
              <a:off x="7797960" y="335700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11" name=""/>
            <p:cNvSpPr/>
            <p:nvPr/>
          </p:nvSpPr>
          <p:spPr>
            <a:xfrm>
              <a:off x="7834320" y="335556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12" name=""/>
            <p:cNvSpPr/>
            <p:nvPr/>
          </p:nvSpPr>
          <p:spPr>
            <a:xfrm>
              <a:off x="7870680" y="335556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13" name=""/>
            <p:cNvSpPr/>
            <p:nvPr/>
          </p:nvSpPr>
          <p:spPr>
            <a:xfrm>
              <a:off x="7908840" y="335556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14" name=""/>
            <p:cNvSpPr/>
            <p:nvPr/>
          </p:nvSpPr>
          <p:spPr>
            <a:xfrm>
              <a:off x="7947000" y="335412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15" name=""/>
            <p:cNvSpPr/>
            <p:nvPr/>
          </p:nvSpPr>
          <p:spPr>
            <a:xfrm>
              <a:off x="7981920" y="335088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16" name=""/>
            <p:cNvSpPr/>
            <p:nvPr/>
          </p:nvSpPr>
          <p:spPr>
            <a:xfrm>
              <a:off x="8020080" y="335088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17" name=""/>
            <p:cNvSpPr/>
            <p:nvPr/>
          </p:nvSpPr>
          <p:spPr>
            <a:xfrm>
              <a:off x="8024760" y="344124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8" name=""/>
            <p:cNvSpPr/>
            <p:nvPr/>
          </p:nvSpPr>
          <p:spPr>
            <a:xfrm>
              <a:off x="8066160" y="390564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2019" name="" descr=""/>
          <p:cNvPicPr/>
          <p:nvPr/>
        </p:nvPicPr>
        <p:blipFill>
          <a:blip r:embed="rId4"/>
          <a:stretch/>
        </p:blipFill>
        <p:spPr>
          <a:xfrm>
            <a:off x="6477120" y="4145040"/>
            <a:ext cx="861840" cy="577800"/>
          </a:xfrm>
          <a:prstGeom prst="rect">
            <a:avLst/>
          </a:prstGeom>
          <a:ln w="0">
            <a:noFill/>
          </a:ln>
        </p:spPr>
      </p:pic>
      <p:pic>
        <p:nvPicPr>
          <p:cNvPr id="2020" name="" descr=""/>
          <p:cNvPicPr/>
          <p:nvPr/>
        </p:nvPicPr>
        <p:blipFill>
          <a:blip r:embed="rId5"/>
          <a:stretch/>
        </p:blipFill>
        <p:spPr>
          <a:xfrm>
            <a:off x="5408640" y="3298680"/>
            <a:ext cx="861840" cy="578160"/>
          </a:xfrm>
          <a:prstGeom prst="rect">
            <a:avLst/>
          </a:prstGeom>
          <a:ln w="0">
            <a:noFill/>
          </a:ln>
        </p:spPr>
      </p:pic>
      <p:grpSp>
        <p:nvGrpSpPr>
          <p:cNvPr id="2021" name=""/>
          <p:cNvGrpSpPr/>
          <p:nvPr/>
        </p:nvGrpSpPr>
        <p:grpSpPr>
          <a:xfrm>
            <a:off x="5972040" y="1454040"/>
            <a:ext cx="1803600" cy="1424160"/>
            <a:chOff x="5972040" y="1454040"/>
            <a:chExt cx="1803600" cy="1424160"/>
          </a:xfrm>
        </p:grpSpPr>
        <p:sp>
          <p:nvSpPr>
            <p:cNvPr id="2022" name=""/>
            <p:cNvSpPr/>
            <p:nvPr/>
          </p:nvSpPr>
          <p:spPr>
            <a:xfrm>
              <a:off x="5972040" y="1454040"/>
              <a:ext cx="1803600" cy="142416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3" name=""/>
            <p:cNvSpPr/>
            <p:nvPr/>
          </p:nvSpPr>
          <p:spPr>
            <a:xfrm>
              <a:off x="6881760" y="189468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6800760" y="1767960"/>
              <a:ext cx="158760" cy="115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25" name=""/>
            <p:cNvSpPr/>
            <p:nvPr/>
          </p:nvSpPr>
          <p:spPr>
            <a:xfrm flipH="1">
              <a:off x="6714720" y="208152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6" name=""/>
            <p:cNvSpPr/>
            <p:nvPr/>
          </p:nvSpPr>
          <p:spPr>
            <a:xfrm>
              <a:off x="6897600" y="209628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6804000" y="1998000"/>
              <a:ext cx="156960" cy="1177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028" name=""/>
            <p:cNvSpPr/>
            <p:nvPr/>
          </p:nvSpPr>
          <p:spPr>
            <a:xfrm flipH="1">
              <a:off x="6410160" y="239040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6715080" y="238104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0" name=""/>
            <p:cNvSpPr/>
            <p:nvPr/>
          </p:nvSpPr>
          <p:spPr>
            <a:xfrm>
              <a:off x="6715080" y="237456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1" name=""/>
            <p:cNvSpPr/>
            <p:nvPr/>
          </p:nvSpPr>
          <p:spPr>
            <a:xfrm>
              <a:off x="7153200" y="236016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2" name=""/>
            <p:cNvSpPr/>
            <p:nvPr/>
          </p:nvSpPr>
          <p:spPr>
            <a:xfrm>
              <a:off x="6332400" y="262440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033" name=""/>
            <p:cNvSpPr/>
            <p:nvPr/>
          </p:nvSpPr>
          <p:spPr>
            <a:xfrm>
              <a:off x="7073640" y="230904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034" name=""/>
            <p:cNvSpPr/>
            <p:nvPr/>
          </p:nvSpPr>
          <p:spPr>
            <a:xfrm>
              <a:off x="6629400" y="2309040"/>
              <a:ext cx="1569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035" name=""/>
            <p:cNvSpPr/>
            <p:nvPr/>
          </p:nvSpPr>
          <p:spPr>
            <a:xfrm>
              <a:off x="7235640" y="262440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036" name=""/>
            <p:cNvSpPr/>
            <p:nvPr/>
          </p:nvSpPr>
          <p:spPr>
            <a:xfrm>
              <a:off x="6932520" y="2624400"/>
              <a:ext cx="15732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037" name=""/>
            <p:cNvSpPr/>
            <p:nvPr/>
          </p:nvSpPr>
          <p:spPr>
            <a:xfrm>
              <a:off x="6635520" y="262440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2038" name=""/>
          <p:cNvSpPr/>
          <p:nvPr/>
        </p:nvSpPr>
        <p:spPr>
          <a:xfrm>
            <a:off x="5270400" y="1103400"/>
            <a:ext cx="3216240" cy="3391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B</a:t>
            </a:r>
            <a:endParaRPr b="0" lang="en-US" sz="1800" spc="-1" strike="noStrike">
              <a:solidFill>
                <a:srgbClr val="ffffff"/>
              </a:solidFill>
              <a:latin typeface="Times New Roman"/>
            </a:endParaRPr>
          </a:p>
        </p:txBody>
      </p:sp>
      <p:sp>
        <p:nvSpPr>
          <p:cNvPr id="2039" name=""/>
          <p:cNvSpPr/>
          <p:nvPr/>
        </p:nvSpPr>
        <p:spPr>
          <a:xfrm>
            <a:off x="6378480" y="359568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2040" name=""/>
          <p:cNvSpPr/>
          <p:nvPr/>
        </p:nvSpPr>
        <p:spPr>
          <a:xfrm>
            <a:off x="6418440" y="371808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041" name=""/>
          <p:cNvSpPr/>
          <p:nvPr/>
        </p:nvSpPr>
        <p:spPr>
          <a:xfrm flipV="1">
            <a:off x="7024680" y="3730680"/>
            <a:ext cx="376200" cy="29664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042" name=""/>
          <p:cNvSpPr/>
          <p:nvPr/>
        </p:nvSpPr>
        <p:spPr>
          <a:xfrm>
            <a:off x="5587920" y="3044880"/>
            <a:ext cx="260820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Sec with Kerberos Authentication</a:t>
            </a:r>
            <a:endParaRPr b="0" lang="en-US" sz="1800" spc="-1" strike="noStrike">
              <a:solidFill>
                <a:srgbClr val="ffffff"/>
              </a:solidFill>
              <a:latin typeface="Times New Roman"/>
            </a:endParaRPr>
          </a:p>
        </p:txBody>
      </p:sp>
      <p:sp>
        <p:nvSpPr>
          <p:cNvPr id="2043" name=""/>
          <p:cNvSpPr/>
          <p:nvPr/>
        </p:nvSpPr>
        <p:spPr>
          <a:xfrm>
            <a:off x="5168880" y="1432080"/>
            <a:ext cx="3522600" cy="37242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2044" name=""/>
          <p:cNvSpPr/>
          <p:nvPr/>
        </p:nvSpPr>
        <p:spPr>
          <a:xfrm>
            <a:off x="712800" y="5097600"/>
            <a:ext cx="7610400" cy="15991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cf00"/>
                </a:solidFill>
                <a:latin typeface="Arial"/>
              </a:rPr>
              <a:t>If IPSec policy says trust only those in my domain (or trusted domains),</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cf00"/>
                </a:solidFill>
                <a:latin typeface="Arial"/>
              </a:rPr>
              <a:t>IKE negotiation between members of untrusted domains will fail Kerberos authentication</a:t>
            </a:r>
            <a:endParaRPr b="0" lang="en-US" sz="2400" spc="-1" strike="noStrike">
              <a:solidFill>
                <a:srgbClr val="ffffff"/>
              </a:solidFill>
              <a:latin typeface="Times New Roman"/>
            </a:endParaRPr>
          </a:p>
        </p:txBody>
      </p:sp>
      <p:grpSp>
        <p:nvGrpSpPr>
          <p:cNvPr id="2045" name=""/>
          <p:cNvGrpSpPr/>
          <p:nvPr/>
        </p:nvGrpSpPr>
        <p:grpSpPr>
          <a:xfrm>
            <a:off x="3227400" y="1930320"/>
            <a:ext cx="2755800" cy="1194480"/>
            <a:chOff x="3227400" y="1930320"/>
            <a:chExt cx="2755800" cy="1194480"/>
          </a:xfrm>
        </p:grpSpPr>
        <p:sp>
          <p:nvSpPr>
            <p:cNvPr id="2046" name=""/>
            <p:cNvSpPr/>
            <p:nvPr/>
          </p:nvSpPr>
          <p:spPr>
            <a:xfrm>
              <a:off x="3227400" y="2124000"/>
              <a:ext cx="2755800" cy="0"/>
            </a:xfrm>
            <a:prstGeom prst="line">
              <a:avLst/>
            </a:prstGeom>
            <a:ln w="93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2047" name=""/>
            <p:cNvSpPr/>
            <p:nvPr/>
          </p:nvSpPr>
          <p:spPr>
            <a:xfrm>
              <a:off x="4286160" y="1930320"/>
              <a:ext cx="363600" cy="390600"/>
            </a:xfrm>
            <a:prstGeom prst="noSmoking">
              <a:avLst>
                <a:gd name="adj" fmla="val 12500"/>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2048" name=""/>
            <p:cNvSpPr/>
            <p:nvPr/>
          </p:nvSpPr>
          <p:spPr>
            <a:xfrm>
              <a:off x="3500280" y="2292480"/>
              <a:ext cx="2183040" cy="8323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A does not have trust with B,</a:t>
              </a:r>
              <a:endParaRPr b="0" lang="en-US" sz="1800" spc="-1" strike="noStrike">
                <a:solidFill>
                  <a:srgbClr val="ffffff"/>
                </a:solidFill>
                <a:latin typeface="Times New Roman"/>
              </a:endParaRPr>
            </a:p>
          </p:txBody>
        </p:sp>
      </p:grpSp>
      <p:grpSp>
        <p:nvGrpSpPr>
          <p:cNvPr id="2049" name=""/>
          <p:cNvGrpSpPr/>
          <p:nvPr/>
        </p:nvGrpSpPr>
        <p:grpSpPr>
          <a:xfrm>
            <a:off x="3479760" y="3444840"/>
            <a:ext cx="2182680" cy="1436040"/>
            <a:chOff x="3479760" y="3444840"/>
            <a:chExt cx="2182680" cy="1436040"/>
          </a:xfrm>
        </p:grpSpPr>
        <p:sp>
          <p:nvSpPr>
            <p:cNvPr id="2050" name=""/>
            <p:cNvSpPr/>
            <p:nvPr/>
          </p:nvSpPr>
          <p:spPr>
            <a:xfrm flipV="1">
              <a:off x="3639960" y="3654000"/>
              <a:ext cx="1692360" cy="1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3920" bIns="-43920" anchor="t">
              <a:noAutofit/>
            </a:bodyPr>
            <a:p>
              <a:endParaRPr b="0" lang="en-US" sz="2400" spc="-1" strike="noStrike">
                <a:solidFill>
                  <a:srgbClr val="ffffff"/>
                </a:solidFill>
                <a:latin typeface="Times New Roman"/>
              </a:endParaRPr>
            </a:p>
          </p:txBody>
        </p:sp>
        <p:sp>
          <p:nvSpPr>
            <p:cNvPr id="2051" name=""/>
            <p:cNvSpPr/>
            <p:nvPr/>
          </p:nvSpPr>
          <p:spPr>
            <a:xfrm>
              <a:off x="4335480" y="3444840"/>
              <a:ext cx="363600" cy="390600"/>
            </a:xfrm>
            <a:prstGeom prst="noSmoking">
              <a:avLst>
                <a:gd name="adj" fmla="val 12500"/>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2052" name=""/>
            <p:cNvSpPr/>
            <p:nvPr/>
          </p:nvSpPr>
          <p:spPr>
            <a:xfrm>
              <a:off x="3479760" y="3801960"/>
              <a:ext cx="2182680" cy="10789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Sec can not be established using IKE Kerb authentication</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364680" y="228240"/>
            <a:ext cx="86058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Crossing Untrusted Domains</a:t>
            </a:r>
            <a:endParaRPr b="1" lang="en-US" sz="4400" spc="-1" strike="noStrike">
              <a:solidFill>
                <a:srgbClr val="fccf00"/>
              </a:solidFill>
              <a:latin typeface="Arial"/>
            </a:endParaRPr>
          </a:p>
        </p:txBody>
      </p:sp>
      <p:grpSp>
        <p:nvGrpSpPr>
          <p:cNvPr id="2054" name=""/>
          <p:cNvGrpSpPr/>
          <p:nvPr/>
        </p:nvGrpSpPr>
        <p:grpSpPr>
          <a:xfrm>
            <a:off x="2978280" y="3219480"/>
            <a:ext cx="690480" cy="711000"/>
            <a:chOff x="2978280" y="3219480"/>
            <a:chExt cx="690480" cy="711000"/>
          </a:xfrm>
        </p:grpSpPr>
        <p:sp>
          <p:nvSpPr>
            <p:cNvPr id="2055" name=""/>
            <p:cNvSpPr/>
            <p:nvPr/>
          </p:nvSpPr>
          <p:spPr>
            <a:xfrm>
              <a:off x="3218040" y="32418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3235320" y="36039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3235320" y="33681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2978280" y="32209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9" name=""/>
            <p:cNvSpPr/>
            <p:nvPr/>
          </p:nvSpPr>
          <p:spPr>
            <a:xfrm>
              <a:off x="2978280" y="32209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0" name=""/>
            <p:cNvSpPr/>
            <p:nvPr/>
          </p:nvSpPr>
          <p:spPr>
            <a:xfrm>
              <a:off x="3191040" y="32450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3235320" y="33667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2" name=""/>
            <p:cNvSpPr/>
            <p:nvPr/>
          </p:nvSpPr>
          <p:spPr>
            <a:xfrm>
              <a:off x="3235320" y="33289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063" name=""/>
            <p:cNvSpPr/>
            <p:nvPr/>
          </p:nvSpPr>
          <p:spPr>
            <a:xfrm>
              <a:off x="3235320" y="32673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064" name=""/>
            <p:cNvSpPr/>
            <p:nvPr/>
          </p:nvSpPr>
          <p:spPr>
            <a:xfrm>
              <a:off x="2978280" y="32194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65" name=""/>
            <p:cNvSpPr/>
            <p:nvPr/>
          </p:nvSpPr>
          <p:spPr>
            <a:xfrm>
              <a:off x="3216240" y="32418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6" name=""/>
            <p:cNvSpPr/>
            <p:nvPr/>
          </p:nvSpPr>
          <p:spPr>
            <a:xfrm>
              <a:off x="2978280" y="32209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7" name=""/>
            <p:cNvSpPr/>
            <p:nvPr/>
          </p:nvSpPr>
          <p:spPr>
            <a:xfrm>
              <a:off x="3191040" y="32464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8" name=""/>
            <p:cNvSpPr/>
            <p:nvPr/>
          </p:nvSpPr>
          <p:spPr>
            <a:xfrm>
              <a:off x="3191040" y="32554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69" name=""/>
            <p:cNvSpPr/>
            <p:nvPr/>
          </p:nvSpPr>
          <p:spPr>
            <a:xfrm>
              <a:off x="3191040" y="3305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70" name=""/>
            <p:cNvSpPr/>
            <p:nvPr/>
          </p:nvSpPr>
          <p:spPr>
            <a:xfrm>
              <a:off x="3235320" y="32673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071" name=""/>
            <p:cNvSpPr/>
            <p:nvPr/>
          </p:nvSpPr>
          <p:spPr>
            <a:xfrm>
              <a:off x="3191040" y="33202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72" name=""/>
            <p:cNvSpPr/>
            <p:nvPr/>
          </p:nvSpPr>
          <p:spPr>
            <a:xfrm>
              <a:off x="3191040" y="3366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73" name=""/>
            <p:cNvSpPr/>
            <p:nvPr/>
          </p:nvSpPr>
          <p:spPr>
            <a:xfrm>
              <a:off x="3191040" y="35546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74" name=""/>
            <p:cNvSpPr/>
            <p:nvPr/>
          </p:nvSpPr>
          <p:spPr>
            <a:xfrm>
              <a:off x="3235320" y="33771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5" name=""/>
            <p:cNvSpPr/>
            <p:nvPr/>
          </p:nvSpPr>
          <p:spPr>
            <a:xfrm>
              <a:off x="3500640" y="33681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6" name=""/>
            <p:cNvSpPr/>
            <p:nvPr/>
          </p:nvSpPr>
          <p:spPr>
            <a:xfrm>
              <a:off x="3235320" y="33681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
            <p:cNvSpPr/>
            <p:nvPr/>
          </p:nvSpPr>
          <p:spPr>
            <a:xfrm>
              <a:off x="3487680" y="3549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78" name=""/>
            <p:cNvSpPr/>
            <p:nvPr/>
          </p:nvSpPr>
          <p:spPr>
            <a:xfrm flipH="1">
              <a:off x="3234960" y="34300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2079" name=""/>
            <p:cNvSpPr/>
            <p:nvPr/>
          </p:nvSpPr>
          <p:spPr>
            <a:xfrm flipH="1">
              <a:off x="3234960" y="34930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080" name=""/>
            <p:cNvSpPr/>
            <p:nvPr/>
          </p:nvSpPr>
          <p:spPr>
            <a:xfrm>
              <a:off x="3191040" y="36039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81" name=""/>
            <p:cNvSpPr/>
            <p:nvPr/>
          </p:nvSpPr>
          <p:spPr>
            <a:xfrm>
              <a:off x="3191040" y="38685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82" name=""/>
            <p:cNvSpPr/>
            <p:nvPr/>
          </p:nvSpPr>
          <p:spPr>
            <a:xfrm>
              <a:off x="3235320" y="36190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3" name=""/>
            <p:cNvSpPr/>
            <p:nvPr/>
          </p:nvSpPr>
          <p:spPr>
            <a:xfrm>
              <a:off x="3500640" y="36039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4" name=""/>
            <p:cNvSpPr/>
            <p:nvPr/>
          </p:nvSpPr>
          <p:spPr>
            <a:xfrm>
              <a:off x="3235320" y="38505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85" name=""/>
            <p:cNvSpPr/>
            <p:nvPr/>
          </p:nvSpPr>
          <p:spPr>
            <a:xfrm>
              <a:off x="3235320" y="38386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86" name=""/>
            <p:cNvSpPr/>
            <p:nvPr/>
          </p:nvSpPr>
          <p:spPr>
            <a:xfrm>
              <a:off x="3235320" y="38282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87" name=""/>
            <p:cNvSpPr/>
            <p:nvPr/>
          </p:nvSpPr>
          <p:spPr>
            <a:xfrm>
              <a:off x="3235320" y="38160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88" name=""/>
            <p:cNvSpPr/>
            <p:nvPr/>
          </p:nvSpPr>
          <p:spPr>
            <a:xfrm>
              <a:off x="3235320" y="38023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89" name=""/>
            <p:cNvSpPr/>
            <p:nvPr/>
          </p:nvSpPr>
          <p:spPr>
            <a:xfrm>
              <a:off x="3235320" y="32691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90" name=""/>
            <p:cNvSpPr/>
            <p:nvPr/>
          </p:nvSpPr>
          <p:spPr>
            <a:xfrm>
              <a:off x="3487680" y="32914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091" name=""/>
            <p:cNvSpPr/>
            <p:nvPr/>
          </p:nvSpPr>
          <p:spPr>
            <a:xfrm>
              <a:off x="3297240" y="33289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092" name=""/>
            <p:cNvSpPr/>
            <p:nvPr/>
          </p:nvSpPr>
          <p:spPr>
            <a:xfrm>
              <a:off x="3235320" y="33289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093" name=""/>
            <p:cNvSpPr/>
            <p:nvPr/>
          </p:nvSpPr>
          <p:spPr>
            <a:xfrm>
              <a:off x="3235320" y="33458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94" name=""/>
            <p:cNvSpPr/>
            <p:nvPr/>
          </p:nvSpPr>
          <p:spPr>
            <a:xfrm flipH="1">
              <a:off x="3438720" y="33487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095" name=""/>
            <p:cNvSpPr/>
            <p:nvPr/>
          </p:nvSpPr>
          <p:spPr>
            <a:xfrm>
              <a:off x="3438720" y="33289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096" name=""/>
            <p:cNvSpPr/>
            <p:nvPr/>
          </p:nvSpPr>
          <p:spPr>
            <a:xfrm>
              <a:off x="3248280" y="32839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97" name=""/>
            <p:cNvSpPr/>
            <p:nvPr/>
          </p:nvSpPr>
          <p:spPr>
            <a:xfrm>
              <a:off x="3284640" y="32824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98" name=""/>
            <p:cNvSpPr/>
            <p:nvPr/>
          </p:nvSpPr>
          <p:spPr>
            <a:xfrm>
              <a:off x="3321000" y="32824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99" name=""/>
            <p:cNvSpPr/>
            <p:nvPr/>
          </p:nvSpPr>
          <p:spPr>
            <a:xfrm>
              <a:off x="3359160" y="32824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00" name=""/>
            <p:cNvSpPr/>
            <p:nvPr/>
          </p:nvSpPr>
          <p:spPr>
            <a:xfrm>
              <a:off x="3397320" y="32810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01" name=""/>
            <p:cNvSpPr/>
            <p:nvPr/>
          </p:nvSpPr>
          <p:spPr>
            <a:xfrm>
              <a:off x="3432240" y="32778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02" name=""/>
            <p:cNvSpPr/>
            <p:nvPr/>
          </p:nvSpPr>
          <p:spPr>
            <a:xfrm>
              <a:off x="3470400" y="32778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03" name=""/>
            <p:cNvSpPr/>
            <p:nvPr/>
          </p:nvSpPr>
          <p:spPr>
            <a:xfrm>
              <a:off x="3475080" y="33681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a:off x="3516480" y="38325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2105" name="" descr=""/>
          <p:cNvPicPr/>
          <p:nvPr/>
        </p:nvPicPr>
        <p:blipFill>
          <a:blip r:embed="rId2"/>
          <a:stretch/>
        </p:blipFill>
        <p:spPr>
          <a:xfrm>
            <a:off x="1927080" y="4071960"/>
            <a:ext cx="862200" cy="577800"/>
          </a:xfrm>
          <a:prstGeom prst="rect">
            <a:avLst/>
          </a:prstGeom>
          <a:ln w="0">
            <a:noFill/>
          </a:ln>
        </p:spPr>
      </p:pic>
      <p:pic>
        <p:nvPicPr>
          <p:cNvPr id="2106" name="" descr=""/>
          <p:cNvPicPr/>
          <p:nvPr/>
        </p:nvPicPr>
        <p:blipFill>
          <a:blip r:embed="rId3"/>
          <a:stretch/>
        </p:blipFill>
        <p:spPr>
          <a:xfrm>
            <a:off x="858960" y="3225960"/>
            <a:ext cx="861840" cy="577800"/>
          </a:xfrm>
          <a:prstGeom prst="rect">
            <a:avLst/>
          </a:prstGeom>
          <a:ln w="0">
            <a:noFill/>
          </a:ln>
        </p:spPr>
      </p:pic>
      <p:grpSp>
        <p:nvGrpSpPr>
          <p:cNvPr id="2107" name=""/>
          <p:cNvGrpSpPr/>
          <p:nvPr/>
        </p:nvGrpSpPr>
        <p:grpSpPr>
          <a:xfrm>
            <a:off x="1422360" y="1380960"/>
            <a:ext cx="1803600" cy="1424160"/>
            <a:chOff x="1422360" y="1380960"/>
            <a:chExt cx="1803600" cy="1424160"/>
          </a:xfrm>
        </p:grpSpPr>
        <p:sp>
          <p:nvSpPr>
            <p:cNvPr id="2108" name=""/>
            <p:cNvSpPr/>
            <p:nvPr/>
          </p:nvSpPr>
          <p:spPr>
            <a:xfrm>
              <a:off x="1422360" y="1380960"/>
              <a:ext cx="1803600" cy="142416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9" name=""/>
            <p:cNvSpPr/>
            <p:nvPr/>
          </p:nvSpPr>
          <p:spPr>
            <a:xfrm>
              <a:off x="2332080" y="182160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0" name=""/>
            <p:cNvSpPr/>
            <p:nvPr/>
          </p:nvSpPr>
          <p:spPr>
            <a:xfrm>
              <a:off x="2251080" y="1694880"/>
              <a:ext cx="158760" cy="115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111" name=""/>
            <p:cNvSpPr/>
            <p:nvPr/>
          </p:nvSpPr>
          <p:spPr>
            <a:xfrm flipH="1">
              <a:off x="2165040" y="200844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2" name=""/>
            <p:cNvSpPr/>
            <p:nvPr/>
          </p:nvSpPr>
          <p:spPr>
            <a:xfrm>
              <a:off x="2347920" y="202320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3" name=""/>
            <p:cNvSpPr/>
            <p:nvPr/>
          </p:nvSpPr>
          <p:spPr>
            <a:xfrm>
              <a:off x="2254320" y="1924920"/>
              <a:ext cx="156960" cy="1177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114" name=""/>
            <p:cNvSpPr/>
            <p:nvPr/>
          </p:nvSpPr>
          <p:spPr>
            <a:xfrm flipH="1">
              <a:off x="1860480" y="231732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5" name=""/>
            <p:cNvSpPr/>
            <p:nvPr/>
          </p:nvSpPr>
          <p:spPr>
            <a:xfrm>
              <a:off x="2165400" y="230796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6" name=""/>
            <p:cNvSpPr/>
            <p:nvPr/>
          </p:nvSpPr>
          <p:spPr>
            <a:xfrm>
              <a:off x="2165400" y="230148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7" name=""/>
            <p:cNvSpPr/>
            <p:nvPr/>
          </p:nvSpPr>
          <p:spPr>
            <a:xfrm>
              <a:off x="2603520" y="228708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8" name=""/>
            <p:cNvSpPr/>
            <p:nvPr/>
          </p:nvSpPr>
          <p:spPr>
            <a:xfrm>
              <a:off x="1782720" y="255132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119" name=""/>
            <p:cNvSpPr/>
            <p:nvPr/>
          </p:nvSpPr>
          <p:spPr>
            <a:xfrm>
              <a:off x="2523960" y="223596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120" name=""/>
            <p:cNvSpPr/>
            <p:nvPr/>
          </p:nvSpPr>
          <p:spPr>
            <a:xfrm>
              <a:off x="2079720" y="2235960"/>
              <a:ext cx="1569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121" name=""/>
            <p:cNvSpPr/>
            <p:nvPr/>
          </p:nvSpPr>
          <p:spPr>
            <a:xfrm>
              <a:off x="2685960" y="255132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122" name=""/>
            <p:cNvSpPr/>
            <p:nvPr/>
          </p:nvSpPr>
          <p:spPr>
            <a:xfrm>
              <a:off x="2382840" y="2551320"/>
              <a:ext cx="15732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123" name=""/>
            <p:cNvSpPr/>
            <p:nvPr/>
          </p:nvSpPr>
          <p:spPr>
            <a:xfrm>
              <a:off x="2085840" y="255132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2124" name=""/>
          <p:cNvSpPr/>
          <p:nvPr/>
        </p:nvSpPr>
        <p:spPr>
          <a:xfrm>
            <a:off x="398520" y="1608120"/>
            <a:ext cx="19526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A</a:t>
            </a:r>
            <a:endParaRPr b="0" lang="en-US" sz="1800" spc="-1" strike="noStrike">
              <a:solidFill>
                <a:srgbClr val="ffffff"/>
              </a:solidFill>
              <a:latin typeface="Times New Roman"/>
            </a:endParaRPr>
          </a:p>
        </p:txBody>
      </p:sp>
      <p:sp>
        <p:nvSpPr>
          <p:cNvPr id="2125" name=""/>
          <p:cNvSpPr/>
          <p:nvPr/>
        </p:nvSpPr>
        <p:spPr>
          <a:xfrm>
            <a:off x="1828800" y="352260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2126" name=""/>
          <p:cNvSpPr/>
          <p:nvPr/>
        </p:nvSpPr>
        <p:spPr>
          <a:xfrm>
            <a:off x="1868400" y="364500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127" name=""/>
          <p:cNvSpPr/>
          <p:nvPr/>
        </p:nvSpPr>
        <p:spPr>
          <a:xfrm flipV="1">
            <a:off x="2475000" y="3657240"/>
            <a:ext cx="376200" cy="2970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128" name=""/>
          <p:cNvSpPr/>
          <p:nvPr/>
        </p:nvSpPr>
        <p:spPr>
          <a:xfrm>
            <a:off x="322200" y="3817800"/>
            <a:ext cx="2017800" cy="6670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Sec with Kerberos Authentication</a:t>
            </a:r>
            <a:endParaRPr b="0" lang="en-US" sz="1400" spc="-1" strike="noStrike">
              <a:solidFill>
                <a:srgbClr val="ffffff"/>
              </a:solidFill>
              <a:latin typeface="Times New Roman"/>
            </a:endParaRPr>
          </a:p>
        </p:txBody>
      </p:sp>
      <p:grpSp>
        <p:nvGrpSpPr>
          <p:cNvPr id="2129" name=""/>
          <p:cNvGrpSpPr/>
          <p:nvPr/>
        </p:nvGrpSpPr>
        <p:grpSpPr>
          <a:xfrm>
            <a:off x="7500960" y="3238560"/>
            <a:ext cx="690480" cy="711000"/>
            <a:chOff x="7500960" y="3238560"/>
            <a:chExt cx="690480" cy="711000"/>
          </a:xfrm>
        </p:grpSpPr>
        <p:sp>
          <p:nvSpPr>
            <p:cNvPr id="2130" name=""/>
            <p:cNvSpPr/>
            <p:nvPr/>
          </p:nvSpPr>
          <p:spPr>
            <a:xfrm>
              <a:off x="7740720" y="326088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
            <p:cNvSpPr/>
            <p:nvPr/>
          </p:nvSpPr>
          <p:spPr>
            <a:xfrm>
              <a:off x="7758000" y="362304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
            <p:cNvSpPr/>
            <p:nvPr/>
          </p:nvSpPr>
          <p:spPr>
            <a:xfrm>
              <a:off x="7758000" y="338724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3" name=""/>
            <p:cNvSpPr/>
            <p:nvPr/>
          </p:nvSpPr>
          <p:spPr>
            <a:xfrm>
              <a:off x="7500960" y="324000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4" name=""/>
            <p:cNvSpPr/>
            <p:nvPr/>
          </p:nvSpPr>
          <p:spPr>
            <a:xfrm>
              <a:off x="7500960" y="324000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5" name=""/>
            <p:cNvSpPr/>
            <p:nvPr/>
          </p:nvSpPr>
          <p:spPr>
            <a:xfrm>
              <a:off x="7713720" y="326412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6" name=""/>
            <p:cNvSpPr/>
            <p:nvPr/>
          </p:nvSpPr>
          <p:spPr>
            <a:xfrm>
              <a:off x="7758000" y="338580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7" name=""/>
            <p:cNvSpPr/>
            <p:nvPr/>
          </p:nvSpPr>
          <p:spPr>
            <a:xfrm>
              <a:off x="7758000" y="334800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138" name=""/>
            <p:cNvSpPr/>
            <p:nvPr/>
          </p:nvSpPr>
          <p:spPr>
            <a:xfrm>
              <a:off x="7758000" y="328644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139" name=""/>
            <p:cNvSpPr/>
            <p:nvPr/>
          </p:nvSpPr>
          <p:spPr>
            <a:xfrm>
              <a:off x="7500960" y="323856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7738920" y="326088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1" name=""/>
            <p:cNvSpPr/>
            <p:nvPr/>
          </p:nvSpPr>
          <p:spPr>
            <a:xfrm>
              <a:off x="7500960" y="324000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a:off x="7713720" y="326556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3" name=""/>
            <p:cNvSpPr/>
            <p:nvPr/>
          </p:nvSpPr>
          <p:spPr>
            <a:xfrm>
              <a:off x="7713720" y="327456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44" name=""/>
            <p:cNvSpPr/>
            <p:nvPr/>
          </p:nvSpPr>
          <p:spPr>
            <a:xfrm>
              <a:off x="7713720" y="33242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45" name=""/>
            <p:cNvSpPr/>
            <p:nvPr/>
          </p:nvSpPr>
          <p:spPr>
            <a:xfrm>
              <a:off x="7758000" y="328644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146" name=""/>
            <p:cNvSpPr/>
            <p:nvPr/>
          </p:nvSpPr>
          <p:spPr>
            <a:xfrm>
              <a:off x="7713720" y="33393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47" name=""/>
            <p:cNvSpPr/>
            <p:nvPr/>
          </p:nvSpPr>
          <p:spPr>
            <a:xfrm>
              <a:off x="7713720" y="3385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48" name=""/>
            <p:cNvSpPr/>
            <p:nvPr/>
          </p:nvSpPr>
          <p:spPr>
            <a:xfrm>
              <a:off x="7713720" y="357372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49" name=""/>
            <p:cNvSpPr/>
            <p:nvPr/>
          </p:nvSpPr>
          <p:spPr>
            <a:xfrm>
              <a:off x="7758000" y="339624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8023320" y="338724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a:off x="7758000" y="338724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2" name=""/>
            <p:cNvSpPr/>
            <p:nvPr/>
          </p:nvSpPr>
          <p:spPr>
            <a:xfrm>
              <a:off x="8010360" y="35690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153" name=""/>
            <p:cNvSpPr/>
            <p:nvPr/>
          </p:nvSpPr>
          <p:spPr>
            <a:xfrm flipH="1">
              <a:off x="7757640" y="344916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2154" name=""/>
            <p:cNvSpPr/>
            <p:nvPr/>
          </p:nvSpPr>
          <p:spPr>
            <a:xfrm flipH="1">
              <a:off x="7757640" y="351216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155" name=""/>
            <p:cNvSpPr/>
            <p:nvPr/>
          </p:nvSpPr>
          <p:spPr>
            <a:xfrm>
              <a:off x="7713720" y="362304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56" name=""/>
            <p:cNvSpPr/>
            <p:nvPr/>
          </p:nvSpPr>
          <p:spPr>
            <a:xfrm>
              <a:off x="7713720" y="388764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57" name=""/>
            <p:cNvSpPr/>
            <p:nvPr/>
          </p:nvSpPr>
          <p:spPr>
            <a:xfrm>
              <a:off x="7758000" y="363816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8" name=""/>
            <p:cNvSpPr/>
            <p:nvPr/>
          </p:nvSpPr>
          <p:spPr>
            <a:xfrm>
              <a:off x="8023320" y="36230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9" name=""/>
            <p:cNvSpPr/>
            <p:nvPr/>
          </p:nvSpPr>
          <p:spPr>
            <a:xfrm>
              <a:off x="7758000" y="386964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60" name=""/>
            <p:cNvSpPr/>
            <p:nvPr/>
          </p:nvSpPr>
          <p:spPr>
            <a:xfrm>
              <a:off x="7758000" y="385776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61" name=""/>
            <p:cNvSpPr/>
            <p:nvPr/>
          </p:nvSpPr>
          <p:spPr>
            <a:xfrm>
              <a:off x="7758000" y="384732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62" name=""/>
            <p:cNvSpPr/>
            <p:nvPr/>
          </p:nvSpPr>
          <p:spPr>
            <a:xfrm>
              <a:off x="7758000" y="383508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63" name=""/>
            <p:cNvSpPr/>
            <p:nvPr/>
          </p:nvSpPr>
          <p:spPr>
            <a:xfrm>
              <a:off x="7758000" y="382140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64" name=""/>
            <p:cNvSpPr/>
            <p:nvPr/>
          </p:nvSpPr>
          <p:spPr>
            <a:xfrm>
              <a:off x="7758000" y="328824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165" name=""/>
            <p:cNvSpPr/>
            <p:nvPr/>
          </p:nvSpPr>
          <p:spPr>
            <a:xfrm>
              <a:off x="8010360" y="331056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166" name=""/>
            <p:cNvSpPr/>
            <p:nvPr/>
          </p:nvSpPr>
          <p:spPr>
            <a:xfrm>
              <a:off x="7819920" y="334800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167" name=""/>
            <p:cNvSpPr/>
            <p:nvPr/>
          </p:nvSpPr>
          <p:spPr>
            <a:xfrm>
              <a:off x="7758000" y="334800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168" name=""/>
            <p:cNvSpPr/>
            <p:nvPr/>
          </p:nvSpPr>
          <p:spPr>
            <a:xfrm>
              <a:off x="7758000" y="336492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69" name=""/>
            <p:cNvSpPr/>
            <p:nvPr/>
          </p:nvSpPr>
          <p:spPr>
            <a:xfrm flipH="1">
              <a:off x="7961400" y="336780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170" name=""/>
            <p:cNvSpPr/>
            <p:nvPr/>
          </p:nvSpPr>
          <p:spPr>
            <a:xfrm>
              <a:off x="7961400" y="33480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171" name=""/>
            <p:cNvSpPr/>
            <p:nvPr/>
          </p:nvSpPr>
          <p:spPr>
            <a:xfrm>
              <a:off x="7770960" y="330300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72" name=""/>
            <p:cNvSpPr/>
            <p:nvPr/>
          </p:nvSpPr>
          <p:spPr>
            <a:xfrm>
              <a:off x="7807320" y="330156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73" name=""/>
            <p:cNvSpPr/>
            <p:nvPr/>
          </p:nvSpPr>
          <p:spPr>
            <a:xfrm>
              <a:off x="7843680" y="330156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74" name=""/>
            <p:cNvSpPr/>
            <p:nvPr/>
          </p:nvSpPr>
          <p:spPr>
            <a:xfrm>
              <a:off x="7881840" y="330156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75" name=""/>
            <p:cNvSpPr/>
            <p:nvPr/>
          </p:nvSpPr>
          <p:spPr>
            <a:xfrm>
              <a:off x="7920000" y="330012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76" name=""/>
            <p:cNvSpPr/>
            <p:nvPr/>
          </p:nvSpPr>
          <p:spPr>
            <a:xfrm>
              <a:off x="7954920" y="329688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77" name=""/>
            <p:cNvSpPr/>
            <p:nvPr/>
          </p:nvSpPr>
          <p:spPr>
            <a:xfrm>
              <a:off x="7993080" y="329688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78" name=""/>
            <p:cNvSpPr/>
            <p:nvPr/>
          </p:nvSpPr>
          <p:spPr>
            <a:xfrm>
              <a:off x="7997760" y="338724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9" name=""/>
            <p:cNvSpPr/>
            <p:nvPr/>
          </p:nvSpPr>
          <p:spPr>
            <a:xfrm>
              <a:off x="8039160" y="385164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2180" name="" descr=""/>
          <p:cNvPicPr/>
          <p:nvPr/>
        </p:nvPicPr>
        <p:blipFill>
          <a:blip r:embed="rId4"/>
          <a:stretch/>
        </p:blipFill>
        <p:spPr>
          <a:xfrm>
            <a:off x="6477120" y="4145040"/>
            <a:ext cx="861840" cy="577800"/>
          </a:xfrm>
          <a:prstGeom prst="rect">
            <a:avLst/>
          </a:prstGeom>
          <a:ln w="0">
            <a:noFill/>
          </a:ln>
        </p:spPr>
      </p:pic>
      <p:pic>
        <p:nvPicPr>
          <p:cNvPr id="2181" name="" descr=""/>
          <p:cNvPicPr/>
          <p:nvPr/>
        </p:nvPicPr>
        <p:blipFill>
          <a:blip r:embed="rId5"/>
          <a:stretch/>
        </p:blipFill>
        <p:spPr>
          <a:xfrm>
            <a:off x="5408640" y="3298680"/>
            <a:ext cx="861840" cy="578160"/>
          </a:xfrm>
          <a:prstGeom prst="rect">
            <a:avLst/>
          </a:prstGeom>
          <a:ln w="0">
            <a:noFill/>
          </a:ln>
        </p:spPr>
      </p:pic>
      <p:grpSp>
        <p:nvGrpSpPr>
          <p:cNvPr id="2182" name=""/>
          <p:cNvGrpSpPr/>
          <p:nvPr/>
        </p:nvGrpSpPr>
        <p:grpSpPr>
          <a:xfrm>
            <a:off x="5972040" y="1454040"/>
            <a:ext cx="1803600" cy="1424160"/>
            <a:chOff x="5972040" y="1454040"/>
            <a:chExt cx="1803600" cy="1424160"/>
          </a:xfrm>
        </p:grpSpPr>
        <p:sp>
          <p:nvSpPr>
            <p:cNvPr id="2183" name=""/>
            <p:cNvSpPr/>
            <p:nvPr/>
          </p:nvSpPr>
          <p:spPr>
            <a:xfrm>
              <a:off x="5972040" y="1454040"/>
              <a:ext cx="1803600" cy="142416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a:off x="6881760" y="189468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6800760" y="1767960"/>
              <a:ext cx="158760" cy="115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186" name=""/>
            <p:cNvSpPr/>
            <p:nvPr/>
          </p:nvSpPr>
          <p:spPr>
            <a:xfrm flipH="1">
              <a:off x="6714720" y="208152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a:off x="6897600" y="209628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8" name=""/>
            <p:cNvSpPr/>
            <p:nvPr/>
          </p:nvSpPr>
          <p:spPr>
            <a:xfrm>
              <a:off x="6804000" y="1998000"/>
              <a:ext cx="156960" cy="1177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189" name=""/>
            <p:cNvSpPr/>
            <p:nvPr/>
          </p:nvSpPr>
          <p:spPr>
            <a:xfrm flipH="1">
              <a:off x="6410160" y="239040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0" name=""/>
            <p:cNvSpPr/>
            <p:nvPr/>
          </p:nvSpPr>
          <p:spPr>
            <a:xfrm>
              <a:off x="6715080" y="238104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1" name=""/>
            <p:cNvSpPr/>
            <p:nvPr/>
          </p:nvSpPr>
          <p:spPr>
            <a:xfrm>
              <a:off x="6715080" y="237456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2" name=""/>
            <p:cNvSpPr/>
            <p:nvPr/>
          </p:nvSpPr>
          <p:spPr>
            <a:xfrm>
              <a:off x="7153200" y="236016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3" name=""/>
            <p:cNvSpPr/>
            <p:nvPr/>
          </p:nvSpPr>
          <p:spPr>
            <a:xfrm>
              <a:off x="6332400" y="262440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194" name=""/>
            <p:cNvSpPr/>
            <p:nvPr/>
          </p:nvSpPr>
          <p:spPr>
            <a:xfrm>
              <a:off x="7073640" y="230904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195" name=""/>
            <p:cNvSpPr/>
            <p:nvPr/>
          </p:nvSpPr>
          <p:spPr>
            <a:xfrm>
              <a:off x="6629400" y="2309040"/>
              <a:ext cx="1569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196" name=""/>
            <p:cNvSpPr/>
            <p:nvPr/>
          </p:nvSpPr>
          <p:spPr>
            <a:xfrm>
              <a:off x="7235640" y="262440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197" name=""/>
            <p:cNvSpPr/>
            <p:nvPr/>
          </p:nvSpPr>
          <p:spPr>
            <a:xfrm>
              <a:off x="6932520" y="2624400"/>
              <a:ext cx="15732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198" name=""/>
            <p:cNvSpPr/>
            <p:nvPr/>
          </p:nvSpPr>
          <p:spPr>
            <a:xfrm>
              <a:off x="6635520" y="262440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2199" name=""/>
          <p:cNvSpPr/>
          <p:nvPr/>
        </p:nvSpPr>
        <p:spPr>
          <a:xfrm>
            <a:off x="6777000" y="1628640"/>
            <a:ext cx="21002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B</a:t>
            </a:r>
            <a:endParaRPr b="0" lang="en-US" sz="1800" spc="-1" strike="noStrike">
              <a:solidFill>
                <a:srgbClr val="ffffff"/>
              </a:solidFill>
              <a:latin typeface="Times New Roman"/>
            </a:endParaRPr>
          </a:p>
        </p:txBody>
      </p:sp>
      <p:sp>
        <p:nvSpPr>
          <p:cNvPr id="2200" name=""/>
          <p:cNvSpPr/>
          <p:nvPr/>
        </p:nvSpPr>
        <p:spPr>
          <a:xfrm>
            <a:off x="6378480" y="359568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2201" name=""/>
          <p:cNvSpPr/>
          <p:nvPr/>
        </p:nvSpPr>
        <p:spPr>
          <a:xfrm>
            <a:off x="6418440" y="371808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202" name=""/>
          <p:cNvSpPr/>
          <p:nvPr/>
        </p:nvSpPr>
        <p:spPr>
          <a:xfrm flipV="1">
            <a:off x="7024680" y="3730680"/>
            <a:ext cx="376200" cy="29664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203" name=""/>
          <p:cNvSpPr/>
          <p:nvPr/>
        </p:nvSpPr>
        <p:spPr>
          <a:xfrm>
            <a:off x="6945480" y="3932280"/>
            <a:ext cx="1976400" cy="6670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Sec with Kerberos Authentication</a:t>
            </a:r>
            <a:endParaRPr b="0" lang="en-US" sz="1400" spc="-1" strike="noStrike">
              <a:solidFill>
                <a:srgbClr val="ffffff"/>
              </a:solidFill>
              <a:latin typeface="Times New Roman"/>
            </a:endParaRPr>
          </a:p>
        </p:txBody>
      </p:sp>
      <p:sp>
        <p:nvSpPr>
          <p:cNvPr id="2204" name=""/>
          <p:cNvSpPr/>
          <p:nvPr/>
        </p:nvSpPr>
        <p:spPr>
          <a:xfrm>
            <a:off x="0" y="4813200"/>
            <a:ext cx="9144000" cy="15991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cf00"/>
                </a:solidFill>
                <a:latin typeface="Arial"/>
              </a:rPr>
              <a:t>Change IPSec policy on serverA and clientB to use certificate authentication first (CA0 Root) then Kerberos.</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cf00"/>
                </a:solidFill>
                <a:latin typeface="Arial"/>
              </a:rPr>
              <a:t>Also good approach for special, high security groups – only group members’ machines have certs from special CA</a:t>
            </a:r>
            <a:endParaRPr b="0" lang="en-US" sz="2400" spc="-1" strike="noStrike">
              <a:solidFill>
                <a:srgbClr val="ffffff"/>
              </a:solidFill>
              <a:latin typeface="Times New Roman"/>
            </a:endParaRPr>
          </a:p>
        </p:txBody>
      </p:sp>
      <p:sp>
        <p:nvSpPr>
          <p:cNvPr id="2205" name=""/>
          <p:cNvSpPr/>
          <p:nvPr/>
        </p:nvSpPr>
        <p:spPr>
          <a:xfrm>
            <a:off x="3689280" y="985680"/>
            <a:ext cx="1639800" cy="10098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2206" name=""/>
          <p:cNvSpPr/>
          <p:nvPr/>
        </p:nvSpPr>
        <p:spPr>
          <a:xfrm>
            <a:off x="3706920" y="1108080"/>
            <a:ext cx="1569960" cy="9154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0 Common Root</a:t>
            </a:r>
            <a:endParaRPr b="0" lang="en-US" sz="2000" spc="-1" strike="noStrike">
              <a:solidFill>
                <a:srgbClr val="ffffff"/>
              </a:solidFill>
              <a:latin typeface="Times New Roman"/>
            </a:endParaRPr>
          </a:p>
        </p:txBody>
      </p:sp>
      <p:sp>
        <p:nvSpPr>
          <p:cNvPr id="2207" name=""/>
          <p:cNvSpPr/>
          <p:nvPr/>
        </p:nvSpPr>
        <p:spPr>
          <a:xfrm>
            <a:off x="3325680" y="1841400"/>
            <a:ext cx="708120" cy="1575000"/>
          </a:xfrm>
          <a:custGeom>
            <a:avLst/>
            <a:gdLst/>
            <a:ahLst/>
            <a:rect l="l" t="t" r="r" b="b"/>
            <a:pathLst>
              <a:path w="446" h="992">
                <a:moveTo>
                  <a:pt x="446" y="0"/>
                </a:moveTo>
                <a:cubicBezTo>
                  <a:pt x="384" y="69"/>
                  <a:pt x="146" y="251"/>
                  <a:pt x="73" y="416"/>
                </a:cubicBezTo>
                <a:cubicBezTo>
                  <a:pt x="0" y="581"/>
                  <a:pt x="20" y="872"/>
                  <a:pt x="6" y="992"/>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sp>
        <p:nvSpPr>
          <p:cNvPr id="2208" name=""/>
          <p:cNvSpPr/>
          <p:nvPr/>
        </p:nvSpPr>
        <p:spPr>
          <a:xfrm>
            <a:off x="4935600" y="1855800"/>
            <a:ext cx="873000" cy="1506600"/>
          </a:xfrm>
          <a:custGeom>
            <a:avLst/>
            <a:gdLst/>
            <a:ahLst/>
            <a:rect l="l" t="t" r="r" b="b"/>
            <a:pathLst>
              <a:path w="550" h="949">
                <a:moveTo>
                  <a:pt x="0" y="0"/>
                </a:moveTo>
                <a:cubicBezTo>
                  <a:pt x="72" y="68"/>
                  <a:pt x="340" y="249"/>
                  <a:pt x="432" y="407"/>
                </a:cubicBezTo>
                <a:cubicBezTo>
                  <a:pt x="524" y="565"/>
                  <a:pt x="526" y="836"/>
                  <a:pt x="550" y="949"/>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grpSp>
        <p:nvGrpSpPr>
          <p:cNvPr id="2209" name=""/>
          <p:cNvGrpSpPr/>
          <p:nvPr/>
        </p:nvGrpSpPr>
        <p:grpSpPr>
          <a:xfrm>
            <a:off x="3452760" y="3654000"/>
            <a:ext cx="2183040" cy="955440"/>
            <a:chOff x="3452760" y="3654000"/>
            <a:chExt cx="2183040" cy="955440"/>
          </a:xfrm>
        </p:grpSpPr>
        <p:sp>
          <p:nvSpPr>
            <p:cNvPr id="2210" name=""/>
            <p:cNvSpPr/>
            <p:nvPr/>
          </p:nvSpPr>
          <p:spPr>
            <a:xfrm flipV="1">
              <a:off x="3639960" y="3654000"/>
              <a:ext cx="1692360" cy="1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3920" bIns="-43920" anchor="t">
              <a:noAutofit/>
            </a:bodyPr>
            <a:p>
              <a:endParaRPr b="0" lang="en-US" sz="2400" spc="-1" strike="noStrike">
                <a:solidFill>
                  <a:srgbClr val="ffffff"/>
                </a:solidFill>
                <a:latin typeface="Times New Roman"/>
              </a:endParaRPr>
            </a:p>
          </p:txBody>
        </p:sp>
        <p:sp>
          <p:nvSpPr>
            <p:cNvPr id="2211" name=""/>
            <p:cNvSpPr/>
            <p:nvPr/>
          </p:nvSpPr>
          <p:spPr>
            <a:xfrm>
              <a:off x="3452760" y="3693960"/>
              <a:ext cx="2183040" cy="9154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Sec works using IKE cert authentication</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2" name="PlaceHolder 1"/>
          <p:cNvSpPr>
            <a:spLocks noGrp="1"/>
          </p:cNvSpPr>
          <p:nvPr>
            <p:ph type="title"/>
          </p:nvPr>
        </p:nvSpPr>
        <p:spPr>
          <a:xfrm>
            <a:off x="364680" y="228240"/>
            <a:ext cx="86058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Crossing Untrusted Domains</a:t>
            </a:r>
            <a:endParaRPr b="1" lang="en-US" sz="4400" spc="-1" strike="noStrike">
              <a:solidFill>
                <a:srgbClr val="fccf00"/>
              </a:solidFill>
              <a:latin typeface="Arial"/>
            </a:endParaRPr>
          </a:p>
        </p:txBody>
      </p:sp>
      <p:grpSp>
        <p:nvGrpSpPr>
          <p:cNvPr id="2213" name=""/>
          <p:cNvGrpSpPr/>
          <p:nvPr/>
        </p:nvGrpSpPr>
        <p:grpSpPr>
          <a:xfrm>
            <a:off x="2978280" y="3219480"/>
            <a:ext cx="690480" cy="711000"/>
            <a:chOff x="2978280" y="3219480"/>
            <a:chExt cx="690480" cy="711000"/>
          </a:xfrm>
        </p:grpSpPr>
        <p:sp>
          <p:nvSpPr>
            <p:cNvPr id="2214" name=""/>
            <p:cNvSpPr/>
            <p:nvPr/>
          </p:nvSpPr>
          <p:spPr>
            <a:xfrm>
              <a:off x="3218040" y="324180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5" name=""/>
            <p:cNvSpPr/>
            <p:nvPr/>
          </p:nvSpPr>
          <p:spPr>
            <a:xfrm>
              <a:off x="3235320" y="360396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6" name=""/>
            <p:cNvSpPr/>
            <p:nvPr/>
          </p:nvSpPr>
          <p:spPr>
            <a:xfrm>
              <a:off x="3235320" y="336816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7" name=""/>
            <p:cNvSpPr/>
            <p:nvPr/>
          </p:nvSpPr>
          <p:spPr>
            <a:xfrm>
              <a:off x="2978280" y="322092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218" name=""/>
            <p:cNvSpPr/>
            <p:nvPr/>
          </p:nvSpPr>
          <p:spPr>
            <a:xfrm>
              <a:off x="2978280" y="322092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3191040" y="324504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3235320" y="336672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3235320" y="332892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222" name=""/>
            <p:cNvSpPr/>
            <p:nvPr/>
          </p:nvSpPr>
          <p:spPr>
            <a:xfrm>
              <a:off x="3235320" y="326736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23" name=""/>
            <p:cNvSpPr/>
            <p:nvPr/>
          </p:nvSpPr>
          <p:spPr>
            <a:xfrm>
              <a:off x="2978280" y="321948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24" name=""/>
            <p:cNvSpPr/>
            <p:nvPr/>
          </p:nvSpPr>
          <p:spPr>
            <a:xfrm>
              <a:off x="3216240" y="324180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978280" y="322092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6" name=""/>
            <p:cNvSpPr/>
            <p:nvPr/>
          </p:nvSpPr>
          <p:spPr>
            <a:xfrm>
              <a:off x="3191040" y="324648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7" name=""/>
            <p:cNvSpPr/>
            <p:nvPr/>
          </p:nvSpPr>
          <p:spPr>
            <a:xfrm>
              <a:off x="3191040" y="325548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28" name=""/>
            <p:cNvSpPr/>
            <p:nvPr/>
          </p:nvSpPr>
          <p:spPr>
            <a:xfrm>
              <a:off x="3191040" y="33051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29" name=""/>
            <p:cNvSpPr/>
            <p:nvPr/>
          </p:nvSpPr>
          <p:spPr>
            <a:xfrm>
              <a:off x="3235320" y="326736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30" name=""/>
            <p:cNvSpPr/>
            <p:nvPr/>
          </p:nvSpPr>
          <p:spPr>
            <a:xfrm>
              <a:off x="3191040" y="332028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31" name=""/>
            <p:cNvSpPr/>
            <p:nvPr/>
          </p:nvSpPr>
          <p:spPr>
            <a:xfrm>
              <a:off x="3191040" y="336672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32" name=""/>
            <p:cNvSpPr/>
            <p:nvPr/>
          </p:nvSpPr>
          <p:spPr>
            <a:xfrm>
              <a:off x="3191040" y="355464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33" name=""/>
            <p:cNvSpPr/>
            <p:nvPr/>
          </p:nvSpPr>
          <p:spPr>
            <a:xfrm>
              <a:off x="3235320" y="337716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4" name=""/>
            <p:cNvSpPr/>
            <p:nvPr/>
          </p:nvSpPr>
          <p:spPr>
            <a:xfrm>
              <a:off x="3500640" y="336816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5" name=""/>
            <p:cNvSpPr/>
            <p:nvPr/>
          </p:nvSpPr>
          <p:spPr>
            <a:xfrm>
              <a:off x="3235320" y="336816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6" name=""/>
            <p:cNvSpPr/>
            <p:nvPr/>
          </p:nvSpPr>
          <p:spPr>
            <a:xfrm>
              <a:off x="3487680" y="354996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37" name=""/>
            <p:cNvSpPr/>
            <p:nvPr/>
          </p:nvSpPr>
          <p:spPr>
            <a:xfrm flipH="1">
              <a:off x="3234960" y="343008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2238" name=""/>
            <p:cNvSpPr/>
            <p:nvPr/>
          </p:nvSpPr>
          <p:spPr>
            <a:xfrm flipH="1">
              <a:off x="3234960" y="349308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239" name=""/>
            <p:cNvSpPr/>
            <p:nvPr/>
          </p:nvSpPr>
          <p:spPr>
            <a:xfrm>
              <a:off x="3191040" y="360396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40" name=""/>
            <p:cNvSpPr/>
            <p:nvPr/>
          </p:nvSpPr>
          <p:spPr>
            <a:xfrm>
              <a:off x="3191040" y="386856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1" name=""/>
            <p:cNvSpPr/>
            <p:nvPr/>
          </p:nvSpPr>
          <p:spPr>
            <a:xfrm>
              <a:off x="3235320" y="36190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2" name=""/>
            <p:cNvSpPr/>
            <p:nvPr/>
          </p:nvSpPr>
          <p:spPr>
            <a:xfrm>
              <a:off x="3500640" y="360396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a:off x="3235320" y="385056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4" name=""/>
            <p:cNvSpPr/>
            <p:nvPr/>
          </p:nvSpPr>
          <p:spPr>
            <a:xfrm>
              <a:off x="3235320" y="383868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5" name=""/>
            <p:cNvSpPr/>
            <p:nvPr/>
          </p:nvSpPr>
          <p:spPr>
            <a:xfrm>
              <a:off x="3235320" y="382824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46" name=""/>
            <p:cNvSpPr/>
            <p:nvPr/>
          </p:nvSpPr>
          <p:spPr>
            <a:xfrm>
              <a:off x="3235320" y="381600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247" name=""/>
            <p:cNvSpPr/>
            <p:nvPr/>
          </p:nvSpPr>
          <p:spPr>
            <a:xfrm>
              <a:off x="3235320" y="380232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48" name=""/>
            <p:cNvSpPr/>
            <p:nvPr/>
          </p:nvSpPr>
          <p:spPr>
            <a:xfrm>
              <a:off x="3235320" y="326916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249" name=""/>
            <p:cNvSpPr/>
            <p:nvPr/>
          </p:nvSpPr>
          <p:spPr>
            <a:xfrm>
              <a:off x="3487680" y="329148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250" name=""/>
            <p:cNvSpPr/>
            <p:nvPr/>
          </p:nvSpPr>
          <p:spPr>
            <a:xfrm>
              <a:off x="3297240" y="332892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251" name=""/>
            <p:cNvSpPr/>
            <p:nvPr/>
          </p:nvSpPr>
          <p:spPr>
            <a:xfrm>
              <a:off x="3235320" y="332892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52" name=""/>
            <p:cNvSpPr/>
            <p:nvPr/>
          </p:nvSpPr>
          <p:spPr>
            <a:xfrm>
              <a:off x="3235320" y="334584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53" name=""/>
            <p:cNvSpPr/>
            <p:nvPr/>
          </p:nvSpPr>
          <p:spPr>
            <a:xfrm flipH="1">
              <a:off x="3438720" y="334872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254" name=""/>
            <p:cNvSpPr/>
            <p:nvPr/>
          </p:nvSpPr>
          <p:spPr>
            <a:xfrm>
              <a:off x="3438720" y="33289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255" name=""/>
            <p:cNvSpPr/>
            <p:nvPr/>
          </p:nvSpPr>
          <p:spPr>
            <a:xfrm>
              <a:off x="3248280" y="328392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56" name=""/>
            <p:cNvSpPr/>
            <p:nvPr/>
          </p:nvSpPr>
          <p:spPr>
            <a:xfrm>
              <a:off x="3284640" y="328248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57" name=""/>
            <p:cNvSpPr/>
            <p:nvPr/>
          </p:nvSpPr>
          <p:spPr>
            <a:xfrm>
              <a:off x="3321000" y="328248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58" name=""/>
            <p:cNvSpPr/>
            <p:nvPr/>
          </p:nvSpPr>
          <p:spPr>
            <a:xfrm>
              <a:off x="3359160" y="328248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59" name=""/>
            <p:cNvSpPr/>
            <p:nvPr/>
          </p:nvSpPr>
          <p:spPr>
            <a:xfrm>
              <a:off x="3397320" y="328104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60" name=""/>
            <p:cNvSpPr/>
            <p:nvPr/>
          </p:nvSpPr>
          <p:spPr>
            <a:xfrm>
              <a:off x="3432240" y="327780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61" name=""/>
            <p:cNvSpPr/>
            <p:nvPr/>
          </p:nvSpPr>
          <p:spPr>
            <a:xfrm>
              <a:off x="3470400" y="327780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62" name=""/>
            <p:cNvSpPr/>
            <p:nvPr/>
          </p:nvSpPr>
          <p:spPr>
            <a:xfrm>
              <a:off x="3475080" y="336816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a:off x="3516480" y="383256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2264" name="" descr=""/>
          <p:cNvPicPr/>
          <p:nvPr/>
        </p:nvPicPr>
        <p:blipFill>
          <a:blip r:embed="rId2"/>
          <a:stretch/>
        </p:blipFill>
        <p:spPr>
          <a:xfrm>
            <a:off x="1927080" y="4071960"/>
            <a:ext cx="862200" cy="577800"/>
          </a:xfrm>
          <a:prstGeom prst="rect">
            <a:avLst/>
          </a:prstGeom>
          <a:ln w="0">
            <a:noFill/>
          </a:ln>
        </p:spPr>
      </p:pic>
      <p:pic>
        <p:nvPicPr>
          <p:cNvPr id="2265" name="" descr=""/>
          <p:cNvPicPr/>
          <p:nvPr/>
        </p:nvPicPr>
        <p:blipFill>
          <a:blip r:embed="rId3"/>
          <a:stretch/>
        </p:blipFill>
        <p:spPr>
          <a:xfrm>
            <a:off x="858960" y="3225960"/>
            <a:ext cx="861840" cy="577800"/>
          </a:xfrm>
          <a:prstGeom prst="rect">
            <a:avLst/>
          </a:prstGeom>
          <a:ln w="0">
            <a:noFill/>
          </a:ln>
        </p:spPr>
      </p:pic>
      <p:grpSp>
        <p:nvGrpSpPr>
          <p:cNvPr id="2266" name=""/>
          <p:cNvGrpSpPr/>
          <p:nvPr/>
        </p:nvGrpSpPr>
        <p:grpSpPr>
          <a:xfrm>
            <a:off x="1422360" y="1380960"/>
            <a:ext cx="1803600" cy="1424160"/>
            <a:chOff x="1422360" y="1380960"/>
            <a:chExt cx="1803600" cy="1424160"/>
          </a:xfrm>
        </p:grpSpPr>
        <p:sp>
          <p:nvSpPr>
            <p:cNvPr id="2267" name=""/>
            <p:cNvSpPr/>
            <p:nvPr/>
          </p:nvSpPr>
          <p:spPr>
            <a:xfrm>
              <a:off x="1422360" y="1380960"/>
              <a:ext cx="1803600" cy="142416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8" name=""/>
            <p:cNvSpPr/>
            <p:nvPr/>
          </p:nvSpPr>
          <p:spPr>
            <a:xfrm>
              <a:off x="2332080" y="182160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9" name=""/>
            <p:cNvSpPr/>
            <p:nvPr/>
          </p:nvSpPr>
          <p:spPr>
            <a:xfrm>
              <a:off x="2251080" y="1694880"/>
              <a:ext cx="158760" cy="115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270" name=""/>
            <p:cNvSpPr/>
            <p:nvPr/>
          </p:nvSpPr>
          <p:spPr>
            <a:xfrm flipH="1">
              <a:off x="2165040" y="200844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1" name=""/>
            <p:cNvSpPr/>
            <p:nvPr/>
          </p:nvSpPr>
          <p:spPr>
            <a:xfrm>
              <a:off x="2347920" y="202320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2" name=""/>
            <p:cNvSpPr/>
            <p:nvPr/>
          </p:nvSpPr>
          <p:spPr>
            <a:xfrm>
              <a:off x="2254320" y="1924920"/>
              <a:ext cx="156960" cy="1177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273" name=""/>
            <p:cNvSpPr/>
            <p:nvPr/>
          </p:nvSpPr>
          <p:spPr>
            <a:xfrm flipH="1">
              <a:off x="1860480" y="231732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4" name=""/>
            <p:cNvSpPr/>
            <p:nvPr/>
          </p:nvSpPr>
          <p:spPr>
            <a:xfrm>
              <a:off x="2165400" y="230796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2165400" y="230148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6" name=""/>
            <p:cNvSpPr/>
            <p:nvPr/>
          </p:nvSpPr>
          <p:spPr>
            <a:xfrm>
              <a:off x="2603520" y="228708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7" name=""/>
            <p:cNvSpPr/>
            <p:nvPr/>
          </p:nvSpPr>
          <p:spPr>
            <a:xfrm>
              <a:off x="1782720" y="255132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278" name=""/>
            <p:cNvSpPr/>
            <p:nvPr/>
          </p:nvSpPr>
          <p:spPr>
            <a:xfrm>
              <a:off x="2523960" y="223596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279" name=""/>
            <p:cNvSpPr/>
            <p:nvPr/>
          </p:nvSpPr>
          <p:spPr>
            <a:xfrm>
              <a:off x="2079720" y="2235960"/>
              <a:ext cx="1569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280" name=""/>
            <p:cNvSpPr/>
            <p:nvPr/>
          </p:nvSpPr>
          <p:spPr>
            <a:xfrm>
              <a:off x="2685960" y="255132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281" name=""/>
            <p:cNvSpPr/>
            <p:nvPr/>
          </p:nvSpPr>
          <p:spPr>
            <a:xfrm>
              <a:off x="2382840" y="2551320"/>
              <a:ext cx="15732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282" name=""/>
            <p:cNvSpPr/>
            <p:nvPr/>
          </p:nvSpPr>
          <p:spPr>
            <a:xfrm>
              <a:off x="2085840" y="255132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2283" name=""/>
          <p:cNvSpPr/>
          <p:nvPr/>
        </p:nvSpPr>
        <p:spPr>
          <a:xfrm>
            <a:off x="398520" y="1608120"/>
            <a:ext cx="19526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A</a:t>
            </a:r>
            <a:endParaRPr b="0" lang="en-US" sz="1800" spc="-1" strike="noStrike">
              <a:solidFill>
                <a:srgbClr val="ffffff"/>
              </a:solidFill>
              <a:latin typeface="Times New Roman"/>
            </a:endParaRPr>
          </a:p>
        </p:txBody>
      </p:sp>
      <p:sp>
        <p:nvSpPr>
          <p:cNvPr id="2284" name=""/>
          <p:cNvSpPr/>
          <p:nvPr/>
        </p:nvSpPr>
        <p:spPr>
          <a:xfrm>
            <a:off x="1828800" y="352260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2285" name=""/>
          <p:cNvSpPr/>
          <p:nvPr/>
        </p:nvSpPr>
        <p:spPr>
          <a:xfrm>
            <a:off x="1868400" y="364500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286" name=""/>
          <p:cNvSpPr/>
          <p:nvPr/>
        </p:nvSpPr>
        <p:spPr>
          <a:xfrm flipV="1">
            <a:off x="2475000" y="3657240"/>
            <a:ext cx="376200" cy="2970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287" name=""/>
          <p:cNvSpPr/>
          <p:nvPr/>
        </p:nvSpPr>
        <p:spPr>
          <a:xfrm>
            <a:off x="322200" y="3817800"/>
            <a:ext cx="2017800" cy="6670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Sec with Kerberos Authentication</a:t>
            </a:r>
            <a:endParaRPr b="0" lang="en-US" sz="1400" spc="-1" strike="noStrike">
              <a:solidFill>
                <a:srgbClr val="ffffff"/>
              </a:solidFill>
              <a:latin typeface="Times New Roman"/>
            </a:endParaRPr>
          </a:p>
        </p:txBody>
      </p:sp>
      <p:grpSp>
        <p:nvGrpSpPr>
          <p:cNvPr id="2288" name=""/>
          <p:cNvGrpSpPr/>
          <p:nvPr/>
        </p:nvGrpSpPr>
        <p:grpSpPr>
          <a:xfrm>
            <a:off x="7500960" y="3238560"/>
            <a:ext cx="690480" cy="711000"/>
            <a:chOff x="7500960" y="3238560"/>
            <a:chExt cx="690480" cy="711000"/>
          </a:xfrm>
        </p:grpSpPr>
        <p:sp>
          <p:nvSpPr>
            <p:cNvPr id="2289" name=""/>
            <p:cNvSpPr/>
            <p:nvPr/>
          </p:nvSpPr>
          <p:spPr>
            <a:xfrm>
              <a:off x="7740720" y="3260880"/>
              <a:ext cx="29988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0" name=""/>
            <p:cNvSpPr/>
            <p:nvPr/>
          </p:nvSpPr>
          <p:spPr>
            <a:xfrm>
              <a:off x="7758000" y="3623040"/>
              <a:ext cx="2667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1" name=""/>
            <p:cNvSpPr/>
            <p:nvPr/>
          </p:nvSpPr>
          <p:spPr>
            <a:xfrm>
              <a:off x="7758000" y="3387240"/>
              <a:ext cx="25416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2" name=""/>
            <p:cNvSpPr/>
            <p:nvPr/>
          </p:nvSpPr>
          <p:spPr>
            <a:xfrm>
              <a:off x="7500960" y="3240000"/>
              <a:ext cx="5396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293" name=""/>
            <p:cNvSpPr/>
            <p:nvPr/>
          </p:nvSpPr>
          <p:spPr>
            <a:xfrm>
              <a:off x="7500960" y="3240000"/>
              <a:ext cx="24120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4" name=""/>
            <p:cNvSpPr/>
            <p:nvPr/>
          </p:nvSpPr>
          <p:spPr>
            <a:xfrm>
              <a:off x="7713720" y="3264120"/>
              <a:ext cx="284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5" name=""/>
            <p:cNvSpPr/>
            <p:nvPr/>
          </p:nvSpPr>
          <p:spPr>
            <a:xfrm>
              <a:off x="7758000" y="3385800"/>
              <a:ext cx="26676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7758000" y="3348000"/>
              <a:ext cx="2667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297" name=""/>
            <p:cNvSpPr/>
            <p:nvPr/>
          </p:nvSpPr>
          <p:spPr>
            <a:xfrm>
              <a:off x="7758000" y="3286440"/>
              <a:ext cx="2667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8" name=""/>
            <p:cNvSpPr/>
            <p:nvPr/>
          </p:nvSpPr>
          <p:spPr>
            <a:xfrm>
              <a:off x="7500960" y="3238560"/>
              <a:ext cx="5396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99" name=""/>
            <p:cNvSpPr/>
            <p:nvPr/>
          </p:nvSpPr>
          <p:spPr>
            <a:xfrm>
              <a:off x="7738920" y="3260880"/>
              <a:ext cx="3016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7500960" y="3240000"/>
              <a:ext cx="23976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7713720" y="326556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2" name=""/>
            <p:cNvSpPr/>
            <p:nvPr/>
          </p:nvSpPr>
          <p:spPr>
            <a:xfrm>
              <a:off x="7713720" y="3274560"/>
              <a:ext cx="32688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03" name=""/>
            <p:cNvSpPr/>
            <p:nvPr/>
          </p:nvSpPr>
          <p:spPr>
            <a:xfrm>
              <a:off x="7713720" y="332424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04" name=""/>
            <p:cNvSpPr/>
            <p:nvPr/>
          </p:nvSpPr>
          <p:spPr>
            <a:xfrm>
              <a:off x="7758000" y="3286440"/>
              <a:ext cx="2667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05" name=""/>
            <p:cNvSpPr/>
            <p:nvPr/>
          </p:nvSpPr>
          <p:spPr>
            <a:xfrm>
              <a:off x="7713720" y="333936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06" name=""/>
            <p:cNvSpPr/>
            <p:nvPr/>
          </p:nvSpPr>
          <p:spPr>
            <a:xfrm>
              <a:off x="7713720" y="3385800"/>
              <a:ext cx="32688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07" name=""/>
            <p:cNvSpPr/>
            <p:nvPr/>
          </p:nvSpPr>
          <p:spPr>
            <a:xfrm>
              <a:off x="7713720" y="3573720"/>
              <a:ext cx="32688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08" name=""/>
            <p:cNvSpPr/>
            <p:nvPr/>
          </p:nvSpPr>
          <p:spPr>
            <a:xfrm>
              <a:off x="7758000" y="339624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9" name=""/>
            <p:cNvSpPr/>
            <p:nvPr/>
          </p:nvSpPr>
          <p:spPr>
            <a:xfrm>
              <a:off x="8023320" y="338724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0" name=""/>
            <p:cNvSpPr/>
            <p:nvPr/>
          </p:nvSpPr>
          <p:spPr>
            <a:xfrm>
              <a:off x="7758000" y="3387240"/>
              <a:ext cx="25416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8010360" y="3569040"/>
              <a:ext cx="12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12" name=""/>
            <p:cNvSpPr/>
            <p:nvPr/>
          </p:nvSpPr>
          <p:spPr>
            <a:xfrm flipH="1">
              <a:off x="7757640" y="3449160"/>
              <a:ext cx="252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2313" name=""/>
            <p:cNvSpPr/>
            <p:nvPr/>
          </p:nvSpPr>
          <p:spPr>
            <a:xfrm flipH="1">
              <a:off x="7757640" y="3512160"/>
              <a:ext cx="252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314" name=""/>
            <p:cNvSpPr/>
            <p:nvPr/>
          </p:nvSpPr>
          <p:spPr>
            <a:xfrm>
              <a:off x="7713720" y="3623040"/>
              <a:ext cx="32688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15" name=""/>
            <p:cNvSpPr/>
            <p:nvPr/>
          </p:nvSpPr>
          <p:spPr>
            <a:xfrm>
              <a:off x="7713720" y="3887640"/>
              <a:ext cx="32688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16" name=""/>
            <p:cNvSpPr/>
            <p:nvPr/>
          </p:nvSpPr>
          <p:spPr>
            <a:xfrm>
              <a:off x="7758000" y="363816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7" name=""/>
            <p:cNvSpPr/>
            <p:nvPr/>
          </p:nvSpPr>
          <p:spPr>
            <a:xfrm>
              <a:off x="8023320" y="36230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8" name=""/>
            <p:cNvSpPr/>
            <p:nvPr/>
          </p:nvSpPr>
          <p:spPr>
            <a:xfrm>
              <a:off x="7758000" y="3869640"/>
              <a:ext cx="2667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19" name=""/>
            <p:cNvSpPr/>
            <p:nvPr/>
          </p:nvSpPr>
          <p:spPr>
            <a:xfrm>
              <a:off x="7758000" y="3857760"/>
              <a:ext cx="2667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20" name=""/>
            <p:cNvSpPr/>
            <p:nvPr/>
          </p:nvSpPr>
          <p:spPr>
            <a:xfrm>
              <a:off x="7758000" y="3847320"/>
              <a:ext cx="2667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21" name=""/>
            <p:cNvSpPr/>
            <p:nvPr/>
          </p:nvSpPr>
          <p:spPr>
            <a:xfrm>
              <a:off x="7758000" y="3835080"/>
              <a:ext cx="2667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22" name=""/>
            <p:cNvSpPr/>
            <p:nvPr/>
          </p:nvSpPr>
          <p:spPr>
            <a:xfrm>
              <a:off x="7758000" y="3821400"/>
              <a:ext cx="2667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23" name=""/>
            <p:cNvSpPr/>
            <p:nvPr/>
          </p:nvSpPr>
          <p:spPr>
            <a:xfrm>
              <a:off x="7758000" y="3288240"/>
              <a:ext cx="25416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24" name=""/>
            <p:cNvSpPr/>
            <p:nvPr/>
          </p:nvSpPr>
          <p:spPr>
            <a:xfrm>
              <a:off x="8010360" y="3310560"/>
              <a:ext cx="12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325" name=""/>
            <p:cNvSpPr/>
            <p:nvPr/>
          </p:nvSpPr>
          <p:spPr>
            <a:xfrm>
              <a:off x="7819920" y="3348000"/>
              <a:ext cx="14292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326" name=""/>
            <p:cNvSpPr/>
            <p:nvPr/>
          </p:nvSpPr>
          <p:spPr>
            <a:xfrm>
              <a:off x="7758000" y="3348000"/>
              <a:ext cx="2667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327" name=""/>
            <p:cNvSpPr/>
            <p:nvPr/>
          </p:nvSpPr>
          <p:spPr>
            <a:xfrm>
              <a:off x="7758000" y="3364920"/>
              <a:ext cx="2048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28" name=""/>
            <p:cNvSpPr/>
            <p:nvPr/>
          </p:nvSpPr>
          <p:spPr>
            <a:xfrm flipH="1">
              <a:off x="7961400" y="3367800"/>
              <a:ext cx="61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329" name=""/>
            <p:cNvSpPr/>
            <p:nvPr/>
          </p:nvSpPr>
          <p:spPr>
            <a:xfrm>
              <a:off x="7961400" y="33480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330" name=""/>
            <p:cNvSpPr/>
            <p:nvPr/>
          </p:nvSpPr>
          <p:spPr>
            <a:xfrm>
              <a:off x="7770960" y="3303000"/>
              <a:ext cx="2664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31" name=""/>
            <p:cNvSpPr/>
            <p:nvPr/>
          </p:nvSpPr>
          <p:spPr>
            <a:xfrm>
              <a:off x="7807320" y="3301560"/>
              <a:ext cx="2700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32" name=""/>
            <p:cNvSpPr/>
            <p:nvPr/>
          </p:nvSpPr>
          <p:spPr>
            <a:xfrm>
              <a:off x="7843680" y="3301560"/>
              <a:ext cx="2700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33" name=""/>
            <p:cNvSpPr/>
            <p:nvPr/>
          </p:nvSpPr>
          <p:spPr>
            <a:xfrm>
              <a:off x="7881840" y="3301560"/>
              <a:ext cx="2700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34" name=""/>
            <p:cNvSpPr/>
            <p:nvPr/>
          </p:nvSpPr>
          <p:spPr>
            <a:xfrm>
              <a:off x="7920000" y="3300120"/>
              <a:ext cx="2700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35" name=""/>
            <p:cNvSpPr/>
            <p:nvPr/>
          </p:nvSpPr>
          <p:spPr>
            <a:xfrm>
              <a:off x="7954920" y="3296880"/>
              <a:ext cx="2700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36" name=""/>
            <p:cNvSpPr/>
            <p:nvPr/>
          </p:nvSpPr>
          <p:spPr>
            <a:xfrm>
              <a:off x="7993080" y="3296880"/>
              <a:ext cx="2700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37" name=""/>
            <p:cNvSpPr/>
            <p:nvPr/>
          </p:nvSpPr>
          <p:spPr>
            <a:xfrm>
              <a:off x="7997760" y="3387240"/>
              <a:ext cx="2700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8" name=""/>
            <p:cNvSpPr/>
            <p:nvPr/>
          </p:nvSpPr>
          <p:spPr>
            <a:xfrm>
              <a:off x="8039160" y="3851640"/>
              <a:ext cx="15228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pic>
        <p:nvPicPr>
          <p:cNvPr id="2339" name="" descr=""/>
          <p:cNvPicPr/>
          <p:nvPr/>
        </p:nvPicPr>
        <p:blipFill>
          <a:blip r:embed="rId4"/>
          <a:stretch/>
        </p:blipFill>
        <p:spPr>
          <a:xfrm>
            <a:off x="6477120" y="4145040"/>
            <a:ext cx="861840" cy="577800"/>
          </a:xfrm>
          <a:prstGeom prst="rect">
            <a:avLst/>
          </a:prstGeom>
          <a:ln w="0">
            <a:noFill/>
          </a:ln>
        </p:spPr>
      </p:pic>
      <p:pic>
        <p:nvPicPr>
          <p:cNvPr id="2340" name="" descr=""/>
          <p:cNvPicPr/>
          <p:nvPr/>
        </p:nvPicPr>
        <p:blipFill>
          <a:blip r:embed="rId5"/>
          <a:stretch/>
        </p:blipFill>
        <p:spPr>
          <a:xfrm>
            <a:off x="5408640" y="3298680"/>
            <a:ext cx="861840" cy="578160"/>
          </a:xfrm>
          <a:prstGeom prst="rect">
            <a:avLst/>
          </a:prstGeom>
          <a:ln w="0">
            <a:noFill/>
          </a:ln>
        </p:spPr>
      </p:pic>
      <p:grpSp>
        <p:nvGrpSpPr>
          <p:cNvPr id="2341" name=""/>
          <p:cNvGrpSpPr/>
          <p:nvPr/>
        </p:nvGrpSpPr>
        <p:grpSpPr>
          <a:xfrm>
            <a:off x="5972040" y="1454040"/>
            <a:ext cx="1803600" cy="1424160"/>
            <a:chOff x="5972040" y="1454040"/>
            <a:chExt cx="1803600" cy="1424160"/>
          </a:xfrm>
        </p:grpSpPr>
        <p:sp>
          <p:nvSpPr>
            <p:cNvPr id="2342" name=""/>
            <p:cNvSpPr/>
            <p:nvPr/>
          </p:nvSpPr>
          <p:spPr>
            <a:xfrm>
              <a:off x="5972040" y="1454040"/>
              <a:ext cx="1803600" cy="1424160"/>
            </a:xfrm>
            <a:prstGeom prst="triangle">
              <a:avLst>
                <a:gd name="adj" fmla="val 49986"/>
              </a:avLst>
            </a:prstGeom>
            <a:gradFill rotWithShape="0">
              <a:gsLst>
                <a:gs pos="0">
                  <a:srgbClr val="7e3d3f"/>
                </a:gs>
                <a:gs pos="100000">
                  <a:srgbClr val="ff7c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3" name=""/>
            <p:cNvSpPr/>
            <p:nvPr/>
          </p:nvSpPr>
          <p:spPr>
            <a:xfrm>
              <a:off x="6881760" y="1894680"/>
              <a:ext cx="0" cy="10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4" name=""/>
            <p:cNvSpPr/>
            <p:nvPr/>
          </p:nvSpPr>
          <p:spPr>
            <a:xfrm>
              <a:off x="6800760" y="1767960"/>
              <a:ext cx="158760" cy="1159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345" name=""/>
            <p:cNvSpPr/>
            <p:nvPr/>
          </p:nvSpPr>
          <p:spPr>
            <a:xfrm flipH="1">
              <a:off x="6714720" y="2081520"/>
              <a:ext cx="166680" cy="24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6" name=""/>
            <p:cNvSpPr/>
            <p:nvPr/>
          </p:nvSpPr>
          <p:spPr>
            <a:xfrm>
              <a:off x="6897600" y="2096280"/>
              <a:ext cx="249120" cy="25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7" name=""/>
            <p:cNvSpPr/>
            <p:nvPr/>
          </p:nvSpPr>
          <p:spPr>
            <a:xfrm>
              <a:off x="6804000" y="1998000"/>
              <a:ext cx="156960" cy="11772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348" name=""/>
            <p:cNvSpPr/>
            <p:nvPr/>
          </p:nvSpPr>
          <p:spPr>
            <a:xfrm flipH="1">
              <a:off x="6410160" y="2390400"/>
              <a:ext cx="27936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9" name=""/>
            <p:cNvSpPr/>
            <p:nvPr/>
          </p:nvSpPr>
          <p:spPr>
            <a:xfrm>
              <a:off x="6715080" y="2381040"/>
              <a:ext cx="298440" cy="30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0" name=""/>
            <p:cNvSpPr/>
            <p:nvPr/>
          </p:nvSpPr>
          <p:spPr>
            <a:xfrm>
              <a:off x="6715080" y="2374560"/>
              <a:ext cx="0" cy="31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a:off x="7153200" y="2360160"/>
              <a:ext cx="16992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6332400" y="262440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353" name=""/>
            <p:cNvSpPr/>
            <p:nvPr/>
          </p:nvSpPr>
          <p:spPr>
            <a:xfrm>
              <a:off x="7073640" y="230904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354" name=""/>
            <p:cNvSpPr/>
            <p:nvPr/>
          </p:nvSpPr>
          <p:spPr>
            <a:xfrm>
              <a:off x="6629400" y="2309040"/>
              <a:ext cx="1569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355" name=""/>
            <p:cNvSpPr/>
            <p:nvPr/>
          </p:nvSpPr>
          <p:spPr>
            <a:xfrm>
              <a:off x="7235640" y="262440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356" name=""/>
            <p:cNvSpPr/>
            <p:nvPr/>
          </p:nvSpPr>
          <p:spPr>
            <a:xfrm>
              <a:off x="6932520" y="2624400"/>
              <a:ext cx="15732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357" name=""/>
            <p:cNvSpPr/>
            <p:nvPr/>
          </p:nvSpPr>
          <p:spPr>
            <a:xfrm>
              <a:off x="6635520" y="2624400"/>
              <a:ext cx="158760" cy="116280"/>
            </a:xfrm>
            <a:prstGeom prst="ellipse">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sp>
        <p:nvSpPr>
          <p:cNvPr id="2358" name=""/>
          <p:cNvSpPr/>
          <p:nvPr/>
        </p:nvSpPr>
        <p:spPr>
          <a:xfrm>
            <a:off x="6777000" y="1628640"/>
            <a:ext cx="2100240" cy="58572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Domain B</a:t>
            </a:r>
            <a:endParaRPr b="0" lang="en-US" sz="1800" spc="-1" strike="noStrike">
              <a:solidFill>
                <a:srgbClr val="ffffff"/>
              </a:solidFill>
              <a:latin typeface="Times New Roman"/>
            </a:endParaRPr>
          </a:p>
        </p:txBody>
      </p:sp>
      <p:sp>
        <p:nvSpPr>
          <p:cNvPr id="2359" name=""/>
          <p:cNvSpPr/>
          <p:nvPr/>
        </p:nvSpPr>
        <p:spPr>
          <a:xfrm>
            <a:off x="6378480" y="3595680"/>
            <a:ext cx="11034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ffffff"/>
              </a:solidFill>
              <a:latin typeface="Times New Roman"/>
            </a:endParaRPr>
          </a:p>
        </p:txBody>
      </p:sp>
      <p:sp>
        <p:nvSpPr>
          <p:cNvPr id="2360" name=""/>
          <p:cNvSpPr/>
          <p:nvPr/>
        </p:nvSpPr>
        <p:spPr>
          <a:xfrm>
            <a:off x="6418440" y="3718080"/>
            <a:ext cx="349200" cy="307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361" name=""/>
          <p:cNvSpPr/>
          <p:nvPr/>
        </p:nvSpPr>
        <p:spPr>
          <a:xfrm flipV="1">
            <a:off x="7024680" y="3730680"/>
            <a:ext cx="376200" cy="29664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362" name=""/>
          <p:cNvSpPr/>
          <p:nvPr/>
        </p:nvSpPr>
        <p:spPr>
          <a:xfrm>
            <a:off x="6945480" y="3932280"/>
            <a:ext cx="1976400" cy="6670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Sec with Kerberos Authentication</a:t>
            </a:r>
            <a:endParaRPr b="0" lang="en-US" sz="1400" spc="-1" strike="noStrike">
              <a:solidFill>
                <a:srgbClr val="ffffff"/>
              </a:solidFill>
              <a:latin typeface="Times New Roman"/>
            </a:endParaRPr>
          </a:p>
        </p:txBody>
      </p:sp>
      <p:sp>
        <p:nvSpPr>
          <p:cNvPr id="2363" name=""/>
          <p:cNvSpPr/>
          <p:nvPr/>
        </p:nvSpPr>
        <p:spPr>
          <a:xfrm>
            <a:off x="700200" y="4765680"/>
            <a:ext cx="7610400" cy="192816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cf00"/>
                </a:solidFill>
                <a:latin typeface="Arial"/>
              </a:rPr>
              <a:t>Change IPSec policy on serverA and clientB to use certificate authentication first, use certificate from CA0 Root, then Kerberos.</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cf00"/>
                </a:solidFill>
                <a:latin typeface="Arial"/>
              </a:rPr>
              <a:t>Requiring CA0 root allows both sides to use their own CA certificate for IKE authentication</a:t>
            </a:r>
            <a:endParaRPr b="0" lang="en-US" sz="2400" spc="-1" strike="noStrike">
              <a:solidFill>
                <a:srgbClr val="ffffff"/>
              </a:solidFill>
              <a:latin typeface="Times New Roman"/>
            </a:endParaRPr>
          </a:p>
        </p:txBody>
      </p:sp>
      <p:grpSp>
        <p:nvGrpSpPr>
          <p:cNvPr id="2364" name=""/>
          <p:cNvGrpSpPr/>
          <p:nvPr/>
        </p:nvGrpSpPr>
        <p:grpSpPr>
          <a:xfrm>
            <a:off x="2743200" y="985680"/>
            <a:ext cx="3689280" cy="2472480"/>
            <a:chOff x="2743200" y="985680"/>
            <a:chExt cx="3689280" cy="2472480"/>
          </a:xfrm>
        </p:grpSpPr>
        <p:sp>
          <p:nvSpPr>
            <p:cNvPr id="2365" name=""/>
            <p:cNvSpPr/>
            <p:nvPr/>
          </p:nvSpPr>
          <p:spPr>
            <a:xfrm>
              <a:off x="3200400" y="2619360"/>
              <a:ext cx="1587600" cy="8323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enroll server in CA1</a:t>
              </a:r>
              <a:endParaRPr b="0" lang="en-US" sz="1800" spc="-1" strike="noStrike">
                <a:solidFill>
                  <a:srgbClr val="ffffff"/>
                </a:solidFill>
                <a:latin typeface="Times New Roman"/>
              </a:endParaRPr>
            </a:p>
          </p:txBody>
        </p:sp>
        <p:sp>
          <p:nvSpPr>
            <p:cNvPr id="2366" name=""/>
            <p:cNvSpPr/>
            <p:nvPr/>
          </p:nvSpPr>
          <p:spPr>
            <a:xfrm>
              <a:off x="4630680" y="2625840"/>
              <a:ext cx="1548000" cy="8323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enroll client in CA2</a:t>
              </a:r>
              <a:endParaRPr b="0" lang="en-US" sz="1800" spc="-1" strike="noStrike">
                <a:solidFill>
                  <a:srgbClr val="ffffff"/>
                </a:solidFill>
                <a:latin typeface="Times New Roman"/>
              </a:endParaRPr>
            </a:p>
          </p:txBody>
        </p:sp>
        <p:grpSp>
          <p:nvGrpSpPr>
            <p:cNvPr id="2367" name=""/>
            <p:cNvGrpSpPr/>
            <p:nvPr/>
          </p:nvGrpSpPr>
          <p:grpSpPr>
            <a:xfrm>
              <a:off x="2743200" y="985680"/>
              <a:ext cx="3689280" cy="2435400"/>
              <a:chOff x="2743200" y="985680"/>
              <a:chExt cx="3689280" cy="2435400"/>
            </a:xfrm>
          </p:grpSpPr>
          <p:grpSp>
            <p:nvGrpSpPr>
              <p:cNvPr id="2368" name=""/>
              <p:cNvGrpSpPr/>
              <p:nvPr/>
            </p:nvGrpSpPr>
            <p:grpSpPr>
              <a:xfrm>
                <a:off x="2743200" y="1841400"/>
                <a:ext cx="1278000" cy="712800"/>
                <a:chOff x="2743200" y="1841400"/>
                <a:chExt cx="1278000" cy="712800"/>
              </a:xfrm>
            </p:grpSpPr>
            <p:sp>
              <p:nvSpPr>
                <p:cNvPr id="2369" name=""/>
                <p:cNvSpPr/>
                <p:nvPr/>
              </p:nvSpPr>
              <p:spPr>
                <a:xfrm>
                  <a:off x="2743200" y="184140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2370" name=""/>
                <p:cNvSpPr/>
                <p:nvPr/>
              </p:nvSpPr>
              <p:spPr>
                <a:xfrm>
                  <a:off x="2892600" y="203040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1</a:t>
                  </a:r>
                  <a:endParaRPr b="0" lang="en-US" sz="2400" spc="-1" strike="noStrike">
                    <a:solidFill>
                      <a:srgbClr val="ffffff"/>
                    </a:solidFill>
                    <a:latin typeface="Times New Roman"/>
                  </a:endParaRPr>
                </a:p>
              </p:txBody>
            </p:sp>
          </p:grpSp>
          <p:grpSp>
            <p:nvGrpSpPr>
              <p:cNvPr id="2371" name=""/>
              <p:cNvGrpSpPr/>
              <p:nvPr/>
            </p:nvGrpSpPr>
            <p:grpSpPr>
              <a:xfrm>
                <a:off x="5154480" y="1886040"/>
                <a:ext cx="1278000" cy="712800"/>
                <a:chOff x="5154480" y="1886040"/>
                <a:chExt cx="1278000" cy="712800"/>
              </a:xfrm>
            </p:grpSpPr>
            <p:sp>
              <p:nvSpPr>
                <p:cNvPr id="2372" name=""/>
                <p:cNvSpPr/>
                <p:nvPr/>
              </p:nvSpPr>
              <p:spPr>
                <a:xfrm>
                  <a:off x="5154480" y="1886040"/>
                  <a:ext cx="1278000" cy="712800"/>
                </a:xfrm>
                <a:prstGeom prst="ellipse">
                  <a:avLst/>
                </a:prstGeom>
                <a:noFill/>
                <a:ln w="9360">
                  <a:solidFill>
                    <a:srgbClr val="ffffff"/>
                  </a:solidFill>
                  <a:miter/>
                </a:ln>
              </p:spPr>
              <p:style>
                <a:lnRef idx="0"/>
                <a:fillRef idx="0"/>
                <a:effectRef idx="0"/>
                <a:fontRef idx="minor"/>
              </p:style>
              <p:txBody>
                <a:bodyPr wrap="none" lIns="182520" rIns="182520" anchor="ctr">
                  <a:spAutoFit/>
                </a:bodyPr>
                <a:p>
                  <a:endParaRPr b="0" lang="en-US" sz="2400" spc="-1" strike="noStrike">
                    <a:solidFill>
                      <a:srgbClr val="ffffff"/>
                    </a:solidFill>
                    <a:latin typeface="Times New Roman"/>
                  </a:endParaRPr>
                </a:p>
              </p:txBody>
            </p:sp>
            <p:sp>
              <p:nvSpPr>
                <p:cNvPr id="2373" name=""/>
                <p:cNvSpPr/>
                <p:nvPr/>
              </p:nvSpPr>
              <p:spPr>
                <a:xfrm>
                  <a:off x="5303880" y="2075040"/>
                  <a:ext cx="993600" cy="4215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2</a:t>
                  </a:r>
                  <a:endParaRPr b="0" lang="en-US" sz="2400" spc="-1" strike="noStrike">
                    <a:solidFill>
                      <a:srgbClr val="ffffff"/>
                    </a:solidFill>
                    <a:latin typeface="Times New Roman"/>
                  </a:endParaRPr>
                </a:p>
              </p:txBody>
            </p:sp>
          </p:grpSp>
          <p:sp>
            <p:nvSpPr>
              <p:cNvPr id="2374" name=""/>
              <p:cNvSpPr/>
              <p:nvPr/>
            </p:nvSpPr>
            <p:spPr>
              <a:xfrm>
                <a:off x="3689280" y="985680"/>
                <a:ext cx="1639800" cy="1009800"/>
              </a:xfrm>
              <a:prstGeom prst="ellipse">
                <a:avLst/>
              </a:prstGeom>
              <a:noFill/>
              <a:ln w="9360">
                <a:solidFill>
                  <a:srgbClr val="ffffff"/>
                </a:solidFill>
                <a:miter/>
              </a:ln>
            </p:spPr>
            <p:style>
              <a:lnRef idx="0"/>
              <a:fillRef idx="0"/>
              <a:effectRef idx="0"/>
              <a:fontRef idx="minor"/>
            </p:style>
            <p:txBody>
              <a:bodyPr lIns="182520" rIns="182520" anchor="ctr">
                <a:spAutoFit/>
              </a:bodyPr>
              <a:p>
                <a:endParaRPr b="0" lang="en-US" sz="2400" spc="-1" strike="noStrike">
                  <a:solidFill>
                    <a:srgbClr val="ffffff"/>
                  </a:solidFill>
                  <a:latin typeface="Times New Roman"/>
                </a:endParaRPr>
              </a:p>
            </p:txBody>
          </p:sp>
          <p:sp>
            <p:nvSpPr>
              <p:cNvPr id="2375" name=""/>
              <p:cNvSpPr/>
              <p:nvPr/>
            </p:nvSpPr>
            <p:spPr>
              <a:xfrm>
                <a:off x="3706920" y="1108080"/>
                <a:ext cx="1569960" cy="9154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0 Common Root</a:t>
                </a:r>
                <a:endParaRPr b="0" lang="en-US" sz="2000" spc="-1" strike="noStrike">
                  <a:solidFill>
                    <a:srgbClr val="ffffff"/>
                  </a:solidFill>
                  <a:latin typeface="Times New Roman"/>
                </a:endParaRPr>
              </a:p>
            </p:txBody>
          </p:sp>
          <p:sp>
            <p:nvSpPr>
              <p:cNvPr id="2376" name=""/>
              <p:cNvSpPr/>
              <p:nvPr/>
            </p:nvSpPr>
            <p:spPr>
              <a:xfrm flipH="1">
                <a:off x="3805200" y="1639800"/>
                <a:ext cx="349200" cy="40500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377" name=""/>
              <p:cNvSpPr/>
              <p:nvPr/>
            </p:nvSpPr>
            <p:spPr>
              <a:xfrm>
                <a:off x="4921200" y="1666800"/>
                <a:ext cx="484200" cy="390600"/>
              </a:xfrm>
              <a:prstGeom prst="line">
                <a:avLst/>
              </a:prstGeom>
              <a:ln w="9360">
                <a:solidFill>
                  <a:srgbClr val="ffffff"/>
                </a:solidFill>
                <a:miter/>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2378" name=""/>
              <p:cNvSpPr/>
              <p:nvPr/>
            </p:nvSpPr>
            <p:spPr>
              <a:xfrm>
                <a:off x="3174840" y="2581200"/>
                <a:ext cx="241560" cy="835200"/>
              </a:xfrm>
              <a:custGeom>
                <a:avLst/>
                <a:gdLst/>
                <a:ahLst/>
                <a:rect l="l" t="t" r="r" b="b"/>
                <a:pathLst>
                  <a:path w="152" h="526">
                    <a:moveTo>
                      <a:pt x="152" y="0"/>
                    </a:moveTo>
                    <a:cubicBezTo>
                      <a:pt x="84" y="79"/>
                      <a:pt x="16" y="158"/>
                      <a:pt x="8" y="246"/>
                    </a:cubicBezTo>
                    <a:cubicBezTo>
                      <a:pt x="0" y="334"/>
                      <a:pt x="50" y="430"/>
                      <a:pt x="101" y="526"/>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sp>
            <p:nvSpPr>
              <p:cNvPr id="2379" name=""/>
              <p:cNvSpPr/>
              <p:nvPr/>
            </p:nvSpPr>
            <p:spPr>
              <a:xfrm flipH="1">
                <a:off x="5924520" y="2585880"/>
                <a:ext cx="241200" cy="835200"/>
              </a:xfrm>
              <a:custGeom>
                <a:avLst/>
                <a:gdLst/>
                <a:ahLst/>
                <a:rect l="l" t="t" r="r" b="b"/>
                <a:pathLst>
                  <a:path w="152" h="526">
                    <a:moveTo>
                      <a:pt x="152" y="0"/>
                    </a:moveTo>
                    <a:cubicBezTo>
                      <a:pt x="84" y="79"/>
                      <a:pt x="16" y="158"/>
                      <a:pt x="8" y="246"/>
                    </a:cubicBezTo>
                    <a:cubicBezTo>
                      <a:pt x="0" y="334"/>
                      <a:pt x="50" y="430"/>
                      <a:pt x="101" y="526"/>
                    </a:cubicBezTo>
                  </a:path>
                </a:pathLst>
              </a:custGeom>
              <a:noFill/>
              <a:ln w="9360">
                <a:solidFill>
                  <a:srgbClr val="ffffff"/>
                </a:solidFill>
                <a:round/>
                <a:tailEnd len="med" type="triangle" w="med"/>
              </a:ln>
            </p:spPr>
            <p:style>
              <a:lnRef idx="0"/>
              <a:fillRef idx="0"/>
              <a:effectRef idx="0"/>
              <a:fontRef idx="minor"/>
            </p:style>
            <p:txBody>
              <a:bodyPr lIns="182520" rIns="182520" anchor="t">
                <a:spAutoFit/>
              </a:bodyPr>
              <a:p>
                <a:endParaRPr b="0" lang="en-US" sz="2400" spc="-1" strike="noStrike">
                  <a:solidFill>
                    <a:srgbClr val="ffffff"/>
                  </a:solidFill>
                  <a:latin typeface="Times New Roman"/>
                </a:endParaRPr>
              </a:p>
            </p:txBody>
          </p:sp>
        </p:grpSp>
      </p:grpSp>
      <p:grpSp>
        <p:nvGrpSpPr>
          <p:cNvPr id="2380" name=""/>
          <p:cNvGrpSpPr/>
          <p:nvPr/>
        </p:nvGrpSpPr>
        <p:grpSpPr>
          <a:xfrm>
            <a:off x="3452760" y="3654000"/>
            <a:ext cx="2183040" cy="955440"/>
            <a:chOff x="3452760" y="3654000"/>
            <a:chExt cx="2183040" cy="955440"/>
          </a:xfrm>
        </p:grpSpPr>
        <p:sp>
          <p:nvSpPr>
            <p:cNvPr id="2381" name=""/>
            <p:cNvSpPr/>
            <p:nvPr/>
          </p:nvSpPr>
          <p:spPr>
            <a:xfrm flipV="1">
              <a:off x="3639960" y="3654000"/>
              <a:ext cx="1692360" cy="1800"/>
            </a:xfrm>
            <a:prstGeom prst="line">
              <a:avLst/>
            </a:prstGeom>
            <a:ln w="25560">
              <a:solidFill>
                <a:srgbClr val="ffffff"/>
              </a:solidFill>
              <a:miter/>
              <a:headEnd len="med" type="triangle" w="med"/>
              <a:tailEnd len="med" type="triangle" w="med"/>
            </a:ln>
          </p:spPr>
          <p:style>
            <a:lnRef idx="0"/>
            <a:fillRef idx="0"/>
            <a:effectRef idx="0"/>
            <a:fontRef idx="minor"/>
          </p:style>
          <p:txBody>
            <a:bodyPr lIns="182520" rIns="182520" tIns="-43920" bIns="-43920" anchor="t">
              <a:noAutofit/>
            </a:bodyPr>
            <a:p>
              <a:endParaRPr b="0" lang="en-US" sz="2400" spc="-1" strike="noStrike">
                <a:solidFill>
                  <a:srgbClr val="ffffff"/>
                </a:solidFill>
                <a:latin typeface="Times New Roman"/>
              </a:endParaRPr>
            </a:p>
          </p:txBody>
        </p:sp>
        <p:sp>
          <p:nvSpPr>
            <p:cNvPr id="2382" name=""/>
            <p:cNvSpPr/>
            <p:nvPr/>
          </p:nvSpPr>
          <p:spPr>
            <a:xfrm>
              <a:off x="3452760" y="3693960"/>
              <a:ext cx="2183040" cy="915480"/>
            </a:xfrm>
            <a:prstGeom prst="rect">
              <a:avLst/>
            </a:prstGeom>
            <a:noFill/>
            <a:ln w="0">
              <a:noFill/>
            </a:ln>
          </p:spPr>
          <p:style>
            <a:lnRef idx="0"/>
            <a:fillRef idx="0"/>
            <a:effectRef idx="0"/>
            <a:fontRef idx="minor"/>
          </p:style>
          <p:txBody>
            <a:bodyPr lIns="182520" rIns="18252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Sec works using IKE cert authentication</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365040" y="228240"/>
            <a:ext cx="8431200" cy="1190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Other Ways to Deploy Machine Certificates</a:t>
            </a:r>
            <a:endParaRPr b="1" lang="en-US" sz="4000" spc="-1" strike="noStrike">
              <a:solidFill>
                <a:srgbClr val="fccf00"/>
              </a:solidFill>
              <a:latin typeface="Arial"/>
            </a:endParaRPr>
          </a:p>
        </p:txBody>
      </p:sp>
      <p:sp>
        <p:nvSpPr>
          <p:cNvPr id="2384" name="PlaceHolder 2"/>
          <p:cNvSpPr>
            <a:spLocks noGrp="1"/>
          </p:cNvSpPr>
          <p:nvPr>
            <p:ph/>
          </p:nvPr>
        </p:nvSpPr>
        <p:spPr>
          <a:xfrm>
            <a:off x="222120" y="1325520"/>
            <a:ext cx="8686800" cy="5788080"/>
          </a:xfrm>
          <a:prstGeom prst="rect">
            <a:avLst/>
          </a:prstGeom>
          <a:noFill/>
          <a:ln w="0">
            <a:noFill/>
          </a:ln>
        </p:spPr>
        <p:txBody>
          <a:bodyPr lIns="182520" rIns="182520" tIns="46080" bIns="46080" anchor="t">
            <a:normAutofit/>
          </a:bodyPr>
          <a:p>
            <a:pPr marL="577800" indent="-57780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dministrator privilege required to install certificate</a:t>
            </a:r>
            <a:endParaRPr b="1" lang="en-US" sz="2000" spc="-1" strike="noStrike">
              <a:solidFill>
                <a:srgbClr val="ffffff"/>
              </a:solidFill>
              <a:latin typeface="Arial"/>
            </a:endParaRPr>
          </a:p>
          <a:p>
            <a:pPr marL="577800" indent="-57780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et Explorer - enroll using CA web page</a:t>
            </a:r>
            <a:endParaRPr b="1" lang="en-US" sz="2000" spc="-1" strike="noStrike">
              <a:solidFill>
                <a:srgbClr val="ffffff"/>
              </a:solidFill>
              <a:latin typeface="Arial"/>
            </a:endParaRPr>
          </a:p>
          <a:p>
            <a:pPr lvl="1" marL="1030320" indent="-45072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 controls on web page</a:t>
            </a:r>
            <a:endParaRPr b="1" lang="en-US" sz="1800" spc="-1" strike="noStrike">
              <a:solidFill>
                <a:srgbClr val="ffffff"/>
              </a:solidFill>
              <a:latin typeface="Arial"/>
            </a:endParaRPr>
          </a:p>
          <a:p>
            <a:pPr lvl="2" marL="1498680" indent="-466920">
              <a:lnSpc>
                <a:spcPct val="9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TTP user auth for web page for IIS in domain</a:t>
            </a:r>
            <a:endParaRPr b="1" lang="en-US" sz="1600" spc="-1" strike="noStrike">
              <a:solidFill>
                <a:srgbClr val="ffffff"/>
              </a:solidFill>
              <a:latin typeface="Arial"/>
            </a:endParaRPr>
          </a:p>
          <a:p>
            <a:pPr lvl="2" marL="1498680" indent="-466920">
              <a:lnSpc>
                <a:spcPct val="9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SL client auth for web page</a:t>
            </a:r>
            <a:endParaRPr b="1" lang="en-US" sz="1600" spc="-1" strike="noStrike">
              <a:solidFill>
                <a:srgbClr val="ffffff"/>
              </a:solidFill>
              <a:latin typeface="Arial"/>
            </a:endParaRPr>
          </a:p>
          <a:p>
            <a:pPr lvl="1" marL="1030320" indent="-45072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can remote client get group policy for CA autoenroll to internal CA ?</a:t>
            </a:r>
            <a:endParaRPr b="1" lang="en-US" sz="1800" spc="-1" strike="noStrike">
              <a:solidFill>
                <a:srgbClr val="ffffff"/>
              </a:solidFill>
              <a:latin typeface="Arial"/>
            </a:endParaRPr>
          </a:p>
          <a:p>
            <a:pPr lvl="2" marL="1498680" indent="-466920">
              <a:lnSpc>
                <a:spcPct val="9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Logon using dialup networking” over modem RAS or PPTP connection</a:t>
            </a:r>
            <a:endParaRPr b="1" lang="en-US" sz="1600" spc="-1" strike="noStrike">
              <a:solidFill>
                <a:srgbClr val="ffffff"/>
              </a:solidFill>
              <a:latin typeface="Arial"/>
            </a:endParaRPr>
          </a:p>
          <a:p>
            <a:pPr lvl="2" marL="1498680" indent="-466920">
              <a:lnSpc>
                <a:spcPct val="90000"/>
              </a:lnSpc>
              <a:spcBef>
                <a:spcPts val="6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S logon script runs: Secedit /refresh_policy machine policy</a:t>
            </a:r>
            <a:endParaRPr b="1" lang="en-US" sz="1600" spc="-1" strike="noStrike">
              <a:solidFill>
                <a:srgbClr val="ffffff"/>
              </a:solidFill>
              <a:latin typeface="Arial"/>
            </a:endParaRPr>
          </a:p>
          <a:p>
            <a:pPr marL="577800" indent="-57780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MMC Snapin</a:t>
            </a:r>
            <a:endParaRPr b="1" lang="en-US" sz="2000" spc="-1" strike="noStrike">
              <a:solidFill>
                <a:srgbClr val="ffffff"/>
              </a:solidFill>
              <a:latin typeface="Arial"/>
            </a:endParaRPr>
          </a:p>
          <a:p>
            <a:pPr lvl="1" marL="1030320" indent="-45072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quest Cert…” looks for Microsoft CAs in Active Directory</a:t>
            </a:r>
            <a:endParaRPr b="1" lang="en-US" sz="1800" spc="-1" strike="noStrike">
              <a:solidFill>
                <a:srgbClr val="ffffff"/>
              </a:solidFill>
              <a:latin typeface="Arial"/>
            </a:endParaRPr>
          </a:p>
          <a:p>
            <a:pPr lvl="1" marL="1030320" indent="-45072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rtificate import wizard uses PCKS #12</a:t>
            </a:r>
            <a:endParaRPr b="1" lang="en-US" sz="1800" spc="-1" strike="noStrike">
              <a:solidFill>
                <a:srgbClr val="ffffff"/>
              </a:solidFill>
              <a:latin typeface="Arial"/>
            </a:endParaRPr>
          </a:p>
          <a:p>
            <a:pPr marL="577800" indent="-57780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 admin exports cert &amp; keys encrypted with PIN as PKCS#12</a:t>
            </a:r>
            <a:endParaRPr b="1" lang="en-US" sz="2000" spc="-1" strike="noStrike">
              <a:solidFill>
                <a:srgbClr val="ffffff"/>
              </a:solidFill>
              <a:latin typeface="Arial"/>
            </a:endParaRPr>
          </a:p>
          <a:p>
            <a:pPr lvl="1" marL="1030320" indent="-45072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ail it, Mail it on a floppy</a:t>
            </a:r>
            <a:endParaRPr b="1" lang="en-US" sz="1800" spc="-1" strike="noStrike">
              <a:solidFill>
                <a:srgbClr val="ffffff"/>
              </a:solidFill>
              <a:latin typeface="Arial"/>
            </a:endParaRPr>
          </a:p>
          <a:p>
            <a:pPr lvl="1" marL="1030320" indent="-45072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for PIN, or use predefined PIN scheme</a:t>
            </a:r>
            <a:endParaRPr b="1" lang="en-US" sz="1800" spc="-1" strike="noStrike">
              <a:solidFill>
                <a:srgbClr val="ffffff"/>
              </a:solidFill>
              <a:latin typeface="Arial"/>
            </a:endParaRPr>
          </a:p>
          <a:p>
            <a:pPr lvl="1" marL="1030320" indent="-450720">
              <a:lnSpc>
                <a:spcPct val="90000"/>
              </a:lnSpc>
              <a:spcBef>
                <a:spcPts val="675"/>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l admin imports with MMC certificate snapin</a:t>
            </a:r>
            <a:endParaRPr b="1" lang="en-US" sz="1800" spc="-1" strike="noStrike">
              <a:solidFill>
                <a:srgbClr val="ffffff"/>
              </a:solidFill>
              <a:latin typeface="Arial"/>
            </a:endParaRPr>
          </a:p>
          <a:p>
            <a:pPr marL="577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5" name="PlaceHolder 1"/>
          <p:cNvSpPr>
            <a:spLocks noGrp="1"/>
          </p:cNvSpPr>
          <p:nvPr>
            <p:ph type="title"/>
          </p:nvPr>
        </p:nvSpPr>
        <p:spPr>
          <a:xfrm>
            <a:off x="365040" y="228240"/>
            <a:ext cx="8431200" cy="1298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IPSec Policy Consideration for Certificate CRL Checking</a:t>
            </a:r>
            <a:endParaRPr b="1" lang="en-US" sz="4400" spc="-1" strike="noStrike">
              <a:solidFill>
                <a:srgbClr val="fccf00"/>
              </a:solidFill>
              <a:latin typeface="Arial"/>
            </a:endParaRPr>
          </a:p>
        </p:txBody>
      </p:sp>
      <p:sp>
        <p:nvSpPr>
          <p:cNvPr id="2386" name="PlaceHolder 2"/>
          <p:cNvSpPr>
            <a:spLocks noGrp="1"/>
          </p:cNvSpPr>
          <p:nvPr>
            <p:ph/>
          </p:nvPr>
        </p:nvSpPr>
        <p:spPr>
          <a:xfrm>
            <a:off x="380880" y="1677960"/>
            <a:ext cx="8763120" cy="4812840"/>
          </a:xfrm>
          <a:prstGeom prst="rect">
            <a:avLst/>
          </a:prstGeom>
          <a:noFill/>
          <a:ln w="0">
            <a:noFill/>
          </a:ln>
        </p:spPr>
        <p:txBody>
          <a:bodyPr lIns="182520" rIns="182520" tIns="46080" bIns="46080" anchor="t">
            <a:normAutofit/>
          </a:bodyPr>
          <a:p>
            <a:pPr marL="577800" indent="-57780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KE does not request CRL checking by default</a:t>
            </a:r>
            <a:endParaRPr b="1" lang="en-US" sz="2800" spc="-1" strike="noStrike">
              <a:solidFill>
                <a:srgbClr val="ffffff"/>
              </a:solidFill>
              <a:latin typeface="Arial"/>
            </a:endParaRPr>
          </a:p>
          <a:p>
            <a:pPr lvl="1" marL="1030320" indent="-45072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ry key to enable, see KB Q253498 &amp; walkthrough</a:t>
            </a:r>
            <a:endParaRPr b="1" lang="en-US" sz="2400" spc="-1" strike="noStrike">
              <a:solidFill>
                <a:srgbClr val="ffffff"/>
              </a:solidFill>
              <a:latin typeface="Arial"/>
            </a:endParaRPr>
          </a:p>
          <a:p>
            <a:pPr marL="577800" indent="-57780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Server side CRL checking</a:t>
            </a:r>
            <a:endParaRPr b="1" lang="en-US" sz="2800" spc="-1" strike="noStrike">
              <a:solidFill>
                <a:srgbClr val="ffffff"/>
              </a:solidFill>
              <a:latin typeface="Arial"/>
            </a:endParaRPr>
          </a:p>
          <a:p>
            <a:pPr lvl="1" marL="1030320" indent="-45072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checks CRL distribution point on internal network</a:t>
            </a:r>
            <a:endParaRPr b="1" lang="en-US" sz="2400" spc="-1" strike="noStrike">
              <a:solidFill>
                <a:srgbClr val="ffffff"/>
              </a:solidFill>
              <a:latin typeface="Arial"/>
            </a:endParaRPr>
          </a:p>
          <a:p>
            <a:pPr lvl="1" marL="1030320" indent="-45072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revoking of machine cert for L2TP/IPSec without blocking all forms of userid/password login</a:t>
            </a:r>
            <a:endParaRPr b="1" lang="en-US" sz="2400" spc="-1" strike="noStrike">
              <a:solidFill>
                <a:srgbClr val="ffffff"/>
              </a:solidFill>
              <a:latin typeface="Arial"/>
            </a:endParaRPr>
          </a:p>
          <a:p>
            <a:pPr lvl="1" marL="1030320" indent="-45072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to allow CRL check through IPSec policy and other filtering</a:t>
            </a:r>
            <a:endParaRPr b="1" lang="en-US" sz="2400" spc="-1" strike="noStrike">
              <a:solidFill>
                <a:srgbClr val="ffffff"/>
              </a:solidFill>
              <a:latin typeface="Arial"/>
            </a:endParaRPr>
          </a:p>
          <a:p>
            <a:pPr marL="577800" indent="-57780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CRL checking on client side unless carefully plann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228240"/>
            <a:ext cx="8431200" cy="1190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IPSec Policy Integrated with Group Policy</a:t>
            </a:r>
            <a:endParaRPr b="1" lang="en-US" sz="4000" spc="-1" strike="noStrike">
              <a:solidFill>
                <a:srgbClr val="fccf00"/>
              </a:solidFill>
              <a:latin typeface="Arial"/>
            </a:endParaRPr>
          </a:p>
        </p:txBody>
      </p:sp>
      <p:pic>
        <p:nvPicPr>
          <p:cNvPr id="567" name="polpic" descr=""/>
          <p:cNvPicPr/>
          <p:nvPr/>
        </p:nvPicPr>
        <p:blipFill>
          <a:blip r:embed="rId2"/>
          <a:stretch/>
        </p:blipFill>
        <p:spPr>
          <a:xfrm>
            <a:off x="334800" y="1338120"/>
            <a:ext cx="8626680" cy="5519880"/>
          </a:xfrm>
          <a:prstGeom prst="rect">
            <a:avLst/>
          </a:prstGeom>
          <a:ln w="0">
            <a:noFill/>
          </a:ln>
        </p:spPr>
      </p:pic>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7" name="PlaceHolder 1"/>
          <p:cNvSpPr>
            <a:spLocks noGrp="1"/>
          </p:cNvSpPr>
          <p:nvPr>
            <p:ph type="title"/>
          </p:nvPr>
        </p:nvSpPr>
        <p:spPr>
          <a:xfrm>
            <a:off x="685800" y="2286000"/>
            <a:ext cx="77724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IPSec Tunnel Mode Deployment</a:t>
            </a:r>
            <a:endParaRPr b="1" lang="en-US" sz="4800" spc="-1" strike="noStrike">
              <a:solidFill>
                <a:srgbClr val="fccf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8" name="PlaceHolder 1"/>
          <p:cNvSpPr>
            <a:spLocks noGrp="1"/>
          </p:cNvSpPr>
          <p:nvPr>
            <p:ph type="title"/>
          </p:nvPr>
        </p:nvSpPr>
        <p:spPr>
          <a:xfrm>
            <a:off x="36504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IPSec AH Tunnel Mode</a:t>
            </a:r>
            <a:endParaRPr b="1" lang="en-US" sz="4000" spc="-1" strike="noStrike">
              <a:solidFill>
                <a:srgbClr val="fccf00"/>
              </a:solidFill>
              <a:latin typeface="Arial"/>
            </a:endParaRPr>
          </a:p>
        </p:txBody>
      </p:sp>
      <p:grpSp>
        <p:nvGrpSpPr>
          <p:cNvPr id="2389" name=""/>
          <p:cNvGrpSpPr/>
          <p:nvPr/>
        </p:nvGrpSpPr>
        <p:grpSpPr>
          <a:xfrm>
            <a:off x="1576440" y="1981080"/>
            <a:ext cx="5958000" cy="471600"/>
            <a:chOff x="1576440" y="1981080"/>
            <a:chExt cx="5958000" cy="471600"/>
          </a:xfrm>
        </p:grpSpPr>
        <p:sp>
          <p:nvSpPr>
            <p:cNvPr id="2390" name=""/>
            <p:cNvSpPr/>
            <p:nvPr/>
          </p:nvSpPr>
          <p:spPr>
            <a:xfrm>
              <a:off x="1603440" y="2008080"/>
              <a:ext cx="173988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a:off x="3355920" y="2008080"/>
              <a:ext cx="128268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a:off x="4651200" y="2008080"/>
              <a:ext cx="288324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5157000" y="198108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2394" name=""/>
            <p:cNvSpPr/>
            <p:nvPr/>
          </p:nvSpPr>
          <p:spPr>
            <a:xfrm>
              <a:off x="3329280" y="1981080"/>
              <a:ext cx="128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 Hdr</a:t>
              </a:r>
              <a:endParaRPr b="0" lang="en-US" sz="2400" spc="-1" strike="noStrike">
                <a:solidFill>
                  <a:srgbClr val="ffffff"/>
                </a:solidFill>
                <a:latin typeface="Times New Roman"/>
              </a:endParaRPr>
            </a:p>
          </p:txBody>
        </p:sp>
        <p:sp>
          <p:nvSpPr>
            <p:cNvPr id="2395" name=""/>
            <p:cNvSpPr/>
            <p:nvPr/>
          </p:nvSpPr>
          <p:spPr>
            <a:xfrm>
              <a:off x="1576440" y="1981080"/>
              <a:ext cx="1638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ig IP Hdr</a:t>
              </a:r>
              <a:endParaRPr b="0" lang="en-US" sz="2400" spc="-1" strike="noStrike">
                <a:solidFill>
                  <a:srgbClr val="ffffff"/>
                </a:solidFill>
                <a:latin typeface="Times New Roman"/>
              </a:endParaRPr>
            </a:p>
          </p:txBody>
        </p:sp>
      </p:grpSp>
      <p:sp>
        <p:nvSpPr>
          <p:cNvPr id="2396" name=""/>
          <p:cNvSpPr/>
          <p:nvPr/>
        </p:nvSpPr>
        <p:spPr>
          <a:xfrm>
            <a:off x="1824120" y="4405320"/>
            <a:ext cx="68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ity hash coverage (except for mutable new IP hdr fields)</a:t>
            </a:r>
            <a:endParaRPr b="0" lang="en-US" sz="1800" spc="-1" strike="noStrike">
              <a:solidFill>
                <a:srgbClr val="ffffff"/>
              </a:solidFill>
              <a:latin typeface="Times New Roman"/>
            </a:endParaRPr>
          </a:p>
        </p:txBody>
      </p:sp>
      <p:sp>
        <p:nvSpPr>
          <p:cNvPr id="2397" name=""/>
          <p:cNvSpPr/>
          <p:nvPr/>
        </p:nvSpPr>
        <p:spPr>
          <a:xfrm>
            <a:off x="333360" y="4295880"/>
            <a:ext cx="8640720" cy="0"/>
          </a:xfrm>
          <a:prstGeom prst="line">
            <a:avLst/>
          </a:prstGeom>
          <a:ln w="12600">
            <a:solidFill>
              <a:srgbClr val="ffffff"/>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8" name=""/>
          <p:cNvSpPr/>
          <p:nvPr/>
        </p:nvSpPr>
        <p:spPr>
          <a:xfrm>
            <a:off x="345960" y="3533760"/>
            <a:ext cx="1447920" cy="4572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 Hdr</a:t>
            </a:r>
            <a:endParaRPr b="0" lang="en-US" sz="2400" spc="-1" strike="noStrike">
              <a:solidFill>
                <a:srgbClr val="ffffff"/>
              </a:solidFill>
              <a:latin typeface="Times New Roman"/>
            </a:endParaRPr>
          </a:p>
        </p:txBody>
      </p:sp>
      <p:sp>
        <p:nvSpPr>
          <p:cNvPr id="2399" name=""/>
          <p:cNvSpPr/>
          <p:nvPr/>
        </p:nvSpPr>
        <p:spPr>
          <a:xfrm>
            <a:off x="2784600" y="3533760"/>
            <a:ext cx="2286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0" name=""/>
          <p:cNvSpPr/>
          <p:nvPr/>
        </p:nvSpPr>
        <p:spPr>
          <a:xfrm>
            <a:off x="1717560" y="3533760"/>
            <a:ext cx="135432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H Hdr</a:t>
            </a:r>
            <a:endParaRPr b="0" lang="en-US" sz="2400" spc="-1" strike="noStrike">
              <a:solidFill>
                <a:srgbClr val="ffffff"/>
              </a:solidFill>
              <a:latin typeface="Times New Roman"/>
            </a:endParaRPr>
          </a:p>
        </p:txBody>
      </p:sp>
      <p:sp>
        <p:nvSpPr>
          <p:cNvPr id="2401" name=""/>
          <p:cNvSpPr/>
          <p:nvPr/>
        </p:nvSpPr>
        <p:spPr>
          <a:xfrm flipH="1">
            <a:off x="533520" y="3581280"/>
            <a:ext cx="838080" cy="144792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2402" name=""/>
          <p:cNvSpPr/>
          <p:nvPr/>
        </p:nvSpPr>
        <p:spPr>
          <a:xfrm flipH="1">
            <a:off x="533520" y="3581280"/>
            <a:ext cx="838080" cy="144792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2403" name=""/>
          <p:cNvSpPr/>
          <p:nvPr/>
        </p:nvSpPr>
        <p:spPr>
          <a:xfrm>
            <a:off x="1593720" y="2471760"/>
            <a:ext cx="1447920" cy="10126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4" name=""/>
          <p:cNvSpPr/>
          <p:nvPr/>
        </p:nvSpPr>
        <p:spPr>
          <a:xfrm>
            <a:off x="7537320" y="2482920"/>
            <a:ext cx="1382760" cy="10508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05" name=""/>
          <p:cNvGrpSpPr/>
          <p:nvPr/>
        </p:nvGrpSpPr>
        <p:grpSpPr>
          <a:xfrm>
            <a:off x="3013200" y="3517920"/>
            <a:ext cx="5957280" cy="471600"/>
            <a:chOff x="3013200" y="3517920"/>
            <a:chExt cx="5957280" cy="471600"/>
          </a:xfrm>
        </p:grpSpPr>
        <p:sp>
          <p:nvSpPr>
            <p:cNvPr id="2406" name=""/>
            <p:cNvSpPr/>
            <p:nvPr/>
          </p:nvSpPr>
          <p:spPr>
            <a:xfrm>
              <a:off x="3039840" y="3544920"/>
              <a:ext cx="173952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7" name=""/>
            <p:cNvSpPr/>
            <p:nvPr/>
          </p:nvSpPr>
          <p:spPr>
            <a:xfrm>
              <a:off x="4792320" y="3544920"/>
              <a:ext cx="128232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8" name=""/>
            <p:cNvSpPr/>
            <p:nvPr/>
          </p:nvSpPr>
          <p:spPr>
            <a:xfrm>
              <a:off x="6087600" y="3544920"/>
              <a:ext cx="288288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9" name=""/>
            <p:cNvSpPr/>
            <p:nvPr/>
          </p:nvSpPr>
          <p:spPr>
            <a:xfrm>
              <a:off x="6593040" y="351792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2410" name=""/>
            <p:cNvSpPr/>
            <p:nvPr/>
          </p:nvSpPr>
          <p:spPr>
            <a:xfrm>
              <a:off x="4765680" y="3517920"/>
              <a:ext cx="128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 Hdr</a:t>
              </a:r>
              <a:endParaRPr b="0" lang="en-US" sz="2400" spc="-1" strike="noStrike">
                <a:solidFill>
                  <a:srgbClr val="ffffff"/>
                </a:solidFill>
                <a:latin typeface="Times New Roman"/>
              </a:endParaRPr>
            </a:p>
          </p:txBody>
        </p:sp>
        <p:sp>
          <p:nvSpPr>
            <p:cNvPr id="2411" name=""/>
            <p:cNvSpPr/>
            <p:nvPr/>
          </p:nvSpPr>
          <p:spPr>
            <a:xfrm>
              <a:off x="3013200" y="3517920"/>
              <a:ext cx="1638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ig IP Hdr</a:t>
              </a:r>
              <a:endParaRPr b="0" lang="en-US" sz="2400" spc="-1" strike="noStrike">
                <a:solidFill>
                  <a:srgbClr val="ffffff"/>
                </a:solidFill>
                <a:latin typeface="Times New Roman"/>
              </a:endParaRPr>
            </a:p>
          </p:txBody>
        </p:sp>
      </p:grpSp>
      <p:sp>
        <p:nvSpPr>
          <p:cNvPr id="2412" name=""/>
          <p:cNvSpPr/>
          <p:nvPr/>
        </p:nvSpPr>
        <p:spPr>
          <a:xfrm>
            <a:off x="604800" y="5338800"/>
            <a:ext cx="436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IP header with source &amp; destination IP address</a:t>
            </a:r>
            <a:endParaRPr b="0" lang="en-US" sz="2400" spc="-1" strike="noStrike">
              <a:solidFill>
                <a:srgbClr val="ffffff"/>
              </a:solidFill>
              <a:latin typeface="Times New Roman"/>
            </a:endParaRPr>
          </a:p>
        </p:txBody>
      </p:sp>
      <p:sp>
        <p:nvSpPr>
          <p:cNvPr id="2413" name=""/>
          <p:cNvSpPr/>
          <p:nvPr/>
        </p:nvSpPr>
        <p:spPr>
          <a:xfrm rot="16204800">
            <a:off x="436320" y="3971520"/>
            <a:ext cx="1149480" cy="1358640"/>
          </a:xfrm>
          <a:custGeom>
            <a:avLst/>
            <a:gdLst>
              <a:gd name="textAreaLeft" fmla="*/ 734400 w 1149480"/>
              <a:gd name="textAreaRight" fmla="*/ 1149840 w 1149480"/>
              <a:gd name="textAreaTop" fmla="*/ 35280 h 1358640"/>
              <a:gd name="textAreaBottom" fmla="*/ 1323360 h 1358640"/>
            </a:gdLst>
            <a:ahLst/>
            <a:rect l="textAreaLeft" t="textAreaTop" r="textAreaRight" b="textAreaBottom"/>
            <a:pathLst>
              <a:path w="21600" h="21600">
                <a:moveTo>
                  <a:pt x="21600" y="0"/>
                </a:moveTo>
                <a:cubicBezTo>
                  <a:pt x="16200" y="0"/>
                  <a:pt x="10800" y="900"/>
                  <a:pt x="10800" y="1800"/>
                </a:cubicBezTo>
                <a:lnTo>
                  <a:pt x="10800" y="8243"/>
                </a:lnTo>
                <a:cubicBezTo>
                  <a:pt x="10800" y="9143"/>
                  <a:pt x="5400" y="10043"/>
                  <a:pt x="0" y="10043"/>
                </a:cubicBezTo>
                <a:cubicBezTo>
                  <a:pt x="5400" y="10043"/>
                  <a:pt x="10800" y="10943"/>
                  <a:pt x="10800" y="11843"/>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4" name="PlaceHolder 1"/>
          <p:cNvSpPr>
            <a:spLocks noGrp="1"/>
          </p:cNvSpPr>
          <p:nvPr>
            <p:ph type="title"/>
          </p:nvPr>
        </p:nvSpPr>
        <p:spPr>
          <a:xfrm>
            <a:off x="36504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IPSec ESP Tunnel Mode</a:t>
            </a:r>
            <a:endParaRPr b="1" lang="en-US" sz="4000" spc="-1" strike="noStrike">
              <a:solidFill>
                <a:srgbClr val="fccf00"/>
              </a:solidFill>
              <a:latin typeface="Arial"/>
            </a:endParaRPr>
          </a:p>
        </p:txBody>
      </p:sp>
      <p:grpSp>
        <p:nvGrpSpPr>
          <p:cNvPr id="2415" name=""/>
          <p:cNvGrpSpPr/>
          <p:nvPr/>
        </p:nvGrpSpPr>
        <p:grpSpPr>
          <a:xfrm>
            <a:off x="2119320" y="1981080"/>
            <a:ext cx="4897440" cy="471600"/>
            <a:chOff x="2119320" y="1981080"/>
            <a:chExt cx="4897440" cy="471600"/>
          </a:xfrm>
        </p:grpSpPr>
        <p:sp>
          <p:nvSpPr>
            <p:cNvPr id="2416" name=""/>
            <p:cNvSpPr/>
            <p:nvPr/>
          </p:nvSpPr>
          <p:spPr>
            <a:xfrm>
              <a:off x="3898800" y="2008080"/>
              <a:ext cx="128268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a:off x="5194440" y="2008080"/>
              <a:ext cx="182232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5699880" y="198108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2419" name=""/>
            <p:cNvSpPr/>
            <p:nvPr/>
          </p:nvSpPr>
          <p:spPr>
            <a:xfrm>
              <a:off x="3872160" y="1981080"/>
              <a:ext cx="128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 Hdr</a:t>
              </a:r>
              <a:endParaRPr b="0" lang="en-US" sz="2400" spc="-1" strike="noStrike">
                <a:solidFill>
                  <a:srgbClr val="ffffff"/>
                </a:solidFill>
                <a:latin typeface="Times New Roman"/>
              </a:endParaRPr>
            </a:p>
          </p:txBody>
        </p:sp>
        <p:grpSp>
          <p:nvGrpSpPr>
            <p:cNvPr id="2420" name=""/>
            <p:cNvGrpSpPr/>
            <p:nvPr/>
          </p:nvGrpSpPr>
          <p:grpSpPr>
            <a:xfrm>
              <a:off x="2119320" y="1981080"/>
              <a:ext cx="1766880" cy="471600"/>
              <a:chOff x="2119320" y="1981080"/>
              <a:chExt cx="1766880" cy="471600"/>
            </a:xfrm>
          </p:grpSpPr>
          <p:sp>
            <p:nvSpPr>
              <p:cNvPr id="2421" name=""/>
              <p:cNvSpPr/>
              <p:nvPr/>
            </p:nvSpPr>
            <p:spPr>
              <a:xfrm>
                <a:off x="2146320" y="2008080"/>
                <a:ext cx="1739880" cy="44460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2" name=""/>
              <p:cNvSpPr/>
              <p:nvPr/>
            </p:nvSpPr>
            <p:spPr>
              <a:xfrm>
                <a:off x="2119320" y="1981080"/>
                <a:ext cx="1638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ig IP Hdr</a:t>
                </a:r>
                <a:endParaRPr b="0" lang="en-US" sz="2400" spc="-1" strike="noStrike">
                  <a:solidFill>
                    <a:srgbClr val="ffffff"/>
                  </a:solidFill>
                  <a:latin typeface="Times New Roman"/>
                </a:endParaRPr>
              </a:p>
            </p:txBody>
          </p:sp>
        </p:grpSp>
      </p:grpSp>
      <p:sp>
        <p:nvSpPr>
          <p:cNvPr id="2423" name=""/>
          <p:cNvSpPr/>
          <p:nvPr/>
        </p:nvSpPr>
        <p:spPr>
          <a:xfrm>
            <a:off x="5958000" y="3051000"/>
            <a:ext cx="1622160" cy="45468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P Trailer</a:t>
            </a:r>
            <a:endParaRPr b="0" lang="en-US" sz="2400" spc="-1" strike="noStrike">
              <a:solidFill>
                <a:srgbClr val="ffffff"/>
              </a:solidFill>
              <a:latin typeface="Times New Roman"/>
            </a:endParaRPr>
          </a:p>
        </p:txBody>
      </p:sp>
      <p:grpSp>
        <p:nvGrpSpPr>
          <p:cNvPr id="2424" name=""/>
          <p:cNvGrpSpPr/>
          <p:nvPr/>
        </p:nvGrpSpPr>
        <p:grpSpPr>
          <a:xfrm>
            <a:off x="7539120" y="3049560"/>
            <a:ext cx="1397880" cy="454680"/>
            <a:chOff x="7539120" y="3049560"/>
            <a:chExt cx="1397880" cy="454680"/>
          </a:xfrm>
        </p:grpSpPr>
        <p:sp>
          <p:nvSpPr>
            <p:cNvPr id="2425" name=""/>
            <p:cNvSpPr/>
            <p:nvPr/>
          </p:nvSpPr>
          <p:spPr>
            <a:xfrm>
              <a:off x="7539120" y="3049560"/>
              <a:ext cx="1295280" cy="444240"/>
            </a:xfrm>
            <a:prstGeom prst="rect">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6" name=""/>
            <p:cNvSpPr/>
            <p:nvPr/>
          </p:nvSpPr>
          <p:spPr>
            <a:xfrm>
              <a:off x="7545600" y="3049560"/>
              <a:ext cx="1391400" cy="454680"/>
            </a:xfrm>
            <a:prstGeom prst="rect">
              <a:avLst/>
            </a:prstGeom>
            <a:solidFill>
              <a:srgbClr val="ff7c80"/>
            </a:solid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P Auth</a:t>
              </a:r>
              <a:endParaRPr b="0" lang="en-US" sz="2400" spc="-1" strike="noStrike">
                <a:solidFill>
                  <a:srgbClr val="ffffff"/>
                </a:solidFill>
                <a:latin typeface="Times New Roman"/>
              </a:endParaRPr>
            </a:p>
          </p:txBody>
        </p:sp>
      </p:grpSp>
      <p:sp>
        <p:nvSpPr>
          <p:cNvPr id="2427" name=""/>
          <p:cNvSpPr/>
          <p:nvPr/>
        </p:nvSpPr>
        <p:spPr>
          <a:xfrm>
            <a:off x="2370240" y="3670200"/>
            <a:ext cx="5108400" cy="15840"/>
          </a:xfrm>
          <a:prstGeom prst="line">
            <a:avLst/>
          </a:prstGeom>
          <a:ln w="12600">
            <a:solidFill>
              <a:srgbClr val="ffffff"/>
            </a:solidFill>
            <a:miter/>
            <a:headEnd len="med" type="stealth" w="lg"/>
            <a:tailEnd len="med" type="stealth" w="lg"/>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428" name=""/>
          <p:cNvSpPr/>
          <p:nvPr/>
        </p:nvSpPr>
        <p:spPr>
          <a:xfrm>
            <a:off x="3948840" y="3683160"/>
            <a:ext cx="214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ually encrypted</a:t>
            </a:r>
            <a:endParaRPr b="0" lang="en-US" sz="1800" spc="-1" strike="noStrike">
              <a:solidFill>
                <a:srgbClr val="ffffff"/>
              </a:solidFill>
              <a:latin typeface="Times New Roman"/>
            </a:endParaRPr>
          </a:p>
        </p:txBody>
      </p:sp>
      <p:sp>
        <p:nvSpPr>
          <p:cNvPr id="2429" name=""/>
          <p:cNvSpPr/>
          <p:nvPr/>
        </p:nvSpPr>
        <p:spPr>
          <a:xfrm>
            <a:off x="1150920" y="4114800"/>
            <a:ext cx="6326280" cy="0"/>
          </a:xfrm>
          <a:prstGeom prst="line">
            <a:avLst/>
          </a:prstGeom>
          <a:ln w="12600">
            <a:solidFill>
              <a:srgbClr val="ffffff"/>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0" name=""/>
          <p:cNvSpPr/>
          <p:nvPr/>
        </p:nvSpPr>
        <p:spPr>
          <a:xfrm>
            <a:off x="4143600" y="4235400"/>
            <a:ext cx="27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ity hash coverage</a:t>
            </a:r>
            <a:endParaRPr b="0" lang="en-US" sz="1800" spc="-1" strike="noStrike">
              <a:solidFill>
                <a:srgbClr val="ffffff"/>
              </a:solidFill>
              <a:latin typeface="Times New Roman"/>
            </a:endParaRPr>
          </a:p>
        </p:txBody>
      </p:sp>
      <p:grpSp>
        <p:nvGrpSpPr>
          <p:cNvPr id="2431" name=""/>
          <p:cNvGrpSpPr/>
          <p:nvPr/>
        </p:nvGrpSpPr>
        <p:grpSpPr>
          <a:xfrm>
            <a:off x="0" y="3032280"/>
            <a:ext cx="5952960" cy="482400"/>
            <a:chOff x="0" y="3032280"/>
            <a:chExt cx="5952960" cy="482400"/>
          </a:xfrm>
        </p:grpSpPr>
        <p:sp>
          <p:nvSpPr>
            <p:cNvPr id="2432" name=""/>
            <p:cNvSpPr/>
            <p:nvPr/>
          </p:nvSpPr>
          <p:spPr>
            <a:xfrm>
              <a:off x="4876920" y="3048120"/>
              <a:ext cx="1076040" cy="46656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3" name=""/>
            <p:cNvSpPr/>
            <p:nvPr/>
          </p:nvSpPr>
          <p:spPr>
            <a:xfrm>
              <a:off x="4961880" y="303228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2434" name=""/>
            <p:cNvSpPr/>
            <p:nvPr/>
          </p:nvSpPr>
          <p:spPr>
            <a:xfrm>
              <a:off x="3581280" y="3048120"/>
              <a:ext cx="1303560" cy="45468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 Hdr</a:t>
              </a:r>
              <a:endParaRPr b="0" lang="en-US" sz="2400" spc="-1" strike="noStrike">
                <a:solidFill>
                  <a:srgbClr val="ffffff"/>
                </a:solidFill>
                <a:latin typeface="Times New Roman"/>
              </a:endParaRPr>
            </a:p>
          </p:txBody>
        </p:sp>
        <p:sp>
          <p:nvSpPr>
            <p:cNvPr id="2435" name=""/>
            <p:cNvSpPr/>
            <p:nvPr/>
          </p:nvSpPr>
          <p:spPr>
            <a:xfrm>
              <a:off x="1143000" y="3048120"/>
              <a:ext cx="127008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P Hdr</a:t>
              </a:r>
              <a:endParaRPr b="0" lang="en-US" sz="2400" spc="-1" strike="noStrike">
                <a:solidFill>
                  <a:srgbClr val="ffffff"/>
                </a:solidFill>
                <a:latin typeface="Times New Roman"/>
              </a:endParaRPr>
            </a:p>
          </p:txBody>
        </p:sp>
        <p:sp>
          <p:nvSpPr>
            <p:cNvPr id="2436" name=""/>
            <p:cNvSpPr/>
            <p:nvPr/>
          </p:nvSpPr>
          <p:spPr>
            <a:xfrm>
              <a:off x="2362320" y="3048120"/>
              <a:ext cx="1214280" cy="45468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P Hdr</a:t>
              </a:r>
              <a:endParaRPr b="0" lang="en-US" sz="2400" spc="-1" strike="noStrike">
                <a:solidFill>
                  <a:srgbClr val="ffffff"/>
                </a:solidFill>
                <a:latin typeface="Times New Roman"/>
              </a:endParaRPr>
            </a:p>
          </p:txBody>
        </p:sp>
        <p:sp>
          <p:nvSpPr>
            <p:cNvPr id="2437" name=""/>
            <p:cNvSpPr/>
            <p:nvPr/>
          </p:nvSpPr>
          <p:spPr>
            <a:xfrm>
              <a:off x="0" y="3048120"/>
              <a:ext cx="1150920" cy="454680"/>
            </a:xfrm>
            <a:prstGeom prst="rect">
              <a:avLst/>
            </a:prstGeom>
            <a:solidFill>
              <a:srgbClr val="eea564"/>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Hdr</a:t>
              </a:r>
              <a:endParaRPr b="0" lang="en-US" sz="2400" spc="-1" strike="noStrike">
                <a:solidFill>
                  <a:srgbClr val="ffffff"/>
                </a:solidFill>
                <a:latin typeface="Times New Roman"/>
              </a:endParaRPr>
            </a:p>
          </p:txBody>
        </p:sp>
      </p:grpSp>
      <p:sp>
        <p:nvSpPr>
          <p:cNvPr id="2438" name=""/>
          <p:cNvSpPr/>
          <p:nvPr/>
        </p:nvSpPr>
        <p:spPr>
          <a:xfrm>
            <a:off x="2162160" y="2495520"/>
            <a:ext cx="198360" cy="5065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9" name=""/>
          <p:cNvSpPr/>
          <p:nvPr/>
        </p:nvSpPr>
        <p:spPr>
          <a:xfrm flipH="1">
            <a:off x="5979960" y="2484360"/>
            <a:ext cx="1038240" cy="5176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0" name=""/>
          <p:cNvSpPr/>
          <p:nvPr/>
        </p:nvSpPr>
        <p:spPr>
          <a:xfrm>
            <a:off x="272880" y="4807080"/>
            <a:ext cx="576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IP header with source &amp; destination IP address</a:t>
            </a:r>
            <a:endParaRPr b="0" lang="en-US" sz="2400" spc="-1" strike="noStrike">
              <a:solidFill>
                <a:srgbClr val="ffffff"/>
              </a:solidFill>
              <a:latin typeface="Times New Roman"/>
            </a:endParaRPr>
          </a:p>
        </p:txBody>
      </p:sp>
      <p:sp>
        <p:nvSpPr>
          <p:cNvPr id="2441" name=""/>
          <p:cNvSpPr/>
          <p:nvPr/>
        </p:nvSpPr>
        <p:spPr>
          <a:xfrm rot="16204800">
            <a:off x="-360" y="3544200"/>
            <a:ext cx="1149120" cy="1147680"/>
          </a:xfrm>
          <a:custGeom>
            <a:avLst/>
            <a:gdLst>
              <a:gd name="textAreaLeft" fmla="*/ 734040 w 1149120"/>
              <a:gd name="textAreaRight" fmla="*/ 1149480 w 1149120"/>
              <a:gd name="textAreaTop" fmla="*/ 29880 h 1147680"/>
              <a:gd name="textAreaBottom" fmla="*/ 1117800 h 1147680"/>
            </a:gdLst>
            <a:ahLst/>
            <a:rect l="textAreaLeft" t="textAreaTop" r="textAreaRight" b="textAreaBottom"/>
            <a:pathLst>
              <a:path w="21600" h="21600">
                <a:moveTo>
                  <a:pt x="21600" y="0"/>
                </a:moveTo>
                <a:cubicBezTo>
                  <a:pt x="16200" y="0"/>
                  <a:pt x="10800" y="900"/>
                  <a:pt x="10800" y="1800"/>
                </a:cubicBezTo>
                <a:lnTo>
                  <a:pt x="10800" y="8243"/>
                </a:lnTo>
                <a:cubicBezTo>
                  <a:pt x="10800" y="9143"/>
                  <a:pt x="5400" y="10043"/>
                  <a:pt x="0" y="10043"/>
                </a:cubicBezTo>
                <a:cubicBezTo>
                  <a:pt x="5400" y="10043"/>
                  <a:pt x="10800" y="10943"/>
                  <a:pt x="10800" y="11843"/>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2" name="PlaceHolder 1"/>
          <p:cNvSpPr>
            <a:spLocks noGrp="1"/>
          </p:cNvSpPr>
          <p:nvPr>
            <p:ph type="title"/>
          </p:nvPr>
        </p:nvSpPr>
        <p:spPr>
          <a:xfrm>
            <a:off x="365040" y="22860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Windows 2000 IPSec tunnel mode</a:t>
            </a:r>
            <a:endParaRPr b="1" lang="en-US" sz="4800" spc="-1" strike="noStrike">
              <a:solidFill>
                <a:srgbClr val="fccf00"/>
              </a:solidFill>
              <a:latin typeface="Arial"/>
            </a:endParaRPr>
          </a:p>
        </p:txBody>
      </p:sp>
      <p:sp>
        <p:nvSpPr>
          <p:cNvPr id="2443" name="PlaceHolder 2"/>
          <p:cNvSpPr>
            <a:spLocks noGrp="1"/>
          </p:cNvSpPr>
          <p:nvPr>
            <p:ph/>
          </p:nvPr>
        </p:nvSpPr>
        <p:spPr>
          <a:xfrm>
            <a:off x="380880" y="1617480"/>
            <a:ext cx="8415360" cy="5546880"/>
          </a:xfrm>
          <a:prstGeom prst="rect">
            <a:avLst/>
          </a:prstGeom>
          <a:noFill/>
          <a:ln w="0">
            <a:noFill/>
          </a:ln>
        </p:spPr>
        <p:txBody>
          <a:bodyPr lIns="182520" rIns="182520" tIns="46080" bIns="46080" anchor="t">
            <a:normAutofit/>
          </a:bodyPr>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ed for network administrator to deploy advanced security scenarios</a:t>
            </a:r>
            <a:endParaRPr b="1" lang="en-US" sz="2400" spc="-1" strike="noStrike">
              <a:solidFill>
                <a:srgbClr val="ffffff"/>
              </a:solidFill>
              <a:latin typeface="Arial"/>
            </a:endParaRPr>
          </a:p>
          <a:p>
            <a:pPr lvl="1" marL="1030320" indent="-4507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FC tunnel capability – does not provide for client remote access VPN</a:t>
            </a:r>
            <a:endParaRPr b="1" lang="en-US" sz="2000" spc="-1" strike="noStrike">
              <a:solidFill>
                <a:srgbClr val="ffffff"/>
              </a:solidFill>
              <a:latin typeface="Arial"/>
            </a:endParaRPr>
          </a:p>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arent to users and applications like IPSec end-to-end security</a:t>
            </a:r>
            <a:endParaRPr b="1" lang="en-US" sz="2400" spc="-1" strike="noStrike">
              <a:solidFill>
                <a:srgbClr val="ffffff"/>
              </a:solidFill>
              <a:latin typeface="Arial"/>
            </a:endParaRPr>
          </a:p>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end-system configuration in IPSec policy</a:t>
            </a:r>
            <a:endParaRPr b="1" lang="en-US" sz="2400" spc="-1" strike="noStrike">
              <a:solidFill>
                <a:srgbClr val="ffffff"/>
              </a:solidFill>
              <a:latin typeface="Arial"/>
            </a:endParaRPr>
          </a:p>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IPSec tunnels:</a:t>
            </a:r>
            <a:endParaRPr b="1" lang="en-US" sz="2400" spc="-1" strike="noStrike">
              <a:solidFill>
                <a:srgbClr val="ffffff"/>
              </a:solidFill>
              <a:latin typeface="Arial"/>
            </a:endParaRPr>
          </a:p>
          <a:p>
            <a:pPr lvl="1" marL="1030320" indent="-4507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not create a new network interface</a:t>
            </a:r>
            <a:endParaRPr b="1" lang="en-US" sz="2000" spc="-1" strike="noStrike">
              <a:solidFill>
                <a:srgbClr val="ffffff"/>
              </a:solidFill>
              <a:latin typeface="Arial"/>
            </a:endParaRPr>
          </a:p>
          <a:p>
            <a:pPr lvl="1" marL="1030320" indent="-4507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IP filters to determine what goes into tunnel</a:t>
            </a:r>
            <a:endParaRPr b="1" lang="en-US" sz="2000" spc="-1" strike="noStrike">
              <a:solidFill>
                <a:srgbClr val="ffffff"/>
              </a:solidFill>
              <a:latin typeface="Arial"/>
            </a:endParaRPr>
          </a:p>
          <a:p>
            <a:pPr lvl="1" marL="1030320" indent="-4507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IP addresses to specify tunnel end-point – so MUST be static IP end-points</a:t>
            </a:r>
            <a:endParaRPr b="1" lang="en-US" sz="2000" spc="-1" strike="noStrike">
              <a:solidFill>
                <a:srgbClr val="ffffff"/>
              </a:solidFill>
              <a:latin typeface="Arial"/>
            </a:endParaRPr>
          </a:p>
          <a:p>
            <a:pPr lvl="1" marL="1030320" indent="-4507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d via tunnel rules in MMC IPSec snapin policy</a:t>
            </a:r>
            <a:endParaRPr b="1" lang="en-US" sz="2000" spc="-1" strike="noStrike">
              <a:solidFill>
                <a:srgbClr val="ffffff"/>
              </a:solidFill>
              <a:latin typeface="Arial"/>
            </a:endParaRPr>
          </a:p>
          <a:p>
            <a:pPr lvl="2" marL="149868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103032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4" name=""/>
          <p:cNvSpPr/>
          <p:nvPr/>
        </p:nvSpPr>
        <p:spPr>
          <a:xfrm flipV="1">
            <a:off x="1400040" y="3946320"/>
            <a:ext cx="0" cy="72540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5" name=""/>
          <p:cNvSpPr/>
          <p:nvPr/>
        </p:nvSpPr>
        <p:spPr>
          <a:xfrm flipV="1">
            <a:off x="4938840" y="5490720"/>
            <a:ext cx="0" cy="72540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6" name="PlaceHolder 1"/>
          <p:cNvSpPr>
            <a:spLocks noGrp="1"/>
          </p:cNvSpPr>
          <p:nvPr>
            <p:ph type="title"/>
          </p:nvPr>
        </p:nvSpPr>
        <p:spPr>
          <a:xfrm>
            <a:off x="311040" y="242640"/>
            <a:ext cx="8431200" cy="1298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Branch Office VPN: Gateway-to-Gateway Tunnels</a:t>
            </a:r>
            <a:endParaRPr b="1" lang="en-US" sz="4400" spc="-1" strike="noStrike">
              <a:solidFill>
                <a:srgbClr val="fccf00"/>
              </a:solidFill>
              <a:latin typeface="Arial"/>
            </a:endParaRPr>
          </a:p>
        </p:txBody>
      </p:sp>
      <p:sp>
        <p:nvSpPr>
          <p:cNvPr id="2447" name=""/>
          <p:cNvSpPr/>
          <p:nvPr/>
        </p:nvSpPr>
        <p:spPr>
          <a:xfrm>
            <a:off x="1332000" y="4023720"/>
            <a:ext cx="21589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Windows 2000 RRAS Gateway</a:t>
            </a:r>
            <a:endParaRPr b="0" lang="en-US" sz="1800" spc="-1" strike="noStrike">
              <a:solidFill>
                <a:srgbClr val="ffffff"/>
              </a:solidFill>
              <a:latin typeface="Times New Roman"/>
            </a:endParaRPr>
          </a:p>
        </p:txBody>
      </p:sp>
      <p:grpSp>
        <p:nvGrpSpPr>
          <p:cNvPr id="2448" name=""/>
          <p:cNvGrpSpPr/>
          <p:nvPr/>
        </p:nvGrpSpPr>
        <p:grpSpPr>
          <a:xfrm>
            <a:off x="1263600" y="2620800"/>
            <a:ext cx="1058400" cy="390600"/>
            <a:chOff x="1263600" y="2620800"/>
            <a:chExt cx="1058400" cy="390600"/>
          </a:xfrm>
        </p:grpSpPr>
        <p:grpSp>
          <p:nvGrpSpPr>
            <p:cNvPr id="2449" name=""/>
            <p:cNvGrpSpPr/>
            <p:nvPr/>
          </p:nvGrpSpPr>
          <p:grpSpPr>
            <a:xfrm>
              <a:off x="1263600" y="2620800"/>
              <a:ext cx="1058400" cy="390240"/>
              <a:chOff x="1263600" y="2620800"/>
              <a:chExt cx="1058400" cy="390240"/>
            </a:xfrm>
          </p:grpSpPr>
          <p:sp>
            <p:nvSpPr>
              <p:cNvPr id="2450" name=""/>
              <p:cNvSpPr/>
              <p:nvPr/>
            </p:nvSpPr>
            <p:spPr>
              <a:xfrm>
                <a:off x="1575360" y="2646720"/>
                <a:ext cx="713160" cy="6840"/>
              </a:xfrm>
              <a:custGeom>
                <a:avLst/>
                <a:gdLst/>
                <a:ahLst/>
                <a:rect l="l" t="t" r="r" b="b"/>
                <a:pathLst>
                  <a:path w="1294" h="48">
                    <a:moveTo>
                      <a:pt x="0" y="0"/>
                    </a:moveTo>
                    <a:lnTo>
                      <a:pt x="77" y="48"/>
                    </a:lnTo>
                    <a:lnTo>
                      <a:pt x="1294" y="48"/>
                    </a:lnTo>
                    <a:lnTo>
                      <a:pt x="1255" y="0"/>
                    </a:lnTo>
                    <a:lnTo>
                      <a:pt x="0" y="0"/>
                    </a:lnTo>
                    <a:close/>
                  </a:path>
                </a:pathLst>
              </a:custGeom>
              <a:solidFill>
                <a:srgbClr val="e0e0e0"/>
              </a:solidFill>
              <a:ln w="14400">
                <a:solidFill>
                  <a:srgbClr val="808080"/>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451" name=""/>
              <p:cNvSpPr/>
              <p:nvPr/>
            </p:nvSpPr>
            <p:spPr>
              <a:xfrm>
                <a:off x="1573200" y="2645640"/>
                <a:ext cx="180720" cy="365400"/>
              </a:xfrm>
              <a:custGeom>
                <a:avLst/>
                <a:gdLst/>
                <a:ahLst/>
                <a:rect l="l" t="t" r="r" b="b"/>
                <a:pathLst>
                  <a:path w="327" h="2469">
                    <a:moveTo>
                      <a:pt x="0" y="2385"/>
                    </a:moveTo>
                    <a:lnTo>
                      <a:pt x="67" y="2469"/>
                    </a:lnTo>
                    <a:lnTo>
                      <a:pt x="327" y="820"/>
                    </a:lnTo>
                    <a:lnTo>
                      <a:pt x="83" y="50"/>
                    </a:lnTo>
                    <a:lnTo>
                      <a:pt x="2" y="0"/>
                    </a:lnTo>
                    <a:lnTo>
                      <a:pt x="0" y="902"/>
                    </a:lnTo>
                    <a:lnTo>
                      <a:pt x="0" y="2385"/>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2" name=""/>
              <p:cNvSpPr/>
              <p:nvPr/>
            </p:nvSpPr>
            <p:spPr>
              <a:xfrm>
                <a:off x="1263600" y="2620800"/>
                <a:ext cx="313200" cy="377640"/>
              </a:xfrm>
              <a:custGeom>
                <a:avLst/>
                <a:gdLst/>
                <a:ahLst/>
                <a:rect l="l" t="t" r="r" b="b"/>
                <a:pathLst>
                  <a:path w="569" h="2551">
                    <a:moveTo>
                      <a:pt x="0" y="0"/>
                    </a:moveTo>
                    <a:lnTo>
                      <a:pt x="569" y="167"/>
                    </a:lnTo>
                    <a:lnTo>
                      <a:pt x="569" y="2551"/>
                    </a:lnTo>
                    <a:lnTo>
                      <a:pt x="0" y="1943"/>
                    </a:lnTo>
                    <a:lnTo>
                      <a:pt x="0" y="0"/>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3" name=""/>
              <p:cNvSpPr/>
              <p:nvPr/>
            </p:nvSpPr>
            <p:spPr>
              <a:xfrm>
                <a:off x="1263600" y="2620800"/>
                <a:ext cx="1005840" cy="25920"/>
              </a:xfrm>
              <a:custGeom>
                <a:avLst/>
                <a:gdLst/>
                <a:ahLst/>
                <a:rect l="l" t="t" r="r" b="b"/>
                <a:pathLst>
                  <a:path w="1824" h="175">
                    <a:moveTo>
                      <a:pt x="570" y="175"/>
                    </a:moveTo>
                    <a:lnTo>
                      <a:pt x="1824" y="175"/>
                    </a:lnTo>
                    <a:lnTo>
                      <a:pt x="945" y="0"/>
                    </a:lnTo>
                    <a:lnTo>
                      <a:pt x="0" y="0"/>
                    </a:lnTo>
                    <a:lnTo>
                      <a:pt x="570" y="175"/>
                    </a:lnTo>
                    <a:close/>
                  </a:path>
                </a:pathLst>
              </a:custGeom>
              <a:solidFill>
                <a:srgbClr val="e0e0e0"/>
              </a:solidFill>
              <a:ln w="14400">
                <a:solidFill>
                  <a:srgbClr val="80808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54" name=""/>
              <p:cNvSpPr/>
              <p:nvPr/>
            </p:nvSpPr>
            <p:spPr>
              <a:xfrm>
                <a:off x="1615320" y="2783520"/>
                <a:ext cx="649440" cy="22572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5" name=""/>
              <p:cNvSpPr/>
              <p:nvPr/>
            </p:nvSpPr>
            <p:spPr>
              <a:xfrm>
                <a:off x="1617480" y="2652480"/>
                <a:ext cx="702360" cy="114840"/>
              </a:xfrm>
              <a:custGeom>
                <a:avLst/>
                <a:gdLst/>
                <a:ahLst/>
                <a:rect l="l" t="t" r="r" b="b"/>
                <a:pathLst>
                  <a:path w="1273" h="776">
                    <a:moveTo>
                      <a:pt x="0" y="0"/>
                    </a:moveTo>
                    <a:lnTo>
                      <a:pt x="1215" y="0"/>
                    </a:lnTo>
                    <a:lnTo>
                      <a:pt x="1273" y="776"/>
                    </a:lnTo>
                    <a:lnTo>
                      <a:pt x="52" y="776"/>
                    </a:lnTo>
                    <a:lnTo>
                      <a:pt x="0" y="0"/>
                    </a:lnTo>
                    <a:close/>
                  </a:path>
                </a:pathLst>
              </a:custGeom>
              <a:solidFill>
                <a:srgbClr val="c0c0c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6" name=""/>
              <p:cNvSpPr/>
              <p:nvPr/>
            </p:nvSpPr>
            <p:spPr>
              <a:xfrm>
                <a:off x="1612080" y="2767320"/>
                <a:ext cx="709920" cy="13680"/>
              </a:xfrm>
              <a:custGeom>
                <a:avLst/>
                <a:gdLst/>
                <a:ahLst/>
                <a:rect l="l" t="t" r="r" b="b"/>
                <a:pathLst>
                  <a:path w="1288" h="92">
                    <a:moveTo>
                      <a:pt x="0" y="92"/>
                    </a:moveTo>
                    <a:lnTo>
                      <a:pt x="1188" y="92"/>
                    </a:lnTo>
                    <a:lnTo>
                      <a:pt x="1288" y="0"/>
                    </a:lnTo>
                    <a:lnTo>
                      <a:pt x="65" y="0"/>
                    </a:lnTo>
                    <a:lnTo>
                      <a:pt x="0" y="92"/>
                    </a:lnTo>
                    <a:close/>
                  </a:path>
                </a:pathLst>
              </a:custGeom>
              <a:solidFill>
                <a:srgbClr val="a0a0a0"/>
              </a:solidFill>
              <a:ln w="14400">
                <a:solidFill>
                  <a:srgbClr val="80808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grpSp>
        <p:grpSp>
          <p:nvGrpSpPr>
            <p:cNvPr id="2457" name=""/>
            <p:cNvGrpSpPr/>
            <p:nvPr/>
          </p:nvGrpSpPr>
          <p:grpSpPr>
            <a:xfrm>
              <a:off x="1619640" y="2646720"/>
              <a:ext cx="197640" cy="364680"/>
              <a:chOff x="1619640" y="2646720"/>
              <a:chExt cx="197640" cy="364680"/>
            </a:xfrm>
          </p:grpSpPr>
          <p:sp>
            <p:nvSpPr>
              <p:cNvPr id="2458" name=""/>
              <p:cNvSpPr/>
              <p:nvPr/>
            </p:nvSpPr>
            <p:spPr>
              <a:xfrm>
                <a:off x="1619640" y="2646720"/>
                <a:ext cx="57960" cy="364320"/>
              </a:xfrm>
              <a:custGeom>
                <a:avLst/>
                <a:gdLst/>
                <a:ahLst/>
                <a:rect l="l" t="t" r="r" b="b"/>
                <a:pathLst>
                  <a:path w="107" h="2463">
                    <a:moveTo>
                      <a:pt x="0" y="0"/>
                    </a:moveTo>
                    <a:lnTo>
                      <a:pt x="55" y="41"/>
                    </a:lnTo>
                    <a:lnTo>
                      <a:pt x="107" y="827"/>
                    </a:lnTo>
                    <a:lnTo>
                      <a:pt x="53" y="916"/>
                    </a:lnTo>
                    <a:lnTo>
                      <a:pt x="50"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1642320" y="2647080"/>
                <a:ext cx="55080" cy="364320"/>
              </a:xfrm>
              <a:custGeom>
                <a:avLst/>
                <a:gdLst/>
                <a:ahLst/>
                <a:rect l="l" t="t" r="r" b="b"/>
                <a:pathLst>
                  <a:path w="101" h="2462">
                    <a:moveTo>
                      <a:pt x="0" y="0"/>
                    </a:moveTo>
                    <a:lnTo>
                      <a:pt x="48" y="41"/>
                    </a:lnTo>
                    <a:lnTo>
                      <a:pt x="101" y="825"/>
                    </a:lnTo>
                    <a:lnTo>
                      <a:pt x="47" y="914"/>
                    </a:lnTo>
                    <a:lnTo>
                      <a:pt x="45" y="2462"/>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1660320" y="2646720"/>
                <a:ext cx="57960" cy="364680"/>
              </a:xfrm>
              <a:custGeom>
                <a:avLst/>
                <a:gdLst/>
                <a:ahLst/>
                <a:rect l="l" t="t" r="r" b="b"/>
                <a:pathLst>
                  <a:path w="107" h="2463">
                    <a:moveTo>
                      <a:pt x="0" y="0"/>
                    </a:moveTo>
                    <a:lnTo>
                      <a:pt x="53" y="42"/>
                    </a:lnTo>
                    <a:lnTo>
                      <a:pt x="107" y="820"/>
                    </a:lnTo>
                    <a:lnTo>
                      <a:pt x="49" y="908"/>
                    </a:lnTo>
                    <a:lnTo>
                      <a:pt x="49"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1681200" y="2647080"/>
                <a:ext cx="55800" cy="363600"/>
              </a:xfrm>
              <a:custGeom>
                <a:avLst/>
                <a:gdLst/>
                <a:ahLst/>
                <a:rect l="l" t="t" r="r" b="b"/>
                <a:pathLst>
                  <a:path w="103" h="2456">
                    <a:moveTo>
                      <a:pt x="0" y="0"/>
                    </a:moveTo>
                    <a:lnTo>
                      <a:pt x="50" y="35"/>
                    </a:lnTo>
                    <a:lnTo>
                      <a:pt x="103" y="819"/>
                    </a:lnTo>
                    <a:lnTo>
                      <a:pt x="48" y="909"/>
                    </a:lnTo>
                    <a:lnTo>
                      <a:pt x="46" y="2456"/>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1702080" y="2646720"/>
                <a:ext cx="56160" cy="362880"/>
              </a:xfrm>
              <a:custGeom>
                <a:avLst/>
                <a:gdLst/>
                <a:ahLst/>
                <a:rect l="l" t="t" r="r" b="b"/>
                <a:pathLst>
                  <a:path w="101" h="2455">
                    <a:moveTo>
                      <a:pt x="0" y="0"/>
                    </a:moveTo>
                    <a:lnTo>
                      <a:pt x="49" y="48"/>
                    </a:lnTo>
                    <a:lnTo>
                      <a:pt x="101" y="819"/>
                    </a:lnTo>
                    <a:lnTo>
                      <a:pt x="46" y="908"/>
                    </a:lnTo>
                    <a:lnTo>
                      <a:pt x="44" y="2455"/>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1724040" y="2647080"/>
                <a:ext cx="53640" cy="362880"/>
              </a:xfrm>
              <a:custGeom>
                <a:avLst/>
                <a:gdLst/>
                <a:ahLst/>
                <a:rect l="l" t="t" r="r" b="b"/>
                <a:pathLst>
                  <a:path w="97" h="2454">
                    <a:moveTo>
                      <a:pt x="0" y="0"/>
                    </a:moveTo>
                    <a:lnTo>
                      <a:pt x="44" y="41"/>
                    </a:lnTo>
                    <a:lnTo>
                      <a:pt x="97" y="817"/>
                    </a:lnTo>
                    <a:lnTo>
                      <a:pt x="42" y="906"/>
                    </a:lnTo>
                    <a:lnTo>
                      <a:pt x="40" y="2454"/>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1744920" y="2647080"/>
                <a:ext cx="53640" cy="364320"/>
              </a:xfrm>
              <a:custGeom>
                <a:avLst/>
                <a:gdLst/>
                <a:ahLst/>
                <a:rect l="l" t="t" r="r" b="b"/>
                <a:pathLst>
                  <a:path w="98" h="2460">
                    <a:moveTo>
                      <a:pt x="0" y="0"/>
                    </a:moveTo>
                    <a:lnTo>
                      <a:pt x="43" y="43"/>
                    </a:lnTo>
                    <a:lnTo>
                      <a:pt x="98" y="809"/>
                    </a:lnTo>
                    <a:lnTo>
                      <a:pt x="40" y="905"/>
                    </a:lnTo>
                    <a:lnTo>
                      <a:pt x="40" y="2460"/>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1763640" y="2647080"/>
                <a:ext cx="53640" cy="362520"/>
              </a:xfrm>
              <a:custGeom>
                <a:avLst/>
                <a:gdLst/>
                <a:ahLst/>
                <a:rect l="l" t="t" r="r" b="b"/>
                <a:pathLst>
                  <a:path w="97" h="2448">
                    <a:moveTo>
                      <a:pt x="0" y="0"/>
                    </a:moveTo>
                    <a:lnTo>
                      <a:pt x="45" y="41"/>
                    </a:lnTo>
                    <a:lnTo>
                      <a:pt x="97" y="812"/>
                    </a:lnTo>
                    <a:lnTo>
                      <a:pt x="44" y="901"/>
                    </a:lnTo>
                    <a:lnTo>
                      <a:pt x="41" y="2448"/>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66" name=""/>
            <p:cNvSpPr/>
            <p:nvPr/>
          </p:nvSpPr>
          <p:spPr>
            <a:xfrm>
              <a:off x="1814040" y="2813040"/>
              <a:ext cx="425520" cy="17748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7" name=""/>
            <p:cNvSpPr/>
            <p:nvPr/>
          </p:nvSpPr>
          <p:spPr>
            <a:xfrm>
              <a:off x="1814040" y="2847960"/>
              <a:ext cx="425520" cy="33480"/>
            </a:xfrm>
            <a:prstGeom prst="rect">
              <a:avLst/>
            </a:prstGeom>
            <a:solidFill>
              <a:srgbClr val="c0c0c0"/>
            </a:solidFill>
            <a:ln w="1440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68" name=""/>
            <p:cNvSpPr/>
            <p:nvPr/>
          </p:nvSpPr>
          <p:spPr>
            <a:xfrm>
              <a:off x="1814040" y="2883960"/>
              <a:ext cx="425520" cy="33480"/>
            </a:xfrm>
            <a:prstGeom prst="rect">
              <a:avLst/>
            </a:prstGeom>
            <a:solidFill>
              <a:srgbClr val="c0c0c0"/>
            </a:solidFill>
            <a:ln w="1440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69" name=""/>
            <p:cNvSpPr/>
            <p:nvPr/>
          </p:nvSpPr>
          <p:spPr>
            <a:xfrm>
              <a:off x="1814040" y="2919600"/>
              <a:ext cx="425520" cy="33120"/>
            </a:xfrm>
            <a:prstGeom prst="rect">
              <a:avLst/>
            </a:prstGeom>
            <a:solidFill>
              <a:srgbClr val="c0c0c0"/>
            </a:solidFill>
            <a:ln w="1440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70" name=""/>
            <p:cNvSpPr/>
            <p:nvPr/>
          </p:nvSpPr>
          <p:spPr>
            <a:xfrm>
              <a:off x="1886760" y="2854440"/>
              <a:ext cx="278640" cy="19440"/>
            </a:xfrm>
            <a:prstGeom prst="rect">
              <a:avLst/>
            </a:prstGeom>
            <a:solidFill>
              <a:srgbClr val="c0c0c0"/>
            </a:solidFill>
            <a:ln w="1440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471" name=""/>
            <p:cNvSpPr/>
            <p:nvPr/>
          </p:nvSpPr>
          <p:spPr>
            <a:xfrm>
              <a:off x="1886760" y="2890800"/>
              <a:ext cx="278640" cy="19440"/>
            </a:xfrm>
            <a:prstGeom prst="rect">
              <a:avLst/>
            </a:prstGeom>
            <a:solidFill>
              <a:srgbClr val="c0c0c0"/>
            </a:solidFill>
            <a:ln w="1440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472" name=""/>
            <p:cNvSpPr/>
            <p:nvPr/>
          </p:nvSpPr>
          <p:spPr>
            <a:xfrm>
              <a:off x="2078280" y="2814840"/>
              <a:ext cx="18720" cy="23400"/>
            </a:xfrm>
            <a:custGeom>
              <a:avLst/>
              <a:gdLst/>
              <a:ahLst/>
              <a:rect l="l" t="t" r="r" b="b"/>
              <a:pathLst>
                <a:path w="34" h="157">
                  <a:moveTo>
                    <a:pt x="34" y="0"/>
                  </a:moveTo>
                  <a:lnTo>
                    <a:pt x="34" y="157"/>
                  </a:lnTo>
                  <a:lnTo>
                    <a:pt x="0" y="68"/>
                  </a:lnTo>
                  <a:lnTo>
                    <a:pt x="34" y="0"/>
                  </a:lnTo>
                  <a:close/>
                </a:path>
              </a:pathLst>
            </a:custGeom>
            <a:solidFill>
              <a:srgbClr val="60606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473" name=""/>
            <p:cNvSpPr/>
            <p:nvPr/>
          </p:nvSpPr>
          <p:spPr>
            <a:xfrm>
              <a:off x="1900800" y="2859840"/>
              <a:ext cx="250200" cy="3600"/>
            </a:xfrm>
            <a:prstGeom prst="rect">
              <a:avLst/>
            </a:prstGeom>
            <a:solidFill>
              <a:srgbClr val="80808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474" name=""/>
            <p:cNvSpPr/>
            <p:nvPr/>
          </p:nvSpPr>
          <p:spPr>
            <a:xfrm>
              <a:off x="1976760" y="2867040"/>
              <a:ext cx="110160" cy="5040"/>
            </a:xfrm>
            <a:custGeom>
              <a:avLst/>
              <a:gdLst/>
              <a:ahLst/>
              <a:rect l="l" t="t" r="r" b="b"/>
              <a:pathLst>
                <a:path w="199" h="37">
                  <a:moveTo>
                    <a:pt x="4" y="37"/>
                  </a:moveTo>
                  <a:lnTo>
                    <a:pt x="0" y="0"/>
                  </a:lnTo>
                  <a:lnTo>
                    <a:pt x="193" y="0"/>
                  </a:lnTo>
                  <a:lnTo>
                    <a:pt x="199" y="36"/>
                  </a:lnTo>
                </a:path>
              </a:pathLst>
            </a:custGeom>
            <a:noFill/>
            <a:ln w="14400">
              <a:solidFill>
                <a:srgbClr val="80808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5" name=""/>
            <p:cNvSpPr/>
            <p:nvPr/>
          </p:nvSpPr>
          <p:spPr>
            <a:xfrm>
              <a:off x="1677960" y="2670480"/>
              <a:ext cx="96840" cy="27720"/>
            </a:xfrm>
            <a:custGeom>
              <a:avLst/>
              <a:gdLst/>
              <a:ahLst/>
              <a:rect l="l" t="t" r="r" b="b"/>
              <a:pathLst>
                <a:path w="177" h="186">
                  <a:moveTo>
                    <a:pt x="163" y="0"/>
                  </a:moveTo>
                  <a:lnTo>
                    <a:pt x="0" y="0"/>
                  </a:lnTo>
                  <a:lnTo>
                    <a:pt x="12" y="186"/>
                  </a:lnTo>
                  <a:lnTo>
                    <a:pt x="177" y="186"/>
                  </a:lnTo>
                  <a:lnTo>
                    <a:pt x="163" y="0"/>
                  </a:lnTo>
                  <a:close/>
                </a:path>
              </a:pathLst>
            </a:custGeom>
            <a:solidFill>
              <a:srgbClr val="c0c0c0"/>
            </a:solidFill>
            <a:ln w="144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76" name=""/>
            <p:cNvSpPr/>
            <p:nvPr/>
          </p:nvSpPr>
          <p:spPr>
            <a:xfrm>
              <a:off x="1689120" y="2717280"/>
              <a:ext cx="101520" cy="27720"/>
            </a:xfrm>
            <a:custGeom>
              <a:avLst/>
              <a:gdLst/>
              <a:ahLst/>
              <a:rect l="l" t="t" r="r" b="b"/>
              <a:pathLst>
                <a:path w="183" h="188">
                  <a:moveTo>
                    <a:pt x="169" y="0"/>
                  </a:moveTo>
                  <a:lnTo>
                    <a:pt x="0" y="0"/>
                  </a:lnTo>
                  <a:lnTo>
                    <a:pt x="12" y="188"/>
                  </a:lnTo>
                  <a:lnTo>
                    <a:pt x="183" y="187"/>
                  </a:lnTo>
                  <a:lnTo>
                    <a:pt x="169" y="0"/>
                  </a:lnTo>
                  <a:close/>
                </a:path>
              </a:pathLst>
            </a:custGeom>
            <a:solidFill>
              <a:srgbClr val="c0c0c0"/>
            </a:solidFill>
            <a:ln w="144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nvGrpSpPr>
            <p:cNvPr id="2477" name=""/>
            <p:cNvGrpSpPr/>
            <p:nvPr/>
          </p:nvGrpSpPr>
          <p:grpSpPr>
            <a:xfrm>
              <a:off x="1836720" y="2716560"/>
              <a:ext cx="425520" cy="26640"/>
              <a:chOff x="1836720" y="2716560"/>
              <a:chExt cx="425520" cy="26640"/>
            </a:xfrm>
          </p:grpSpPr>
          <p:sp>
            <p:nvSpPr>
              <p:cNvPr id="2478" name=""/>
              <p:cNvSpPr/>
              <p:nvPr/>
            </p:nvSpPr>
            <p:spPr>
              <a:xfrm>
                <a:off x="1836720" y="2716560"/>
                <a:ext cx="425520" cy="26640"/>
              </a:xfrm>
              <a:prstGeom prst="rect">
                <a:avLst/>
              </a:prstGeom>
              <a:solidFill>
                <a:srgbClr val="606060"/>
              </a:solidFill>
              <a:ln w="14400">
                <a:solidFill>
                  <a:srgbClr val="80808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479" name=""/>
              <p:cNvSpPr/>
              <p:nvPr/>
            </p:nvSpPr>
            <p:spPr>
              <a:xfrm>
                <a:off x="1913760" y="2718720"/>
                <a:ext cx="5148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0" name=""/>
              <p:cNvSpPr/>
              <p:nvPr/>
            </p:nvSpPr>
            <p:spPr>
              <a:xfrm>
                <a:off x="1913760" y="2731320"/>
                <a:ext cx="5148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1" name=""/>
              <p:cNvSpPr/>
              <p:nvPr/>
            </p:nvSpPr>
            <p:spPr>
              <a:xfrm>
                <a:off x="2017440" y="2724840"/>
                <a:ext cx="51480" cy="9360"/>
              </a:xfrm>
              <a:prstGeom prst="rect">
                <a:avLst/>
              </a:prstGeom>
              <a:solidFill>
                <a:srgbClr val="008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1858680" y="2725200"/>
                <a:ext cx="38160" cy="11160"/>
              </a:xfrm>
              <a:prstGeom prst="ellipse">
                <a:avLst/>
              </a:prstGeom>
              <a:solidFill>
                <a:srgbClr val="20202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grpSp>
      <p:grpSp>
        <p:nvGrpSpPr>
          <p:cNvPr id="2483" name=""/>
          <p:cNvGrpSpPr/>
          <p:nvPr/>
        </p:nvGrpSpPr>
        <p:grpSpPr>
          <a:xfrm>
            <a:off x="1241280" y="3375000"/>
            <a:ext cx="653760" cy="711360"/>
            <a:chOff x="1241280" y="3375000"/>
            <a:chExt cx="653760" cy="711360"/>
          </a:xfrm>
        </p:grpSpPr>
        <p:sp>
          <p:nvSpPr>
            <p:cNvPr id="2484" name=""/>
            <p:cNvSpPr/>
            <p:nvPr/>
          </p:nvSpPr>
          <p:spPr>
            <a:xfrm>
              <a:off x="1468080" y="3397320"/>
              <a:ext cx="28404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5" name=""/>
            <p:cNvSpPr/>
            <p:nvPr/>
          </p:nvSpPr>
          <p:spPr>
            <a:xfrm>
              <a:off x="1484640" y="3759840"/>
              <a:ext cx="25272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6" name=""/>
            <p:cNvSpPr/>
            <p:nvPr/>
          </p:nvSpPr>
          <p:spPr>
            <a:xfrm>
              <a:off x="1484640" y="3523680"/>
              <a:ext cx="24048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a:off x="1241280" y="3376440"/>
              <a:ext cx="51120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8" name=""/>
            <p:cNvSpPr/>
            <p:nvPr/>
          </p:nvSpPr>
          <p:spPr>
            <a:xfrm>
              <a:off x="1241280" y="3376440"/>
              <a:ext cx="22824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9" name=""/>
            <p:cNvSpPr/>
            <p:nvPr/>
          </p:nvSpPr>
          <p:spPr>
            <a:xfrm>
              <a:off x="1442520" y="3400560"/>
              <a:ext cx="266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0" name=""/>
            <p:cNvSpPr/>
            <p:nvPr/>
          </p:nvSpPr>
          <p:spPr>
            <a:xfrm>
              <a:off x="1484640" y="3522240"/>
              <a:ext cx="25272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1" name=""/>
            <p:cNvSpPr/>
            <p:nvPr/>
          </p:nvSpPr>
          <p:spPr>
            <a:xfrm>
              <a:off x="1484640" y="3484800"/>
              <a:ext cx="25272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492" name=""/>
            <p:cNvSpPr/>
            <p:nvPr/>
          </p:nvSpPr>
          <p:spPr>
            <a:xfrm>
              <a:off x="1484640" y="3422880"/>
              <a:ext cx="25272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93" name=""/>
            <p:cNvSpPr/>
            <p:nvPr/>
          </p:nvSpPr>
          <p:spPr>
            <a:xfrm>
              <a:off x="1241280" y="3375000"/>
              <a:ext cx="51120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4" name=""/>
            <p:cNvSpPr/>
            <p:nvPr/>
          </p:nvSpPr>
          <p:spPr>
            <a:xfrm>
              <a:off x="1466640" y="3397320"/>
              <a:ext cx="2854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1241280" y="3376440"/>
              <a:ext cx="22680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1442520" y="340200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7" name=""/>
            <p:cNvSpPr/>
            <p:nvPr/>
          </p:nvSpPr>
          <p:spPr>
            <a:xfrm>
              <a:off x="1442520" y="3411000"/>
              <a:ext cx="30960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98" name=""/>
            <p:cNvSpPr/>
            <p:nvPr/>
          </p:nvSpPr>
          <p:spPr>
            <a:xfrm>
              <a:off x="1442520" y="3460680"/>
              <a:ext cx="30960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99" name=""/>
            <p:cNvSpPr/>
            <p:nvPr/>
          </p:nvSpPr>
          <p:spPr>
            <a:xfrm>
              <a:off x="1484640" y="3422880"/>
              <a:ext cx="25272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500" name=""/>
            <p:cNvSpPr/>
            <p:nvPr/>
          </p:nvSpPr>
          <p:spPr>
            <a:xfrm>
              <a:off x="1442520" y="3475800"/>
              <a:ext cx="30960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01" name=""/>
            <p:cNvSpPr/>
            <p:nvPr/>
          </p:nvSpPr>
          <p:spPr>
            <a:xfrm>
              <a:off x="1442520" y="3522240"/>
              <a:ext cx="30960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02" name=""/>
            <p:cNvSpPr/>
            <p:nvPr/>
          </p:nvSpPr>
          <p:spPr>
            <a:xfrm>
              <a:off x="1442520" y="3710520"/>
              <a:ext cx="30960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03" name=""/>
            <p:cNvSpPr/>
            <p:nvPr/>
          </p:nvSpPr>
          <p:spPr>
            <a:xfrm>
              <a:off x="1484640" y="353268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1735920" y="352368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a:off x="1484640" y="3523680"/>
              <a:ext cx="24048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a:off x="1723680" y="3705480"/>
              <a:ext cx="122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07" name=""/>
            <p:cNvSpPr/>
            <p:nvPr/>
          </p:nvSpPr>
          <p:spPr>
            <a:xfrm flipH="1">
              <a:off x="1484640" y="3585600"/>
              <a:ext cx="23904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2508" name=""/>
            <p:cNvSpPr/>
            <p:nvPr/>
          </p:nvSpPr>
          <p:spPr>
            <a:xfrm flipH="1">
              <a:off x="1484640" y="3648600"/>
              <a:ext cx="2390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509" name=""/>
            <p:cNvSpPr/>
            <p:nvPr/>
          </p:nvSpPr>
          <p:spPr>
            <a:xfrm>
              <a:off x="1442520" y="3759840"/>
              <a:ext cx="30960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10" name=""/>
            <p:cNvSpPr/>
            <p:nvPr/>
          </p:nvSpPr>
          <p:spPr>
            <a:xfrm>
              <a:off x="1442520" y="4024440"/>
              <a:ext cx="30960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11" name=""/>
            <p:cNvSpPr/>
            <p:nvPr/>
          </p:nvSpPr>
          <p:spPr>
            <a:xfrm>
              <a:off x="1484640" y="3774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2" name=""/>
            <p:cNvSpPr/>
            <p:nvPr/>
          </p:nvSpPr>
          <p:spPr>
            <a:xfrm>
              <a:off x="1735920" y="375984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3" name=""/>
            <p:cNvSpPr/>
            <p:nvPr/>
          </p:nvSpPr>
          <p:spPr>
            <a:xfrm>
              <a:off x="1484640" y="4006440"/>
              <a:ext cx="25272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14" name=""/>
            <p:cNvSpPr/>
            <p:nvPr/>
          </p:nvSpPr>
          <p:spPr>
            <a:xfrm>
              <a:off x="1484640" y="3994560"/>
              <a:ext cx="25272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15" name=""/>
            <p:cNvSpPr/>
            <p:nvPr/>
          </p:nvSpPr>
          <p:spPr>
            <a:xfrm>
              <a:off x="1484640" y="3983760"/>
              <a:ext cx="25272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6" name=""/>
            <p:cNvSpPr/>
            <p:nvPr/>
          </p:nvSpPr>
          <p:spPr>
            <a:xfrm>
              <a:off x="1484640" y="3971880"/>
              <a:ext cx="25272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17" name=""/>
            <p:cNvSpPr/>
            <p:nvPr/>
          </p:nvSpPr>
          <p:spPr>
            <a:xfrm>
              <a:off x="1484640" y="3958200"/>
              <a:ext cx="25272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18" name=""/>
            <p:cNvSpPr/>
            <p:nvPr/>
          </p:nvSpPr>
          <p:spPr>
            <a:xfrm>
              <a:off x="1484640" y="3424680"/>
              <a:ext cx="24048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519" name=""/>
            <p:cNvSpPr/>
            <p:nvPr/>
          </p:nvSpPr>
          <p:spPr>
            <a:xfrm>
              <a:off x="1723680" y="3447000"/>
              <a:ext cx="12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520" name=""/>
            <p:cNvSpPr/>
            <p:nvPr/>
          </p:nvSpPr>
          <p:spPr>
            <a:xfrm>
              <a:off x="1543320" y="3484800"/>
              <a:ext cx="13536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521" name=""/>
            <p:cNvSpPr/>
            <p:nvPr/>
          </p:nvSpPr>
          <p:spPr>
            <a:xfrm>
              <a:off x="1484640" y="3484800"/>
              <a:ext cx="25272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522" name=""/>
            <p:cNvSpPr/>
            <p:nvPr/>
          </p:nvSpPr>
          <p:spPr>
            <a:xfrm>
              <a:off x="1484640" y="3501360"/>
              <a:ext cx="1940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3" name=""/>
            <p:cNvSpPr/>
            <p:nvPr/>
          </p:nvSpPr>
          <p:spPr>
            <a:xfrm flipH="1">
              <a:off x="1677240" y="3504240"/>
              <a:ext cx="583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524" name=""/>
            <p:cNvSpPr/>
            <p:nvPr/>
          </p:nvSpPr>
          <p:spPr>
            <a:xfrm>
              <a:off x="1677240" y="34848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525" name=""/>
            <p:cNvSpPr/>
            <p:nvPr/>
          </p:nvSpPr>
          <p:spPr>
            <a:xfrm>
              <a:off x="1496880" y="3439440"/>
              <a:ext cx="2520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6" name=""/>
            <p:cNvSpPr/>
            <p:nvPr/>
          </p:nvSpPr>
          <p:spPr>
            <a:xfrm>
              <a:off x="1531440" y="3438000"/>
              <a:ext cx="2556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7" name=""/>
            <p:cNvSpPr/>
            <p:nvPr/>
          </p:nvSpPr>
          <p:spPr>
            <a:xfrm>
              <a:off x="1565640" y="3438000"/>
              <a:ext cx="2556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8" name=""/>
            <p:cNvSpPr/>
            <p:nvPr/>
          </p:nvSpPr>
          <p:spPr>
            <a:xfrm>
              <a:off x="1602000" y="3438000"/>
              <a:ext cx="2556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9" name=""/>
            <p:cNvSpPr/>
            <p:nvPr/>
          </p:nvSpPr>
          <p:spPr>
            <a:xfrm>
              <a:off x="1638000" y="3436560"/>
              <a:ext cx="2556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30" name=""/>
            <p:cNvSpPr/>
            <p:nvPr/>
          </p:nvSpPr>
          <p:spPr>
            <a:xfrm>
              <a:off x="1671120" y="3433320"/>
              <a:ext cx="2556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31" name=""/>
            <p:cNvSpPr/>
            <p:nvPr/>
          </p:nvSpPr>
          <p:spPr>
            <a:xfrm>
              <a:off x="1707480" y="3433320"/>
              <a:ext cx="2556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32" name=""/>
            <p:cNvSpPr/>
            <p:nvPr/>
          </p:nvSpPr>
          <p:spPr>
            <a:xfrm>
              <a:off x="1711800" y="3523680"/>
              <a:ext cx="2556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1751040" y="3988440"/>
              <a:ext cx="14400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2534" name=""/>
          <p:cNvGrpSpPr/>
          <p:nvPr/>
        </p:nvGrpSpPr>
        <p:grpSpPr>
          <a:xfrm>
            <a:off x="1817280" y="1537920"/>
            <a:ext cx="2676960" cy="1436760"/>
            <a:chOff x="1817280" y="1537920"/>
            <a:chExt cx="2676960" cy="1436760"/>
          </a:xfrm>
        </p:grpSpPr>
        <p:grpSp>
          <p:nvGrpSpPr>
            <p:cNvPr id="2535" name=""/>
            <p:cNvGrpSpPr/>
            <p:nvPr/>
          </p:nvGrpSpPr>
          <p:grpSpPr>
            <a:xfrm>
              <a:off x="1817280" y="1537920"/>
              <a:ext cx="2676960" cy="1436760"/>
              <a:chOff x="1817280" y="1537920"/>
              <a:chExt cx="2676960" cy="1436760"/>
            </a:xfrm>
          </p:grpSpPr>
          <p:sp>
            <p:nvSpPr>
              <p:cNvPr id="2536" name=""/>
              <p:cNvSpPr/>
              <p:nvPr/>
            </p:nvSpPr>
            <p:spPr>
              <a:xfrm rot="20700000">
                <a:off x="3008160" y="2591640"/>
                <a:ext cx="420480" cy="27288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rot="20700000">
                <a:off x="2677320" y="1596600"/>
                <a:ext cx="424440" cy="2736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8" name=""/>
              <p:cNvSpPr/>
              <p:nvPr/>
            </p:nvSpPr>
            <p:spPr>
              <a:xfrm rot="20700000">
                <a:off x="2111760" y="1787040"/>
                <a:ext cx="256680" cy="1681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9" name=""/>
              <p:cNvSpPr/>
              <p:nvPr/>
            </p:nvSpPr>
            <p:spPr>
              <a:xfrm rot="20700000">
                <a:off x="2158920" y="2451600"/>
                <a:ext cx="255960" cy="1609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0" name=""/>
              <p:cNvSpPr/>
              <p:nvPr/>
            </p:nvSpPr>
            <p:spPr>
              <a:xfrm rot="20700000">
                <a:off x="1924920" y="2210040"/>
                <a:ext cx="421560" cy="26568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1" name=""/>
              <p:cNvSpPr/>
              <p:nvPr/>
            </p:nvSpPr>
            <p:spPr>
              <a:xfrm rot="20700000">
                <a:off x="2351880" y="1666080"/>
                <a:ext cx="423360" cy="27144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rot="20700000">
                <a:off x="4039560" y="2309400"/>
                <a:ext cx="426600" cy="2721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rot="20700000">
                <a:off x="3732120" y="2431440"/>
                <a:ext cx="426600" cy="2772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4" name=""/>
              <p:cNvGrpSpPr/>
              <p:nvPr/>
            </p:nvGrpSpPr>
            <p:grpSpPr>
              <a:xfrm>
                <a:off x="1817280" y="1537920"/>
                <a:ext cx="2634480" cy="1436760"/>
                <a:chOff x="1817280" y="1537920"/>
                <a:chExt cx="2634480" cy="1436760"/>
              </a:xfrm>
            </p:grpSpPr>
            <p:sp>
              <p:nvSpPr>
                <p:cNvPr id="2545" name=""/>
                <p:cNvSpPr/>
                <p:nvPr/>
              </p:nvSpPr>
              <p:spPr>
                <a:xfrm rot="20700000">
                  <a:off x="1868040" y="1903320"/>
                  <a:ext cx="759600" cy="4939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6" name=""/>
                <p:cNvGrpSpPr/>
                <p:nvPr/>
              </p:nvGrpSpPr>
              <p:grpSpPr>
                <a:xfrm>
                  <a:off x="2107800" y="1714680"/>
                  <a:ext cx="1615320" cy="1260000"/>
                  <a:chOff x="2107800" y="1714680"/>
                  <a:chExt cx="1615320" cy="1260000"/>
                </a:xfrm>
              </p:grpSpPr>
              <p:sp>
                <p:nvSpPr>
                  <p:cNvPr id="2547" name=""/>
                  <p:cNvSpPr/>
                  <p:nvPr/>
                </p:nvSpPr>
                <p:spPr>
                  <a:xfrm rot="20700000">
                    <a:off x="2202840" y="1883520"/>
                    <a:ext cx="1425240" cy="9223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a:off x="2143800" y="2109600"/>
                    <a:ext cx="220680" cy="261000"/>
                  </a:xfrm>
                  <a:custGeom>
                    <a:avLst/>
                    <a:gdLst/>
                    <a:ahLst/>
                    <a:rect l="l" t="t" r="r" b="b"/>
                    <a:pathLst>
                      <a:path w="213" h="323">
                        <a:moveTo>
                          <a:pt x="164" y="0"/>
                        </a:moveTo>
                        <a:lnTo>
                          <a:pt x="0" y="316"/>
                        </a:lnTo>
                        <a:lnTo>
                          <a:pt x="121" y="322"/>
                        </a:lnTo>
                        <a:lnTo>
                          <a:pt x="212" y="13"/>
                        </a:lnTo>
                        <a:lnTo>
                          <a:pt x="164"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9" name=""/>
                <p:cNvSpPr/>
                <p:nvPr/>
              </p:nvSpPr>
              <p:spPr>
                <a:xfrm rot="20700000">
                  <a:off x="2724120" y="1878480"/>
                  <a:ext cx="1426320" cy="92304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rot="20700000">
                  <a:off x="3907080" y="1878480"/>
                  <a:ext cx="510480" cy="33048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rot="20700000">
                  <a:off x="3892680" y="2404080"/>
                  <a:ext cx="338760" cy="22284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rot="20700000">
                  <a:off x="3703320" y="1831320"/>
                  <a:ext cx="339480" cy="2149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3" name=""/>
                <p:cNvSpPr/>
                <p:nvPr/>
              </p:nvSpPr>
              <p:spPr>
                <a:xfrm rot="20700000">
                  <a:off x="3898080" y="2109960"/>
                  <a:ext cx="512640" cy="3265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4" name=""/>
                <p:cNvSpPr/>
                <p:nvPr/>
              </p:nvSpPr>
              <p:spPr>
                <a:xfrm rot="20700000">
                  <a:off x="2238120" y="1712880"/>
                  <a:ext cx="761400" cy="4903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5" name=""/>
                <p:cNvSpPr/>
                <p:nvPr/>
              </p:nvSpPr>
              <p:spPr>
                <a:xfrm rot="20700000">
                  <a:off x="3000600" y="1661040"/>
                  <a:ext cx="761400" cy="49068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6" name=""/>
                <p:cNvSpPr/>
                <p:nvPr/>
              </p:nvSpPr>
              <p:spPr>
                <a:xfrm rot="20700000">
                  <a:off x="2640240" y="1627920"/>
                  <a:ext cx="762120" cy="4903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rot="20700000">
                  <a:off x="2590200" y="2253600"/>
                  <a:ext cx="756000" cy="4914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8" name=""/>
                <p:cNvSpPr/>
                <p:nvPr/>
              </p:nvSpPr>
              <p:spPr>
                <a:xfrm>
                  <a:off x="2328120" y="1723320"/>
                  <a:ext cx="1892880" cy="1003320"/>
                </a:xfrm>
                <a:custGeom>
                  <a:avLst/>
                  <a:gdLst/>
                  <a:ahLst/>
                  <a:rect l="l" t="t" r="r" b="b"/>
                  <a:pathLst>
                    <a:path w="1827" h="1241">
                      <a:moveTo>
                        <a:pt x="300" y="77"/>
                      </a:moveTo>
                      <a:lnTo>
                        <a:pt x="656" y="143"/>
                      </a:lnTo>
                      <a:lnTo>
                        <a:pt x="1026" y="0"/>
                      </a:lnTo>
                      <a:lnTo>
                        <a:pt x="1348" y="231"/>
                      </a:lnTo>
                      <a:lnTo>
                        <a:pt x="1418" y="234"/>
                      </a:lnTo>
                      <a:lnTo>
                        <a:pt x="1614" y="282"/>
                      </a:lnTo>
                      <a:lnTo>
                        <a:pt x="1678" y="345"/>
                      </a:lnTo>
                      <a:lnTo>
                        <a:pt x="1826" y="455"/>
                      </a:lnTo>
                      <a:lnTo>
                        <a:pt x="1817" y="502"/>
                      </a:lnTo>
                      <a:lnTo>
                        <a:pt x="1657" y="981"/>
                      </a:lnTo>
                      <a:lnTo>
                        <a:pt x="1485" y="1083"/>
                      </a:lnTo>
                      <a:lnTo>
                        <a:pt x="868" y="1205"/>
                      </a:lnTo>
                      <a:lnTo>
                        <a:pt x="807" y="1152"/>
                      </a:lnTo>
                      <a:lnTo>
                        <a:pt x="388" y="1189"/>
                      </a:lnTo>
                      <a:lnTo>
                        <a:pt x="321" y="1240"/>
                      </a:lnTo>
                      <a:lnTo>
                        <a:pt x="0" y="612"/>
                      </a:lnTo>
                      <a:lnTo>
                        <a:pt x="300" y="77"/>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559" name=""/>
            <p:cNvSpPr/>
            <p:nvPr/>
          </p:nvSpPr>
          <p:spPr>
            <a:xfrm>
              <a:off x="3117240" y="1932120"/>
              <a:ext cx="181440" cy="36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560" name=""/>
          <p:cNvSpPr/>
          <p:nvPr/>
        </p:nvSpPr>
        <p:spPr>
          <a:xfrm flipH="1">
            <a:off x="4995000" y="5262120"/>
            <a:ext cx="20955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Windows 2000 or other L2TP/IPSec capable gateway</a:t>
            </a:r>
            <a:endParaRPr b="0" lang="en-US" sz="1800" spc="-1" strike="noStrike">
              <a:solidFill>
                <a:srgbClr val="ffffff"/>
              </a:solidFill>
              <a:latin typeface="Times New Roman"/>
            </a:endParaRPr>
          </a:p>
        </p:txBody>
      </p:sp>
      <p:sp>
        <p:nvSpPr>
          <p:cNvPr id="2561" name=""/>
          <p:cNvSpPr/>
          <p:nvPr/>
        </p:nvSpPr>
        <p:spPr>
          <a:xfrm flipH="1" flipV="1">
            <a:off x="6885000" y="3998880"/>
            <a:ext cx="1440" cy="102096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62" name=""/>
          <p:cNvGrpSpPr/>
          <p:nvPr/>
        </p:nvGrpSpPr>
        <p:grpSpPr>
          <a:xfrm>
            <a:off x="6311880" y="2706840"/>
            <a:ext cx="1058400" cy="390240"/>
            <a:chOff x="6311880" y="2706840"/>
            <a:chExt cx="1058400" cy="390240"/>
          </a:xfrm>
        </p:grpSpPr>
        <p:grpSp>
          <p:nvGrpSpPr>
            <p:cNvPr id="2563" name=""/>
            <p:cNvGrpSpPr/>
            <p:nvPr/>
          </p:nvGrpSpPr>
          <p:grpSpPr>
            <a:xfrm>
              <a:off x="6311880" y="2706840"/>
              <a:ext cx="1058400" cy="389520"/>
              <a:chOff x="6311880" y="2706840"/>
              <a:chExt cx="1058400" cy="389520"/>
            </a:xfrm>
          </p:grpSpPr>
          <p:sp>
            <p:nvSpPr>
              <p:cNvPr id="2564" name=""/>
              <p:cNvSpPr/>
              <p:nvPr/>
            </p:nvSpPr>
            <p:spPr>
              <a:xfrm flipH="1">
                <a:off x="6345000" y="2732760"/>
                <a:ext cx="713160" cy="6840"/>
              </a:xfrm>
              <a:custGeom>
                <a:avLst/>
                <a:gdLst/>
                <a:ahLst/>
                <a:rect l="l" t="t" r="r" b="b"/>
                <a:pathLst>
                  <a:path w="1294" h="48">
                    <a:moveTo>
                      <a:pt x="0" y="0"/>
                    </a:moveTo>
                    <a:lnTo>
                      <a:pt x="77" y="48"/>
                    </a:lnTo>
                    <a:lnTo>
                      <a:pt x="1294" y="48"/>
                    </a:lnTo>
                    <a:lnTo>
                      <a:pt x="1255" y="0"/>
                    </a:lnTo>
                    <a:lnTo>
                      <a:pt x="0" y="0"/>
                    </a:lnTo>
                    <a:close/>
                  </a:path>
                </a:pathLst>
              </a:custGeom>
              <a:solidFill>
                <a:srgbClr val="e0e0e0"/>
              </a:solidFill>
              <a:ln w="14400">
                <a:solidFill>
                  <a:srgbClr val="808080"/>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565" name=""/>
              <p:cNvSpPr/>
              <p:nvPr/>
            </p:nvSpPr>
            <p:spPr>
              <a:xfrm flipH="1">
                <a:off x="6879960" y="2731320"/>
                <a:ext cx="180720" cy="365040"/>
              </a:xfrm>
              <a:custGeom>
                <a:avLst/>
                <a:gdLst/>
                <a:ahLst/>
                <a:rect l="l" t="t" r="r" b="b"/>
                <a:pathLst>
                  <a:path w="327" h="2469">
                    <a:moveTo>
                      <a:pt x="0" y="2385"/>
                    </a:moveTo>
                    <a:lnTo>
                      <a:pt x="67" y="2469"/>
                    </a:lnTo>
                    <a:lnTo>
                      <a:pt x="327" y="820"/>
                    </a:lnTo>
                    <a:lnTo>
                      <a:pt x="83" y="50"/>
                    </a:lnTo>
                    <a:lnTo>
                      <a:pt x="2" y="0"/>
                    </a:lnTo>
                    <a:lnTo>
                      <a:pt x="0" y="902"/>
                    </a:lnTo>
                    <a:lnTo>
                      <a:pt x="0" y="2385"/>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6" name=""/>
              <p:cNvSpPr/>
              <p:nvPr/>
            </p:nvSpPr>
            <p:spPr>
              <a:xfrm flipH="1">
                <a:off x="7057080" y="2706840"/>
                <a:ext cx="313200" cy="377280"/>
              </a:xfrm>
              <a:custGeom>
                <a:avLst/>
                <a:gdLst/>
                <a:ahLst/>
                <a:rect l="l" t="t" r="r" b="b"/>
                <a:pathLst>
                  <a:path w="569" h="2551">
                    <a:moveTo>
                      <a:pt x="0" y="0"/>
                    </a:moveTo>
                    <a:lnTo>
                      <a:pt x="569" y="167"/>
                    </a:lnTo>
                    <a:lnTo>
                      <a:pt x="569" y="2551"/>
                    </a:lnTo>
                    <a:lnTo>
                      <a:pt x="0" y="1943"/>
                    </a:lnTo>
                    <a:lnTo>
                      <a:pt x="0" y="0"/>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flipH="1">
                <a:off x="6364440" y="2706840"/>
                <a:ext cx="1005840" cy="25920"/>
              </a:xfrm>
              <a:custGeom>
                <a:avLst/>
                <a:gdLst/>
                <a:ahLst/>
                <a:rect l="l" t="t" r="r" b="b"/>
                <a:pathLst>
                  <a:path w="1824" h="175">
                    <a:moveTo>
                      <a:pt x="570" y="175"/>
                    </a:moveTo>
                    <a:lnTo>
                      <a:pt x="1824" y="175"/>
                    </a:lnTo>
                    <a:lnTo>
                      <a:pt x="945" y="0"/>
                    </a:lnTo>
                    <a:lnTo>
                      <a:pt x="0" y="0"/>
                    </a:lnTo>
                    <a:lnTo>
                      <a:pt x="570" y="175"/>
                    </a:lnTo>
                    <a:close/>
                  </a:path>
                </a:pathLst>
              </a:custGeom>
              <a:solidFill>
                <a:srgbClr val="e0e0e0"/>
              </a:solidFill>
              <a:ln w="14400">
                <a:solidFill>
                  <a:srgbClr val="80808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568" name=""/>
              <p:cNvSpPr/>
              <p:nvPr/>
            </p:nvSpPr>
            <p:spPr>
              <a:xfrm flipH="1">
                <a:off x="6369120" y="2869200"/>
                <a:ext cx="649440" cy="22536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flipH="1">
                <a:off x="6313680" y="2738520"/>
                <a:ext cx="702360" cy="114480"/>
              </a:xfrm>
              <a:custGeom>
                <a:avLst/>
                <a:gdLst/>
                <a:ahLst/>
                <a:rect l="l" t="t" r="r" b="b"/>
                <a:pathLst>
                  <a:path w="1273" h="776">
                    <a:moveTo>
                      <a:pt x="0" y="0"/>
                    </a:moveTo>
                    <a:lnTo>
                      <a:pt x="1215" y="0"/>
                    </a:lnTo>
                    <a:lnTo>
                      <a:pt x="1273" y="776"/>
                    </a:lnTo>
                    <a:lnTo>
                      <a:pt x="52" y="776"/>
                    </a:lnTo>
                    <a:lnTo>
                      <a:pt x="0" y="0"/>
                    </a:lnTo>
                    <a:close/>
                  </a:path>
                </a:pathLst>
              </a:custGeom>
              <a:solidFill>
                <a:srgbClr val="c0c0c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0" name=""/>
              <p:cNvSpPr/>
              <p:nvPr/>
            </p:nvSpPr>
            <p:spPr>
              <a:xfrm flipH="1">
                <a:off x="6311880" y="2853360"/>
                <a:ext cx="709920" cy="13680"/>
              </a:xfrm>
              <a:custGeom>
                <a:avLst/>
                <a:gdLst/>
                <a:ahLst/>
                <a:rect l="l" t="t" r="r" b="b"/>
                <a:pathLst>
                  <a:path w="1288" h="92">
                    <a:moveTo>
                      <a:pt x="0" y="92"/>
                    </a:moveTo>
                    <a:lnTo>
                      <a:pt x="1188" y="92"/>
                    </a:lnTo>
                    <a:lnTo>
                      <a:pt x="1288" y="0"/>
                    </a:lnTo>
                    <a:lnTo>
                      <a:pt x="65" y="0"/>
                    </a:lnTo>
                    <a:lnTo>
                      <a:pt x="0" y="92"/>
                    </a:lnTo>
                    <a:close/>
                  </a:path>
                </a:pathLst>
              </a:custGeom>
              <a:solidFill>
                <a:srgbClr val="a0a0a0"/>
              </a:solidFill>
              <a:ln w="14400">
                <a:solidFill>
                  <a:srgbClr val="80808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grpSp>
        <p:grpSp>
          <p:nvGrpSpPr>
            <p:cNvPr id="2571" name=""/>
            <p:cNvGrpSpPr/>
            <p:nvPr/>
          </p:nvGrpSpPr>
          <p:grpSpPr>
            <a:xfrm>
              <a:off x="6816600" y="2732760"/>
              <a:ext cx="197640" cy="364320"/>
              <a:chOff x="6816600" y="2732760"/>
              <a:chExt cx="197640" cy="364320"/>
            </a:xfrm>
          </p:grpSpPr>
          <p:sp>
            <p:nvSpPr>
              <p:cNvPr id="2572" name=""/>
              <p:cNvSpPr/>
              <p:nvPr/>
            </p:nvSpPr>
            <p:spPr>
              <a:xfrm flipH="1">
                <a:off x="6955920" y="2732760"/>
                <a:ext cx="57960" cy="363960"/>
              </a:xfrm>
              <a:custGeom>
                <a:avLst/>
                <a:gdLst/>
                <a:ahLst/>
                <a:rect l="l" t="t" r="r" b="b"/>
                <a:pathLst>
                  <a:path w="107" h="2463">
                    <a:moveTo>
                      <a:pt x="0" y="0"/>
                    </a:moveTo>
                    <a:lnTo>
                      <a:pt x="55" y="41"/>
                    </a:lnTo>
                    <a:lnTo>
                      <a:pt x="107" y="827"/>
                    </a:lnTo>
                    <a:lnTo>
                      <a:pt x="53" y="916"/>
                    </a:lnTo>
                    <a:lnTo>
                      <a:pt x="50"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3" name=""/>
              <p:cNvSpPr/>
              <p:nvPr/>
            </p:nvSpPr>
            <p:spPr>
              <a:xfrm flipH="1">
                <a:off x="6936120" y="2733120"/>
                <a:ext cx="55080" cy="363960"/>
              </a:xfrm>
              <a:custGeom>
                <a:avLst/>
                <a:gdLst/>
                <a:ahLst/>
                <a:rect l="l" t="t" r="r" b="b"/>
                <a:pathLst>
                  <a:path w="101" h="2462">
                    <a:moveTo>
                      <a:pt x="0" y="0"/>
                    </a:moveTo>
                    <a:lnTo>
                      <a:pt x="48" y="41"/>
                    </a:lnTo>
                    <a:lnTo>
                      <a:pt x="101" y="825"/>
                    </a:lnTo>
                    <a:lnTo>
                      <a:pt x="47" y="914"/>
                    </a:lnTo>
                    <a:lnTo>
                      <a:pt x="45" y="2462"/>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4" name=""/>
              <p:cNvSpPr/>
              <p:nvPr/>
            </p:nvSpPr>
            <p:spPr>
              <a:xfrm flipH="1">
                <a:off x="6915240" y="2732760"/>
                <a:ext cx="57960" cy="364320"/>
              </a:xfrm>
              <a:custGeom>
                <a:avLst/>
                <a:gdLst/>
                <a:ahLst/>
                <a:rect l="l" t="t" r="r" b="b"/>
                <a:pathLst>
                  <a:path w="107" h="2463">
                    <a:moveTo>
                      <a:pt x="0" y="0"/>
                    </a:moveTo>
                    <a:lnTo>
                      <a:pt x="53" y="42"/>
                    </a:lnTo>
                    <a:lnTo>
                      <a:pt x="107" y="820"/>
                    </a:lnTo>
                    <a:lnTo>
                      <a:pt x="49" y="908"/>
                    </a:lnTo>
                    <a:lnTo>
                      <a:pt x="49"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5" name=""/>
              <p:cNvSpPr/>
              <p:nvPr/>
            </p:nvSpPr>
            <p:spPr>
              <a:xfrm flipH="1">
                <a:off x="6896520" y="2733120"/>
                <a:ext cx="55800" cy="363240"/>
              </a:xfrm>
              <a:custGeom>
                <a:avLst/>
                <a:gdLst/>
                <a:ahLst/>
                <a:rect l="l" t="t" r="r" b="b"/>
                <a:pathLst>
                  <a:path w="103" h="2456">
                    <a:moveTo>
                      <a:pt x="0" y="0"/>
                    </a:moveTo>
                    <a:lnTo>
                      <a:pt x="50" y="35"/>
                    </a:lnTo>
                    <a:lnTo>
                      <a:pt x="103" y="819"/>
                    </a:lnTo>
                    <a:lnTo>
                      <a:pt x="48" y="909"/>
                    </a:lnTo>
                    <a:lnTo>
                      <a:pt x="46" y="2456"/>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6" name=""/>
              <p:cNvSpPr/>
              <p:nvPr/>
            </p:nvSpPr>
            <p:spPr>
              <a:xfrm flipH="1">
                <a:off x="6875640" y="2732760"/>
                <a:ext cx="56160" cy="362520"/>
              </a:xfrm>
              <a:custGeom>
                <a:avLst/>
                <a:gdLst/>
                <a:ahLst/>
                <a:rect l="l" t="t" r="r" b="b"/>
                <a:pathLst>
                  <a:path w="101" h="2455">
                    <a:moveTo>
                      <a:pt x="0" y="0"/>
                    </a:moveTo>
                    <a:lnTo>
                      <a:pt x="49" y="48"/>
                    </a:lnTo>
                    <a:lnTo>
                      <a:pt x="101" y="819"/>
                    </a:lnTo>
                    <a:lnTo>
                      <a:pt x="46" y="908"/>
                    </a:lnTo>
                    <a:lnTo>
                      <a:pt x="44" y="2455"/>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7" name=""/>
              <p:cNvSpPr/>
              <p:nvPr/>
            </p:nvSpPr>
            <p:spPr>
              <a:xfrm flipH="1">
                <a:off x="6855840" y="2733120"/>
                <a:ext cx="53640" cy="362520"/>
              </a:xfrm>
              <a:custGeom>
                <a:avLst/>
                <a:gdLst/>
                <a:ahLst/>
                <a:rect l="l" t="t" r="r" b="b"/>
                <a:pathLst>
                  <a:path w="97" h="2454">
                    <a:moveTo>
                      <a:pt x="0" y="0"/>
                    </a:moveTo>
                    <a:lnTo>
                      <a:pt x="44" y="41"/>
                    </a:lnTo>
                    <a:lnTo>
                      <a:pt x="97" y="817"/>
                    </a:lnTo>
                    <a:lnTo>
                      <a:pt x="42" y="906"/>
                    </a:lnTo>
                    <a:lnTo>
                      <a:pt x="40" y="2454"/>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8" name=""/>
              <p:cNvSpPr/>
              <p:nvPr/>
            </p:nvSpPr>
            <p:spPr>
              <a:xfrm flipH="1">
                <a:off x="6834960" y="2733120"/>
                <a:ext cx="53640" cy="363960"/>
              </a:xfrm>
              <a:custGeom>
                <a:avLst/>
                <a:gdLst/>
                <a:ahLst/>
                <a:rect l="l" t="t" r="r" b="b"/>
                <a:pathLst>
                  <a:path w="98" h="2460">
                    <a:moveTo>
                      <a:pt x="0" y="0"/>
                    </a:moveTo>
                    <a:lnTo>
                      <a:pt x="43" y="43"/>
                    </a:lnTo>
                    <a:lnTo>
                      <a:pt x="98" y="809"/>
                    </a:lnTo>
                    <a:lnTo>
                      <a:pt x="40" y="905"/>
                    </a:lnTo>
                    <a:lnTo>
                      <a:pt x="40" y="2460"/>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9" name=""/>
              <p:cNvSpPr/>
              <p:nvPr/>
            </p:nvSpPr>
            <p:spPr>
              <a:xfrm flipH="1">
                <a:off x="6816240" y="2733120"/>
                <a:ext cx="53640" cy="362160"/>
              </a:xfrm>
              <a:custGeom>
                <a:avLst/>
                <a:gdLst/>
                <a:ahLst/>
                <a:rect l="l" t="t" r="r" b="b"/>
                <a:pathLst>
                  <a:path w="97" h="2448">
                    <a:moveTo>
                      <a:pt x="0" y="0"/>
                    </a:moveTo>
                    <a:lnTo>
                      <a:pt x="45" y="41"/>
                    </a:lnTo>
                    <a:lnTo>
                      <a:pt x="97" y="812"/>
                    </a:lnTo>
                    <a:lnTo>
                      <a:pt x="44" y="901"/>
                    </a:lnTo>
                    <a:lnTo>
                      <a:pt x="41" y="2448"/>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80" name=""/>
            <p:cNvSpPr/>
            <p:nvPr/>
          </p:nvSpPr>
          <p:spPr>
            <a:xfrm flipH="1">
              <a:off x="6394320" y="2899080"/>
              <a:ext cx="425520" cy="17748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1" name=""/>
            <p:cNvSpPr/>
            <p:nvPr/>
          </p:nvSpPr>
          <p:spPr>
            <a:xfrm flipH="1">
              <a:off x="6394320" y="2934000"/>
              <a:ext cx="425520" cy="33480"/>
            </a:xfrm>
            <a:prstGeom prst="rect">
              <a:avLst/>
            </a:prstGeom>
            <a:solidFill>
              <a:srgbClr val="c0c0c0"/>
            </a:solidFill>
            <a:ln w="1440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82" name=""/>
            <p:cNvSpPr/>
            <p:nvPr/>
          </p:nvSpPr>
          <p:spPr>
            <a:xfrm flipH="1">
              <a:off x="6394320" y="2970000"/>
              <a:ext cx="425520" cy="33480"/>
            </a:xfrm>
            <a:prstGeom prst="rect">
              <a:avLst/>
            </a:prstGeom>
            <a:solidFill>
              <a:srgbClr val="c0c0c0"/>
            </a:solidFill>
            <a:ln w="1440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83" name=""/>
            <p:cNvSpPr/>
            <p:nvPr/>
          </p:nvSpPr>
          <p:spPr>
            <a:xfrm flipH="1">
              <a:off x="6394320" y="3005640"/>
              <a:ext cx="425520" cy="33120"/>
            </a:xfrm>
            <a:prstGeom prst="rect">
              <a:avLst/>
            </a:prstGeom>
            <a:solidFill>
              <a:srgbClr val="c0c0c0"/>
            </a:solidFill>
            <a:ln w="1440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84" name=""/>
            <p:cNvSpPr/>
            <p:nvPr/>
          </p:nvSpPr>
          <p:spPr>
            <a:xfrm flipH="1">
              <a:off x="6468480" y="2940480"/>
              <a:ext cx="278640" cy="19440"/>
            </a:xfrm>
            <a:prstGeom prst="rect">
              <a:avLst/>
            </a:prstGeom>
            <a:solidFill>
              <a:srgbClr val="c0c0c0"/>
            </a:solidFill>
            <a:ln w="1440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585" name=""/>
            <p:cNvSpPr/>
            <p:nvPr/>
          </p:nvSpPr>
          <p:spPr>
            <a:xfrm flipH="1">
              <a:off x="6468480" y="2976480"/>
              <a:ext cx="278640" cy="19440"/>
            </a:xfrm>
            <a:prstGeom prst="rect">
              <a:avLst/>
            </a:prstGeom>
            <a:solidFill>
              <a:srgbClr val="c0c0c0"/>
            </a:solidFill>
            <a:ln w="1440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586" name=""/>
            <p:cNvSpPr/>
            <p:nvPr/>
          </p:nvSpPr>
          <p:spPr>
            <a:xfrm flipH="1">
              <a:off x="6536880" y="2900520"/>
              <a:ext cx="18720" cy="23400"/>
            </a:xfrm>
            <a:custGeom>
              <a:avLst/>
              <a:gdLst/>
              <a:ahLst/>
              <a:rect l="l" t="t" r="r" b="b"/>
              <a:pathLst>
                <a:path w="34" h="157">
                  <a:moveTo>
                    <a:pt x="34" y="0"/>
                  </a:moveTo>
                  <a:lnTo>
                    <a:pt x="34" y="157"/>
                  </a:lnTo>
                  <a:lnTo>
                    <a:pt x="0" y="68"/>
                  </a:lnTo>
                  <a:lnTo>
                    <a:pt x="34" y="0"/>
                  </a:lnTo>
                  <a:close/>
                </a:path>
              </a:pathLst>
            </a:custGeom>
            <a:solidFill>
              <a:srgbClr val="60606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587" name=""/>
            <p:cNvSpPr/>
            <p:nvPr/>
          </p:nvSpPr>
          <p:spPr>
            <a:xfrm flipH="1">
              <a:off x="6482520" y="2945520"/>
              <a:ext cx="250200" cy="3600"/>
            </a:xfrm>
            <a:prstGeom prst="rect">
              <a:avLst/>
            </a:prstGeom>
            <a:solidFill>
              <a:srgbClr val="80808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588" name=""/>
            <p:cNvSpPr/>
            <p:nvPr/>
          </p:nvSpPr>
          <p:spPr>
            <a:xfrm flipH="1">
              <a:off x="6546960" y="2952720"/>
              <a:ext cx="110160" cy="5040"/>
            </a:xfrm>
            <a:custGeom>
              <a:avLst/>
              <a:gdLst/>
              <a:ahLst/>
              <a:rect l="l" t="t" r="r" b="b"/>
              <a:pathLst>
                <a:path w="199" h="37">
                  <a:moveTo>
                    <a:pt x="4" y="37"/>
                  </a:moveTo>
                  <a:lnTo>
                    <a:pt x="0" y="0"/>
                  </a:lnTo>
                  <a:lnTo>
                    <a:pt x="193" y="0"/>
                  </a:lnTo>
                  <a:lnTo>
                    <a:pt x="199" y="36"/>
                  </a:lnTo>
                </a:path>
              </a:pathLst>
            </a:custGeom>
            <a:noFill/>
            <a:ln w="14400">
              <a:solidFill>
                <a:srgbClr val="80808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9" name=""/>
            <p:cNvSpPr/>
            <p:nvPr/>
          </p:nvSpPr>
          <p:spPr>
            <a:xfrm flipH="1">
              <a:off x="6858720" y="2756160"/>
              <a:ext cx="96840" cy="27720"/>
            </a:xfrm>
            <a:custGeom>
              <a:avLst/>
              <a:gdLst/>
              <a:ahLst/>
              <a:rect l="l" t="t" r="r" b="b"/>
              <a:pathLst>
                <a:path w="177" h="186">
                  <a:moveTo>
                    <a:pt x="163" y="0"/>
                  </a:moveTo>
                  <a:lnTo>
                    <a:pt x="0" y="0"/>
                  </a:lnTo>
                  <a:lnTo>
                    <a:pt x="12" y="186"/>
                  </a:lnTo>
                  <a:lnTo>
                    <a:pt x="177" y="186"/>
                  </a:lnTo>
                  <a:lnTo>
                    <a:pt x="163" y="0"/>
                  </a:lnTo>
                  <a:close/>
                </a:path>
              </a:pathLst>
            </a:custGeom>
            <a:solidFill>
              <a:srgbClr val="c0c0c0"/>
            </a:solidFill>
            <a:ln w="144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590" name=""/>
            <p:cNvSpPr/>
            <p:nvPr/>
          </p:nvSpPr>
          <p:spPr>
            <a:xfrm flipH="1">
              <a:off x="6843240" y="2802960"/>
              <a:ext cx="101520" cy="27720"/>
            </a:xfrm>
            <a:custGeom>
              <a:avLst/>
              <a:gdLst/>
              <a:ahLst/>
              <a:rect l="l" t="t" r="r" b="b"/>
              <a:pathLst>
                <a:path w="183" h="188">
                  <a:moveTo>
                    <a:pt x="169" y="0"/>
                  </a:moveTo>
                  <a:lnTo>
                    <a:pt x="0" y="0"/>
                  </a:lnTo>
                  <a:lnTo>
                    <a:pt x="12" y="188"/>
                  </a:lnTo>
                  <a:lnTo>
                    <a:pt x="183" y="187"/>
                  </a:lnTo>
                  <a:lnTo>
                    <a:pt x="169" y="0"/>
                  </a:lnTo>
                  <a:close/>
                </a:path>
              </a:pathLst>
            </a:custGeom>
            <a:solidFill>
              <a:srgbClr val="c0c0c0"/>
            </a:solidFill>
            <a:ln w="144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nvGrpSpPr>
            <p:cNvPr id="2591" name=""/>
            <p:cNvGrpSpPr/>
            <p:nvPr/>
          </p:nvGrpSpPr>
          <p:grpSpPr>
            <a:xfrm>
              <a:off x="6371640" y="2802600"/>
              <a:ext cx="425520" cy="26640"/>
              <a:chOff x="6371640" y="2802600"/>
              <a:chExt cx="425520" cy="26640"/>
            </a:xfrm>
          </p:grpSpPr>
          <p:sp>
            <p:nvSpPr>
              <p:cNvPr id="2592" name=""/>
              <p:cNvSpPr/>
              <p:nvPr/>
            </p:nvSpPr>
            <p:spPr>
              <a:xfrm flipH="1">
                <a:off x="6371640" y="2802600"/>
                <a:ext cx="425520" cy="26640"/>
              </a:xfrm>
              <a:prstGeom prst="rect">
                <a:avLst/>
              </a:prstGeom>
              <a:solidFill>
                <a:srgbClr val="606060"/>
              </a:solidFill>
              <a:ln w="14400">
                <a:solidFill>
                  <a:srgbClr val="80808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93" name=""/>
              <p:cNvSpPr/>
              <p:nvPr/>
            </p:nvSpPr>
            <p:spPr>
              <a:xfrm flipH="1">
                <a:off x="6668280" y="2804760"/>
                <a:ext cx="5148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flipH="1">
                <a:off x="6668280" y="2817360"/>
                <a:ext cx="5148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5" name=""/>
              <p:cNvSpPr/>
              <p:nvPr/>
            </p:nvSpPr>
            <p:spPr>
              <a:xfrm flipH="1">
                <a:off x="6564600" y="2810880"/>
                <a:ext cx="51480" cy="9360"/>
              </a:xfrm>
              <a:prstGeom prst="rect">
                <a:avLst/>
              </a:prstGeom>
              <a:solidFill>
                <a:srgbClr val="008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6" name=""/>
              <p:cNvSpPr/>
              <p:nvPr/>
            </p:nvSpPr>
            <p:spPr>
              <a:xfrm flipH="1">
                <a:off x="6737040" y="2811240"/>
                <a:ext cx="38160" cy="11160"/>
              </a:xfrm>
              <a:prstGeom prst="ellipse">
                <a:avLst/>
              </a:prstGeom>
              <a:solidFill>
                <a:srgbClr val="20202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grpSp>
      <p:grpSp>
        <p:nvGrpSpPr>
          <p:cNvPr id="2597" name=""/>
          <p:cNvGrpSpPr/>
          <p:nvPr/>
        </p:nvGrpSpPr>
        <p:grpSpPr>
          <a:xfrm>
            <a:off x="6478560" y="3478320"/>
            <a:ext cx="653760" cy="711000"/>
            <a:chOff x="6478560" y="3478320"/>
            <a:chExt cx="653760" cy="711000"/>
          </a:xfrm>
        </p:grpSpPr>
        <p:sp>
          <p:nvSpPr>
            <p:cNvPr id="2598" name=""/>
            <p:cNvSpPr/>
            <p:nvPr/>
          </p:nvSpPr>
          <p:spPr>
            <a:xfrm flipH="1">
              <a:off x="6621120" y="3500640"/>
              <a:ext cx="28404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9" name=""/>
            <p:cNvSpPr/>
            <p:nvPr/>
          </p:nvSpPr>
          <p:spPr>
            <a:xfrm flipH="1">
              <a:off x="6636240" y="3862800"/>
              <a:ext cx="25272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0" name=""/>
            <p:cNvSpPr/>
            <p:nvPr/>
          </p:nvSpPr>
          <p:spPr>
            <a:xfrm flipH="1">
              <a:off x="6648480" y="3627000"/>
              <a:ext cx="24048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1" name=""/>
            <p:cNvSpPr/>
            <p:nvPr/>
          </p:nvSpPr>
          <p:spPr>
            <a:xfrm flipH="1">
              <a:off x="6621120" y="3479760"/>
              <a:ext cx="51120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602" name=""/>
            <p:cNvSpPr/>
            <p:nvPr/>
          </p:nvSpPr>
          <p:spPr>
            <a:xfrm flipH="1">
              <a:off x="6904080" y="3479760"/>
              <a:ext cx="22824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3" name=""/>
            <p:cNvSpPr/>
            <p:nvPr/>
          </p:nvSpPr>
          <p:spPr>
            <a:xfrm flipH="1">
              <a:off x="6904440" y="3503880"/>
              <a:ext cx="266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4" name=""/>
            <p:cNvSpPr/>
            <p:nvPr/>
          </p:nvSpPr>
          <p:spPr>
            <a:xfrm flipH="1">
              <a:off x="6636240" y="3625560"/>
              <a:ext cx="25272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5" name=""/>
            <p:cNvSpPr/>
            <p:nvPr/>
          </p:nvSpPr>
          <p:spPr>
            <a:xfrm flipH="1">
              <a:off x="6636240" y="3587760"/>
              <a:ext cx="25272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606" name=""/>
            <p:cNvSpPr/>
            <p:nvPr/>
          </p:nvSpPr>
          <p:spPr>
            <a:xfrm flipH="1">
              <a:off x="6636240" y="3526200"/>
              <a:ext cx="25272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607" name=""/>
            <p:cNvSpPr/>
            <p:nvPr/>
          </p:nvSpPr>
          <p:spPr>
            <a:xfrm flipH="1">
              <a:off x="6621120" y="3478320"/>
              <a:ext cx="51120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608" name=""/>
            <p:cNvSpPr/>
            <p:nvPr/>
          </p:nvSpPr>
          <p:spPr>
            <a:xfrm flipH="1">
              <a:off x="6621120" y="3500640"/>
              <a:ext cx="2854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9" name=""/>
            <p:cNvSpPr/>
            <p:nvPr/>
          </p:nvSpPr>
          <p:spPr>
            <a:xfrm flipH="1">
              <a:off x="6905520" y="3479760"/>
              <a:ext cx="22680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0" name=""/>
            <p:cNvSpPr/>
            <p:nvPr/>
          </p:nvSpPr>
          <p:spPr>
            <a:xfrm>
              <a:off x="6931080" y="350532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flipH="1">
              <a:off x="6621480" y="3514320"/>
              <a:ext cx="30960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12" name=""/>
            <p:cNvSpPr/>
            <p:nvPr/>
          </p:nvSpPr>
          <p:spPr>
            <a:xfrm flipH="1">
              <a:off x="6621480" y="3564000"/>
              <a:ext cx="30960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13" name=""/>
            <p:cNvSpPr/>
            <p:nvPr/>
          </p:nvSpPr>
          <p:spPr>
            <a:xfrm flipH="1">
              <a:off x="6636240" y="3526200"/>
              <a:ext cx="25272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614" name=""/>
            <p:cNvSpPr/>
            <p:nvPr/>
          </p:nvSpPr>
          <p:spPr>
            <a:xfrm flipH="1">
              <a:off x="6621480" y="3579120"/>
              <a:ext cx="30960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15" name=""/>
            <p:cNvSpPr/>
            <p:nvPr/>
          </p:nvSpPr>
          <p:spPr>
            <a:xfrm flipH="1">
              <a:off x="6621480" y="3625560"/>
              <a:ext cx="30960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16" name=""/>
            <p:cNvSpPr/>
            <p:nvPr/>
          </p:nvSpPr>
          <p:spPr>
            <a:xfrm flipH="1">
              <a:off x="6621480" y="3813480"/>
              <a:ext cx="30960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17" name=""/>
            <p:cNvSpPr/>
            <p:nvPr/>
          </p:nvSpPr>
          <p:spPr>
            <a:xfrm>
              <a:off x="6888960" y="363600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8" name=""/>
            <p:cNvSpPr/>
            <p:nvPr/>
          </p:nvSpPr>
          <p:spPr>
            <a:xfrm>
              <a:off x="6637680" y="362700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9" name=""/>
            <p:cNvSpPr/>
            <p:nvPr/>
          </p:nvSpPr>
          <p:spPr>
            <a:xfrm flipH="1">
              <a:off x="6648480" y="3627000"/>
              <a:ext cx="24048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flipH="1">
              <a:off x="6637680" y="3808800"/>
              <a:ext cx="122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21" name=""/>
            <p:cNvSpPr/>
            <p:nvPr/>
          </p:nvSpPr>
          <p:spPr>
            <a:xfrm>
              <a:off x="6649920" y="3688920"/>
              <a:ext cx="23904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2622" name=""/>
            <p:cNvSpPr/>
            <p:nvPr/>
          </p:nvSpPr>
          <p:spPr>
            <a:xfrm>
              <a:off x="6649920" y="3751920"/>
              <a:ext cx="2390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623" name=""/>
            <p:cNvSpPr/>
            <p:nvPr/>
          </p:nvSpPr>
          <p:spPr>
            <a:xfrm flipH="1">
              <a:off x="6621480" y="3862800"/>
              <a:ext cx="30960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24" name=""/>
            <p:cNvSpPr/>
            <p:nvPr/>
          </p:nvSpPr>
          <p:spPr>
            <a:xfrm flipH="1">
              <a:off x="6621480" y="4127400"/>
              <a:ext cx="30960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25" name=""/>
            <p:cNvSpPr/>
            <p:nvPr/>
          </p:nvSpPr>
          <p:spPr>
            <a:xfrm>
              <a:off x="6888960" y="387792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6" name=""/>
            <p:cNvSpPr/>
            <p:nvPr/>
          </p:nvSpPr>
          <p:spPr>
            <a:xfrm>
              <a:off x="6637680" y="386280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7" name=""/>
            <p:cNvSpPr/>
            <p:nvPr/>
          </p:nvSpPr>
          <p:spPr>
            <a:xfrm flipH="1">
              <a:off x="6636240" y="4109400"/>
              <a:ext cx="25272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28" name=""/>
            <p:cNvSpPr/>
            <p:nvPr/>
          </p:nvSpPr>
          <p:spPr>
            <a:xfrm flipH="1">
              <a:off x="6636240" y="4097520"/>
              <a:ext cx="25272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29" name=""/>
            <p:cNvSpPr/>
            <p:nvPr/>
          </p:nvSpPr>
          <p:spPr>
            <a:xfrm flipH="1">
              <a:off x="6636240" y="4087080"/>
              <a:ext cx="25272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630" name=""/>
            <p:cNvSpPr/>
            <p:nvPr/>
          </p:nvSpPr>
          <p:spPr>
            <a:xfrm flipH="1">
              <a:off x="6636240" y="4074840"/>
              <a:ext cx="25272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31" name=""/>
            <p:cNvSpPr/>
            <p:nvPr/>
          </p:nvSpPr>
          <p:spPr>
            <a:xfrm flipH="1">
              <a:off x="6636240" y="4061160"/>
              <a:ext cx="25272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32" name=""/>
            <p:cNvSpPr/>
            <p:nvPr/>
          </p:nvSpPr>
          <p:spPr>
            <a:xfrm flipH="1">
              <a:off x="6648480" y="3528000"/>
              <a:ext cx="24048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633" name=""/>
            <p:cNvSpPr/>
            <p:nvPr/>
          </p:nvSpPr>
          <p:spPr>
            <a:xfrm flipH="1">
              <a:off x="6637680" y="3550320"/>
              <a:ext cx="12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634" name=""/>
            <p:cNvSpPr/>
            <p:nvPr/>
          </p:nvSpPr>
          <p:spPr>
            <a:xfrm flipH="1">
              <a:off x="6694920" y="3587760"/>
              <a:ext cx="13536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635" name=""/>
            <p:cNvSpPr/>
            <p:nvPr/>
          </p:nvSpPr>
          <p:spPr>
            <a:xfrm flipH="1">
              <a:off x="6636240" y="3587760"/>
              <a:ext cx="25272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636" name=""/>
            <p:cNvSpPr/>
            <p:nvPr/>
          </p:nvSpPr>
          <p:spPr>
            <a:xfrm flipH="1">
              <a:off x="6694560" y="3604680"/>
              <a:ext cx="1940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37" name=""/>
            <p:cNvSpPr/>
            <p:nvPr/>
          </p:nvSpPr>
          <p:spPr>
            <a:xfrm>
              <a:off x="6638040" y="3607560"/>
              <a:ext cx="583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638" name=""/>
            <p:cNvSpPr/>
            <p:nvPr/>
          </p:nvSpPr>
          <p:spPr>
            <a:xfrm>
              <a:off x="6696360" y="358776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639" name=""/>
            <p:cNvSpPr/>
            <p:nvPr/>
          </p:nvSpPr>
          <p:spPr>
            <a:xfrm flipH="1">
              <a:off x="6851520" y="3542760"/>
              <a:ext cx="2520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40" name=""/>
            <p:cNvSpPr/>
            <p:nvPr/>
          </p:nvSpPr>
          <p:spPr>
            <a:xfrm flipH="1">
              <a:off x="6816240" y="3541320"/>
              <a:ext cx="2556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41" name=""/>
            <p:cNvSpPr/>
            <p:nvPr/>
          </p:nvSpPr>
          <p:spPr>
            <a:xfrm flipH="1">
              <a:off x="6782040" y="3541320"/>
              <a:ext cx="2556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42" name=""/>
            <p:cNvSpPr/>
            <p:nvPr/>
          </p:nvSpPr>
          <p:spPr>
            <a:xfrm flipH="1">
              <a:off x="6745680" y="3541320"/>
              <a:ext cx="2556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43" name=""/>
            <p:cNvSpPr/>
            <p:nvPr/>
          </p:nvSpPr>
          <p:spPr>
            <a:xfrm flipH="1">
              <a:off x="6709680" y="3539880"/>
              <a:ext cx="2556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44" name=""/>
            <p:cNvSpPr/>
            <p:nvPr/>
          </p:nvSpPr>
          <p:spPr>
            <a:xfrm flipH="1">
              <a:off x="6676560" y="3536640"/>
              <a:ext cx="2556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45" name=""/>
            <p:cNvSpPr/>
            <p:nvPr/>
          </p:nvSpPr>
          <p:spPr>
            <a:xfrm flipH="1">
              <a:off x="6640200" y="3536640"/>
              <a:ext cx="2556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46" name=""/>
            <p:cNvSpPr/>
            <p:nvPr/>
          </p:nvSpPr>
          <p:spPr>
            <a:xfrm flipH="1">
              <a:off x="6635880" y="3627000"/>
              <a:ext cx="2556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flipH="1">
              <a:off x="6478560" y="4091400"/>
              <a:ext cx="14400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2648" name=""/>
          <p:cNvGrpSpPr/>
          <p:nvPr/>
        </p:nvGrpSpPr>
        <p:grpSpPr>
          <a:xfrm>
            <a:off x="4223160" y="1572120"/>
            <a:ext cx="2705040" cy="1396080"/>
            <a:chOff x="4223160" y="1572120"/>
            <a:chExt cx="2705040" cy="1396080"/>
          </a:xfrm>
        </p:grpSpPr>
        <p:grpSp>
          <p:nvGrpSpPr>
            <p:cNvPr id="2649" name=""/>
            <p:cNvGrpSpPr/>
            <p:nvPr/>
          </p:nvGrpSpPr>
          <p:grpSpPr>
            <a:xfrm>
              <a:off x="4223160" y="1572120"/>
              <a:ext cx="2705040" cy="1396080"/>
              <a:chOff x="4223160" y="1572120"/>
              <a:chExt cx="2705040" cy="1396080"/>
            </a:xfrm>
          </p:grpSpPr>
          <p:sp>
            <p:nvSpPr>
              <p:cNvPr id="2650" name=""/>
              <p:cNvSpPr/>
              <p:nvPr/>
            </p:nvSpPr>
            <p:spPr>
              <a:xfrm flipH="1" rot="900000">
                <a:off x="5300280" y="2590920"/>
                <a:ext cx="425520" cy="2628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1" name=""/>
              <p:cNvSpPr/>
              <p:nvPr/>
            </p:nvSpPr>
            <p:spPr>
              <a:xfrm flipH="1" rot="900000">
                <a:off x="5631120" y="1633680"/>
                <a:ext cx="429840" cy="2635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2" name=""/>
              <p:cNvSpPr/>
              <p:nvPr/>
            </p:nvSpPr>
            <p:spPr>
              <a:xfrm flipH="1" rot="900000">
                <a:off x="6373080" y="1816560"/>
                <a:ext cx="259920" cy="16164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3" name=""/>
              <p:cNvSpPr/>
              <p:nvPr/>
            </p:nvSpPr>
            <p:spPr>
              <a:xfrm flipH="1" rot="900000">
                <a:off x="6326280" y="2456640"/>
                <a:ext cx="258840" cy="1548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4" name=""/>
              <p:cNvSpPr/>
              <p:nvPr/>
            </p:nvSpPr>
            <p:spPr>
              <a:xfrm flipH="1" rot="900000">
                <a:off x="6395040" y="2223720"/>
                <a:ext cx="426600" cy="2556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5" name=""/>
              <p:cNvSpPr/>
              <p:nvPr/>
            </p:nvSpPr>
            <p:spPr>
              <a:xfrm flipH="1" rot="900000">
                <a:off x="5961240" y="1699920"/>
                <a:ext cx="428760" cy="2610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6" name=""/>
              <p:cNvSpPr/>
              <p:nvPr/>
            </p:nvSpPr>
            <p:spPr>
              <a:xfrm flipH="1" rot="900000">
                <a:off x="4249440" y="2319480"/>
                <a:ext cx="432000" cy="26244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7" name=""/>
              <p:cNvSpPr/>
              <p:nvPr/>
            </p:nvSpPr>
            <p:spPr>
              <a:xfrm flipH="1" rot="900000">
                <a:off x="4560840" y="2436840"/>
                <a:ext cx="432000" cy="2667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58" name=""/>
              <p:cNvGrpSpPr/>
              <p:nvPr/>
            </p:nvGrpSpPr>
            <p:grpSpPr>
              <a:xfrm>
                <a:off x="4266720" y="1572120"/>
                <a:ext cx="2661480" cy="1396080"/>
                <a:chOff x="4266720" y="1572120"/>
                <a:chExt cx="2661480" cy="1396080"/>
              </a:xfrm>
            </p:grpSpPr>
            <p:sp>
              <p:nvSpPr>
                <p:cNvPr id="2659" name=""/>
                <p:cNvSpPr/>
                <p:nvPr/>
              </p:nvSpPr>
              <p:spPr>
                <a:xfrm flipH="1" rot="900000">
                  <a:off x="6111000" y="1928880"/>
                  <a:ext cx="768600" cy="4752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60" name=""/>
                <p:cNvGrpSpPr/>
                <p:nvPr/>
              </p:nvGrpSpPr>
              <p:grpSpPr>
                <a:xfrm>
                  <a:off x="5009040" y="1737720"/>
                  <a:ext cx="1622880" cy="1230480"/>
                  <a:chOff x="5009040" y="1737720"/>
                  <a:chExt cx="1622880" cy="1230480"/>
                </a:xfrm>
              </p:grpSpPr>
              <p:sp>
                <p:nvSpPr>
                  <p:cNvPr id="2661" name=""/>
                  <p:cNvSpPr/>
                  <p:nvPr/>
                </p:nvSpPr>
                <p:spPr>
                  <a:xfrm flipH="1" rot="900000">
                    <a:off x="5099040" y="1909080"/>
                    <a:ext cx="1442520" cy="8874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2" name=""/>
                  <p:cNvSpPr/>
                  <p:nvPr/>
                </p:nvSpPr>
                <p:spPr>
                  <a:xfrm flipH="1">
                    <a:off x="6378120" y="2127240"/>
                    <a:ext cx="223200" cy="250920"/>
                  </a:xfrm>
                  <a:custGeom>
                    <a:avLst/>
                    <a:gdLst/>
                    <a:ahLst/>
                    <a:rect l="l" t="t" r="r" b="b"/>
                    <a:pathLst>
                      <a:path w="213" h="323">
                        <a:moveTo>
                          <a:pt x="164" y="0"/>
                        </a:moveTo>
                        <a:lnTo>
                          <a:pt x="0" y="316"/>
                        </a:lnTo>
                        <a:lnTo>
                          <a:pt x="121" y="322"/>
                        </a:lnTo>
                        <a:lnTo>
                          <a:pt x="212" y="13"/>
                        </a:lnTo>
                        <a:lnTo>
                          <a:pt x="164"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63" name=""/>
                <p:cNvSpPr/>
                <p:nvPr/>
              </p:nvSpPr>
              <p:spPr>
                <a:xfrm flipH="1" rot="900000">
                  <a:off x="4569120" y="1904400"/>
                  <a:ext cx="1443960" cy="8881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4" name=""/>
                <p:cNvSpPr/>
                <p:nvPr/>
              </p:nvSpPr>
              <p:spPr>
                <a:xfrm flipH="1" rot="900000">
                  <a:off x="4298760" y="1904400"/>
                  <a:ext cx="516960" cy="31788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5" name=""/>
                <p:cNvSpPr/>
                <p:nvPr/>
              </p:nvSpPr>
              <p:spPr>
                <a:xfrm flipH="1" rot="900000">
                  <a:off x="4487760" y="2410200"/>
                  <a:ext cx="342720" cy="2142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6" name=""/>
                <p:cNvSpPr/>
                <p:nvPr/>
              </p:nvSpPr>
              <p:spPr>
                <a:xfrm flipH="1" rot="900000">
                  <a:off x="4678560" y="1859400"/>
                  <a:ext cx="343800" cy="20664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7" name=""/>
                <p:cNvSpPr/>
                <p:nvPr/>
              </p:nvSpPr>
              <p:spPr>
                <a:xfrm flipH="1" rot="900000">
                  <a:off x="4305960" y="2126880"/>
                  <a:ext cx="519120" cy="3139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8" name=""/>
                <p:cNvSpPr/>
                <p:nvPr/>
              </p:nvSpPr>
              <p:spPr>
                <a:xfrm flipH="1" rot="900000">
                  <a:off x="5735160" y="1744920"/>
                  <a:ext cx="770400" cy="4719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9" name=""/>
                <p:cNvSpPr/>
                <p:nvPr/>
              </p:nvSpPr>
              <p:spPr>
                <a:xfrm flipH="1" rot="900000">
                  <a:off x="4963320" y="1695240"/>
                  <a:ext cx="770400" cy="4719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0" name=""/>
                <p:cNvSpPr/>
                <p:nvPr/>
              </p:nvSpPr>
              <p:spPr>
                <a:xfrm flipH="1" rot="900000">
                  <a:off x="5326920" y="1663920"/>
                  <a:ext cx="771480" cy="4723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1" name=""/>
                <p:cNvSpPr/>
                <p:nvPr/>
              </p:nvSpPr>
              <p:spPr>
                <a:xfrm flipH="1" rot="900000">
                  <a:off x="5383440" y="2265480"/>
                  <a:ext cx="765360" cy="47268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2" name=""/>
                <p:cNvSpPr/>
                <p:nvPr/>
              </p:nvSpPr>
              <p:spPr>
                <a:xfrm flipH="1">
                  <a:off x="4498560" y="1755360"/>
                  <a:ext cx="1915920" cy="965160"/>
                </a:xfrm>
                <a:custGeom>
                  <a:avLst/>
                  <a:gdLst/>
                  <a:ahLst/>
                  <a:rect l="l" t="t" r="r" b="b"/>
                  <a:pathLst>
                    <a:path w="1827" h="1241">
                      <a:moveTo>
                        <a:pt x="300" y="77"/>
                      </a:moveTo>
                      <a:lnTo>
                        <a:pt x="656" y="143"/>
                      </a:lnTo>
                      <a:lnTo>
                        <a:pt x="1026" y="0"/>
                      </a:lnTo>
                      <a:lnTo>
                        <a:pt x="1348" y="231"/>
                      </a:lnTo>
                      <a:lnTo>
                        <a:pt x="1418" y="234"/>
                      </a:lnTo>
                      <a:lnTo>
                        <a:pt x="1614" y="282"/>
                      </a:lnTo>
                      <a:lnTo>
                        <a:pt x="1678" y="345"/>
                      </a:lnTo>
                      <a:lnTo>
                        <a:pt x="1826" y="455"/>
                      </a:lnTo>
                      <a:lnTo>
                        <a:pt x="1817" y="502"/>
                      </a:lnTo>
                      <a:lnTo>
                        <a:pt x="1657" y="981"/>
                      </a:lnTo>
                      <a:lnTo>
                        <a:pt x="1485" y="1083"/>
                      </a:lnTo>
                      <a:lnTo>
                        <a:pt x="868" y="1205"/>
                      </a:lnTo>
                      <a:lnTo>
                        <a:pt x="807" y="1152"/>
                      </a:lnTo>
                      <a:lnTo>
                        <a:pt x="388" y="1189"/>
                      </a:lnTo>
                      <a:lnTo>
                        <a:pt x="321" y="1240"/>
                      </a:lnTo>
                      <a:lnTo>
                        <a:pt x="0" y="612"/>
                      </a:lnTo>
                      <a:lnTo>
                        <a:pt x="300" y="77"/>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673" name=""/>
            <p:cNvSpPr/>
            <p:nvPr/>
          </p:nvSpPr>
          <p:spPr>
            <a:xfrm flipH="1">
              <a:off x="5514480" y="1956240"/>
              <a:ext cx="183600" cy="36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74" name=""/>
          <p:cNvGrpSpPr/>
          <p:nvPr/>
        </p:nvGrpSpPr>
        <p:grpSpPr>
          <a:xfrm>
            <a:off x="4376880" y="4344840"/>
            <a:ext cx="1058400" cy="390600"/>
            <a:chOff x="4376880" y="4344840"/>
            <a:chExt cx="1058400" cy="390600"/>
          </a:xfrm>
        </p:grpSpPr>
        <p:grpSp>
          <p:nvGrpSpPr>
            <p:cNvPr id="2675" name=""/>
            <p:cNvGrpSpPr/>
            <p:nvPr/>
          </p:nvGrpSpPr>
          <p:grpSpPr>
            <a:xfrm>
              <a:off x="4376880" y="4344840"/>
              <a:ext cx="1058400" cy="390240"/>
              <a:chOff x="4376880" y="4344840"/>
              <a:chExt cx="1058400" cy="390240"/>
            </a:xfrm>
          </p:grpSpPr>
          <p:sp>
            <p:nvSpPr>
              <p:cNvPr id="2676" name=""/>
              <p:cNvSpPr/>
              <p:nvPr/>
            </p:nvSpPr>
            <p:spPr>
              <a:xfrm flipH="1">
                <a:off x="4410000" y="4370760"/>
                <a:ext cx="713160" cy="6840"/>
              </a:xfrm>
              <a:custGeom>
                <a:avLst/>
                <a:gdLst/>
                <a:ahLst/>
                <a:rect l="l" t="t" r="r" b="b"/>
                <a:pathLst>
                  <a:path w="1294" h="48">
                    <a:moveTo>
                      <a:pt x="0" y="0"/>
                    </a:moveTo>
                    <a:lnTo>
                      <a:pt x="77" y="48"/>
                    </a:lnTo>
                    <a:lnTo>
                      <a:pt x="1294" y="48"/>
                    </a:lnTo>
                    <a:lnTo>
                      <a:pt x="1255" y="0"/>
                    </a:lnTo>
                    <a:lnTo>
                      <a:pt x="0" y="0"/>
                    </a:lnTo>
                    <a:close/>
                  </a:path>
                </a:pathLst>
              </a:custGeom>
              <a:solidFill>
                <a:srgbClr val="e0e0e0"/>
              </a:solidFill>
              <a:ln w="14400">
                <a:solidFill>
                  <a:srgbClr val="808080"/>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677" name=""/>
              <p:cNvSpPr/>
              <p:nvPr/>
            </p:nvSpPr>
            <p:spPr>
              <a:xfrm flipH="1">
                <a:off x="4944960" y="4369680"/>
                <a:ext cx="180720" cy="365400"/>
              </a:xfrm>
              <a:custGeom>
                <a:avLst/>
                <a:gdLst/>
                <a:ahLst/>
                <a:rect l="l" t="t" r="r" b="b"/>
                <a:pathLst>
                  <a:path w="327" h="2469">
                    <a:moveTo>
                      <a:pt x="0" y="2385"/>
                    </a:moveTo>
                    <a:lnTo>
                      <a:pt x="67" y="2469"/>
                    </a:lnTo>
                    <a:lnTo>
                      <a:pt x="327" y="820"/>
                    </a:lnTo>
                    <a:lnTo>
                      <a:pt x="83" y="50"/>
                    </a:lnTo>
                    <a:lnTo>
                      <a:pt x="2" y="0"/>
                    </a:lnTo>
                    <a:lnTo>
                      <a:pt x="0" y="902"/>
                    </a:lnTo>
                    <a:lnTo>
                      <a:pt x="0" y="2385"/>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8" name=""/>
              <p:cNvSpPr/>
              <p:nvPr/>
            </p:nvSpPr>
            <p:spPr>
              <a:xfrm flipH="1">
                <a:off x="5122080" y="4344840"/>
                <a:ext cx="313200" cy="377640"/>
              </a:xfrm>
              <a:custGeom>
                <a:avLst/>
                <a:gdLst/>
                <a:ahLst/>
                <a:rect l="l" t="t" r="r" b="b"/>
                <a:pathLst>
                  <a:path w="569" h="2551">
                    <a:moveTo>
                      <a:pt x="0" y="0"/>
                    </a:moveTo>
                    <a:lnTo>
                      <a:pt x="569" y="167"/>
                    </a:lnTo>
                    <a:lnTo>
                      <a:pt x="569" y="2551"/>
                    </a:lnTo>
                    <a:lnTo>
                      <a:pt x="0" y="1943"/>
                    </a:lnTo>
                    <a:lnTo>
                      <a:pt x="0" y="0"/>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flipH="1">
                <a:off x="4429440" y="4344840"/>
                <a:ext cx="1005840" cy="25920"/>
              </a:xfrm>
              <a:custGeom>
                <a:avLst/>
                <a:gdLst/>
                <a:ahLst/>
                <a:rect l="l" t="t" r="r" b="b"/>
                <a:pathLst>
                  <a:path w="1824" h="175">
                    <a:moveTo>
                      <a:pt x="570" y="175"/>
                    </a:moveTo>
                    <a:lnTo>
                      <a:pt x="1824" y="175"/>
                    </a:lnTo>
                    <a:lnTo>
                      <a:pt x="945" y="0"/>
                    </a:lnTo>
                    <a:lnTo>
                      <a:pt x="0" y="0"/>
                    </a:lnTo>
                    <a:lnTo>
                      <a:pt x="570" y="175"/>
                    </a:lnTo>
                    <a:close/>
                  </a:path>
                </a:pathLst>
              </a:custGeom>
              <a:solidFill>
                <a:srgbClr val="e0e0e0"/>
              </a:solidFill>
              <a:ln w="14400">
                <a:solidFill>
                  <a:srgbClr val="80808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680" name=""/>
              <p:cNvSpPr/>
              <p:nvPr/>
            </p:nvSpPr>
            <p:spPr>
              <a:xfrm flipH="1">
                <a:off x="4434120" y="4507560"/>
                <a:ext cx="649440" cy="22572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flipH="1">
                <a:off x="4378680" y="4376520"/>
                <a:ext cx="702360" cy="114840"/>
              </a:xfrm>
              <a:custGeom>
                <a:avLst/>
                <a:gdLst/>
                <a:ahLst/>
                <a:rect l="l" t="t" r="r" b="b"/>
                <a:pathLst>
                  <a:path w="1273" h="776">
                    <a:moveTo>
                      <a:pt x="0" y="0"/>
                    </a:moveTo>
                    <a:lnTo>
                      <a:pt x="1215" y="0"/>
                    </a:lnTo>
                    <a:lnTo>
                      <a:pt x="1273" y="776"/>
                    </a:lnTo>
                    <a:lnTo>
                      <a:pt x="52" y="776"/>
                    </a:lnTo>
                    <a:lnTo>
                      <a:pt x="0" y="0"/>
                    </a:lnTo>
                    <a:close/>
                  </a:path>
                </a:pathLst>
              </a:custGeom>
              <a:solidFill>
                <a:srgbClr val="c0c0c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2" name=""/>
              <p:cNvSpPr/>
              <p:nvPr/>
            </p:nvSpPr>
            <p:spPr>
              <a:xfrm flipH="1">
                <a:off x="4376880" y="4491360"/>
                <a:ext cx="709920" cy="13680"/>
              </a:xfrm>
              <a:custGeom>
                <a:avLst/>
                <a:gdLst/>
                <a:ahLst/>
                <a:rect l="l" t="t" r="r" b="b"/>
                <a:pathLst>
                  <a:path w="1288" h="92">
                    <a:moveTo>
                      <a:pt x="0" y="92"/>
                    </a:moveTo>
                    <a:lnTo>
                      <a:pt x="1188" y="92"/>
                    </a:lnTo>
                    <a:lnTo>
                      <a:pt x="1288" y="0"/>
                    </a:lnTo>
                    <a:lnTo>
                      <a:pt x="65" y="0"/>
                    </a:lnTo>
                    <a:lnTo>
                      <a:pt x="0" y="92"/>
                    </a:lnTo>
                    <a:close/>
                  </a:path>
                </a:pathLst>
              </a:custGeom>
              <a:solidFill>
                <a:srgbClr val="a0a0a0"/>
              </a:solidFill>
              <a:ln w="14400">
                <a:solidFill>
                  <a:srgbClr val="80808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grpSp>
        <p:grpSp>
          <p:nvGrpSpPr>
            <p:cNvPr id="2683" name=""/>
            <p:cNvGrpSpPr/>
            <p:nvPr/>
          </p:nvGrpSpPr>
          <p:grpSpPr>
            <a:xfrm>
              <a:off x="4881600" y="4370760"/>
              <a:ext cx="197640" cy="364680"/>
              <a:chOff x="4881600" y="4370760"/>
              <a:chExt cx="197640" cy="364680"/>
            </a:xfrm>
          </p:grpSpPr>
          <p:sp>
            <p:nvSpPr>
              <p:cNvPr id="2684" name=""/>
              <p:cNvSpPr/>
              <p:nvPr/>
            </p:nvSpPr>
            <p:spPr>
              <a:xfrm flipH="1">
                <a:off x="5020920" y="4370760"/>
                <a:ext cx="57960" cy="364320"/>
              </a:xfrm>
              <a:custGeom>
                <a:avLst/>
                <a:gdLst/>
                <a:ahLst/>
                <a:rect l="l" t="t" r="r" b="b"/>
                <a:pathLst>
                  <a:path w="107" h="2463">
                    <a:moveTo>
                      <a:pt x="0" y="0"/>
                    </a:moveTo>
                    <a:lnTo>
                      <a:pt x="55" y="41"/>
                    </a:lnTo>
                    <a:lnTo>
                      <a:pt x="107" y="827"/>
                    </a:lnTo>
                    <a:lnTo>
                      <a:pt x="53" y="916"/>
                    </a:lnTo>
                    <a:lnTo>
                      <a:pt x="50"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5" name=""/>
              <p:cNvSpPr/>
              <p:nvPr/>
            </p:nvSpPr>
            <p:spPr>
              <a:xfrm flipH="1">
                <a:off x="5001120" y="4371120"/>
                <a:ext cx="55080" cy="364320"/>
              </a:xfrm>
              <a:custGeom>
                <a:avLst/>
                <a:gdLst/>
                <a:ahLst/>
                <a:rect l="l" t="t" r="r" b="b"/>
                <a:pathLst>
                  <a:path w="101" h="2462">
                    <a:moveTo>
                      <a:pt x="0" y="0"/>
                    </a:moveTo>
                    <a:lnTo>
                      <a:pt x="48" y="41"/>
                    </a:lnTo>
                    <a:lnTo>
                      <a:pt x="101" y="825"/>
                    </a:lnTo>
                    <a:lnTo>
                      <a:pt x="47" y="914"/>
                    </a:lnTo>
                    <a:lnTo>
                      <a:pt x="45" y="2462"/>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6" name=""/>
              <p:cNvSpPr/>
              <p:nvPr/>
            </p:nvSpPr>
            <p:spPr>
              <a:xfrm flipH="1">
                <a:off x="4980240" y="4370760"/>
                <a:ext cx="57960" cy="364680"/>
              </a:xfrm>
              <a:custGeom>
                <a:avLst/>
                <a:gdLst/>
                <a:ahLst/>
                <a:rect l="l" t="t" r="r" b="b"/>
                <a:pathLst>
                  <a:path w="107" h="2463">
                    <a:moveTo>
                      <a:pt x="0" y="0"/>
                    </a:moveTo>
                    <a:lnTo>
                      <a:pt x="53" y="42"/>
                    </a:lnTo>
                    <a:lnTo>
                      <a:pt x="107" y="820"/>
                    </a:lnTo>
                    <a:lnTo>
                      <a:pt x="49" y="908"/>
                    </a:lnTo>
                    <a:lnTo>
                      <a:pt x="49"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7" name=""/>
              <p:cNvSpPr/>
              <p:nvPr/>
            </p:nvSpPr>
            <p:spPr>
              <a:xfrm flipH="1">
                <a:off x="4961520" y="4371120"/>
                <a:ext cx="55800" cy="363600"/>
              </a:xfrm>
              <a:custGeom>
                <a:avLst/>
                <a:gdLst/>
                <a:ahLst/>
                <a:rect l="l" t="t" r="r" b="b"/>
                <a:pathLst>
                  <a:path w="103" h="2456">
                    <a:moveTo>
                      <a:pt x="0" y="0"/>
                    </a:moveTo>
                    <a:lnTo>
                      <a:pt x="50" y="35"/>
                    </a:lnTo>
                    <a:lnTo>
                      <a:pt x="103" y="819"/>
                    </a:lnTo>
                    <a:lnTo>
                      <a:pt x="48" y="909"/>
                    </a:lnTo>
                    <a:lnTo>
                      <a:pt x="46" y="2456"/>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flipH="1">
                <a:off x="4940640" y="4370760"/>
                <a:ext cx="56160" cy="362880"/>
              </a:xfrm>
              <a:custGeom>
                <a:avLst/>
                <a:gdLst/>
                <a:ahLst/>
                <a:rect l="l" t="t" r="r" b="b"/>
                <a:pathLst>
                  <a:path w="101" h="2455">
                    <a:moveTo>
                      <a:pt x="0" y="0"/>
                    </a:moveTo>
                    <a:lnTo>
                      <a:pt x="49" y="48"/>
                    </a:lnTo>
                    <a:lnTo>
                      <a:pt x="101" y="819"/>
                    </a:lnTo>
                    <a:lnTo>
                      <a:pt x="46" y="908"/>
                    </a:lnTo>
                    <a:lnTo>
                      <a:pt x="44" y="2455"/>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flipH="1">
                <a:off x="4920840" y="4371120"/>
                <a:ext cx="53640" cy="362880"/>
              </a:xfrm>
              <a:custGeom>
                <a:avLst/>
                <a:gdLst/>
                <a:ahLst/>
                <a:rect l="l" t="t" r="r" b="b"/>
                <a:pathLst>
                  <a:path w="97" h="2454">
                    <a:moveTo>
                      <a:pt x="0" y="0"/>
                    </a:moveTo>
                    <a:lnTo>
                      <a:pt x="44" y="41"/>
                    </a:lnTo>
                    <a:lnTo>
                      <a:pt x="97" y="817"/>
                    </a:lnTo>
                    <a:lnTo>
                      <a:pt x="42" y="906"/>
                    </a:lnTo>
                    <a:lnTo>
                      <a:pt x="40" y="2454"/>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flipH="1">
                <a:off x="4899960" y="4371120"/>
                <a:ext cx="53640" cy="364320"/>
              </a:xfrm>
              <a:custGeom>
                <a:avLst/>
                <a:gdLst/>
                <a:ahLst/>
                <a:rect l="l" t="t" r="r" b="b"/>
                <a:pathLst>
                  <a:path w="98" h="2460">
                    <a:moveTo>
                      <a:pt x="0" y="0"/>
                    </a:moveTo>
                    <a:lnTo>
                      <a:pt x="43" y="43"/>
                    </a:lnTo>
                    <a:lnTo>
                      <a:pt x="98" y="809"/>
                    </a:lnTo>
                    <a:lnTo>
                      <a:pt x="40" y="905"/>
                    </a:lnTo>
                    <a:lnTo>
                      <a:pt x="40" y="2460"/>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flipH="1">
                <a:off x="4881240" y="4371120"/>
                <a:ext cx="53640" cy="362520"/>
              </a:xfrm>
              <a:custGeom>
                <a:avLst/>
                <a:gdLst/>
                <a:ahLst/>
                <a:rect l="l" t="t" r="r" b="b"/>
                <a:pathLst>
                  <a:path w="97" h="2448">
                    <a:moveTo>
                      <a:pt x="0" y="0"/>
                    </a:moveTo>
                    <a:lnTo>
                      <a:pt x="45" y="41"/>
                    </a:lnTo>
                    <a:lnTo>
                      <a:pt x="97" y="812"/>
                    </a:lnTo>
                    <a:lnTo>
                      <a:pt x="44" y="901"/>
                    </a:lnTo>
                    <a:lnTo>
                      <a:pt x="41" y="2448"/>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92" name=""/>
            <p:cNvSpPr/>
            <p:nvPr/>
          </p:nvSpPr>
          <p:spPr>
            <a:xfrm flipH="1">
              <a:off x="4459320" y="4537080"/>
              <a:ext cx="425520" cy="17748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3" name=""/>
            <p:cNvSpPr/>
            <p:nvPr/>
          </p:nvSpPr>
          <p:spPr>
            <a:xfrm flipH="1">
              <a:off x="4459320" y="4572000"/>
              <a:ext cx="425520" cy="33480"/>
            </a:xfrm>
            <a:prstGeom prst="rect">
              <a:avLst/>
            </a:prstGeom>
            <a:solidFill>
              <a:srgbClr val="c0c0c0"/>
            </a:solidFill>
            <a:ln w="1440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694" name=""/>
            <p:cNvSpPr/>
            <p:nvPr/>
          </p:nvSpPr>
          <p:spPr>
            <a:xfrm flipH="1">
              <a:off x="4459320" y="4608000"/>
              <a:ext cx="425520" cy="33480"/>
            </a:xfrm>
            <a:prstGeom prst="rect">
              <a:avLst/>
            </a:prstGeom>
            <a:solidFill>
              <a:srgbClr val="c0c0c0"/>
            </a:solidFill>
            <a:ln w="1440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695" name=""/>
            <p:cNvSpPr/>
            <p:nvPr/>
          </p:nvSpPr>
          <p:spPr>
            <a:xfrm flipH="1">
              <a:off x="4459320" y="4643640"/>
              <a:ext cx="425520" cy="33120"/>
            </a:xfrm>
            <a:prstGeom prst="rect">
              <a:avLst/>
            </a:prstGeom>
            <a:solidFill>
              <a:srgbClr val="c0c0c0"/>
            </a:solidFill>
            <a:ln w="1440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96" name=""/>
            <p:cNvSpPr/>
            <p:nvPr/>
          </p:nvSpPr>
          <p:spPr>
            <a:xfrm flipH="1">
              <a:off x="4533480" y="4578480"/>
              <a:ext cx="278640" cy="19440"/>
            </a:xfrm>
            <a:prstGeom prst="rect">
              <a:avLst/>
            </a:prstGeom>
            <a:solidFill>
              <a:srgbClr val="c0c0c0"/>
            </a:solidFill>
            <a:ln w="1440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697" name=""/>
            <p:cNvSpPr/>
            <p:nvPr/>
          </p:nvSpPr>
          <p:spPr>
            <a:xfrm flipH="1">
              <a:off x="4533480" y="4614840"/>
              <a:ext cx="278640" cy="19440"/>
            </a:xfrm>
            <a:prstGeom prst="rect">
              <a:avLst/>
            </a:prstGeom>
            <a:solidFill>
              <a:srgbClr val="c0c0c0"/>
            </a:solidFill>
            <a:ln w="1440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698" name=""/>
            <p:cNvSpPr/>
            <p:nvPr/>
          </p:nvSpPr>
          <p:spPr>
            <a:xfrm flipH="1">
              <a:off x="4601880" y="4538880"/>
              <a:ext cx="18720" cy="23400"/>
            </a:xfrm>
            <a:custGeom>
              <a:avLst/>
              <a:gdLst/>
              <a:ahLst/>
              <a:rect l="l" t="t" r="r" b="b"/>
              <a:pathLst>
                <a:path w="34" h="157">
                  <a:moveTo>
                    <a:pt x="34" y="0"/>
                  </a:moveTo>
                  <a:lnTo>
                    <a:pt x="34" y="157"/>
                  </a:lnTo>
                  <a:lnTo>
                    <a:pt x="0" y="68"/>
                  </a:lnTo>
                  <a:lnTo>
                    <a:pt x="34" y="0"/>
                  </a:lnTo>
                  <a:close/>
                </a:path>
              </a:pathLst>
            </a:custGeom>
            <a:solidFill>
              <a:srgbClr val="60606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699" name=""/>
            <p:cNvSpPr/>
            <p:nvPr/>
          </p:nvSpPr>
          <p:spPr>
            <a:xfrm flipH="1">
              <a:off x="4547520" y="4583880"/>
              <a:ext cx="250200" cy="3600"/>
            </a:xfrm>
            <a:prstGeom prst="rect">
              <a:avLst/>
            </a:prstGeom>
            <a:solidFill>
              <a:srgbClr val="80808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700" name=""/>
            <p:cNvSpPr/>
            <p:nvPr/>
          </p:nvSpPr>
          <p:spPr>
            <a:xfrm flipH="1">
              <a:off x="4611960" y="4591080"/>
              <a:ext cx="110160" cy="5040"/>
            </a:xfrm>
            <a:custGeom>
              <a:avLst/>
              <a:gdLst/>
              <a:ahLst/>
              <a:rect l="l" t="t" r="r" b="b"/>
              <a:pathLst>
                <a:path w="199" h="37">
                  <a:moveTo>
                    <a:pt x="4" y="37"/>
                  </a:moveTo>
                  <a:lnTo>
                    <a:pt x="0" y="0"/>
                  </a:lnTo>
                  <a:lnTo>
                    <a:pt x="193" y="0"/>
                  </a:lnTo>
                  <a:lnTo>
                    <a:pt x="199" y="36"/>
                  </a:lnTo>
                </a:path>
              </a:pathLst>
            </a:custGeom>
            <a:noFill/>
            <a:ln w="14400">
              <a:solidFill>
                <a:srgbClr val="80808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01" name=""/>
            <p:cNvSpPr/>
            <p:nvPr/>
          </p:nvSpPr>
          <p:spPr>
            <a:xfrm flipH="1">
              <a:off x="4923720" y="4394520"/>
              <a:ext cx="96840" cy="27720"/>
            </a:xfrm>
            <a:custGeom>
              <a:avLst/>
              <a:gdLst/>
              <a:ahLst/>
              <a:rect l="l" t="t" r="r" b="b"/>
              <a:pathLst>
                <a:path w="177" h="186">
                  <a:moveTo>
                    <a:pt x="163" y="0"/>
                  </a:moveTo>
                  <a:lnTo>
                    <a:pt x="0" y="0"/>
                  </a:lnTo>
                  <a:lnTo>
                    <a:pt x="12" y="186"/>
                  </a:lnTo>
                  <a:lnTo>
                    <a:pt x="177" y="186"/>
                  </a:lnTo>
                  <a:lnTo>
                    <a:pt x="163" y="0"/>
                  </a:lnTo>
                  <a:close/>
                </a:path>
              </a:pathLst>
            </a:custGeom>
            <a:solidFill>
              <a:srgbClr val="c0c0c0"/>
            </a:solidFill>
            <a:ln w="144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702" name=""/>
            <p:cNvSpPr/>
            <p:nvPr/>
          </p:nvSpPr>
          <p:spPr>
            <a:xfrm flipH="1">
              <a:off x="4908240" y="4441320"/>
              <a:ext cx="101520" cy="27720"/>
            </a:xfrm>
            <a:custGeom>
              <a:avLst/>
              <a:gdLst/>
              <a:ahLst/>
              <a:rect l="l" t="t" r="r" b="b"/>
              <a:pathLst>
                <a:path w="183" h="188">
                  <a:moveTo>
                    <a:pt x="169" y="0"/>
                  </a:moveTo>
                  <a:lnTo>
                    <a:pt x="0" y="0"/>
                  </a:lnTo>
                  <a:lnTo>
                    <a:pt x="12" y="188"/>
                  </a:lnTo>
                  <a:lnTo>
                    <a:pt x="183" y="187"/>
                  </a:lnTo>
                  <a:lnTo>
                    <a:pt x="169" y="0"/>
                  </a:lnTo>
                  <a:close/>
                </a:path>
              </a:pathLst>
            </a:custGeom>
            <a:solidFill>
              <a:srgbClr val="c0c0c0"/>
            </a:solidFill>
            <a:ln w="144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nvGrpSpPr>
            <p:cNvPr id="2703" name=""/>
            <p:cNvGrpSpPr/>
            <p:nvPr/>
          </p:nvGrpSpPr>
          <p:grpSpPr>
            <a:xfrm>
              <a:off x="4436640" y="4440600"/>
              <a:ext cx="425520" cy="26640"/>
              <a:chOff x="4436640" y="4440600"/>
              <a:chExt cx="425520" cy="26640"/>
            </a:xfrm>
          </p:grpSpPr>
          <p:sp>
            <p:nvSpPr>
              <p:cNvPr id="2704" name=""/>
              <p:cNvSpPr/>
              <p:nvPr/>
            </p:nvSpPr>
            <p:spPr>
              <a:xfrm flipH="1">
                <a:off x="4436640" y="4440600"/>
                <a:ext cx="425520" cy="26640"/>
              </a:xfrm>
              <a:prstGeom prst="rect">
                <a:avLst/>
              </a:prstGeom>
              <a:solidFill>
                <a:srgbClr val="606060"/>
              </a:solidFill>
              <a:ln w="14400">
                <a:solidFill>
                  <a:srgbClr val="80808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05" name=""/>
              <p:cNvSpPr/>
              <p:nvPr/>
            </p:nvSpPr>
            <p:spPr>
              <a:xfrm flipH="1">
                <a:off x="4733280" y="4442760"/>
                <a:ext cx="5148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6" name=""/>
              <p:cNvSpPr/>
              <p:nvPr/>
            </p:nvSpPr>
            <p:spPr>
              <a:xfrm flipH="1">
                <a:off x="4733280" y="4455360"/>
                <a:ext cx="5148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7" name=""/>
              <p:cNvSpPr/>
              <p:nvPr/>
            </p:nvSpPr>
            <p:spPr>
              <a:xfrm flipH="1">
                <a:off x="4629600" y="4448880"/>
                <a:ext cx="51480" cy="9360"/>
              </a:xfrm>
              <a:prstGeom prst="rect">
                <a:avLst/>
              </a:prstGeom>
              <a:solidFill>
                <a:srgbClr val="008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8" name=""/>
              <p:cNvSpPr/>
              <p:nvPr/>
            </p:nvSpPr>
            <p:spPr>
              <a:xfrm flipH="1">
                <a:off x="4802040" y="4449240"/>
                <a:ext cx="38160" cy="11160"/>
              </a:xfrm>
              <a:prstGeom prst="ellipse">
                <a:avLst/>
              </a:prstGeom>
              <a:solidFill>
                <a:srgbClr val="20202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grpSp>
      <p:grpSp>
        <p:nvGrpSpPr>
          <p:cNvPr id="2709" name=""/>
          <p:cNvGrpSpPr/>
          <p:nvPr/>
        </p:nvGrpSpPr>
        <p:grpSpPr>
          <a:xfrm>
            <a:off x="4412160" y="5343480"/>
            <a:ext cx="653400" cy="711360"/>
            <a:chOff x="4412160" y="5343480"/>
            <a:chExt cx="653400" cy="711360"/>
          </a:xfrm>
        </p:grpSpPr>
        <p:sp>
          <p:nvSpPr>
            <p:cNvPr id="2710" name=""/>
            <p:cNvSpPr/>
            <p:nvPr/>
          </p:nvSpPr>
          <p:spPr>
            <a:xfrm flipH="1">
              <a:off x="4555080" y="5365800"/>
              <a:ext cx="283680" cy="68868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1" name=""/>
            <p:cNvSpPr/>
            <p:nvPr/>
          </p:nvSpPr>
          <p:spPr>
            <a:xfrm flipH="1">
              <a:off x="4569480" y="5728320"/>
              <a:ext cx="25236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flipH="1">
              <a:off x="4581720" y="5492160"/>
              <a:ext cx="24048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flipH="1">
              <a:off x="4554360" y="5344920"/>
              <a:ext cx="51084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714" name=""/>
            <p:cNvSpPr/>
            <p:nvPr/>
          </p:nvSpPr>
          <p:spPr>
            <a:xfrm flipH="1">
              <a:off x="4837320" y="5344920"/>
              <a:ext cx="228240" cy="70956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flipH="1">
              <a:off x="4837680" y="5369040"/>
              <a:ext cx="26640" cy="68580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flipH="1">
              <a:off x="4569480" y="5490720"/>
              <a:ext cx="252360" cy="2062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7" name=""/>
            <p:cNvSpPr/>
            <p:nvPr/>
          </p:nvSpPr>
          <p:spPr>
            <a:xfrm flipH="1">
              <a:off x="4569480" y="5453280"/>
              <a:ext cx="25236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718" name=""/>
            <p:cNvSpPr/>
            <p:nvPr/>
          </p:nvSpPr>
          <p:spPr>
            <a:xfrm flipH="1">
              <a:off x="4569480" y="5391360"/>
              <a:ext cx="25236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719" name=""/>
            <p:cNvSpPr/>
            <p:nvPr/>
          </p:nvSpPr>
          <p:spPr>
            <a:xfrm flipH="1">
              <a:off x="4554360" y="5343480"/>
              <a:ext cx="51084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20" name=""/>
            <p:cNvSpPr/>
            <p:nvPr/>
          </p:nvSpPr>
          <p:spPr>
            <a:xfrm flipH="1">
              <a:off x="4554720" y="5365800"/>
              <a:ext cx="285480" cy="68868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1" name=""/>
            <p:cNvSpPr/>
            <p:nvPr/>
          </p:nvSpPr>
          <p:spPr>
            <a:xfrm flipH="1">
              <a:off x="4838760" y="5344920"/>
              <a:ext cx="226800" cy="70956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2" name=""/>
            <p:cNvSpPr/>
            <p:nvPr/>
          </p:nvSpPr>
          <p:spPr>
            <a:xfrm>
              <a:off x="4864320" y="5370480"/>
              <a:ext cx="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3" name=""/>
            <p:cNvSpPr/>
            <p:nvPr/>
          </p:nvSpPr>
          <p:spPr>
            <a:xfrm flipH="1">
              <a:off x="4554720" y="5379480"/>
              <a:ext cx="30924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24" name=""/>
            <p:cNvSpPr/>
            <p:nvPr/>
          </p:nvSpPr>
          <p:spPr>
            <a:xfrm flipH="1">
              <a:off x="4554720" y="5429160"/>
              <a:ext cx="30924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25" name=""/>
            <p:cNvSpPr/>
            <p:nvPr/>
          </p:nvSpPr>
          <p:spPr>
            <a:xfrm flipH="1">
              <a:off x="4569480" y="5391360"/>
              <a:ext cx="25236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726" name=""/>
            <p:cNvSpPr/>
            <p:nvPr/>
          </p:nvSpPr>
          <p:spPr>
            <a:xfrm flipH="1">
              <a:off x="4554720" y="5444280"/>
              <a:ext cx="30924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27" name=""/>
            <p:cNvSpPr/>
            <p:nvPr/>
          </p:nvSpPr>
          <p:spPr>
            <a:xfrm flipH="1">
              <a:off x="4554720" y="5490720"/>
              <a:ext cx="30924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28" name=""/>
            <p:cNvSpPr/>
            <p:nvPr/>
          </p:nvSpPr>
          <p:spPr>
            <a:xfrm flipH="1">
              <a:off x="4554720" y="5679000"/>
              <a:ext cx="30924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29" name=""/>
            <p:cNvSpPr/>
            <p:nvPr/>
          </p:nvSpPr>
          <p:spPr>
            <a:xfrm>
              <a:off x="4822200" y="550116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0" name=""/>
            <p:cNvSpPr/>
            <p:nvPr/>
          </p:nvSpPr>
          <p:spPr>
            <a:xfrm>
              <a:off x="4571280" y="5492160"/>
              <a:ext cx="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1" name=""/>
            <p:cNvSpPr/>
            <p:nvPr/>
          </p:nvSpPr>
          <p:spPr>
            <a:xfrm flipH="1">
              <a:off x="4581720" y="5492160"/>
              <a:ext cx="24048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flipH="1">
              <a:off x="4571280" y="5673960"/>
              <a:ext cx="122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33" name=""/>
            <p:cNvSpPr/>
            <p:nvPr/>
          </p:nvSpPr>
          <p:spPr>
            <a:xfrm>
              <a:off x="4583880" y="5554080"/>
              <a:ext cx="238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2734" name=""/>
            <p:cNvSpPr/>
            <p:nvPr/>
          </p:nvSpPr>
          <p:spPr>
            <a:xfrm>
              <a:off x="4583880" y="5617080"/>
              <a:ext cx="23868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735" name=""/>
            <p:cNvSpPr/>
            <p:nvPr/>
          </p:nvSpPr>
          <p:spPr>
            <a:xfrm flipH="1">
              <a:off x="4554720" y="5728320"/>
              <a:ext cx="30924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36" name=""/>
            <p:cNvSpPr/>
            <p:nvPr/>
          </p:nvSpPr>
          <p:spPr>
            <a:xfrm flipH="1">
              <a:off x="4554720" y="5992920"/>
              <a:ext cx="30924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37" name=""/>
            <p:cNvSpPr/>
            <p:nvPr/>
          </p:nvSpPr>
          <p:spPr>
            <a:xfrm>
              <a:off x="4822200" y="574344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8" name=""/>
            <p:cNvSpPr/>
            <p:nvPr/>
          </p:nvSpPr>
          <p:spPr>
            <a:xfrm>
              <a:off x="4571280" y="572832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9" name=""/>
            <p:cNvSpPr/>
            <p:nvPr/>
          </p:nvSpPr>
          <p:spPr>
            <a:xfrm flipH="1">
              <a:off x="4569480" y="5974920"/>
              <a:ext cx="25236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40" name=""/>
            <p:cNvSpPr/>
            <p:nvPr/>
          </p:nvSpPr>
          <p:spPr>
            <a:xfrm flipH="1">
              <a:off x="4569480" y="5963040"/>
              <a:ext cx="25236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41" name=""/>
            <p:cNvSpPr/>
            <p:nvPr/>
          </p:nvSpPr>
          <p:spPr>
            <a:xfrm flipH="1">
              <a:off x="4569480" y="5952240"/>
              <a:ext cx="25236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42" name=""/>
            <p:cNvSpPr/>
            <p:nvPr/>
          </p:nvSpPr>
          <p:spPr>
            <a:xfrm flipH="1">
              <a:off x="4569480" y="5940360"/>
              <a:ext cx="25236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43" name=""/>
            <p:cNvSpPr/>
            <p:nvPr/>
          </p:nvSpPr>
          <p:spPr>
            <a:xfrm flipH="1">
              <a:off x="4569480" y="5926680"/>
              <a:ext cx="25236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44" name=""/>
            <p:cNvSpPr/>
            <p:nvPr/>
          </p:nvSpPr>
          <p:spPr>
            <a:xfrm flipH="1">
              <a:off x="4581720" y="5393160"/>
              <a:ext cx="24048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745" name=""/>
            <p:cNvSpPr/>
            <p:nvPr/>
          </p:nvSpPr>
          <p:spPr>
            <a:xfrm flipH="1">
              <a:off x="4571280" y="5415480"/>
              <a:ext cx="12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746" name=""/>
            <p:cNvSpPr/>
            <p:nvPr/>
          </p:nvSpPr>
          <p:spPr>
            <a:xfrm flipH="1">
              <a:off x="4628520" y="5453280"/>
              <a:ext cx="13500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747" name=""/>
            <p:cNvSpPr/>
            <p:nvPr/>
          </p:nvSpPr>
          <p:spPr>
            <a:xfrm flipH="1">
              <a:off x="4569480" y="5453280"/>
              <a:ext cx="25236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748" name=""/>
            <p:cNvSpPr/>
            <p:nvPr/>
          </p:nvSpPr>
          <p:spPr>
            <a:xfrm flipH="1">
              <a:off x="4628520" y="5469840"/>
              <a:ext cx="19368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49" name=""/>
            <p:cNvSpPr/>
            <p:nvPr/>
          </p:nvSpPr>
          <p:spPr>
            <a:xfrm>
              <a:off x="4571280" y="5472720"/>
              <a:ext cx="583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750" name=""/>
            <p:cNvSpPr/>
            <p:nvPr/>
          </p:nvSpPr>
          <p:spPr>
            <a:xfrm>
              <a:off x="4629600" y="545328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751" name=""/>
            <p:cNvSpPr/>
            <p:nvPr/>
          </p:nvSpPr>
          <p:spPr>
            <a:xfrm flipH="1">
              <a:off x="4784760" y="5407920"/>
              <a:ext cx="2520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52" name=""/>
            <p:cNvSpPr/>
            <p:nvPr/>
          </p:nvSpPr>
          <p:spPr>
            <a:xfrm flipH="1">
              <a:off x="4749840" y="5406480"/>
              <a:ext cx="2556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53" name=""/>
            <p:cNvSpPr/>
            <p:nvPr/>
          </p:nvSpPr>
          <p:spPr>
            <a:xfrm flipH="1">
              <a:off x="4715280" y="5406480"/>
              <a:ext cx="2556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54" name=""/>
            <p:cNvSpPr/>
            <p:nvPr/>
          </p:nvSpPr>
          <p:spPr>
            <a:xfrm flipH="1">
              <a:off x="4679280" y="5406480"/>
              <a:ext cx="2556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55" name=""/>
            <p:cNvSpPr/>
            <p:nvPr/>
          </p:nvSpPr>
          <p:spPr>
            <a:xfrm flipH="1">
              <a:off x="4642920" y="5405040"/>
              <a:ext cx="2556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56" name=""/>
            <p:cNvSpPr/>
            <p:nvPr/>
          </p:nvSpPr>
          <p:spPr>
            <a:xfrm flipH="1">
              <a:off x="4610160" y="5401800"/>
              <a:ext cx="2556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57" name=""/>
            <p:cNvSpPr/>
            <p:nvPr/>
          </p:nvSpPr>
          <p:spPr>
            <a:xfrm flipH="1">
              <a:off x="4573800" y="5401800"/>
              <a:ext cx="2556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58" name=""/>
            <p:cNvSpPr/>
            <p:nvPr/>
          </p:nvSpPr>
          <p:spPr>
            <a:xfrm flipH="1">
              <a:off x="4569480" y="5492160"/>
              <a:ext cx="2556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9" name=""/>
            <p:cNvSpPr/>
            <p:nvPr/>
          </p:nvSpPr>
          <p:spPr>
            <a:xfrm flipH="1">
              <a:off x="4412160" y="5956920"/>
              <a:ext cx="14400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sp>
        <p:nvSpPr>
          <p:cNvPr id="2760" name=""/>
          <p:cNvSpPr/>
          <p:nvPr/>
        </p:nvSpPr>
        <p:spPr>
          <a:xfrm flipH="1">
            <a:off x="6937200" y="4366440"/>
            <a:ext cx="22068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3</a:t>
            </a:r>
            <a:r>
              <a:rPr b="1" lang="en-US" sz="1800" spc="-1" strike="noStrike" baseline="30000">
                <a:solidFill>
                  <a:srgbClr val="fccf00"/>
                </a:solidFill>
                <a:latin typeface="Arial"/>
              </a:rPr>
              <a:t>rd</a:t>
            </a:r>
            <a:r>
              <a:rPr b="1" lang="en-US" sz="1800" spc="-1" strike="noStrike">
                <a:solidFill>
                  <a:srgbClr val="fccf00"/>
                </a:solidFill>
                <a:latin typeface="Arial"/>
              </a:rPr>
              <a:t> party gateway</a:t>
            </a:r>
            <a:endParaRPr b="0" lang="en-US" sz="1800" spc="-1" strike="noStrike">
              <a:solidFill>
                <a:srgbClr val="ffffff"/>
              </a:solidFill>
              <a:latin typeface="Times New Roman"/>
            </a:endParaRPr>
          </a:p>
        </p:txBody>
      </p:sp>
      <p:sp>
        <p:nvSpPr>
          <p:cNvPr id="2761" name=""/>
          <p:cNvSpPr/>
          <p:nvPr/>
        </p:nvSpPr>
        <p:spPr>
          <a:xfrm flipV="1">
            <a:off x="8450280" y="2389320"/>
            <a:ext cx="14400" cy="48096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62" name=""/>
          <p:cNvGrpSpPr/>
          <p:nvPr/>
        </p:nvGrpSpPr>
        <p:grpSpPr>
          <a:xfrm>
            <a:off x="7983360" y="1963800"/>
            <a:ext cx="653760" cy="711000"/>
            <a:chOff x="7983360" y="1963800"/>
            <a:chExt cx="653760" cy="711000"/>
          </a:xfrm>
        </p:grpSpPr>
        <p:sp>
          <p:nvSpPr>
            <p:cNvPr id="2763" name=""/>
            <p:cNvSpPr/>
            <p:nvPr/>
          </p:nvSpPr>
          <p:spPr>
            <a:xfrm flipH="1">
              <a:off x="8125920" y="1986120"/>
              <a:ext cx="284040" cy="68832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4" name=""/>
            <p:cNvSpPr/>
            <p:nvPr/>
          </p:nvSpPr>
          <p:spPr>
            <a:xfrm flipH="1">
              <a:off x="8141040" y="2348280"/>
              <a:ext cx="252720" cy="29304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flipH="1">
              <a:off x="8153280" y="2112480"/>
              <a:ext cx="240480" cy="1969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8125920" y="1965240"/>
              <a:ext cx="511200" cy="280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767" name=""/>
            <p:cNvSpPr/>
            <p:nvPr/>
          </p:nvSpPr>
          <p:spPr>
            <a:xfrm flipH="1">
              <a:off x="8408880" y="1965240"/>
              <a:ext cx="228240" cy="70920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8" name=""/>
            <p:cNvSpPr/>
            <p:nvPr/>
          </p:nvSpPr>
          <p:spPr>
            <a:xfrm flipH="1">
              <a:off x="8409240" y="1989360"/>
              <a:ext cx="26640" cy="6854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flipH="1">
              <a:off x="8141040" y="2111040"/>
              <a:ext cx="252720" cy="2059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flipH="1">
              <a:off x="8141040" y="2073240"/>
              <a:ext cx="252720" cy="4032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771" name=""/>
            <p:cNvSpPr/>
            <p:nvPr/>
          </p:nvSpPr>
          <p:spPr>
            <a:xfrm flipH="1">
              <a:off x="8141040" y="2011680"/>
              <a:ext cx="252720" cy="3456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772" name=""/>
            <p:cNvSpPr/>
            <p:nvPr/>
          </p:nvSpPr>
          <p:spPr>
            <a:xfrm flipH="1">
              <a:off x="8125920" y="1963800"/>
              <a:ext cx="511200" cy="2988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73" name=""/>
            <p:cNvSpPr/>
            <p:nvPr/>
          </p:nvSpPr>
          <p:spPr>
            <a:xfrm flipH="1">
              <a:off x="8125920" y="1986120"/>
              <a:ext cx="285480" cy="68832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4" name=""/>
            <p:cNvSpPr/>
            <p:nvPr/>
          </p:nvSpPr>
          <p:spPr>
            <a:xfrm flipH="1">
              <a:off x="8410320" y="1965240"/>
              <a:ext cx="226800" cy="70920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8435880" y="1990800"/>
              <a:ext cx="0" cy="6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6" name=""/>
            <p:cNvSpPr/>
            <p:nvPr/>
          </p:nvSpPr>
          <p:spPr>
            <a:xfrm flipH="1">
              <a:off x="8126280" y="1999800"/>
              <a:ext cx="309600" cy="2556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77" name=""/>
            <p:cNvSpPr/>
            <p:nvPr/>
          </p:nvSpPr>
          <p:spPr>
            <a:xfrm flipH="1">
              <a:off x="8126280" y="2049480"/>
              <a:ext cx="30960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78" name=""/>
            <p:cNvSpPr/>
            <p:nvPr/>
          </p:nvSpPr>
          <p:spPr>
            <a:xfrm flipH="1">
              <a:off x="8141040" y="2011680"/>
              <a:ext cx="252720" cy="3456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779" name=""/>
            <p:cNvSpPr/>
            <p:nvPr/>
          </p:nvSpPr>
          <p:spPr>
            <a:xfrm flipH="1">
              <a:off x="8126280" y="2064600"/>
              <a:ext cx="30960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80" name=""/>
            <p:cNvSpPr/>
            <p:nvPr/>
          </p:nvSpPr>
          <p:spPr>
            <a:xfrm flipH="1">
              <a:off x="8126280" y="2111040"/>
              <a:ext cx="309600" cy="2556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81" name=""/>
            <p:cNvSpPr/>
            <p:nvPr/>
          </p:nvSpPr>
          <p:spPr>
            <a:xfrm flipH="1">
              <a:off x="8126280" y="2298960"/>
              <a:ext cx="309600" cy="2556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82" name=""/>
            <p:cNvSpPr/>
            <p:nvPr/>
          </p:nvSpPr>
          <p:spPr>
            <a:xfrm>
              <a:off x="8393760" y="212148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3" name=""/>
            <p:cNvSpPr/>
            <p:nvPr/>
          </p:nvSpPr>
          <p:spPr>
            <a:xfrm>
              <a:off x="8142480" y="2112480"/>
              <a:ext cx="0" cy="1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4" name=""/>
            <p:cNvSpPr/>
            <p:nvPr/>
          </p:nvSpPr>
          <p:spPr>
            <a:xfrm flipH="1">
              <a:off x="8153280" y="2112480"/>
              <a:ext cx="240480" cy="19512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flipH="1">
              <a:off x="8142480" y="2294280"/>
              <a:ext cx="122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86" name=""/>
            <p:cNvSpPr/>
            <p:nvPr/>
          </p:nvSpPr>
          <p:spPr>
            <a:xfrm>
              <a:off x="8154720" y="2174400"/>
              <a:ext cx="23904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2787" name=""/>
            <p:cNvSpPr/>
            <p:nvPr/>
          </p:nvSpPr>
          <p:spPr>
            <a:xfrm>
              <a:off x="8154720" y="2237400"/>
              <a:ext cx="2390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788" name=""/>
            <p:cNvSpPr/>
            <p:nvPr/>
          </p:nvSpPr>
          <p:spPr>
            <a:xfrm flipH="1">
              <a:off x="8126280" y="2348280"/>
              <a:ext cx="309600" cy="2556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89" name=""/>
            <p:cNvSpPr/>
            <p:nvPr/>
          </p:nvSpPr>
          <p:spPr>
            <a:xfrm flipH="1">
              <a:off x="8126280" y="2612880"/>
              <a:ext cx="309600" cy="3168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90" name=""/>
            <p:cNvSpPr/>
            <p:nvPr/>
          </p:nvSpPr>
          <p:spPr>
            <a:xfrm>
              <a:off x="8393760" y="236340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1" name=""/>
            <p:cNvSpPr/>
            <p:nvPr/>
          </p:nvSpPr>
          <p:spPr>
            <a:xfrm>
              <a:off x="8142480" y="234828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2" name=""/>
            <p:cNvSpPr/>
            <p:nvPr/>
          </p:nvSpPr>
          <p:spPr>
            <a:xfrm flipH="1">
              <a:off x="8141040" y="2594880"/>
              <a:ext cx="252720" cy="3168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93" name=""/>
            <p:cNvSpPr/>
            <p:nvPr/>
          </p:nvSpPr>
          <p:spPr>
            <a:xfrm flipH="1">
              <a:off x="8141040" y="2583000"/>
              <a:ext cx="252720" cy="3168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94" name=""/>
            <p:cNvSpPr/>
            <p:nvPr/>
          </p:nvSpPr>
          <p:spPr>
            <a:xfrm flipH="1">
              <a:off x="8141040" y="2572560"/>
              <a:ext cx="252720" cy="2988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95" name=""/>
            <p:cNvSpPr/>
            <p:nvPr/>
          </p:nvSpPr>
          <p:spPr>
            <a:xfrm flipH="1">
              <a:off x="8141040" y="2560320"/>
              <a:ext cx="252720" cy="2664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96" name=""/>
            <p:cNvSpPr/>
            <p:nvPr/>
          </p:nvSpPr>
          <p:spPr>
            <a:xfrm flipH="1">
              <a:off x="8141040" y="2546640"/>
              <a:ext cx="252720" cy="284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97" name=""/>
            <p:cNvSpPr/>
            <p:nvPr/>
          </p:nvSpPr>
          <p:spPr>
            <a:xfrm flipH="1">
              <a:off x="8153280" y="2013480"/>
              <a:ext cx="240480" cy="3132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798" name=""/>
            <p:cNvSpPr/>
            <p:nvPr/>
          </p:nvSpPr>
          <p:spPr>
            <a:xfrm flipH="1">
              <a:off x="8142480" y="2035800"/>
              <a:ext cx="12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799" name=""/>
            <p:cNvSpPr/>
            <p:nvPr/>
          </p:nvSpPr>
          <p:spPr>
            <a:xfrm flipH="1">
              <a:off x="8199720" y="2073240"/>
              <a:ext cx="135360" cy="4032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800" name=""/>
            <p:cNvSpPr/>
            <p:nvPr/>
          </p:nvSpPr>
          <p:spPr>
            <a:xfrm flipH="1">
              <a:off x="8141040" y="2073240"/>
              <a:ext cx="252720" cy="3600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801" name=""/>
            <p:cNvSpPr/>
            <p:nvPr/>
          </p:nvSpPr>
          <p:spPr>
            <a:xfrm flipH="1">
              <a:off x="8199360" y="2090160"/>
              <a:ext cx="194040" cy="2556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02" name=""/>
            <p:cNvSpPr/>
            <p:nvPr/>
          </p:nvSpPr>
          <p:spPr>
            <a:xfrm>
              <a:off x="8142840" y="2093040"/>
              <a:ext cx="583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803" name=""/>
            <p:cNvSpPr/>
            <p:nvPr/>
          </p:nvSpPr>
          <p:spPr>
            <a:xfrm>
              <a:off x="8201160" y="207324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804" name=""/>
            <p:cNvSpPr/>
            <p:nvPr/>
          </p:nvSpPr>
          <p:spPr>
            <a:xfrm flipH="1">
              <a:off x="8356320" y="2028240"/>
              <a:ext cx="25200" cy="2556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05" name=""/>
            <p:cNvSpPr/>
            <p:nvPr/>
          </p:nvSpPr>
          <p:spPr>
            <a:xfrm flipH="1">
              <a:off x="8321040" y="2026800"/>
              <a:ext cx="25560" cy="2556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06" name=""/>
            <p:cNvSpPr/>
            <p:nvPr/>
          </p:nvSpPr>
          <p:spPr>
            <a:xfrm flipH="1">
              <a:off x="8286840" y="2026800"/>
              <a:ext cx="25560" cy="2556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07" name=""/>
            <p:cNvSpPr/>
            <p:nvPr/>
          </p:nvSpPr>
          <p:spPr>
            <a:xfrm flipH="1">
              <a:off x="8250480" y="2026800"/>
              <a:ext cx="25560" cy="2556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08" name=""/>
            <p:cNvSpPr/>
            <p:nvPr/>
          </p:nvSpPr>
          <p:spPr>
            <a:xfrm flipH="1">
              <a:off x="8214480" y="2025360"/>
              <a:ext cx="25560" cy="2556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09" name=""/>
            <p:cNvSpPr/>
            <p:nvPr/>
          </p:nvSpPr>
          <p:spPr>
            <a:xfrm flipH="1">
              <a:off x="8181360" y="2022120"/>
              <a:ext cx="25560" cy="2556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10" name=""/>
            <p:cNvSpPr/>
            <p:nvPr/>
          </p:nvSpPr>
          <p:spPr>
            <a:xfrm flipH="1">
              <a:off x="8145000" y="2022120"/>
              <a:ext cx="25560" cy="2556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11" name=""/>
            <p:cNvSpPr/>
            <p:nvPr/>
          </p:nvSpPr>
          <p:spPr>
            <a:xfrm flipH="1">
              <a:off x="8140680" y="2112480"/>
              <a:ext cx="25560" cy="18324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2" name=""/>
            <p:cNvSpPr/>
            <p:nvPr/>
          </p:nvSpPr>
          <p:spPr>
            <a:xfrm flipH="1">
              <a:off x="7983360" y="2576880"/>
              <a:ext cx="144000" cy="6768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2813" name=""/>
          <p:cNvGrpSpPr/>
          <p:nvPr/>
        </p:nvGrpSpPr>
        <p:grpSpPr>
          <a:xfrm>
            <a:off x="1490760" y="2119320"/>
            <a:ext cx="3520800" cy="4142160"/>
            <a:chOff x="1490760" y="2119320"/>
            <a:chExt cx="3520800" cy="4142160"/>
          </a:xfrm>
        </p:grpSpPr>
        <p:sp>
          <p:nvSpPr>
            <p:cNvPr id="2814" name=""/>
            <p:cNvSpPr/>
            <p:nvPr/>
          </p:nvSpPr>
          <p:spPr>
            <a:xfrm>
              <a:off x="1490760" y="2119320"/>
              <a:ext cx="3441600" cy="3286080"/>
            </a:xfrm>
            <a:custGeom>
              <a:avLst/>
              <a:gdLst/>
              <a:ahLst/>
              <a:rect l="l" t="t" r="r" b="b"/>
              <a:pathLst>
                <a:path w="2168" h="2070">
                  <a:moveTo>
                    <a:pt x="90" y="1000"/>
                  </a:moveTo>
                  <a:cubicBezTo>
                    <a:pt x="106" y="953"/>
                    <a:pt x="0" y="878"/>
                    <a:pt x="186" y="726"/>
                  </a:cubicBezTo>
                  <a:cubicBezTo>
                    <a:pt x="372" y="574"/>
                    <a:pt x="900" y="176"/>
                    <a:pt x="1204" y="88"/>
                  </a:cubicBezTo>
                  <a:cubicBezTo>
                    <a:pt x="1508" y="0"/>
                    <a:pt x="1858" y="32"/>
                    <a:pt x="2013" y="198"/>
                  </a:cubicBezTo>
                  <a:cubicBezTo>
                    <a:pt x="2168" y="364"/>
                    <a:pt x="2119" y="770"/>
                    <a:pt x="2136" y="1082"/>
                  </a:cubicBezTo>
                  <a:cubicBezTo>
                    <a:pt x="2153" y="1394"/>
                    <a:pt x="2120" y="1864"/>
                    <a:pt x="2116" y="2070"/>
                  </a:cubicBezTo>
                </a:path>
              </a:pathLst>
            </a:custGeom>
            <a:noFill/>
            <a:ln w="38160">
              <a:solidFill>
                <a:srgbClr val="ff0000"/>
              </a:solidFill>
              <a:round/>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5" name=""/>
            <p:cNvSpPr/>
            <p:nvPr/>
          </p:nvSpPr>
          <p:spPr>
            <a:xfrm>
              <a:off x="1941480" y="4879800"/>
              <a:ext cx="3070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2TP/IPSec Tunnel</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mmended: easy to configure)</a:t>
              </a:r>
              <a:endParaRPr b="0" lang="en-US" sz="2400" spc="-1" strike="noStrike">
                <a:solidFill>
                  <a:srgbClr val="ffffff"/>
                </a:solidFill>
                <a:latin typeface="Times New Roman"/>
              </a:endParaRPr>
            </a:p>
          </p:txBody>
        </p:sp>
      </p:grpSp>
      <p:grpSp>
        <p:nvGrpSpPr>
          <p:cNvPr id="2816" name=""/>
          <p:cNvGrpSpPr/>
          <p:nvPr/>
        </p:nvGrpSpPr>
        <p:grpSpPr>
          <a:xfrm>
            <a:off x="1352520" y="1965240"/>
            <a:ext cx="5688000" cy="2151720"/>
            <a:chOff x="1352520" y="1965240"/>
            <a:chExt cx="5688000" cy="2151720"/>
          </a:xfrm>
        </p:grpSpPr>
        <p:sp>
          <p:nvSpPr>
            <p:cNvPr id="2817" name=""/>
            <p:cNvSpPr/>
            <p:nvPr/>
          </p:nvSpPr>
          <p:spPr>
            <a:xfrm>
              <a:off x="1352520" y="1965240"/>
              <a:ext cx="5489640" cy="1790640"/>
            </a:xfrm>
            <a:custGeom>
              <a:avLst/>
              <a:gdLst/>
              <a:ahLst/>
              <a:rect l="l" t="t" r="r" b="b"/>
              <a:pathLst>
                <a:path w="3458" h="1128">
                  <a:moveTo>
                    <a:pt x="135" y="1128"/>
                  </a:moveTo>
                  <a:cubicBezTo>
                    <a:pt x="67" y="1014"/>
                    <a:pt x="0" y="900"/>
                    <a:pt x="177" y="727"/>
                  </a:cubicBezTo>
                  <a:cubicBezTo>
                    <a:pt x="354" y="554"/>
                    <a:pt x="782" y="178"/>
                    <a:pt x="1195" y="89"/>
                  </a:cubicBezTo>
                  <a:cubicBezTo>
                    <a:pt x="1608" y="0"/>
                    <a:pt x="2302" y="110"/>
                    <a:pt x="2655" y="192"/>
                  </a:cubicBezTo>
                  <a:cubicBezTo>
                    <a:pt x="3008" y="274"/>
                    <a:pt x="3180" y="458"/>
                    <a:pt x="3314" y="583"/>
                  </a:cubicBezTo>
                  <a:cubicBezTo>
                    <a:pt x="3448" y="708"/>
                    <a:pt x="3428" y="868"/>
                    <a:pt x="3458" y="943"/>
                  </a:cubicBezTo>
                </a:path>
              </a:pathLst>
            </a:custGeom>
            <a:noFill/>
            <a:ln w="38160">
              <a:solidFill>
                <a:srgbClr val="ff0000"/>
              </a:solidFill>
              <a:round/>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8" name=""/>
            <p:cNvSpPr/>
            <p:nvPr/>
          </p:nvSpPr>
          <p:spPr>
            <a:xfrm>
              <a:off x="5016600" y="2925720"/>
              <a:ext cx="202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2TP/IPSec or Pure IPSec tunnel</a:t>
              </a:r>
              <a:endParaRPr b="0" lang="en-US" sz="2400" spc="-1" strike="noStrike">
                <a:solidFill>
                  <a:srgbClr val="ffffff"/>
                </a:solidFill>
                <a:latin typeface="Times New Roman"/>
              </a:endParaRPr>
            </a:p>
          </p:txBody>
        </p:sp>
      </p:grpSp>
      <p:grpSp>
        <p:nvGrpSpPr>
          <p:cNvPr id="2819" name=""/>
          <p:cNvGrpSpPr/>
          <p:nvPr/>
        </p:nvGrpSpPr>
        <p:grpSpPr>
          <a:xfrm>
            <a:off x="1289160" y="1639800"/>
            <a:ext cx="6949800" cy="2082960"/>
            <a:chOff x="1289160" y="1639800"/>
            <a:chExt cx="6949800" cy="2082960"/>
          </a:xfrm>
        </p:grpSpPr>
        <p:sp>
          <p:nvSpPr>
            <p:cNvPr id="2820" name=""/>
            <p:cNvSpPr/>
            <p:nvPr/>
          </p:nvSpPr>
          <p:spPr>
            <a:xfrm>
              <a:off x="1289160" y="1639800"/>
              <a:ext cx="6826320" cy="2082960"/>
            </a:xfrm>
            <a:custGeom>
              <a:avLst/>
              <a:gdLst/>
              <a:ahLst/>
              <a:rect l="l" t="t" r="r" b="b"/>
              <a:pathLst>
                <a:path w="4300" h="1312">
                  <a:moveTo>
                    <a:pt x="42" y="1312"/>
                  </a:moveTo>
                  <a:cubicBezTo>
                    <a:pt x="68" y="1217"/>
                    <a:pt x="0" y="922"/>
                    <a:pt x="199" y="730"/>
                  </a:cubicBezTo>
                  <a:cubicBezTo>
                    <a:pt x="398" y="538"/>
                    <a:pt x="812" y="265"/>
                    <a:pt x="1235" y="160"/>
                  </a:cubicBezTo>
                  <a:cubicBezTo>
                    <a:pt x="1658" y="55"/>
                    <a:pt x="2334" y="0"/>
                    <a:pt x="2737" y="98"/>
                  </a:cubicBezTo>
                  <a:cubicBezTo>
                    <a:pt x="3140" y="196"/>
                    <a:pt x="3391" y="669"/>
                    <a:pt x="3652" y="746"/>
                  </a:cubicBezTo>
                  <a:cubicBezTo>
                    <a:pt x="3913" y="823"/>
                    <a:pt x="4165" y="600"/>
                    <a:pt x="4300" y="561"/>
                  </a:cubicBezTo>
                </a:path>
              </a:pathLst>
            </a:custGeom>
            <a:noFill/>
            <a:ln w="38160">
              <a:solidFill>
                <a:srgbClr val="ff0000"/>
              </a:solidFill>
              <a:round/>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1" name=""/>
            <p:cNvSpPr/>
            <p:nvPr/>
          </p:nvSpPr>
          <p:spPr>
            <a:xfrm>
              <a:off x="6672240" y="1822320"/>
              <a:ext cx="156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PTP Tunnel</a:t>
              </a:r>
              <a:endParaRPr b="0" lang="en-US" sz="2400" spc="-1" strike="noStrike">
                <a:solidFill>
                  <a:srgbClr val="ffffff"/>
                </a:solidFill>
                <a:latin typeface="Times New Roman"/>
              </a:endParaRPr>
            </a:p>
          </p:txBody>
        </p:sp>
      </p:grpSp>
      <p:sp>
        <p:nvSpPr>
          <p:cNvPr id="2822" name=""/>
          <p:cNvSpPr/>
          <p:nvPr/>
        </p:nvSpPr>
        <p:spPr>
          <a:xfrm>
            <a:off x="4929120" y="6219720"/>
            <a:ext cx="145404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3" name=""/>
          <p:cNvSpPr/>
          <p:nvPr/>
        </p:nvSpPr>
        <p:spPr>
          <a:xfrm>
            <a:off x="6885000" y="5000760"/>
            <a:ext cx="145404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4" name=""/>
          <p:cNvSpPr/>
          <p:nvPr/>
        </p:nvSpPr>
        <p:spPr>
          <a:xfrm>
            <a:off x="8458200" y="2884320"/>
            <a:ext cx="68580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750960" y="4675320"/>
            <a:ext cx="145404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
          <p:cNvSpPr/>
          <p:nvPr/>
        </p:nvSpPr>
        <p:spPr>
          <a:xfrm flipH="1">
            <a:off x="7293960" y="2893320"/>
            <a:ext cx="20955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Windows NT4 RRAS Gateway</a:t>
            </a:r>
            <a:endParaRPr b="0" lang="en-US" sz="1800" spc="-1" strike="noStrike">
              <a:solidFill>
                <a:srgbClr val="ffffff"/>
              </a:solidFill>
              <a:latin typeface="Times New Roman"/>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7" name=""/>
          <p:cNvSpPr/>
          <p:nvPr/>
        </p:nvSpPr>
        <p:spPr>
          <a:xfrm>
            <a:off x="2743200" y="3124080"/>
            <a:ext cx="2286000" cy="1143000"/>
          </a:xfrm>
          <a:custGeom>
            <a:avLst/>
            <a:gdLst/>
            <a:ahLst/>
            <a:rect l="l" t="t" r="r" b="b"/>
            <a:pathLst>
              <a:path w="1423" h="145">
                <a:moveTo>
                  <a:pt x="0" y="0"/>
                </a:moveTo>
                <a:lnTo>
                  <a:pt x="1423" y="0"/>
                </a:lnTo>
                <a:lnTo>
                  <a:pt x="1423" y="145"/>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28" name="PlaceHolder 1"/>
          <p:cNvSpPr>
            <a:spLocks noGrp="1"/>
          </p:cNvSpPr>
          <p:nvPr>
            <p:ph type="title"/>
          </p:nvPr>
        </p:nvSpPr>
        <p:spPr>
          <a:xfrm>
            <a:off x="365040" y="228240"/>
            <a:ext cx="8431200" cy="1298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cf00"/>
                </a:solidFill>
                <a:latin typeface="Arial"/>
              </a:rPr>
              <a:t>Problem: Traffic unprotected on internal network</a:t>
            </a:r>
            <a:endParaRPr b="1" lang="en-US" sz="4400" spc="-1" strike="noStrike">
              <a:solidFill>
                <a:srgbClr val="fccf00"/>
              </a:solidFill>
              <a:latin typeface="Arial"/>
            </a:endParaRPr>
          </a:p>
        </p:txBody>
      </p:sp>
      <p:grpSp>
        <p:nvGrpSpPr>
          <p:cNvPr id="2829" name=""/>
          <p:cNvGrpSpPr/>
          <p:nvPr/>
        </p:nvGrpSpPr>
        <p:grpSpPr>
          <a:xfrm>
            <a:off x="6477120" y="4572000"/>
            <a:ext cx="528120" cy="574200"/>
            <a:chOff x="6477120" y="4572000"/>
            <a:chExt cx="528120" cy="574200"/>
          </a:xfrm>
        </p:grpSpPr>
        <p:sp>
          <p:nvSpPr>
            <p:cNvPr id="2830" name=""/>
            <p:cNvSpPr/>
            <p:nvPr/>
          </p:nvSpPr>
          <p:spPr>
            <a:xfrm>
              <a:off x="6660360" y="4590000"/>
              <a:ext cx="229320" cy="55620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1" name=""/>
            <p:cNvSpPr/>
            <p:nvPr/>
          </p:nvSpPr>
          <p:spPr>
            <a:xfrm>
              <a:off x="6673680" y="4882680"/>
              <a:ext cx="204120" cy="23688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2" name=""/>
            <p:cNvSpPr/>
            <p:nvPr/>
          </p:nvSpPr>
          <p:spPr>
            <a:xfrm>
              <a:off x="6673680" y="4692240"/>
              <a:ext cx="194400" cy="1591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3" name=""/>
            <p:cNvSpPr/>
            <p:nvPr/>
          </p:nvSpPr>
          <p:spPr>
            <a:xfrm>
              <a:off x="6477120" y="4573080"/>
              <a:ext cx="412920" cy="226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834" name=""/>
            <p:cNvSpPr/>
            <p:nvPr/>
          </p:nvSpPr>
          <p:spPr>
            <a:xfrm>
              <a:off x="6477120" y="4573080"/>
              <a:ext cx="184320" cy="57312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5" name=""/>
            <p:cNvSpPr/>
            <p:nvPr/>
          </p:nvSpPr>
          <p:spPr>
            <a:xfrm>
              <a:off x="6639840" y="4592520"/>
              <a:ext cx="21600" cy="55368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6" name=""/>
            <p:cNvSpPr/>
            <p:nvPr/>
          </p:nvSpPr>
          <p:spPr>
            <a:xfrm>
              <a:off x="6673680" y="4690800"/>
              <a:ext cx="204120" cy="1663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7" name=""/>
            <p:cNvSpPr/>
            <p:nvPr/>
          </p:nvSpPr>
          <p:spPr>
            <a:xfrm>
              <a:off x="6673680" y="4660560"/>
              <a:ext cx="204120" cy="3276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838" name=""/>
            <p:cNvSpPr/>
            <p:nvPr/>
          </p:nvSpPr>
          <p:spPr>
            <a:xfrm>
              <a:off x="6673680" y="4610520"/>
              <a:ext cx="204120" cy="2808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839" name=""/>
            <p:cNvSpPr/>
            <p:nvPr/>
          </p:nvSpPr>
          <p:spPr>
            <a:xfrm>
              <a:off x="6477120" y="4572000"/>
              <a:ext cx="412920" cy="2412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840" name=""/>
            <p:cNvSpPr/>
            <p:nvPr/>
          </p:nvSpPr>
          <p:spPr>
            <a:xfrm>
              <a:off x="6658920" y="4590000"/>
              <a:ext cx="230760" cy="55620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1" name=""/>
            <p:cNvSpPr/>
            <p:nvPr/>
          </p:nvSpPr>
          <p:spPr>
            <a:xfrm>
              <a:off x="6477120" y="4573080"/>
              <a:ext cx="183240" cy="57312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6639840" y="4593960"/>
              <a:ext cx="0" cy="53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3" name=""/>
            <p:cNvSpPr/>
            <p:nvPr/>
          </p:nvSpPr>
          <p:spPr>
            <a:xfrm>
              <a:off x="6639840" y="4601160"/>
              <a:ext cx="250200" cy="2052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44" name=""/>
            <p:cNvSpPr/>
            <p:nvPr/>
          </p:nvSpPr>
          <p:spPr>
            <a:xfrm>
              <a:off x="6639840" y="464112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45" name=""/>
            <p:cNvSpPr/>
            <p:nvPr/>
          </p:nvSpPr>
          <p:spPr>
            <a:xfrm>
              <a:off x="6673680" y="4610520"/>
              <a:ext cx="204120" cy="2808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846" name=""/>
            <p:cNvSpPr/>
            <p:nvPr/>
          </p:nvSpPr>
          <p:spPr>
            <a:xfrm>
              <a:off x="6639840" y="465336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47" name=""/>
            <p:cNvSpPr/>
            <p:nvPr/>
          </p:nvSpPr>
          <p:spPr>
            <a:xfrm>
              <a:off x="6639840" y="469080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48" name=""/>
            <p:cNvSpPr/>
            <p:nvPr/>
          </p:nvSpPr>
          <p:spPr>
            <a:xfrm>
              <a:off x="6639840" y="4842720"/>
              <a:ext cx="250200" cy="2052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49" name=""/>
            <p:cNvSpPr/>
            <p:nvPr/>
          </p:nvSpPr>
          <p:spPr>
            <a:xfrm>
              <a:off x="6673680" y="469944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0" name=""/>
            <p:cNvSpPr/>
            <p:nvPr/>
          </p:nvSpPr>
          <p:spPr>
            <a:xfrm>
              <a:off x="6876720" y="4692240"/>
              <a:ext cx="0" cy="15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1" name=""/>
            <p:cNvSpPr/>
            <p:nvPr/>
          </p:nvSpPr>
          <p:spPr>
            <a:xfrm>
              <a:off x="6673680" y="4692240"/>
              <a:ext cx="194400" cy="1576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2" name=""/>
            <p:cNvSpPr/>
            <p:nvPr/>
          </p:nvSpPr>
          <p:spPr>
            <a:xfrm>
              <a:off x="6867000" y="4839120"/>
              <a:ext cx="972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Times New Roman"/>
              </a:endParaRPr>
            </a:p>
          </p:txBody>
        </p:sp>
        <p:sp>
          <p:nvSpPr>
            <p:cNvPr id="2853" name=""/>
            <p:cNvSpPr/>
            <p:nvPr/>
          </p:nvSpPr>
          <p:spPr>
            <a:xfrm flipH="1">
              <a:off x="6673680" y="4741920"/>
              <a:ext cx="192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854" name=""/>
            <p:cNvSpPr/>
            <p:nvPr/>
          </p:nvSpPr>
          <p:spPr>
            <a:xfrm flipH="1">
              <a:off x="6673680" y="4793040"/>
              <a:ext cx="1929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855" name=""/>
            <p:cNvSpPr/>
            <p:nvPr/>
          </p:nvSpPr>
          <p:spPr>
            <a:xfrm>
              <a:off x="6639840" y="4882680"/>
              <a:ext cx="250200" cy="2052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56" name=""/>
            <p:cNvSpPr/>
            <p:nvPr/>
          </p:nvSpPr>
          <p:spPr>
            <a:xfrm>
              <a:off x="6639840" y="5096520"/>
              <a:ext cx="250200" cy="2556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57" name=""/>
            <p:cNvSpPr/>
            <p:nvPr/>
          </p:nvSpPr>
          <p:spPr>
            <a:xfrm>
              <a:off x="6673680" y="4894920"/>
              <a:ext cx="0" cy="22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8" name=""/>
            <p:cNvSpPr/>
            <p:nvPr/>
          </p:nvSpPr>
          <p:spPr>
            <a:xfrm>
              <a:off x="6876720" y="488268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a:off x="6673680" y="5082120"/>
              <a:ext cx="204120" cy="2556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60" name=""/>
            <p:cNvSpPr/>
            <p:nvPr/>
          </p:nvSpPr>
          <p:spPr>
            <a:xfrm>
              <a:off x="6673680" y="5072400"/>
              <a:ext cx="204120" cy="2556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61" name=""/>
            <p:cNvSpPr/>
            <p:nvPr/>
          </p:nvSpPr>
          <p:spPr>
            <a:xfrm>
              <a:off x="6673680" y="5063760"/>
              <a:ext cx="204120" cy="2412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862" name=""/>
            <p:cNvSpPr/>
            <p:nvPr/>
          </p:nvSpPr>
          <p:spPr>
            <a:xfrm>
              <a:off x="6673680" y="5054040"/>
              <a:ext cx="204120" cy="216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863" name=""/>
            <p:cNvSpPr/>
            <p:nvPr/>
          </p:nvSpPr>
          <p:spPr>
            <a:xfrm>
              <a:off x="6673680" y="5043240"/>
              <a:ext cx="204120" cy="230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864" name=""/>
            <p:cNvSpPr/>
            <p:nvPr/>
          </p:nvSpPr>
          <p:spPr>
            <a:xfrm>
              <a:off x="6673680" y="4611960"/>
              <a:ext cx="194400" cy="2520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65" name=""/>
            <p:cNvSpPr/>
            <p:nvPr/>
          </p:nvSpPr>
          <p:spPr>
            <a:xfrm>
              <a:off x="6867000" y="463032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2866" name=""/>
            <p:cNvSpPr/>
            <p:nvPr/>
          </p:nvSpPr>
          <p:spPr>
            <a:xfrm>
              <a:off x="6721200" y="4660560"/>
              <a:ext cx="109080" cy="3276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867" name=""/>
            <p:cNvSpPr/>
            <p:nvPr/>
          </p:nvSpPr>
          <p:spPr>
            <a:xfrm>
              <a:off x="6673680" y="4660560"/>
              <a:ext cx="204120" cy="29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868" name=""/>
            <p:cNvSpPr/>
            <p:nvPr/>
          </p:nvSpPr>
          <p:spPr>
            <a:xfrm>
              <a:off x="6673680" y="4673880"/>
              <a:ext cx="156600" cy="2052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69" name=""/>
            <p:cNvSpPr/>
            <p:nvPr/>
          </p:nvSpPr>
          <p:spPr>
            <a:xfrm flipH="1">
              <a:off x="6829200" y="4676400"/>
              <a:ext cx="471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870" name=""/>
            <p:cNvSpPr/>
            <p:nvPr/>
          </p:nvSpPr>
          <p:spPr>
            <a:xfrm>
              <a:off x="6829560" y="4660560"/>
              <a:ext cx="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Times New Roman"/>
              </a:endParaRPr>
            </a:p>
          </p:txBody>
        </p:sp>
        <p:sp>
          <p:nvSpPr>
            <p:cNvPr id="2871" name=""/>
            <p:cNvSpPr/>
            <p:nvPr/>
          </p:nvSpPr>
          <p:spPr>
            <a:xfrm>
              <a:off x="6683760" y="4624200"/>
              <a:ext cx="20160" cy="2052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72" name=""/>
            <p:cNvSpPr/>
            <p:nvPr/>
          </p:nvSpPr>
          <p:spPr>
            <a:xfrm>
              <a:off x="6711480" y="4622760"/>
              <a:ext cx="20520" cy="2052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73" name=""/>
            <p:cNvSpPr/>
            <p:nvPr/>
          </p:nvSpPr>
          <p:spPr>
            <a:xfrm>
              <a:off x="6739200" y="4622760"/>
              <a:ext cx="20520" cy="2052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74" name=""/>
            <p:cNvSpPr/>
            <p:nvPr/>
          </p:nvSpPr>
          <p:spPr>
            <a:xfrm>
              <a:off x="6768360" y="4622760"/>
              <a:ext cx="20520" cy="2052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75" name=""/>
            <p:cNvSpPr/>
            <p:nvPr/>
          </p:nvSpPr>
          <p:spPr>
            <a:xfrm>
              <a:off x="6797880" y="4621680"/>
              <a:ext cx="20520" cy="2052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76" name=""/>
            <p:cNvSpPr/>
            <p:nvPr/>
          </p:nvSpPr>
          <p:spPr>
            <a:xfrm>
              <a:off x="6824520" y="4619160"/>
              <a:ext cx="20520" cy="2052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77" name=""/>
            <p:cNvSpPr/>
            <p:nvPr/>
          </p:nvSpPr>
          <p:spPr>
            <a:xfrm>
              <a:off x="6853680" y="4619160"/>
              <a:ext cx="20520" cy="2052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78" name=""/>
            <p:cNvSpPr/>
            <p:nvPr/>
          </p:nvSpPr>
          <p:spPr>
            <a:xfrm>
              <a:off x="6857280" y="4692240"/>
              <a:ext cx="20520" cy="14796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9" name=""/>
            <p:cNvSpPr/>
            <p:nvPr/>
          </p:nvSpPr>
          <p:spPr>
            <a:xfrm>
              <a:off x="6888960" y="5067360"/>
              <a:ext cx="116280" cy="5472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grpSp>
      <p:sp>
        <p:nvSpPr>
          <p:cNvPr id="2880" name=""/>
          <p:cNvSpPr/>
          <p:nvPr/>
        </p:nvSpPr>
        <p:spPr>
          <a:xfrm>
            <a:off x="1571760" y="1901160"/>
            <a:ext cx="2681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Windows 2000 Server as VPN Gateway</a:t>
            </a:r>
            <a:endParaRPr b="0" lang="en-US" sz="1800" spc="-1" strike="noStrike">
              <a:solidFill>
                <a:srgbClr val="ffffff"/>
              </a:solidFill>
              <a:latin typeface="Times New Roman"/>
            </a:endParaRPr>
          </a:p>
        </p:txBody>
      </p:sp>
      <p:sp>
        <p:nvSpPr>
          <p:cNvPr id="2881" name=""/>
          <p:cNvSpPr/>
          <p:nvPr/>
        </p:nvSpPr>
        <p:spPr>
          <a:xfrm rot="1064400">
            <a:off x="890280" y="2873520"/>
            <a:ext cx="512640" cy="147600"/>
          </a:xfrm>
          <a:custGeom>
            <a:avLst/>
            <a:gdLst/>
            <a:ahLst/>
            <a:rect l="l" t="t" r="r" b="b"/>
            <a:pathLst>
              <a:path w="592" h="86">
                <a:moveTo>
                  <a:pt x="0" y="34"/>
                </a:moveTo>
                <a:lnTo>
                  <a:pt x="326" y="0"/>
                </a:lnTo>
                <a:lnTo>
                  <a:pt x="257" y="86"/>
                </a:lnTo>
                <a:lnTo>
                  <a:pt x="592" y="43"/>
                </a:lnTo>
              </a:path>
            </a:pathLst>
          </a:custGeom>
          <a:noFill/>
          <a:ln w="38160">
            <a:solidFill>
              <a:srgbClr val="30517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2" name=""/>
          <p:cNvSpPr/>
          <p:nvPr/>
        </p:nvSpPr>
        <p:spPr>
          <a:xfrm flipV="1">
            <a:off x="1857240" y="3139920"/>
            <a:ext cx="398520" cy="285840"/>
          </a:xfrm>
          <a:prstGeom prst="line">
            <a:avLst/>
          </a:prstGeom>
          <a:ln w="76320">
            <a:solidFill>
              <a:srgbClr val="30517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83" name=""/>
          <p:cNvGrpSpPr/>
          <p:nvPr/>
        </p:nvGrpSpPr>
        <p:grpSpPr>
          <a:xfrm>
            <a:off x="858600" y="2784600"/>
            <a:ext cx="1428840" cy="897840"/>
            <a:chOff x="858600" y="2784600"/>
            <a:chExt cx="1428840" cy="897840"/>
          </a:xfrm>
        </p:grpSpPr>
        <p:grpSp>
          <p:nvGrpSpPr>
            <p:cNvPr id="2884" name=""/>
            <p:cNvGrpSpPr/>
            <p:nvPr/>
          </p:nvGrpSpPr>
          <p:grpSpPr>
            <a:xfrm>
              <a:off x="858600" y="2784600"/>
              <a:ext cx="675720" cy="448560"/>
              <a:chOff x="858600" y="2784600"/>
              <a:chExt cx="675720" cy="448560"/>
            </a:xfrm>
          </p:grpSpPr>
          <p:sp>
            <p:nvSpPr>
              <p:cNvPr id="2885" name=""/>
              <p:cNvSpPr/>
              <p:nvPr/>
            </p:nvSpPr>
            <p:spPr>
              <a:xfrm rot="1373400">
                <a:off x="1450080" y="3014640"/>
                <a:ext cx="43560" cy="21852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86" name=""/>
              <p:cNvGrpSpPr/>
              <p:nvPr/>
            </p:nvGrpSpPr>
            <p:grpSpPr>
              <a:xfrm>
                <a:off x="858600" y="2784600"/>
                <a:ext cx="646200" cy="438480"/>
                <a:chOff x="858600" y="2784600"/>
                <a:chExt cx="646200" cy="438480"/>
              </a:xfrm>
            </p:grpSpPr>
            <p:sp>
              <p:nvSpPr>
                <p:cNvPr id="2887" name=""/>
                <p:cNvSpPr/>
                <p:nvPr/>
              </p:nvSpPr>
              <p:spPr>
                <a:xfrm rot="1373400">
                  <a:off x="896760" y="2794320"/>
                  <a:ext cx="93960" cy="21564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88" name=""/>
                <p:cNvGrpSpPr/>
                <p:nvPr/>
              </p:nvGrpSpPr>
              <p:grpSpPr>
                <a:xfrm>
                  <a:off x="923400" y="2813400"/>
                  <a:ext cx="581400" cy="409680"/>
                  <a:chOff x="923400" y="2813400"/>
                  <a:chExt cx="581400" cy="409680"/>
                </a:xfrm>
              </p:grpSpPr>
              <p:sp>
                <p:nvSpPr>
                  <p:cNvPr id="2889" name=""/>
                  <p:cNvSpPr/>
                  <p:nvPr/>
                </p:nvSpPr>
                <p:spPr>
                  <a:xfrm rot="1373400">
                    <a:off x="1441440" y="3003120"/>
                    <a:ext cx="20160" cy="22464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0" name=""/>
                  <p:cNvSpPr/>
                  <p:nvPr/>
                </p:nvSpPr>
                <p:spPr>
                  <a:xfrm rot="1373400">
                    <a:off x="957960" y="2908440"/>
                    <a:ext cx="510120" cy="22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1" name=""/>
                  <p:cNvSpPr/>
                  <p:nvPr/>
                </p:nvSpPr>
                <p:spPr>
                  <a:xfrm rot="1373400">
                    <a:off x="965880" y="2808360"/>
                    <a:ext cx="20160" cy="22428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2892" name=""/>
            <p:cNvGrpSpPr/>
            <p:nvPr/>
          </p:nvGrpSpPr>
          <p:grpSpPr>
            <a:xfrm>
              <a:off x="1545480" y="3237840"/>
              <a:ext cx="741960" cy="444600"/>
              <a:chOff x="1545480" y="3237840"/>
              <a:chExt cx="741960" cy="444600"/>
            </a:xfrm>
          </p:grpSpPr>
          <p:sp>
            <p:nvSpPr>
              <p:cNvPr id="2893" name=""/>
              <p:cNvSpPr/>
              <p:nvPr/>
            </p:nvSpPr>
            <p:spPr>
              <a:xfrm rot="20409000">
                <a:off x="2203920" y="3239640"/>
                <a:ext cx="48240" cy="21564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94" name=""/>
              <p:cNvGrpSpPr/>
              <p:nvPr/>
            </p:nvGrpSpPr>
            <p:grpSpPr>
              <a:xfrm>
                <a:off x="1545480" y="3247920"/>
                <a:ext cx="707760" cy="434520"/>
                <a:chOff x="1545480" y="3247920"/>
                <a:chExt cx="707760" cy="434520"/>
              </a:xfrm>
            </p:grpSpPr>
            <p:sp>
              <p:nvSpPr>
                <p:cNvPr id="2895" name=""/>
                <p:cNvSpPr/>
                <p:nvPr/>
              </p:nvSpPr>
              <p:spPr>
                <a:xfrm rot="20409000">
                  <a:off x="1578240" y="3458160"/>
                  <a:ext cx="104400" cy="21276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96" name=""/>
                <p:cNvGrpSpPr/>
                <p:nvPr/>
              </p:nvGrpSpPr>
              <p:grpSpPr>
                <a:xfrm>
                  <a:off x="1622160" y="3247920"/>
                  <a:ext cx="631080" cy="414720"/>
                  <a:chOff x="1622160" y="3247920"/>
                  <a:chExt cx="631080" cy="414720"/>
                </a:xfrm>
              </p:grpSpPr>
              <p:sp>
                <p:nvSpPr>
                  <p:cNvPr id="2897" name=""/>
                  <p:cNvSpPr/>
                  <p:nvPr/>
                </p:nvSpPr>
                <p:spPr>
                  <a:xfrm rot="20409000">
                    <a:off x="2193840" y="3245040"/>
                    <a:ext cx="22320" cy="22140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8" name=""/>
                  <p:cNvSpPr/>
                  <p:nvPr/>
                </p:nvSpPr>
                <p:spPr>
                  <a:xfrm rot="20409000">
                    <a:off x="1654560" y="3346920"/>
                    <a:ext cx="566640" cy="219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9" name=""/>
                  <p:cNvSpPr/>
                  <p:nvPr/>
                </p:nvSpPr>
                <p:spPr>
                  <a:xfrm rot="20409000">
                    <a:off x="1658880" y="3444120"/>
                    <a:ext cx="22320" cy="22104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grpSp>
        <p:nvGrpSpPr>
          <p:cNvPr id="2900" name=""/>
          <p:cNvGrpSpPr/>
          <p:nvPr/>
        </p:nvGrpSpPr>
        <p:grpSpPr>
          <a:xfrm>
            <a:off x="859320" y="2789280"/>
            <a:ext cx="1429200" cy="891720"/>
            <a:chOff x="859320" y="2789280"/>
            <a:chExt cx="1429200" cy="891720"/>
          </a:xfrm>
        </p:grpSpPr>
        <p:grpSp>
          <p:nvGrpSpPr>
            <p:cNvPr id="2901" name=""/>
            <p:cNvGrpSpPr/>
            <p:nvPr/>
          </p:nvGrpSpPr>
          <p:grpSpPr>
            <a:xfrm>
              <a:off x="859320" y="2789280"/>
              <a:ext cx="675720" cy="448560"/>
              <a:chOff x="859320" y="2789280"/>
              <a:chExt cx="675720" cy="448560"/>
            </a:xfrm>
          </p:grpSpPr>
          <p:grpSp>
            <p:nvGrpSpPr>
              <p:cNvPr id="2902" name=""/>
              <p:cNvGrpSpPr/>
              <p:nvPr/>
            </p:nvGrpSpPr>
            <p:grpSpPr>
              <a:xfrm>
                <a:off x="859320" y="2789280"/>
                <a:ext cx="675720" cy="448560"/>
                <a:chOff x="859320" y="2789280"/>
                <a:chExt cx="675720" cy="448560"/>
              </a:xfrm>
            </p:grpSpPr>
            <p:sp>
              <p:nvSpPr>
                <p:cNvPr id="2903" name=""/>
                <p:cNvSpPr/>
                <p:nvPr/>
              </p:nvSpPr>
              <p:spPr>
                <a:xfrm rot="1373400">
                  <a:off x="1450800" y="3019320"/>
                  <a:ext cx="43560" cy="21852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04" name=""/>
                <p:cNvGrpSpPr/>
                <p:nvPr/>
              </p:nvGrpSpPr>
              <p:grpSpPr>
                <a:xfrm>
                  <a:off x="859320" y="2789280"/>
                  <a:ext cx="646200" cy="438480"/>
                  <a:chOff x="859320" y="2789280"/>
                  <a:chExt cx="646200" cy="438480"/>
                </a:xfrm>
              </p:grpSpPr>
              <p:sp>
                <p:nvSpPr>
                  <p:cNvPr id="2905" name=""/>
                  <p:cNvSpPr/>
                  <p:nvPr/>
                </p:nvSpPr>
                <p:spPr>
                  <a:xfrm rot="1373400">
                    <a:off x="897480" y="2799000"/>
                    <a:ext cx="94320" cy="21564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06" name=""/>
                  <p:cNvGrpSpPr/>
                  <p:nvPr/>
                </p:nvGrpSpPr>
                <p:grpSpPr>
                  <a:xfrm>
                    <a:off x="923760" y="2818080"/>
                    <a:ext cx="581760" cy="409680"/>
                    <a:chOff x="923760" y="2818080"/>
                    <a:chExt cx="581760" cy="409680"/>
                  </a:xfrm>
                </p:grpSpPr>
                <p:sp>
                  <p:nvSpPr>
                    <p:cNvPr id="2907" name=""/>
                    <p:cNvSpPr/>
                    <p:nvPr/>
                  </p:nvSpPr>
                  <p:spPr>
                    <a:xfrm rot="1373400">
                      <a:off x="1442160" y="3007800"/>
                      <a:ext cx="20160" cy="22464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8" name=""/>
                    <p:cNvSpPr/>
                    <p:nvPr/>
                  </p:nvSpPr>
                  <p:spPr>
                    <a:xfrm rot="1373400">
                      <a:off x="957960" y="2912760"/>
                      <a:ext cx="510480" cy="22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9" name=""/>
                    <p:cNvSpPr/>
                    <p:nvPr/>
                  </p:nvSpPr>
                  <p:spPr>
                    <a:xfrm rot="1373400">
                      <a:off x="966240" y="2813040"/>
                      <a:ext cx="20160" cy="22428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2910" name=""/>
              <p:cNvGrpSpPr/>
              <p:nvPr/>
            </p:nvGrpSpPr>
            <p:grpSpPr>
              <a:xfrm>
                <a:off x="886320" y="2819160"/>
                <a:ext cx="638280" cy="408240"/>
                <a:chOff x="886320" y="2819160"/>
                <a:chExt cx="638280" cy="408240"/>
              </a:xfrm>
            </p:grpSpPr>
            <p:grpSp>
              <p:nvGrpSpPr>
                <p:cNvPr id="2911" name=""/>
                <p:cNvGrpSpPr/>
                <p:nvPr/>
              </p:nvGrpSpPr>
              <p:grpSpPr>
                <a:xfrm>
                  <a:off x="886320" y="2833560"/>
                  <a:ext cx="638280" cy="359640"/>
                  <a:chOff x="886320" y="2833560"/>
                  <a:chExt cx="638280" cy="359640"/>
                </a:xfrm>
              </p:grpSpPr>
              <p:sp>
                <p:nvSpPr>
                  <p:cNvPr id="2912" name=""/>
                  <p:cNvSpPr/>
                  <p:nvPr/>
                </p:nvSpPr>
                <p:spPr>
                  <a:xfrm rot="1373400">
                    <a:off x="1469160" y="3075840"/>
                    <a:ext cx="34200" cy="11484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13" name=""/>
                  <p:cNvGrpSpPr/>
                  <p:nvPr/>
                </p:nvGrpSpPr>
                <p:grpSpPr>
                  <a:xfrm>
                    <a:off x="886320" y="2833560"/>
                    <a:ext cx="618120" cy="351360"/>
                    <a:chOff x="886320" y="2833560"/>
                    <a:chExt cx="618120" cy="351360"/>
                  </a:xfrm>
                </p:grpSpPr>
                <p:sp>
                  <p:nvSpPr>
                    <p:cNvPr id="2914" name=""/>
                    <p:cNvSpPr/>
                    <p:nvPr/>
                  </p:nvSpPr>
                  <p:spPr>
                    <a:xfrm rot="1373400">
                      <a:off x="908640" y="2841480"/>
                      <a:ext cx="67680" cy="1285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15" name=""/>
                    <p:cNvGrpSpPr/>
                    <p:nvPr/>
                  </p:nvGrpSpPr>
                  <p:grpSpPr>
                    <a:xfrm>
                      <a:off x="936360" y="2860560"/>
                      <a:ext cx="568080" cy="324360"/>
                      <a:chOff x="936360" y="2860560"/>
                      <a:chExt cx="568080" cy="324360"/>
                    </a:xfrm>
                  </p:grpSpPr>
                  <p:sp>
                    <p:nvSpPr>
                      <p:cNvPr id="2916" name=""/>
                      <p:cNvSpPr/>
                      <p:nvPr/>
                    </p:nvSpPr>
                    <p:spPr>
                      <a:xfrm rot="1373400">
                        <a:off x="1461960" y="3069360"/>
                        <a:ext cx="20160" cy="116280"/>
                      </a:xfrm>
                      <a:prstGeom prst="ellipse">
                        <a:avLst/>
                      </a:prstGeom>
                      <a:solidFill>
                        <a:srgbClr val="eea564"/>
                      </a:solidFill>
                      <a:ln w="936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917" name=""/>
                      <p:cNvSpPr/>
                      <p:nvPr/>
                    </p:nvSpPr>
                    <p:spPr>
                      <a:xfrm rot="1373400">
                        <a:off x="950040" y="2964240"/>
                        <a:ext cx="543600" cy="113760"/>
                      </a:xfrm>
                      <a:prstGeom prst="rect">
                        <a:avLst/>
                      </a:prstGeom>
                      <a:solidFill>
                        <a:srgbClr val="eea56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8" name=""/>
                      <p:cNvSpPr/>
                      <p:nvPr/>
                    </p:nvSpPr>
                    <p:spPr>
                      <a:xfrm rot="1373400">
                        <a:off x="957960" y="2859840"/>
                        <a:ext cx="20160" cy="116640"/>
                      </a:xfrm>
                      <a:prstGeom prst="ellipse">
                        <a:avLst/>
                      </a:prstGeom>
                      <a:solidFill>
                        <a:srgbClr val="eea564"/>
                      </a:solidFill>
                      <a:ln w="936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grpSp>
              </p:grpSp>
            </p:grpSp>
            <p:grpSp>
              <p:nvGrpSpPr>
                <p:cNvPr id="2919" name=""/>
                <p:cNvGrpSpPr/>
                <p:nvPr/>
              </p:nvGrpSpPr>
              <p:grpSpPr>
                <a:xfrm>
                  <a:off x="935280" y="2819160"/>
                  <a:ext cx="568440" cy="408240"/>
                  <a:chOff x="935280" y="2819160"/>
                  <a:chExt cx="568440" cy="408240"/>
                </a:xfrm>
              </p:grpSpPr>
              <p:sp>
                <p:nvSpPr>
                  <p:cNvPr id="2920" name=""/>
                  <p:cNvSpPr/>
                  <p:nvPr/>
                </p:nvSpPr>
                <p:spPr>
                  <a:xfrm rot="1373400">
                    <a:off x="969120" y="2909520"/>
                    <a:ext cx="500760" cy="22212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1" name=""/>
                  <p:cNvSpPr/>
                  <p:nvPr/>
                </p:nvSpPr>
                <p:spPr>
                  <a:xfrm rot="1373400">
                    <a:off x="977760" y="2812320"/>
                    <a:ext cx="10440" cy="221040"/>
                  </a:xfrm>
                  <a:custGeom>
                    <a:avLst/>
                    <a:gdLst/>
                    <a:ahLst/>
                    <a:rect l="l" t="t" r="r" b="b"/>
                    <a:pathLst>
                      <a:path w="48" h="237">
                        <a:moveTo>
                          <a:pt x="0" y="1"/>
                        </a:moveTo>
                        <a:cubicBezTo>
                          <a:pt x="6" y="0"/>
                          <a:pt x="12" y="0"/>
                          <a:pt x="18" y="9"/>
                        </a:cubicBezTo>
                        <a:cubicBezTo>
                          <a:pt x="24" y="18"/>
                          <a:pt x="32" y="37"/>
                          <a:pt x="37" y="55"/>
                        </a:cubicBezTo>
                        <a:cubicBezTo>
                          <a:pt x="42" y="73"/>
                          <a:pt x="44" y="101"/>
                          <a:pt x="46" y="118"/>
                        </a:cubicBezTo>
                        <a:cubicBezTo>
                          <a:pt x="48" y="135"/>
                          <a:pt x="48" y="145"/>
                          <a:pt x="46" y="157"/>
                        </a:cubicBezTo>
                        <a:cubicBezTo>
                          <a:pt x="44" y="169"/>
                          <a:pt x="40" y="182"/>
                          <a:pt x="37" y="192"/>
                        </a:cubicBezTo>
                        <a:cubicBezTo>
                          <a:pt x="34" y="202"/>
                          <a:pt x="32" y="209"/>
                          <a:pt x="27" y="216"/>
                        </a:cubicBezTo>
                        <a:cubicBezTo>
                          <a:pt x="22" y="223"/>
                          <a:pt x="12" y="233"/>
                          <a:pt x="7" y="237"/>
                        </a:cubicBezTo>
                      </a:path>
                    </a:pathLst>
                  </a:custGeom>
                  <a:noFill/>
                  <a:ln w="9360">
                    <a:solidFill>
                      <a:srgbClr val="30517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2" name=""/>
                  <p:cNvSpPr/>
                  <p:nvPr/>
                </p:nvSpPr>
                <p:spPr>
                  <a:xfrm rot="1373400">
                    <a:off x="1440360" y="3008160"/>
                    <a:ext cx="20160" cy="223920"/>
                  </a:xfrm>
                  <a:prstGeom prst="ellipse">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2923" name=""/>
            <p:cNvGrpSpPr/>
            <p:nvPr/>
          </p:nvGrpSpPr>
          <p:grpSpPr>
            <a:xfrm>
              <a:off x="1546200" y="3236400"/>
              <a:ext cx="742320" cy="444600"/>
              <a:chOff x="1546200" y="3236400"/>
              <a:chExt cx="742320" cy="444600"/>
            </a:xfrm>
          </p:grpSpPr>
          <p:grpSp>
            <p:nvGrpSpPr>
              <p:cNvPr id="2924" name=""/>
              <p:cNvGrpSpPr/>
              <p:nvPr/>
            </p:nvGrpSpPr>
            <p:grpSpPr>
              <a:xfrm>
                <a:off x="1546200" y="3236400"/>
                <a:ext cx="742320" cy="444600"/>
                <a:chOff x="1546200" y="3236400"/>
                <a:chExt cx="742320" cy="444600"/>
              </a:xfrm>
            </p:grpSpPr>
            <p:sp>
              <p:nvSpPr>
                <p:cNvPr id="2925" name=""/>
                <p:cNvSpPr/>
                <p:nvPr/>
              </p:nvSpPr>
              <p:spPr>
                <a:xfrm rot="20409000">
                  <a:off x="2205000" y="3238200"/>
                  <a:ext cx="48240" cy="21564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26" name=""/>
                <p:cNvGrpSpPr/>
                <p:nvPr/>
              </p:nvGrpSpPr>
              <p:grpSpPr>
                <a:xfrm>
                  <a:off x="1546200" y="3246480"/>
                  <a:ext cx="707760" cy="434520"/>
                  <a:chOff x="1546200" y="3246480"/>
                  <a:chExt cx="707760" cy="434520"/>
                </a:xfrm>
              </p:grpSpPr>
              <p:sp>
                <p:nvSpPr>
                  <p:cNvPr id="2927" name=""/>
                  <p:cNvSpPr/>
                  <p:nvPr/>
                </p:nvSpPr>
                <p:spPr>
                  <a:xfrm rot="20409000">
                    <a:off x="1578960" y="3456720"/>
                    <a:ext cx="104400" cy="21276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28" name=""/>
                  <p:cNvGrpSpPr/>
                  <p:nvPr/>
                </p:nvGrpSpPr>
                <p:grpSpPr>
                  <a:xfrm>
                    <a:off x="1622880" y="3246480"/>
                    <a:ext cx="631080" cy="414720"/>
                    <a:chOff x="1622880" y="3246480"/>
                    <a:chExt cx="631080" cy="414720"/>
                  </a:xfrm>
                </p:grpSpPr>
                <p:sp>
                  <p:nvSpPr>
                    <p:cNvPr id="2929" name=""/>
                    <p:cNvSpPr/>
                    <p:nvPr/>
                  </p:nvSpPr>
                  <p:spPr>
                    <a:xfrm rot="20409000">
                      <a:off x="2194560" y="3243600"/>
                      <a:ext cx="22320" cy="22140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0" name=""/>
                    <p:cNvSpPr/>
                    <p:nvPr/>
                  </p:nvSpPr>
                  <p:spPr>
                    <a:xfrm rot="20409000">
                      <a:off x="1655280" y="3345480"/>
                      <a:ext cx="566640" cy="219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1" name=""/>
                    <p:cNvSpPr/>
                    <p:nvPr/>
                  </p:nvSpPr>
                  <p:spPr>
                    <a:xfrm rot="20409000">
                      <a:off x="1659600" y="3442680"/>
                      <a:ext cx="22320" cy="22104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2932" name=""/>
              <p:cNvGrpSpPr/>
              <p:nvPr/>
            </p:nvGrpSpPr>
            <p:grpSpPr>
              <a:xfrm>
                <a:off x="1572480" y="3247560"/>
                <a:ext cx="708840" cy="403920"/>
                <a:chOff x="1572480" y="3247560"/>
                <a:chExt cx="708840" cy="403920"/>
              </a:xfrm>
            </p:grpSpPr>
            <p:grpSp>
              <p:nvGrpSpPr>
                <p:cNvPr id="2933" name=""/>
                <p:cNvGrpSpPr/>
                <p:nvPr/>
              </p:nvGrpSpPr>
              <p:grpSpPr>
                <a:xfrm>
                  <a:off x="1572480" y="3279960"/>
                  <a:ext cx="708840" cy="356040"/>
                  <a:chOff x="1572480" y="3279960"/>
                  <a:chExt cx="708840" cy="356040"/>
                </a:xfrm>
              </p:grpSpPr>
              <p:sp>
                <p:nvSpPr>
                  <p:cNvPr id="2934" name=""/>
                  <p:cNvSpPr/>
                  <p:nvPr/>
                </p:nvSpPr>
                <p:spPr>
                  <a:xfrm rot="20409000">
                    <a:off x="2225160" y="3282840"/>
                    <a:ext cx="37800" cy="11340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35" name=""/>
                  <p:cNvGrpSpPr/>
                  <p:nvPr/>
                </p:nvGrpSpPr>
                <p:grpSpPr>
                  <a:xfrm>
                    <a:off x="1572480" y="3287520"/>
                    <a:ext cx="685440" cy="348480"/>
                    <a:chOff x="1572480" y="3287520"/>
                    <a:chExt cx="685440" cy="348480"/>
                  </a:xfrm>
                </p:grpSpPr>
                <p:sp>
                  <p:nvSpPr>
                    <p:cNvPr id="2936" name=""/>
                    <p:cNvSpPr/>
                    <p:nvPr/>
                  </p:nvSpPr>
                  <p:spPr>
                    <a:xfrm rot="20409000">
                      <a:off x="1591560" y="3499920"/>
                      <a:ext cx="74880" cy="127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37" name=""/>
                    <p:cNvGrpSpPr/>
                    <p:nvPr/>
                  </p:nvGrpSpPr>
                  <p:grpSpPr>
                    <a:xfrm>
                      <a:off x="1629360" y="3287520"/>
                      <a:ext cx="628560" cy="324720"/>
                      <a:chOff x="1629360" y="3287520"/>
                      <a:chExt cx="628560" cy="324720"/>
                    </a:xfrm>
                  </p:grpSpPr>
                  <p:sp>
                    <p:nvSpPr>
                      <p:cNvPr id="2938" name=""/>
                      <p:cNvSpPr/>
                      <p:nvPr/>
                    </p:nvSpPr>
                    <p:spPr>
                      <a:xfrm rot="20409000">
                        <a:off x="2216520" y="3287520"/>
                        <a:ext cx="22320" cy="114840"/>
                      </a:xfrm>
                      <a:prstGeom prst="ellipse">
                        <a:avLst/>
                      </a:prstGeom>
                      <a:solidFill>
                        <a:srgbClr val="eea564"/>
                      </a:solidFill>
                      <a:ln w="936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939" name=""/>
                      <p:cNvSpPr/>
                      <p:nvPr/>
                    </p:nvSpPr>
                    <p:spPr>
                      <a:xfrm rot="20409000">
                        <a:off x="1641960" y="3391200"/>
                        <a:ext cx="603000" cy="112320"/>
                      </a:xfrm>
                      <a:prstGeom prst="rect">
                        <a:avLst/>
                      </a:prstGeom>
                      <a:solidFill>
                        <a:srgbClr val="eea56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0" name=""/>
                      <p:cNvSpPr/>
                      <p:nvPr/>
                    </p:nvSpPr>
                    <p:spPr>
                      <a:xfrm rot="20409000">
                        <a:off x="1648080" y="3496320"/>
                        <a:ext cx="22320" cy="115200"/>
                      </a:xfrm>
                      <a:prstGeom prst="ellipse">
                        <a:avLst/>
                      </a:prstGeom>
                      <a:solidFill>
                        <a:srgbClr val="eea564"/>
                      </a:solidFill>
                      <a:ln w="936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grpSp>
            </p:grpSp>
            <p:grpSp>
              <p:nvGrpSpPr>
                <p:cNvPr id="2941" name=""/>
                <p:cNvGrpSpPr/>
                <p:nvPr/>
              </p:nvGrpSpPr>
              <p:grpSpPr>
                <a:xfrm>
                  <a:off x="1632960" y="3247560"/>
                  <a:ext cx="620280" cy="403920"/>
                  <a:chOff x="1632960" y="3247560"/>
                  <a:chExt cx="620280" cy="403920"/>
                </a:xfrm>
              </p:grpSpPr>
              <p:sp>
                <p:nvSpPr>
                  <p:cNvPr id="2942" name=""/>
                  <p:cNvSpPr/>
                  <p:nvPr/>
                </p:nvSpPr>
                <p:spPr>
                  <a:xfrm rot="20409000">
                    <a:off x="1663200" y="3339000"/>
                    <a:ext cx="555840" cy="2192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3" name=""/>
                  <p:cNvSpPr/>
                  <p:nvPr/>
                </p:nvSpPr>
                <p:spPr>
                  <a:xfrm rot="20409000">
                    <a:off x="1669320" y="3437640"/>
                    <a:ext cx="11520" cy="218160"/>
                  </a:xfrm>
                  <a:custGeom>
                    <a:avLst/>
                    <a:gdLst/>
                    <a:ahLst/>
                    <a:rect l="l" t="t" r="r" b="b"/>
                    <a:pathLst>
                      <a:path w="48" h="237">
                        <a:moveTo>
                          <a:pt x="0" y="1"/>
                        </a:moveTo>
                        <a:cubicBezTo>
                          <a:pt x="6" y="0"/>
                          <a:pt x="12" y="0"/>
                          <a:pt x="18" y="9"/>
                        </a:cubicBezTo>
                        <a:cubicBezTo>
                          <a:pt x="24" y="18"/>
                          <a:pt x="32" y="37"/>
                          <a:pt x="37" y="55"/>
                        </a:cubicBezTo>
                        <a:cubicBezTo>
                          <a:pt x="42" y="73"/>
                          <a:pt x="44" y="101"/>
                          <a:pt x="46" y="118"/>
                        </a:cubicBezTo>
                        <a:cubicBezTo>
                          <a:pt x="48" y="135"/>
                          <a:pt x="48" y="145"/>
                          <a:pt x="46" y="157"/>
                        </a:cubicBezTo>
                        <a:cubicBezTo>
                          <a:pt x="44" y="169"/>
                          <a:pt x="40" y="182"/>
                          <a:pt x="37" y="192"/>
                        </a:cubicBezTo>
                        <a:cubicBezTo>
                          <a:pt x="34" y="202"/>
                          <a:pt x="32" y="209"/>
                          <a:pt x="27" y="216"/>
                        </a:cubicBezTo>
                        <a:cubicBezTo>
                          <a:pt x="22" y="223"/>
                          <a:pt x="12" y="233"/>
                          <a:pt x="7" y="237"/>
                        </a:cubicBezTo>
                      </a:path>
                    </a:pathLst>
                  </a:custGeom>
                  <a:noFill/>
                  <a:ln w="9360">
                    <a:solidFill>
                      <a:srgbClr val="30517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4" name=""/>
                  <p:cNvSpPr/>
                  <p:nvPr/>
                </p:nvSpPr>
                <p:spPr>
                  <a:xfrm rot="20409000">
                    <a:off x="2193840" y="3244680"/>
                    <a:ext cx="22320" cy="221040"/>
                  </a:xfrm>
                  <a:prstGeom prst="ellipse">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grpSp>
        <p:nvGrpSpPr>
          <p:cNvPr id="2945" name=""/>
          <p:cNvGrpSpPr/>
          <p:nvPr/>
        </p:nvGrpSpPr>
        <p:grpSpPr>
          <a:xfrm>
            <a:off x="2209680" y="2590920"/>
            <a:ext cx="553680" cy="748800"/>
            <a:chOff x="2209680" y="2590920"/>
            <a:chExt cx="553680" cy="748800"/>
          </a:xfrm>
        </p:grpSpPr>
        <p:grpSp>
          <p:nvGrpSpPr>
            <p:cNvPr id="2946" name=""/>
            <p:cNvGrpSpPr/>
            <p:nvPr/>
          </p:nvGrpSpPr>
          <p:grpSpPr>
            <a:xfrm>
              <a:off x="2209680" y="2590920"/>
              <a:ext cx="553680" cy="747720"/>
              <a:chOff x="2209680" y="2590920"/>
              <a:chExt cx="553680" cy="747720"/>
            </a:xfrm>
          </p:grpSpPr>
          <p:sp>
            <p:nvSpPr>
              <p:cNvPr id="2947" name=""/>
              <p:cNvSpPr/>
              <p:nvPr/>
            </p:nvSpPr>
            <p:spPr>
              <a:xfrm>
                <a:off x="2372760" y="2640600"/>
                <a:ext cx="373320" cy="13320"/>
              </a:xfrm>
              <a:custGeom>
                <a:avLst/>
                <a:gdLst/>
                <a:ahLst/>
                <a:rect l="l" t="t" r="r" b="b"/>
                <a:pathLst>
                  <a:path w="1294" h="48">
                    <a:moveTo>
                      <a:pt x="0" y="0"/>
                    </a:moveTo>
                    <a:lnTo>
                      <a:pt x="77" y="48"/>
                    </a:lnTo>
                    <a:lnTo>
                      <a:pt x="1294" y="48"/>
                    </a:lnTo>
                    <a:lnTo>
                      <a:pt x="1255" y="0"/>
                    </a:lnTo>
                    <a:lnTo>
                      <a:pt x="0" y="0"/>
                    </a:lnTo>
                    <a:close/>
                  </a:path>
                </a:pathLst>
              </a:custGeom>
              <a:solidFill>
                <a:srgbClr val="e0e0e0"/>
              </a:solidFill>
              <a:ln w="14400">
                <a:solidFill>
                  <a:srgbClr val="808080"/>
                </a:solidFill>
                <a:round/>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2948" name=""/>
              <p:cNvSpPr/>
              <p:nvPr/>
            </p:nvSpPr>
            <p:spPr>
              <a:xfrm>
                <a:off x="2371680" y="2638440"/>
                <a:ext cx="94680" cy="700200"/>
              </a:xfrm>
              <a:custGeom>
                <a:avLst/>
                <a:gdLst/>
                <a:ahLst/>
                <a:rect l="l" t="t" r="r" b="b"/>
                <a:pathLst>
                  <a:path w="327" h="2469">
                    <a:moveTo>
                      <a:pt x="0" y="2385"/>
                    </a:moveTo>
                    <a:lnTo>
                      <a:pt x="67" y="2469"/>
                    </a:lnTo>
                    <a:lnTo>
                      <a:pt x="327" y="820"/>
                    </a:lnTo>
                    <a:lnTo>
                      <a:pt x="83" y="50"/>
                    </a:lnTo>
                    <a:lnTo>
                      <a:pt x="2" y="0"/>
                    </a:lnTo>
                    <a:lnTo>
                      <a:pt x="0" y="902"/>
                    </a:lnTo>
                    <a:lnTo>
                      <a:pt x="0" y="2385"/>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9" name=""/>
              <p:cNvSpPr/>
              <p:nvPr/>
            </p:nvSpPr>
            <p:spPr>
              <a:xfrm>
                <a:off x="2209680" y="2590920"/>
                <a:ext cx="163800" cy="723960"/>
              </a:xfrm>
              <a:custGeom>
                <a:avLst/>
                <a:gdLst/>
                <a:ahLst/>
                <a:rect l="l" t="t" r="r" b="b"/>
                <a:pathLst>
                  <a:path w="569" h="2551">
                    <a:moveTo>
                      <a:pt x="0" y="0"/>
                    </a:moveTo>
                    <a:lnTo>
                      <a:pt x="569" y="167"/>
                    </a:lnTo>
                    <a:lnTo>
                      <a:pt x="569" y="2551"/>
                    </a:lnTo>
                    <a:lnTo>
                      <a:pt x="0" y="1943"/>
                    </a:lnTo>
                    <a:lnTo>
                      <a:pt x="0" y="0"/>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0" name=""/>
              <p:cNvSpPr/>
              <p:nvPr/>
            </p:nvSpPr>
            <p:spPr>
              <a:xfrm>
                <a:off x="2209680" y="2590920"/>
                <a:ext cx="526320" cy="49680"/>
              </a:xfrm>
              <a:custGeom>
                <a:avLst/>
                <a:gdLst/>
                <a:ahLst/>
                <a:rect l="l" t="t" r="r" b="b"/>
                <a:pathLst>
                  <a:path w="1824" h="175">
                    <a:moveTo>
                      <a:pt x="570" y="175"/>
                    </a:moveTo>
                    <a:lnTo>
                      <a:pt x="1824" y="175"/>
                    </a:lnTo>
                    <a:lnTo>
                      <a:pt x="945" y="0"/>
                    </a:lnTo>
                    <a:lnTo>
                      <a:pt x="0" y="0"/>
                    </a:lnTo>
                    <a:lnTo>
                      <a:pt x="570" y="175"/>
                    </a:lnTo>
                    <a:close/>
                  </a:path>
                </a:pathLst>
              </a:custGeom>
              <a:solidFill>
                <a:srgbClr val="e0e0e0"/>
              </a:solidFill>
              <a:ln w="14400">
                <a:solidFill>
                  <a:srgbClr val="80808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951" name=""/>
              <p:cNvSpPr/>
              <p:nvPr/>
            </p:nvSpPr>
            <p:spPr>
              <a:xfrm>
                <a:off x="2393640" y="2902680"/>
                <a:ext cx="339840" cy="43236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2" name=""/>
              <p:cNvSpPr/>
              <p:nvPr/>
            </p:nvSpPr>
            <p:spPr>
              <a:xfrm>
                <a:off x="2394720" y="2652120"/>
                <a:ext cx="367560" cy="219960"/>
              </a:xfrm>
              <a:custGeom>
                <a:avLst/>
                <a:gdLst/>
                <a:ahLst/>
                <a:rect l="l" t="t" r="r" b="b"/>
                <a:pathLst>
                  <a:path w="1273" h="776">
                    <a:moveTo>
                      <a:pt x="0" y="0"/>
                    </a:moveTo>
                    <a:lnTo>
                      <a:pt x="1215" y="0"/>
                    </a:lnTo>
                    <a:lnTo>
                      <a:pt x="1273" y="776"/>
                    </a:lnTo>
                    <a:lnTo>
                      <a:pt x="52" y="776"/>
                    </a:lnTo>
                    <a:lnTo>
                      <a:pt x="0" y="0"/>
                    </a:lnTo>
                    <a:close/>
                  </a:path>
                </a:pathLst>
              </a:custGeom>
              <a:solidFill>
                <a:srgbClr val="c0c0c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3" name=""/>
              <p:cNvSpPr/>
              <p:nvPr/>
            </p:nvSpPr>
            <p:spPr>
              <a:xfrm>
                <a:off x="2391840" y="2872080"/>
                <a:ext cx="371520" cy="25920"/>
              </a:xfrm>
              <a:custGeom>
                <a:avLst/>
                <a:gdLst/>
                <a:ahLst/>
                <a:rect l="l" t="t" r="r" b="b"/>
                <a:pathLst>
                  <a:path w="1288" h="92">
                    <a:moveTo>
                      <a:pt x="0" y="92"/>
                    </a:moveTo>
                    <a:lnTo>
                      <a:pt x="1188" y="92"/>
                    </a:lnTo>
                    <a:lnTo>
                      <a:pt x="1288" y="0"/>
                    </a:lnTo>
                    <a:lnTo>
                      <a:pt x="65" y="0"/>
                    </a:lnTo>
                    <a:lnTo>
                      <a:pt x="0" y="92"/>
                    </a:lnTo>
                    <a:close/>
                  </a:path>
                </a:pathLst>
              </a:custGeom>
              <a:solidFill>
                <a:srgbClr val="a0a0a0"/>
              </a:solidFill>
              <a:ln w="14400">
                <a:solidFill>
                  <a:srgbClr val="80808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2954" name=""/>
            <p:cNvGrpSpPr/>
            <p:nvPr/>
          </p:nvGrpSpPr>
          <p:grpSpPr>
            <a:xfrm>
              <a:off x="2396160" y="2640600"/>
              <a:ext cx="103680" cy="699120"/>
              <a:chOff x="2396160" y="2640600"/>
              <a:chExt cx="103680" cy="699120"/>
            </a:xfrm>
          </p:grpSpPr>
          <p:sp>
            <p:nvSpPr>
              <p:cNvPr id="2955" name=""/>
              <p:cNvSpPr/>
              <p:nvPr/>
            </p:nvSpPr>
            <p:spPr>
              <a:xfrm>
                <a:off x="2396160" y="2640600"/>
                <a:ext cx="30240" cy="698040"/>
              </a:xfrm>
              <a:custGeom>
                <a:avLst/>
                <a:gdLst/>
                <a:ahLst/>
                <a:rect l="l" t="t" r="r" b="b"/>
                <a:pathLst>
                  <a:path w="107" h="2463">
                    <a:moveTo>
                      <a:pt x="0" y="0"/>
                    </a:moveTo>
                    <a:lnTo>
                      <a:pt x="55" y="41"/>
                    </a:lnTo>
                    <a:lnTo>
                      <a:pt x="107" y="827"/>
                    </a:lnTo>
                    <a:lnTo>
                      <a:pt x="53" y="916"/>
                    </a:lnTo>
                    <a:lnTo>
                      <a:pt x="50"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6" name=""/>
              <p:cNvSpPr/>
              <p:nvPr/>
            </p:nvSpPr>
            <p:spPr>
              <a:xfrm>
                <a:off x="2408040" y="2641320"/>
                <a:ext cx="28800" cy="698040"/>
              </a:xfrm>
              <a:custGeom>
                <a:avLst/>
                <a:gdLst/>
                <a:ahLst/>
                <a:rect l="l" t="t" r="r" b="b"/>
                <a:pathLst>
                  <a:path w="101" h="2462">
                    <a:moveTo>
                      <a:pt x="0" y="0"/>
                    </a:moveTo>
                    <a:lnTo>
                      <a:pt x="48" y="41"/>
                    </a:lnTo>
                    <a:lnTo>
                      <a:pt x="101" y="825"/>
                    </a:lnTo>
                    <a:lnTo>
                      <a:pt x="47" y="914"/>
                    </a:lnTo>
                    <a:lnTo>
                      <a:pt x="45" y="2462"/>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7" name=""/>
              <p:cNvSpPr/>
              <p:nvPr/>
            </p:nvSpPr>
            <p:spPr>
              <a:xfrm>
                <a:off x="2417400" y="2640600"/>
                <a:ext cx="30240" cy="699120"/>
              </a:xfrm>
              <a:custGeom>
                <a:avLst/>
                <a:gdLst/>
                <a:ahLst/>
                <a:rect l="l" t="t" r="r" b="b"/>
                <a:pathLst>
                  <a:path w="107" h="2463">
                    <a:moveTo>
                      <a:pt x="0" y="0"/>
                    </a:moveTo>
                    <a:lnTo>
                      <a:pt x="53" y="42"/>
                    </a:lnTo>
                    <a:lnTo>
                      <a:pt x="107" y="820"/>
                    </a:lnTo>
                    <a:lnTo>
                      <a:pt x="49" y="908"/>
                    </a:lnTo>
                    <a:lnTo>
                      <a:pt x="49"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8" name=""/>
              <p:cNvSpPr/>
              <p:nvPr/>
            </p:nvSpPr>
            <p:spPr>
              <a:xfrm>
                <a:off x="2428200" y="2641320"/>
                <a:ext cx="29160" cy="696960"/>
              </a:xfrm>
              <a:custGeom>
                <a:avLst/>
                <a:gdLst/>
                <a:ahLst/>
                <a:rect l="l" t="t" r="r" b="b"/>
                <a:pathLst>
                  <a:path w="103" h="2456">
                    <a:moveTo>
                      <a:pt x="0" y="0"/>
                    </a:moveTo>
                    <a:lnTo>
                      <a:pt x="50" y="35"/>
                    </a:lnTo>
                    <a:lnTo>
                      <a:pt x="103" y="819"/>
                    </a:lnTo>
                    <a:lnTo>
                      <a:pt x="48" y="909"/>
                    </a:lnTo>
                    <a:lnTo>
                      <a:pt x="46" y="2456"/>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9" name=""/>
              <p:cNvSpPr/>
              <p:nvPr/>
            </p:nvSpPr>
            <p:spPr>
              <a:xfrm>
                <a:off x="2439360" y="2640600"/>
                <a:ext cx="29160" cy="695520"/>
              </a:xfrm>
              <a:custGeom>
                <a:avLst/>
                <a:gdLst/>
                <a:ahLst/>
                <a:rect l="l" t="t" r="r" b="b"/>
                <a:pathLst>
                  <a:path w="101" h="2455">
                    <a:moveTo>
                      <a:pt x="0" y="0"/>
                    </a:moveTo>
                    <a:lnTo>
                      <a:pt x="49" y="48"/>
                    </a:lnTo>
                    <a:lnTo>
                      <a:pt x="101" y="819"/>
                    </a:lnTo>
                    <a:lnTo>
                      <a:pt x="46" y="908"/>
                    </a:lnTo>
                    <a:lnTo>
                      <a:pt x="44" y="2455"/>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0" name=""/>
              <p:cNvSpPr/>
              <p:nvPr/>
            </p:nvSpPr>
            <p:spPr>
              <a:xfrm>
                <a:off x="2450880" y="2641320"/>
                <a:ext cx="28080" cy="695520"/>
              </a:xfrm>
              <a:custGeom>
                <a:avLst/>
                <a:gdLst/>
                <a:ahLst/>
                <a:rect l="l" t="t" r="r" b="b"/>
                <a:pathLst>
                  <a:path w="97" h="2454">
                    <a:moveTo>
                      <a:pt x="0" y="0"/>
                    </a:moveTo>
                    <a:lnTo>
                      <a:pt x="44" y="41"/>
                    </a:lnTo>
                    <a:lnTo>
                      <a:pt x="97" y="817"/>
                    </a:lnTo>
                    <a:lnTo>
                      <a:pt x="42" y="906"/>
                    </a:lnTo>
                    <a:lnTo>
                      <a:pt x="40" y="2454"/>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1" name=""/>
              <p:cNvSpPr/>
              <p:nvPr/>
            </p:nvSpPr>
            <p:spPr>
              <a:xfrm>
                <a:off x="2461680" y="2641320"/>
                <a:ext cx="28080" cy="698040"/>
              </a:xfrm>
              <a:custGeom>
                <a:avLst/>
                <a:gdLst/>
                <a:ahLst/>
                <a:rect l="l" t="t" r="r" b="b"/>
                <a:pathLst>
                  <a:path w="98" h="2460">
                    <a:moveTo>
                      <a:pt x="0" y="0"/>
                    </a:moveTo>
                    <a:lnTo>
                      <a:pt x="43" y="43"/>
                    </a:lnTo>
                    <a:lnTo>
                      <a:pt x="98" y="809"/>
                    </a:lnTo>
                    <a:lnTo>
                      <a:pt x="40" y="905"/>
                    </a:lnTo>
                    <a:lnTo>
                      <a:pt x="40" y="2460"/>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2" name=""/>
              <p:cNvSpPr/>
              <p:nvPr/>
            </p:nvSpPr>
            <p:spPr>
              <a:xfrm>
                <a:off x="2471760" y="2641320"/>
                <a:ext cx="28080" cy="694800"/>
              </a:xfrm>
              <a:custGeom>
                <a:avLst/>
                <a:gdLst/>
                <a:ahLst/>
                <a:rect l="l" t="t" r="r" b="b"/>
                <a:pathLst>
                  <a:path w="97" h="2448">
                    <a:moveTo>
                      <a:pt x="0" y="0"/>
                    </a:moveTo>
                    <a:lnTo>
                      <a:pt x="45" y="41"/>
                    </a:lnTo>
                    <a:lnTo>
                      <a:pt x="97" y="812"/>
                    </a:lnTo>
                    <a:lnTo>
                      <a:pt x="44" y="901"/>
                    </a:lnTo>
                    <a:lnTo>
                      <a:pt x="41" y="2448"/>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63" name=""/>
            <p:cNvSpPr/>
            <p:nvPr/>
          </p:nvSpPr>
          <p:spPr>
            <a:xfrm>
              <a:off x="2497680" y="2959560"/>
              <a:ext cx="222480" cy="34056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4" name=""/>
            <p:cNvSpPr/>
            <p:nvPr/>
          </p:nvSpPr>
          <p:spPr>
            <a:xfrm>
              <a:off x="2497680" y="3026520"/>
              <a:ext cx="222480" cy="64440"/>
            </a:xfrm>
            <a:prstGeom prst="rect">
              <a:avLst/>
            </a:prstGeom>
            <a:solidFill>
              <a:srgbClr val="c0c0c0"/>
            </a:solidFill>
            <a:ln w="1440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965" name=""/>
            <p:cNvSpPr/>
            <p:nvPr/>
          </p:nvSpPr>
          <p:spPr>
            <a:xfrm>
              <a:off x="2497680" y="3096000"/>
              <a:ext cx="222480" cy="64440"/>
            </a:xfrm>
            <a:prstGeom prst="rect">
              <a:avLst/>
            </a:prstGeom>
            <a:solidFill>
              <a:srgbClr val="c0c0c0"/>
            </a:solidFill>
            <a:ln w="1440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966" name=""/>
            <p:cNvSpPr/>
            <p:nvPr/>
          </p:nvSpPr>
          <p:spPr>
            <a:xfrm>
              <a:off x="2497680" y="3164040"/>
              <a:ext cx="222480" cy="63360"/>
            </a:xfrm>
            <a:prstGeom prst="rect">
              <a:avLst/>
            </a:prstGeom>
            <a:solidFill>
              <a:srgbClr val="c0c0c0"/>
            </a:solidFill>
            <a:ln w="1440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67" name=""/>
            <p:cNvSpPr/>
            <p:nvPr/>
          </p:nvSpPr>
          <p:spPr>
            <a:xfrm>
              <a:off x="2535840" y="3039120"/>
              <a:ext cx="145800" cy="37080"/>
            </a:xfrm>
            <a:prstGeom prst="rect">
              <a:avLst/>
            </a:prstGeom>
            <a:solidFill>
              <a:srgbClr val="c0c0c0"/>
            </a:solidFill>
            <a:ln w="14400">
              <a:solidFill>
                <a:srgbClr val="80808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968" name=""/>
            <p:cNvSpPr/>
            <p:nvPr/>
          </p:nvSpPr>
          <p:spPr>
            <a:xfrm>
              <a:off x="2535840" y="3108600"/>
              <a:ext cx="145800" cy="37080"/>
            </a:xfrm>
            <a:prstGeom prst="rect">
              <a:avLst/>
            </a:prstGeom>
            <a:solidFill>
              <a:srgbClr val="c0c0c0"/>
            </a:solidFill>
            <a:ln w="14400">
              <a:solidFill>
                <a:srgbClr val="80808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969" name=""/>
            <p:cNvSpPr/>
            <p:nvPr/>
          </p:nvSpPr>
          <p:spPr>
            <a:xfrm>
              <a:off x="2636280" y="2963160"/>
              <a:ext cx="9720" cy="45000"/>
            </a:xfrm>
            <a:custGeom>
              <a:avLst/>
              <a:gdLst/>
              <a:ahLst/>
              <a:rect l="l" t="t" r="r" b="b"/>
              <a:pathLst>
                <a:path w="34" h="157">
                  <a:moveTo>
                    <a:pt x="34" y="0"/>
                  </a:moveTo>
                  <a:lnTo>
                    <a:pt x="34" y="157"/>
                  </a:lnTo>
                  <a:lnTo>
                    <a:pt x="0" y="68"/>
                  </a:lnTo>
                  <a:lnTo>
                    <a:pt x="34"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970" name=""/>
            <p:cNvSpPr/>
            <p:nvPr/>
          </p:nvSpPr>
          <p:spPr>
            <a:xfrm>
              <a:off x="2543040" y="3049200"/>
              <a:ext cx="131040" cy="6840"/>
            </a:xfrm>
            <a:prstGeom prst="rect">
              <a:avLst/>
            </a:prstGeom>
            <a:solidFill>
              <a:srgbClr val="80808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971" name=""/>
            <p:cNvSpPr/>
            <p:nvPr/>
          </p:nvSpPr>
          <p:spPr>
            <a:xfrm>
              <a:off x="2583000" y="3062880"/>
              <a:ext cx="57600" cy="10080"/>
            </a:xfrm>
            <a:custGeom>
              <a:avLst/>
              <a:gdLst/>
              <a:ahLst/>
              <a:rect l="l" t="t" r="r" b="b"/>
              <a:pathLst>
                <a:path w="199" h="37">
                  <a:moveTo>
                    <a:pt x="4" y="37"/>
                  </a:moveTo>
                  <a:lnTo>
                    <a:pt x="0" y="0"/>
                  </a:lnTo>
                  <a:lnTo>
                    <a:pt x="193" y="0"/>
                  </a:lnTo>
                  <a:lnTo>
                    <a:pt x="199" y="36"/>
                  </a:lnTo>
                </a:path>
              </a:pathLst>
            </a:custGeom>
            <a:noFill/>
            <a:ln w="14400">
              <a:solidFill>
                <a:srgbClr val="808080"/>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972" name=""/>
            <p:cNvSpPr/>
            <p:nvPr/>
          </p:nvSpPr>
          <p:spPr>
            <a:xfrm>
              <a:off x="2426400" y="2685960"/>
              <a:ext cx="50760" cy="53280"/>
            </a:xfrm>
            <a:custGeom>
              <a:avLst/>
              <a:gdLst/>
              <a:ahLst/>
              <a:rect l="l" t="t" r="r" b="b"/>
              <a:pathLst>
                <a:path w="177" h="186">
                  <a:moveTo>
                    <a:pt x="163" y="0"/>
                  </a:moveTo>
                  <a:lnTo>
                    <a:pt x="0" y="0"/>
                  </a:lnTo>
                  <a:lnTo>
                    <a:pt x="12" y="186"/>
                  </a:lnTo>
                  <a:lnTo>
                    <a:pt x="177" y="186"/>
                  </a:lnTo>
                  <a:lnTo>
                    <a:pt x="163" y="0"/>
                  </a:lnTo>
                  <a:close/>
                </a:path>
              </a:pathLst>
            </a:custGeom>
            <a:solidFill>
              <a:srgbClr val="c0c0c0"/>
            </a:solidFill>
            <a:ln w="14400">
              <a:solidFill>
                <a:srgbClr val="808080"/>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973" name=""/>
            <p:cNvSpPr/>
            <p:nvPr/>
          </p:nvSpPr>
          <p:spPr>
            <a:xfrm>
              <a:off x="2432160" y="2775960"/>
              <a:ext cx="52920" cy="53280"/>
            </a:xfrm>
            <a:custGeom>
              <a:avLst/>
              <a:gdLst/>
              <a:ahLst/>
              <a:rect l="l" t="t" r="r" b="b"/>
              <a:pathLst>
                <a:path w="183" h="188">
                  <a:moveTo>
                    <a:pt x="169" y="0"/>
                  </a:moveTo>
                  <a:lnTo>
                    <a:pt x="0" y="0"/>
                  </a:lnTo>
                  <a:lnTo>
                    <a:pt x="12" y="188"/>
                  </a:lnTo>
                  <a:lnTo>
                    <a:pt x="183" y="187"/>
                  </a:lnTo>
                  <a:lnTo>
                    <a:pt x="169" y="0"/>
                  </a:lnTo>
                  <a:close/>
                </a:path>
              </a:pathLst>
            </a:custGeom>
            <a:solidFill>
              <a:srgbClr val="c0c0c0"/>
            </a:solidFill>
            <a:ln w="14400">
              <a:solidFill>
                <a:srgbClr val="808080"/>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nvGrpSpPr>
            <p:cNvPr id="2974" name=""/>
            <p:cNvGrpSpPr/>
            <p:nvPr/>
          </p:nvGrpSpPr>
          <p:grpSpPr>
            <a:xfrm>
              <a:off x="2509560" y="2774520"/>
              <a:ext cx="222480" cy="51120"/>
              <a:chOff x="2509560" y="2774520"/>
              <a:chExt cx="222480" cy="51120"/>
            </a:xfrm>
          </p:grpSpPr>
          <p:sp>
            <p:nvSpPr>
              <p:cNvPr id="2975" name=""/>
              <p:cNvSpPr/>
              <p:nvPr/>
            </p:nvSpPr>
            <p:spPr>
              <a:xfrm>
                <a:off x="2509560" y="2774520"/>
                <a:ext cx="222480" cy="51120"/>
              </a:xfrm>
              <a:prstGeom prst="rect">
                <a:avLst/>
              </a:prstGeom>
              <a:solidFill>
                <a:srgbClr val="606060"/>
              </a:solidFill>
              <a:ln w="1440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976" name=""/>
              <p:cNvSpPr/>
              <p:nvPr/>
            </p:nvSpPr>
            <p:spPr>
              <a:xfrm>
                <a:off x="2549880" y="2778840"/>
                <a:ext cx="27000" cy="18000"/>
              </a:xfrm>
              <a:prstGeom prst="rect">
                <a:avLst/>
              </a:prstGeom>
              <a:solidFill>
                <a:srgbClr val="c0c0c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977" name=""/>
              <p:cNvSpPr/>
              <p:nvPr/>
            </p:nvSpPr>
            <p:spPr>
              <a:xfrm>
                <a:off x="2549880" y="2802600"/>
                <a:ext cx="27000" cy="18000"/>
              </a:xfrm>
              <a:prstGeom prst="rect">
                <a:avLst/>
              </a:prstGeom>
              <a:solidFill>
                <a:srgbClr val="c0c0c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978" name=""/>
              <p:cNvSpPr/>
              <p:nvPr/>
            </p:nvSpPr>
            <p:spPr>
              <a:xfrm>
                <a:off x="2604240" y="2790360"/>
                <a:ext cx="27000" cy="18000"/>
              </a:xfrm>
              <a:prstGeom prst="rect">
                <a:avLst/>
              </a:prstGeom>
              <a:solidFill>
                <a:srgbClr val="008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979" name=""/>
              <p:cNvSpPr/>
              <p:nvPr/>
            </p:nvSpPr>
            <p:spPr>
              <a:xfrm>
                <a:off x="2521080" y="2791440"/>
                <a:ext cx="19800" cy="21600"/>
              </a:xfrm>
              <a:prstGeom prst="ellipse">
                <a:avLst/>
              </a:pr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pic>
        <p:nvPicPr>
          <p:cNvPr id="2980" name="" descr=""/>
          <p:cNvPicPr/>
          <p:nvPr/>
        </p:nvPicPr>
        <p:blipFill>
          <a:blip r:embed="rId2"/>
          <a:stretch/>
        </p:blipFill>
        <p:spPr>
          <a:xfrm>
            <a:off x="438120" y="2300400"/>
            <a:ext cx="554040" cy="596880"/>
          </a:xfrm>
          <a:prstGeom prst="rect">
            <a:avLst/>
          </a:prstGeom>
          <a:ln w="0">
            <a:noFill/>
          </a:ln>
        </p:spPr>
      </p:pic>
      <p:grpSp>
        <p:nvGrpSpPr>
          <p:cNvPr id="2981" name=""/>
          <p:cNvGrpSpPr/>
          <p:nvPr/>
        </p:nvGrpSpPr>
        <p:grpSpPr>
          <a:xfrm>
            <a:off x="1249560" y="2734200"/>
            <a:ext cx="1159920" cy="1406880"/>
            <a:chOff x="1249560" y="2734200"/>
            <a:chExt cx="1159920" cy="1406880"/>
          </a:xfrm>
        </p:grpSpPr>
        <p:grpSp>
          <p:nvGrpSpPr>
            <p:cNvPr id="2982" name=""/>
            <p:cNvGrpSpPr/>
            <p:nvPr/>
          </p:nvGrpSpPr>
          <p:grpSpPr>
            <a:xfrm>
              <a:off x="1249560" y="2734200"/>
              <a:ext cx="772920" cy="1406880"/>
              <a:chOff x="1249560" y="2734200"/>
              <a:chExt cx="772920" cy="1406880"/>
            </a:xfrm>
          </p:grpSpPr>
          <p:sp>
            <p:nvSpPr>
              <p:cNvPr id="2983" name=""/>
              <p:cNvSpPr/>
              <p:nvPr/>
            </p:nvSpPr>
            <p:spPr>
              <a:xfrm rot="20700000">
                <a:off x="1606320" y="3832920"/>
                <a:ext cx="106920" cy="29916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4" name=""/>
              <p:cNvSpPr/>
              <p:nvPr/>
            </p:nvSpPr>
            <p:spPr>
              <a:xfrm rot="20700000">
                <a:off x="1521720" y="2742840"/>
                <a:ext cx="108000" cy="2998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5" name=""/>
              <p:cNvSpPr/>
              <p:nvPr/>
            </p:nvSpPr>
            <p:spPr>
              <a:xfrm rot="20700000">
                <a:off x="1378080" y="2951640"/>
                <a:ext cx="65160" cy="18432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6" name=""/>
              <p:cNvSpPr/>
              <p:nvPr/>
            </p:nvSpPr>
            <p:spPr>
              <a:xfrm rot="20700000">
                <a:off x="1390320" y="3679920"/>
                <a:ext cx="65160" cy="17604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7" name=""/>
              <p:cNvSpPr/>
              <p:nvPr/>
            </p:nvSpPr>
            <p:spPr>
              <a:xfrm rot="20700000">
                <a:off x="1330560" y="3414960"/>
                <a:ext cx="107280" cy="2908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8" name=""/>
              <p:cNvSpPr/>
              <p:nvPr/>
            </p:nvSpPr>
            <p:spPr>
              <a:xfrm rot="20700000">
                <a:off x="1438920" y="2819160"/>
                <a:ext cx="107640" cy="29736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9" name=""/>
              <p:cNvSpPr/>
              <p:nvPr/>
            </p:nvSpPr>
            <p:spPr>
              <a:xfrm rot="20700000">
                <a:off x="1869480" y="3523680"/>
                <a:ext cx="108720" cy="29844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0" name=""/>
              <p:cNvSpPr/>
              <p:nvPr/>
            </p:nvSpPr>
            <p:spPr>
              <a:xfrm rot="20700000">
                <a:off x="1790640" y="3657600"/>
                <a:ext cx="108720" cy="3034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91" name=""/>
              <p:cNvGrpSpPr/>
              <p:nvPr/>
            </p:nvGrpSpPr>
            <p:grpSpPr>
              <a:xfrm>
                <a:off x="1249560" y="2761200"/>
                <a:ext cx="772920" cy="1335960"/>
                <a:chOff x="1249560" y="2761200"/>
                <a:chExt cx="772920" cy="1335960"/>
              </a:xfrm>
            </p:grpSpPr>
            <p:sp>
              <p:nvSpPr>
                <p:cNvPr id="2992" name=""/>
                <p:cNvSpPr/>
                <p:nvPr/>
              </p:nvSpPr>
              <p:spPr>
                <a:xfrm rot="20700000">
                  <a:off x="1316160" y="3078720"/>
                  <a:ext cx="193320" cy="5410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93" name=""/>
                <p:cNvGrpSpPr/>
                <p:nvPr/>
              </p:nvGrpSpPr>
              <p:grpSpPr>
                <a:xfrm>
                  <a:off x="1276560" y="3027240"/>
                  <a:ext cx="612360" cy="1069920"/>
                  <a:chOff x="1276560" y="3027240"/>
                  <a:chExt cx="612360" cy="1069920"/>
                </a:xfrm>
              </p:grpSpPr>
              <p:sp>
                <p:nvSpPr>
                  <p:cNvPr id="2994" name=""/>
                  <p:cNvSpPr/>
                  <p:nvPr/>
                </p:nvSpPr>
                <p:spPr>
                  <a:xfrm rot="20700000">
                    <a:off x="1401120" y="3056760"/>
                    <a:ext cx="363240" cy="101052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5" name=""/>
                  <p:cNvSpPr/>
                  <p:nvPr/>
                </p:nvSpPr>
                <p:spPr>
                  <a:xfrm>
                    <a:off x="1386360" y="3305160"/>
                    <a:ext cx="56160" cy="285840"/>
                  </a:xfrm>
                  <a:custGeom>
                    <a:avLst/>
                    <a:gdLst/>
                    <a:ahLst/>
                    <a:rect l="l" t="t" r="r" b="b"/>
                    <a:pathLst>
                      <a:path w="213" h="323">
                        <a:moveTo>
                          <a:pt x="164" y="0"/>
                        </a:moveTo>
                        <a:lnTo>
                          <a:pt x="0" y="316"/>
                        </a:lnTo>
                        <a:lnTo>
                          <a:pt x="121" y="322"/>
                        </a:lnTo>
                        <a:lnTo>
                          <a:pt x="212" y="13"/>
                        </a:lnTo>
                        <a:lnTo>
                          <a:pt x="164" y="0"/>
                        </a:lnTo>
                      </a:path>
                    </a:pathLst>
                  </a:custGeom>
                  <a:solidFill>
                    <a:srgbClr val="99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6" name=""/>
                <p:cNvSpPr/>
                <p:nvPr/>
              </p:nvSpPr>
              <p:spPr>
                <a:xfrm rot="20700000">
                  <a:off x="1534320" y="3051720"/>
                  <a:ext cx="363600" cy="10108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7" name=""/>
                <p:cNvSpPr/>
                <p:nvPr/>
              </p:nvSpPr>
              <p:spPr>
                <a:xfrm rot="20700000">
                  <a:off x="1835640" y="3051720"/>
                  <a:ext cx="129960" cy="36180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rot="20700000">
                  <a:off x="1831680" y="3627000"/>
                  <a:ext cx="86040" cy="2440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9" name=""/>
                <p:cNvSpPr/>
                <p:nvPr/>
              </p:nvSpPr>
              <p:spPr>
                <a:xfrm rot="20700000">
                  <a:off x="1783440" y="2999880"/>
                  <a:ext cx="86400" cy="23544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0" name=""/>
                <p:cNvSpPr/>
                <p:nvPr/>
              </p:nvSpPr>
              <p:spPr>
                <a:xfrm rot="20700000">
                  <a:off x="1833480" y="3305160"/>
                  <a:ext cx="130680" cy="3574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1" name=""/>
                <p:cNvSpPr/>
                <p:nvPr/>
              </p:nvSpPr>
              <p:spPr>
                <a:xfrm rot="20700000">
                  <a:off x="1410120" y="2869920"/>
                  <a:ext cx="194040" cy="53712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2" name=""/>
                <p:cNvSpPr/>
                <p:nvPr/>
              </p:nvSpPr>
              <p:spPr>
                <a:xfrm rot="20700000">
                  <a:off x="1604880" y="2813040"/>
                  <a:ext cx="194040" cy="5374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3" name=""/>
                <p:cNvSpPr/>
                <p:nvPr/>
              </p:nvSpPr>
              <p:spPr>
                <a:xfrm rot="20700000">
                  <a:off x="1512360" y="2777040"/>
                  <a:ext cx="194040" cy="53712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4" name=""/>
                <p:cNvSpPr/>
                <p:nvPr/>
              </p:nvSpPr>
              <p:spPr>
                <a:xfrm rot="20700000">
                  <a:off x="1500120" y="3462840"/>
                  <a:ext cx="192600" cy="53820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5" name=""/>
                <p:cNvSpPr/>
                <p:nvPr/>
              </p:nvSpPr>
              <p:spPr>
                <a:xfrm>
                  <a:off x="1433160" y="2881800"/>
                  <a:ext cx="482400" cy="1098720"/>
                </a:xfrm>
                <a:custGeom>
                  <a:avLst/>
                  <a:gdLst/>
                  <a:ahLst/>
                  <a:rect l="l" t="t" r="r" b="b"/>
                  <a:pathLst>
                    <a:path w="1827" h="1241">
                      <a:moveTo>
                        <a:pt x="300" y="77"/>
                      </a:moveTo>
                      <a:lnTo>
                        <a:pt x="656" y="143"/>
                      </a:lnTo>
                      <a:lnTo>
                        <a:pt x="1026" y="0"/>
                      </a:lnTo>
                      <a:lnTo>
                        <a:pt x="1348" y="231"/>
                      </a:lnTo>
                      <a:lnTo>
                        <a:pt x="1418" y="234"/>
                      </a:lnTo>
                      <a:lnTo>
                        <a:pt x="1614" y="282"/>
                      </a:lnTo>
                      <a:lnTo>
                        <a:pt x="1678" y="345"/>
                      </a:lnTo>
                      <a:lnTo>
                        <a:pt x="1826" y="455"/>
                      </a:lnTo>
                      <a:lnTo>
                        <a:pt x="1817" y="502"/>
                      </a:lnTo>
                      <a:lnTo>
                        <a:pt x="1657" y="981"/>
                      </a:lnTo>
                      <a:lnTo>
                        <a:pt x="1485" y="1083"/>
                      </a:lnTo>
                      <a:lnTo>
                        <a:pt x="868" y="1205"/>
                      </a:lnTo>
                      <a:lnTo>
                        <a:pt x="807" y="1152"/>
                      </a:lnTo>
                      <a:lnTo>
                        <a:pt x="388" y="1189"/>
                      </a:lnTo>
                      <a:lnTo>
                        <a:pt x="321" y="1240"/>
                      </a:lnTo>
                      <a:lnTo>
                        <a:pt x="0" y="612"/>
                      </a:lnTo>
                      <a:lnTo>
                        <a:pt x="300" y="77"/>
                      </a:lnTo>
                    </a:path>
                  </a:pathLst>
                </a:custGeom>
                <a:solidFill>
                  <a:srgbClr val="99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006" name=""/>
            <p:cNvSpPr/>
            <p:nvPr/>
          </p:nvSpPr>
          <p:spPr>
            <a:xfrm>
              <a:off x="1390680" y="327024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endParaRPr b="0" lang="en-US" sz="1800" spc="-1" strike="noStrike">
                <a:solidFill>
                  <a:srgbClr val="ffffff"/>
                </a:solidFill>
                <a:latin typeface="Times New Roman"/>
              </a:endParaRPr>
            </a:p>
          </p:txBody>
        </p:sp>
      </p:grpSp>
      <p:sp>
        <p:nvSpPr>
          <p:cNvPr id="3007" name=""/>
          <p:cNvSpPr/>
          <p:nvPr/>
        </p:nvSpPr>
        <p:spPr>
          <a:xfrm>
            <a:off x="2233440" y="3094200"/>
            <a:ext cx="181080" cy="342720"/>
          </a:xfrm>
          <a:prstGeom prst="rect">
            <a:avLst/>
          </a:prstGeom>
          <a:blipFill rotWithShape="0">
            <a:blip r:embed="rId3"/>
            <a:srcRect/>
            <a:tile tx="0" ty="0" sx="100000" sy="100000" algn="ctr"/>
          </a:blipFill>
          <a:ln w="93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8" name=""/>
          <p:cNvSpPr/>
          <p:nvPr/>
        </p:nvSpPr>
        <p:spPr>
          <a:xfrm>
            <a:off x="5029200" y="4495680"/>
            <a:ext cx="1600200" cy="609840"/>
          </a:xfrm>
          <a:custGeom>
            <a:avLst/>
            <a:gdLst/>
            <a:ahLst/>
            <a:rect l="l" t="t" r="r" b="b"/>
            <a:pathLst>
              <a:path w="1008" h="384">
                <a:moveTo>
                  <a:pt x="0" y="0"/>
                </a:moveTo>
                <a:lnTo>
                  <a:pt x="0" y="384"/>
                </a:lnTo>
                <a:lnTo>
                  <a:pt x="1008" y="38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a:off x="7016760" y="4282560"/>
            <a:ext cx="1835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Windows 2000 Server</a:t>
            </a:r>
            <a:endParaRPr b="0" lang="en-US" sz="1800" spc="-1" strike="noStrike">
              <a:solidFill>
                <a:srgbClr val="ffffff"/>
              </a:solidFill>
              <a:latin typeface="Times New Roman"/>
            </a:endParaRPr>
          </a:p>
        </p:txBody>
      </p:sp>
      <p:grpSp>
        <p:nvGrpSpPr>
          <p:cNvPr id="3010" name=""/>
          <p:cNvGrpSpPr/>
          <p:nvPr/>
        </p:nvGrpSpPr>
        <p:grpSpPr>
          <a:xfrm>
            <a:off x="2478240" y="2082960"/>
            <a:ext cx="4194720" cy="3999960"/>
            <a:chOff x="2478240" y="2082960"/>
            <a:chExt cx="4194720" cy="3999960"/>
          </a:xfrm>
        </p:grpSpPr>
        <p:sp>
          <p:nvSpPr>
            <p:cNvPr id="3011" name=""/>
            <p:cNvSpPr/>
            <p:nvPr/>
          </p:nvSpPr>
          <p:spPr>
            <a:xfrm>
              <a:off x="2478240" y="2082960"/>
              <a:ext cx="4194720" cy="3891600"/>
            </a:xfrm>
            <a:prstGeom prst="ellipse">
              <a:avLst/>
            </a:prstGeom>
            <a:noFill/>
            <a:ln w="38160">
              <a:solidFill>
                <a:srgbClr val="ff7c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2" name=""/>
            <p:cNvSpPr/>
            <p:nvPr/>
          </p:nvSpPr>
          <p:spPr>
            <a:xfrm>
              <a:off x="3767760" y="5627160"/>
              <a:ext cx="182880" cy="455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013" name=""/>
          <p:cNvSpPr/>
          <p:nvPr/>
        </p:nvSpPr>
        <p:spPr>
          <a:xfrm>
            <a:off x="4903920" y="1736640"/>
            <a:ext cx="424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ffic unprotected over these internal paths</a:t>
            </a:r>
            <a:endParaRPr b="0" lang="en-US" sz="2400" spc="-1" strike="noStrike">
              <a:solidFill>
                <a:srgbClr val="ffffff"/>
              </a:solidFill>
              <a:latin typeface="Times New Roman"/>
            </a:endParaRPr>
          </a:p>
        </p:txBody>
      </p:sp>
      <p:grpSp>
        <p:nvGrpSpPr>
          <p:cNvPr id="3014" name=""/>
          <p:cNvGrpSpPr/>
          <p:nvPr/>
        </p:nvGrpSpPr>
        <p:grpSpPr>
          <a:xfrm>
            <a:off x="828720" y="2717640"/>
            <a:ext cx="1423800" cy="1289160"/>
            <a:chOff x="828720" y="2717640"/>
            <a:chExt cx="1423800" cy="1289160"/>
          </a:xfrm>
        </p:grpSpPr>
        <p:sp>
          <p:nvSpPr>
            <p:cNvPr id="3015" name=""/>
            <p:cNvSpPr/>
            <p:nvPr/>
          </p:nvSpPr>
          <p:spPr>
            <a:xfrm>
              <a:off x="828720" y="2717640"/>
              <a:ext cx="1423800" cy="1093680"/>
            </a:xfrm>
            <a:prstGeom prst="ellipse">
              <a:avLst/>
            </a:prstGeom>
            <a:noFill/>
            <a:ln w="38160">
              <a:solidFill>
                <a:srgbClr val="ff7c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a:off x="1202760" y="3549960"/>
              <a:ext cx="184680" cy="45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017" name=""/>
          <p:cNvSpPr/>
          <p:nvPr/>
        </p:nvSpPr>
        <p:spPr>
          <a:xfrm>
            <a:off x="0" y="4808520"/>
            <a:ext cx="350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ffic protected by PPTP, L2TP/IPSec VPN tunnel over the external path</a:t>
            </a:r>
            <a:endParaRPr b="0" lang="en-US" sz="2000" spc="-1" strike="noStrike">
              <a:solidFill>
                <a:srgbClr val="ffffff"/>
              </a:solidFill>
              <a:latin typeface="Times New Roman"/>
            </a:endParaRPr>
          </a:p>
        </p:txBody>
      </p:sp>
      <p:sp>
        <p:nvSpPr>
          <p:cNvPr id="3018" name=""/>
          <p:cNvSpPr/>
          <p:nvPr/>
        </p:nvSpPr>
        <p:spPr>
          <a:xfrm flipV="1">
            <a:off x="484200" y="3713040"/>
            <a:ext cx="693720" cy="997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9" name=""/>
          <p:cNvSpPr/>
          <p:nvPr/>
        </p:nvSpPr>
        <p:spPr>
          <a:xfrm flipH="1">
            <a:off x="6538680" y="2313000"/>
            <a:ext cx="1066680" cy="8319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20" name=""/>
          <p:cNvGrpSpPr/>
          <p:nvPr/>
        </p:nvGrpSpPr>
        <p:grpSpPr>
          <a:xfrm>
            <a:off x="6585120" y="5578560"/>
            <a:ext cx="528120" cy="574200"/>
            <a:chOff x="6585120" y="5578560"/>
            <a:chExt cx="528120" cy="574200"/>
          </a:xfrm>
        </p:grpSpPr>
        <p:sp>
          <p:nvSpPr>
            <p:cNvPr id="3021" name=""/>
            <p:cNvSpPr/>
            <p:nvPr/>
          </p:nvSpPr>
          <p:spPr>
            <a:xfrm>
              <a:off x="6768360" y="5596560"/>
              <a:ext cx="229320" cy="55620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2" name=""/>
            <p:cNvSpPr/>
            <p:nvPr/>
          </p:nvSpPr>
          <p:spPr>
            <a:xfrm>
              <a:off x="6781680" y="5889240"/>
              <a:ext cx="204120" cy="23688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3" name=""/>
            <p:cNvSpPr/>
            <p:nvPr/>
          </p:nvSpPr>
          <p:spPr>
            <a:xfrm>
              <a:off x="6781680" y="5698800"/>
              <a:ext cx="194400" cy="1591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4" name=""/>
            <p:cNvSpPr/>
            <p:nvPr/>
          </p:nvSpPr>
          <p:spPr>
            <a:xfrm>
              <a:off x="6585120" y="5579640"/>
              <a:ext cx="412920" cy="226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025" name=""/>
            <p:cNvSpPr/>
            <p:nvPr/>
          </p:nvSpPr>
          <p:spPr>
            <a:xfrm>
              <a:off x="6585120" y="5579640"/>
              <a:ext cx="184320" cy="57312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6" name=""/>
            <p:cNvSpPr/>
            <p:nvPr/>
          </p:nvSpPr>
          <p:spPr>
            <a:xfrm>
              <a:off x="6747840" y="5599080"/>
              <a:ext cx="21600" cy="55368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7" name=""/>
            <p:cNvSpPr/>
            <p:nvPr/>
          </p:nvSpPr>
          <p:spPr>
            <a:xfrm>
              <a:off x="6781680" y="5697360"/>
              <a:ext cx="204120" cy="1663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8" name=""/>
            <p:cNvSpPr/>
            <p:nvPr/>
          </p:nvSpPr>
          <p:spPr>
            <a:xfrm>
              <a:off x="6781680" y="5667120"/>
              <a:ext cx="204120" cy="3276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029" name=""/>
            <p:cNvSpPr/>
            <p:nvPr/>
          </p:nvSpPr>
          <p:spPr>
            <a:xfrm>
              <a:off x="6781680" y="5617080"/>
              <a:ext cx="204120" cy="2808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030" name=""/>
            <p:cNvSpPr/>
            <p:nvPr/>
          </p:nvSpPr>
          <p:spPr>
            <a:xfrm>
              <a:off x="6585120" y="5578560"/>
              <a:ext cx="412920" cy="2412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031" name=""/>
            <p:cNvSpPr/>
            <p:nvPr/>
          </p:nvSpPr>
          <p:spPr>
            <a:xfrm>
              <a:off x="6766920" y="5596560"/>
              <a:ext cx="230760" cy="55620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a:off x="6585120" y="5579640"/>
              <a:ext cx="183240" cy="57312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a:off x="6747840" y="5600520"/>
              <a:ext cx="0" cy="53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4" name=""/>
            <p:cNvSpPr/>
            <p:nvPr/>
          </p:nvSpPr>
          <p:spPr>
            <a:xfrm>
              <a:off x="6747840" y="5607720"/>
              <a:ext cx="250200" cy="2052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35" name=""/>
            <p:cNvSpPr/>
            <p:nvPr/>
          </p:nvSpPr>
          <p:spPr>
            <a:xfrm>
              <a:off x="6747840" y="564768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36" name=""/>
            <p:cNvSpPr/>
            <p:nvPr/>
          </p:nvSpPr>
          <p:spPr>
            <a:xfrm>
              <a:off x="6781680" y="5617080"/>
              <a:ext cx="204120" cy="2808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037" name=""/>
            <p:cNvSpPr/>
            <p:nvPr/>
          </p:nvSpPr>
          <p:spPr>
            <a:xfrm>
              <a:off x="6747840" y="565992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38" name=""/>
            <p:cNvSpPr/>
            <p:nvPr/>
          </p:nvSpPr>
          <p:spPr>
            <a:xfrm>
              <a:off x="6747840" y="569736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39" name=""/>
            <p:cNvSpPr/>
            <p:nvPr/>
          </p:nvSpPr>
          <p:spPr>
            <a:xfrm>
              <a:off x="6747840" y="5849280"/>
              <a:ext cx="250200" cy="2052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40" name=""/>
            <p:cNvSpPr/>
            <p:nvPr/>
          </p:nvSpPr>
          <p:spPr>
            <a:xfrm>
              <a:off x="6781680" y="570600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1" name=""/>
            <p:cNvSpPr/>
            <p:nvPr/>
          </p:nvSpPr>
          <p:spPr>
            <a:xfrm>
              <a:off x="6984720" y="5698800"/>
              <a:ext cx="0" cy="15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2" name=""/>
            <p:cNvSpPr/>
            <p:nvPr/>
          </p:nvSpPr>
          <p:spPr>
            <a:xfrm>
              <a:off x="6781680" y="5698800"/>
              <a:ext cx="194400" cy="1576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6975000" y="5845680"/>
              <a:ext cx="972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Times New Roman"/>
              </a:endParaRPr>
            </a:p>
          </p:txBody>
        </p:sp>
        <p:sp>
          <p:nvSpPr>
            <p:cNvPr id="3044" name=""/>
            <p:cNvSpPr/>
            <p:nvPr/>
          </p:nvSpPr>
          <p:spPr>
            <a:xfrm flipH="1">
              <a:off x="6781680" y="5748480"/>
              <a:ext cx="192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045" name=""/>
            <p:cNvSpPr/>
            <p:nvPr/>
          </p:nvSpPr>
          <p:spPr>
            <a:xfrm flipH="1">
              <a:off x="6781680" y="5799600"/>
              <a:ext cx="1929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3046" name=""/>
            <p:cNvSpPr/>
            <p:nvPr/>
          </p:nvSpPr>
          <p:spPr>
            <a:xfrm>
              <a:off x="6747840" y="5889240"/>
              <a:ext cx="250200" cy="2052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47" name=""/>
            <p:cNvSpPr/>
            <p:nvPr/>
          </p:nvSpPr>
          <p:spPr>
            <a:xfrm>
              <a:off x="6747840" y="6103080"/>
              <a:ext cx="250200" cy="2556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48" name=""/>
            <p:cNvSpPr/>
            <p:nvPr/>
          </p:nvSpPr>
          <p:spPr>
            <a:xfrm>
              <a:off x="6781680" y="5901480"/>
              <a:ext cx="0" cy="22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6984720" y="588924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
            <p:cNvSpPr/>
            <p:nvPr/>
          </p:nvSpPr>
          <p:spPr>
            <a:xfrm>
              <a:off x="6781680" y="6088680"/>
              <a:ext cx="204120" cy="2556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51" name=""/>
            <p:cNvSpPr/>
            <p:nvPr/>
          </p:nvSpPr>
          <p:spPr>
            <a:xfrm>
              <a:off x="6781680" y="6078960"/>
              <a:ext cx="204120" cy="2556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52" name=""/>
            <p:cNvSpPr/>
            <p:nvPr/>
          </p:nvSpPr>
          <p:spPr>
            <a:xfrm>
              <a:off x="6781680" y="6070320"/>
              <a:ext cx="204120" cy="2412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053" name=""/>
            <p:cNvSpPr/>
            <p:nvPr/>
          </p:nvSpPr>
          <p:spPr>
            <a:xfrm>
              <a:off x="6781680" y="6060600"/>
              <a:ext cx="204120" cy="216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3054" name=""/>
            <p:cNvSpPr/>
            <p:nvPr/>
          </p:nvSpPr>
          <p:spPr>
            <a:xfrm>
              <a:off x="6781680" y="6049800"/>
              <a:ext cx="204120" cy="230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3055" name=""/>
            <p:cNvSpPr/>
            <p:nvPr/>
          </p:nvSpPr>
          <p:spPr>
            <a:xfrm>
              <a:off x="6781680" y="5618520"/>
              <a:ext cx="194400" cy="2520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056" name=""/>
            <p:cNvSpPr/>
            <p:nvPr/>
          </p:nvSpPr>
          <p:spPr>
            <a:xfrm>
              <a:off x="6975000" y="563688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3057" name=""/>
            <p:cNvSpPr/>
            <p:nvPr/>
          </p:nvSpPr>
          <p:spPr>
            <a:xfrm>
              <a:off x="6829200" y="5667120"/>
              <a:ext cx="109080" cy="3276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058" name=""/>
            <p:cNvSpPr/>
            <p:nvPr/>
          </p:nvSpPr>
          <p:spPr>
            <a:xfrm>
              <a:off x="6781680" y="5667120"/>
              <a:ext cx="204120" cy="29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3059" name=""/>
            <p:cNvSpPr/>
            <p:nvPr/>
          </p:nvSpPr>
          <p:spPr>
            <a:xfrm>
              <a:off x="6781680" y="5680440"/>
              <a:ext cx="156600" cy="2052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60" name=""/>
            <p:cNvSpPr/>
            <p:nvPr/>
          </p:nvSpPr>
          <p:spPr>
            <a:xfrm flipH="1">
              <a:off x="6937200" y="5682960"/>
              <a:ext cx="471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061" name=""/>
            <p:cNvSpPr/>
            <p:nvPr/>
          </p:nvSpPr>
          <p:spPr>
            <a:xfrm>
              <a:off x="6937560" y="5667120"/>
              <a:ext cx="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Times New Roman"/>
              </a:endParaRPr>
            </a:p>
          </p:txBody>
        </p:sp>
        <p:sp>
          <p:nvSpPr>
            <p:cNvPr id="3062" name=""/>
            <p:cNvSpPr/>
            <p:nvPr/>
          </p:nvSpPr>
          <p:spPr>
            <a:xfrm>
              <a:off x="6791760" y="5630760"/>
              <a:ext cx="20160" cy="2052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63" name=""/>
            <p:cNvSpPr/>
            <p:nvPr/>
          </p:nvSpPr>
          <p:spPr>
            <a:xfrm>
              <a:off x="6819480" y="5629320"/>
              <a:ext cx="20520" cy="2052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64" name=""/>
            <p:cNvSpPr/>
            <p:nvPr/>
          </p:nvSpPr>
          <p:spPr>
            <a:xfrm>
              <a:off x="6847200" y="5629320"/>
              <a:ext cx="20520" cy="2052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65" name=""/>
            <p:cNvSpPr/>
            <p:nvPr/>
          </p:nvSpPr>
          <p:spPr>
            <a:xfrm>
              <a:off x="6876360" y="5629320"/>
              <a:ext cx="20520" cy="2052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66" name=""/>
            <p:cNvSpPr/>
            <p:nvPr/>
          </p:nvSpPr>
          <p:spPr>
            <a:xfrm>
              <a:off x="6905880" y="5628240"/>
              <a:ext cx="20520" cy="2052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67" name=""/>
            <p:cNvSpPr/>
            <p:nvPr/>
          </p:nvSpPr>
          <p:spPr>
            <a:xfrm>
              <a:off x="6932520" y="5625720"/>
              <a:ext cx="20520" cy="2052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68" name=""/>
            <p:cNvSpPr/>
            <p:nvPr/>
          </p:nvSpPr>
          <p:spPr>
            <a:xfrm>
              <a:off x="6961680" y="5625720"/>
              <a:ext cx="20520" cy="2052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69" name=""/>
            <p:cNvSpPr/>
            <p:nvPr/>
          </p:nvSpPr>
          <p:spPr>
            <a:xfrm>
              <a:off x="6965280" y="5698800"/>
              <a:ext cx="20520" cy="14796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a:off x="6996960" y="6073920"/>
              <a:ext cx="116280" cy="5472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grpSp>
      <p:sp>
        <p:nvSpPr>
          <p:cNvPr id="3071" name=""/>
          <p:cNvSpPr/>
          <p:nvPr/>
        </p:nvSpPr>
        <p:spPr>
          <a:xfrm>
            <a:off x="5029200" y="5105520"/>
            <a:ext cx="1600200" cy="609480"/>
          </a:xfrm>
          <a:custGeom>
            <a:avLst/>
            <a:gdLst/>
            <a:ahLst/>
            <a:rect l="l" t="t" r="r" b="b"/>
            <a:pathLst>
              <a:path w="1008" h="384">
                <a:moveTo>
                  <a:pt x="0" y="0"/>
                </a:moveTo>
                <a:lnTo>
                  <a:pt x="0" y="384"/>
                </a:lnTo>
                <a:lnTo>
                  <a:pt x="1008" y="38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2" name=""/>
          <p:cNvSpPr/>
          <p:nvPr/>
        </p:nvSpPr>
        <p:spPr>
          <a:xfrm>
            <a:off x="7031160" y="5501520"/>
            <a:ext cx="18349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Other platform</a:t>
            </a:r>
            <a:endParaRPr b="0" lang="en-US" sz="1800" spc="-1" strike="noStrike">
              <a:solidFill>
                <a:srgbClr val="ffffff"/>
              </a:solidFill>
              <a:latin typeface="Times New Roman"/>
            </a:endParaRPr>
          </a:p>
        </p:txBody>
      </p:sp>
      <p:sp>
        <p:nvSpPr>
          <p:cNvPr id="3073" name=""/>
          <p:cNvSpPr/>
          <p:nvPr/>
        </p:nvSpPr>
        <p:spPr>
          <a:xfrm flipV="1">
            <a:off x="4216320" y="4345920"/>
            <a:ext cx="696960" cy="1995480"/>
          </a:xfrm>
          <a:custGeom>
            <a:avLst/>
            <a:gdLst/>
            <a:ahLst/>
            <a:rect l="l" t="t" r="r" b="b"/>
            <a:pathLst>
              <a:path w="1008" h="384">
                <a:moveTo>
                  <a:pt x="0" y="0"/>
                </a:moveTo>
                <a:lnTo>
                  <a:pt x="0" y="384"/>
                </a:lnTo>
                <a:lnTo>
                  <a:pt x="1008" y="38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074" name="" descr=""/>
          <p:cNvPicPr/>
          <p:nvPr/>
        </p:nvPicPr>
        <p:blipFill>
          <a:blip r:embed="rId4"/>
          <a:stretch/>
        </p:blipFill>
        <p:spPr>
          <a:xfrm>
            <a:off x="3772080" y="5541840"/>
            <a:ext cx="1054080" cy="1011240"/>
          </a:xfrm>
          <a:prstGeom prst="rect">
            <a:avLst/>
          </a:prstGeom>
          <a:ln w="0">
            <a:noFill/>
          </a:ln>
        </p:spPr>
      </p:pic>
      <p:grpSp>
        <p:nvGrpSpPr>
          <p:cNvPr id="3075" name=""/>
          <p:cNvGrpSpPr/>
          <p:nvPr/>
        </p:nvGrpSpPr>
        <p:grpSpPr>
          <a:xfrm>
            <a:off x="4648320" y="4191120"/>
            <a:ext cx="729720" cy="291960"/>
            <a:chOff x="4648320" y="4191120"/>
            <a:chExt cx="729720" cy="291960"/>
          </a:xfrm>
        </p:grpSpPr>
        <p:grpSp>
          <p:nvGrpSpPr>
            <p:cNvPr id="3076" name=""/>
            <p:cNvGrpSpPr/>
            <p:nvPr/>
          </p:nvGrpSpPr>
          <p:grpSpPr>
            <a:xfrm>
              <a:off x="4648320" y="4191120"/>
              <a:ext cx="729720" cy="291600"/>
              <a:chOff x="4648320" y="4191120"/>
              <a:chExt cx="729720" cy="291600"/>
            </a:xfrm>
          </p:grpSpPr>
          <p:sp>
            <p:nvSpPr>
              <p:cNvPr id="3077" name=""/>
              <p:cNvSpPr/>
              <p:nvPr/>
            </p:nvSpPr>
            <p:spPr>
              <a:xfrm>
                <a:off x="4863240" y="4210560"/>
                <a:ext cx="491760" cy="5040"/>
              </a:xfrm>
              <a:custGeom>
                <a:avLst/>
                <a:gdLst/>
                <a:ahLst/>
                <a:rect l="l" t="t" r="r" b="b"/>
                <a:pathLst>
                  <a:path w="1294" h="48">
                    <a:moveTo>
                      <a:pt x="0" y="0"/>
                    </a:moveTo>
                    <a:lnTo>
                      <a:pt x="77" y="48"/>
                    </a:lnTo>
                    <a:lnTo>
                      <a:pt x="1294" y="48"/>
                    </a:lnTo>
                    <a:lnTo>
                      <a:pt x="1255" y="0"/>
                    </a:lnTo>
                    <a:lnTo>
                      <a:pt x="0" y="0"/>
                    </a:lnTo>
                    <a:close/>
                  </a:path>
                </a:pathLst>
              </a:custGeom>
              <a:solidFill>
                <a:srgbClr val="e0e0e0"/>
              </a:solidFill>
              <a:ln w="14400">
                <a:solidFill>
                  <a:srgbClr val="80808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8" name=""/>
              <p:cNvSpPr/>
              <p:nvPr/>
            </p:nvSpPr>
            <p:spPr>
              <a:xfrm>
                <a:off x="4861800" y="4209480"/>
                <a:ext cx="124560" cy="273240"/>
              </a:xfrm>
              <a:custGeom>
                <a:avLst/>
                <a:gdLst/>
                <a:ahLst/>
                <a:rect l="l" t="t" r="r" b="b"/>
                <a:pathLst>
                  <a:path w="327" h="2469">
                    <a:moveTo>
                      <a:pt x="0" y="2385"/>
                    </a:moveTo>
                    <a:lnTo>
                      <a:pt x="67" y="2469"/>
                    </a:lnTo>
                    <a:lnTo>
                      <a:pt x="327" y="820"/>
                    </a:lnTo>
                    <a:lnTo>
                      <a:pt x="83" y="50"/>
                    </a:lnTo>
                    <a:lnTo>
                      <a:pt x="2" y="0"/>
                    </a:lnTo>
                    <a:lnTo>
                      <a:pt x="0" y="902"/>
                    </a:lnTo>
                    <a:lnTo>
                      <a:pt x="0" y="2385"/>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9" name=""/>
              <p:cNvSpPr/>
              <p:nvPr/>
            </p:nvSpPr>
            <p:spPr>
              <a:xfrm>
                <a:off x="4648320" y="4191120"/>
                <a:ext cx="216000" cy="282240"/>
              </a:xfrm>
              <a:custGeom>
                <a:avLst/>
                <a:gdLst/>
                <a:ahLst/>
                <a:rect l="l" t="t" r="r" b="b"/>
                <a:pathLst>
                  <a:path w="569" h="2551">
                    <a:moveTo>
                      <a:pt x="0" y="0"/>
                    </a:moveTo>
                    <a:lnTo>
                      <a:pt x="569" y="167"/>
                    </a:lnTo>
                    <a:lnTo>
                      <a:pt x="569" y="2551"/>
                    </a:lnTo>
                    <a:lnTo>
                      <a:pt x="0" y="1943"/>
                    </a:lnTo>
                    <a:lnTo>
                      <a:pt x="0" y="0"/>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0" name=""/>
              <p:cNvSpPr/>
              <p:nvPr/>
            </p:nvSpPr>
            <p:spPr>
              <a:xfrm>
                <a:off x="4648320" y="4191120"/>
                <a:ext cx="693360" cy="19440"/>
              </a:xfrm>
              <a:custGeom>
                <a:avLst/>
                <a:gdLst/>
                <a:ahLst/>
                <a:rect l="l" t="t" r="r" b="b"/>
                <a:pathLst>
                  <a:path w="1824" h="175">
                    <a:moveTo>
                      <a:pt x="570" y="175"/>
                    </a:moveTo>
                    <a:lnTo>
                      <a:pt x="1824" y="175"/>
                    </a:lnTo>
                    <a:lnTo>
                      <a:pt x="945" y="0"/>
                    </a:lnTo>
                    <a:lnTo>
                      <a:pt x="0" y="0"/>
                    </a:lnTo>
                    <a:lnTo>
                      <a:pt x="570" y="175"/>
                    </a:lnTo>
                    <a:close/>
                  </a:path>
                </a:pathLst>
              </a:custGeom>
              <a:solidFill>
                <a:srgbClr val="e0e0e0"/>
              </a:solidFill>
              <a:ln w="14400">
                <a:solidFill>
                  <a:srgbClr val="808080"/>
                </a:solidFill>
                <a:round/>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081" name=""/>
              <p:cNvSpPr/>
              <p:nvPr/>
            </p:nvSpPr>
            <p:spPr>
              <a:xfrm>
                <a:off x="4890960" y="4312800"/>
                <a:ext cx="447840" cy="16848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2" name=""/>
              <p:cNvSpPr/>
              <p:nvPr/>
            </p:nvSpPr>
            <p:spPr>
              <a:xfrm>
                <a:off x="4892400" y="4214880"/>
                <a:ext cx="484200" cy="85680"/>
              </a:xfrm>
              <a:custGeom>
                <a:avLst/>
                <a:gdLst/>
                <a:ahLst/>
                <a:rect l="l" t="t" r="r" b="b"/>
                <a:pathLst>
                  <a:path w="1273" h="776">
                    <a:moveTo>
                      <a:pt x="0" y="0"/>
                    </a:moveTo>
                    <a:lnTo>
                      <a:pt x="1215" y="0"/>
                    </a:lnTo>
                    <a:lnTo>
                      <a:pt x="1273" y="776"/>
                    </a:lnTo>
                    <a:lnTo>
                      <a:pt x="52" y="776"/>
                    </a:lnTo>
                    <a:lnTo>
                      <a:pt x="0" y="0"/>
                    </a:lnTo>
                    <a:close/>
                  </a:path>
                </a:pathLst>
              </a:custGeom>
              <a:solidFill>
                <a:srgbClr val="c0c0c0"/>
              </a:solidFill>
              <a:ln w="144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3" name=""/>
              <p:cNvSpPr/>
              <p:nvPr/>
            </p:nvSpPr>
            <p:spPr>
              <a:xfrm>
                <a:off x="4888440" y="4300560"/>
                <a:ext cx="489600" cy="10080"/>
              </a:xfrm>
              <a:custGeom>
                <a:avLst/>
                <a:gdLst/>
                <a:ahLst/>
                <a:rect l="l" t="t" r="r" b="b"/>
                <a:pathLst>
                  <a:path w="1288" h="92">
                    <a:moveTo>
                      <a:pt x="0" y="92"/>
                    </a:moveTo>
                    <a:lnTo>
                      <a:pt x="1188" y="92"/>
                    </a:lnTo>
                    <a:lnTo>
                      <a:pt x="1288" y="0"/>
                    </a:lnTo>
                    <a:lnTo>
                      <a:pt x="65" y="0"/>
                    </a:lnTo>
                    <a:lnTo>
                      <a:pt x="0" y="92"/>
                    </a:lnTo>
                    <a:close/>
                  </a:path>
                </a:pathLst>
              </a:custGeom>
              <a:solidFill>
                <a:srgbClr val="a0a0a0"/>
              </a:solidFill>
              <a:ln w="14400">
                <a:solidFill>
                  <a:srgbClr val="808080"/>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nvGrpSpPr>
            <p:cNvPr id="3084" name=""/>
            <p:cNvGrpSpPr/>
            <p:nvPr/>
          </p:nvGrpSpPr>
          <p:grpSpPr>
            <a:xfrm>
              <a:off x="4893840" y="4210560"/>
              <a:ext cx="136440" cy="272520"/>
              <a:chOff x="4893840" y="4210560"/>
              <a:chExt cx="136440" cy="272520"/>
            </a:xfrm>
          </p:grpSpPr>
          <p:sp>
            <p:nvSpPr>
              <p:cNvPr id="3085" name=""/>
              <p:cNvSpPr/>
              <p:nvPr/>
            </p:nvSpPr>
            <p:spPr>
              <a:xfrm>
                <a:off x="4893840" y="4210560"/>
                <a:ext cx="39960" cy="272160"/>
              </a:xfrm>
              <a:custGeom>
                <a:avLst/>
                <a:gdLst/>
                <a:ahLst/>
                <a:rect l="l" t="t" r="r" b="b"/>
                <a:pathLst>
                  <a:path w="107" h="2463">
                    <a:moveTo>
                      <a:pt x="0" y="0"/>
                    </a:moveTo>
                    <a:lnTo>
                      <a:pt x="55" y="41"/>
                    </a:lnTo>
                    <a:lnTo>
                      <a:pt x="107" y="827"/>
                    </a:lnTo>
                    <a:lnTo>
                      <a:pt x="53" y="916"/>
                    </a:lnTo>
                    <a:lnTo>
                      <a:pt x="50"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a:off x="4909680" y="4210920"/>
                <a:ext cx="37800" cy="272160"/>
              </a:xfrm>
              <a:custGeom>
                <a:avLst/>
                <a:gdLst/>
                <a:ahLst/>
                <a:rect l="l" t="t" r="r" b="b"/>
                <a:pathLst>
                  <a:path w="101" h="2462">
                    <a:moveTo>
                      <a:pt x="0" y="0"/>
                    </a:moveTo>
                    <a:lnTo>
                      <a:pt x="48" y="41"/>
                    </a:lnTo>
                    <a:lnTo>
                      <a:pt x="101" y="825"/>
                    </a:lnTo>
                    <a:lnTo>
                      <a:pt x="47" y="914"/>
                    </a:lnTo>
                    <a:lnTo>
                      <a:pt x="45" y="2462"/>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a:off x="4921920" y="4210560"/>
                <a:ext cx="39960" cy="272520"/>
              </a:xfrm>
              <a:custGeom>
                <a:avLst/>
                <a:gdLst/>
                <a:ahLst/>
                <a:rect l="l" t="t" r="r" b="b"/>
                <a:pathLst>
                  <a:path w="107" h="2463">
                    <a:moveTo>
                      <a:pt x="0" y="0"/>
                    </a:moveTo>
                    <a:lnTo>
                      <a:pt x="53" y="42"/>
                    </a:lnTo>
                    <a:lnTo>
                      <a:pt x="107" y="820"/>
                    </a:lnTo>
                    <a:lnTo>
                      <a:pt x="49" y="908"/>
                    </a:lnTo>
                    <a:lnTo>
                      <a:pt x="49"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a:off x="4936320" y="4210920"/>
                <a:ext cx="38520" cy="271800"/>
              </a:xfrm>
              <a:custGeom>
                <a:avLst/>
                <a:gdLst/>
                <a:ahLst/>
                <a:rect l="l" t="t" r="r" b="b"/>
                <a:pathLst>
                  <a:path w="103" h="2456">
                    <a:moveTo>
                      <a:pt x="0" y="0"/>
                    </a:moveTo>
                    <a:lnTo>
                      <a:pt x="50" y="35"/>
                    </a:lnTo>
                    <a:lnTo>
                      <a:pt x="103" y="819"/>
                    </a:lnTo>
                    <a:lnTo>
                      <a:pt x="48" y="909"/>
                    </a:lnTo>
                    <a:lnTo>
                      <a:pt x="46" y="2456"/>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9" name=""/>
              <p:cNvSpPr/>
              <p:nvPr/>
            </p:nvSpPr>
            <p:spPr>
              <a:xfrm>
                <a:off x="4950360" y="4210560"/>
                <a:ext cx="38520" cy="271440"/>
              </a:xfrm>
              <a:custGeom>
                <a:avLst/>
                <a:gdLst/>
                <a:ahLst/>
                <a:rect l="l" t="t" r="r" b="b"/>
                <a:pathLst>
                  <a:path w="101" h="2455">
                    <a:moveTo>
                      <a:pt x="0" y="0"/>
                    </a:moveTo>
                    <a:lnTo>
                      <a:pt x="49" y="48"/>
                    </a:lnTo>
                    <a:lnTo>
                      <a:pt x="101" y="819"/>
                    </a:lnTo>
                    <a:lnTo>
                      <a:pt x="46" y="908"/>
                    </a:lnTo>
                    <a:lnTo>
                      <a:pt x="44" y="2455"/>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0" name=""/>
              <p:cNvSpPr/>
              <p:nvPr/>
            </p:nvSpPr>
            <p:spPr>
              <a:xfrm>
                <a:off x="4965840" y="4210920"/>
                <a:ext cx="37080" cy="271440"/>
              </a:xfrm>
              <a:custGeom>
                <a:avLst/>
                <a:gdLst/>
                <a:ahLst/>
                <a:rect l="l" t="t" r="r" b="b"/>
                <a:pathLst>
                  <a:path w="97" h="2454">
                    <a:moveTo>
                      <a:pt x="0" y="0"/>
                    </a:moveTo>
                    <a:lnTo>
                      <a:pt x="44" y="41"/>
                    </a:lnTo>
                    <a:lnTo>
                      <a:pt x="97" y="817"/>
                    </a:lnTo>
                    <a:lnTo>
                      <a:pt x="42" y="906"/>
                    </a:lnTo>
                    <a:lnTo>
                      <a:pt x="40" y="2454"/>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1" name=""/>
              <p:cNvSpPr/>
              <p:nvPr/>
            </p:nvSpPr>
            <p:spPr>
              <a:xfrm>
                <a:off x="4980240" y="4210920"/>
                <a:ext cx="37080" cy="272160"/>
              </a:xfrm>
              <a:custGeom>
                <a:avLst/>
                <a:gdLst/>
                <a:ahLst/>
                <a:rect l="l" t="t" r="r" b="b"/>
                <a:pathLst>
                  <a:path w="98" h="2460">
                    <a:moveTo>
                      <a:pt x="0" y="0"/>
                    </a:moveTo>
                    <a:lnTo>
                      <a:pt x="43" y="43"/>
                    </a:lnTo>
                    <a:lnTo>
                      <a:pt x="98" y="809"/>
                    </a:lnTo>
                    <a:lnTo>
                      <a:pt x="40" y="905"/>
                    </a:lnTo>
                    <a:lnTo>
                      <a:pt x="40" y="2460"/>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2" name=""/>
              <p:cNvSpPr/>
              <p:nvPr/>
            </p:nvSpPr>
            <p:spPr>
              <a:xfrm>
                <a:off x="4993200" y="4210920"/>
                <a:ext cx="37080" cy="270720"/>
              </a:xfrm>
              <a:custGeom>
                <a:avLst/>
                <a:gdLst/>
                <a:ahLst/>
                <a:rect l="l" t="t" r="r" b="b"/>
                <a:pathLst>
                  <a:path w="97" h="2448">
                    <a:moveTo>
                      <a:pt x="0" y="0"/>
                    </a:moveTo>
                    <a:lnTo>
                      <a:pt x="45" y="41"/>
                    </a:lnTo>
                    <a:lnTo>
                      <a:pt x="97" y="812"/>
                    </a:lnTo>
                    <a:lnTo>
                      <a:pt x="44" y="901"/>
                    </a:lnTo>
                    <a:lnTo>
                      <a:pt x="41" y="2448"/>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3" name=""/>
            <p:cNvSpPr/>
            <p:nvPr/>
          </p:nvSpPr>
          <p:spPr>
            <a:xfrm>
              <a:off x="5027760" y="4334760"/>
              <a:ext cx="293400" cy="13284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4" name=""/>
            <p:cNvSpPr/>
            <p:nvPr/>
          </p:nvSpPr>
          <p:spPr>
            <a:xfrm>
              <a:off x="5027760" y="4361040"/>
              <a:ext cx="293400" cy="25200"/>
            </a:xfrm>
            <a:prstGeom prst="rect">
              <a:avLst/>
            </a:prstGeom>
            <a:solidFill>
              <a:srgbClr val="c0c0c0"/>
            </a:solidFill>
            <a:ln w="144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095" name=""/>
            <p:cNvSpPr/>
            <p:nvPr/>
          </p:nvSpPr>
          <p:spPr>
            <a:xfrm>
              <a:off x="5027760" y="4388040"/>
              <a:ext cx="293400" cy="25200"/>
            </a:xfrm>
            <a:prstGeom prst="rect">
              <a:avLst/>
            </a:prstGeom>
            <a:solidFill>
              <a:srgbClr val="c0c0c0"/>
            </a:solidFill>
            <a:ln w="144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096" name=""/>
            <p:cNvSpPr/>
            <p:nvPr/>
          </p:nvSpPr>
          <p:spPr>
            <a:xfrm>
              <a:off x="5027760" y="4414680"/>
              <a:ext cx="293400" cy="24480"/>
            </a:xfrm>
            <a:prstGeom prst="rect">
              <a:avLst/>
            </a:prstGeom>
            <a:solidFill>
              <a:srgbClr val="c0c0c0"/>
            </a:solidFill>
            <a:ln w="1440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097" name=""/>
            <p:cNvSpPr/>
            <p:nvPr/>
          </p:nvSpPr>
          <p:spPr>
            <a:xfrm>
              <a:off x="5077800" y="4365720"/>
              <a:ext cx="192240" cy="14400"/>
            </a:xfrm>
            <a:prstGeom prst="rect">
              <a:avLst/>
            </a:prstGeom>
            <a:solidFill>
              <a:srgbClr val="c0c0c0"/>
            </a:solidFill>
            <a:ln w="1440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98" name=""/>
            <p:cNvSpPr/>
            <p:nvPr/>
          </p:nvSpPr>
          <p:spPr>
            <a:xfrm>
              <a:off x="5077800" y="4392720"/>
              <a:ext cx="192240" cy="14400"/>
            </a:xfrm>
            <a:prstGeom prst="rect">
              <a:avLst/>
            </a:prstGeom>
            <a:solidFill>
              <a:srgbClr val="c0c0c0"/>
            </a:solidFill>
            <a:ln w="1440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99" name=""/>
            <p:cNvSpPr/>
            <p:nvPr/>
          </p:nvSpPr>
          <p:spPr>
            <a:xfrm>
              <a:off x="5210280" y="4336200"/>
              <a:ext cx="12600" cy="17640"/>
            </a:xfrm>
            <a:custGeom>
              <a:avLst/>
              <a:gdLst/>
              <a:ahLst/>
              <a:rect l="l" t="t" r="r" b="b"/>
              <a:pathLst>
                <a:path w="34" h="157">
                  <a:moveTo>
                    <a:pt x="34" y="0"/>
                  </a:moveTo>
                  <a:lnTo>
                    <a:pt x="34" y="157"/>
                  </a:lnTo>
                  <a:lnTo>
                    <a:pt x="0" y="68"/>
                  </a:lnTo>
                  <a:lnTo>
                    <a:pt x="34" y="0"/>
                  </a:lnTo>
                  <a:close/>
                </a:path>
              </a:pathLst>
            </a:custGeom>
            <a:solidFill>
              <a:srgbClr val="60606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00" name=""/>
            <p:cNvSpPr/>
            <p:nvPr/>
          </p:nvSpPr>
          <p:spPr>
            <a:xfrm>
              <a:off x="5087880" y="4369680"/>
              <a:ext cx="172440" cy="2520"/>
            </a:xfrm>
            <a:prstGeom prst="rect">
              <a:avLst/>
            </a:pr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3101" name=""/>
            <p:cNvSpPr/>
            <p:nvPr/>
          </p:nvSpPr>
          <p:spPr>
            <a:xfrm>
              <a:off x="5140080" y="4375080"/>
              <a:ext cx="75960" cy="3960"/>
            </a:xfrm>
            <a:custGeom>
              <a:avLst/>
              <a:gdLst/>
              <a:ahLst/>
              <a:rect l="l" t="t" r="r" b="b"/>
              <a:pathLst>
                <a:path w="199" h="37">
                  <a:moveTo>
                    <a:pt x="4" y="37"/>
                  </a:moveTo>
                  <a:lnTo>
                    <a:pt x="0" y="0"/>
                  </a:lnTo>
                  <a:lnTo>
                    <a:pt x="193" y="0"/>
                  </a:lnTo>
                  <a:lnTo>
                    <a:pt x="199" y="36"/>
                  </a:lnTo>
                </a:path>
              </a:pathLst>
            </a:custGeom>
            <a:noFill/>
            <a:ln w="14400">
              <a:solidFill>
                <a:srgbClr val="80808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3102" name=""/>
            <p:cNvSpPr/>
            <p:nvPr/>
          </p:nvSpPr>
          <p:spPr>
            <a:xfrm>
              <a:off x="4934160" y="4228200"/>
              <a:ext cx="66600" cy="20520"/>
            </a:xfrm>
            <a:custGeom>
              <a:avLst/>
              <a:gdLst/>
              <a:ahLst/>
              <a:rect l="l" t="t" r="r" b="b"/>
              <a:pathLst>
                <a:path w="177" h="186">
                  <a:moveTo>
                    <a:pt x="163" y="0"/>
                  </a:moveTo>
                  <a:lnTo>
                    <a:pt x="0" y="0"/>
                  </a:lnTo>
                  <a:lnTo>
                    <a:pt x="12" y="186"/>
                  </a:lnTo>
                  <a:lnTo>
                    <a:pt x="177" y="186"/>
                  </a:lnTo>
                  <a:lnTo>
                    <a:pt x="163" y="0"/>
                  </a:lnTo>
                  <a:close/>
                </a:path>
              </a:pathLst>
            </a:custGeom>
            <a:solidFill>
              <a:srgbClr val="c0c0c0"/>
            </a:solidFill>
            <a:ln w="14400">
              <a:solidFill>
                <a:srgbClr val="808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03" name=""/>
            <p:cNvSpPr/>
            <p:nvPr/>
          </p:nvSpPr>
          <p:spPr>
            <a:xfrm>
              <a:off x="4941720" y="4263120"/>
              <a:ext cx="69840" cy="20520"/>
            </a:xfrm>
            <a:custGeom>
              <a:avLst/>
              <a:gdLst/>
              <a:ahLst/>
              <a:rect l="l" t="t" r="r" b="b"/>
              <a:pathLst>
                <a:path w="183" h="188">
                  <a:moveTo>
                    <a:pt x="169" y="0"/>
                  </a:moveTo>
                  <a:lnTo>
                    <a:pt x="0" y="0"/>
                  </a:lnTo>
                  <a:lnTo>
                    <a:pt x="12" y="188"/>
                  </a:lnTo>
                  <a:lnTo>
                    <a:pt x="183" y="187"/>
                  </a:lnTo>
                  <a:lnTo>
                    <a:pt x="169" y="0"/>
                  </a:lnTo>
                  <a:close/>
                </a:path>
              </a:pathLst>
            </a:custGeom>
            <a:solidFill>
              <a:srgbClr val="c0c0c0"/>
            </a:solidFill>
            <a:ln w="14400">
              <a:solidFill>
                <a:srgbClr val="808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3104" name=""/>
            <p:cNvGrpSpPr/>
            <p:nvPr/>
          </p:nvGrpSpPr>
          <p:grpSpPr>
            <a:xfrm>
              <a:off x="5043600" y="4262760"/>
              <a:ext cx="293400" cy="19800"/>
              <a:chOff x="5043600" y="4262760"/>
              <a:chExt cx="293400" cy="19800"/>
            </a:xfrm>
          </p:grpSpPr>
          <p:sp>
            <p:nvSpPr>
              <p:cNvPr id="3105" name=""/>
              <p:cNvSpPr/>
              <p:nvPr/>
            </p:nvSpPr>
            <p:spPr>
              <a:xfrm>
                <a:off x="5043600" y="4262760"/>
                <a:ext cx="293400" cy="19800"/>
              </a:xfrm>
              <a:prstGeom prst="rect">
                <a:avLst/>
              </a:prstGeom>
              <a:solidFill>
                <a:srgbClr val="606060"/>
              </a:solidFill>
              <a:ln w="1440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106" name=""/>
              <p:cNvSpPr/>
              <p:nvPr/>
            </p:nvSpPr>
            <p:spPr>
              <a:xfrm>
                <a:off x="5096880" y="4264560"/>
                <a:ext cx="3564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107" name=""/>
              <p:cNvSpPr/>
              <p:nvPr/>
            </p:nvSpPr>
            <p:spPr>
              <a:xfrm>
                <a:off x="5096880" y="4273560"/>
                <a:ext cx="3564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108" name=""/>
              <p:cNvSpPr/>
              <p:nvPr/>
            </p:nvSpPr>
            <p:spPr>
              <a:xfrm>
                <a:off x="5168160" y="4268880"/>
                <a:ext cx="35640" cy="6840"/>
              </a:xfrm>
              <a:prstGeom prst="rect">
                <a:avLst/>
              </a:pr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109" name=""/>
              <p:cNvSpPr/>
              <p:nvPr/>
            </p:nvSpPr>
            <p:spPr>
              <a:xfrm>
                <a:off x="5058720" y="4269240"/>
                <a:ext cx="26280" cy="8280"/>
              </a:xfrm>
              <a:prstGeom prst="ellipse">
                <a:avLst/>
              </a:prstGeom>
              <a:solidFill>
                <a:srgbClr val="20202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sp>
        <p:nvSpPr>
          <p:cNvPr id="3110" name=""/>
          <p:cNvSpPr/>
          <p:nvPr/>
        </p:nvSpPr>
        <p:spPr>
          <a:xfrm>
            <a:off x="3789360" y="3981600"/>
            <a:ext cx="696960" cy="365040"/>
          </a:xfrm>
          <a:custGeom>
            <a:avLst/>
            <a:gdLst/>
            <a:ahLst/>
            <a:rect l="l" t="t" r="r" b="b"/>
            <a:pathLst>
              <a:path w="1008" h="384">
                <a:moveTo>
                  <a:pt x="0" y="0"/>
                </a:moveTo>
                <a:lnTo>
                  <a:pt x="0" y="384"/>
                </a:lnTo>
                <a:lnTo>
                  <a:pt x="1008" y="38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111" name="" descr=""/>
          <p:cNvPicPr/>
          <p:nvPr/>
        </p:nvPicPr>
        <p:blipFill>
          <a:blip r:embed="rId5"/>
          <a:stretch/>
        </p:blipFill>
        <p:spPr>
          <a:xfrm>
            <a:off x="3451320" y="3438360"/>
            <a:ext cx="596880" cy="630360"/>
          </a:xfrm>
          <a:prstGeom prst="rect">
            <a:avLst/>
          </a:prstGeom>
          <a:ln w="0">
            <a:noFill/>
          </a:ln>
        </p:spPr>
      </p:pic>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2" name=""/>
          <p:cNvSpPr/>
          <p:nvPr/>
        </p:nvSpPr>
        <p:spPr>
          <a:xfrm>
            <a:off x="2743200" y="3124080"/>
            <a:ext cx="2286000" cy="1143000"/>
          </a:xfrm>
          <a:custGeom>
            <a:avLst/>
            <a:gdLst/>
            <a:ahLst/>
            <a:rect l="l" t="t" r="r" b="b"/>
            <a:pathLst>
              <a:path w="1423" h="145">
                <a:moveTo>
                  <a:pt x="0" y="0"/>
                </a:moveTo>
                <a:lnTo>
                  <a:pt x="1423" y="0"/>
                </a:lnTo>
                <a:lnTo>
                  <a:pt x="1423" y="145"/>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13" name="PlaceHolder 1"/>
          <p:cNvSpPr>
            <a:spLocks noGrp="1"/>
          </p:cNvSpPr>
          <p:nvPr>
            <p:ph type="title"/>
          </p:nvPr>
        </p:nvSpPr>
        <p:spPr>
          <a:xfrm>
            <a:off x="365040" y="228240"/>
            <a:ext cx="8778960" cy="1298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cf00"/>
                </a:solidFill>
                <a:latin typeface="Arial"/>
              </a:rPr>
              <a:t>Protect internal path with gateway-to-gateway IPSec tunnel</a:t>
            </a:r>
            <a:endParaRPr b="1" lang="en-US" sz="4400" spc="-1" strike="noStrike">
              <a:solidFill>
                <a:srgbClr val="fccf00"/>
              </a:solidFill>
              <a:latin typeface="Arial"/>
            </a:endParaRPr>
          </a:p>
        </p:txBody>
      </p:sp>
      <p:sp>
        <p:nvSpPr>
          <p:cNvPr id="3114" name=""/>
          <p:cNvSpPr/>
          <p:nvPr/>
        </p:nvSpPr>
        <p:spPr>
          <a:xfrm>
            <a:off x="1204920" y="1918800"/>
            <a:ext cx="27446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Windows 2000 Server as VPN Gateway</a:t>
            </a:r>
            <a:endParaRPr b="0" lang="en-US" sz="1800" spc="-1" strike="noStrike">
              <a:solidFill>
                <a:srgbClr val="ffffff"/>
              </a:solidFill>
              <a:latin typeface="Times New Roman"/>
            </a:endParaRPr>
          </a:p>
        </p:txBody>
      </p:sp>
      <p:sp>
        <p:nvSpPr>
          <p:cNvPr id="3115" name=""/>
          <p:cNvSpPr/>
          <p:nvPr/>
        </p:nvSpPr>
        <p:spPr>
          <a:xfrm rot="1064400">
            <a:off x="890280" y="2873520"/>
            <a:ext cx="512640" cy="147600"/>
          </a:xfrm>
          <a:custGeom>
            <a:avLst/>
            <a:gdLst/>
            <a:ahLst/>
            <a:rect l="l" t="t" r="r" b="b"/>
            <a:pathLst>
              <a:path w="592" h="86">
                <a:moveTo>
                  <a:pt x="0" y="34"/>
                </a:moveTo>
                <a:lnTo>
                  <a:pt x="326" y="0"/>
                </a:lnTo>
                <a:lnTo>
                  <a:pt x="257" y="86"/>
                </a:lnTo>
                <a:lnTo>
                  <a:pt x="592" y="43"/>
                </a:lnTo>
              </a:path>
            </a:pathLst>
          </a:custGeom>
          <a:noFill/>
          <a:ln w="38160">
            <a:solidFill>
              <a:srgbClr val="30517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6" name=""/>
          <p:cNvSpPr/>
          <p:nvPr/>
        </p:nvSpPr>
        <p:spPr>
          <a:xfrm flipV="1">
            <a:off x="1857240" y="3139920"/>
            <a:ext cx="398520" cy="285840"/>
          </a:xfrm>
          <a:prstGeom prst="line">
            <a:avLst/>
          </a:prstGeom>
          <a:ln w="76320">
            <a:solidFill>
              <a:srgbClr val="30517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17" name=""/>
          <p:cNvGrpSpPr/>
          <p:nvPr/>
        </p:nvGrpSpPr>
        <p:grpSpPr>
          <a:xfrm>
            <a:off x="858600" y="2784600"/>
            <a:ext cx="1428840" cy="897840"/>
            <a:chOff x="858600" y="2784600"/>
            <a:chExt cx="1428840" cy="897840"/>
          </a:xfrm>
        </p:grpSpPr>
        <p:grpSp>
          <p:nvGrpSpPr>
            <p:cNvPr id="3118" name=""/>
            <p:cNvGrpSpPr/>
            <p:nvPr/>
          </p:nvGrpSpPr>
          <p:grpSpPr>
            <a:xfrm>
              <a:off x="858600" y="2784600"/>
              <a:ext cx="675720" cy="448560"/>
              <a:chOff x="858600" y="2784600"/>
              <a:chExt cx="675720" cy="448560"/>
            </a:xfrm>
          </p:grpSpPr>
          <p:sp>
            <p:nvSpPr>
              <p:cNvPr id="3119" name=""/>
              <p:cNvSpPr/>
              <p:nvPr/>
            </p:nvSpPr>
            <p:spPr>
              <a:xfrm rot="1373400">
                <a:off x="1450080" y="3014640"/>
                <a:ext cx="43560" cy="21852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20" name=""/>
              <p:cNvGrpSpPr/>
              <p:nvPr/>
            </p:nvGrpSpPr>
            <p:grpSpPr>
              <a:xfrm>
                <a:off x="858600" y="2784600"/>
                <a:ext cx="646200" cy="438480"/>
                <a:chOff x="858600" y="2784600"/>
                <a:chExt cx="646200" cy="438480"/>
              </a:xfrm>
            </p:grpSpPr>
            <p:sp>
              <p:nvSpPr>
                <p:cNvPr id="3121" name=""/>
                <p:cNvSpPr/>
                <p:nvPr/>
              </p:nvSpPr>
              <p:spPr>
                <a:xfrm rot="1373400">
                  <a:off x="896760" y="2794320"/>
                  <a:ext cx="93960" cy="21564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22" name=""/>
                <p:cNvGrpSpPr/>
                <p:nvPr/>
              </p:nvGrpSpPr>
              <p:grpSpPr>
                <a:xfrm>
                  <a:off x="923400" y="2813400"/>
                  <a:ext cx="581400" cy="409680"/>
                  <a:chOff x="923400" y="2813400"/>
                  <a:chExt cx="581400" cy="409680"/>
                </a:xfrm>
              </p:grpSpPr>
              <p:sp>
                <p:nvSpPr>
                  <p:cNvPr id="3123" name=""/>
                  <p:cNvSpPr/>
                  <p:nvPr/>
                </p:nvSpPr>
                <p:spPr>
                  <a:xfrm rot="1373400">
                    <a:off x="1441440" y="3003120"/>
                    <a:ext cx="20160" cy="22464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4" name=""/>
                  <p:cNvSpPr/>
                  <p:nvPr/>
                </p:nvSpPr>
                <p:spPr>
                  <a:xfrm rot="1373400">
                    <a:off x="957960" y="2908440"/>
                    <a:ext cx="510120" cy="22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5" name=""/>
                  <p:cNvSpPr/>
                  <p:nvPr/>
                </p:nvSpPr>
                <p:spPr>
                  <a:xfrm rot="1373400">
                    <a:off x="965880" y="2808360"/>
                    <a:ext cx="20160" cy="22428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3126" name=""/>
            <p:cNvGrpSpPr/>
            <p:nvPr/>
          </p:nvGrpSpPr>
          <p:grpSpPr>
            <a:xfrm>
              <a:off x="1545480" y="3237840"/>
              <a:ext cx="741960" cy="444600"/>
              <a:chOff x="1545480" y="3237840"/>
              <a:chExt cx="741960" cy="444600"/>
            </a:xfrm>
          </p:grpSpPr>
          <p:sp>
            <p:nvSpPr>
              <p:cNvPr id="3127" name=""/>
              <p:cNvSpPr/>
              <p:nvPr/>
            </p:nvSpPr>
            <p:spPr>
              <a:xfrm rot="20409000">
                <a:off x="2203920" y="3239640"/>
                <a:ext cx="48240" cy="21564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28" name=""/>
              <p:cNvGrpSpPr/>
              <p:nvPr/>
            </p:nvGrpSpPr>
            <p:grpSpPr>
              <a:xfrm>
                <a:off x="1545480" y="3247920"/>
                <a:ext cx="707760" cy="434520"/>
                <a:chOff x="1545480" y="3247920"/>
                <a:chExt cx="707760" cy="434520"/>
              </a:xfrm>
            </p:grpSpPr>
            <p:sp>
              <p:nvSpPr>
                <p:cNvPr id="3129" name=""/>
                <p:cNvSpPr/>
                <p:nvPr/>
              </p:nvSpPr>
              <p:spPr>
                <a:xfrm rot="20409000">
                  <a:off x="1578240" y="3458160"/>
                  <a:ext cx="104400" cy="21276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30" name=""/>
                <p:cNvGrpSpPr/>
                <p:nvPr/>
              </p:nvGrpSpPr>
              <p:grpSpPr>
                <a:xfrm>
                  <a:off x="1622160" y="3247920"/>
                  <a:ext cx="631080" cy="414720"/>
                  <a:chOff x="1622160" y="3247920"/>
                  <a:chExt cx="631080" cy="414720"/>
                </a:xfrm>
              </p:grpSpPr>
              <p:sp>
                <p:nvSpPr>
                  <p:cNvPr id="3131" name=""/>
                  <p:cNvSpPr/>
                  <p:nvPr/>
                </p:nvSpPr>
                <p:spPr>
                  <a:xfrm rot="20409000">
                    <a:off x="2193840" y="3245040"/>
                    <a:ext cx="22320" cy="22140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2" name=""/>
                  <p:cNvSpPr/>
                  <p:nvPr/>
                </p:nvSpPr>
                <p:spPr>
                  <a:xfrm rot="20409000">
                    <a:off x="1654560" y="3346920"/>
                    <a:ext cx="566640" cy="219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3" name=""/>
                  <p:cNvSpPr/>
                  <p:nvPr/>
                </p:nvSpPr>
                <p:spPr>
                  <a:xfrm rot="20409000">
                    <a:off x="1658880" y="3444120"/>
                    <a:ext cx="22320" cy="22104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grpSp>
        <p:nvGrpSpPr>
          <p:cNvPr id="3134" name=""/>
          <p:cNvGrpSpPr/>
          <p:nvPr/>
        </p:nvGrpSpPr>
        <p:grpSpPr>
          <a:xfrm>
            <a:off x="859320" y="2789280"/>
            <a:ext cx="1429200" cy="891720"/>
            <a:chOff x="859320" y="2789280"/>
            <a:chExt cx="1429200" cy="891720"/>
          </a:xfrm>
        </p:grpSpPr>
        <p:grpSp>
          <p:nvGrpSpPr>
            <p:cNvPr id="3135" name=""/>
            <p:cNvGrpSpPr/>
            <p:nvPr/>
          </p:nvGrpSpPr>
          <p:grpSpPr>
            <a:xfrm>
              <a:off x="859320" y="2789280"/>
              <a:ext cx="675720" cy="448560"/>
              <a:chOff x="859320" y="2789280"/>
              <a:chExt cx="675720" cy="448560"/>
            </a:xfrm>
          </p:grpSpPr>
          <p:grpSp>
            <p:nvGrpSpPr>
              <p:cNvPr id="3136" name=""/>
              <p:cNvGrpSpPr/>
              <p:nvPr/>
            </p:nvGrpSpPr>
            <p:grpSpPr>
              <a:xfrm>
                <a:off x="859320" y="2789280"/>
                <a:ext cx="675720" cy="448560"/>
                <a:chOff x="859320" y="2789280"/>
                <a:chExt cx="675720" cy="448560"/>
              </a:xfrm>
            </p:grpSpPr>
            <p:sp>
              <p:nvSpPr>
                <p:cNvPr id="3137" name=""/>
                <p:cNvSpPr/>
                <p:nvPr/>
              </p:nvSpPr>
              <p:spPr>
                <a:xfrm rot="1373400">
                  <a:off x="1450800" y="3019320"/>
                  <a:ext cx="43560" cy="21852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38" name=""/>
                <p:cNvGrpSpPr/>
                <p:nvPr/>
              </p:nvGrpSpPr>
              <p:grpSpPr>
                <a:xfrm>
                  <a:off x="859320" y="2789280"/>
                  <a:ext cx="646200" cy="438480"/>
                  <a:chOff x="859320" y="2789280"/>
                  <a:chExt cx="646200" cy="438480"/>
                </a:xfrm>
              </p:grpSpPr>
              <p:sp>
                <p:nvSpPr>
                  <p:cNvPr id="3139" name=""/>
                  <p:cNvSpPr/>
                  <p:nvPr/>
                </p:nvSpPr>
                <p:spPr>
                  <a:xfrm rot="1373400">
                    <a:off x="897480" y="2799000"/>
                    <a:ext cx="94320" cy="21564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40" name=""/>
                  <p:cNvGrpSpPr/>
                  <p:nvPr/>
                </p:nvGrpSpPr>
                <p:grpSpPr>
                  <a:xfrm>
                    <a:off x="923760" y="2818080"/>
                    <a:ext cx="581760" cy="409680"/>
                    <a:chOff x="923760" y="2818080"/>
                    <a:chExt cx="581760" cy="409680"/>
                  </a:xfrm>
                </p:grpSpPr>
                <p:sp>
                  <p:nvSpPr>
                    <p:cNvPr id="3141" name=""/>
                    <p:cNvSpPr/>
                    <p:nvPr/>
                  </p:nvSpPr>
                  <p:spPr>
                    <a:xfrm rot="1373400">
                      <a:off x="1442160" y="3007800"/>
                      <a:ext cx="20160" cy="22464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2" name=""/>
                    <p:cNvSpPr/>
                    <p:nvPr/>
                  </p:nvSpPr>
                  <p:spPr>
                    <a:xfrm rot="1373400">
                      <a:off x="957960" y="2912760"/>
                      <a:ext cx="510480" cy="22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3" name=""/>
                    <p:cNvSpPr/>
                    <p:nvPr/>
                  </p:nvSpPr>
                  <p:spPr>
                    <a:xfrm rot="1373400">
                      <a:off x="966240" y="2813040"/>
                      <a:ext cx="20160" cy="22428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3144" name=""/>
              <p:cNvGrpSpPr/>
              <p:nvPr/>
            </p:nvGrpSpPr>
            <p:grpSpPr>
              <a:xfrm>
                <a:off x="886320" y="2819160"/>
                <a:ext cx="638280" cy="408240"/>
                <a:chOff x="886320" y="2819160"/>
                <a:chExt cx="638280" cy="408240"/>
              </a:xfrm>
            </p:grpSpPr>
            <p:grpSp>
              <p:nvGrpSpPr>
                <p:cNvPr id="3145" name=""/>
                <p:cNvGrpSpPr/>
                <p:nvPr/>
              </p:nvGrpSpPr>
              <p:grpSpPr>
                <a:xfrm>
                  <a:off x="886320" y="2833560"/>
                  <a:ext cx="638280" cy="359640"/>
                  <a:chOff x="886320" y="2833560"/>
                  <a:chExt cx="638280" cy="359640"/>
                </a:xfrm>
              </p:grpSpPr>
              <p:sp>
                <p:nvSpPr>
                  <p:cNvPr id="3146" name=""/>
                  <p:cNvSpPr/>
                  <p:nvPr/>
                </p:nvSpPr>
                <p:spPr>
                  <a:xfrm rot="1373400">
                    <a:off x="1469160" y="3075840"/>
                    <a:ext cx="34200" cy="11484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47" name=""/>
                  <p:cNvGrpSpPr/>
                  <p:nvPr/>
                </p:nvGrpSpPr>
                <p:grpSpPr>
                  <a:xfrm>
                    <a:off x="886320" y="2833560"/>
                    <a:ext cx="618120" cy="351360"/>
                    <a:chOff x="886320" y="2833560"/>
                    <a:chExt cx="618120" cy="351360"/>
                  </a:xfrm>
                </p:grpSpPr>
                <p:sp>
                  <p:nvSpPr>
                    <p:cNvPr id="3148" name=""/>
                    <p:cNvSpPr/>
                    <p:nvPr/>
                  </p:nvSpPr>
                  <p:spPr>
                    <a:xfrm rot="1373400">
                      <a:off x="908640" y="2841480"/>
                      <a:ext cx="67680" cy="1285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49" name=""/>
                    <p:cNvGrpSpPr/>
                    <p:nvPr/>
                  </p:nvGrpSpPr>
                  <p:grpSpPr>
                    <a:xfrm>
                      <a:off x="936360" y="2860560"/>
                      <a:ext cx="568080" cy="324360"/>
                      <a:chOff x="936360" y="2860560"/>
                      <a:chExt cx="568080" cy="324360"/>
                    </a:xfrm>
                  </p:grpSpPr>
                  <p:sp>
                    <p:nvSpPr>
                      <p:cNvPr id="3150" name=""/>
                      <p:cNvSpPr/>
                      <p:nvPr/>
                    </p:nvSpPr>
                    <p:spPr>
                      <a:xfrm rot="1373400">
                        <a:off x="1461960" y="3069360"/>
                        <a:ext cx="20160" cy="116280"/>
                      </a:xfrm>
                      <a:prstGeom prst="ellipse">
                        <a:avLst/>
                      </a:prstGeom>
                      <a:solidFill>
                        <a:srgbClr val="eea564"/>
                      </a:solidFill>
                      <a:ln w="936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151" name=""/>
                      <p:cNvSpPr/>
                      <p:nvPr/>
                    </p:nvSpPr>
                    <p:spPr>
                      <a:xfrm rot="1373400">
                        <a:off x="950040" y="2964240"/>
                        <a:ext cx="543600" cy="113760"/>
                      </a:xfrm>
                      <a:prstGeom prst="rect">
                        <a:avLst/>
                      </a:prstGeom>
                      <a:solidFill>
                        <a:srgbClr val="eea56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2" name=""/>
                      <p:cNvSpPr/>
                      <p:nvPr/>
                    </p:nvSpPr>
                    <p:spPr>
                      <a:xfrm rot="1373400">
                        <a:off x="957960" y="2859840"/>
                        <a:ext cx="20160" cy="116640"/>
                      </a:xfrm>
                      <a:prstGeom prst="ellipse">
                        <a:avLst/>
                      </a:prstGeom>
                      <a:solidFill>
                        <a:srgbClr val="eea564"/>
                      </a:solidFill>
                      <a:ln w="936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grpSp>
              </p:grpSp>
            </p:grpSp>
            <p:grpSp>
              <p:nvGrpSpPr>
                <p:cNvPr id="3153" name=""/>
                <p:cNvGrpSpPr/>
                <p:nvPr/>
              </p:nvGrpSpPr>
              <p:grpSpPr>
                <a:xfrm>
                  <a:off x="935280" y="2819160"/>
                  <a:ext cx="568440" cy="408240"/>
                  <a:chOff x="935280" y="2819160"/>
                  <a:chExt cx="568440" cy="408240"/>
                </a:xfrm>
              </p:grpSpPr>
              <p:sp>
                <p:nvSpPr>
                  <p:cNvPr id="3154" name=""/>
                  <p:cNvSpPr/>
                  <p:nvPr/>
                </p:nvSpPr>
                <p:spPr>
                  <a:xfrm rot="1373400">
                    <a:off x="969120" y="2909520"/>
                    <a:ext cx="500760" cy="22212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5" name=""/>
                  <p:cNvSpPr/>
                  <p:nvPr/>
                </p:nvSpPr>
                <p:spPr>
                  <a:xfrm rot="1373400">
                    <a:off x="977760" y="2812320"/>
                    <a:ext cx="10440" cy="221040"/>
                  </a:xfrm>
                  <a:custGeom>
                    <a:avLst/>
                    <a:gdLst/>
                    <a:ahLst/>
                    <a:rect l="l" t="t" r="r" b="b"/>
                    <a:pathLst>
                      <a:path w="48" h="237">
                        <a:moveTo>
                          <a:pt x="0" y="1"/>
                        </a:moveTo>
                        <a:cubicBezTo>
                          <a:pt x="6" y="0"/>
                          <a:pt x="12" y="0"/>
                          <a:pt x="18" y="9"/>
                        </a:cubicBezTo>
                        <a:cubicBezTo>
                          <a:pt x="24" y="18"/>
                          <a:pt x="32" y="37"/>
                          <a:pt x="37" y="55"/>
                        </a:cubicBezTo>
                        <a:cubicBezTo>
                          <a:pt x="42" y="73"/>
                          <a:pt x="44" y="101"/>
                          <a:pt x="46" y="118"/>
                        </a:cubicBezTo>
                        <a:cubicBezTo>
                          <a:pt x="48" y="135"/>
                          <a:pt x="48" y="145"/>
                          <a:pt x="46" y="157"/>
                        </a:cubicBezTo>
                        <a:cubicBezTo>
                          <a:pt x="44" y="169"/>
                          <a:pt x="40" y="182"/>
                          <a:pt x="37" y="192"/>
                        </a:cubicBezTo>
                        <a:cubicBezTo>
                          <a:pt x="34" y="202"/>
                          <a:pt x="32" y="209"/>
                          <a:pt x="27" y="216"/>
                        </a:cubicBezTo>
                        <a:cubicBezTo>
                          <a:pt x="22" y="223"/>
                          <a:pt x="12" y="233"/>
                          <a:pt x="7" y="237"/>
                        </a:cubicBezTo>
                      </a:path>
                    </a:pathLst>
                  </a:custGeom>
                  <a:noFill/>
                  <a:ln w="9360">
                    <a:solidFill>
                      <a:srgbClr val="30517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6" name=""/>
                  <p:cNvSpPr/>
                  <p:nvPr/>
                </p:nvSpPr>
                <p:spPr>
                  <a:xfrm rot="1373400">
                    <a:off x="1440360" y="3008160"/>
                    <a:ext cx="20160" cy="223920"/>
                  </a:xfrm>
                  <a:prstGeom prst="ellipse">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3157" name=""/>
            <p:cNvGrpSpPr/>
            <p:nvPr/>
          </p:nvGrpSpPr>
          <p:grpSpPr>
            <a:xfrm>
              <a:off x="1546200" y="3236400"/>
              <a:ext cx="742320" cy="444600"/>
              <a:chOff x="1546200" y="3236400"/>
              <a:chExt cx="742320" cy="444600"/>
            </a:xfrm>
          </p:grpSpPr>
          <p:grpSp>
            <p:nvGrpSpPr>
              <p:cNvPr id="3158" name=""/>
              <p:cNvGrpSpPr/>
              <p:nvPr/>
            </p:nvGrpSpPr>
            <p:grpSpPr>
              <a:xfrm>
                <a:off x="1546200" y="3236400"/>
                <a:ext cx="742320" cy="444600"/>
                <a:chOff x="1546200" y="3236400"/>
                <a:chExt cx="742320" cy="444600"/>
              </a:xfrm>
            </p:grpSpPr>
            <p:sp>
              <p:nvSpPr>
                <p:cNvPr id="3159" name=""/>
                <p:cNvSpPr/>
                <p:nvPr/>
              </p:nvSpPr>
              <p:spPr>
                <a:xfrm rot="20409000">
                  <a:off x="2205000" y="3238200"/>
                  <a:ext cx="48240" cy="21564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60" name=""/>
                <p:cNvGrpSpPr/>
                <p:nvPr/>
              </p:nvGrpSpPr>
              <p:grpSpPr>
                <a:xfrm>
                  <a:off x="1546200" y="3246480"/>
                  <a:ext cx="707760" cy="434520"/>
                  <a:chOff x="1546200" y="3246480"/>
                  <a:chExt cx="707760" cy="434520"/>
                </a:xfrm>
              </p:grpSpPr>
              <p:sp>
                <p:nvSpPr>
                  <p:cNvPr id="3161" name=""/>
                  <p:cNvSpPr/>
                  <p:nvPr/>
                </p:nvSpPr>
                <p:spPr>
                  <a:xfrm rot="20409000">
                    <a:off x="1578960" y="3456720"/>
                    <a:ext cx="104400" cy="21276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62" name=""/>
                  <p:cNvGrpSpPr/>
                  <p:nvPr/>
                </p:nvGrpSpPr>
                <p:grpSpPr>
                  <a:xfrm>
                    <a:off x="1622880" y="3246480"/>
                    <a:ext cx="631080" cy="414720"/>
                    <a:chOff x="1622880" y="3246480"/>
                    <a:chExt cx="631080" cy="414720"/>
                  </a:xfrm>
                </p:grpSpPr>
                <p:sp>
                  <p:nvSpPr>
                    <p:cNvPr id="3163" name=""/>
                    <p:cNvSpPr/>
                    <p:nvPr/>
                  </p:nvSpPr>
                  <p:spPr>
                    <a:xfrm rot="20409000">
                      <a:off x="2194560" y="3243600"/>
                      <a:ext cx="22320" cy="22140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4" name=""/>
                    <p:cNvSpPr/>
                    <p:nvPr/>
                  </p:nvSpPr>
                  <p:spPr>
                    <a:xfrm rot="20409000">
                      <a:off x="1655280" y="3345480"/>
                      <a:ext cx="566640" cy="219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5" name=""/>
                    <p:cNvSpPr/>
                    <p:nvPr/>
                  </p:nvSpPr>
                  <p:spPr>
                    <a:xfrm rot="20409000">
                      <a:off x="1659600" y="3442680"/>
                      <a:ext cx="22320" cy="221040"/>
                    </a:xfrm>
                    <a:prstGeom prst="ellipse">
                      <a:avLst/>
                    </a:prstGeom>
                    <a:solidFill>
                      <a:srgbClr val="ffffcc"/>
                    </a:solidFill>
                    <a:ln w="9360">
                      <a:solidFill>
                        <a:srgbClr val="3051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3166" name=""/>
              <p:cNvGrpSpPr/>
              <p:nvPr/>
            </p:nvGrpSpPr>
            <p:grpSpPr>
              <a:xfrm>
                <a:off x="1572480" y="3247560"/>
                <a:ext cx="708840" cy="403920"/>
                <a:chOff x="1572480" y="3247560"/>
                <a:chExt cx="708840" cy="403920"/>
              </a:xfrm>
            </p:grpSpPr>
            <p:grpSp>
              <p:nvGrpSpPr>
                <p:cNvPr id="3167" name=""/>
                <p:cNvGrpSpPr/>
                <p:nvPr/>
              </p:nvGrpSpPr>
              <p:grpSpPr>
                <a:xfrm>
                  <a:off x="1572480" y="3279960"/>
                  <a:ext cx="708840" cy="356040"/>
                  <a:chOff x="1572480" y="3279960"/>
                  <a:chExt cx="708840" cy="356040"/>
                </a:xfrm>
              </p:grpSpPr>
              <p:sp>
                <p:nvSpPr>
                  <p:cNvPr id="3168" name=""/>
                  <p:cNvSpPr/>
                  <p:nvPr/>
                </p:nvSpPr>
                <p:spPr>
                  <a:xfrm rot="20409000">
                    <a:off x="2225160" y="3282840"/>
                    <a:ext cx="37800" cy="11340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69" name=""/>
                  <p:cNvGrpSpPr/>
                  <p:nvPr/>
                </p:nvGrpSpPr>
                <p:grpSpPr>
                  <a:xfrm>
                    <a:off x="1572480" y="3287520"/>
                    <a:ext cx="685440" cy="348480"/>
                    <a:chOff x="1572480" y="3287520"/>
                    <a:chExt cx="685440" cy="348480"/>
                  </a:xfrm>
                </p:grpSpPr>
                <p:sp>
                  <p:nvSpPr>
                    <p:cNvPr id="3170" name=""/>
                    <p:cNvSpPr/>
                    <p:nvPr/>
                  </p:nvSpPr>
                  <p:spPr>
                    <a:xfrm rot="20409000">
                      <a:off x="1591560" y="3499920"/>
                      <a:ext cx="74880" cy="127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71" name=""/>
                    <p:cNvGrpSpPr/>
                    <p:nvPr/>
                  </p:nvGrpSpPr>
                  <p:grpSpPr>
                    <a:xfrm>
                      <a:off x="1629360" y="3287520"/>
                      <a:ext cx="628560" cy="324720"/>
                      <a:chOff x="1629360" y="3287520"/>
                      <a:chExt cx="628560" cy="324720"/>
                    </a:xfrm>
                  </p:grpSpPr>
                  <p:sp>
                    <p:nvSpPr>
                      <p:cNvPr id="3172" name=""/>
                      <p:cNvSpPr/>
                      <p:nvPr/>
                    </p:nvSpPr>
                    <p:spPr>
                      <a:xfrm rot="20409000">
                        <a:off x="2216520" y="3287520"/>
                        <a:ext cx="22320" cy="114840"/>
                      </a:xfrm>
                      <a:prstGeom prst="ellipse">
                        <a:avLst/>
                      </a:prstGeom>
                      <a:solidFill>
                        <a:srgbClr val="eea564"/>
                      </a:solidFill>
                      <a:ln w="936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3173" name=""/>
                      <p:cNvSpPr/>
                      <p:nvPr/>
                    </p:nvSpPr>
                    <p:spPr>
                      <a:xfrm rot="20409000">
                        <a:off x="1641960" y="3391200"/>
                        <a:ext cx="603000" cy="112320"/>
                      </a:xfrm>
                      <a:prstGeom prst="rect">
                        <a:avLst/>
                      </a:prstGeom>
                      <a:solidFill>
                        <a:srgbClr val="eea56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4" name=""/>
                      <p:cNvSpPr/>
                      <p:nvPr/>
                    </p:nvSpPr>
                    <p:spPr>
                      <a:xfrm rot="20409000">
                        <a:off x="1648080" y="3496320"/>
                        <a:ext cx="22320" cy="115200"/>
                      </a:xfrm>
                      <a:prstGeom prst="ellipse">
                        <a:avLst/>
                      </a:prstGeom>
                      <a:solidFill>
                        <a:srgbClr val="eea564"/>
                      </a:solidFill>
                      <a:ln w="936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grpSp>
            </p:grpSp>
            <p:grpSp>
              <p:nvGrpSpPr>
                <p:cNvPr id="3175" name=""/>
                <p:cNvGrpSpPr/>
                <p:nvPr/>
              </p:nvGrpSpPr>
              <p:grpSpPr>
                <a:xfrm>
                  <a:off x="1632960" y="3247560"/>
                  <a:ext cx="620280" cy="403920"/>
                  <a:chOff x="1632960" y="3247560"/>
                  <a:chExt cx="620280" cy="403920"/>
                </a:xfrm>
              </p:grpSpPr>
              <p:sp>
                <p:nvSpPr>
                  <p:cNvPr id="3176" name=""/>
                  <p:cNvSpPr/>
                  <p:nvPr/>
                </p:nvSpPr>
                <p:spPr>
                  <a:xfrm rot="20409000">
                    <a:off x="1663200" y="3339000"/>
                    <a:ext cx="555840" cy="2192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7" name=""/>
                  <p:cNvSpPr/>
                  <p:nvPr/>
                </p:nvSpPr>
                <p:spPr>
                  <a:xfrm rot="20409000">
                    <a:off x="1669320" y="3437640"/>
                    <a:ext cx="11520" cy="218160"/>
                  </a:xfrm>
                  <a:custGeom>
                    <a:avLst/>
                    <a:gdLst/>
                    <a:ahLst/>
                    <a:rect l="l" t="t" r="r" b="b"/>
                    <a:pathLst>
                      <a:path w="48" h="237">
                        <a:moveTo>
                          <a:pt x="0" y="1"/>
                        </a:moveTo>
                        <a:cubicBezTo>
                          <a:pt x="6" y="0"/>
                          <a:pt x="12" y="0"/>
                          <a:pt x="18" y="9"/>
                        </a:cubicBezTo>
                        <a:cubicBezTo>
                          <a:pt x="24" y="18"/>
                          <a:pt x="32" y="37"/>
                          <a:pt x="37" y="55"/>
                        </a:cubicBezTo>
                        <a:cubicBezTo>
                          <a:pt x="42" y="73"/>
                          <a:pt x="44" y="101"/>
                          <a:pt x="46" y="118"/>
                        </a:cubicBezTo>
                        <a:cubicBezTo>
                          <a:pt x="48" y="135"/>
                          <a:pt x="48" y="145"/>
                          <a:pt x="46" y="157"/>
                        </a:cubicBezTo>
                        <a:cubicBezTo>
                          <a:pt x="44" y="169"/>
                          <a:pt x="40" y="182"/>
                          <a:pt x="37" y="192"/>
                        </a:cubicBezTo>
                        <a:cubicBezTo>
                          <a:pt x="34" y="202"/>
                          <a:pt x="32" y="209"/>
                          <a:pt x="27" y="216"/>
                        </a:cubicBezTo>
                        <a:cubicBezTo>
                          <a:pt x="22" y="223"/>
                          <a:pt x="12" y="233"/>
                          <a:pt x="7" y="237"/>
                        </a:cubicBezTo>
                      </a:path>
                    </a:pathLst>
                  </a:custGeom>
                  <a:noFill/>
                  <a:ln w="9360">
                    <a:solidFill>
                      <a:srgbClr val="30517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8" name=""/>
                  <p:cNvSpPr/>
                  <p:nvPr/>
                </p:nvSpPr>
                <p:spPr>
                  <a:xfrm rot="20409000">
                    <a:off x="2193840" y="3244680"/>
                    <a:ext cx="22320" cy="221040"/>
                  </a:xfrm>
                  <a:prstGeom prst="ellipse">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grpSp>
        <p:nvGrpSpPr>
          <p:cNvPr id="3179" name=""/>
          <p:cNvGrpSpPr/>
          <p:nvPr/>
        </p:nvGrpSpPr>
        <p:grpSpPr>
          <a:xfrm>
            <a:off x="2209680" y="2590920"/>
            <a:ext cx="553680" cy="748800"/>
            <a:chOff x="2209680" y="2590920"/>
            <a:chExt cx="553680" cy="748800"/>
          </a:xfrm>
        </p:grpSpPr>
        <p:grpSp>
          <p:nvGrpSpPr>
            <p:cNvPr id="3180" name=""/>
            <p:cNvGrpSpPr/>
            <p:nvPr/>
          </p:nvGrpSpPr>
          <p:grpSpPr>
            <a:xfrm>
              <a:off x="2209680" y="2590920"/>
              <a:ext cx="553680" cy="747720"/>
              <a:chOff x="2209680" y="2590920"/>
              <a:chExt cx="553680" cy="747720"/>
            </a:xfrm>
          </p:grpSpPr>
          <p:sp>
            <p:nvSpPr>
              <p:cNvPr id="3181" name=""/>
              <p:cNvSpPr/>
              <p:nvPr/>
            </p:nvSpPr>
            <p:spPr>
              <a:xfrm>
                <a:off x="2372760" y="2640600"/>
                <a:ext cx="373320" cy="13320"/>
              </a:xfrm>
              <a:custGeom>
                <a:avLst/>
                <a:gdLst/>
                <a:ahLst/>
                <a:rect l="l" t="t" r="r" b="b"/>
                <a:pathLst>
                  <a:path w="1294" h="48">
                    <a:moveTo>
                      <a:pt x="0" y="0"/>
                    </a:moveTo>
                    <a:lnTo>
                      <a:pt x="77" y="48"/>
                    </a:lnTo>
                    <a:lnTo>
                      <a:pt x="1294" y="48"/>
                    </a:lnTo>
                    <a:lnTo>
                      <a:pt x="1255" y="0"/>
                    </a:lnTo>
                    <a:lnTo>
                      <a:pt x="0" y="0"/>
                    </a:lnTo>
                    <a:close/>
                  </a:path>
                </a:pathLst>
              </a:custGeom>
              <a:solidFill>
                <a:srgbClr val="e0e0e0"/>
              </a:solidFill>
              <a:ln w="14400">
                <a:solidFill>
                  <a:srgbClr val="808080"/>
                </a:solidFill>
                <a:round/>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3182" name=""/>
              <p:cNvSpPr/>
              <p:nvPr/>
            </p:nvSpPr>
            <p:spPr>
              <a:xfrm>
                <a:off x="2371680" y="2638440"/>
                <a:ext cx="94680" cy="700200"/>
              </a:xfrm>
              <a:custGeom>
                <a:avLst/>
                <a:gdLst/>
                <a:ahLst/>
                <a:rect l="l" t="t" r="r" b="b"/>
                <a:pathLst>
                  <a:path w="327" h="2469">
                    <a:moveTo>
                      <a:pt x="0" y="2385"/>
                    </a:moveTo>
                    <a:lnTo>
                      <a:pt x="67" y="2469"/>
                    </a:lnTo>
                    <a:lnTo>
                      <a:pt x="327" y="820"/>
                    </a:lnTo>
                    <a:lnTo>
                      <a:pt x="83" y="50"/>
                    </a:lnTo>
                    <a:lnTo>
                      <a:pt x="2" y="0"/>
                    </a:lnTo>
                    <a:lnTo>
                      <a:pt x="0" y="902"/>
                    </a:lnTo>
                    <a:lnTo>
                      <a:pt x="0" y="2385"/>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3" name=""/>
              <p:cNvSpPr/>
              <p:nvPr/>
            </p:nvSpPr>
            <p:spPr>
              <a:xfrm>
                <a:off x="2209680" y="2590920"/>
                <a:ext cx="163800" cy="723960"/>
              </a:xfrm>
              <a:custGeom>
                <a:avLst/>
                <a:gdLst/>
                <a:ahLst/>
                <a:rect l="l" t="t" r="r" b="b"/>
                <a:pathLst>
                  <a:path w="569" h="2551">
                    <a:moveTo>
                      <a:pt x="0" y="0"/>
                    </a:moveTo>
                    <a:lnTo>
                      <a:pt x="569" y="167"/>
                    </a:lnTo>
                    <a:lnTo>
                      <a:pt x="569" y="2551"/>
                    </a:lnTo>
                    <a:lnTo>
                      <a:pt x="0" y="1943"/>
                    </a:lnTo>
                    <a:lnTo>
                      <a:pt x="0" y="0"/>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4" name=""/>
              <p:cNvSpPr/>
              <p:nvPr/>
            </p:nvSpPr>
            <p:spPr>
              <a:xfrm>
                <a:off x="2209680" y="2590920"/>
                <a:ext cx="526320" cy="49680"/>
              </a:xfrm>
              <a:custGeom>
                <a:avLst/>
                <a:gdLst/>
                <a:ahLst/>
                <a:rect l="l" t="t" r="r" b="b"/>
                <a:pathLst>
                  <a:path w="1824" h="175">
                    <a:moveTo>
                      <a:pt x="570" y="175"/>
                    </a:moveTo>
                    <a:lnTo>
                      <a:pt x="1824" y="175"/>
                    </a:lnTo>
                    <a:lnTo>
                      <a:pt x="945" y="0"/>
                    </a:lnTo>
                    <a:lnTo>
                      <a:pt x="0" y="0"/>
                    </a:lnTo>
                    <a:lnTo>
                      <a:pt x="570" y="175"/>
                    </a:lnTo>
                    <a:close/>
                  </a:path>
                </a:pathLst>
              </a:custGeom>
              <a:solidFill>
                <a:srgbClr val="e0e0e0"/>
              </a:solidFill>
              <a:ln w="14400">
                <a:solidFill>
                  <a:srgbClr val="80808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185" name=""/>
              <p:cNvSpPr/>
              <p:nvPr/>
            </p:nvSpPr>
            <p:spPr>
              <a:xfrm>
                <a:off x="2393640" y="2902680"/>
                <a:ext cx="339840" cy="43236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6" name=""/>
              <p:cNvSpPr/>
              <p:nvPr/>
            </p:nvSpPr>
            <p:spPr>
              <a:xfrm>
                <a:off x="2394720" y="2652120"/>
                <a:ext cx="367560" cy="219960"/>
              </a:xfrm>
              <a:custGeom>
                <a:avLst/>
                <a:gdLst/>
                <a:ahLst/>
                <a:rect l="l" t="t" r="r" b="b"/>
                <a:pathLst>
                  <a:path w="1273" h="776">
                    <a:moveTo>
                      <a:pt x="0" y="0"/>
                    </a:moveTo>
                    <a:lnTo>
                      <a:pt x="1215" y="0"/>
                    </a:lnTo>
                    <a:lnTo>
                      <a:pt x="1273" y="776"/>
                    </a:lnTo>
                    <a:lnTo>
                      <a:pt x="52" y="776"/>
                    </a:lnTo>
                    <a:lnTo>
                      <a:pt x="0" y="0"/>
                    </a:lnTo>
                    <a:close/>
                  </a:path>
                </a:pathLst>
              </a:custGeom>
              <a:solidFill>
                <a:srgbClr val="c0c0c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7" name=""/>
              <p:cNvSpPr/>
              <p:nvPr/>
            </p:nvSpPr>
            <p:spPr>
              <a:xfrm>
                <a:off x="2391840" y="2872080"/>
                <a:ext cx="371520" cy="25920"/>
              </a:xfrm>
              <a:custGeom>
                <a:avLst/>
                <a:gdLst/>
                <a:ahLst/>
                <a:rect l="l" t="t" r="r" b="b"/>
                <a:pathLst>
                  <a:path w="1288" h="92">
                    <a:moveTo>
                      <a:pt x="0" y="92"/>
                    </a:moveTo>
                    <a:lnTo>
                      <a:pt x="1188" y="92"/>
                    </a:lnTo>
                    <a:lnTo>
                      <a:pt x="1288" y="0"/>
                    </a:lnTo>
                    <a:lnTo>
                      <a:pt x="65" y="0"/>
                    </a:lnTo>
                    <a:lnTo>
                      <a:pt x="0" y="92"/>
                    </a:lnTo>
                    <a:close/>
                  </a:path>
                </a:pathLst>
              </a:custGeom>
              <a:solidFill>
                <a:srgbClr val="a0a0a0"/>
              </a:solidFill>
              <a:ln w="14400">
                <a:solidFill>
                  <a:srgbClr val="80808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nvGrpSpPr>
            <p:cNvPr id="3188" name=""/>
            <p:cNvGrpSpPr/>
            <p:nvPr/>
          </p:nvGrpSpPr>
          <p:grpSpPr>
            <a:xfrm>
              <a:off x="2396160" y="2640600"/>
              <a:ext cx="103680" cy="699120"/>
              <a:chOff x="2396160" y="2640600"/>
              <a:chExt cx="103680" cy="699120"/>
            </a:xfrm>
          </p:grpSpPr>
          <p:sp>
            <p:nvSpPr>
              <p:cNvPr id="3189" name=""/>
              <p:cNvSpPr/>
              <p:nvPr/>
            </p:nvSpPr>
            <p:spPr>
              <a:xfrm>
                <a:off x="2396160" y="2640600"/>
                <a:ext cx="30240" cy="698040"/>
              </a:xfrm>
              <a:custGeom>
                <a:avLst/>
                <a:gdLst/>
                <a:ahLst/>
                <a:rect l="l" t="t" r="r" b="b"/>
                <a:pathLst>
                  <a:path w="107" h="2463">
                    <a:moveTo>
                      <a:pt x="0" y="0"/>
                    </a:moveTo>
                    <a:lnTo>
                      <a:pt x="55" y="41"/>
                    </a:lnTo>
                    <a:lnTo>
                      <a:pt x="107" y="827"/>
                    </a:lnTo>
                    <a:lnTo>
                      <a:pt x="53" y="916"/>
                    </a:lnTo>
                    <a:lnTo>
                      <a:pt x="50"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0" name=""/>
              <p:cNvSpPr/>
              <p:nvPr/>
            </p:nvSpPr>
            <p:spPr>
              <a:xfrm>
                <a:off x="2408040" y="2641320"/>
                <a:ext cx="28800" cy="698040"/>
              </a:xfrm>
              <a:custGeom>
                <a:avLst/>
                <a:gdLst/>
                <a:ahLst/>
                <a:rect l="l" t="t" r="r" b="b"/>
                <a:pathLst>
                  <a:path w="101" h="2462">
                    <a:moveTo>
                      <a:pt x="0" y="0"/>
                    </a:moveTo>
                    <a:lnTo>
                      <a:pt x="48" y="41"/>
                    </a:lnTo>
                    <a:lnTo>
                      <a:pt x="101" y="825"/>
                    </a:lnTo>
                    <a:lnTo>
                      <a:pt x="47" y="914"/>
                    </a:lnTo>
                    <a:lnTo>
                      <a:pt x="45" y="2462"/>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1" name=""/>
              <p:cNvSpPr/>
              <p:nvPr/>
            </p:nvSpPr>
            <p:spPr>
              <a:xfrm>
                <a:off x="2417400" y="2640600"/>
                <a:ext cx="30240" cy="699120"/>
              </a:xfrm>
              <a:custGeom>
                <a:avLst/>
                <a:gdLst/>
                <a:ahLst/>
                <a:rect l="l" t="t" r="r" b="b"/>
                <a:pathLst>
                  <a:path w="107" h="2463">
                    <a:moveTo>
                      <a:pt x="0" y="0"/>
                    </a:moveTo>
                    <a:lnTo>
                      <a:pt x="53" y="42"/>
                    </a:lnTo>
                    <a:lnTo>
                      <a:pt x="107" y="820"/>
                    </a:lnTo>
                    <a:lnTo>
                      <a:pt x="49" y="908"/>
                    </a:lnTo>
                    <a:lnTo>
                      <a:pt x="49"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2" name=""/>
              <p:cNvSpPr/>
              <p:nvPr/>
            </p:nvSpPr>
            <p:spPr>
              <a:xfrm>
                <a:off x="2428200" y="2641320"/>
                <a:ext cx="29160" cy="696960"/>
              </a:xfrm>
              <a:custGeom>
                <a:avLst/>
                <a:gdLst/>
                <a:ahLst/>
                <a:rect l="l" t="t" r="r" b="b"/>
                <a:pathLst>
                  <a:path w="103" h="2456">
                    <a:moveTo>
                      <a:pt x="0" y="0"/>
                    </a:moveTo>
                    <a:lnTo>
                      <a:pt x="50" y="35"/>
                    </a:lnTo>
                    <a:lnTo>
                      <a:pt x="103" y="819"/>
                    </a:lnTo>
                    <a:lnTo>
                      <a:pt x="48" y="909"/>
                    </a:lnTo>
                    <a:lnTo>
                      <a:pt x="46" y="2456"/>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3" name=""/>
              <p:cNvSpPr/>
              <p:nvPr/>
            </p:nvSpPr>
            <p:spPr>
              <a:xfrm>
                <a:off x="2439360" y="2640600"/>
                <a:ext cx="29160" cy="695520"/>
              </a:xfrm>
              <a:custGeom>
                <a:avLst/>
                <a:gdLst/>
                <a:ahLst/>
                <a:rect l="l" t="t" r="r" b="b"/>
                <a:pathLst>
                  <a:path w="101" h="2455">
                    <a:moveTo>
                      <a:pt x="0" y="0"/>
                    </a:moveTo>
                    <a:lnTo>
                      <a:pt x="49" y="48"/>
                    </a:lnTo>
                    <a:lnTo>
                      <a:pt x="101" y="819"/>
                    </a:lnTo>
                    <a:lnTo>
                      <a:pt x="46" y="908"/>
                    </a:lnTo>
                    <a:lnTo>
                      <a:pt x="44" y="2455"/>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4" name=""/>
              <p:cNvSpPr/>
              <p:nvPr/>
            </p:nvSpPr>
            <p:spPr>
              <a:xfrm>
                <a:off x="2450880" y="2641320"/>
                <a:ext cx="28080" cy="695520"/>
              </a:xfrm>
              <a:custGeom>
                <a:avLst/>
                <a:gdLst/>
                <a:ahLst/>
                <a:rect l="l" t="t" r="r" b="b"/>
                <a:pathLst>
                  <a:path w="97" h="2454">
                    <a:moveTo>
                      <a:pt x="0" y="0"/>
                    </a:moveTo>
                    <a:lnTo>
                      <a:pt x="44" y="41"/>
                    </a:lnTo>
                    <a:lnTo>
                      <a:pt x="97" y="817"/>
                    </a:lnTo>
                    <a:lnTo>
                      <a:pt x="42" y="906"/>
                    </a:lnTo>
                    <a:lnTo>
                      <a:pt x="40" y="2454"/>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5" name=""/>
              <p:cNvSpPr/>
              <p:nvPr/>
            </p:nvSpPr>
            <p:spPr>
              <a:xfrm>
                <a:off x="2461680" y="2641320"/>
                <a:ext cx="28080" cy="698040"/>
              </a:xfrm>
              <a:custGeom>
                <a:avLst/>
                <a:gdLst/>
                <a:ahLst/>
                <a:rect l="l" t="t" r="r" b="b"/>
                <a:pathLst>
                  <a:path w="98" h="2460">
                    <a:moveTo>
                      <a:pt x="0" y="0"/>
                    </a:moveTo>
                    <a:lnTo>
                      <a:pt x="43" y="43"/>
                    </a:lnTo>
                    <a:lnTo>
                      <a:pt x="98" y="809"/>
                    </a:lnTo>
                    <a:lnTo>
                      <a:pt x="40" y="905"/>
                    </a:lnTo>
                    <a:lnTo>
                      <a:pt x="40" y="2460"/>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6" name=""/>
              <p:cNvSpPr/>
              <p:nvPr/>
            </p:nvSpPr>
            <p:spPr>
              <a:xfrm>
                <a:off x="2471760" y="2641320"/>
                <a:ext cx="28080" cy="694800"/>
              </a:xfrm>
              <a:custGeom>
                <a:avLst/>
                <a:gdLst/>
                <a:ahLst/>
                <a:rect l="l" t="t" r="r" b="b"/>
                <a:pathLst>
                  <a:path w="97" h="2448">
                    <a:moveTo>
                      <a:pt x="0" y="0"/>
                    </a:moveTo>
                    <a:lnTo>
                      <a:pt x="45" y="41"/>
                    </a:lnTo>
                    <a:lnTo>
                      <a:pt x="97" y="812"/>
                    </a:lnTo>
                    <a:lnTo>
                      <a:pt x="44" y="901"/>
                    </a:lnTo>
                    <a:lnTo>
                      <a:pt x="41" y="2448"/>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97" name=""/>
            <p:cNvSpPr/>
            <p:nvPr/>
          </p:nvSpPr>
          <p:spPr>
            <a:xfrm>
              <a:off x="2497680" y="2959560"/>
              <a:ext cx="222480" cy="34056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8" name=""/>
            <p:cNvSpPr/>
            <p:nvPr/>
          </p:nvSpPr>
          <p:spPr>
            <a:xfrm>
              <a:off x="2497680" y="3026520"/>
              <a:ext cx="222480" cy="64440"/>
            </a:xfrm>
            <a:prstGeom prst="rect">
              <a:avLst/>
            </a:prstGeom>
            <a:solidFill>
              <a:srgbClr val="c0c0c0"/>
            </a:solidFill>
            <a:ln w="1440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3199" name=""/>
            <p:cNvSpPr/>
            <p:nvPr/>
          </p:nvSpPr>
          <p:spPr>
            <a:xfrm>
              <a:off x="2497680" y="3096000"/>
              <a:ext cx="222480" cy="64440"/>
            </a:xfrm>
            <a:prstGeom prst="rect">
              <a:avLst/>
            </a:prstGeom>
            <a:solidFill>
              <a:srgbClr val="c0c0c0"/>
            </a:solidFill>
            <a:ln w="1440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3200" name=""/>
            <p:cNvSpPr/>
            <p:nvPr/>
          </p:nvSpPr>
          <p:spPr>
            <a:xfrm>
              <a:off x="2497680" y="3164040"/>
              <a:ext cx="222480" cy="63360"/>
            </a:xfrm>
            <a:prstGeom prst="rect">
              <a:avLst/>
            </a:prstGeom>
            <a:solidFill>
              <a:srgbClr val="c0c0c0"/>
            </a:solidFill>
            <a:ln w="1440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01" name=""/>
            <p:cNvSpPr/>
            <p:nvPr/>
          </p:nvSpPr>
          <p:spPr>
            <a:xfrm>
              <a:off x="2535840" y="3039120"/>
              <a:ext cx="145800" cy="37080"/>
            </a:xfrm>
            <a:prstGeom prst="rect">
              <a:avLst/>
            </a:prstGeom>
            <a:solidFill>
              <a:srgbClr val="c0c0c0"/>
            </a:solidFill>
            <a:ln w="14400">
              <a:solidFill>
                <a:srgbClr val="80808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202" name=""/>
            <p:cNvSpPr/>
            <p:nvPr/>
          </p:nvSpPr>
          <p:spPr>
            <a:xfrm>
              <a:off x="2535840" y="3108600"/>
              <a:ext cx="145800" cy="37080"/>
            </a:xfrm>
            <a:prstGeom prst="rect">
              <a:avLst/>
            </a:prstGeom>
            <a:solidFill>
              <a:srgbClr val="c0c0c0"/>
            </a:solidFill>
            <a:ln w="14400">
              <a:solidFill>
                <a:srgbClr val="80808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203" name=""/>
            <p:cNvSpPr/>
            <p:nvPr/>
          </p:nvSpPr>
          <p:spPr>
            <a:xfrm>
              <a:off x="2636280" y="2963160"/>
              <a:ext cx="9720" cy="45000"/>
            </a:xfrm>
            <a:custGeom>
              <a:avLst/>
              <a:gdLst/>
              <a:ahLst/>
              <a:rect l="l" t="t" r="r" b="b"/>
              <a:pathLst>
                <a:path w="34" h="157">
                  <a:moveTo>
                    <a:pt x="34" y="0"/>
                  </a:moveTo>
                  <a:lnTo>
                    <a:pt x="34" y="157"/>
                  </a:lnTo>
                  <a:lnTo>
                    <a:pt x="0" y="68"/>
                  </a:lnTo>
                  <a:lnTo>
                    <a:pt x="34"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3204" name=""/>
            <p:cNvSpPr/>
            <p:nvPr/>
          </p:nvSpPr>
          <p:spPr>
            <a:xfrm>
              <a:off x="2543040" y="3049200"/>
              <a:ext cx="131040" cy="6840"/>
            </a:xfrm>
            <a:prstGeom prst="rect">
              <a:avLst/>
            </a:prstGeom>
            <a:solidFill>
              <a:srgbClr val="80808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205" name=""/>
            <p:cNvSpPr/>
            <p:nvPr/>
          </p:nvSpPr>
          <p:spPr>
            <a:xfrm>
              <a:off x="2583000" y="3062880"/>
              <a:ext cx="57600" cy="10080"/>
            </a:xfrm>
            <a:custGeom>
              <a:avLst/>
              <a:gdLst/>
              <a:ahLst/>
              <a:rect l="l" t="t" r="r" b="b"/>
              <a:pathLst>
                <a:path w="199" h="37">
                  <a:moveTo>
                    <a:pt x="4" y="37"/>
                  </a:moveTo>
                  <a:lnTo>
                    <a:pt x="0" y="0"/>
                  </a:lnTo>
                  <a:lnTo>
                    <a:pt x="193" y="0"/>
                  </a:lnTo>
                  <a:lnTo>
                    <a:pt x="199" y="36"/>
                  </a:lnTo>
                </a:path>
              </a:pathLst>
            </a:custGeom>
            <a:noFill/>
            <a:ln w="14400">
              <a:solidFill>
                <a:srgbClr val="808080"/>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3206" name=""/>
            <p:cNvSpPr/>
            <p:nvPr/>
          </p:nvSpPr>
          <p:spPr>
            <a:xfrm>
              <a:off x="2426400" y="2685960"/>
              <a:ext cx="50760" cy="53280"/>
            </a:xfrm>
            <a:custGeom>
              <a:avLst/>
              <a:gdLst/>
              <a:ahLst/>
              <a:rect l="l" t="t" r="r" b="b"/>
              <a:pathLst>
                <a:path w="177" h="186">
                  <a:moveTo>
                    <a:pt x="163" y="0"/>
                  </a:moveTo>
                  <a:lnTo>
                    <a:pt x="0" y="0"/>
                  </a:lnTo>
                  <a:lnTo>
                    <a:pt x="12" y="186"/>
                  </a:lnTo>
                  <a:lnTo>
                    <a:pt x="177" y="186"/>
                  </a:lnTo>
                  <a:lnTo>
                    <a:pt x="163" y="0"/>
                  </a:lnTo>
                  <a:close/>
                </a:path>
              </a:pathLst>
            </a:custGeom>
            <a:solidFill>
              <a:srgbClr val="c0c0c0"/>
            </a:solidFill>
            <a:ln w="14400">
              <a:solidFill>
                <a:srgbClr val="808080"/>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3207" name=""/>
            <p:cNvSpPr/>
            <p:nvPr/>
          </p:nvSpPr>
          <p:spPr>
            <a:xfrm>
              <a:off x="2432160" y="2775960"/>
              <a:ext cx="52920" cy="53280"/>
            </a:xfrm>
            <a:custGeom>
              <a:avLst/>
              <a:gdLst/>
              <a:ahLst/>
              <a:rect l="l" t="t" r="r" b="b"/>
              <a:pathLst>
                <a:path w="183" h="188">
                  <a:moveTo>
                    <a:pt x="169" y="0"/>
                  </a:moveTo>
                  <a:lnTo>
                    <a:pt x="0" y="0"/>
                  </a:lnTo>
                  <a:lnTo>
                    <a:pt x="12" y="188"/>
                  </a:lnTo>
                  <a:lnTo>
                    <a:pt x="183" y="187"/>
                  </a:lnTo>
                  <a:lnTo>
                    <a:pt x="169" y="0"/>
                  </a:lnTo>
                  <a:close/>
                </a:path>
              </a:pathLst>
            </a:custGeom>
            <a:solidFill>
              <a:srgbClr val="c0c0c0"/>
            </a:solidFill>
            <a:ln w="14400">
              <a:solidFill>
                <a:srgbClr val="808080"/>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nvGrpSpPr>
            <p:cNvPr id="3208" name=""/>
            <p:cNvGrpSpPr/>
            <p:nvPr/>
          </p:nvGrpSpPr>
          <p:grpSpPr>
            <a:xfrm>
              <a:off x="2509560" y="2774520"/>
              <a:ext cx="222480" cy="51120"/>
              <a:chOff x="2509560" y="2774520"/>
              <a:chExt cx="222480" cy="51120"/>
            </a:xfrm>
          </p:grpSpPr>
          <p:sp>
            <p:nvSpPr>
              <p:cNvPr id="3209" name=""/>
              <p:cNvSpPr/>
              <p:nvPr/>
            </p:nvSpPr>
            <p:spPr>
              <a:xfrm>
                <a:off x="2509560" y="2774520"/>
                <a:ext cx="222480" cy="51120"/>
              </a:xfrm>
              <a:prstGeom prst="rect">
                <a:avLst/>
              </a:prstGeom>
              <a:solidFill>
                <a:srgbClr val="606060"/>
              </a:solidFill>
              <a:ln w="1440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210" name=""/>
              <p:cNvSpPr/>
              <p:nvPr/>
            </p:nvSpPr>
            <p:spPr>
              <a:xfrm>
                <a:off x="2549880" y="2778840"/>
                <a:ext cx="27000" cy="18000"/>
              </a:xfrm>
              <a:prstGeom prst="rect">
                <a:avLst/>
              </a:prstGeom>
              <a:solidFill>
                <a:srgbClr val="c0c0c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211" name=""/>
              <p:cNvSpPr/>
              <p:nvPr/>
            </p:nvSpPr>
            <p:spPr>
              <a:xfrm>
                <a:off x="2549880" y="2802600"/>
                <a:ext cx="27000" cy="18000"/>
              </a:xfrm>
              <a:prstGeom prst="rect">
                <a:avLst/>
              </a:prstGeom>
              <a:solidFill>
                <a:srgbClr val="c0c0c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212" name=""/>
              <p:cNvSpPr/>
              <p:nvPr/>
            </p:nvSpPr>
            <p:spPr>
              <a:xfrm>
                <a:off x="2604240" y="2790360"/>
                <a:ext cx="27000" cy="18000"/>
              </a:xfrm>
              <a:prstGeom prst="rect">
                <a:avLst/>
              </a:prstGeom>
              <a:solidFill>
                <a:srgbClr val="008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213" name=""/>
              <p:cNvSpPr/>
              <p:nvPr/>
            </p:nvSpPr>
            <p:spPr>
              <a:xfrm>
                <a:off x="2521080" y="2791440"/>
                <a:ext cx="19800" cy="21600"/>
              </a:xfrm>
              <a:prstGeom prst="ellipse">
                <a:avLst/>
              </a:pr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pic>
        <p:nvPicPr>
          <p:cNvPr id="3214" name="" descr=""/>
          <p:cNvPicPr/>
          <p:nvPr/>
        </p:nvPicPr>
        <p:blipFill>
          <a:blip r:embed="rId2"/>
          <a:stretch/>
        </p:blipFill>
        <p:spPr>
          <a:xfrm>
            <a:off x="438120" y="2300400"/>
            <a:ext cx="554040" cy="596880"/>
          </a:xfrm>
          <a:prstGeom prst="rect">
            <a:avLst/>
          </a:prstGeom>
          <a:ln w="0">
            <a:noFill/>
          </a:ln>
        </p:spPr>
      </p:pic>
      <p:grpSp>
        <p:nvGrpSpPr>
          <p:cNvPr id="3215" name=""/>
          <p:cNvGrpSpPr/>
          <p:nvPr/>
        </p:nvGrpSpPr>
        <p:grpSpPr>
          <a:xfrm>
            <a:off x="1249560" y="2734200"/>
            <a:ext cx="1159920" cy="1406880"/>
            <a:chOff x="1249560" y="2734200"/>
            <a:chExt cx="1159920" cy="1406880"/>
          </a:xfrm>
        </p:grpSpPr>
        <p:grpSp>
          <p:nvGrpSpPr>
            <p:cNvPr id="3216" name=""/>
            <p:cNvGrpSpPr/>
            <p:nvPr/>
          </p:nvGrpSpPr>
          <p:grpSpPr>
            <a:xfrm>
              <a:off x="1249560" y="2734200"/>
              <a:ext cx="772920" cy="1406880"/>
              <a:chOff x="1249560" y="2734200"/>
              <a:chExt cx="772920" cy="1406880"/>
            </a:xfrm>
          </p:grpSpPr>
          <p:sp>
            <p:nvSpPr>
              <p:cNvPr id="3217" name=""/>
              <p:cNvSpPr/>
              <p:nvPr/>
            </p:nvSpPr>
            <p:spPr>
              <a:xfrm rot="20700000">
                <a:off x="1606320" y="3832920"/>
                <a:ext cx="106920" cy="29916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8" name=""/>
              <p:cNvSpPr/>
              <p:nvPr/>
            </p:nvSpPr>
            <p:spPr>
              <a:xfrm rot="20700000">
                <a:off x="1521720" y="2742840"/>
                <a:ext cx="108000" cy="2998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9" name=""/>
              <p:cNvSpPr/>
              <p:nvPr/>
            </p:nvSpPr>
            <p:spPr>
              <a:xfrm rot="20700000">
                <a:off x="1378080" y="2951640"/>
                <a:ext cx="65160" cy="18432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0" name=""/>
              <p:cNvSpPr/>
              <p:nvPr/>
            </p:nvSpPr>
            <p:spPr>
              <a:xfrm rot="20700000">
                <a:off x="1390320" y="3679920"/>
                <a:ext cx="65160" cy="17604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1" name=""/>
              <p:cNvSpPr/>
              <p:nvPr/>
            </p:nvSpPr>
            <p:spPr>
              <a:xfrm rot="20700000">
                <a:off x="1330560" y="3414960"/>
                <a:ext cx="107280" cy="2908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2" name=""/>
              <p:cNvSpPr/>
              <p:nvPr/>
            </p:nvSpPr>
            <p:spPr>
              <a:xfrm rot="20700000">
                <a:off x="1438920" y="2819160"/>
                <a:ext cx="107640" cy="29736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3" name=""/>
              <p:cNvSpPr/>
              <p:nvPr/>
            </p:nvSpPr>
            <p:spPr>
              <a:xfrm rot="20700000">
                <a:off x="1869480" y="3523680"/>
                <a:ext cx="108720" cy="29844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4" name=""/>
              <p:cNvSpPr/>
              <p:nvPr/>
            </p:nvSpPr>
            <p:spPr>
              <a:xfrm rot="20700000">
                <a:off x="1790640" y="3657600"/>
                <a:ext cx="108720" cy="3034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25" name=""/>
              <p:cNvGrpSpPr/>
              <p:nvPr/>
            </p:nvGrpSpPr>
            <p:grpSpPr>
              <a:xfrm>
                <a:off x="1249560" y="2761200"/>
                <a:ext cx="772920" cy="1335960"/>
                <a:chOff x="1249560" y="2761200"/>
                <a:chExt cx="772920" cy="1335960"/>
              </a:xfrm>
            </p:grpSpPr>
            <p:sp>
              <p:nvSpPr>
                <p:cNvPr id="3226" name=""/>
                <p:cNvSpPr/>
                <p:nvPr/>
              </p:nvSpPr>
              <p:spPr>
                <a:xfrm rot="20700000">
                  <a:off x="1316160" y="3078720"/>
                  <a:ext cx="193320" cy="5410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27" name=""/>
                <p:cNvGrpSpPr/>
                <p:nvPr/>
              </p:nvGrpSpPr>
              <p:grpSpPr>
                <a:xfrm>
                  <a:off x="1276560" y="3027240"/>
                  <a:ext cx="612360" cy="1069920"/>
                  <a:chOff x="1276560" y="3027240"/>
                  <a:chExt cx="612360" cy="1069920"/>
                </a:xfrm>
              </p:grpSpPr>
              <p:sp>
                <p:nvSpPr>
                  <p:cNvPr id="3228" name=""/>
                  <p:cNvSpPr/>
                  <p:nvPr/>
                </p:nvSpPr>
                <p:spPr>
                  <a:xfrm rot="20700000">
                    <a:off x="1401120" y="3056760"/>
                    <a:ext cx="363240" cy="101052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9" name=""/>
                  <p:cNvSpPr/>
                  <p:nvPr/>
                </p:nvSpPr>
                <p:spPr>
                  <a:xfrm>
                    <a:off x="1386360" y="3305160"/>
                    <a:ext cx="56160" cy="285840"/>
                  </a:xfrm>
                  <a:custGeom>
                    <a:avLst/>
                    <a:gdLst/>
                    <a:ahLst/>
                    <a:rect l="l" t="t" r="r" b="b"/>
                    <a:pathLst>
                      <a:path w="213" h="323">
                        <a:moveTo>
                          <a:pt x="164" y="0"/>
                        </a:moveTo>
                        <a:lnTo>
                          <a:pt x="0" y="316"/>
                        </a:lnTo>
                        <a:lnTo>
                          <a:pt x="121" y="322"/>
                        </a:lnTo>
                        <a:lnTo>
                          <a:pt x="212" y="13"/>
                        </a:lnTo>
                        <a:lnTo>
                          <a:pt x="164" y="0"/>
                        </a:lnTo>
                      </a:path>
                    </a:pathLst>
                  </a:custGeom>
                  <a:solidFill>
                    <a:srgbClr val="99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30" name=""/>
                <p:cNvSpPr/>
                <p:nvPr/>
              </p:nvSpPr>
              <p:spPr>
                <a:xfrm rot="20700000">
                  <a:off x="1534320" y="3051720"/>
                  <a:ext cx="363600" cy="10108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1" name=""/>
                <p:cNvSpPr/>
                <p:nvPr/>
              </p:nvSpPr>
              <p:spPr>
                <a:xfrm rot="20700000">
                  <a:off x="1835640" y="3051720"/>
                  <a:ext cx="129960" cy="36180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2" name=""/>
                <p:cNvSpPr/>
                <p:nvPr/>
              </p:nvSpPr>
              <p:spPr>
                <a:xfrm rot="20700000">
                  <a:off x="1831680" y="3627000"/>
                  <a:ext cx="86040" cy="2440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3" name=""/>
                <p:cNvSpPr/>
                <p:nvPr/>
              </p:nvSpPr>
              <p:spPr>
                <a:xfrm rot="20700000">
                  <a:off x="1783440" y="2999880"/>
                  <a:ext cx="86400" cy="23544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4" name=""/>
                <p:cNvSpPr/>
                <p:nvPr/>
              </p:nvSpPr>
              <p:spPr>
                <a:xfrm rot="20700000">
                  <a:off x="1833480" y="3305160"/>
                  <a:ext cx="130680" cy="3574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5" name=""/>
                <p:cNvSpPr/>
                <p:nvPr/>
              </p:nvSpPr>
              <p:spPr>
                <a:xfrm rot="20700000">
                  <a:off x="1410120" y="2869920"/>
                  <a:ext cx="194040" cy="53712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6" name=""/>
                <p:cNvSpPr/>
                <p:nvPr/>
              </p:nvSpPr>
              <p:spPr>
                <a:xfrm rot="20700000">
                  <a:off x="1604880" y="2813040"/>
                  <a:ext cx="194040" cy="5374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7" name=""/>
                <p:cNvSpPr/>
                <p:nvPr/>
              </p:nvSpPr>
              <p:spPr>
                <a:xfrm rot="20700000">
                  <a:off x="1512360" y="2777040"/>
                  <a:ext cx="194040" cy="53712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8" name=""/>
                <p:cNvSpPr/>
                <p:nvPr/>
              </p:nvSpPr>
              <p:spPr>
                <a:xfrm rot="20700000">
                  <a:off x="1500120" y="3462840"/>
                  <a:ext cx="192600" cy="53820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9" name=""/>
                <p:cNvSpPr/>
                <p:nvPr/>
              </p:nvSpPr>
              <p:spPr>
                <a:xfrm>
                  <a:off x="1433160" y="2881800"/>
                  <a:ext cx="482400" cy="1098720"/>
                </a:xfrm>
                <a:custGeom>
                  <a:avLst/>
                  <a:gdLst/>
                  <a:ahLst/>
                  <a:rect l="l" t="t" r="r" b="b"/>
                  <a:pathLst>
                    <a:path w="1827" h="1241">
                      <a:moveTo>
                        <a:pt x="300" y="77"/>
                      </a:moveTo>
                      <a:lnTo>
                        <a:pt x="656" y="143"/>
                      </a:lnTo>
                      <a:lnTo>
                        <a:pt x="1026" y="0"/>
                      </a:lnTo>
                      <a:lnTo>
                        <a:pt x="1348" y="231"/>
                      </a:lnTo>
                      <a:lnTo>
                        <a:pt x="1418" y="234"/>
                      </a:lnTo>
                      <a:lnTo>
                        <a:pt x="1614" y="282"/>
                      </a:lnTo>
                      <a:lnTo>
                        <a:pt x="1678" y="345"/>
                      </a:lnTo>
                      <a:lnTo>
                        <a:pt x="1826" y="455"/>
                      </a:lnTo>
                      <a:lnTo>
                        <a:pt x="1817" y="502"/>
                      </a:lnTo>
                      <a:lnTo>
                        <a:pt x="1657" y="981"/>
                      </a:lnTo>
                      <a:lnTo>
                        <a:pt x="1485" y="1083"/>
                      </a:lnTo>
                      <a:lnTo>
                        <a:pt x="868" y="1205"/>
                      </a:lnTo>
                      <a:lnTo>
                        <a:pt x="807" y="1152"/>
                      </a:lnTo>
                      <a:lnTo>
                        <a:pt x="388" y="1189"/>
                      </a:lnTo>
                      <a:lnTo>
                        <a:pt x="321" y="1240"/>
                      </a:lnTo>
                      <a:lnTo>
                        <a:pt x="0" y="612"/>
                      </a:lnTo>
                      <a:lnTo>
                        <a:pt x="300" y="77"/>
                      </a:lnTo>
                    </a:path>
                  </a:pathLst>
                </a:custGeom>
                <a:solidFill>
                  <a:srgbClr val="99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240" name=""/>
            <p:cNvSpPr/>
            <p:nvPr/>
          </p:nvSpPr>
          <p:spPr>
            <a:xfrm>
              <a:off x="1390680" y="327024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endParaRPr b="0" lang="en-US" sz="1800" spc="-1" strike="noStrike">
                <a:solidFill>
                  <a:srgbClr val="ffffff"/>
                </a:solidFill>
                <a:latin typeface="Times New Roman"/>
              </a:endParaRPr>
            </a:p>
          </p:txBody>
        </p:sp>
      </p:grpSp>
      <p:sp>
        <p:nvSpPr>
          <p:cNvPr id="3241" name=""/>
          <p:cNvSpPr/>
          <p:nvPr/>
        </p:nvSpPr>
        <p:spPr>
          <a:xfrm>
            <a:off x="2233440" y="3094200"/>
            <a:ext cx="181080" cy="342720"/>
          </a:xfrm>
          <a:prstGeom prst="rect">
            <a:avLst/>
          </a:prstGeom>
          <a:blipFill rotWithShape="0">
            <a:blip r:embed="rId3"/>
            <a:srcRect/>
            <a:tile tx="0" ty="0" sx="100000" sy="100000" algn="ctr"/>
          </a:blipFill>
          <a:ln w="93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42" name=""/>
          <p:cNvGrpSpPr/>
          <p:nvPr/>
        </p:nvGrpSpPr>
        <p:grpSpPr>
          <a:xfrm>
            <a:off x="4648320" y="4191120"/>
            <a:ext cx="729720" cy="291960"/>
            <a:chOff x="4648320" y="4191120"/>
            <a:chExt cx="729720" cy="291960"/>
          </a:xfrm>
        </p:grpSpPr>
        <p:grpSp>
          <p:nvGrpSpPr>
            <p:cNvPr id="3243" name=""/>
            <p:cNvGrpSpPr/>
            <p:nvPr/>
          </p:nvGrpSpPr>
          <p:grpSpPr>
            <a:xfrm>
              <a:off x="4648320" y="4191120"/>
              <a:ext cx="729720" cy="291600"/>
              <a:chOff x="4648320" y="4191120"/>
              <a:chExt cx="729720" cy="291600"/>
            </a:xfrm>
          </p:grpSpPr>
          <p:sp>
            <p:nvSpPr>
              <p:cNvPr id="3244" name=""/>
              <p:cNvSpPr/>
              <p:nvPr/>
            </p:nvSpPr>
            <p:spPr>
              <a:xfrm>
                <a:off x="4863240" y="4210560"/>
                <a:ext cx="491760" cy="5040"/>
              </a:xfrm>
              <a:custGeom>
                <a:avLst/>
                <a:gdLst/>
                <a:ahLst/>
                <a:rect l="l" t="t" r="r" b="b"/>
                <a:pathLst>
                  <a:path w="1294" h="48">
                    <a:moveTo>
                      <a:pt x="0" y="0"/>
                    </a:moveTo>
                    <a:lnTo>
                      <a:pt x="77" y="48"/>
                    </a:lnTo>
                    <a:lnTo>
                      <a:pt x="1294" y="48"/>
                    </a:lnTo>
                    <a:lnTo>
                      <a:pt x="1255" y="0"/>
                    </a:lnTo>
                    <a:lnTo>
                      <a:pt x="0" y="0"/>
                    </a:lnTo>
                    <a:close/>
                  </a:path>
                </a:pathLst>
              </a:custGeom>
              <a:solidFill>
                <a:srgbClr val="e0e0e0"/>
              </a:solidFill>
              <a:ln w="14400">
                <a:solidFill>
                  <a:srgbClr val="80808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5" name=""/>
              <p:cNvSpPr/>
              <p:nvPr/>
            </p:nvSpPr>
            <p:spPr>
              <a:xfrm>
                <a:off x="4861800" y="4209480"/>
                <a:ext cx="124560" cy="273240"/>
              </a:xfrm>
              <a:custGeom>
                <a:avLst/>
                <a:gdLst/>
                <a:ahLst/>
                <a:rect l="l" t="t" r="r" b="b"/>
                <a:pathLst>
                  <a:path w="327" h="2469">
                    <a:moveTo>
                      <a:pt x="0" y="2385"/>
                    </a:moveTo>
                    <a:lnTo>
                      <a:pt x="67" y="2469"/>
                    </a:lnTo>
                    <a:lnTo>
                      <a:pt x="327" y="820"/>
                    </a:lnTo>
                    <a:lnTo>
                      <a:pt x="83" y="50"/>
                    </a:lnTo>
                    <a:lnTo>
                      <a:pt x="2" y="0"/>
                    </a:lnTo>
                    <a:lnTo>
                      <a:pt x="0" y="902"/>
                    </a:lnTo>
                    <a:lnTo>
                      <a:pt x="0" y="2385"/>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6" name=""/>
              <p:cNvSpPr/>
              <p:nvPr/>
            </p:nvSpPr>
            <p:spPr>
              <a:xfrm>
                <a:off x="4648320" y="4191120"/>
                <a:ext cx="216000" cy="282240"/>
              </a:xfrm>
              <a:custGeom>
                <a:avLst/>
                <a:gdLst/>
                <a:ahLst/>
                <a:rect l="l" t="t" r="r" b="b"/>
                <a:pathLst>
                  <a:path w="569" h="2551">
                    <a:moveTo>
                      <a:pt x="0" y="0"/>
                    </a:moveTo>
                    <a:lnTo>
                      <a:pt x="569" y="167"/>
                    </a:lnTo>
                    <a:lnTo>
                      <a:pt x="569" y="2551"/>
                    </a:lnTo>
                    <a:lnTo>
                      <a:pt x="0" y="1943"/>
                    </a:lnTo>
                    <a:lnTo>
                      <a:pt x="0" y="0"/>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7" name=""/>
              <p:cNvSpPr/>
              <p:nvPr/>
            </p:nvSpPr>
            <p:spPr>
              <a:xfrm>
                <a:off x="4648320" y="4191120"/>
                <a:ext cx="693360" cy="19440"/>
              </a:xfrm>
              <a:custGeom>
                <a:avLst/>
                <a:gdLst/>
                <a:ahLst/>
                <a:rect l="l" t="t" r="r" b="b"/>
                <a:pathLst>
                  <a:path w="1824" h="175">
                    <a:moveTo>
                      <a:pt x="570" y="175"/>
                    </a:moveTo>
                    <a:lnTo>
                      <a:pt x="1824" y="175"/>
                    </a:lnTo>
                    <a:lnTo>
                      <a:pt x="945" y="0"/>
                    </a:lnTo>
                    <a:lnTo>
                      <a:pt x="0" y="0"/>
                    </a:lnTo>
                    <a:lnTo>
                      <a:pt x="570" y="175"/>
                    </a:lnTo>
                    <a:close/>
                  </a:path>
                </a:pathLst>
              </a:custGeom>
              <a:solidFill>
                <a:srgbClr val="e0e0e0"/>
              </a:solidFill>
              <a:ln w="14400">
                <a:solidFill>
                  <a:srgbClr val="808080"/>
                </a:solidFill>
                <a:round/>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248" name=""/>
              <p:cNvSpPr/>
              <p:nvPr/>
            </p:nvSpPr>
            <p:spPr>
              <a:xfrm>
                <a:off x="4890960" y="4312800"/>
                <a:ext cx="447840" cy="16848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9" name=""/>
              <p:cNvSpPr/>
              <p:nvPr/>
            </p:nvSpPr>
            <p:spPr>
              <a:xfrm>
                <a:off x="4892400" y="4214880"/>
                <a:ext cx="484200" cy="85680"/>
              </a:xfrm>
              <a:custGeom>
                <a:avLst/>
                <a:gdLst/>
                <a:ahLst/>
                <a:rect l="l" t="t" r="r" b="b"/>
                <a:pathLst>
                  <a:path w="1273" h="776">
                    <a:moveTo>
                      <a:pt x="0" y="0"/>
                    </a:moveTo>
                    <a:lnTo>
                      <a:pt x="1215" y="0"/>
                    </a:lnTo>
                    <a:lnTo>
                      <a:pt x="1273" y="776"/>
                    </a:lnTo>
                    <a:lnTo>
                      <a:pt x="52" y="776"/>
                    </a:lnTo>
                    <a:lnTo>
                      <a:pt x="0" y="0"/>
                    </a:lnTo>
                    <a:close/>
                  </a:path>
                </a:pathLst>
              </a:custGeom>
              <a:solidFill>
                <a:srgbClr val="c0c0c0"/>
              </a:solidFill>
              <a:ln w="144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0" name=""/>
              <p:cNvSpPr/>
              <p:nvPr/>
            </p:nvSpPr>
            <p:spPr>
              <a:xfrm>
                <a:off x="4888440" y="4300560"/>
                <a:ext cx="489600" cy="10080"/>
              </a:xfrm>
              <a:custGeom>
                <a:avLst/>
                <a:gdLst/>
                <a:ahLst/>
                <a:rect l="l" t="t" r="r" b="b"/>
                <a:pathLst>
                  <a:path w="1288" h="92">
                    <a:moveTo>
                      <a:pt x="0" y="92"/>
                    </a:moveTo>
                    <a:lnTo>
                      <a:pt x="1188" y="92"/>
                    </a:lnTo>
                    <a:lnTo>
                      <a:pt x="1288" y="0"/>
                    </a:lnTo>
                    <a:lnTo>
                      <a:pt x="65" y="0"/>
                    </a:lnTo>
                    <a:lnTo>
                      <a:pt x="0" y="92"/>
                    </a:lnTo>
                    <a:close/>
                  </a:path>
                </a:pathLst>
              </a:custGeom>
              <a:solidFill>
                <a:srgbClr val="a0a0a0"/>
              </a:solidFill>
              <a:ln w="14400">
                <a:solidFill>
                  <a:srgbClr val="808080"/>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nvGrpSpPr>
            <p:cNvPr id="3251" name=""/>
            <p:cNvGrpSpPr/>
            <p:nvPr/>
          </p:nvGrpSpPr>
          <p:grpSpPr>
            <a:xfrm>
              <a:off x="4893840" y="4210560"/>
              <a:ext cx="136440" cy="272520"/>
              <a:chOff x="4893840" y="4210560"/>
              <a:chExt cx="136440" cy="272520"/>
            </a:xfrm>
          </p:grpSpPr>
          <p:sp>
            <p:nvSpPr>
              <p:cNvPr id="3252" name=""/>
              <p:cNvSpPr/>
              <p:nvPr/>
            </p:nvSpPr>
            <p:spPr>
              <a:xfrm>
                <a:off x="4893840" y="4210560"/>
                <a:ext cx="39960" cy="272160"/>
              </a:xfrm>
              <a:custGeom>
                <a:avLst/>
                <a:gdLst/>
                <a:ahLst/>
                <a:rect l="l" t="t" r="r" b="b"/>
                <a:pathLst>
                  <a:path w="107" h="2463">
                    <a:moveTo>
                      <a:pt x="0" y="0"/>
                    </a:moveTo>
                    <a:lnTo>
                      <a:pt x="55" y="41"/>
                    </a:lnTo>
                    <a:lnTo>
                      <a:pt x="107" y="827"/>
                    </a:lnTo>
                    <a:lnTo>
                      <a:pt x="53" y="916"/>
                    </a:lnTo>
                    <a:lnTo>
                      <a:pt x="50"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3" name=""/>
              <p:cNvSpPr/>
              <p:nvPr/>
            </p:nvSpPr>
            <p:spPr>
              <a:xfrm>
                <a:off x="4909680" y="4210920"/>
                <a:ext cx="37800" cy="272160"/>
              </a:xfrm>
              <a:custGeom>
                <a:avLst/>
                <a:gdLst/>
                <a:ahLst/>
                <a:rect l="l" t="t" r="r" b="b"/>
                <a:pathLst>
                  <a:path w="101" h="2462">
                    <a:moveTo>
                      <a:pt x="0" y="0"/>
                    </a:moveTo>
                    <a:lnTo>
                      <a:pt x="48" y="41"/>
                    </a:lnTo>
                    <a:lnTo>
                      <a:pt x="101" y="825"/>
                    </a:lnTo>
                    <a:lnTo>
                      <a:pt x="47" y="914"/>
                    </a:lnTo>
                    <a:lnTo>
                      <a:pt x="45" y="2462"/>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4" name=""/>
              <p:cNvSpPr/>
              <p:nvPr/>
            </p:nvSpPr>
            <p:spPr>
              <a:xfrm>
                <a:off x="4921920" y="4210560"/>
                <a:ext cx="39960" cy="272520"/>
              </a:xfrm>
              <a:custGeom>
                <a:avLst/>
                <a:gdLst/>
                <a:ahLst/>
                <a:rect l="l" t="t" r="r" b="b"/>
                <a:pathLst>
                  <a:path w="107" h="2463">
                    <a:moveTo>
                      <a:pt x="0" y="0"/>
                    </a:moveTo>
                    <a:lnTo>
                      <a:pt x="53" y="42"/>
                    </a:lnTo>
                    <a:lnTo>
                      <a:pt x="107" y="820"/>
                    </a:lnTo>
                    <a:lnTo>
                      <a:pt x="49" y="908"/>
                    </a:lnTo>
                    <a:lnTo>
                      <a:pt x="49"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5" name=""/>
              <p:cNvSpPr/>
              <p:nvPr/>
            </p:nvSpPr>
            <p:spPr>
              <a:xfrm>
                <a:off x="4936320" y="4210920"/>
                <a:ext cx="38520" cy="271800"/>
              </a:xfrm>
              <a:custGeom>
                <a:avLst/>
                <a:gdLst/>
                <a:ahLst/>
                <a:rect l="l" t="t" r="r" b="b"/>
                <a:pathLst>
                  <a:path w="103" h="2456">
                    <a:moveTo>
                      <a:pt x="0" y="0"/>
                    </a:moveTo>
                    <a:lnTo>
                      <a:pt x="50" y="35"/>
                    </a:lnTo>
                    <a:lnTo>
                      <a:pt x="103" y="819"/>
                    </a:lnTo>
                    <a:lnTo>
                      <a:pt x="48" y="909"/>
                    </a:lnTo>
                    <a:lnTo>
                      <a:pt x="46" y="2456"/>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6" name=""/>
              <p:cNvSpPr/>
              <p:nvPr/>
            </p:nvSpPr>
            <p:spPr>
              <a:xfrm>
                <a:off x="4950360" y="4210560"/>
                <a:ext cx="38520" cy="271440"/>
              </a:xfrm>
              <a:custGeom>
                <a:avLst/>
                <a:gdLst/>
                <a:ahLst/>
                <a:rect l="l" t="t" r="r" b="b"/>
                <a:pathLst>
                  <a:path w="101" h="2455">
                    <a:moveTo>
                      <a:pt x="0" y="0"/>
                    </a:moveTo>
                    <a:lnTo>
                      <a:pt x="49" y="48"/>
                    </a:lnTo>
                    <a:lnTo>
                      <a:pt x="101" y="819"/>
                    </a:lnTo>
                    <a:lnTo>
                      <a:pt x="46" y="908"/>
                    </a:lnTo>
                    <a:lnTo>
                      <a:pt x="44" y="2455"/>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7" name=""/>
              <p:cNvSpPr/>
              <p:nvPr/>
            </p:nvSpPr>
            <p:spPr>
              <a:xfrm>
                <a:off x="4965840" y="4210920"/>
                <a:ext cx="37080" cy="271440"/>
              </a:xfrm>
              <a:custGeom>
                <a:avLst/>
                <a:gdLst/>
                <a:ahLst/>
                <a:rect l="l" t="t" r="r" b="b"/>
                <a:pathLst>
                  <a:path w="97" h="2454">
                    <a:moveTo>
                      <a:pt x="0" y="0"/>
                    </a:moveTo>
                    <a:lnTo>
                      <a:pt x="44" y="41"/>
                    </a:lnTo>
                    <a:lnTo>
                      <a:pt x="97" y="817"/>
                    </a:lnTo>
                    <a:lnTo>
                      <a:pt x="42" y="906"/>
                    </a:lnTo>
                    <a:lnTo>
                      <a:pt x="40" y="2454"/>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8" name=""/>
              <p:cNvSpPr/>
              <p:nvPr/>
            </p:nvSpPr>
            <p:spPr>
              <a:xfrm>
                <a:off x="4980240" y="4210920"/>
                <a:ext cx="37080" cy="272160"/>
              </a:xfrm>
              <a:custGeom>
                <a:avLst/>
                <a:gdLst/>
                <a:ahLst/>
                <a:rect l="l" t="t" r="r" b="b"/>
                <a:pathLst>
                  <a:path w="98" h="2460">
                    <a:moveTo>
                      <a:pt x="0" y="0"/>
                    </a:moveTo>
                    <a:lnTo>
                      <a:pt x="43" y="43"/>
                    </a:lnTo>
                    <a:lnTo>
                      <a:pt x="98" y="809"/>
                    </a:lnTo>
                    <a:lnTo>
                      <a:pt x="40" y="905"/>
                    </a:lnTo>
                    <a:lnTo>
                      <a:pt x="40" y="2460"/>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9" name=""/>
              <p:cNvSpPr/>
              <p:nvPr/>
            </p:nvSpPr>
            <p:spPr>
              <a:xfrm>
                <a:off x="4993200" y="4210920"/>
                <a:ext cx="37080" cy="270720"/>
              </a:xfrm>
              <a:custGeom>
                <a:avLst/>
                <a:gdLst/>
                <a:ahLst/>
                <a:rect l="l" t="t" r="r" b="b"/>
                <a:pathLst>
                  <a:path w="97" h="2448">
                    <a:moveTo>
                      <a:pt x="0" y="0"/>
                    </a:moveTo>
                    <a:lnTo>
                      <a:pt x="45" y="41"/>
                    </a:lnTo>
                    <a:lnTo>
                      <a:pt x="97" y="812"/>
                    </a:lnTo>
                    <a:lnTo>
                      <a:pt x="44" y="901"/>
                    </a:lnTo>
                    <a:lnTo>
                      <a:pt x="41" y="2448"/>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60" name=""/>
            <p:cNvSpPr/>
            <p:nvPr/>
          </p:nvSpPr>
          <p:spPr>
            <a:xfrm>
              <a:off x="5027760" y="4334760"/>
              <a:ext cx="293400" cy="13284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1" name=""/>
            <p:cNvSpPr/>
            <p:nvPr/>
          </p:nvSpPr>
          <p:spPr>
            <a:xfrm>
              <a:off x="5027760" y="4361040"/>
              <a:ext cx="293400" cy="25200"/>
            </a:xfrm>
            <a:prstGeom prst="rect">
              <a:avLst/>
            </a:prstGeom>
            <a:solidFill>
              <a:srgbClr val="c0c0c0"/>
            </a:solidFill>
            <a:ln w="144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62" name=""/>
            <p:cNvSpPr/>
            <p:nvPr/>
          </p:nvSpPr>
          <p:spPr>
            <a:xfrm>
              <a:off x="5027760" y="4388040"/>
              <a:ext cx="293400" cy="25200"/>
            </a:xfrm>
            <a:prstGeom prst="rect">
              <a:avLst/>
            </a:prstGeom>
            <a:solidFill>
              <a:srgbClr val="c0c0c0"/>
            </a:solidFill>
            <a:ln w="144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63" name=""/>
            <p:cNvSpPr/>
            <p:nvPr/>
          </p:nvSpPr>
          <p:spPr>
            <a:xfrm>
              <a:off x="5027760" y="4414680"/>
              <a:ext cx="293400" cy="24480"/>
            </a:xfrm>
            <a:prstGeom prst="rect">
              <a:avLst/>
            </a:prstGeom>
            <a:solidFill>
              <a:srgbClr val="c0c0c0"/>
            </a:solidFill>
            <a:ln w="1440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264" name=""/>
            <p:cNvSpPr/>
            <p:nvPr/>
          </p:nvSpPr>
          <p:spPr>
            <a:xfrm>
              <a:off x="5077800" y="4365720"/>
              <a:ext cx="192240" cy="14400"/>
            </a:xfrm>
            <a:prstGeom prst="rect">
              <a:avLst/>
            </a:prstGeom>
            <a:solidFill>
              <a:srgbClr val="c0c0c0"/>
            </a:solidFill>
            <a:ln w="1440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5" name=""/>
            <p:cNvSpPr/>
            <p:nvPr/>
          </p:nvSpPr>
          <p:spPr>
            <a:xfrm>
              <a:off x="5077800" y="4392720"/>
              <a:ext cx="192240" cy="14400"/>
            </a:xfrm>
            <a:prstGeom prst="rect">
              <a:avLst/>
            </a:prstGeom>
            <a:solidFill>
              <a:srgbClr val="c0c0c0"/>
            </a:solidFill>
            <a:ln w="1440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6" name=""/>
            <p:cNvSpPr/>
            <p:nvPr/>
          </p:nvSpPr>
          <p:spPr>
            <a:xfrm>
              <a:off x="5210280" y="4336200"/>
              <a:ext cx="12600" cy="17640"/>
            </a:xfrm>
            <a:custGeom>
              <a:avLst/>
              <a:gdLst/>
              <a:ahLst/>
              <a:rect l="l" t="t" r="r" b="b"/>
              <a:pathLst>
                <a:path w="34" h="157">
                  <a:moveTo>
                    <a:pt x="34" y="0"/>
                  </a:moveTo>
                  <a:lnTo>
                    <a:pt x="34" y="157"/>
                  </a:lnTo>
                  <a:lnTo>
                    <a:pt x="0" y="68"/>
                  </a:lnTo>
                  <a:lnTo>
                    <a:pt x="34" y="0"/>
                  </a:lnTo>
                  <a:close/>
                </a:path>
              </a:pathLst>
            </a:custGeom>
            <a:solidFill>
              <a:srgbClr val="60606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67" name=""/>
            <p:cNvSpPr/>
            <p:nvPr/>
          </p:nvSpPr>
          <p:spPr>
            <a:xfrm>
              <a:off x="5087880" y="4369680"/>
              <a:ext cx="172440" cy="2520"/>
            </a:xfrm>
            <a:prstGeom prst="rect">
              <a:avLst/>
            </a:pr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3268" name=""/>
            <p:cNvSpPr/>
            <p:nvPr/>
          </p:nvSpPr>
          <p:spPr>
            <a:xfrm>
              <a:off x="5140080" y="4375080"/>
              <a:ext cx="75960" cy="3960"/>
            </a:xfrm>
            <a:custGeom>
              <a:avLst/>
              <a:gdLst/>
              <a:ahLst/>
              <a:rect l="l" t="t" r="r" b="b"/>
              <a:pathLst>
                <a:path w="199" h="37">
                  <a:moveTo>
                    <a:pt x="4" y="37"/>
                  </a:moveTo>
                  <a:lnTo>
                    <a:pt x="0" y="0"/>
                  </a:lnTo>
                  <a:lnTo>
                    <a:pt x="193" y="0"/>
                  </a:lnTo>
                  <a:lnTo>
                    <a:pt x="199" y="36"/>
                  </a:lnTo>
                </a:path>
              </a:pathLst>
            </a:custGeom>
            <a:noFill/>
            <a:ln w="14400">
              <a:solidFill>
                <a:srgbClr val="80808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3269" name=""/>
            <p:cNvSpPr/>
            <p:nvPr/>
          </p:nvSpPr>
          <p:spPr>
            <a:xfrm>
              <a:off x="4934160" y="4228200"/>
              <a:ext cx="66600" cy="20520"/>
            </a:xfrm>
            <a:custGeom>
              <a:avLst/>
              <a:gdLst/>
              <a:ahLst/>
              <a:rect l="l" t="t" r="r" b="b"/>
              <a:pathLst>
                <a:path w="177" h="186">
                  <a:moveTo>
                    <a:pt x="163" y="0"/>
                  </a:moveTo>
                  <a:lnTo>
                    <a:pt x="0" y="0"/>
                  </a:lnTo>
                  <a:lnTo>
                    <a:pt x="12" y="186"/>
                  </a:lnTo>
                  <a:lnTo>
                    <a:pt x="177" y="186"/>
                  </a:lnTo>
                  <a:lnTo>
                    <a:pt x="163" y="0"/>
                  </a:lnTo>
                  <a:close/>
                </a:path>
              </a:pathLst>
            </a:custGeom>
            <a:solidFill>
              <a:srgbClr val="c0c0c0"/>
            </a:solidFill>
            <a:ln w="14400">
              <a:solidFill>
                <a:srgbClr val="808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0" name=""/>
            <p:cNvSpPr/>
            <p:nvPr/>
          </p:nvSpPr>
          <p:spPr>
            <a:xfrm>
              <a:off x="4941720" y="4263120"/>
              <a:ext cx="69840" cy="20520"/>
            </a:xfrm>
            <a:custGeom>
              <a:avLst/>
              <a:gdLst/>
              <a:ahLst/>
              <a:rect l="l" t="t" r="r" b="b"/>
              <a:pathLst>
                <a:path w="183" h="188">
                  <a:moveTo>
                    <a:pt x="169" y="0"/>
                  </a:moveTo>
                  <a:lnTo>
                    <a:pt x="0" y="0"/>
                  </a:lnTo>
                  <a:lnTo>
                    <a:pt x="12" y="188"/>
                  </a:lnTo>
                  <a:lnTo>
                    <a:pt x="183" y="187"/>
                  </a:lnTo>
                  <a:lnTo>
                    <a:pt x="169" y="0"/>
                  </a:lnTo>
                  <a:close/>
                </a:path>
              </a:pathLst>
            </a:custGeom>
            <a:solidFill>
              <a:srgbClr val="c0c0c0"/>
            </a:solidFill>
            <a:ln w="14400">
              <a:solidFill>
                <a:srgbClr val="808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3271" name=""/>
            <p:cNvGrpSpPr/>
            <p:nvPr/>
          </p:nvGrpSpPr>
          <p:grpSpPr>
            <a:xfrm>
              <a:off x="5043600" y="4262760"/>
              <a:ext cx="293400" cy="19800"/>
              <a:chOff x="5043600" y="4262760"/>
              <a:chExt cx="293400" cy="19800"/>
            </a:xfrm>
          </p:grpSpPr>
          <p:sp>
            <p:nvSpPr>
              <p:cNvPr id="3272" name=""/>
              <p:cNvSpPr/>
              <p:nvPr/>
            </p:nvSpPr>
            <p:spPr>
              <a:xfrm>
                <a:off x="5043600" y="4262760"/>
                <a:ext cx="293400" cy="19800"/>
              </a:xfrm>
              <a:prstGeom prst="rect">
                <a:avLst/>
              </a:prstGeom>
              <a:solidFill>
                <a:srgbClr val="606060"/>
              </a:solidFill>
              <a:ln w="1440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273" name=""/>
              <p:cNvSpPr/>
              <p:nvPr/>
            </p:nvSpPr>
            <p:spPr>
              <a:xfrm>
                <a:off x="5096880" y="4264560"/>
                <a:ext cx="3564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274" name=""/>
              <p:cNvSpPr/>
              <p:nvPr/>
            </p:nvSpPr>
            <p:spPr>
              <a:xfrm>
                <a:off x="5096880" y="4273560"/>
                <a:ext cx="3564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275" name=""/>
              <p:cNvSpPr/>
              <p:nvPr/>
            </p:nvSpPr>
            <p:spPr>
              <a:xfrm>
                <a:off x="5168160" y="4268880"/>
                <a:ext cx="35640" cy="6840"/>
              </a:xfrm>
              <a:prstGeom prst="rect">
                <a:avLst/>
              </a:pr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276" name=""/>
              <p:cNvSpPr/>
              <p:nvPr/>
            </p:nvSpPr>
            <p:spPr>
              <a:xfrm>
                <a:off x="5058720" y="4269240"/>
                <a:ext cx="26280" cy="8280"/>
              </a:xfrm>
              <a:prstGeom prst="ellipse">
                <a:avLst/>
              </a:prstGeom>
              <a:solidFill>
                <a:srgbClr val="20202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sp>
        <p:nvSpPr>
          <p:cNvPr id="3277" name=""/>
          <p:cNvSpPr/>
          <p:nvPr/>
        </p:nvSpPr>
        <p:spPr>
          <a:xfrm>
            <a:off x="5029200" y="4495680"/>
            <a:ext cx="1600200" cy="609840"/>
          </a:xfrm>
          <a:custGeom>
            <a:avLst/>
            <a:gdLst/>
            <a:ahLst/>
            <a:rect l="l" t="t" r="r" b="b"/>
            <a:pathLst>
              <a:path w="1008" h="384">
                <a:moveTo>
                  <a:pt x="0" y="0"/>
                </a:moveTo>
                <a:lnTo>
                  <a:pt x="0" y="384"/>
                </a:lnTo>
                <a:lnTo>
                  <a:pt x="1008" y="38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8" name=""/>
          <p:cNvSpPr/>
          <p:nvPr/>
        </p:nvSpPr>
        <p:spPr>
          <a:xfrm>
            <a:off x="5243400" y="2616120"/>
            <a:ext cx="268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ic internal IP addresses</a:t>
            </a:r>
            <a:endParaRPr b="0" lang="en-US" sz="1800" spc="-1" strike="noStrike">
              <a:solidFill>
                <a:srgbClr val="ffffff"/>
              </a:solidFill>
              <a:latin typeface="Times New Roman"/>
            </a:endParaRPr>
          </a:p>
        </p:txBody>
      </p:sp>
      <p:sp>
        <p:nvSpPr>
          <p:cNvPr id="3279" name=""/>
          <p:cNvSpPr/>
          <p:nvPr/>
        </p:nvSpPr>
        <p:spPr>
          <a:xfrm flipH="1">
            <a:off x="2825640" y="2787480"/>
            <a:ext cx="2433600" cy="219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0" name=""/>
          <p:cNvSpPr/>
          <p:nvPr/>
        </p:nvSpPr>
        <p:spPr>
          <a:xfrm>
            <a:off x="0" y="4027320"/>
            <a:ext cx="4786200" cy="242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admin protects internal path as far as possible:</a:t>
            </a:r>
            <a:endParaRPr b="0" lang="en-US" sz="24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End systems not ipsec tunnel capable</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asier to manage 1 tunnel config to router, not one tunnel for each server</a:t>
            </a:r>
            <a:endParaRPr b="0" lang="en-US" sz="2000" spc="-1" strike="noStrike">
              <a:solidFill>
                <a:srgbClr val="ffffff"/>
              </a:solidFill>
              <a:latin typeface="Times New Roman"/>
            </a:endParaRPr>
          </a:p>
        </p:txBody>
      </p:sp>
      <p:sp>
        <p:nvSpPr>
          <p:cNvPr id="3281" name=""/>
          <p:cNvSpPr/>
          <p:nvPr/>
        </p:nvSpPr>
        <p:spPr>
          <a:xfrm>
            <a:off x="5270400" y="6239880"/>
            <a:ext cx="3256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l IP </a:t>
            </a:r>
            <a:r>
              <a:rPr b="1" lang="en-US" sz="1800" spc="-1" strike="noStrike" u="sng">
                <a:solidFill>
                  <a:srgbClr val="ffffff"/>
                </a:solidFill>
                <a:uFillTx/>
                <a:latin typeface="Arial"/>
              </a:rPr>
              <a:t>Subnet B</a:t>
            </a:r>
            <a:endParaRPr b="0" lang="en-US" sz="1800" spc="-1" strike="noStrike">
              <a:solidFill>
                <a:srgbClr val="ffffff"/>
              </a:solidFill>
              <a:latin typeface="Times New Roman"/>
            </a:endParaRPr>
          </a:p>
        </p:txBody>
      </p:sp>
      <p:grpSp>
        <p:nvGrpSpPr>
          <p:cNvPr id="3282" name=""/>
          <p:cNvGrpSpPr/>
          <p:nvPr/>
        </p:nvGrpSpPr>
        <p:grpSpPr>
          <a:xfrm>
            <a:off x="2757600" y="2905200"/>
            <a:ext cx="2590560" cy="1264320"/>
            <a:chOff x="2757600" y="2905200"/>
            <a:chExt cx="2590560" cy="1264320"/>
          </a:xfrm>
        </p:grpSpPr>
        <p:sp>
          <p:nvSpPr>
            <p:cNvPr id="3283" name=""/>
            <p:cNvSpPr/>
            <p:nvPr/>
          </p:nvSpPr>
          <p:spPr>
            <a:xfrm>
              <a:off x="3367080" y="297828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PSec Tunnel</a:t>
              </a:r>
              <a:endParaRPr b="0" lang="en-US" sz="3600" spc="-1" strike="noStrike">
                <a:solidFill>
                  <a:srgbClr val="ffffff"/>
                </a:solidFill>
                <a:latin typeface="Times New Roman"/>
              </a:endParaRPr>
            </a:p>
          </p:txBody>
        </p:sp>
        <p:sp>
          <p:nvSpPr>
            <p:cNvPr id="3284" name=""/>
            <p:cNvSpPr/>
            <p:nvPr/>
          </p:nvSpPr>
          <p:spPr>
            <a:xfrm>
              <a:off x="2757600" y="2905200"/>
              <a:ext cx="2574720" cy="1236600"/>
            </a:xfrm>
            <a:custGeom>
              <a:avLst/>
              <a:gdLst/>
              <a:ahLst/>
              <a:rect l="l" t="t" r="r" b="b"/>
              <a:pathLst>
                <a:path w="1622" h="779">
                  <a:moveTo>
                    <a:pt x="0" y="81"/>
                  </a:moveTo>
                  <a:cubicBezTo>
                    <a:pt x="559" y="40"/>
                    <a:pt x="1118" y="0"/>
                    <a:pt x="1370" y="116"/>
                  </a:cubicBezTo>
                  <a:cubicBezTo>
                    <a:pt x="1622" y="232"/>
                    <a:pt x="1487" y="670"/>
                    <a:pt x="1510" y="779"/>
                  </a:cubicBezTo>
                </a:path>
              </a:pathLst>
            </a:custGeom>
            <a:noFill/>
            <a:ln w="38160">
              <a:solidFill>
                <a:srgbClr val="ff0000"/>
              </a:solidFill>
              <a:round/>
              <a:headEnd len="med" type="oval" w="lg"/>
              <a:tailEnd len="med" type="oval"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85" name=""/>
          <p:cNvSpPr/>
          <p:nvPr/>
        </p:nvSpPr>
        <p:spPr>
          <a:xfrm flipH="1">
            <a:off x="5292720" y="3225960"/>
            <a:ext cx="77760" cy="84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6" name=""/>
          <p:cNvSpPr/>
          <p:nvPr/>
        </p:nvSpPr>
        <p:spPr>
          <a:xfrm>
            <a:off x="4803840" y="4322880"/>
            <a:ext cx="3370320" cy="230004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7" name=""/>
          <p:cNvSpPr/>
          <p:nvPr/>
        </p:nvSpPr>
        <p:spPr>
          <a:xfrm>
            <a:off x="5605560" y="3895920"/>
            <a:ext cx="25779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cf00"/>
                </a:solidFill>
                <a:latin typeface="Arial"/>
              </a:rPr>
              <a:t>Physically Secure Network</a:t>
            </a:r>
            <a:endParaRPr b="0" lang="en-US" sz="2400" spc="-1" strike="noStrike">
              <a:solidFill>
                <a:srgbClr val="ffffff"/>
              </a:solidFill>
              <a:latin typeface="Times New Roman"/>
            </a:endParaRPr>
          </a:p>
        </p:txBody>
      </p:sp>
      <p:grpSp>
        <p:nvGrpSpPr>
          <p:cNvPr id="3288" name=""/>
          <p:cNvGrpSpPr/>
          <p:nvPr/>
        </p:nvGrpSpPr>
        <p:grpSpPr>
          <a:xfrm>
            <a:off x="6564240" y="5518080"/>
            <a:ext cx="528840" cy="574560"/>
            <a:chOff x="6564240" y="5518080"/>
            <a:chExt cx="528840" cy="574560"/>
          </a:xfrm>
        </p:grpSpPr>
        <p:sp>
          <p:nvSpPr>
            <p:cNvPr id="3289" name=""/>
            <p:cNvSpPr/>
            <p:nvPr/>
          </p:nvSpPr>
          <p:spPr>
            <a:xfrm>
              <a:off x="6747840" y="5536080"/>
              <a:ext cx="229680" cy="55656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0" name=""/>
            <p:cNvSpPr/>
            <p:nvPr/>
          </p:nvSpPr>
          <p:spPr>
            <a:xfrm>
              <a:off x="6760800" y="5829120"/>
              <a:ext cx="204120" cy="23688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1" name=""/>
            <p:cNvSpPr/>
            <p:nvPr/>
          </p:nvSpPr>
          <p:spPr>
            <a:xfrm>
              <a:off x="6760800" y="5638320"/>
              <a:ext cx="194400" cy="1591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2" name=""/>
            <p:cNvSpPr/>
            <p:nvPr/>
          </p:nvSpPr>
          <p:spPr>
            <a:xfrm>
              <a:off x="6564240" y="5519160"/>
              <a:ext cx="413280" cy="226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293" name=""/>
            <p:cNvSpPr/>
            <p:nvPr/>
          </p:nvSpPr>
          <p:spPr>
            <a:xfrm>
              <a:off x="6564240" y="5519160"/>
              <a:ext cx="184680" cy="57348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4" name=""/>
            <p:cNvSpPr/>
            <p:nvPr/>
          </p:nvSpPr>
          <p:spPr>
            <a:xfrm>
              <a:off x="6726960" y="5538600"/>
              <a:ext cx="21600" cy="55404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5" name=""/>
            <p:cNvSpPr/>
            <p:nvPr/>
          </p:nvSpPr>
          <p:spPr>
            <a:xfrm>
              <a:off x="6760800" y="5636880"/>
              <a:ext cx="204120" cy="16668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6" name=""/>
            <p:cNvSpPr/>
            <p:nvPr/>
          </p:nvSpPr>
          <p:spPr>
            <a:xfrm>
              <a:off x="6760800" y="5606640"/>
              <a:ext cx="204120" cy="3276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97" name=""/>
            <p:cNvSpPr/>
            <p:nvPr/>
          </p:nvSpPr>
          <p:spPr>
            <a:xfrm>
              <a:off x="6760800" y="5556600"/>
              <a:ext cx="204120" cy="2808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98" name=""/>
            <p:cNvSpPr/>
            <p:nvPr/>
          </p:nvSpPr>
          <p:spPr>
            <a:xfrm>
              <a:off x="6564240" y="5518080"/>
              <a:ext cx="413280" cy="2412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299" name=""/>
            <p:cNvSpPr/>
            <p:nvPr/>
          </p:nvSpPr>
          <p:spPr>
            <a:xfrm>
              <a:off x="6746400" y="5536080"/>
              <a:ext cx="230760" cy="55656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0" name=""/>
            <p:cNvSpPr/>
            <p:nvPr/>
          </p:nvSpPr>
          <p:spPr>
            <a:xfrm>
              <a:off x="6564240" y="5519160"/>
              <a:ext cx="183600" cy="57348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1" name=""/>
            <p:cNvSpPr/>
            <p:nvPr/>
          </p:nvSpPr>
          <p:spPr>
            <a:xfrm>
              <a:off x="6726960" y="5540040"/>
              <a:ext cx="0" cy="53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2" name=""/>
            <p:cNvSpPr/>
            <p:nvPr/>
          </p:nvSpPr>
          <p:spPr>
            <a:xfrm>
              <a:off x="6726960" y="5547240"/>
              <a:ext cx="250200" cy="2052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03" name=""/>
            <p:cNvSpPr/>
            <p:nvPr/>
          </p:nvSpPr>
          <p:spPr>
            <a:xfrm>
              <a:off x="6726960" y="558720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04" name=""/>
            <p:cNvSpPr/>
            <p:nvPr/>
          </p:nvSpPr>
          <p:spPr>
            <a:xfrm>
              <a:off x="6760800" y="5556600"/>
              <a:ext cx="204120" cy="2808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05" name=""/>
            <p:cNvSpPr/>
            <p:nvPr/>
          </p:nvSpPr>
          <p:spPr>
            <a:xfrm>
              <a:off x="6726960" y="559944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06" name=""/>
            <p:cNvSpPr/>
            <p:nvPr/>
          </p:nvSpPr>
          <p:spPr>
            <a:xfrm>
              <a:off x="6726960" y="563688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07" name=""/>
            <p:cNvSpPr/>
            <p:nvPr/>
          </p:nvSpPr>
          <p:spPr>
            <a:xfrm>
              <a:off x="6726960" y="5789160"/>
              <a:ext cx="250200" cy="2052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08" name=""/>
            <p:cNvSpPr/>
            <p:nvPr/>
          </p:nvSpPr>
          <p:spPr>
            <a:xfrm>
              <a:off x="6760800" y="564552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9" name=""/>
            <p:cNvSpPr/>
            <p:nvPr/>
          </p:nvSpPr>
          <p:spPr>
            <a:xfrm>
              <a:off x="6964200" y="5638320"/>
              <a:ext cx="0" cy="15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0" name=""/>
            <p:cNvSpPr/>
            <p:nvPr/>
          </p:nvSpPr>
          <p:spPr>
            <a:xfrm>
              <a:off x="6760800" y="5638320"/>
              <a:ext cx="194400" cy="1576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1" name=""/>
            <p:cNvSpPr/>
            <p:nvPr/>
          </p:nvSpPr>
          <p:spPr>
            <a:xfrm>
              <a:off x="6954120" y="5785200"/>
              <a:ext cx="972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Times New Roman"/>
              </a:endParaRPr>
            </a:p>
          </p:txBody>
        </p:sp>
        <p:sp>
          <p:nvSpPr>
            <p:cNvPr id="3312" name=""/>
            <p:cNvSpPr/>
            <p:nvPr/>
          </p:nvSpPr>
          <p:spPr>
            <a:xfrm flipH="1">
              <a:off x="6760800" y="5688360"/>
              <a:ext cx="192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313" name=""/>
            <p:cNvSpPr/>
            <p:nvPr/>
          </p:nvSpPr>
          <p:spPr>
            <a:xfrm flipH="1">
              <a:off x="6760800" y="5739120"/>
              <a:ext cx="1929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3314" name=""/>
            <p:cNvSpPr/>
            <p:nvPr/>
          </p:nvSpPr>
          <p:spPr>
            <a:xfrm>
              <a:off x="6726960" y="5829120"/>
              <a:ext cx="250200" cy="2052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15" name=""/>
            <p:cNvSpPr/>
            <p:nvPr/>
          </p:nvSpPr>
          <p:spPr>
            <a:xfrm>
              <a:off x="6726960" y="6042960"/>
              <a:ext cx="250200" cy="2556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16" name=""/>
            <p:cNvSpPr/>
            <p:nvPr/>
          </p:nvSpPr>
          <p:spPr>
            <a:xfrm>
              <a:off x="6760800" y="5841360"/>
              <a:ext cx="0" cy="22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7" name=""/>
            <p:cNvSpPr/>
            <p:nvPr/>
          </p:nvSpPr>
          <p:spPr>
            <a:xfrm>
              <a:off x="6964200" y="5829120"/>
              <a:ext cx="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8" name=""/>
            <p:cNvSpPr/>
            <p:nvPr/>
          </p:nvSpPr>
          <p:spPr>
            <a:xfrm>
              <a:off x="6760800" y="6028560"/>
              <a:ext cx="204120" cy="2556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19" name=""/>
            <p:cNvSpPr/>
            <p:nvPr/>
          </p:nvSpPr>
          <p:spPr>
            <a:xfrm>
              <a:off x="6760800" y="6018840"/>
              <a:ext cx="204120" cy="2556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20" name=""/>
            <p:cNvSpPr/>
            <p:nvPr/>
          </p:nvSpPr>
          <p:spPr>
            <a:xfrm>
              <a:off x="6760800" y="6010200"/>
              <a:ext cx="204120" cy="2412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321" name=""/>
            <p:cNvSpPr/>
            <p:nvPr/>
          </p:nvSpPr>
          <p:spPr>
            <a:xfrm>
              <a:off x="6760800" y="6000480"/>
              <a:ext cx="204120" cy="216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3322" name=""/>
            <p:cNvSpPr/>
            <p:nvPr/>
          </p:nvSpPr>
          <p:spPr>
            <a:xfrm>
              <a:off x="6760800" y="5989680"/>
              <a:ext cx="204120" cy="230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3323" name=""/>
            <p:cNvSpPr/>
            <p:nvPr/>
          </p:nvSpPr>
          <p:spPr>
            <a:xfrm>
              <a:off x="6760800" y="5558040"/>
              <a:ext cx="194400" cy="2520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24" name=""/>
            <p:cNvSpPr/>
            <p:nvPr/>
          </p:nvSpPr>
          <p:spPr>
            <a:xfrm>
              <a:off x="6954120" y="557640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3325" name=""/>
            <p:cNvSpPr/>
            <p:nvPr/>
          </p:nvSpPr>
          <p:spPr>
            <a:xfrm>
              <a:off x="6808320" y="5606640"/>
              <a:ext cx="109440" cy="3276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326" name=""/>
            <p:cNvSpPr/>
            <p:nvPr/>
          </p:nvSpPr>
          <p:spPr>
            <a:xfrm>
              <a:off x="6760800" y="5606640"/>
              <a:ext cx="204120" cy="29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3327" name=""/>
            <p:cNvSpPr/>
            <p:nvPr/>
          </p:nvSpPr>
          <p:spPr>
            <a:xfrm>
              <a:off x="6760800" y="5620320"/>
              <a:ext cx="156600" cy="2052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28" name=""/>
            <p:cNvSpPr/>
            <p:nvPr/>
          </p:nvSpPr>
          <p:spPr>
            <a:xfrm flipH="1">
              <a:off x="6916320" y="5622480"/>
              <a:ext cx="471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329" name=""/>
            <p:cNvSpPr/>
            <p:nvPr/>
          </p:nvSpPr>
          <p:spPr>
            <a:xfrm>
              <a:off x="6916680" y="5606640"/>
              <a:ext cx="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Times New Roman"/>
              </a:endParaRPr>
            </a:p>
          </p:txBody>
        </p:sp>
        <p:sp>
          <p:nvSpPr>
            <p:cNvPr id="3330" name=""/>
            <p:cNvSpPr/>
            <p:nvPr/>
          </p:nvSpPr>
          <p:spPr>
            <a:xfrm>
              <a:off x="6770880" y="5570280"/>
              <a:ext cx="20160" cy="2052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31" name=""/>
            <p:cNvSpPr/>
            <p:nvPr/>
          </p:nvSpPr>
          <p:spPr>
            <a:xfrm>
              <a:off x="6798600" y="5568840"/>
              <a:ext cx="20520" cy="2052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32" name=""/>
            <p:cNvSpPr/>
            <p:nvPr/>
          </p:nvSpPr>
          <p:spPr>
            <a:xfrm>
              <a:off x="6826680" y="5568840"/>
              <a:ext cx="20520" cy="2052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33" name=""/>
            <p:cNvSpPr/>
            <p:nvPr/>
          </p:nvSpPr>
          <p:spPr>
            <a:xfrm>
              <a:off x="6855840" y="5568840"/>
              <a:ext cx="20520" cy="2052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34" name=""/>
            <p:cNvSpPr/>
            <p:nvPr/>
          </p:nvSpPr>
          <p:spPr>
            <a:xfrm>
              <a:off x="6885000" y="5567760"/>
              <a:ext cx="20520" cy="2052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35" name=""/>
            <p:cNvSpPr/>
            <p:nvPr/>
          </p:nvSpPr>
          <p:spPr>
            <a:xfrm>
              <a:off x="6911640" y="5565240"/>
              <a:ext cx="20520" cy="2052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36" name=""/>
            <p:cNvSpPr/>
            <p:nvPr/>
          </p:nvSpPr>
          <p:spPr>
            <a:xfrm>
              <a:off x="6941160" y="5565240"/>
              <a:ext cx="20520" cy="2052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37" name=""/>
            <p:cNvSpPr/>
            <p:nvPr/>
          </p:nvSpPr>
          <p:spPr>
            <a:xfrm>
              <a:off x="6944760" y="5638320"/>
              <a:ext cx="20520" cy="14796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8" name=""/>
            <p:cNvSpPr/>
            <p:nvPr/>
          </p:nvSpPr>
          <p:spPr>
            <a:xfrm>
              <a:off x="6976440" y="6013800"/>
              <a:ext cx="116640" cy="5472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grpSp>
      <p:sp>
        <p:nvSpPr>
          <p:cNvPr id="3339" name=""/>
          <p:cNvSpPr/>
          <p:nvPr/>
        </p:nvSpPr>
        <p:spPr>
          <a:xfrm>
            <a:off x="5029200" y="5060880"/>
            <a:ext cx="1600200" cy="609840"/>
          </a:xfrm>
          <a:custGeom>
            <a:avLst/>
            <a:gdLst/>
            <a:ahLst/>
            <a:rect l="l" t="t" r="r" b="b"/>
            <a:pathLst>
              <a:path w="1008" h="384">
                <a:moveTo>
                  <a:pt x="0" y="0"/>
                </a:moveTo>
                <a:lnTo>
                  <a:pt x="0" y="384"/>
                </a:lnTo>
                <a:lnTo>
                  <a:pt x="1008" y="38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40" name=""/>
          <p:cNvGrpSpPr/>
          <p:nvPr/>
        </p:nvGrpSpPr>
        <p:grpSpPr>
          <a:xfrm>
            <a:off x="6597720" y="4800600"/>
            <a:ext cx="528120" cy="574200"/>
            <a:chOff x="6597720" y="4800600"/>
            <a:chExt cx="528120" cy="574200"/>
          </a:xfrm>
        </p:grpSpPr>
        <p:sp>
          <p:nvSpPr>
            <p:cNvPr id="3341" name=""/>
            <p:cNvSpPr/>
            <p:nvPr/>
          </p:nvSpPr>
          <p:spPr>
            <a:xfrm>
              <a:off x="6780960" y="4818600"/>
              <a:ext cx="229320" cy="55620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2" name=""/>
            <p:cNvSpPr/>
            <p:nvPr/>
          </p:nvSpPr>
          <p:spPr>
            <a:xfrm>
              <a:off x="6794280" y="5111280"/>
              <a:ext cx="204120" cy="23688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3" name=""/>
            <p:cNvSpPr/>
            <p:nvPr/>
          </p:nvSpPr>
          <p:spPr>
            <a:xfrm>
              <a:off x="6794280" y="4920840"/>
              <a:ext cx="194400" cy="1591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4" name=""/>
            <p:cNvSpPr/>
            <p:nvPr/>
          </p:nvSpPr>
          <p:spPr>
            <a:xfrm>
              <a:off x="6597720" y="4801680"/>
              <a:ext cx="412920" cy="226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345" name=""/>
            <p:cNvSpPr/>
            <p:nvPr/>
          </p:nvSpPr>
          <p:spPr>
            <a:xfrm>
              <a:off x="6597720" y="4801680"/>
              <a:ext cx="184320" cy="57312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6" name=""/>
            <p:cNvSpPr/>
            <p:nvPr/>
          </p:nvSpPr>
          <p:spPr>
            <a:xfrm>
              <a:off x="6760440" y="4821120"/>
              <a:ext cx="21600" cy="55368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7" name=""/>
            <p:cNvSpPr/>
            <p:nvPr/>
          </p:nvSpPr>
          <p:spPr>
            <a:xfrm>
              <a:off x="6794280" y="4919400"/>
              <a:ext cx="204120" cy="1663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8" name=""/>
            <p:cNvSpPr/>
            <p:nvPr/>
          </p:nvSpPr>
          <p:spPr>
            <a:xfrm>
              <a:off x="6794280" y="4889160"/>
              <a:ext cx="204120" cy="3276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349" name=""/>
            <p:cNvSpPr/>
            <p:nvPr/>
          </p:nvSpPr>
          <p:spPr>
            <a:xfrm>
              <a:off x="6794280" y="4839120"/>
              <a:ext cx="204120" cy="2808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50" name=""/>
            <p:cNvSpPr/>
            <p:nvPr/>
          </p:nvSpPr>
          <p:spPr>
            <a:xfrm>
              <a:off x="6597720" y="4800600"/>
              <a:ext cx="412920" cy="2412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351" name=""/>
            <p:cNvSpPr/>
            <p:nvPr/>
          </p:nvSpPr>
          <p:spPr>
            <a:xfrm>
              <a:off x="6779520" y="4818600"/>
              <a:ext cx="230760" cy="55620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2" name=""/>
            <p:cNvSpPr/>
            <p:nvPr/>
          </p:nvSpPr>
          <p:spPr>
            <a:xfrm>
              <a:off x="6597720" y="4801680"/>
              <a:ext cx="183240" cy="57312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3" name=""/>
            <p:cNvSpPr/>
            <p:nvPr/>
          </p:nvSpPr>
          <p:spPr>
            <a:xfrm>
              <a:off x="6760440" y="4822560"/>
              <a:ext cx="0" cy="53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4" name=""/>
            <p:cNvSpPr/>
            <p:nvPr/>
          </p:nvSpPr>
          <p:spPr>
            <a:xfrm>
              <a:off x="6760440" y="4829760"/>
              <a:ext cx="250200" cy="2052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55" name=""/>
            <p:cNvSpPr/>
            <p:nvPr/>
          </p:nvSpPr>
          <p:spPr>
            <a:xfrm>
              <a:off x="6760440" y="486972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56" name=""/>
            <p:cNvSpPr/>
            <p:nvPr/>
          </p:nvSpPr>
          <p:spPr>
            <a:xfrm>
              <a:off x="6794280" y="4839120"/>
              <a:ext cx="204120" cy="2808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57" name=""/>
            <p:cNvSpPr/>
            <p:nvPr/>
          </p:nvSpPr>
          <p:spPr>
            <a:xfrm>
              <a:off x="6760440" y="488196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58" name=""/>
            <p:cNvSpPr/>
            <p:nvPr/>
          </p:nvSpPr>
          <p:spPr>
            <a:xfrm>
              <a:off x="6760440" y="491940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59" name=""/>
            <p:cNvSpPr/>
            <p:nvPr/>
          </p:nvSpPr>
          <p:spPr>
            <a:xfrm>
              <a:off x="6760440" y="5071320"/>
              <a:ext cx="250200" cy="2052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60" name=""/>
            <p:cNvSpPr/>
            <p:nvPr/>
          </p:nvSpPr>
          <p:spPr>
            <a:xfrm>
              <a:off x="6794280" y="492804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1" name=""/>
            <p:cNvSpPr/>
            <p:nvPr/>
          </p:nvSpPr>
          <p:spPr>
            <a:xfrm>
              <a:off x="6997320" y="4920840"/>
              <a:ext cx="0" cy="15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2" name=""/>
            <p:cNvSpPr/>
            <p:nvPr/>
          </p:nvSpPr>
          <p:spPr>
            <a:xfrm>
              <a:off x="6794280" y="4920840"/>
              <a:ext cx="194400" cy="1576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3" name=""/>
            <p:cNvSpPr/>
            <p:nvPr/>
          </p:nvSpPr>
          <p:spPr>
            <a:xfrm>
              <a:off x="6987600" y="5067720"/>
              <a:ext cx="972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Times New Roman"/>
              </a:endParaRPr>
            </a:p>
          </p:txBody>
        </p:sp>
        <p:sp>
          <p:nvSpPr>
            <p:cNvPr id="3364" name=""/>
            <p:cNvSpPr/>
            <p:nvPr/>
          </p:nvSpPr>
          <p:spPr>
            <a:xfrm flipH="1">
              <a:off x="6794280" y="4970520"/>
              <a:ext cx="192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365" name=""/>
            <p:cNvSpPr/>
            <p:nvPr/>
          </p:nvSpPr>
          <p:spPr>
            <a:xfrm flipH="1">
              <a:off x="6794280" y="5021640"/>
              <a:ext cx="1929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3366" name=""/>
            <p:cNvSpPr/>
            <p:nvPr/>
          </p:nvSpPr>
          <p:spPr>
            <a:xfrm>
              <a:off x="6760440" y="5111280"/>
              <a:ext cx="250200" cy="2052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67" name=""/>
            <p:cNvSpPr/>
            <p:nvPr/>
          </p:nvSpPr>
          <p:spPr>
            <a:xfrm>
              <a:off x="6760440" y="5325120"/>
              <a:ext cx="250200" cy="2556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68" name=""/>
            <p:cNvSpPr/>
            <p:nvPr/>
          </p:nvSpPr>
          <p:spPr>
            <a:xfrm>
              <a:off x="6794280" y="5123520"/>
              <a:ext cx="0" cy="22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9" name=""/>
            <p:cNvSpPr/>
            <p:nvPr/>
          </p:nvSpPr>
          <p:spPr>
            <a:xfrm>
              <a:off x="6997320" y="511128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0" name=""/>
            <p:cNvSpPr/>
            <p:nvPr/>
          </p:nvSpPr>
          <p:spPr>
            <a:xfrm>
              <a:off x="6794280" y="5310720"/>
              <a:ext cx="204120" cy="2556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71" name=""/>
            <p:cNvSpPr/>
            <p:nvPr/>
          </p:nvSpPr>
          <p:spPr>
            <a:xfrm>
              <a:off x="6794280" y="5301000"/>
              <a:ext cx="204120" cy="2556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72" name=""/>
            <p:cNvSpPr/>
            <p:nvPr/>
          </p:nvSpPr>
          <p:spPr>
            <a:xfrm>
              <a:off x="6794280" y="5292360"/>
              <a:ext cx="204120" cy="2412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373" name=""/>
            <p:cNvSpPr/>
            <p:nvPr/>
          </p:nvSpPr>
          <p:spPr>
            <a:xfrm>
              <a:off x="6794280" y="5282640"/>
              <a:ext cx="204120" cy="216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3374" name=""/>
            <p:cNvSpPr/>
            <p:nvPr/>
          </p:nvSpPr>
          <p:spPr>
            <a:xfrm>
              <a:off x="6794280" y="5271840"/>
              <a:ext cx="204120" cy="230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3375" name=""/>
            <p:cNvSpPr/>
            <p:nvPr/>
          </p:nvSpPr>
          <p:spPr>
            <a:xfrm>
              <a:off x="6794280" y="4840560"/>
              <a:ext cx="194400" cy="2520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76" name=""/>
            <p:cNvSpPr/>
            <p:nvPr/>
          </p:nvSpPr>
          <p:spPr>
            <a:xfrm>
              <a:off x="6987600" y="485892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3377" name=""/>
            <p:cNvSpPr/>
            <p:nvPr/>
          </p:nvSpPr>
          <p:spPr>
            <a:xfrm>
              <a:off x="6841800" y="4889160"/>
              <a:ext cx="109080" cy="3276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378" name=""/>
            <p:cNvSpPr/>
            <p:nvPr/>
          </p:nvSpPr>
          <p:spPr>
            <a:xfrm>
              <a:off x="6794280" y="4889160"/>
              <a:ext cx="204120" cy="29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3379" name=""/>
            <p:cNvSpPr/>
            <p:nvPr/>
          </p:nvSpPr>
          <p:spPr>
            <a:xfrm>
              <a:off x="6794280" y="4902480"/>
              <a:ext cx="156600" cy="2052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80" name=""/>
            <p:cNvSpPr/>
            <p:nvPr/>
          </p:nvSpPr>
          <p:spPr>
            <a:xfrm flipH="1">
              <a:off x="6949800" y="4905000"/>
              <a:ext cx="471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381" name=""/>
            <p:cNvSpPr/>
            <p:nvPr/>
          </p:nvSpPr>
          <p:spPr>
            <a:xfrm>
              <a:off x="6950160" y="4889160"/>
              <a:ext cx="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Times New Roman"/>
              </a:endParaRPr>
            </a:p>
          </p:txBody>
        </p:sp>
        <p:sp>
          <p:nvSpPr>
            <p:cNvPr id="3382" name=""/>
            <p:cNvSpPr/>
            <p:nvPr/>
          </p:nvSpPr>
          <p:spPr>
            <a:xfrm>
              <a:off x="6804360" y="4852800"/>
              <a:ext cx="20160" cy="2052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83" name=""/>
            <p:cNvSpPr/>
            <p:nvPr/>
          </p:nvSpPr>
          <p:spPr>
            <a:xfrm>
              <a:off x="6832080" y="4851360"/>
              <a:ext cx="20520" cy="2052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84" name=""/>
            <p:cNvSpPr/>
            <p:nvPr/>
          </p:nvSpPr>
          <p:spPr>
            <a:xfrm>
              <a:off x="6859800" y="4851360"/>
              <a:ext cx="20520" cy="2052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85" name=""/>
            <p:cNvSpPr/>
            <p:nvPr/>
          </p:nvSpPr>
          <p:spPr>
            <a:xfrm>
              <a:off x="6888960" y="4851360"/>
              <a:ext cx="20520" cy="2052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86" name=""/>
            <p:cNvSpPr/>
            <p:nvPr/>
          </p:nvSpPr>
          <p:spPr>
            <a:xfrm>
              <a:off x="6918480" y="4850280"/>
              <a:ext cx="20520" cy="2052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87" name=""/>
            <p:cNvSpPr/>
            <p:nvPr/>
          </p:nvSpPr>
          <p:spPr>
            <a:xfrm>
              <a:off x="6945120" y="4847760"/>
              <a:ext cx="20520" cy="2052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88" name=""/>
            <p:cNvSpPr/>
            <p:nvPr/>
          </p:nvSpPr>
          <p:spPr>
            <a:xfrm>
              <a:off x="6974280" y="4847760"/>
              <a:ext cx="20520" cy="2052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89" name=""/>
            <p:cNvSpPr/>
            <p:nvPr/>
          </p:nvSpPr>
          <p:spPr>
            <a:xfrm>
              <a:off x="6977880" y="4920840"/>
              <a:ext cx="20520" cy="14796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0" name=""/>
            <p:cNvSpPr/>
            <p:nvPr/>
          </p:nvSpPr>
          <p:spPr>
            <a:xfrm>
              <a:off x="7009560" y="5295960"/>
              <a:ext cx="116280" cy="5472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grpSp>
      <p:grpSp>
        <p:nvGrpSpPr>
          <p:cNvPr id="3391" name=""/>
          <p:cNvGrpSpPr/>
          <p:nvPr/>
        </p:nvGrpSpPr>
        <p:grpSpPr>
          <a:xfrm>
            <a:off x="555480" y="1650600"/>
            <a:ext cx="7016760" cy="642600"/>
            <a:chOff x="555480" y="1650600"/>
            <a:chExt cx="7016760" cy="642600"/>
          </a:xfrm>
        </p:grpSpPr>
        <p:sp>
          <p:nvSpPr>
            <p:cNvPr id="3392" name=""/>
            <p:cNvSpPr/>
            <p:nvPr/>
          </p:nvSpPr>
          <p:spPr>
            <a:xfrm>
              <a:off x="3645000" y="1650600"/>
              <a:ext cx="39272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s get internal IP addresses from </a:t>
              </a:r>
              <a:r>
                <a:rPr b="1" lang="en-US" sz="1800" spc="-1" strike="noStrike" u="sng">
                  <a:solidFill>
                    <a:srgbClr val="ffffff"/>
                  </a:solidFill>
                  <a:uFillTx/>
                  <a:latin typeface="Arial"/>
                </a:rPr>
                <a:t>Subnet A</a:t>
              </a:r>
              <a:endParaRPr b="0" lang="en-US" sz="1800" spc="-1" strike="noStrike">
                <a:solidFill>
                  <a:srgbClr val="ffffff"/>
                </a:solidFill>
                <a:latin typeface="Times New Roman"/>
              </a:endParaRPr>
            </a:p>
          </p:txBody>
        </p:sp>
        <p:sp>
          <p:nvSpPr>
            <p:cNvPr id="3393" name=""/>
            <p:cNvSpPr/>
            <p:nvPr/>
          </p:nvSpPr>
          <p:spPr>
            <a:xfrm>
              <a:off x="555480" y="1741320"/>
              <a:ext cx="3117960" cy="498600"/>
            </a:xfrm>
            <a:custGeom>
              <a:avLst/>
              <a:gdLst/>
              <a:ahLst/>
              <a:rect l="l" t="t" r="r" b="b"/>
              <a:pathLst>
                <a:path w="1964" h="314">
                  <a:moveTo>
                    <a:pt x="1964" y="45"/>
                  </a:moveTo>
                  <a:cubicBezTo>
                    <a:pt x="1294" y="22"/>
                    <a:pt x="624" y="0"/>
                    <a:pt x="312" y="45"/>
                  </a:cubicBezTo>
                  <a:cubicBezTo>
                    <a:pt x="0" y="90"/>
                    <a:pt x="46" y="202"/>
                    <a:pt x="92" y="314"/>
                  </a:cubicBezTo>
                </a:path>
              </a:pathLst>
            </a:custGeom>
            <a:noFill/>
            <a:ln w="1260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gr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4" name=""/>
          <p:cNvSpPr/>
          <p:nvPr/>
        </p:nvSpPr>
        <p:spPr>
          <a:xfrm flipV="1">
            <a:off x="1960560" y="3234600"/>
            <a:ext cx="1488960" cy="1995480"/>
          </a:xfrm>
          <a:custGeom>
            <a:avLst/>
            <a:gdLst/>
            <a:ahLst/>
            <a:rect l="l" t="t" r="r" b="b"/>
            <a:pathLst>
              <a:path w="1008" h="384">
                <a:moveTo>
                  <a:pt x="0" y="0"/>
                </a:moveTo>
                <a:lnTo>
                  <a:pt x="0" y="384"/>
                </a:lnTo>
                <a:lnTo>
                  <a:pt x="1008" y="38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5" name=""/>
          <p:cNvSpPr/>
          <p:nvPr/>
        </p:nvSpPr>
        <p:spPr>
          <a:xfrm>
            <a:off x="4019400" y="3138480"/>
            <a:ext cx="1343160" cy="1143000"/>
          </a:xfrm>
          <a:custGeom>
            <a:avLst/>
            <a:gdLst/>
            <a:ahLst/>
            <a:rect l="l" t="t" r="r" b="b"/>
            <a:pathLst>
              <a:path w="1423" h="145">
                <a:moveTo>
                  <a:pt x="0" y="0"/>
                </a:moveTo>
                <a:lnTo>
                  <a:pt x="1423" y="0"/>
                </a:lnTo>
                <a:lnTo>
                  <a:pt x="1423" y="145"/>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96" name="PlaceHolder 1"/>
          <p:cNvSpPr>
            <a:spLocks noGrp="1"/>
          </p:cNvSpPr>
          <p:nvPr>
            <p:ph type="title"/>
          </p:nvPr>
        </p:nvSpPr>
        <p:spPr>
          <a:xfrm>
            <a:off x="365040" y="228240"/>
            <a:ext cx="8431200" cy="1298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cf00"/>
                </a:solidFill>
                <a:latin typeface="Arial"/>
              </a:rPr>
              <a:t>Protect internal path with IPSec tunnel to server</a:t>
            </a:r>
            <a:endParaRPr b="1" lang="en-US" sz="4400" spc="-1" strike="noStrike">
              <a:solidFill>
                <a:srgbClr val="fccf00"/>
              </a:solidFill>
              <a:latin typeface="Arial"/>
            </a:endParaRPr>
          </a:p>
        </p:txBody>
      </p:sp>
      <p:grpSp>
        <p:nvGrpSpPr>
          <p:cNvPr id="3397" name=""/>
          <p:cNvGrpSpPr/>
          <p:nvPr/>
        </p:nvGrpSpPr>
        <p:grpSpPr>
          <a:xfrm>
            <a:off x="6837480" y="4586400"/>
            <a:ext cx="528120" cy="574200"/>
            <a:chOff x="6837480" y="4586400"/>
            <a:chExt cx="528120" cy="574200"/>
          </a:xfrm>
        </p:grpSpPr>
        <p:sp>
          <p:nvSpPr>
            <p:cNvPr id="3398" name=""/>
            <p:cNvSpPr/>
            <p:nvPr/>
          </p:nvSpPr>
          <p:spPr>
            <a:xfrm>
              <a:off x="7020720" y="4604400"/>
              <a:ext cx="229320" cy="556200"/>
            </a:xfrm>
            <a:custGeom>
              <a:avLst/>
              <a:gdLst/>
              <a:ahLst/>
              <a:rect l="l" t="t" r="r" b="b"/>
              <a:pathLst>
                <a:path w="189" h="458">
                  <a:moveTo>
                    <a:pt x="188" y="0"/>
                  </a:moveTo>
                  <a:lnTo>
                    <a:pt x="0" y="5"/>
                  </a:lnTo>
                  <a:lnTo>
                    <a:pt x="0" y="457"/>
                  </a:lnTo>
                  <a:lnTo>
                    <a:pt x="188" y="437"/>
                  </a:lnTo>
                  <a:lnTo>
                    <a:pt x="188"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9" name=""/>
            <p:cNvSpPr/>
            <p:nvPr/>
          </p:nvSpPr>
          <p:spPr>
            <a:xfrm>
              <a:off x="7034040" y="4897080"/>
              <a:ext cx="204120" cy="236880"/>
            </a:xfrm>
            <a:custGeom>
              <a:avLst/>
              <a:gdLst/>
              <a:ahLst/>
              <a:rect l="l" t="t" r="r" b="b"/>
              <a:pathLst>
                <a:path w="168" h="195">
                  <a:moveTo>
                    <a:pt x="0" y="11"/>
                  </a:moveTo>
                  <a:lnTo>
                    <a:pt x="167" y="0"/>
                  </a:lnTo>
                  <a:lnTo>
                    <a:pt x="167" y="177"/>
                  </a:lnTo>
                  <a:lnTo>
                    <a:pt x="0" y="194"/>
                  </a:lnTo>
                  <a:lnTo>
                    <a:pt x="0" y="11"/>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0" name=""/>
            <p:cNvSpPr/>
            <p:nvPr/>
          </p:nvSpPr>
          <p:spPr>
            <a:xfrm>
              <a:off x="7034040" y="4706640"/>
              <a:ext cx="194400" cy="159120"/>
            </a:xfrm>
            <a:custGeom>
              <a:avLst/>
              <a:gdLst/>
              <a:ahLst/>
              <a:rect l="l" t="t" r="r" b="b"/>
              <a:pathLst>
                <a:path w="160" h="131">
                  <a:moveTo>
                    <a:pt x="0" y="6"/>
                  </a:moveTo>
                  <a:lnTo>
                    <a:pt x="159" y="0"/>
                  </a:lnTo>
                  <a:lnTo>
                    <a:pt x="159" y="121"/>
                  </a:lnTo>
                  <a:lnTo>
                    <a:pt x="0" y="130"/>
                  </a:lnTo>
                  <a:lnTo>
                    <a:pt x="0" y="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1" name=""/>
            <p:cNvSpPr/>
            <p:nvPr/>
          </p:nvSpPr>
          <p:spPr>
            <a:xfrm>
              <a:off x="6837480" y="4587480"/>
              <a:ext cx="412920" cy="22680"/>
            </a:xfrm>
            <a:custGeom>
              <a:avLst/>
              <a:gdLst/>
              <a:ahLst/>
              <a:rect l="l" t="t" r="r" b="b"/>
              <a:pathLst>
                <a:path w="340" h="19">
                  <a:moveTo>
                    <a:pt x="0" y="1"/>
                  </a:moveTo>
                  <a:lnTo>
                    <a:pt x="151" y="18"/>
                  </a:lnTo>
                  <a:lnTo>
                    <a:pt x="339" y="14"/>
                  </a:lnTo>
                  <a:lnTo>
                    <a:pt x="181" y="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402" name=""/>
            <p:cNvSpPr/>
            <p:nvPr/>
          </p:nvSpPr>
          <p:spPr>
            <a:xfrm>
              <a:off x="6837480" y="4587480"/>
              <a:ext cx="184320" cy="573120"/>
            </a:xfrm>
            <a:custGeom>
              <a:avLst/>
              <a:gdLst/>
              <a:ahLst/>
              <a:rect l="l" t="t" r="r" b="b"/>
              <a:pathLst>
                <a:path w="152" h="472">
                  <a:moveTo>
                    <a:pt x="151" y="471"/>
                  </a:moveTo>
                  <a:lnTo>
                    <a:pt x="0" y="358"/>
                  </a:lnTo>
                  <a:lnTo>
                    <a:pt x="0" y="0"/>
                  </a:lnTo>
                  <a:lnTo>
                    <a:pt x="151" y="18"/>
                  </a:lnTo>
                  <a:lnTo>
                    <a:pt x="151" y="47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3" name=""/>
            <p:cNvSpPr/>
            <p:nvPr/>
          </p:nvSpPr>
          <p:spPr>
            <a:xfrm>
              <a:off x="7000200" y="4606920"/>
              <a:ext cx="21600" cy="553680"/>
            </a:xfrm>
            <a:custGeom>
              <a:avLst/>
              <a:gdLst/>
              <a:ahLst/>
              <a:rect l="l" t="t" r="r" b="b"/>
              <a:pathLst>
                <a:path w="18" h="456">
                  <a:moveTo>
                    <a:pt x="17" y="2"/>
                  </a:moveTo>
                  <a:lnTo>
                    <a:pt x="0" y="0"/>
                  </a:lnTo>
                  <a:lnTo>
                    <a:pt x="0" y="443"/>
                  </a:lnTo>
                  <a:lnTo>
                    <a:pt x="17" y="455"/>
                  </a:lnTo>
                  <a:lnTo>
                    <a:pt x="17" y="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4" name=""/>
            <p:cNvSpPr/>
            <p:nvPr/>
          </p:nvSpPr>
          <p:spPr>
            <a:xfrm>
              <a:off x="7034040" y="4705200"/>
              <a:ext cx="204120" cy="166320"/>
            </a:xfrm>
            <a:custGeom>
              <a:avLst/>
              <a:gdLst/>
              <a:ahLst/>
              <a:rect l="l" t="t" r="r" b="b"/>
              <a:pathLst>
                <a:path w="168" h="137">
                  <a:moveTo>
                    <a:pt x="167" y="0"/>
                  </a:moveTo>
                  <a:lnTo>
                    <a:pt x="167" y="125"/>
                  </a:lnTo>
                  <a:lnTo>
                    <a:pt x="0" y="136"/>
                  </a:lnTo>
                  <a:lnTo>
                    <a:pt x="0" y="130"/>
                  </a:lnTo>
                  <a:lnTo>
                    <a:pt x="159" y="122"/>
                  </a:lnTo>
                  <a:lnTo>
                    <a:pt x="159"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5" name=""/>
            <p:cNvSpPr/>
            <p:nvPr/>
          </p:nvSpPr>
          <p:spPr>
            <a:xfrm>
              <a:off x="7034040" y="4674960"/>
              <a:ext cx="204120" cy="32760"/>
            </a:xfrm>
            <a:custGeom>
              <a:avLst/>
              <a:gdLst/>
              <a:ahLst/>
              <a:rect l="l" t="t" r="r" b="b"/>
              <a:pathLst>
                <a:path w="168" h="27">
                  <a:moveTo>
                    <a:pt x="0" y="15"/>
                  </a:moveTo>
                  <a:lnTo>
                    <a:pt x="0" y="19"/>
                  </a:lnTo>
                  <a:lnTo>
                    <a:pt x="39" y="18"/>
                  </a:lnTo>
                  <a:lnTo>
                    <a:pt x="39" y="26"/>
                  </a:lnTo>
                  <a:lnTo>
                    <a:pt x="128" y="23"/>
                  </a:lnTo>
                  <a:lnTo>
                    <a:pt x="128" y="16"/>
                  </a:lnTo>
                  <a:lnTo>
                    <a:pt x="167" y="14"/>
                  </a:lnTo>
                  <a:lnTo>
                    <a:pt x="167" y="8"/>
                  </a:lnTo>
                  <a:lnTo>
                    <a:pt x="128" y="10"/>
                  </a:lnTo>
                  <a:lnTo>
                    <a:pt x="128" y="0"/>
                  </a:lnTo>
                  <a:lnTo>
                    <a:pt x="111" y="1"/>
                  </a:lnTo>
                  <a:lnTo>
                    <a:pt x="32" y="13"/>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406" name=""/>
            <p:cNvSpPr/>
            <p:nvPr/>
          </p:nvSpPr>
          <p:spPr>
            <a:xfrm>
              <a:off x="7034040" y="4624920"/>
              <a:ext cx="204120" cy="28080"/>
            </a:xfrm>
            <a:custGeom>
              <a:avLst/>
              <a:gdLst/>
              <a:ahLst/>
              <a:rect l="l" t="t" r="r" b="b"/>
              <a:pathLst>
                <a:path w="168" h="23">
                  <a:moveTo>
                    <a:pt x="167" y="0"/>
                  </a:moveTo>
                  <a:lnTo>
                    <a:pt x="167" y="17"/>
                  </a:lnTo>
                  <a:lnTo>
                    <a:pt x="0" y="22"/>
                  </a:lnTo>
                  <a:lnTo>
                    <a:pt x="0" y="19"/>
                  </a:lnTo>
                  <a:lnTo>
                    <a:pt x="158" y="1"/>
                  </a:lnTo>
                  <a:lnTo>
                    <a:pt x="167" y="0"/>
                  </a:lnTo>
                </a:path>
              </a:pathLst>
            </a:custGeom>
            <a:solidFill>
              <a:srgbClr val="ffffff"/>
            </a:solidFill>
            <a:ln cap="rnd" w="1260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407" name=""/>
            <p:cNvSpPr/>
            <p:nvPr/>
          </p:nvSpPr>
          <p:spPr>
            <a:xfrm>
              <a:off x="6837480" y="4586400"/>
              <a:ext cx="412920" cy="24120"/>
            </a:xfrm>
            <a:custGeom>
              <a:avLst/>
              <a:gdLst/>
              <a:ahLst/>
              <a:rect l="l" t="t" r="r" b="b"/>
              <a:pathLst>
                <a:path w="340" h="20">
                  <a:moveTo>
                    <a:pt x="0" y="2"/>
                  </a:moveTo>
                  <a:lnTo>
                    <a:pt x="151" y="19"/>
                  </a:lnTo>
                  <a:lnTo>
                    <a:pt x="339" y="14"/>
                  </a:lnTo>
                  <a:lnTo>
                    <a:pt x="181" y="0"/>
                  </a:lnTo>
                  <a:lnTo>
                    <a:pt x="0" y="2"/>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408" name=""/>
            <p:cNvSpPr/>
            <p:nvPr/>
          </p:nvSpPr>
          <p:spPr>
            <a:xfrm>
              <a:off x="7019280" y="4604400"/>
              <a:ext cx="230760" cy="556200"/>
            </a:xfrm>
            <a:custGeom>
              <a:avLst/>
              <a:gdLst/>
              <a:ahLst/>
              <a:rect l="l" t="t" r="r" b="b"/>
              <a:pathLst>
                <a:path w="190" h="458">
                  <a:moveTo>
                    <a:pt x="0" y="5"/>
                  </a:moveTo>
                  <a:lnTo>
                    <a:pt x="0" y="457"/>
                  </a:lnTo>
                  <a:lnTo>
                    <a:pt x="189" y="437"/>
                  </a:lnTo>
                  <a:lnTo>
                    <a:pt x="189" y="0"/>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9" name=""/>
            <p:cNvSpPr/>
            <p:nvPr/>
          </p:nvSpPr>
          <p:spPr>
            <a:xfrm>
              <a:off x="6837480" y="4587480"/>
              <a:ext cx="183240" cy="573120"/>
            </a:xfrm>
            <a:custGeom>
              <a:avLst/>
              <a:gdLst/>
              <a:ahLst/>
              <a:rect l="l" t="t" r="r" b="b"/>
              <a:pathLst>
                <a:path w="151" h="472">
                  <a:moveTo>
                    <a:pt x="0" y="0"/>
                  </a:moveTo>
                  <a:lnTo>
                    <a:pt x="0" y="358"/>
                  </a:lnTo>
                  <a:lnTo>
                    <a:pt x="150" y="471"/>
                  </a:lnTo>
                  <a:lnTo>
                    <a:pt x="150"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0" name=""/>
            <p:cNvSpPr/>
            <p:nvPr/>
          </p:nvSpPr>
          <p:spPr>
            <a:xfrm>
              <a:off x="7000200" y="4608360"/>
              <a:ext cx="0" cy="53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1" name=""/>
            <p:cNvSpPr/>
            <p:nvPr/>
          </p:nvSpPr>
          <p:spPr>
            <a:xfrm>
              <a:off x="7000200" y="4615560"/>
              <a:ext cx="250200" cy="20520"/>
            </a:xfrm>
            <a:custGeom>
              <a:avLst/>
              <a:gdLst/>
              <a:ahLst/>
              <a:rect l="l" t="t" r="r" b="b"/>
              <a:pathLst>
                <a:path w="206" h="17">
                  <a:moveTo>
                    <a:pt x="0" y="9"/>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12" name=""/>
            <p:cNvSpPr/>
            <p:nvPr/>
          </p:nvSpPr>
          <p:spPr>
            <a:xfrm>
              <a:off x="7000200" y="465552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13" name=""/>
            <p:cNvSpPr/>
            <p:nvPr/>
          </p:nvSpPr>
          <p:spPr>
            <a:xfrm>
              <a:off x="7034040" y="4624920"/>
              <a:ext cx="204120" cy="28080"/>
            </a:xfrm>
            <a:custGeom>
              <a:avLst/>
              <a:gdLst/>
              <a:ahLst/>
              <a:rect l="l" t="t" r="r" b="b"/>
              <a:pathLst>
                <a:path w="168" h="23">
                  <a:moveTo>
                    <a:pt x="0" y="5"/>
                  </a:moveTo>
                  <a:lnTo>
                    <a:pt x="0" y="22"/>
                  </a:lnTo>
                  <a:lnTo>
                    <a:pt x="167" y="17"/>
                  </a:lnTo>
                  <a:lnTo>
                    <a:pt x="167" y="0"/>
                  </a:lnTo>
                  <a:lnTo>
                    <a:pt x="0" y="5"/>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414" name=""/>
            <p:cNvSpPr/>
            <p:nvPr/>
          </p:nvSpPr>
          <p:spPr>
            <a:xfrm>
              <a:off x="7000200" y="466776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15" name=""/>
            <p:cNvSpPr/>
            <p:nvPr/>
          </p:nvSpPr>
          <p:spPr>
            <a:xfrm>
              <a:off x="7000200" y="4705200"/>
              <a:ext cx="250200" cy="20520"/>
            </a:xfrm>
            <a:custGeom>
              <a:avLst/>
              <a:gdLst/>
              <a:ahLst/>
              <a:rect l="l" t="t" r="r" b="b"/>
              <a:pathLst>
                <a:path w="206" h="17">
                  <a:moveTo>
                    <a:pt x="205" y="0"/>
                  </a:moveTo>
                  <a:lnTo>
                    <a:pt x="16" y="16"/>
                  </a:lnTo>
                  <a:lnTo>
                    <a:pt x="0" y="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16" name=""/>
            <p:cNvSpPr/>
            <p:nvPr/>
          </p:nvSpPr>
          <p:spPr>
            <a:xfrm>
              <a:off x="7000200" y="4857120"/>
              <a:ext cx="250200" cy="20520"/>
            </a:xfrm>
            <a:custGeom>
              <a:avLst/>
              <a:gdLst/>
              <a:ahLst/>
              <a:rect l="l" t="t" r="r" b="b"/>
              <a:pathLst>
                <a:path w="206" h="17">
                  <a:moveTo>
                    <a:pt x="205" y="0"/>
                  </a:moveTo>
                  <a:lnTo>
                    <a:pt x="16" y="16"/>
                  </a:lnTo>
                  <a:lnTo>
                    <a:pt x="0" y="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17" name=""/>
            <p:cNvSpPr/>
            <p:nvPr/>
          </p:nvSpPr>
          <p:spPr>
            <a:xfrm>
              <a:off x="7034040" y="471384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8" name=""/>
            <p:cNvSpPr/>
            <p:nvPr/>
          </p:nvSpPr>
          <p:spPr>
            <a:xfrm>
              <a:off x="7237080" y="4706640"/>
              <a:ext cx="0" cy="15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9" name=""/>
            <p:cNvSpPr/>
            <p:nvPr/>
          </p:nvSpPr>
          <p:spPr>
            <a:xfrm>
              <a:off x="7034040" y="4706640"/>
              <a:ext cx="194400" cy="157680"/>
            </a:xfrm>
            <a:custGeom>
              <a:avLst/>
              <a:gdLst/>
              <a:ahLst/>
              <a:rect l="l" t="t" r="r" b="b"/>
              <a:pathLst>
                <a:path w="160" h="130">
                  <a:moveTo>
                    <a:pt x="159" y="0"/>
                  </a:moveTo>
                  <a:lnTo>
                    <a:pt x="159" y="121"/>
                  </a:lnTo>
                  <a:lnTo>
                    <a:pt x="0"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0" name=""/>
            <p:cNvSpPr/>
            <p:nvPr/>
          </p:nvSpPr>
          <p:spPr>
            <a:xfrm>
              <a:off x="7227360" y="4853520"/>
              <a:ext cx="972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Times New Roman"/>
              </a:endParaRPr>
            </a:p>
          </p:txBody>
        </p:sp>
        <p:sp>
          <p:nvSpPr>
            <p:cNvPr id="3421" name=""/>
            <p:cNvSpPr/>
            <p:nvPr/>
          </p:nvSpPr>
          <p:spPr>
            <a:xfrm flipH="1">
              <a:off x="7034040" y="4756320"/>
              <a:ext cx="192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422" name=""/>
            <p:cNvSpPr/>
            <p:nvPr/>
          </p:nvSpPr>
          <p:spPr>
            <a:xfrm flipH="1">
              <a:off x="7034040" y="4807440"/>
              <a:ext cx="1929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3423" name=""/>
            <p:cNvSpPr/>
            <p:nvPr/>
          </p:nvSpPr>
          <p:spPr>
            <a:xfrm>
              <a:off x="7000200" y="4897080"/>
              <a:ext cx="250200" cy="20520"/>
            </a:xfrm>
            <a:custGeom>
              <a:avLst/>
              <a:gdLst/>
              <a:ahLst/>
              <a:rect l="l" t="t" r="r" b="b"/>
              <a:pathLst>
                <a:path w="206" h="17">
                  <a:moveTo>
                    <a:pt x="0" y="3"/>
                  </a:moveTo>
                  <a:lnTo>
                    <a:pt x="16" y="16"/>
                  </a:lnTo>
                  <a:lnTo>
                    <a:pt x="205"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24" name=""/>
            <p:cNvSpPr/>
            <p:nvPr/>
          </p:nvSpPr>
          <p:spPr>
            <a:xfrm>
              <a:off x="7000200" y="5110920"/>
              <a:ext cx="250200" cy="25560"/>
            </a:xfrm>
            <a:custGeom>
              <a:avLst/>
              <a:gdLst/>
              <a:ahLst/>
              <a:rect l="l" t="t" r="r" b="b"/>
              <a:pathLst>
                <a:path w="206" h="21">
                  <a:moveTo>
                    <a:pt x="0" y="7"/>
                  </a:moveTo>
                  <a:lnTo>
                    <a:pt x="16" y="20"/>
                  </a:lnTo>
                  <a:lnTo>
                    <a:pt x="20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25" name=""/>
            <p:cNvSpPr/>
            <p:nvPr/>
          </p:nvSpPr>
          <p:spPr>
            <a:xfrm>
              <a:off x="7034040" y="4909320"/>
              <a:ext cx="0" cy="22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6" name=""/>
            <p:cNvSpPr/>
            <p:nvPr/>
          </p:nvSpPr>
          <p:spPr>
            <a:xfrm>
              <a:off x="7237080" y="489708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7" name=""/>
            <p:cNvSpPr/>
            <p:nvPr/>
          </p:nvSpPr>
          <p:spPr>
            <a:xfrm>
              <a:off x="7034040" y="5096520"/>
              <a:ext cx="204120" cy="25560"/>
            </a:xfrm>
            <a:custGeom>
              <a:avLst/>
              <a:gdLst/>
              <a:ahLst/>
              <a:rect l="l" t="t" r="r" b="b"/>
              <a:pathLst>
                <a:path w="168" h="21">
                  <a:moveTo>
                    <a:pt x="0" y="20"/>
                  </a:moveTo>
                  <a:lnTo>
                    <a:pt x="167" y="4"/>
                  </a:lnTo>
                  <a:lnTo>
                    <a:pt x="167" y="0"/>
                  </a:lnTo>
                  <a:lnTo>
                    <a:pt x="0" y="1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28" name=""/>
            <p:cNvSpPr/>
            <p:nvPr/>
          </p:nvSpPr>
          <p:spPr>
            <a:xfrm>
              <a:off x="7034040" y="5086800"/>
              <a:ext cx="204120" cy="25560"/>
            </a:xfrm>
            <a:custGeom>
              <a:avLst/>
              <a:gdLst/>
              <a:ahLst/>
              <a:rect l="l" t="t" r="r" b="b"/>
              <a:pathLst>
                <a:path w="168" h="21">
                  <a:moveTo>
                    <a:pt x="0" y="20"/>
                  </a:moveTo>
                  <a:lnTo>
                    <a:pt x="167" y="3"/>
                  </a:lnTo>
                  <a:lnTo>
                    <a:pt x="167" y="0"/>
                  </a:lnTo>
                  <a:lnTo>
                    <a:pt x="0" y="16"/>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29" name=""/>
            <p:cNvSpPr/>
            <p:nvPr/>
          </p:nvSpPr>
          <p:spPr>
            <a:xfrm>
              <a:off x="7034040" y="5078160"/>
              <a:ext cx="204120" cy="24120"/>
            </a:xfrm>
            <a:custGeom>
              <a:avLst/>
              <a:gdLst/>
              <a:ahLst/>
              <a:rect l="l" t="t" r="r" b="b"/>
              <a:pathLst>
                <a:path w="168" h="20">
                  <a:moveTo>
                    <a:pt x="167" y="3"/>
                  </a:moveTo>
                  <a:lnTo>
                    <a:pt x="0" y="19"/>
                  </a:lnTo>
                  <a:lnTo>
                    <a:pt x="0" y="15"/>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430" name=""/>
            <p:cNvSpPr/>
            <p:nvPr/>
          </p:nvSpPr>
          <p:spPr>
            <a:xfrm>
              <a:off x="7034040" y="5068440"/>
              <a:ext cx="204120" cy="21600"/>
            </a:xfrm>
            <a:custGeom>
              <a:avLst/>
              <a:gdLst/>
              <a:ahLst/>
              <a:rect l="l" t="t" r="r" b="b"/>
              <a:pathLst>
                <a:path w="168" h="18">
                  <a:moveTo>
                    <a:pt x="167" y="3"/>
                  </a:moveTo>
                  <a:lnTo>
                    <a:pt x="0" y="17"/>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3431" name=""/>
            <p:cNvSpPr/>
            <p:nvPr/>
          </p:nvSpPr>
          <p:spPr>
            <a:xfrm>
              <a:off x="7034040" y="5057640"/>
              <a:ext cx="204120" cy="23040"/>
            </a:xfrm>
            <a:custGeom>
              <a:avLst/>
              <a:gdLst/>
              <a:ahLst/>
              <a:rect l="l" t="t" r="r" b="b"/>
              <a:pathLst>
                <a:path w="168" h="19">
                  <a:moveTo>
                    <a:pt x="167" y="3"/>
                  </a:moveTo>
                  <a:lnTo>
                    <a:pt x="0" y="18"/>
                  </a:lnTo>
                  <a:lnTo>
                    <a:pt x="0" y="14"/>
                  </a:lnTo>
                  <a:lnTo>
                    <a:pt x="167" y="0"/>
                  </a:lnTo>
                  <a:lnTo>
                    <a:pt x="167" y="3"/>
                  </a:lnTo>
                </a:path>
              </a:pathLst>
            </a:custGeom>
            <a:solidFill>
              <a:srgbClr val="00000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3432" name=""/>
            <p:cNvSpPr/>
            <p:nvPr/>
          </p:nvSpPr>
          <p:spPr>
            <a:xfrm>
              <a:off x="7034040" y="4626360"/>
              <a:ext cx="194400" cy="25200"/>
            </a:xfrm>
            <a:custGeom>
              <a:avLst/>
              <a:gdLst/>
              <a:ahLst/>
              <a:rect l="l" t="t" r="r" b="b"/>
              <a:pathLst>
                <a:path w="160" h="21">
                  <a:moveTo>
                    <a:pt x="159" y="0"/>
                  </a:moveTo>
                  <a:lnTo>
                    <a:pt x="159" y="15"/>
                  </a:lnTo>
                  <a:lnTo>
                    <a:pt x="0" y="20"/>
                  </a:lnTo>
                  <a:lnTo>
                    <a:pt x="1" y="5"/>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33" name=""/>
            <p:cNvSpPr/>
            <p:nvPr/>
          </p:nvSpPr>
          <p:spPr>
            <a:xfrm>
              <a:off x="7227360" y="464472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3434" name=""/>
            <p:cNvSpPr/>
            <p:nvPr/>
          </p:nvSpPr>
          <p:spPr>
            <a:xfrm>
              <a:off x="7081560" y="4674960"/>
              <a:ext cx="109080" cy="32760"/>
            </a:xfrm>
            <a:custGeom>
              <a:avLst/>
              <a:gdLst/>
              <a:ahLst/>
              <a:rect l="l" t="t" r="r" b="b"/>
              <a:pathLst>
                <a:path w="90" h="27">
                  <a:moveTo>
                    <a:pt x="0" y="26"/>
                  </a:moveTo>
                  <a:lnTo>
                    <a:pt x="0" y="3"/>
                  </a:lnTo>
                  <a:lnTo>
                    <a:pt x="89" y="0"/>
                  </a:lnTo>
                  <a:lnTo>
                    <a:pt x="89" y="23"/>
                  </a:lnTo>
                  <a:lnTo>
                    <a:pt x="0" y="26"/>
                  </a:lnTo>
                </a:path>
              </a:pathLst>
            </a:custGeom>
            <a:noFill/>
            <a:ln cap="rnd" w="12600">
              <a:solidFill>
                <a:srgbClr val="515151"/>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435" name=""/>
            <p:cNvSpPr/>
            <p:nvPr/>
          </p:nvSpPr>
          <p:spPr>
            <a:xfrm>
              <a:off x="7034040" y="4674960"/>
              <a:ext cx="204120" cy="29160"/>
            </a:xfrm>
            <a:custGeom>
              <a:avLst/>
              <a:gdLst/>
              <a:ahLst/>
              <a:rect l="l" t="t" r="r" b="b"/>
              <a:pathLst>
                <a:path w="168" h="24">
                  <a:moveTo>
                    <a:pt x="113" y="8"/>
                  </a:moveTo>
                  <a:lnTo>
                    <a:pt x="167" y="6"/>
                  </a:lnTo>
                  <a:lnTo>
                    <a:pt x="167" y="14"/>
                  </a:lnTo>
                  <a:lnTo>
                    <a:pt x="159" y="13"/>
                  </a:lnTo>
                  <a:lnTo>
                    <a:pt x="113" y="14"/>
                  </a:lnTo>
                  <a:lnTo>
                    <a:pt x="113" y="20"/>
                  </a:lnTo>
                  <a:lnTo>
                    <a:pt x="39" y="23"/>
                  </a:lnTo>
                  <a:lnTo>
                    <a:pt x="39" y="18"/>
                  </a:lnTo>
                  <a:lnTo>
                    <a:pt x="32" y="17"/>
                  </a:lnTo>
                  <a:lnTo>
                    <a:pt x="0" y="18"/>
                  </a:lnTo>
                  <a:lnTo>
                    <a:pt x="0" y="12"/>
                  </a:lnTo>
                  <a:lnTo>
                    <a:pt x="39" y="10"/>
                  </a:lnTo>
                  <a:lnTo>
                    <a:pt x="39" y="3"/>
                  </a:lnTo>
                  <a:lnTo>
                    <a:pt x="128" y="0"/>
                  </a:lnTo>
                  <a:lnTo>
                    <a:pt x="113" y="8"/>
                  </a:lnTo>
                </a:path>
              </a:pathLst>
            </a:custGeom>
            <a:solidFill>
              <a:srgbClr val="0000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3436" name=""/>
            <p:cNvSpPr/>
            <p:nvPr/>
          </p:nvSpPr>
          <p:spPr>
            <a:xfrm>
              <a:off x="7034040" y="4688280"/>
              <a:ext cx="156600" cy="20520"/>
            </a:xfrm>
            <a:custGeom>
              <a:avLst/>
              <a:gdLst/>
              <a:ahLst/>
              <a:rect l="l" t="t" r="r" b="b"/>
              <a:pathLst>
                <a:path w="129" h="17">
                  <a:moveTo>
                    <a:pt x="0" y="0"/>
                  </a:moveTo>
                  <a:lnTo>
                    <a:pt x="0" y="8"/>
                  </a:lnTo>
                  <a:lnTo>
                    <a:pt x="38" y="7"/>
                  </a:lnTo>
                  <a:lnTo>
                    <a:pt x="38" y="16"/>
                  </a:lnTo>
                  <a:lnTo>
                    <a:pt x="128" y="12"/>
                  </a:lnTo>
                  <a:lnTo>
                    <a:pt x="128" y="4"/>
                  </a:lnTo>
                  <a:lnTo>
                    <a:pt x="112"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37" name=""/>
            <p:cNvSpPr/>
            <p:nvPr/>
          </p:nvSpPr>
          <p:spPr>
            <a:xfrm flipH="1">
              <a:off x="7189560" y="4690800"/>
              <a:ext cx="471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438" name=""/>
            <p:cNvSpPr/>
            <p:nvPr/>
          </p:nvSpPr>
          <p:spPr>
            <a:xfrm>
              <a:off x="7189920" y="4674960"/>
              <a:ext cx="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Times New Roman"/>
              </a:endParaRPr>
            </a:p>
          </p:txBody>
        </p:sp>
        <p:sp>
          <p:nvSpPr>
            <p:cNvPr id="3439" name=""/>
            <p:cNvSpPr/>
            <p:nvPr/>
          </p:nvSpPr>
          <p:spPr>
            <a:xfrm>
              <a:off x="7044120" y="4638600"/>
              <a:ext cx="20160" cy="20520"/>
            </a:xfrm>
            <a:custGeom>
              <a:avLst/>
              <a:gdLst/>
              <a:ahLst/>
              <a:rect l="l" t="t" r="r" b="b"/>
              <a:pathLst>
                <a:path w="17" h="17">
                  <a:moveTo>
                    <a:pt x="16" y="6"/>
                  </a:moveTo>
                  <a:lnTo>
                    <a:pt x="13" y="6"/>
                  </a:lnTo>
                  <a:lnTo>
                    <a:pt x="13" y="3"/>
                  </a:lnTo>
                  <a:lnTo>
                    <a:pt x="10" y="3"/>
                  </a:lnTo>
                  <a:lnTo>
                    <a:pt x="8" y="0"/>
                  </a:lnTo>
                  <a:lnTo>
                    <a:pt x="5" y="0"/>
                  </a:lnTo>
                  <a:lnTo>
                    <a:pt x="5" y="3"/>
                  </a:lnTo>
                  <a:lnTo>
                    <a:pt x="2" y="6"/>
                  </a:lnTo>
                  <a:lnTo>
                    <a:pt x="2" y="6"/>
                  </a:lnTo>
                  <a:lnTo>
                    <a:pt x="0" y="9"/>
                  </a:lnTo>
                  <a:lnTo>
                    <a:pt x="2" y="12"/>
                  </a:lnTo>
                  <a:lnTo>
                    <a:pt x="5" y="12"/>
                  </a:lnTo>
                  <a:lnTo>
                    <a:pt x="5" y="16"/>
                  </a:lnTo>
                  <a:lnTo>
                    <a:pt x="8" y="16"/>
                  </a:lnTo>
                  <a:lnTo>
                    <a:pt x="10" y="16"/>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40" name=""/>
            <p:cNvSpPr/>
            <p:nvPr/>
          </p:nvSpPr>
          <p:spPr>
            <a:xfrm>
              <a:off x="7071840" y="4637160"/>
              <a:ext cx="20520" cy="20520"/>
            </a:xfrm>
            <a:custGeom>
              <a:avLst/>
              <a:gdLst/>
              <a:ahLst/>
              <a:rect l="l" t="t" r="r" b="b"/>
              <a:pathLst>
                <a:path w="17" h="17">
                  <a:moveTo>
                    <a:pt x="16" y="6"/>
                  </a:moveTo>
                  <a:lnTo>
                    <a:pt x="16" y="6"/>
                  </a:lnTo>
                  <a:lnTo>
                    <a:pt x="13" y="3"/>
                  </a:lnTo>
                  <a:lnTo>
                    <a:pt x="10" y="0"/>
                  </a:lnTo>
                  <a:lnTo>
                    <a:pt x="8" y="0"/>
                  </a:lnTo>
                  <a:lnTo>
                    <a:pt x="5" y="0"/>
                  </a:lnTo>
                  <a:lnTo>
                    <a:pt x="2" y="3"/>
                  </a:lnTo>
                  <a:lnTo>
                    <a:pt x="2" y="3"/>
                  </a:lnTo>
                  <a:lnTo>
                    <a:pt x="0" y="6"/>
                  </a:lnTo>
                  <a:lnTo>
                    <a:pt x="0" y="9"/>
                  </a:lnTo>
                  <a:lnTo>
                    <a:pt x="2" y="9"/>
                  </a:lnTo>
                  <a:lnTo>
                    <a:pt x="2" y="12"/>
                  </a:lnTo>
                  <a:lnTo>
                    <a:pt x="5" y="16"/>
                  </a:lnTo>
                  <a:lnTo>
                    <a:pt x="8" y="16"/>
                  </a:lnTo>
                  <a:lnTo>
                    <a:pt x="10" y="16"/>
                  </a:lnTo>
                  <a:lnTo>
                    <a:pt x="13" y="12"/>
                  </a:lnTo>
                  <a:lnTo>
                    <a:pt x="16"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41" name=""/>
            <p:cNvSpPr/>
            <p:nvPr/>
          </p:nvSpPr>
          <p:spPr>
            <a:xfrm>
              <a:off x="7099560" y="4637160"/>
              <a:ext cx="20520" cy="20520"/>
            </a:xfrm>
            <a:custGeom>
              <a:avLst/>
              <a:gdLst/>
              <a:ahLst/>
              <a:rect l="l" t="t" r="r" b="b"/>
              <a:pathLst>
                <a:path w="17" h="17">
                  <a:moveTo>
                    <a:pt x="16" y="10"/>
                  </a:moveTo>
                  <a:lnTo>
                    <a:pt x="16" y="5"/>
                  </a:lnTo>
                  <a:lnTo>
                    <a:pt x="13" y="0"/>
                  </a:lnTo>
                  <a:lnTo>
                    <a:pt x="10" y="0"/>
                  </a:lnTo>
                  <a:lnTo>
                    <a:pt x="8" y="0"/>
                  </a:lnTo>
                  <a:lnTo>
                    <a:pt x="8" y="0"/>
                  </a:lnTo>
                  <a:lnTo>
                    <a:pt x="5" y="0"/>
                  </a:lnTo>
                  <a:lnTo>
                    <a:pt x="2" y="5"/>
                  </a:lnTo>
                  <a:lnTo>
                    <a:pt x="2" y="5"/>
                  </a:lnTo>
                  <a:lnTo>
                    <a:pt x="0" y="10"/>
                  </a:lnTo>
                  <a:lnTo>
                    <a:pt x="2" y="10"/>
                  </a:lnTo>
                  <a:lnTo>
                    <a:pt x="5" y="16"/>
                  </a:lnTo>
                  <a:lnTo>
                    <a:pt x="8" y="16"/>
                  </a:lnTo>
                  <a:lnTo>
                    <a:pt x="8" y="16"/>
                  </a:lnTo>
                  <a:lnTo>
                    <a:pt x="10" y="16"/>
                  </a:lnTo>
                  <a:lnTo>
                    <a:pt x="13" y="16"/>
                  </a:lnTo>
                  <a:lnTo>
                    <a:pt x="16" y="10"/>
                  </a:lnTo>
                  <a:lnTo>
                    <a:pt x="16" y="10"/>
                  </a:lnTo>
                  <a:lnTo>
                    <a:pt x="16" y="10"/>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42" name=""/>
            <p:cNvSpPr/>
            <p:nvPr/>
          </p:nvSpPr>
          <p:spPr>
            <a:xfrm>
              <a:off x="7128720" y="4637160"/>
              <a:ext cx="20520" cy="20520"/>
            </a:xfrm>
            <a:custGeom>
              <a:avLst/>
              <a:gdLst/>
              <a:ahLst/>
              <a:rect l="l" t="t" r="r" b="b"/>
              <a:pathLst>
                <a:path w="17" h="17">
                  <a:moveTo>
                    <a:pt x="16" y="5"/>
                  </a:moveTo>
                  <a:lnTo>
                    <a:pt x="16" y="5"/>
                  </a:lnTo>
                  <a:lnTo>
                    <a:pt x="13" y="0"/>
                  </a:lnTo>
                  <a:lnTo>
                    <a:pt x="10" y="0"/>
                  </a:lnTo>
                  <a:lnTo>
                    <a:pt x="8" y="0"/>
                  </a:lnTo>
                  <a:lnTo>
                    <a:pt x="8" y="0"/>
                  </a:lnTo>
                  <a:lnTo>
                    <a:pt x="2" y="0"/>
                  </a:lnTo>
                  <a:lnTo>
                    <a:pt x="0" y="5"/>
                  </a:lnTo>
                  <a:lnTo>
                    <a:pt x="0" y="5"/>
                  </a:lnTo>
                  <a:lnTo>
                    <a:pt x="0" y="10"/>
                  </a:lnTo>
                  <a:lnTo>
                    <a:pt x="2" y="10"/>
                  </a:lnTo>
                  <a:lnTo>
                    <a:pt x="2" y="16"/>
                  </a:lnTo>
                  <a:lnTo>
                    <a:pt x="5" y="16"/>
                  </a:lnTo>
                  <a:lnTo>
                    <a:pt x="8" y="16"/>
                  </a:lnTo>
                  <a:lnTo>
                    <a:pt x="10" y="16"/>
                  </a:lnTo>
                  <a:lnTo>
                    <a:pt x="13" y="16"/>
                  </a:lnTo>
                  <a:lnTo>
                    <a:pt x="16" y="10"/>
                  </a:lnTo>
                  <a:lnTo>
                    <a:pt x="16" y="10"/>
                  </a:lnTo>
                  <a:lnTo>
                    <a:pt x="16" y="5"/>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43" name=""/>
            <p:cNvSpPr/>
            <p:nvPr/>
          </p:nvSpPr>
          <p:spPr>
            <a:xfrm>
              <a:off x="7158240" y="4636080"/>
              <a:ext cx="20520" cy="20520"/>
            </a:xfrm>
            <a:custGeom>
              <a:avLst/>
              <a:gdLst/>
              <a:ahLst/>
              <a:rect l="l" t="t" r="r" b="b"/>
              <a:pathLst>
                <a:path w="17" h="17">
                  <a:moveTo>
                    <a:pt x="16" y="8"/>
                  </a:moveTo>
                  <a:lnTo>
                    <a:pt x="12" y="4"/>
                  </a:lnTo>
                  <a:lnTo>
                    <a:pt x="12" y="4"/>
                  </a:lnTo>
                  <a:lnTo>
                    <a:pt x="12" y="0"/>
                  </a:lnTo>
                  <a:lnTo>
                    <a:pt x="6" y="0"/>
                  </a:lnTo>
                  <a:lnTo>
                    <a:pt x="3" y="0"/>
                  </a:lnTo>
                  <a:lnTo>
                    <a:pt x="3" y="0"/>
                  </a:lnTo>
                  <a:lnTo>
                    <a:pt x="0" y="4"/>
                  </a:lnTo>
                  <a:lnTo>
                    <a:pt x="0" y="8"/>
                  </a:lnTo>
                  <a:lnTo>
                    <a:pt x="0" y="8"/>
                  </a:lnTo>
                  <a:lnTo>
                    <a:pt x="0" y="12"/>
                  </a:lnTo>
                  <a:lnTo>
                    <a:pt x="3" y="16"/>
                  </a:lnTo>
                  <a:lnTo>
                    <a:pt x="3" y="16"/>
                  </a:lnTo>
                  <a:lnTo>
                    <a:pt x="6" y="16"/>
                  </a:lnTo>
                  <a:lnTo>
                    <a:pt x="9" y="16"/>
                  </a:lnTo>
                  <a:lnTo>
                    <a:pt x="12" y="16"/>
                  </a:lnTo>
                  <a:lnTo>
                    <a:pt x="12" y="12"/>
                  </a:lnTo>
                  <a:lnTo>
                    <a:pt x="16" y="8"/>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44" name=""/>
            <p:cNvSpPr/>
            <p:nvPr/>
          </p:nvSpPr>
          <p:spPr>
            <a:xfrm>
              <a:off x="7184880" y="4633560"/>
              <a:ext cx="20520" cy="20520"/>
            </a:xfrm>
            <a:custGeom>
              <a:avLst/>
              <a:gdLst/>
              <a:ahLst/>
              <a:rect l="l" t="t" r="r" b="b"/>
              <a:pathLst>
                <a:path w="17" h="17">
                  <a:moveTo>
                    <a:pt x="16" y="6"/>
                  </a:moveTo>
                  <a:lnTo>
                    <a:pt x="13" y="6"/>
                  </a:lnTo>
                  <a:lnTo>
                    <a:pt x="13" y="3"/>
                  </a:lnTo>
                  <a:lnTo>
                    <a:pt x="10" y="3"/>
                  </a:lnTo>
                  <a:lnTo>
                    <a:pt x="8" y="0"/>
                  </a:lnTo>
                  <a:lnTo>
                    <a:pt x="8" y="0"/>
                  </a:lnTo>
                  <a:lnTo>
                    <a:pt x="5" y="3"/>
                  </a:lnTo>
                  <a:lnTo>
                    <a:pt x="0" y="3"/>
                  </a:lnTo>
                  <a:lnTo>
                    <a:pt x="0" y="6"/>
                  </a:lnTo>
                  <a:lnTo>
                    <a:pt x="0" y="9"/>
                  </a:lnTo>
                  <a:lnTo>
                    <a:pt x="0" y="9"/>
                  </a:lnTo>
                  <a:lnTo>
                    <a:pt x="5" y="12"/>
                  </a:lnTo>
                  <a:lnTo>
                    <a:pt x="8" y="16"/>
                  </a:lnTo>
                  <a:lnTo>
                    <a:pt x="8" y="16"/>
                  </a:lnTo>
                  <a:lnTo>
                    <a:pt x="10" y="12"/>
                  </a:lnTo>
                  <a:lnTo>
                    <a:pt x="13" y="12"/>
                  </a:lnTo>
                  <a:lnTo>
                    <a:pt x="13" y="9"/>
                  </a:lnTo>
                  <a:lnTo>
                    <a:pt x="16" y="9"/>
                  </a:lnTo>
                  <a:lnTo>
                    <a:pt x="16" y="6"/>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45" name=""/>
            <p:cNvSpPr/>
            <p:nvPr/>
          </p:nvSpPr>
          <p:spPr>
            <a:xfrm>
              <a:off x="7214040" y="4633560"/>
              <a:ext cx="20520" cy="20520"/>
            </a:xfrm>
            <a:custGeom>
              <a:avLst/>
              <a:gdLst/>
              <a:ahLst/>
              <a:rect l="l" t="t" r="r" b="b"/>
              <a:pathLst>
                <a:path w="17" h="17">
                  <a:moveTo>
                    <a:pt x="16" y="8"/>
                  </a:moveTo>
                  <a:lnTo>
                    <a:pt x="16" y="8"/>
                  </a:lnTo>
                  <a:lnTo>
                    <a:pt x="16" y="4"/>
                  </a:lnTo>
                  <a:lnTo>
                    <a:pt x="12" y="4"/>
                  </a:lnTo>
                  <a:lnTo>
                    <a:pt x="9" y="0"/>
                  </a:lnTo>
                  <a:lnTo>
                    <a:pt x="6" y="0"/>
                  </a:lnTo>
                  <a:lnTo>
                    <a:pt x="3" y="4"/>
                  </a:lnTo>
                  <a:lnTo>
                    <a:pt x="0" y="4"/>
                  </a:lnTo>
                  <a:lnTo>
                    <a:pt x="0" y="8"/>
                  </a:lnTo>
                  <a:lnTo>
                    <a:pt x="0" y="12"/>
                  </a:lnTo>
                  <a:lnTo>
                    <a:pt x="0" y="12"/>
                  </a:lnTo>
                  <a:lnTo>
                    <a:pt x="3" y="16"/>
                  </a:lnTo>
                  <a:lnTo>
                    <a:pt x="6" y="16"/>
                  </a:lnTo>
                  <a:lnTo>
                    <a:pt x="9" y="16"/>
                  </a:lnTo>
                  <a:lnTo>
                    <a:pt x="12" y="16"/>
                  </a:lnTo>
                  <a:lnTo>
                    <a:pt x="16" y="16"/>
                  </a:lnTo>
                  <a:lnTo>
                    <a:pt x="16" y="12"/>
                  </a:lnTo>
                  <a:lnTo>
                    <a:pt x="16" y="8"/>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46" name=""/>
            <p:cNvSpPr/>
            <p:nvPr/>
          </p:nvSpPr>
          <p:spPr>
            <a:xfrm>
              <a:off x="7217640" y="4706640"/>
              <a:ext cx="20520" cy="147960"/>
            </a:xfrm>
            <a:custGeom>
              <a:avLst/>
              <a:gdLst/>
              <a:ahLst/>
              <a:rect l="l" t="t" r="r" b="b"/>
              <a:pathLst>
                <a:path w="17" h="122">
                  <a:moveTo>
                    <a:pt x="0" y="0"/>
                  </a:moveTo>
                  <a:lnTo>
                    <a:pt x="0" y="42"/>
                  </a:lnTo>
                  <a:lnTo>
                    <a:pt x="12" y="42"/>
                  </a:lnTo>
                  <a:lnTo>
                    <a:pt x="0" y="47"/>
                  </a:lnTo>
                  <a:lnTo>
                    <a:pt x="0" y="84"/>
                  </a:lnTo>
                  <a:lnTo>
                    <a:pt x="12" y="84"/>
                  </a:lnTo>
                  <a:lnTo>
                    <a:pt x="0" y="89"/>
                  </a:lnTo>
                  <a:lnTo>
                    <a:pt x="0" y="121"/>
                  </a:lnTo>
                  <a:lnTo>
                    <a:pt x="16" y="121"/>
                  </a:lnTo>
                  <a:lnTo>
                    <a:pt x="1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7" name=""/>
            <p:cNvSpPr/>
            <p:nvPr/>
          </p:nvSpPr>
          <p:spPr>
            <a:xfrm>
              <a:off x="7249320" y="5081760"/>
              <a:ext cx="116280" cy="54720"/>
            </a:xfrm>
            <a:custGeom>
              <a:avLst/>
              <a:gdLst/>
              <a:ahLst/>
              <a:rect l="l" t="t" r="r" b="b"/>
              <a:pathLst>
                <a:path w="96" h="45">
                  <a:moveTo>
                    <a:pt x="0" y="44"/>
                  </a:moveTo>
                  <a:lnTo>
                    <a:pt x="95" y="35"/>
                  </a:lnTo>
                  <a:lnTo>
                    <a:pt x="0" y="0"/>
                  </a:lnTo>
                  <a:lnTo>
                    <a:pt x="0" y="44"/>
                  </a:lnTo>
                </a:path>
              </a:pathLst>
            </a:custGeom>
            <a:solidFill>
              <a:srgbClr val="00000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grpSp>
      <p:sp>
        <p:nvSpPr>
          <p:cNvPr id="3448" name=""/>
          <p:cNvSpPr/>
          <p:nvPr/>
        </p:nvSpPr>
        <p:spPr>
          <a:xfrm>
            <a:off x="2746440" y="3366720"/>
            <a:ext cx="245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IPSec enabled router, as gateway</a:t>
            </a:r>
            <a:endParaRPr b="0" lang="en-US" sz="1800" spc="-1" strike="noStrike">
              <a:solidFill>
                <a:srgbClr val="ffffff"/>
              </a:solidFill>
              <a:latin typeface="Times New Roman"/>
            </a:endParaRPr>
          </a:p>
        </p:txBody>
      </p:sp>
      <p:grpSp>
        <p:nvGrpSpPr>
          <p:cNvPr id="3449" name=""/>
          <p:cNvGrpSpPr/>
          <p:nvPr/>
        </p:nvGrpSpPr>
        <p:grpSpPr>
          <a:xfrm>
            <a:off x="4981680" y="4205160"/>
            <a:ext cx="729720" cy="292320"/>
            <a:chOff x="4981680" y="4205160"/>
            <a:chExt cx="729720" cy="292320"/>
          </a:xfrm>
        </p:grpSpPr>
        <p:grpSp>
          <p:nvGrpSpPr>
            <p:cNvPr id="3450" name=""/>
            <p:cNvGrpSpPr/>
            <p:nvPr/>
          </p:nvGrpSpPr>
          <p:grpSpPr>
            <a:xfrm>
              <a:off x="4981680" y="4205160"/>
              <a:ext cx="729720" cy="291960"/>
              <a:chOff x="4981680" y="4205160"/>
              <a:chExt cx="729720" cy="291960"/>
            </a:xfrm>
          </p:grpSpPr>
          <p:sp>
            <p:nvSpPr>
              <p:cNvPr id="3451" name=""/>
              <p:cNvSpPr/>
              <p:nvPr/>
            </p:nvSpPr>
            <p:spPr>
              <a:xfrm>
                <a:off x="5196600" y="4224600"/>
                <a:ext cx="491760" cy="5040"/>
              </a:xfrm>
              <a:custGeom>
                <a:avLst/>
                <a:gdLst/>
                <a:ahLst/>
                <a:rect l="l" t="t" r="r" b="b"/>
                <a:pathLst>
                  <a:path w="1294" h="48">
                    <a:moveTo>
                      <a:pt x="0" y="0"/>
                    </a:moveTo>
                    <a:lnTo>
                      <a:pt x="77" y="48"/>
                    </a:lnTo>
                    <a:lnTo>
                      <a:pt x="1294" y="48"/>
                    </a:lnTo>
                    <a:lnTo>
                      <a:pt x="1255" y="0"/>
                    </a:lnTo>
                    <a:lnTo>
                      <a:pt x="0" y="0"/>
                    </a:lnTo>
                    <a:close/>
                  </a:path>
                </a:pathLst>
              </a:custGeom>
              <a:solidFill>
                <a:srgbClr val="e0e0e0"/>
              </a:solidFill>
              <a:ln w="14400">
                <a:solidFill>
                  <a:srgbClr val="80808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452" name=""/>
              <p:cNvSpPr/>
              <p:nvPr/>
            </p:nvSpPr>
            <p:spPr>
              <a:xfrm>
                <a:off x="5195160" y="4223520"/>
                <a:ext cx="124560" cy="273600"/>
              </a:xfrm>
              <a:custGeom>
                <a:avLst/>
                <a:gdLst/>
                <a:ahLst/>
                <a:rect l="l" t="t" r="r" b="b"/>
                <a:pathLst>
                  <a:path w="327" h="2469">
                    <a:moveTo>
                      <a:pt x="0" y="2385"/>
                    </a:moveTo>
                    <a:lnTo>
                      <a:pt x="67" y="2469"/>
                    </a:lnTo>
                    <a:lnTo>
                      <a:pt x="327" y="820"/>
                    </a:lnTo>
                    <a:lnTo>
                      <a:pt x="83" y="50"/>
                    </a:lnTo>
                    <a:lnTo>
                      <a:pt x="2" y="0"/>
                    </a:lnTo>
                    <a:lnTo>
                      <a:pt x="0" y="902"/>
                    </a:lnTo>
                    <a:lnTo>
                      <a:pt x="0" y="2385"/>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3" name=""/>
              <p:cNvSpPr/>
              <p:nvPr/>
            </p:nvSpPr>
            <p:spPr>
              <a:xfrm>
                <a:off x="4981680" y="4205160"/>
                <a:ext cx="216000" cy="282600"/>
              </a:xfrm>
              <a:custGeom>
                <a:avLst/>
                <a:gdLst/>
                <a:ahLst/>
                <a:rect l="l" t="t" r="r" b="b"/>
                <a:pathLst>
                  <a:path w="569" h="2551">
                    <a:moveTo>
                      <a:pt x="0" y="0"/>
                    </a:moveTo>
                    <a:lnTo>
                      <a:pt x="569" y="167"/>
                    </a:lnTo>
                    <a:lnTo>
                      <a:pt x="569" y="2551"/>
                    </a:lnTo>
                    <a:lnTo>
                      <a:pt x="0" y="1943"/>
                    </a:lnTo>
                    <a:lnTo>
                      <a:pt x="0" y="0"/>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4" name=""/>
              <p:cNvSpPr/>
              <p:nvPr/>
            </p:nvSpPr>
            <p:spPr>
              <a:xfrm>
                <a:off x="4981680" y="4205160"/>
                <a:ext cx="693360" cy="19440"/>
              </a:xfrm>
              <a:custGeom>
                <a:avLst/>
                <a:gdLst/>
                <a:ahLst/>
                <a:rect l="l" t="t" r="r" b="b"/>
                <a:pathLst>
                  <a:path w="1824" h="175">
                    <a:moveTo>
                      <a:pt x="570" y="175"/>
                    </a:moveTo>
                    <a:lnTo>
                      <a:pt x="1824" y="175"/>
                    </a:lnTo>
                    <a:lnTo>
                      <a:pt x="945" y="0"/>
                    </a:lnTo>
                    <a:lnTo>
                      <a:pt x="0" y="0"/>
                    </a:lnTo>
                    <a:lnTo>
                      <a:pt x="570" y="175"/>
                    </a:lnTo>
                    <a:close/>
                  </a:path>
                </a:pathLst>
              </a:custGeom>
              <a:solidFill>
                <a:srgbClr val="e0e0e0"/>
              </a:solidFill>
              <a:ln w="14400">
                <a:solidFill>
                  <a:srgbClr val="808080"/>
                </a:solidFill>
                <a:round/>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455" name=""/>
              <p:cNvSpPr/>
              <p:nvPr/>
            </p:nvSpPr>
            <p:spPr>
              <a:xfrm>
                <a:off x="5224320" y="4326840"/>
                <a:ext cx="447840" cy="16884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6" name=""/>
              <p:cNvSpPr/>
              <p:nvPr/>
            </p:nvSpPr>
            <p:spPr>
              <a:xfrm>
                <a:off x="5225760" y="4228920"/>
                <a:ext cx="484200" cy="85680"/>
              </a:xfrm>
              <a:custGeom>
                <a:avLst/>
                <a:gdLst/>
                <a:ahLst/>
                <a:rect l="l" t="t" r="r" b="b"/>
                <a:pathLst>
                  <a:path w="1273" h="776">
                    <a:moveTo>
                      <a:pt x="0" y="0"/>
                    </a:moveTo>
                    <a:lnTo>
                      <a:pt x="1215" y="0"/>
                    </a:lnTo>
                    <a:lnTo>
                      <a:pt x="1273" y="776"/>
                    </a:lnTo>
                    <a:lnTo>
                      <a:pt x="52" y="776"/>
                    </a:lnTo>
                    <a:lnTo>
                      <a:pt x="0" y="0"/>
                    </a:lnTo>
                    <a:close/>
                  </a:path>
                </a:pathLst>
              </a:custGeom>
              <a:solidFill>
                <a:srgbClr val="c0c0c0"/>
              </a:solidFill>
              <a:ln w="144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57" name=""/>
              <p:cNvSpPr/>
              <p:nvPr/>
            </p:nvSpPr>
            <p:spPr>
              <a:xfrm>
                <a:off x="5221800" y="4314960"/>
                <a:ext cx="489600" cy="10080"/>
              </a:xfrm>
              <a:custGeom>
                <a:avLst/>
                <a:gdLst/>
                <a:ahLst/>
                <a:rect l="l" t="t" r="r" b="b"/>
                <a:pathLst>
                  <a:path w="1288" h="92">
                    <a:moveTo>
                      <a:pt x="0" y="92"/>
                    </a:moveTo>
                    <a:lnTo>
                      <a:pt x="1188" y="92"/>
                    </a:lnTo>
                    <a:lnTo>
                      <a:pt x="1288" y="0"/>
                    </a:lnTo>
                    <a:lnTo>
                      <a:pt x="65" y="0"/>
                    </a:lnTo>
                    <a:lnTo>
                      <a:pt x="0" y="92"/>
                    </a:lnTo>
                    <a:close/>
                  </a:path>
                </a:pathLst>
              </a:custGeom>
              <a:solidFill>
                <a:srgbClr val="a0a0a0"/>
              </a:solidFill>
              <a:ln w="14400">
                <a:solidFill>
                  <a:srgbClr val="808080"/>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nvGrpSpPr>
            <p:cNvPr id="3458" name=""/>
            <p:cNvGrpSpPr/>
            <p:nvPr/>
          </p:nvGrpSpPr>
          <p:grpSpPr>
            <a:xfrm>
              <a:off x="5227200" y="4224600"/>
              <a:ext cx="136440" cy="272880"/>
              <a:chOff x="5227200" y="4224600"/>
              <a:chExt cx="136440" cy="272880"/>
            </a:xfrm>
          </p:grpSpPr>
          <p:sp>
            <p:nvSpPr>
              <p:cNvPr id="3459" name=""/>
              <p:cNvSpPr/>
              <p:nvPr/>
            </p:nvSpPr>
            <p:spPr>
              <a:xfrm>
                <a:off x="5227200" y="4224600"/>
                <a:ext cx="39960" cy="272520"/>
              </a:xfrm>
              <a:custGeom>
                <a:avLst/>
                <a:gdLst/>
                <a:ahLst/>
                <a:rect l="l" t="t" r="r" b="b"/>
                <a:pathLst>
                  <a:path w="107" h="2463">
                    <a:moveTo>
                      <a:pt x="0" y="0"/>
                    </a:moveTo>
                    <a:lnTo>
                      <a:pt x="55" y="41"/>
                    </a:lnTo>
                    <a:lnTo>
                      <a:pt x="107" y="827"/>
                    </a:lnTo>
                    <a:lnTo>
                      <a:pt x="53" y="916"/>
                    </a:lnTo>
                    <a:lnTo>
                      <a:pt x="50"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0" name=""/>
              <p:cNvSpPr/>
              <p:nvPr/>
            </p:nvSpPr>
            <p:spPr>
              <a:xfrm>
                <a:off x="5243040" y="4224960"/>
                <a:ext cx="37800" cy="272520"/>
              </a:xfrm>
              <a:custGeom>
                <a:avLst/>
                <a:gdLst/>
                <a:ahLst/>
                <a:rect l="l" t="t" r="r" b="b"/>
                <a:pathLst>
                  <a:path w="101" h="2462">
                    <a:moveTo>
                      <a:pt x="0" y="0"/>
                    </a:moveTo>
                    <a:lnTo>
                      <a:pt x="48" y="41"/>
                    </a:lnTo>
                    <a:lnTo>
                      <a:pt x="101" y="825"/>
                    </a:lnTo>
                    <a:lnTo>
                      <a:pt x="47" y="914"/>
                    </a:lnTo>
                    <a:lnTo>
                      <a:pt x="45" y="2462"/>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1" name=""/>
              <p:cNvSpPr/>
              <p:nvPr/>
            </p:nvSpPr>
            <p:spPr>
              <a:xfrm>
                <a:off x="5255280" y="4224600"/>
                <a:ext cx="39960" cy="272880"/>
              </a:xfrm>
              <a:custGeom>
                <a:avLst/>
                <a:gdLst/>
                <a:ahLst/>
                <a:rect l="l" t="t" r="r" b="b"/>
                <a:pathLst>
                  <a:path w="107" h="2463">
                    <a:moveTo>
                      <a:pt x="0" y="0"/>
                    </a:moveTo>
                    <a:lnTo>
                      <a:pt x="53" y="42"/>
                    </a:lnTo>
                    <a:lnTo>
                      <a:pt x="107" y="820"/>
                    </a:lnTo>
                    <a:lnTo>
                      <a:pt x="49" y="908"/>
                    </a:lnTo>
                    <a:lnTo>
                      <a:pt x="49"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2" name=""/>
              <p:cNvSpPr/>
              <p:nvPr/>
            </p:nvSpPr>
            <p:spPr>
              <a:xfrm>
                <a:off x="5269680" y="4224960"/>
                <a:ext cx="38520" cy="272160"/>
              </a:xfrm>
              <a:custGeom>
                <a:avLst/>
                <a:gdLst/>
                <a:ahLst/>
                <a:rect l="l" t="t" r="r" b="b"/>
                <a:pathLst>
                  <a:path w="103" h="2456">
                    <a:moveTo>
                      <a:pt x="0" y="0"/>
                    </a:moveTo>
                    <a:lnTo>
                      <a:pt x="50" y="35"/>
                    </a:lnTo>
                    <a:lnTo>
                      <a:pt x="103" y="819"/>
                    </a:lnTo>
                    <a:lnTo>
                      <a:pt x="48" y="909"/>
                    </a:lnTo>
                    <a:lnTo>
                      <a:pt x="46" y="2456"/>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3" name=""/>
              <p:cNvSpPr/>
              <p:nvPr/>
            </p:nvSpPr>
            <p:spPr>
              <a:xfrm>
                <a:off x="5283720" y="4224600"/>
                <a:ext cx="38520" cy="271800"/>
              </a:xfrm>
              <a:custGeom>
                <a:avLst/>
                <a:gdLst/>
                <a:ahLst/>
                <a:rect l="l" t="t" r="r" b="b"/>
                <a:pathLst>
                  <a:path w="101" h="2455">
                    <a:moveTo>
                      <a:pt x="0" y="0"/>
                    </a:moveTo>
                    <a:lnTo>
                      <a:pt x="49" y="48"/>
                    </a:lnTo>
                    <a:lnTo>
                      <a:pt x="101" y="819"/>
                    </a:lnTo>
                    <a:lnTo>
                      <a:pt x="46" y="908"/>
                    </a:lnTo>
                    <a:lnTo>
                      <a:pt x="44" y="2455"/>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4" name=""/>
              <p:cNvSpPr/>
              <p:nvPr/>
            </p:nvSpPr>
            <p:spPr>
              <a:xfrm>
                <a:off x="5299200" y="4224960"/>
                <a:ext cx="37080" cy="271800"/>
              </a:xfrm>
              <a:custGeom>
                <a:avLst/>
                <a:gdLst/>
                <a:ahLst/>
                <a:rect l="l" t="t" r="r" b="b"/>
                <a:pathLst>
                  <a:path w="97" h="2454">
                    <a:moveTo>
                      <a:pt x="0" y="0"/>
                    </a:moveTo>
                    <a:lnTo>
                      <a:pt x="44" y="41"/>
                    </a:lnTo>
                    <a:lnTo>
                      <a:pt x="97" y="817"/>
                    </a:lnTo>
                    <a:lnTo>
                      <a:pt x="42" y="906"/>
                    </a:lnTo>
                    <a:lnTo>
                      <a:pt x="40" y="2454"/>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5" name=""/>
              <p:cNvSpPr/>
              <p:nvPr/>
            </p:nvSpPr>
            <p:spPr>
              <a:xfrm>
                <a:off x="5313600" y="4224960"/>
                <a:ext cx="37080" cy="272520"/>
              </a:xfrm>
              <a:custGeom>
                <a:avLst/>
                <a:gdLst/>
                <a:ahLst/>
                <a:rect l="l" t="t" r="r" b="b"/>
                <a:pathLst>
                  <a:path w="98" h="2460">
                    <a:moveTo>
                      <a:pt x="0" y="0"/>
                    </a:moveTo>
                    <a:lnTo>
                      <a:pt x="43" y="43"/>
                    </a:lnTo>
                    <a:lnTo>
                      <a:pt x="98" y="809"/>
                    </a:lnTo>
                    <a:lnTo>
                      <a:pt x="40" y="905"/>
                    </a:lnTo>
                    <a:lnTo>
                      <a:pt x="40" y="2460"/>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6" name=""/>
              <p:cNvSpPr/>
              <p:nvPr/>
            </p:nvSpPr>
            <p:spPr>
              <a:xfrm>
                <a:off x="5326560" y="4224960"/>
                <a:ext cx="37080" cy="271080"/>
              </a:xfrm>
              <a:custGeom>
                <a:avLst/>
                <a:gdLst/>
                <a:ahLst/>
                <a:rect l="l" t="t" r="r" b="b"/>
                <a:pathLst>
                  <a:path w="97" h="2448">
                    <a:moveTo>
                      <a:pt x="0" y="0"/>
                    </a:moveTo>
                    <a:lnTo>
                      <a:pt x="45" y="41"/>
                    </a:lnTo>
                    <a:lnTo>
                      <a:pt x="97" y="812"/>
                    </a:lnTo>
                    <a:lnTo>
                      <a:pt x="44" y="901"/>
                    </a:lnTo>
                    <a:lnTo>
                      <a:pt x="41" y="2448"/>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67" name=""/>
            <p:cNvSpPr/>
            <p:nvPr/>
          </p:nvSpPr>
          <p:spPr>
            <a:xfrm>
              <a:off x="5361120" y="4349160"/>
              <a:ext cx="293400" cy="13284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8" name=""/>
            <p:cNvSpPr/>
            <p:nvPr/>
          </p:nvSpPr>
          <p:spPr>
            <a:xfrm>
              <a:off x="5361120" y="4375080"/>
              <a:ext cx="293400" cy="25200"/>
            </a:xfrm>
            <a:prstGeom prst="rect">
              <a:avLst/>
            </a:prstGeom>
            <a:solidFill>
              <a:srgbClr val="c0c0c0"/>
            </a:solidFill>
            <a:ln w="144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69" name=""/>
            <p:cNvSpPr/>
            <p:nvPr/>
          </p:nvSpPr>
          <p:spPr>
            <a:xfrm>
              <a:off x="5361120" y="4402080"/>
              <a:ext cx="293400" cy="25200"/>
            </a:xfrm>
            <a:prstGeom prst="rect">
              <a:avLst/>
            </a:prstGeom>
            <a:solidFill>
              <a:srgbClr val="c0c0c0"/>
            </a:solidFill>
            <a:ln w="144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70" name=""/>
            <p:cNvSpPr/>
            <p:nvPr/>
          </p:nvSpPr>
          <p:spPr>
            <a:xfrm>
              <a:off x="5361120" y="4428720"/>
              <a:ext cx="293400" cy="24480"/>
            </a:xfrm>
            <a:prstGeom prst="rect">
              <a:avLst/>
            </a:prstGeom>
            <a:solidFill>
              <a:srgbClr val="c0c0c0"/>
            </a:solidFill>
            <a:ln w="1440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471" name=""/>
            <p:cNvSpPr/>
            <p:nvPr/>
          </p:nvSpPr>
          <p:spPr>
            <a:xfrm>
              <a:off x="5411160" y="4380120"/>
              <a:ext cx="192240" cy="14400"/>
            </a:xfrm>
            <a:prstGeom prst="rect">
              <a:avLst/>
            </a:prstGeom>
            <a:solidFill>
              <a:srgbClr val="c0c0c0"/>
            </a:solidFill>
            <a:ln w="1440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72" name=""/>
            <p:cNvSpPr/>
            <p:nvPr/>
          </p:nvSpPr>
          <p:spPr>
            <a:xfrm>
              <a:off x="5411160" y="4407120"/>
              <a:ext cx="192240" cy="14400"/>
            </a:xfrm>
            <a:prstGeom prst="rect">
              <a:avLst/>
            </a:prstGeom>
            <a:solidFill>
              <a:srgbClr val="c0c0c0"/>
            </a:solidFill>
            <a:ln w="1440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73" name=""/>
            <p:cNvSpPr/>
            <p:nvPr/>
          </p:nvSpPr>
          <p:spPr>
            <a:xfrm>
              <a:off x="5543640" y="4350240"/>
              <a:ext cx="12600" cy="17640"/>
            </a:xfrm>
            <a:custGeom>
              <a:avLst/>
              <a:gdLst/>
              <a:ahLst/>
              <a:rect l="l" t="t" r="r" b="b"/>
              <a:pathLst>
                <a:path w="34" h="157">
                  <a:moveTo>
                    <a:pt x="34" y="0"/>
                  </a:moveTo>
                  <a:lnTo>
                    <a:pt x="34" y="157"/>
                  </a:lnTo>
                  <a:lnTo>
                    <a:pt x="0" y="68"/>
                  </a:lnTo>
                  <a:lnTo>
                    <a:pt x="34" y="0"/>
                  </a:lnTo>
                  <a:close/>
                </a:path>
              </a:pathLst>
            </a:custGeom>
            <a:solidFill>
              <a:srgbClr val="60606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474" name=""/>
            <p:cNvSpPr/>
            <p:nvPr/>
          </p:nvSpPr>
          <p:spPr>
            <a:xfrm>
              <a:off x="5421240" y="4384080"/>
              <a:ext cx="172440" cy="2520"/>
            </a:xfrm>
            <a:prstGeom prst="rect">
              <a:avLst/>
            </a:pr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3475" name=""/>
            <p:cNvSpPr/>
            <p:nvPr/>
          </p:nvSpPr>
          <p:spPr>
            <a:xfrm>
              <a:off x="5473440" y="4389480"/>
              <a:ext cx="75960" cy="3960"/>
            </a:xfrm>
            <a:custGeom>
              <a:avLst/>
              <a:gdLst/>
              <a:ahLst/>
              <a:rect l="l" t="t" r="r" b="b"/>
              <a:pathLst>
                <a:path w="199" h="37">
                  <a:moveTo>
                    <a:pt x="4" y="37"/>
                  </a:moveTo>
                  <a:lnTo>
                    <a:pt x="0" y="0"/>
                  </a:lnTo>
                  <a:lnTo>
                    <a:pt x="193" y="0"/>
                  </a:lnTo>
                  <a:lnTo>
                    <a:pt x="199" y="36"/>
                  </a:lnTo>
                </a:path>
              </a:pathLst>
            </a:custGeom>
            <a:noFill/>
            <a:ln w="14400">
              <a:solidFill>
                <a:srgbClr val="80808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3476" name=""/>
            <p:cNvSpPr/>
            <p:nvPr/>
          </p:nvSpPr>
          <p:spPr>
            <a:xfrm>
              <a:off x="5267520" y="4242240"/>
              <a:ext cx="66600" cy="20520"/>
            </a:xfrm>
            <a:custGeom>
              <a:avLst/>
              <a:gdLst/>
              <a:ahLst/>
              <a:rect l="l" t="t" r="r" b="b"/>
              <a:pathLst>
                <a:path w="177" h="186">
                  <a:moveTo>
                    <a:pt x="163" y="0"/>
                  </a:moveTo>
                  <a:lnTo>
                    <a:pt x="0" y="0"/>
                  </a:lnTo>
                  <a:lnTo>
                    <a:pt x="12" y="186"/>
                  </a:lnTo>
                  <a:lnTo>
                    <a:pt x="177" y="186"/>
                  </a:lnTo>
                  <a:lnTo>
                    <a:pt x="163" y="0"/>
                  </a:lnTo>
                  <a:close/>
                </a:path>
              </a:pathLst>
            </a:custGeom>
            <a:solidFill>
              <a:srgbClr val="c0c0c0"/>
            </a:solidFill>
            <a:ln w="14400">
              <a:solidFill>
                <a:srgbClr val="808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77" name=""/>
            <p:cNvSpPr/>
            <p:nvPr/>
          </p:nvSpPr>
          <p:spPr>
            <a:xfrm>
              <a:off x="5275080" y="4277160"/>
              <a:ext cx="69840" cy="20520"/>
            </a:xfrm>
            <a:custGeom>
              <a:avLst/>
              <a:gdLst/>
              <a:ahLst/>
              <a:rect l="l" t="t" r="r" b="b"/>
              <a:pathLst>
                <a:path w="183" h="188">
                  <a:moveTo>
                    <a:pt x="169" y="0"/>
                  </a:moveTo>
                  <a:lnTo>
                    <a:pt x="0" y="0"/>
                  </a:lnTo>
                  <a:lnTo>
                    <a:pt x="12" y="188"/>
                  </a:lnTo>
                  <a:lnTo>
                    <a:pt x="183" y="187"/>
                  </a:lnTo>
                  <a:lnTo>
                    <a:pt x="169" y="0"/>
                  </a:lnTo>
                  <a:close/>
                </a:path>
              </a:pathLst>
            </a:custGeom>
            <a:solidFill>
              <a:srgbClr val="c0c0c0"/>
            </a:solidFill>
            <a:ln w="14400">
              <a:solidFill>
                <a:srgbClr val="808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3478" name=""/>
            <p:cNvGrpSpPr/>
            <p:nvPr/>
          </p:nvGrpSpPr>
          <p:grpSpPr>
            <a:xfrm>
              <a:off x="5376960" y="4276800"/>
              <a:ext cx="293400" cy="19800"/>
              <a:chOff x="5376960" y="4276800"/>
              <a:chExt cx="293400" cy="19800"/>
            </a:xfrm>
          </p:grpSpPr>
          <p:sp>
            <p:nvSpPr>
              <p:cNvPr id="3479" name=""/>
              <p:cNvSpPr/>
              <p:nvPr/>
            </p:nvSpPr>
            <p:spPr>
              <a:xfrm>
                <a:off x="5376960" y="4276800"/>
                <a:ext cx="293400" cy="19800"/>
              </a:xfrm>
              <a:prstGeom prst="rect">
                <a:avLst/>
              </a:prstGeom>
              <a:solidFill>
                <a:srgbClr val="606060"/>
              </a:solidFill>
              <a:ln w="1440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480" name=""/>
              <p:cNvSpPr/>
              <p:nvPr/>
            </p:nvSpPr>
            <p:spPr>
              <a:xfrm>
                <a:off x="5430240" y="4278600"/>
                <a:ext cx="3564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481" name=""/>
              <p:cNvSpPr/>
              <p:nvPr/>
            </p:nvSpPr>
            <p:spPr>
              <a:xfrm>
                <a:off x="5430240" y="4287600"/>
                <a:ext cx="3564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482" name=""/>
              <p:cNvSpPr/>
              <p:nvPr/>
            </p:nvSpPr>
            <p:spPr>
              <a:xfrm>
                <a:off x="5501520" y="4282920"/>
                <a:ext cx="35640" cy="6840"/>
              </a:xfrm>
              <a:prstGeom prst="rect">
                <a:avLst/>
              </a:pr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483" name=""/>
              <p:cNvSpPr/>
              <p:nvPr/>
            </p:nvSpPr>
            <p:spPr>
              <a:xfrm>
                <a:off x="5392080" y="4283280"/>
                <a:ext cx="26280" cy="8280"/>
              </a:xfrm>
              <a:prstGeom prst="ellipse">
                <a:avLst/>
              </a:prstGeom>
              <a:solidFill>
                <a:srgbClr val="20202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sp>
        <p:nvSpPr>
          <p:cNvPr id="3484" name=""/>
          <p:cNvSpPr/>
          <p:nvPr/>
        </p:nvSpPr>
        <p:spPr>
          <a:xfrm>
            <a:off x="5389560" y="4510080"/>
            <a:ext cx="1600200" cy="609480"/>
          </a:xfrm>
          <a:custGeom>
            <a:avLst/>
            <a:gdLst/>
            <a:ahLst/>
            <a:rect l="l" t="t" r="r" b="b"/>
            <a:pathLst>
              <a:path w="1008" h="384">
                <a:moveTo>
                  <a:pt x="0" y="0"/>
                </a:moveTo>
                <a:lnTo>
                  <a:pt x="0" y="384"/>
                </a:lnTo>
                <a:lnTo>
                  <a:pt x="1008" y="38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5" name=""/>
          <p:cNvSpPr/>
          <p:nvPr/>
        </p:nvSpPr>
        <p:spPr>
          <a:xfrm flipH="1">
            <a:off x="6954480" y="5003640"/>
            <a:ext cx="252360" cy="115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6" name=""/>
          <p:cNvSpPr/>
          <p:nvPr/>
        </p:nvSpPr>
        <p:spPr>
          <a:xfrm>
            <a:off x="6402240" y="3682080"/>
            <a:ext cx="3511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cf00"/>
                </a:solidFill>
                <a:latin typeface="Arial"/>
              </a:rPr>
              <a:t>Windows 2000 IPSec Secure Server</a:t>
            </a:r>
            <a:endParaRPr b="0" lang="en-US" sz="2000" spc="-1" strike="noStrike">
              <a:solidFill>
                <a:srgbClr val="ffffff"/>
              </a:solidFill>
              <a:latin typeface="Times New Roman"/>
            </a:endParaRPr>
          </a:p>
        </p:txBody>
      </p:sp>
      <p:grpSp>
        <p:nvGrpSpPr>
          <p:cNvPr id="3487" name=""/>
          <p:cNvGrpSpPr/>
          <p:nvPr/>
        </p:nvGrpSpPr>
        <p:grpSpPr>
          <a:xfrm>
            <a:off x="3335760" y="2987640"/>
            <a:ext cx="729720" cy="291960"/>
            <a:chOff x="3335760" y="2987640"/>
            <a:chExt cx="729720" cy="291960"/>
          </a:xfrm>
        </p:grpSpPr>
        <p:grpSp>
          <p:nvGrpSpPr>
            <p:cNvPr id="3488" name=""/>
            <p:cNvGrpSpPr/>
            <p:nvPr/>
          </p:nvGrpSpPr>
          <p:grpSpPr>
            <a:xfrm>
              <a:off x="3335760" y="2987640"/>
              <a:ext cx="729720" cy="291600"/>
              <a:chOff x="3335760" y="2987640"/>
              <a:chExt cx="729720" cy="291600"/>
            </a:xfrm>
          </p:grpSpPr>
          <p:sp>
            <p:nvSpPr>
              <p:cNvPr id="3489" name=""/>
              <p:cNvSpPr/>
              <p:nvPr/>
            </p:nvSpPr>
            <p:spPr>
              <a:xfrm flipH="1">
                <a:off x="3358800" y="3007080"/>
                <a:ext cx="491760" cy="5040"/>
              </a:xfrm>
              <a:custGeom>
                <a:avLst/>
                <a:gdLst/>
                <a:ahLst/>
                <a:rect l="l" t="t" r="r" b="b"/>
                <a:pathLst>
                  <a:path w="1294" h="48">
                    <a:moveTo>
                      <a:pt x="0" y="0"/>
                    </a:moveTo>
                    <a:lnTo>
                      <a:pt x="77" y="48"/>
                    </a:lnTo>
                    <a:lnTo>
                      <a:pt x="1294" y="48"/>
                    </a:lnTo>
                    <a:lnTo>
                      <a:pt x="1255" y="0"/>
                    </a:lnTo>
                    <a:lnTo>
                      <a:pt x="0" y="0"/>
                    </a:lnTo>
                    <a:close/>
                  </a:path>
                </a:pathLst>
              </a:custGeom>
              <a:solidFill>
                <a:srgbClr val="e0e0e0"/>
              </a:solidFill>
              <a:ln w="14400">
                <a:solidFill>
                  <a:srgbClr val="80808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490" name=""/>
              <p:cNvSpPr/>
              <p:nvPr/>
            </p:nvSpPr>
            <p:spPr>
              <a:xfrm flipH="1">
                <a:off x="3727440" y="3006000"/>
                <a:ext cx="124560" cy="273240"/>
              </a:xfrm>
              <a:custGeom>
                <a:avLst/>
                <a:gdLst/>
                <a:ahLst/>
                <a:rect l="l" t="t" r="r" b="b"/>
                <a:pathLst>
                  <a:path w="327" h="2469">
                    <a:moveTo>
                      <a:pt x="0" y="2385"/>
                    </a:moveTo>
                    <a:lnTo>
                      <a:pt x="67" y="2469"/>
                    </a:lnTo>
                    <a:lnTo>
                      <a:pt x="327" y="820"/>
                    </a:lnTo>
                    <a:lnTo>
                      <a:pt x="83" y="50"/>
                    </a:lnTo>
                    <a:lnTo>
                      <a:pt x="2" y="0"/>
                    </a:lnTo>
                    <a:lnTo>
                      <a:pt x="0" y="902"/>
                    </a:lnTo>
                    <a:lnTo>
                      <a:pt x="0" y="2385"/>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1" name=""/>
              <p:cNvSpPr/>
              <p:nvPr/>
            </p:nvSpPr>
            <p:spPr>
              <a:xfrm flipH="1">
                <a:off x="3849480" y="2987640"/>
                <a:ext cx="216000" cy="282240"/>
              </a:xfrm>
              <a:custGeom>
                <a:avLst/>
                <a:gdLst/>
                <a:ahLst/>
                <a:rect l="l" t="t" r="r" b="b"/>
                <a:pathLst>
                  <a:path w="569" h="2551">
                    <a:moveTo>
                      <a:pt x="0" y="0"/>
                    </a:moveTo>
                    <a:lnTo>
                      <a:pt x="569" y="167"/>
                    </a:lnTo>
                    <a:lnTo>
                      <a:pt x="569" y="2551"/>
                    </a:lnTo>
                    <a:lnTo>
                      <a:pt x="0" y="1943"/>
                    </a:lnTo>
                    <a:lnTo>
                      <a:pt x="0" y="0"/>
                    </a:lnTo>
                    <a:close/>
                  </a:path>
                </a:pathLst>
              </a:custGeom>
              <a:solidFill>
                <a:srgbClr val="a0a0a0"/>
              </a:solid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2" name=""/>
              <p:cNvSpPr/>
              <p:nvPr/>
            </p:nvSpPr>
            <p:spPr>
              <a:xfrm flipH="1">
                <a:off x="3372120" y="2987640"/>
                <a:ext cx="693360" cy="19440"/>
              </a:xfrm>
              <a:custGeom>
                <a:avLst/>
                <a:gdLst/>
                <a:ahLst/>
                <a:rect l="l" t="t" r="r" b="b"/>
                <a:pathLst>
                  <a:path w="1824" h="175">
                    <a:moveTo>
                      <a:pt x="570" y="175"/>
                    </a:moveTo>
                    <a:lnTo>
                      <a:pt x="1824" y="175"/>
                    </a:lnTo>
                    <a:lnTo>
                      <a:pt x="945" y="0"/>
                    </a:lnTo>
                    <a:lnTo>
                      <a:pt x="0" y="0"/>
                    </a:lnTo>
                    <a:lnTo>
                      <a:pt x="570" y="175"/>
                    </a:lnTo>
                    <a:close/>
                  </a:path>
                </a:pathLst>
              </a:custGeom>
              <a:solidFill>
                <a:srgbClr val="e0e0e0"/>
              </a:solidFill>
              <a:ln w="14400">
                <a:solidFill>
                  <a:srgbClr val="808080"/>
                </a:solidFill>
                <a:round/>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493" name=""/>
              <p:cNvSpPr/>
              <p:nvPr/>
            </p:nvSpPr>
            <p:spPr>
              <a:xfrm flipH="1">
                <a:off x="3375000" y="3109320"/>
                <a:ext cx="447840" cy="16848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4" name=""/>
              <p:cNvSpPr/>
              <p:nvPr/>
            </p:nvSpPr>
            <p:spPr>
              <a:xfrm flipH="1">
                <a:off x="3336840" y="3011400"/>
                <a:ext cx="484200" cy="85680"/>
              </a:xfrm>
              <a:custGeom>
                <a:avLst/>
                <a:gdLst/>
                <a:ahLst/>
                <a:rect l="l" t="t" r="r" b="b"/>
                <a:pathLst>
                  <a:path w="1273" h="776">
                    <a:moveTo>
                      <a:pt x="0" y="0"/>
                    </a:moveTo>
                    <a:lnTo>
                      <a:pt x="1215" y="0"/>
                    </a:lnTo>
                    <a:lnTo>
                      <a:pt x="1273" y="776"/>
                    </a:lnTo>
                    <a:lnTo>
                      <a:pt x="52" y="776"/>
                    </a:lnTo>
                    <a:lnTo>
                      <a:pt x="0" y="0"/>
                    </a:lnTo>
                    <a:close/>
                  </a:path>
                </a:pathLst>
              </a:custGeom>
              <a:solidFill>
                <a:srgbClr val="c0c0c0"/>
              </a:solidFill>
              <a:ln w="144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5" name=""/>
              <p:cNvSpPr/>
              <p:nvPr/>
            </p:nvSpPr>
            <p:spPr>
              <a:xfrm flipH="1">
                <a:off x="3335760" y="3097080"/>
                <a:ext cx="489600" cy="10080"/>
              </a:xfrm>
              <a:custGeom>
                <a:avLst/>
                <a:gdLst/>
                <a:ahLst/>
                <a:rect l="l" t="t" r="r" b="b"/>
                <a:pathLst>
                  <a:path w="1288" h="92">
                    <a:moveTo>
                      <a:pt x="0" y="92"/>
                    </a:moveTo>
                    <a:lnTo>
                      <a:pt x="1188" y="92"/>
                    </a:lnTo>
                    <a:lnTo>
                      <a:pt x="1288" y="0"/>
                    </a:lnTo>
                    <a:lnTo>
                      <a:pt x="65" y="0"/>
                    </a:lnTo>
                    <a:lnTo>
                      <a:pt x="0" y="92"/>
                    </a:lnTo>
                    <a:close/>
                  </a:path>
                </a:pathLst>
              </a:custGeom>
              <a:solidFill>
                <a:srgbClr val="a0a0a0"/>
              </a:solidFill>
              <a:ln w="14400">
                <a:solidFill>
                  <a:srgbClr val="808080"/>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nvGrpSpPr>
            <p:cNvPr id="3496" name=""/>
            <p:cNvGrpSpPr/>
            <p:nvPr/>
          </p:nvGrpSpPr>
          <p:grpSpPr>
            <a:xfrm>
              <a:off x="3683520" y="3007080"/>
              <a:ext cx="136440" cy="272520"/>
              <a:chOff x="3683520" y="3007080"/>
              <a:chExt cx="136440" cy="272520"/>
            </a:xfrm>
          </p:grpSpPr>
          <p:sp>
            <p:nvSpPr>
              <p:cNvPr id="3497" name=""/>
              <p:cNvSpPr/>
              <p:nvPr/>
            </p:nvSpPr>
            <p:spPr>
              <a:xfrm flipH="1">
                <a:off x="3779640" y="3007080"/>
                <a:ext cx="39960" cy="272160"/>
              </a:xfrm>
              <a:custGeom>
                <a:avLst/>
                <a:gdLst/>
                <a:ahLst/>
                <a:rect l="l" t="t" r="r" b="b"/>
                <a:pathLst>
                  <a:path w="107" h="2463">
                    <a:moveTo>
                      <a:pt x="0" y="0"/>
                    </a:moveTo>
                    <a:lnTo>
                      <a:pt x="55" y="41"/>
                    </a:lnTo>
                    <a:lnTo>
                      <a:pt x="107" y="827"/>
                    </a:lnTo>
                    <a:lnTo>
                      <a:pt x="53" y="916"/>
                    </a:lnTo>
                    <a:lnTo>
                      <a:pt x="50"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8" name=""/>
              <p:cNvSpPr/>
              <p:nvPr/>
            </p:nvSpPr>
            <p:spPr>
              <a:xfrm flipH="1">
                <a:off x="3765960" y="3007440"/>
                <a:ext cx="37800" cy="272160"/>
              </a:xfrm>
              <a:custGeom>
                <a:avLst/>
                <a:gdLst/>
                <a:ahLst/>
                <a:rect l="l" t="t" r="r" b="b"/>
                <a:pathLst>
                  <a:path w="101" h="2462">
                    <a:moveTo>
                      <a:pt x="0" y="0"/>
                    </a:moveTo>
                    <a:lnTo>
                      <a:pt x="48" y="41"/>
                    </a:lnTo>
                    <a:lnTo>
                      <a:pt x="101" y="825"/>
                    </a:lnTo>
                    <a:lnTo>
                      <a:pt x="47" y="914"/>
                    </a:lnTo>
                    <a:lnTo>
                      <a:pt x="45" y="2462"/>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9" name=""/>
              <p:cNvSpPr/>
              <p:nvPr/>
            </p:nvSpPr>
            <p:spPr>
              <a:xfrm flipH="1">
                <a:off x="3751560" y="3007080"/>
                <a:ext cx="39960" cy="272520"/>
              </a:xfrm>
              <a:custGeom>
                <a:avLst/>
                <a:gdLst/>
                <a:ahLst/>
                <a:rect l="l" t="t" r="r" b="b"/>
                <a:pathLst>
                  <a:path w="107" h="2463">
                    <a:moveTo>
                      <a:pt x="0" y="0"/>
                    </a:moveTo>
                    <a:lnTo>
                      <a:pt x="53" y="42"/>
                    </a:lnTo>
                    <a:lnTo>
                      <a:pt x="107" y="820"/>
                    </a:lnTo>
                    <a:lnTo>
                      <a:pt x="49" y="908"/>
                    </a:lnTo>
                    <a:lnTo>
                      <a:pt x="49" y="2463"/>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0" name=""/>
              <p:cNvSpPr/>
              <p:nvPr/>
            </p:nvSpPr>
            <p:spPr>
              <a:xfrm flipH="1">
                <a:off x="3738600" y="3007440"/>
                <a:ext cx="38520" cy="271800"/>
              </a:xfrm>
              <a:custGeom>
                <a:avLst/>
                <a:gdLst/>
                <a:ahLst/>
                <a:rect l="l" t="t" r="r" b="b"/>
                <a:pathLst>
                  <a:path w="103" h="2456">
                    <a:moveTo>
                      <a:pt x="0" y="0"/>
                    </a:moveTo>
                    <a:lnTo>
                      <a:pt x="50" y="35"/>
                    </a:lnTo>
                    <a:lnTo>
                      <a:pt x="103" y="819"/>
                    </a:lnTo>
                    <a:lnTo>
                      <a:pt x="48" y="909"/>
                    </a:lnTo>
                    <a:lnTo>
                      <a:pt x="46" y="2456"/>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1" name=""/>
              <p:cNvSpPr/>
              <p:nvPr/>
            </p:nvSpPr>
            <p:spPr>
              <a:xfrm flipH="1">
                <a:off x="3724560" y="3007080"/>
                <a:ext cx="38520" cy="271440"/>
              </a:xfrm>
              <a:custGeom>
                <a:avLst/>
                <a:gdLst/>
                <a:ahLst/>
                <a:rect l="l" t="t" r="r" b="b"/>
                <a:pathLst>
                  <a:path w="101" h="2455">
                    <a:moveTo>
                      <a:pt x="0" y="0"/>
                    </a:moveTo>
                    <a:lnTo>
                      <a:pt x="49" y="48"/>
                    </a:lnTo>
                    <a:lnTo>
                      <a:pt x="101" y="819"/>
                    </a:lnTo>
                    <a:lnTo>
                      <a:pt x="46" y="908"/>
                    </a:lnTo>
                    <a:lnTo>
                      <a:pt x="44" y="2455"/>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2" name=""/>
              <p:cNvSpPr/>
              <p:nvPr/>
            </p:nvSpPr>
            <p:spPr>
              <a:xfrm flipH="1">
                <a:off x="3710520" y="3007440"/>
                <a:ext cx="37080" cy="271440"/>
              </a:xfrm>
              <a:custGeom>
                <a:avLst/>
                <a:gdLst/>
                <a:ahLst/>
                <a:rect l="l" t="t" r="r" b="b"/>
                <a:pathLst>
                  <a:path w="97" h="2454">
                    <a:moveTo>
                      <a:pt x="0" y="0"/>
                    </a:moveTo>
                    <a:lnTo>
                      <a:pt x="44" y="41"/>
                    </a:lnTo>
                    <a:lnTo>
                      <a:pt x="97" y="817"/>
                    </a:lnTo>
                    <a:lnTo>
                      <a:pt x="42" y="906"/>
                    </a:lnTo>
                    <a:lnTo>
                      <a:pt x="40" y="2454"/>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3" name=""/>
              <p:cNvSpPr/>
              <p:nvPr/>
            </p:nvSpPr>
            <p:spPr>
              <a:xfrm flipH="1">
                <a:off x="3696120" y="3007440"/>
                <a:ext cx="37080" cy="272160"/>
              </a:xfrm>
              <a:custGeom>
                <a:avLst/>
                <a:gdLst/>
                <a:ahLst/>
                <a:rect l="l" t="t" r="r" b="b"/>
                <a:pathLst>
                  <a:path w="98" h="2460">
                    <a:moveTo>
                      <a:pt x="0" y="0"/>
                    </a:moveTo>
                    <a:lnTo>
                      <a:pt x="43" y="43"/>
                    </a:lnTo>
                    <a:lnTo>
                      <a:pt x="98" y="809"/>
                    </a:lnTo>
                    <a:lnTo>
                      <a:pt x="40" y="905"/>
                    </a:lnTo>
                    <a:lnTo>
                      <a:pt x="40" y="2460"/>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4" name=""/>
              <p:cNvSpPr/>
              <p:nvPr/>
            </p:nvSpPr>
            <p:spPr>
              <a:xfrm flipH="1">
                <a:off x="3683160" y="3007440"/>
                <a:ext cx="37080" cy="270720"/>
              </a:xfrm>
              <a:custGeom>
                <a:avLst/>
                <a:gdLst/>
                <a:ahLst/>
                <a:rect l="l" t="t" r="r" b="b"/>
                <a:pathLst>
                  <a:path w="97" h="2448">
                    <a:moveTo>
                      <a:pt x="0" y="0"/>
                    </a:moveTo>
                    <a:lnTo>
                      <a:pt x="45" y="41"/>
                    </a:lnTo>
                    <a:lnTo>
                      <a:pt x="97" y="812"/>
                    </a:lnTo>
                    <a:lnTo>
                      <a:pt x="44" y="901"/>
                    </a:lnTo>
                    <a:lnTo>
                      <a:pt x="41" y="2448"/>
                    </a:ln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05" name=""/>
            <p:cNvSpPr/>
            <p:nvPr/>
          </p:nvSpPr>
          <p:spPr>
            <a:xfrm flipH="1">
              <a:off x="3392280" y="3131280"/>
              <a:ext cx="293400" cy="132840"/>
            </a:xfrm>
            <a:prstGeom prst="rect">
              <a:avLst/>
            </a:prstGeom>
            <a:solidFill>
              <a:srgbClr val="c0c0c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6" name=""/>
            <p:cNvSpPr/>
            <p:nvPr/>
          </p:nvSpPr>
          <p:spPr>
            <a:xfrm flipH="1">
              <a:off x="3392280" y="3157560"/>
              <a:ext cx="293400" cy="25200"/>
            </a:xfrm>
            <a:prstGeom prst="rect">
              <a:avLst/>
            </a:prstGeom>
            <a:solidFill>
              <a:srgbClr val="c0c0c0"/>
            </a:solidFill>
            <a:ln w="144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07" name=""/>
            <p:cNvSpPr/>
            <p:nvPr/>
          </p:nvSpPr>
          <p:spPr>
            <a:xfrm flipH="1">
              <a:off x="3392280" y="3184560"/>
              <a:ext cx="293400" cy="25200"/>
            </a:xfrm>
            <a:prstGeom prst="rect">
              <a:avLst/>
            </a:prstGeom>
            <a:solidFill>
              <a:srgbClr val="c0c0c0"/>
            </a:solidFill>
            <a:ln w="144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08" name=""/>
            <p:cNvSpPr/>
            <p:nvPr/>
          </p:nvSpPr>
          <p:spPr>
            <a:xfrm flipH="1">
              <a:off x="3392280" y="3211200"/>
              <a:ext cx="293400" cy="24480"/>
            </a:xfrm>
            <a:prstGeom prst="rect">
              <a:avLst/>
            </a:prstGeom>
            <a:solidFill>
              <a:srgbClr val="c0c0c0"/>
            </a:solidFill>
            <a:ln w="1440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509" name=""/>
            <p:cNvSpPr/>
            <p:nvPr/>
          </p:nvSpPr>
          <p:spPr>
            <a:xfrm flipH="1">
              <a:off x="3443760" y="3162240"/>
              <a:ext cx="192240" cy="14400"/>
            </a:xfrm>
            <a:prstGeom prst="rect">
              <a:avLst/>
            </a:prstGeom>
            <a:solidFill>
              <a:srgbClr val="c0c0c0"/>
            </a:solidFill>
            <a:ln w="1440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10" name=""/>
            <p:cNvSpPr/>
            <p:nvPr/>
          </p:nvSpPr>
          <p:spPr>
            <a:xfrm flipH="1">
              <a:off x="3443760" y="3189240"/>
              <a:ext cx="192240" cy="14400"/>
            </a:xfrm>
            <a:prstGeom prst="rect">
              <a:avLst/>
            </a:prstGeom>
            <a:solidFill>
              <a:srgbClr val="c0c0c0"/>
            </a:solidFill>
            <a:ln w="1440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11" name=""/>
            <p:cNvSpPr/>
            <p:nvPr/>
          </p:nvSpPr>
          <p:spPr>
            <a:xfrm flipH="1">
              <a:off x="3490560" y="3132720"/>
              <a:ext cx="12600" cy="17640"/>
            </a:xfrm>
            <a:custGeom>
              <a:avLst/>
              <a:gdLst/>
              <a:ahLst/>
              <a:rect l="l" t="t" r="r" b="b"/>
              <a:pathLst>
                <a:path w="34" h="157">
                  <a:moveTo>
                    <a:pt x="34" y="0"/>
                  </a:moveTo>
                  <a:lnTo>
                    <a:pt x="34" y="157"/>
                  </a:lnTo>
                  <a:lnTo>
                    <a:pt x="0" y="68"/>
                  </a:lnTo>
                  <a:lnTo>
                    <a:pt x="34" y="0"/>
                  </a:lnTo>
                  <a:close/>
                </a:path>
              </a:pathLst>
            </a:custGeom>
            <a:solidFill>
              <a:srgbClr val="60606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512" name=""/>
            <p:cNvSpPr/>
            <p:nvPr/>
          </p:nvSpPr>
          <p:spPr>
            <a:xfrm flipH="1">
              <a:off x="3453120" y="3166200"/>
              <a:ext cx="172440" cy="2520"/>
            </a:xfrm>
            <a:prstGeom prst="rect">
              <a:avLst/>
            </a:pr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3513" name=""/>
            <p:cNvSpPr/>
            <p:nvPr/>
          </p:nvSpPr>
          <p:spPr>
            <a:xfrm flipH="1">
              <a:off x="3497400" y="3171600"/>
              <a:ext cx="75960" cy="3960"/>
            </a:xfrm>
            <a:custGeom>
              <a:avLst/>
              <a:gdLst/>
              <a:ahLst/>
              <a:rect l="l" t="t" r="r" b="b"/>
              <a:pathLst>
                <a:path w="199" h="37">
                  <a:moveTo>
                    <a:pt x="4" y="37"/>
                  </a:moveTo>
                  <a:lnTo>
                    <a:pt x="0" y="0"/>
                  </a:lnTo>
                  <a:lnTo>
                    <a:pt x="193" y="0"/>
                  </a:lnTo>
                  <a:lnTo>
                    <a:pt x="199" y="36"/>
                  </a:lnTo>
                </a:path>
              </a:pathLst>
            </a:custGeom>
            <a:noFill/>
            <a:ln w="14400">
              <a:solidFill>
                <a:srgbClr val="80808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3514" name=""/>
            <p:cNvSpPr/>
            <p:nvPr/>
          </p:nvSpPr>
          <p:spPr>
            <a:xfrm flipH="1">
              <a:off x="3712680" y="3024720"/>
              <a:ext cx="66600" cy="20520"/>
            </a:xfrm>
            <a:custGeom>
              <a:avLst/>
              <a:gdLst/>
              <a:ahLst/>
              <a:rect l="l" t="t" r="r" b="b"/>
              <a:pathLst>
                <a:path w="177" h="186">
                  <a:moveTo>
                    <a:pt x="163" y="0"/>
                  </a:moveTo>
                  <a:lnTo>
                    <a:pt x="0" y="0"/>
                  </a:lnTo>
                  <a:lnTo>
                    <a:pt x="12" y="186"/>
                  </a:lnTo>
                  <a:lnTo>
                    <a:pt x="177" y="186"/>
                  </a:lnTo>
                  <a:lnTo>
                    <a:pt x="163" y="0"/>
                  </a:lnTo>
                  <a:close/>
                </a:path>
              </a:pathLst>
            </a:custGeom>
            <a:solidFill>
              <a:srgbClr val="c0c0c0"/>
            </a:solidFill>
            <a:ln w="14400">
              <a:solidFill>
                <a:srgbClr val="808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5" name=""/>
            <p:cNvSpPr/>
            <p:nvPr/>
          </p:nvSpPr>
          <p:spPr>
            <a:xfrm flipH="1">
              <a:off x="3702240" y="3059640"/>
              <a:ext cx="69840" cy="20520"/>
            </a:xfrm>
            <a:custGeom>
              <a:avLst/>
              <a:gdLst/>
              <a:ahLst/>
              <a:rect l="l" t="t" r="r" b="b"/>
              <a:pathLst>
                <a:path w="183" h="188">
                  <a:moveTo>
                    <a:pt x="169" y="0"/>
                  </a:moveTo>
                  <a:lnTo>
                    <a:pt x="0" y="0"/>
                  </a:lnTo>
                  <a:lnTo>
                    <a:pt x="12" y="188"/>
                  </a:lnTo>
                  <a:lnTo>
                    <a:pt x="183" y="187"/>
                  </a:lnTo>
                  <a:lnTo>
                    <a:pt x="169" y="0"/>
                  </a:lnTo>
                  <a:close/>
                </a:path>
              </a:pathLst>
            </a:custGeom>
            <a:solidFill>
              <a:srgbClr val="c0c0c0"/>
            </a:solidFill>
            <a:ln w="14400">
              <a:solidFill>
                <a:srgbClr val="808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3516" name=""/>
            <p:cNvGrpSpPr/>
            <p:nvPr/>
          </p:nvGrpSpPr>
          <p:grpSpPr>
            <a:xfrm>
              <a:off x="3376800" y="3059280"/>
              <a:ext cx="293400" cy="19800"/>
              <a:chOff x="3376800" y="3059280"/>
              <a:chExt cx="293400" cy="19800"/>
            </a:xfrm>
          </p:grpSpPr>
          <p:sp>
            <p:nvSpPr>
              <p:cNvPr id="3517" name=""/>
              <p:cNvSpPr/>
              <p:nvPr/>
            </p:nvSpPr>
            <p:spPr>
              <a:xfrm flipH="1">
                <a:off x="3376440" y="3059280"/>
                <a:ext cx="293400" cy="19800"/>
              </a:xfrm>
              <a:prstGeom prst="rect">
                <a:avLst/>
              </a:prstGeom>
              <a:solidFill>
                <a:srgbClr val="606060"/>
              </a:solidFill>
              <a:ln w="1440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518" name=""/>
              <p:cNvSpPr/>
              <p:nvPr/>
            </p:nvSpPr>
            <p:spPr>
              <a:xfrm flipH="1">
                <a:off x="3580920" y="3061080"/>
                <a:ext cx="3564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519" name=""/>
              <p:cNvSpPr/>
              <p:nvPr/>
            </p:nvSpPr>
            <p:spPr>
              <a:xfrm flipH="1">
                <a:off x="3580920" y="3070080"/>
                <a:ext cx="3564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520" name=""/>
              <p:cNvSpPr/>
              <p:nvPr/>
            </p:nvSpPr>
            <p:spPr>
              <a:xfrm flipH="1">
                <a:off x="3509640" y="3065400"/>
                <a:ext cx="35640" cy="6840"/>
              </a:xfrm>
              <a:prstGeom prst="rect">
                <a:avLst/>
              </a:pr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521" name=""/>
              <p:cNvSpPr/>
              <p:nvPr/>
            </p:nvSpPr>
            <p:spPr>
              <a:xfrm flipH="1">
                <a:off x="3628440" y="3065760"/>
                <a:ext cx="26280" cy="8280"/>
              </a:xfrm>
              <a:prstGeom prst="ellipse">
                <a:avLst/>
              </a:prstGeom>
              <a:solidFill>
                <a:srgbClr val="20202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sp>
        <p:nvSpPr>
          <p:cNvPr id="3522" name=""/>
          <p:cNvSpPr/>
          <p:nvPr/>
        </p:nvSpPr>
        <p:spPr>
          <a:xfrm>
            <a:off x="4003560" y="2828880"/>
            <a:ext cx="2951280" cy="2567160"/>
          </a:xfrm>
          <a:custGeom>
            <a:avLst/>
            <a:gdLst/>
            <a:ahLst/>
            <a:rect l="l" t="t" r="r" b="b"/>
            <a:pathLst>
              <a:path w="1859" h="1617">
                <a:moveTo>
                  <a:pt x="0" y="164"/>
                </a:moveTo>
                <a:cubicBezTo>
                  <a:pt x="141" y="171"/>
                  <a:pt x="699" y="0"/>
                  <a:pt x="847" y="208"/>
                </a:cubicBezTo>
                <a:cubicBezTo>
                  <a:pt x="995" y="416"/>
                  <a:pt x="721" y="1207"/>
                  <a:pt x="890" y="1412"/>
                </a:cubicBezTo>
                <a:cubicBezTo>
                  <a:pt x="1059" y="1617"/>
                  <a:pt x="1657" y="1433"/>
                  <a:pt x="1859" y="1438"/>
                </a:cubicBezTo>
              </a:path>
            </a:pathLst>
          </a:custGeom>
          <a:noFill/>
          <a:ln w="38160">
            <a:solidFill>
              <a:srgbClr val="ff6600"/>
            </a:solidFill>
            <a:round/>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523" name="" descr=""/>
          <p:cNvPicPr/>
          <p:nvPr/>
        </p:nvPicPr>
        <p:blipFill>
          <a:blip r:embed="rId2"/>
          <a:stretch/>
        </p:blipFill>
        <p:spPr>
          <a:xfrm>
            <a:off x="1407960" y="4432320"/>
            <a:ext cx="1054080" cy="1011240"/>
          </a:xfrm>
          <a:prstGeom prst="rect">
            <a:avLst/>
          </a:prstGeom>
          <a:ln w="0">
            <a:noFill/>
          </a:ln>
        </p:spPr>
      </p:pic>
      <p:sp>
        <p:nvSpPr>
          <p:cNvPr id="3524" name=""/>
          <p:cNvSpPr/>
          <p:nvPr/>
        </p:nvSpPr>
        <p:spPr>
          <a:xfrm>
            <a:off x="1655640" y="3089160"/>
            <a:ext cx="2292480" cy="1289160"/>
          </a:xfrm>
          <a:custGeom>
            <a:avLst/>
            <a:gdLst/>
            <a:ahLst/>
            <a:rect l="l" t="t" r="r" b="b"/>
            <a:pathLst>
              <a:path w="1444" h="812">
                <a:moveTo>
                  <a:pt x="161" y="812"/>
                </a:moveTo>
                <a:cubicBezTo>
                  <a:pt x="171" y="699"/>
                  <a:pt x="0" y="262"/>
                  <a:pt x="214" y="131"/>
                </a:cubicBezTo>
                <a:cubicBezTo>
                  <a:pt x="428" y="0"/>
                  <a:pt x="930" y="12"/>
                  <a:pt x="1444" y="27"/>
                </a:cubicBezTo>
              </a:path>
            </a:pathLst>
          </a:custGeom>
          <a:noFill/>
          <a:ln w="381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25" name=""/>
          <p:cNvGrpSpPr/>
          <p:nvPr/>
        </p:nvGrpSpPr>
        <p:grpSpPr>
          <a:xfrm>
            <a:off x="-2160" y="5522760"/>
            <a:ext cx="4440960" cy="486360"/>
            <a:chOff x="-2160" y="5522760"/>
            <a:chExt cx="4440960" cy="486360"/>
          </a:xfrm>
        </p:grpSpPr>
        <p:grpSp>
          <p:nvGrpSpPr>
            <p:cNvPr id="3526" name=""/>
            <p:cNvGrpSpPr/>
            <p:nvPr/>
          </p:nvGrpSpPr>
          <p:grpSpPr>
            <a:xfrm>
              <a:off x="1986480" y="5526000"/>
              <a:ext cx="2452320" cy="483120"/>
              <a:chOff x="1986480" y="5526000"/>
              <a:chExt cx="2452320" cy="483120"/>
            </a:xfrm>
          </p:grpSpPr>
          <p:sp>
            <p:nvSpPr>
              <p:cNvPr id="3527" name=""/>
              <p:cNvSpPr/>
              <p:nvPr/>
            </p:nvSpPr>
            <p:spPr>
              <a:xfrm>
                <a:off x="1998720" y="5526000"/>
                <a:ext cx="1282680" cy="470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8" name=""/>
              <p:cNvSpPr/>
              <p:nvPr/>
            </p:nvSpPr>
            <p:spPr>
              <a:xfrm>
                <a:off x="3294000" y="5526000"/>
                <a:ext cx="1144800" cy="470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9" name=""/>
              <p:cNvSpPr/>
              <p:nvPr/>
            </p:nvSpPr>
            <p:spPr>
              <a:xfrm>
                <a:off x="3356640" y="5542920"/>
                <a:ext cx="1062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3530" name=""/>
              <p:cNvSpPr/>
              <p:nvPr/>
            </p:nvSpPr>
            <p:spPr>
              <a:xfrm>
                <a:off x="1986480" y="5554440"/>
                <a:ext cx="128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 Hdr</a:t>
                </a:r>
                <a:endParaRPr b="0" lang="en-US" sz="2400" spc="-1" strike="noStrike">
                  <a:solidFill>
                    <a:srgbClr val="ffffff"/>
                  </a:solidFill>
                  <a:latin typeface="Times New Roman"/>
                </a:endParaRPr>
              </a:p>
            </p:txBody>
          </p:sp>
        </p:grpSp>
        <p:grpSp>
          <p:nvGrpSpPr>
            <p:cNvPr id="3531" name=""/>
            <p:cNvGrpSpPr/>
            <p:nvPr/>
          </p:nvGrpSpPr>
          <p:grpSpPr>
            <a:xfrm>
              <a:off x="-2160" y="5522760"/>
              <a:ext cx="2030040" cy="483840"/>
              <a:chOff x="-2160" y="5522760"/>
              <a:chExt cx="2030040" cy="483840"/>
            </a:xfrm>
          </p:grpSpPr>
          <p:sp>
            <p:nvSpPr>
              <p:cNvPr id="3532" name=""/>
              <p:cNvSpPr/>
              <p:nvPr/>
            </p:nvSpPr>
            <p:spPr>
              <a:xfrm>
                <a:off x="12600" y="5536080"/>
                <a:ext cx="1974960" cy="470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3" name=""/>
              <p:cNvSpPr/>
              <p:nvPr/>
            </p:nvSpPr>
            <p:spPr>
              <a:xfrm>
                <a:off x="-2160" y="5522760"/>
                <a:ext cx="203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l IP Hdr</a:t>
                </a:r>
                <a:endParaRPr b="0" lang="en-US" sz="2400" spc="-1" strike="noStrike">
                  <a:solidFill>
                    <a:srgbClr val="ffffff"/>
                  </a:solidFill>
                  <a:latin typeface="Times New Roman"/>
                </a:endParaRPr>
              </a:p>
            </p:txBody>
          </p:sp>
        </p:grpSp>
      </p:grpSp>
      <p:grpSp>
        <p:nvGrpSpPr>
          <p:cNvPr id="3534" name=""/>
          <p:cNvGrpSpPr/>
          <p:nvPr/>
        </p:nvGrpSpPr>
        <p:grpSpPr>
          <a:xfrm>
            <a:off x="3346560" y="1774800"/>
            <a:ext cx="5497560" cy="484200"/>
            <a:chOff x="3346560" y="1774800"/>
            <a:chExt cx="5497560" cy="484200"/>
          </a:xfrm>
        </p:grpSpPr>
        <p:sp>
          <p:nvSpPr>
            <p:cNvPr id="3535" name=""/>
            <p:cNvSpPr/>
            <p:nvPr/>
          </p:nvSpPr>
          <p:spPr>
            <a:xfrm>
              <a:off x="7316640" y="1774800"/>
              <a:ext cx="1527480" cy="484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6" name=""/>
            <p:cNvSpPr/>
            <p:nvPr/>
          </p:nvSpPr>
          <p:spPr>
            <a:xfrm>
              <a:off x="6033960" y="1787400"/>
              <a:ext cx="1270080" cy="454680"/>
            </a:xfrm>
            <a:prstGeom prst="rect">
              <a:avLst/>
            </a:prstGeom>
            <a:solidFill>
              <a:srgbClr val="ff7c80"/>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P Hdr</a:t>
              </a:r>
              <a:endParaRPr b="0" lang="en-US" sz="2400" spc="-1" strike="noStrike">
                <a:solidFill>
                  <a:srgbClr val="ffffff"/>
                </a:solidFill>
                <a:latin typeface="Times New Roman"/>
              </a:endParaRPr>
            </a:p>
          </p:txBody>
        </p:sp>
        <p:sp>
          <p:nvSpPr>
            <p:cNvPr id="3537" name=""/>
            <p:cNvSpPr/>
            <p:nvPr/>
          </p:nvSpPr>
          <p:spPr>
            <a:xfrm>
              <a:off x="3346560" y="1789200"/>
              <a:ext cx="2743200" cy="454680"/>
            </a:xfrm>
            <a:prstGeom prst="rect">
              <a:avLst/>
            </a:prstGeom>
            <a:solidFill>
              <a:srgbClr val="eea564"/>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nnel IP Header</a:t>
              </a:r>
              <a:endParaRPr b="0" lang="en-US" sz="2400" spc="-1" strike="noStrike">
                <a:solidFill>
                  <a:srgbClr val="ffffff"/>
                </a:solidFill>
                <a:latin typeface="Times New Roman"/>
              </a:endParaRPr>
            </a:p>
          </p:txBody>
        </p:sp>
      </p:grpSp>
      <p:grpSp>
        <p:nvGrpSpPr>
          <p:cNvPr id="3538" name=""/>
          <p:cNvGrpSpPr/>
          <p:nvPr/>
        </p:nvGrpSpPr>
        <p:grpSpPr>
          <a:xfrm>
            <a:off x="5518080" y="2354400"/>
            <a:ext cx="2374920" cy="2743200"/>
            <a:chOff x="5518080" y="2354400"/>
            <a:chExt cx="2374920" cy="2743200"/>
          </a:xfrm>
        </p:grpSpPr>
        <p:sp>
          <p:nvSpPr>
            <p:cNvPr id="3539" name=""/>
            <p:cNvSpPr/>
            <p:nvPr/>
          </p:nvSpPr>
          <p:spPr>
            <a:xfrm flipH="1" flipV="1">
              <a:off x="5518080" y="2354400"/>
              <a:ext cx="1411200" cy="2743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0" name=""/>
            <p:cNvSpPr/>
            <p:nvPr/>
          </p:nvSpPr>
          <p:spPr>
            <a:xfrm>
              <a:off x="5880240" y="2448000"/>
              <a:ext cx="201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 IP: server internal IP</a:t>
              </a:r>
              <a:endParaRPr b="0" lang="en-US" sz="1800" spc="-1" strike="noStrike">
                <a:solidFill>
                  <a:srgbClr val="ffffff"/>
                </a:solidFill>
                <a:latin typeface="Times New Roman"/>
              </a:endParaRPr>
            </a:p>
          </p:txBody>
        </p:sp>
      </p:grpSp>
      <p:grpSp>
        <p:nvGrpSpPr>
          <p:cNvPr id="3541" name=""/>
          <p:cNvGrpSpPr/>
          <p:nvPr/>
        </p:nvGrpSpPr>
        <p:grpSpPr>
          <a:xfrm>
            <a:off x="1817640" y="2290680"/>
            <a:ext cx="2298600" cy="701640"/>
            <a:chOff x="1817640" y="2290680"/>
            <a:chExt cx="2298600" cy="701640"/>
          </a:xfrm>
        </p:grpSpPr>
        <p:sp>
          <p:nvSpPr>
            <p:cNvPr id="3542" name=""/>
            <p:cNvSpPr/>
            <p:nvPr/>
          </p:nvSpPr>
          <p:spPr>
            <a:xfrm>
              <a:off x="1817640" y="2290680"/>
              <a:ext cx="229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IP: router interface IP</a:t>
              </a:r>
              <a:endParaRPr b="0" lang="en-US" sz="1800" spc="-1" strike="noStrike">
                <a:solidFill>
                  <a:srgbClr val="ffffff"/>
                </a:solidFill>
                <a:latin typeface="Times New Roman"/>
              </a:endParaRPr>
            </a:p>
          </p:txBody>
        </p:sp>
        <p:sp>
          <p:nvSpPr>
            <p:cNvPr id="3543" name=""/>
            <p:cNvSpPr/>
            <p:nvPr/>
          </p:nvSpPr>
          <p:spPr>
            <a:xfrm flipH="1" flipV="1">
              <a:off x="3959280" y="2341440"/>
              <a:ext cx="17280" cy="65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44" name=""/>
          <p:cNvSpPr/>
          <p:nvPr/>
        </p:nvSpPr>
        <p:spPr>
          <a:xfrm>
            <a:off x="0" y="639936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IP: client internal IP</a:t>
            </a:r>
            <a:endParaRPr b="0" lang="en-US" sz="1800" spc="-1" strike="noStrike">
              <a:solidFill>
                <a:srgbClr val="ffffff"/>
              </a:solidFill>
              <a:latin typeface="Times New Roman"/>
            </a:endParaRPr>
          </a:p>
        </p:txBody>
      </p:sp>
      <p:sp>
        <p:nvSpPr>
          <p:cNvPr id="3545" name=""/>
          <p:cNvSpPr/>
          <p:nvPr/>
        </p:nvSpPr>
        <p:spPr>
          <a:xfrm>
            <a:off x="3170160" y="6411960"/>
            <a:ext cx="315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 IP: server internal IP</a:t>
            </a:r>
            <a:endParaRPr b="0" lang="en-US" sz="1800" spc="-1" strike="noStrike">
              <a:solidFill>
                <a:srgbClr val="ffffff"/>
              </a:solidFill>
              <a:latin typeface="Times New Roman"/>
            </a:endParaRPr>
          </a:p>
        </p:txBody>
      </p:sp>
      <p:grpSp>
        <p:nvGrpSpPr>
          <p:cNvPr id="3546" name=""/>
          <p:cNvGrpSpPr/>
          <p:nvPr/>
        </p:nvGrpSpPr>
        <p:grpSpPr>
          <a:xfrm>
            <a:off x="4394160" y="2301840"/>
            <a:ext cx="4749840" cy="3715200"/>
            <a:chOff x="4394160" y="2301840"/>
            <a:chExt cx="4749840" cy="3715200"/>
          </a:xfrm>
        </p:grpSpPr>
        <p:sp>
          <p:nvSpPr>
            <p:cNvPr id="3547" name=""/>
            <p:cNvSpPr/>
            <p:nvPr/>
          </p:nvSpPr>
          <p:spPr>
            <a:xfrm>
              <a:off x="4394160" y="5535720"/>
              <a:ext cx="46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grpSp>
          <p:nvGrpSpPr>
            <p:cNvPr id="3548" name=""/>
            <p:cNvGrpSpPr/>
            <p:nvPr/>
          </p:nvGrpSpPr>
          <p:grpSpPr>
            <a:xfrm>
              <a:off x="4703040" y="2301840"/>
              <a:ext cx="4440960" cy="3715200"/>
              <a:chOff x="4703040" y="2301840"/>
              <a:chExt cx="4440960" cy="3715200"/>
            </a:xfrm>
          </p:grpSpPr>
          <p:grpSp>
            <p:nvGrpSpPr>
              <p:cNvPr id="3549" name=""/>
              <p:cNvGrpSpPr/>
              <p:nvPr/>
            </p:nvGrpSpPr>
            <p:grpSpPr>
              <a:xfrm>
                <a:off x="4703040" y="5514840"/>
                <a:ext cx="4440600" cy="502200"/>
                <a:chOff x="4703040" y="5514840"/>
                <a:chExt cx="4440600" cy="502200"/>
              </a:xfrm>
            </p:grpSpPr>
            <p:grpSp>
              <p:nvGrpSpPr>
                <p:cNvPr id="3550" name=""/>
                <p:cNvGrpSpPr/>
                <p:nvPr/>
              </p:nvGrpSpPr>
              <p:grpSpPr>
                <a:xfrm>
                  <a:off x="6691320" y="5533920"/>
                  <a:ext cx="2452320" cy="483120"/>
                  <a:chOff x="6691320" y="5533920"/>
                  <a:chExt cx="2452320" cy="483120"/>
                </a:xfrm>
              </p:grpSpPr>
              <p:sp>
                <p:nvSpPr>
                  <p:cNvPr id="3551" name=""/>
                  <p:cNvSpPr/>
                  <p:nvPr/>
                </p:nvSpPr>
                <p:spPr>
                  <a:xfrm>
                    <a:off x="6703560" y="5533920"/>
                    <a:ext cx="1282680" cy="470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2" name=""/>
                  <p:cNvSpPr/>
                  <p:nvPr/>
                </p:nvSpPr>
                <p:spPr>
                  <a:xfrm>
                    <a:off x="7998840" y="5533920"/>
                    <a:ext cx="1144800" cy="470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3" name=""/>
                  <p:cNvSpPr/>
                  <p:nvPr/>
                </p:nvSpPr>
                <p:spPr>
                  <a:xfrm>
                    <a:off x="8061480" y="5550840"/>
                    <a:ext cx="1062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p:txBody>
              </p:sp>
              <p:sp>
                <p:nvSpPr>
                  <p:cNvPr id="3554" name=""/>
                  <p:cNvSpPr/>
                  <p:nvPr/>
                </p:nvSpPr>
                <p:spPr>
                  <a:xfrm>
                    <a:off x="6691320" y="5562360"/>
                    <a:ext cx="128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 Hdr</a:t>
                    </a:r>
                    <a:endParaRPr b="0" lang="en-US" sz="2400" spc="-1" strike="noStrike">
                      <a:solidFill>
                        <a:srgbClr val="ffffff"/>
                      </a:solidFill>
                      <a:latin typeface="Times New Roman"/>
                    </a:endParaRPr>
                  </a:p>
                </p:txBody>
              </p:sp>
            </p:grpSp>
            <p:grpSp>
              <p:nvGrpSpPr>
                <p:cNvPr id="3555" name=""/>
                <p:cNvGrpSpPr/>
                <p:nvPr/>
              </p:nvGrpSpPr>
              <p:grpSpPr>
                <a:xfrm>
                  <a:off x="4703040" y="5514840"/>
                  <a:ext cx="2030040" cy="483840"/>
                  <a:chOff x="4703040" y="5514840"/>
                  <a:chExt cx="2030040" cy="483840"/>
                </a:xfrm>
              </p:grpSpPr>
              <p:sp>
                <p:nvSpPr>
                  <p:cNvPr id="3556" name=""/>
                  <p:cNvSpPr/>
                  <p:nvPr/>
                </p:nvSpPr>
                <p:spPr>
                  <a:xfrm>
                    <a:off x="4717800" y="5528160"/>
                    <a:ext cx="1974960" cy="470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7" name=""/>
                  <p:cNvSpPr/>
                  <p:nvPr/>
                </p:nvSpPr>
                <p:spPr>
                  <a:xfrm>
                    <a:off x="4703040" y="5514840"/>
                    <a:ext cx="203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l IP Hdr</a:t>
                    </a:r>
                    <a:endParaRPr b="0" lang="en-US" sz="2400" spc="-1" strike="noStrike">
                      <a:solidFill>
                        <a:srgbClr val="ffffff"/>
                      </a:solidFill>
                      <a:latin typeface="Times New Roman"/>
                    </a:endParaRPr>
                  </a:p>
                </p:txBody>
              </p:sp>
            </p:grpSp>
          </p:grpSp>
          <p:sp>
            <p:nvSpPr>
              <p:cNvPr id="3558" name=""/>
              <p:cNvSpPr/>
              <p:nvPr/>
            </p:nvSpPr>
            <p:spPr>
              <a:xfrm flipH="1">
                <a:off x="4766760" y="2301840"/>
                <a:ext cx="2597400" cy="32004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9" name=""/>
              <p:cNvSpPr/>
              <p:nvPr/>
            </p:nvSpPr>
            <p:spPr>
              <a:xfrm>
                <a:off x="8850240" y="2319480"/>
                <a:ext cx="293760" cy="32004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560" name=""/>
          <p:cNvSpPr/>
          <p:nvPr/>
        </p:nvSpPr>
        <p:spPr>
          <a:xfrm flipH="1">
            <a:off x="152280" y="3801960"/>
            <a:ext cx="15782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Non-IPSec client, using subnet A DHCP address</a:t>
            </a:r>
            <a:endParaRPr b="0" lang="en-US" sz="1800" spc="-1" strike="noStrike">
              <a:solidFill>
                <a:srgbClr val="ffffff"/>
              </a:solidFill>
              <a:latin typeface="Times New Roman"/>
            </a:endParaRPr>
          </a:p>
        </p:txBody>
      </p:sp>
      <p:sp>
        <p:nvSpPr>
          <p:cNvPr id="3561" name=""/>
          <p:cNvSpPr/>
          <p:nvPr/>
        </p:nvSpPr>
        <p:spPr>
          <a:xfrm flipH="1" flipV="1">
            <a:off x="441360" y="6048360"/>
            <a:ext cx="144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2" name=""/>
          <p:cNvSpPr/>
          <p:nvPr/>
        </p:nvSpPr>
        <p:spPr>
          <a:xfrm flipH="1" flipV="1">
            <a:off x="1401480" y="6095520"/>
            <a:ext cx="1996920" cy="366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3"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cf00"/>
                </a:solidFill>
                <a:latin typeface="Arial"/>
              </a:rPr>
              <a:t>IPSec tunnel rules in policy</a:t>
            </a:r>
            <a:endParaRPr b="1" lang="en-US" sz="4800" spc="-1" strike="noStrike">
              <a:solidFill>
                <a:srgbClr val="fccf00"/>
              </a:solidFill>
              <a:latin typeface="Arial"/>
            </a:endParaRPr>
          </a:p>
        </p:txBody>
      </p:sp>
      <p:sp>
        <p:nvSpPr>
          <p:cNvPr id="3564" name="PlaceHolder 2"/>
          <p:cNvSpPr>
            <a:spLocks noGrp="1"/>
          </p:cNvSpPr>
          <p:nvPr>
            <p:ph/>
          </p:nvPr>
        </p:nvSpPr>
        <p:spPr>
          <a:xfrm>
            <a:off x="353880" y="1211040"/>
            <a:ext cx="8415360" cy="511740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PSec policy on VPN Gateway</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IP subnet A) to (IP subnet B), tunnel to (router IP)</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IP subnet B) to (IP subnet A), tunnel to (gateway internal IP)</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PSec policy on router</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IP subnet A) to (subnet B), tunnel to (router IP)</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IP subnet B) to (IP subnet A), tunnel to (gateway internal IP)</a:t>
            </a:r>
            <a:endParaRPr b="1" lang="en-US" sz="2400" spc="-1" strike="noStrike">
              <a:solidFill>
                <a:srgbClr val="ffffff"/>
              </a:solidFill>
              <a:latin typeface="Arial"/>
            </a:endParaRPr>
          </a:p>
          <a:p>
            <a:pPr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7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nvGrpSpPr>
          <p:cNvPr id="3565" name=""/>
          <p:cNvGrpSpPr/>
          <p:nvPr/>
        </p:nvGrpSpPr>
        <p:grpSpPr>
          <a:xfrm>
            <a:off x="6653160" y="1984320"/>
            <a:ext cx="2222280" cy="2692080"/>
            <a:chOff x="6653160" y="1984320"/>
            <a:chExt cx="2222280" cy="2692080"/>
          </a:xfrm>
        </p:grpSpPr>
        <p:sp>
          <p:nvSpPr>
            <p:cNvPr id="3566" name=""/>
            <p:cNvSpPr/>
            <p:nvPr/>
          </p:nvSpPr>
          <p:spPr>
            <a:xfrm>
              <a:off x="7958160" y="1984320"/>
              <a:ext cx="826920" cy="2171160"/>
            </a:xfrm>
            <a:custGeom>
              <a:avLst/>
              <a:gdLst/>
              <a:ahLst/>
              <a:rect l="l" t="t" r="r" b="b"/>
              <a:pathLst>
                <a:path w="221" h="895">
                  <a:moveTo>
                    <a:pt x="31" y="0"/>
                  </a:moveTo>
                  <a:cubicBezTo>
                    <a:pt x="126" y="182"/>
                    <a:pt x="221" y="365"/>
                    <a:pt x="216" y="514"/>
                  </a:cubicBezTo>
                  <a:cubicBezTo>
                    <a:pt x="211" y="663"/>
                    <a:pt x="105" y="779"/>
                    <a:pt x="0" y="895"/>
                  </a:cubicBezTo>
                </a:path>
              </a:pathLst>
            </a:custGeom>
            <a:noFill/>
            <a:ln w="12600">
              <a:solidFill>
                <a:srgbClr val="fcc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7" name=""/>
            <p:cNvSpPr/>
            <p:nvPr/>
          </p:nvSpPr>
          <p:spPr>
            <a:xfrm>
              <a:off x="8057880" y="2809440"/>
              <a:ext cx="675000" cy="1866960"/>
            </a:xfrm>
            <a:custGeom>
              <a:avLst/>
              <a:gdLst/>
              <a:ahLst/>
              <a:rect l="l" t="t" r="r" b="b"/>
              <a:pathLst>
                <a:path w="250" h="885">
                  <a:moveTo>
                    <a:pt x="21" y="0"/>
                  </a:moveTo>
                  <a:cubicBezTo>
                    <a:pt x="135" y="178"/>
                    <a:pt x="250" y="357"/>
                    <a:pt x="247" y="504"/>
                  </a:cubicBezTo>
                  <a:cubicBezTo>
                    <a:pt x="244" y="651"/>
                    <a:pt x="122" y="768"/>
                    <a:pt x="0" y="885"/>
                  </a:cubicBezTo>
                </a:path>
              </a:pathLst>
            </a:custGeom>
            <a:noFill/>
            <a:ln w="12600">
              <a:solidFill>
                <a:srgbClr val="fcc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8" name=""/>
            <p:cNvSpPr/>
            <p:nvPr/>
          </p:nvSpPr>
          <p:spPr>
            <a:xfrm>
              <a:off x="6653160" y="3134520"/>
              <a:ext cx="2222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cf00"/>
                  </a:solidFill>
                  <a:latin typeface="Arial"/>
                </a:rPr>
                <a:t>Filters in rule match</a:t>
              </a:r>
              <a:endParaRPr b="0" lang="en-US" sz="1600" spc="-1" strike="noStrike">
                <a:solidFill>
                  <a:srgbClr val="ffffff"/>
                </a:solidFill>
                <a:latin typeface="Times New Roman"/>
              </a:endParaRPr>
            </a:p>
          </p:txBody>
        </p:sp>
      </p:grpSp>
      <p:grpSp>
        <p:nvGrpSpPr>
          <p:cNvPr id="3569" name=""/>
          <p:cNvGrpSpPr/>
          <p:nvPr/>
        </p:nvGrpSpPr>
        <p:grpSpPr>
          <a:xfrm>
            <a:off x="1471320" y="3985920"/>
            <a:ext cx="7672680" cy="2130840"/>
            <a:chOff x="1471320" y="3985920"/>
            <a:chExt cx="7672680" cy="2130840"/>
          </a:xfrm>
        </p:grpSpPr>
        <p:sp>
          <p:nvSpPr>
            <p:cNvPr id="3570" name=""/>
            <p:cNvSpPr/>
            <p:nvPr/>
          </p:nvSpPr>
          <p:spPr>
            <a:xfrm>
              <a:off x="3772080" y="5284440"/>
              <a:ext cx="5371920" cy="8323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2 rules means two different filter lists- so must use non-mirrored filter in each filter list, see KB Q252735</a:t>
              </a:r>
              <a:endParaRPr b="0" lang="en-US" sz="1800" spc="-1" strike="noStrike">
                <a:solidFill>
                  <a:srgbClr val="ffffff"/>
                </a:solidFill>
                <a:latin typeface="Times New Roman"/>
              </a:endParaRPr>
            </a:p>
          </p:txBody>
        </p:sp>
        <p:sp>
          <p:nvSpPr>
            <p:cNvPr id="3571" name=""/>
            <p:cNvSpPr/>
            <p:nvPr/>
          </p:nvSpPr>
          <p:spPr>
            <a:xfrm flipH="1" flipV="1">
              <a:off x="1485720" y="3985920"/>
              <a:ext cx="2400120" cy="1471320"/>
            </a:xfrm>
            <a:prstGeom prst="line">
              <a:avLst/>
            </a:prstGeom>
            <a:ln w="9360">
              <a:solidFill>
                <a:srgbClr val="fccf00"/>
              </a:solidFill>
              <a:miter/>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sp>
          <p:nvSpPr>
            <p:cNvPr id="3572" name=""/>
            <p:cNvSpPr/>
            <p:nvPr/>
          </p:nvSpPr>
          <p:spPr>
            <a:xfrm flipH="1" flipV="1">
              <a:off x="1471320" y="4785840"/>
              <a:ext cx="2414520" cy="699480"/>
            </a:xfrm>
            <a:prstGeom prst="line">
              <a:avLst/>
            </a:prstGeom>
            <a:ln w="9360">
              <a:solidFill>
                <a:srgbClr val="fccf00"/>
              </a:solidFill>
              <a:miter/>
              <a:tailEnd len="med" type="triangle" w="med"/>
            </a:ln>
          </p:spPr>
          <p:style>
            <a:lnRef idx="0"/>
            <a:fillRef idx="0"/>
            <a:effectRef idx="0"/>
            <a:fontRef idx="minor"/>
          </p:style>
          <p:txBody>
            <a:bodyPr lIns="182520" rIns="182520" anchor="t">
              <a:noAutofit/>
            </a:bodyPr>
            <a:p>
              <a:endParaRPr b="0" lang="en-US" sz="2400" spc="-1" strike="noStrike">
                <a:solidFill>
                  <a:srgbClr val="ffffff"/>
                </a:solidFill>
                <a:latin typeface="Times New Roman"/>
              </a:endParaRPr>
            </a:p>
          </p:txBody>
        </p:sp>
      </p:grpSp>
      <p:grpSp>
        <p:nvGrpSpPr>
          <p:cNvPr id="3573" name=""/>
          <p:cNvGrpSpPr/>
          <p:nvPr/>
        </p:nvGrpSpPr>
        <p:grpSpPr>
          <a:xfrm>
            <a:off x="0" y="4143240"/>
            <a:ext cx="1442880" cy="1119960"/>
            <a:chOff x="0" y="4143240"/>
            <a:chExt cx="1442880" cy="1119960"/>
          </a:xfrm>
        </p:grpSpPr>
        <p:sp>
          <p:nvSpPr>
            <p:cNvPr id="3574" name=""/>
            <p:cNvSpPr/>
            <p:nvPr/>
          </p:nvSpPr>
          <p:spPr>
            <a:xfrm>
              <a:off x="0" y="4143240"/>
              <a:ext cx="1442880" cy="3391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inbound</a:t>
              </a:r>
              <a:endParaRPr b="0" lang="en-US" sz="1800" spc="-1" strike="noStrike">
                <a:solidFill>
                  <a:srgbClr val="ffffff"/>
                </a:solidFill>
                <a:latin typeface="Times New Roman"/>
              </a:endParaRPr>
            </a:p>
          </p:txBody>
        </p:sp>
        <p:sp>
          <p:nvSpPr>
            <p:cNvPr id="3575" name=""/>
            <p:cNvSpPr/>
            <p:nvPr/>
          </p:nvSpPr>
          <p:spPr>
            <a:xfrm>
              <a:off x="0" y="4924080"/>
              <a:ext cx="1442880" cy="3391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outbound</a:t>
              </a:r>
              <a:endParaRPr b="0" lang="en-US" sz="1800" spc="-1" strike="noStrike">
                <a:solidFill>
                  <a:srgbClr val="ffffff"/>
                </a:solidFill>
                <a:latin typeface="Times New Roman"/>
              </a:endParaRPr>
            </a:p>
          </p:txBody>
        </p:sp>
      </p:grpSp>
      <p:grpSp>
        <p:nvGrpSpPr>
          <p:cNvPr id="3576" name=""/>
          <p:cNvGrpSpPr/>
          <p:nvPr/>
        </p:nvGrpSpPr>
        <p:grpSpPr>
          <a:xfrm>
            <a:off x="0" y="2095560"/>
            <a:ext cx="1442880" cy="1119960"/>
            <a:chOff x="0" y="2095560"/>
            <a:chExt cx="1442880" cy="1119960"/>
          </a:xfrm>
        </p:grpSpPr>
        <p:sp>
          <p:nvSpPr>
            <p:cNvPr id="3577" name=""/>
            <p:cNvSpPr/>
            <p:nvPr/>
          </p:nvSpPr>
          <p:spPr>
            <a:xfrm>
              <a:off x="0" y="2095560"/>
              <a:ext cx="1442880" cy="3391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outbound</a:t>
              </a:r>
              <a:endParaRPr b="0" lang="en-US" sz="1800" spc="-1" strike="noStrike">
                <a:solidFill>
                  <a:srgbClr val="ffffff"/>
                </a:solidFill>
                <a:latin typeface="Times New Roman"/>
              </a:endParaRPr>
            </a:p>
          </p:txBody>
        </p:sp>
        <p:sp>
          <p:nvSpPr>
            <p:cNvPr id="3578" name=""/>
            <p:cNvSpPr/>
            <p:nvPr/>
          </p:nvSpPr>
          <p:spPr>
            <a:xfrm>
              <a:off x="0" y="2876400"/>
              <a:ext cx="1442880" cy="33912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cf00"/>
                  </a:solidFill>
                  <a:latin typeface="Arial"/>
                </a:rPr>
                <a:t>inbound</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9" name="PlaceHolder 1"/>
          <p:cNvSpPr>
            <a:spLocks noGrp="1"/>
          </p:cNvSpPr>
          <p:nvPr>
            <p:ph type="title"/>
          </p:nvPr>
        </p:nvSpPr>
        <p:spPr>
          <a:xfrm>
            <a:off x="685800" y="2286000"/>
            <a:ext cx="77724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Other Deployment Issues</a:t>
            </a:r>
            <a:endParaRPr b="1" lang="en-US" sz="4800" spc="-1" strike="noStrike">
              <a:solidFill>
                <a:srgbClr val="fcc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65040" y="22860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Network Administrator Sets IP Security Policy</a:t>
            </a:r>
            <a:endParaRPr b="1" lang="en-US" sz="4800" spc="-1" strike="noStrike">
              <a:solidFill>
                <a:srgbClr val="fccf00"/>
              </a:solidFill>
              <a:latin typeface="Arial"/>
            </a:endParaRPr>
          </a:p>
        </p:txBody>
      </p:sp>
      <p:pic>
        <p:nvPicPr>
          <p:cNvPr id="569" name="" descr=""/>
          <p:cNvPicPr/>
          <p:nvPr/>
        </p:nvPicPr>
        <p:blipFill>
          <a:blip r:embed="rId2"/>
          <a:stretch/>
        </p:blipFill>
        <p:spPr>
          <a:xfrm>
            <a:off x="252360" y="1776240"/>
            <a:ext cx="8891640" cy="4143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0" name="PlaceHolder 1"/>
          <p:cNvSpPr>
            <a:spLocks noGrp="1"/>
          </p:cNvSpPr>
          <p:nvPr>
            <p:ph type="title"/>
          </p:nvPr>
        </p:nvSpPr>
        <p:spPr>
          <a:xfrm>
            <a:off x="304920" y="241200"/>
            <a:ext cx="8431200" cy="11908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Enabling IPSec Scenarios Through Firewalls</a:t>
            </a:r>
            <a:endParaRPr b="1" lang="en-US" sz="4000" spc="-1" strike="noStrike">
              <a:solidFill>
                <a:srgbClr val="fccf00"/>
              </a:solidFill>
              <a:latin typeface="Arial"/>
            </a:endParaRPr>
          </a:p>
        </p:txBody>
      </p:sp>
      <p:sp>
        <p:nvSpPr>
          <p:cNvPr id="3581" name="PlaceHolder 2"/>
          <p:cNvSpPr>
            <a:spLocks noGrp="1"/>
          </p:cNvSpPr>
          <p:nvPr>
            <p:ph/>
          </p:nvPr>
        </p:nvSpPr>
        <p:spPr>
          <a:xfrm>
            <a:off x="301680" y="1612800"/>
            <a:ext cx="8415360" cy="5348880"/>
          </a:xfrm>
          <a:prstGeom prst="rect">
            <a:avLst/>
          </a:prstGeom>
          <a:noFill/>
          <a:ln w="0">
            <a:noFill/>
          </a:ln>
        </p:spPr>
        <p:txBody>
          <a:bodyPr lIns="182520" rIns="182520" tIns="46080" bIns="46080" anchor="t">
            <a:normAutofit fontScale="99000"/>
          </a:bodyPr>
          <a:p>
            <a:pPr>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mit IKE (ISAKMP) negotiation, UDP dest port 500</a:t>
            </a:r>
            <a:endParaRPr b="1" lang="en-US" sz="2400" spc="-1" strike="noStrike">
              <a:solidFill>
                <a:srgbClr val="ffffff"/>
              </a:solidFill>
              <a:latin typeface="Arial"/>
            </a:endParaRPr>
          </a:p>
          <a:p>
            <a:pPr>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mit IPSec format packets</a:t>
            </a:r>
            <a:endParaRPr b="1" lang="en-US" sz="2400" spc="-1" strike="noStrike">
              <a:solidFill>
                <a:srgbClr val="ffffff"/>
              </a:solidFill>
              <a:latin typeface="Arial"/>
            </a:endParaRPr>
          </a:p>
          <a:p>
            <a:pPr lvl="1" marL="487080" indent="-28728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H (IP protocol 51) – integrity &amp; authenticity only</a:t>
            </a:r>
            <a:endParaRPr b="1" lang="en-US" sz="2000" spc="-1" strike="noStrike">
              <a:solidFill>
                <a:srgbClr val="ffffff"/>
              </a:solidFill>
              <a:latin typeface="Arial"/>
            </a:endParaRPr>
          </a:p>
          <a:p>
            <a:pPr lvl="1" marL="487080" indent="-28728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P (IP protocol 50) – usually encrypted for privacy</a:t>
            </a:r>
            <a:endParaRPr b="1" lang="en-US" sz="2000" spc="-1" strike="noStrike">
              <a:solidFill>
                <a:srgbClr val="ffffff"/>
              </a:solidFill>
              <a:latin typeface="Arial"/>
            </a:endParaRPr>
          </a:p>
          <a:p>
            <a:pPr lvl="2" marL="776160" indent="-287280">
              <a:lnSpc>
                <a:spcPct val="9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P format MAY not guarantee packet data is encrypted.</a:t>
            </a:r>
            <a:endParaRPr b="1" lang="en-US" sz="1800" spc="-1" strike="noStrike">
              <a:solidFill>
                <a:srgbClr val="ffffff"/>
              </a:solidFill>
              <a:latin typeface="Arial"/>
            </a:endParaRPr>
          </a:p>
          <a:p>
            <a:pPr lvl="2" marL="776160" indent="-287280">
              <a:lnSpc>
                <a:spcPct val="9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P-auth-only format should not be allowed in policy on end-systems if you require encryption for ESP</a:t>
            </a:r>
            <a:endParaRPr b="1" lang="en-US" sz="1800" spc="-1" strike="noStrike">
              <a:solidFill>
                <a:srgbClr val="ffffff"/>
              </a:solidFill>
              <a:latin typeface="Arial"/>
            </a:endParaRPr>
          </a:p>
          <a:p>
            <a:pPr>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KE using Windows NT Domain Trusts may require Kerberos authentication, TCP &amp; UDP dest port 88</a:t>
            </a:r>
            <a:endParaRPr b="1" lang="en-US" sz="2400" spc="-1" strike="noStrike">
              <a:solidFill>
                <a:srgbClr val="ffffff"/>
              </a:solidFill>
              <a:latin typeface="Arial"/>
            </a:endParaRPr>
          </a:p>
          <a:p>
            <a:pPr lvl="1" marL="487080" indent="-28728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rking on registry key fix to enable Kerberos to be IPSec protected between DCs</a:t>
            </a:r>
            <a:endParaRPr b="1" lang="en-US" sz="2000" spc="-1" strike="noStrike">
              <a:solidFill>
                <a:srgbClr val="ffffff"/>
              </a:solidFill>
              <a:latin typeface="Arial"/>
            </a:endParaRPr>
          </a:p>
          <a:p>
            <a:pPr>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KE using Certificate Trust may require cert revocation checks </a:t>
            </a:r>
            <a:endParaRPr b="1" lang="en-US" sz="2400" spc="-1" strike="noStrike">
              <a:solidFill>
                <a:srgbClr val="ffffff"/>
              </a:solidFill>
              <a:latin typeface="Arial"/>
            </a:endParaRPr>
          </a:p>
          <a:p>
            <a:pPr lvl="1" marL="487080" indent="-287280">
              <a:lnSpc>
                <a:spcPct val="90000"/>
              </a:lnSpc>
              <a:spcBef>
                <a:spcPts val="75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 specified in CRL URL in cert (file, LDAP, ftp, http, etc)</a:t>
            </a:r>
            <a:endParaRPr b="1" lang="en-US" sz="2000" spc="-1" strike="noStrike">
              <a:solidFill>
                <a:srgbClr val="ffffff"/>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2"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IPSec Performance Issues</a:t>
            </a:r>
            <a:endParaRPr b="1" lang="en-US" sz="4800" spc="-1" strike="noStrike">
              <a:solidFill>
                <a:srgbClr val="fccf00"/>
              </a:solidFill>
              <a:latin typeface="Arial"/>
            </a:endParaRPr>
          </a:p>
        </p:txBody>
      </p:sp>
      <p:sp>
        <p:nvSpPr>
          <p:cNvPr id="3583" name="PlaceHolder 2"/>
          <p:cNvSpPr>
            <a:spLocks noGrp="1"/>
          </p:cNvSpPr>
          <p:nvPr>
            <p:ph/>
          </p:nvPr>
        </p:nvSpPr>
        <p:spPr>
          <a:xfrm>
            <a:off x="341280" y="1323720"/>
            <a:ext cx="8415360" cy="5207400"/>
          </a:xfrm>
          <a:prstGeom prst="rect">
            <a:avLst/>
          </a:prstGeom>
          <a:noFill/>
          <a:ln w="0">
            <a:noFill/>
          </a:ln>
        </p:spPr>
        <p:txBody>
          <a:bodyPr lIns="182520" rIns="182520" tIns="46080" bIns="46080" anchor="t">
            <a:normAutofit/>
          </a:bodyPr>
          <a:p>
            <a:pPr marL="577800" indent="-57780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PSec per-packet encryption has hardware acceleration for NICs</a:t>
            </a:r>
            <a:endParaRPr b="1" lang="en-US" sz="2800" spc="-1" strike="noStrike">
              <a:solidFill>
                <a:srgbClr val="ffffff"/>
              </a:solidFill>
              <a:latin typeface="Arial"/>
            </a:endParaRPr>
          </a:p>
          <a:p>
            <a:pPr lvl="1" marL="1030320" indent="-45072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Com, Intel provide NICs</a:t>
            </a:r>
            <a:endParaRPr b="1" lang="en-US" sz="2400" spc="-1" strike="noStrike">
              <a:solidFill>
                <a:srgbClr val="ffffff"/>
              </a:solidFill>
              <a:latin typeface="Arial"/>
            </a:endParaRPr>
          </a:p>
          <a:p>
            <a:pPr lvl="1" marL="1030320" indent="-45072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 fragmentation requires software encryption</a:t>
            </a:r>
            <a:endParaRPr b="1" lang="en-US" sz="2400" spc="-1" strike="noStrike">
              <a:solidFill>
                <a:srgbClr val="ffffff"/>
              </a:solidFill>
              <a:latin typeface="Arial"/>
            </a:endParaRPr>
          </a:p>
          <a:p>
            <a:pPr marL="577800" indent="-57780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KE DH exponentiation speedup – SDK provides interface for hardware support</a:t>
            </a:r>
            <a:endParaRPr b="1" lang="en-US" sz="2800" spc="-1" strike="noStrike">
              <a:solidFill>
                <a:srgbClr val="ffffff"/>
              </a:solidFill>
              <a:latin typeface="Arial"/>
            </a:endParaRPr>
          </a:p>
          <a:p>
            <a:pPr marL="577800" indent="-57780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y polling interval – keep it low to avoid overhead on directory</a:t>
            </a:r>
            <a:endParaRPr b="1" lang="en-US" sz="2800" spc="-1" strike="noStrike">
              <a:solidFill>
                <a:srgbClr val="ffffff"/>
              </a:solidFill>
              <a:latin typeface="Arial"/>
            </a:endParaRPr>
          </a:p>
          <a:p>
            <a:pPr marL="577800" indent="-57780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y rekey interval can be set too short –</a:t>
            </a:r>
            <a:endParaRPr b="1" lang="en-US" sz="2800" spc="-1" strike="noStrike">
              <a:solidFill>
                <a:srgbClr val="ffffff"/>
              </a:solidFill>
              <a:latin typeface="Arial"/>
            </a:endParaRPr>
          </a:p>
          <a:p>
            <a:pPr lvl="1" marL="1030320" indent="-45072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default rekey values if possible</a:t>
            </a:r>
            <a:endParaRPr b="1" lang="en-US" sz="2400" spc="-1" strike="noStrike">
              <a:solidFill>
                <a:srgbClr val="ffffff"/>
              </a:solidFill>
              <a:latin typeface="Arial"/>
            </a:endParaRPr>
          </a:p>
          <a:p>
            <a:pPr lvl="1" marL="1030320" indent="-45072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st data transfer may cause frequent rekey</a:t>
            </a:r>
            <a:endParaRPr b="1" lang="en-US" sz="2400" spc="-1" strike="noStrike">
              <a:solidFill>
                <a:srgbClr val="ffffff"/>
              </a:solidFill>
              <a:latin typeface="Arial"/>
            </a:endParaRPr>
          </a:p>
          <a:p>
            <a:pPr lvl="1" marL="1030320" indent="-45072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rekey doesn’t finish before key lifetime expires, packets must be discard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4" name="PlaceHolder 1"/>
          <p:cNvSpPr>
            <a:spLocks noGrp="1"/>
          </p:cNvSpPr>
          <p:nvPr>
            <p:ph type="title"/>
          </p:nvPr>
        </p:nvSpPr>
        <p:spPr>
          <a:xfrm>
            <a:off x="1046160" y="240840"/>
            <a:ext cx="6835680" cy="107964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f00"/>
                </a:solidFill>
                <a:latin typeface="Arial"/>
              </a:rPr>
              <a:t>Benefits of Offloading IPSec Encryption: PERFORMANCE</a:t>
            </a:r>
            <a:endParaRPr b="1" lang="en-US" sz="3600" spc="-1" strike="noStrike">
              <a:solidFill>
                <a:srgbClr val="fccf00"/>
              </a:solidFill>
              <a:latin typeface="Arial"/>
            </a:endParaRPr>
          </a:p>
        </p:txBody>
      </p:sp>
      <p:sp>
        <p:nvSpPr>
          <p:cNvPr id="3585" name=""/>
          <p:cNvSpPr/>
          <p:nvPr/>
        </p:nvSpPr>
        <p:spPr>
          <a:xfrm>
            <a:off x="660240" y="1609560"/>
            <a:ext cx="66168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ceptional Network Throughput </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86" name=""/>
          <p:cNvSpPr/>
          <p:nvPr/>
        </p:nvSpPr>
        <p:spPr>
          <a:xfrm>
            <a:off x="684720" y="2216160"/>
            <a:ext cx="3864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wer CPU Utilization</a:t>
            </a:r>
            <a:endParaRPr b="0" lang="en-US" sz="2800" spc="-1" strike="noStrike">
              <a:solidFill>
                <a:srgbClr val="ffffff"/>
              </a:solidFill>
              <a:latin typeface="Times New Roman"/>
            </a:endParaRPr>
          </a:p>
        </p:txBody>
      </p:sp>
      <p:graphicFrame>
        <p:nvGraphicFramePr>
          <p:cNvPr id="3587" name=""/>
          <p:cNvGraphicFramePr/>
          <p:nvPr/>
        </p:nvGraphicFramePr>
        <p:xfrm>
          <a:off x="1050840" y="2697120"/>
          <a:ext cx="7844040" cy="4068720"/>
        </p:xfrm>
        <a:graphic>
          <a:graphicData uri="http://schemas.openxmlformats.org/presentationml/2006/ole">
            <p:oleObj r:id="rId2" spid="">
              <p:embed/>
              <p:pic>
                <p:nvPicPr>
                  <p:cNvPr id="3588" name="" descr=""/>
                  <p:cNvPicPr/>
                  <p:nvPr/>
                </p:nvPicPr>
                <p:blipFill>
                  <a:blip r:embed="rId3"/>
                  <a:stretch/>
                </p:blipFill>
                <p:spPr>
                  <a:xfrm>
                    <a:off x="1050840" y="2697120"/>
                    <a:ext cx="7844040" cy="4068720"/>
                  </a:xfrm>
                  <a:prstGeom prst="rect">
                    <a:avLst/>
                  </a:prstGeom>
                  <a:ln w="0">
                    <a:noFill/>
                  </a:ln>
                </p:spPr>
              </p:pic>
            </p:oleObj>
          </a:graphicData>
        </a:graphic>
      </p:graphicFrame>
      <p:grpSp>
        <p:nvGrpSpPr>
          <p:cNvPr id="3589" name=""/>
          <p:cNvGrpSpPr/>
          <p:nvPr/>
        </p:nvGrpSpPr>
        <p:grpSpPr>
          <a:xfrm>
            <a:off x="247680" y="361800"/>
            <a:ext cx="818640" cy="636480"/>
            <a:chOff x="247680" y="361800"/>
            <a:chExt cx="818640" cy="636480"/>
          </a:xfrm>
        </p:grpSpPr>
        <p:sp>
          <p:nvSpPr>
            <p:cNvPr id="3590" name=""/>
            <p:cNvSpPr/>
            <p:nvPr/>
          </p:nvSpPr>
          <p:spPr>
            <a:xfrm>
              <a:off x="690480" y="819000"/>
              <a:ext cx="56520" cy="90360"/>
            </a:xfrm>
            <a:custGeom>
              <a:avLst/>
              <a:gdLst/>
              <a:ahLst/>
              <a:rect l="l" t="t" r="r" b="b"/>
              <a:pathLst>
                <a:path w="36" h="57">
                  <a:moveTo>
                    <a:pt x="22" y="1"/>
                  </a:moveTo>
                  <a:lnTo>
                    <a:pt x="26" y="3"/>
                  </a:lnTo>
                  <a:lnTo>
                    <a:pt x="29" y="6"/>
                  </a:lnTo>
                  <a:lnTo>
                    <a:pt x="31" y="9"/>
                  </a:lnTo>
                  <a:lnTo>
                    <a:pt x="33" y="14"/>
                  </a:lnTo>
                  <a:lnTo>
                    <a:pt x="34" y="19"/>
                  </a:lnTo>
                  <a:lnTo>
                    <a:pt x="35" y="24"/>
                  </a:lnTo>
                  <a:lnTo>
                    <a:pt x="35" y="30"/>
                  </a:lnTo>
                  <a:lnTo>
                    <a:pt x="35" y="35"/>
                  </a:lnTo>
                  <a:lnTo>
                    <a:pt x="34" y="41"/>
                  </a:lnTo>
                  <a:lnTo>
                    <a:pt x="32" y="46"/>
                  </a:lnTo>
                  <a:lnTo>
                    <a:pt x="30" y="50"/>
                  </a:lnTo>
                  <a:lnTo>
                    <a:pt x="27" y="53"/>
                  </a:lnTo>
                  <a:lnTo>
                    <a:pt x="22" y="56"/>
                  </a:lnTo>
                  <a:lnTo>
                    <a:pt x="17" y="56"/>
                  </a:lnTo>
                  <a:lnTo>
                    <a:pt x="12" y="55"/>
                  </a:lnTo>
                  <a:lnTo>
                    <a:pt x="9" y="53"/>
                  </a:lnTo>
                  <a:lnTo>
                    <a:pt x="5" y="50"/>
                  </a:lnTo>
                  <a:lnTo>
                    <a:pt x="3" y="46"/>
                  </a:lnTo>
                  <a:lnTo>
                    <a:pt x="1" y="41"/>
                  </a:lnTo>
                  <a:lnTo>
                    <a:pt x="0" y="36"/>
                  </a:lnTo>
                  <a:lnTo>
                    <a:pt x="0" y="31"/>
                  </a:lnTo>
                  <a:lnTo>
                    <a:pt x="0" y="26"/>
                  </a:lnTo>
                  <a:lnTo>
                    <a:pt x="0" y="21"/>
                  </a:lnTo>
                  <a:lnTo>
                    <a:pt x="1" y="17"/>
                  </a:lnTo>
                  <a:lnTo>
                    <a:pt x="2" y="12"/>
                  </a:lnTo>
                  <a:lnTo>
                    <a:pt x="4" y="9"/>
                  </a:lnTo>
                  <a:lnTo>
                    <a:pt x="6" y="6"/>
                  </a:lnTo>
                  <a:lnTo>
                    <a:pt x="9" y="3"/>
                  </a:lnTo>
                  <a:lnTo>
                    <a:pt x="13" y="1"/>
                  </a:lnTo>
                  <a:lnTo>
                    <a:pt x="18" y="0"/>
                  </a:lnTo>
                  <a:lnTo>
                    <a:pt x="22"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91" name=""/>
            <p:cNvSpPr/>
            <p:nvPr/>
          </p:nvSpPr>
          <p:spPr>
            <a:xfrm>
              <a:off x="431640" y="361800"/>
              <a:ext cx="634680" cy="636480"/>
            </a:xfrm>
            <a:custGeom>
              <a:avLst/>
              <a:gdLst/>
              <a:ahLst/>
              <a:rect l="l" t="t" r="r" b="b"/>
              <a:pathLst>
                <a:path w="400" h="401">
                  <a:moveTo>
                    <a:pt x="0" y="0"/>
                  </a:moveTo>
                  <a:lnTo>
                    <a:pt x="0" y="291"/>
                  </a:lnTo>
                  <a:lnTo>
                    <a:pt x="0" y="290"/>
                  </a:lnTo>
                  <a:lnTo>
                    <a:pt x="1" y="281"/>
                  </a:lnTo>
                  <a:lnTo>
                    <a:pt x="3" y="271"/>
                  </a:lnTo>
                  <a:lnTo>
                    <a:pt x="4" y="265"/>
                  </a:lnTo>
                  <a:lnTo>
                    <a:pt x="8" y="257"/>
                  </a:lnTo>
                  <a:lnTo>
                    <a:pt x="12" y="250"/>
                  </a:lnTo>
                  <a:lnTo>
                    <a:pt x="18" y="243"/>
                  </a:lnTo>
                  <a:lnTo>
                    <a:pt x="26" y="238"/>
                  </a:lnTo>
                  <a:lnTo>
                    <a:pt x="35" y="233"/>
                  </a:lnTo>
                  <a:lnTo>
                    <a:pt x="45" y="230"/>
                  </a:lnTo>
                  <a:lnTo>
                    <a:pt x="56" y="229"/>
                  </a:lnTo>
                  <a:lnTo>
                    <a:pt x="65" y="228"/>
                  </a:lnTo>
                  <a:lnTo>
                    <a:pt x="75" y="229"/>
                  </a:lnTo>
                  <a:lnTo>
                    <a:pt x="84" y="230"/>
                  </a:lnTo>
                  <a:lnTo>
                    <a:pt x="93" y="233"/>
                  </a:lnTo>
                  <a:lnTo>
                    <a:pt x="101" y="237"/>
                  </a:lnTo>
                  <a:lnTo>
                    <a:pt x="109" y="242"/>
                  </a:lnTo>
                  <a:lnTo>
                    <a:pt x="114" y="247"/>
                  </a:lnTo>
                  <a:lnTo>
                    <a:pt x="117" y="252"/>
                  </a:lnTo>
                  <a:lnTo>
                    <a:pt x="120" y="257"/>
                  </a:lnTo>
                  <a:lnTo>
                    <a:pt x="122" y="265"/>
                  </a:lnTo>
                  <a:lnTo>
                    <a:pt x="123" y="273"/>
                  </a:lnTo>
                  <a:lnTo>
                    <a:pt x="86" y="273"/>
                  </a:lnTo>
                  <a:lnTo>
                    <a:pt x="85" y="269"/>
                  </a:lnTo>
                  <a:lnTo>
                    <a:pt x="83" y="265"/>
                  </a:lnTo>
                  <a:lnTo>
                    <a:pt x="81" y="260"/>
                  </a:lnTo>
                  <a:lnTo>
                    <a:pt x="77" y="257"/>
                  </a:lnTo>
                  <a:lnTo>
                    <a:pt x="73" y="255"/>
                  </a:lnTo>
                  <a:lnTo>
                    <a:pt x="68" y="254"/>
                  </a:lnTo>
                  <a:lnTo>
                    <a:pt x="63" y="254"/>
                  </a:lnTo>
                  <a:lnTo>
                    <a:pt x="57" y="254"/>
                  </a:lnTo>
                  <a:lnTo>
                    <a:pt x="52" y="256"/>
                  </a:lnTo>
                  <a:lnTo>
                    <a:pt x="48" y="258"/>
                  </a:lnTo>
                  <a:lnTo>
                    <a:pt x="45" y="261"/>
                  </a:lnTo>
                  <a:lnTo>
                    <a:pt x="41" y="267"/>
                  </a:lnTo>
                  <a:lnTo>
                    <a:pt x="38" y="275"/>
                  </a:lnTo>
                  <a:lnTo>
                    <a:pt x="37" y="283"/>
                  </a:lnTo>
                  <a:lnTo>
                    <a:pt x="36" y="292"/>
                  </a:lnTo>
                  <a:lnTo>
                    <a:pt x="36" y="299"/>
                  </a:lnTo>
                  <a:lnTo>
                    <a:pt x="37" y="308"/>
                  </a:lnTo>
                  <a:lnTo>
                    <a:pt x="38" y="316"/>
                  </a:lnTo>
                  <a:lnTo>
                    <a:pt x="40" y="322"/>
                  </a:lnTo>
                  <a:lnTo>
                    <a:pt x="41" y="327"/>
                  </a:lnTo>
                  <a:lnTo>
                    <a:pt x="44" y="331"/>
                  </a:lnTo>
                  <a:lnTo>
                    <a:pt x="49" y="335"/>
                  </a:lnTo>
                  <a:lnTo>
                    <a:pt x="55" y="338"/>
                  </a:lnTo>
                  <a:lnTo>
                    <a:pt x="61" y="339"/>
                  </a:lnTo>
                  <a:lnTo>
                    <a:pt x="66" y="339"/>
                  </a:lnTo>
                  <a:lnTo>
                    <a:pt x="71" y="339"/>
                  </a:lnTo>
                  <a:lnTo>
                    <a:pt x="74" y="337"/>
                  </a:lnTo>
                  <a:lnTo>
                    <a:pt x="77" y="335"/>
                  </a:lnTo>
                  <a:lnTo>
                    <a:pt x="81" y="332"/>
                  </a:lnTo>
                  <a:lnTo>
                    <a:pt x="83" y="329"/>
                  </a:lnTo>
                  <a:lnTo>
                    <a:pt x="85" y="324"/>
                  </a:lnTo>
                  <a:lnTo>
                    <a:pt x="86" y="319"/>
                  </a:lnTo>
                  <a:lnTo>
                    <a:pt x="123" y="319"/>
                  </a:lnTo>
                  <a:lnTo>
                    <a:pt x="128" y="319"/>
                  </a:lnTo>
                  <a:lnTo>
                    <a:pt x="128" y="313"/>
                  </a:lnTo>
                  <a:lnTo>
                    <a:pt x="129" y="306"/>
                  </a:lnTo>
                  <a:lnTo>
                    <a:pt x="130" y="299"/>
                  </a:lnTo>
                  <a:lnTo>
                    <a:pt x="133" y="292"/>
                  </a:lnTo>
                  <a:lnTo>
                    <a:pt x="138" y="285"/>
                  </a:lnTo>
                  <a:lnTo>
                    <a:pt x="144" y="279"/>
                  </a:lnTo>
                  <a:lnTo>
                    <a:pt x="153" y="274"/>
                  </a:lnTo>
                  <a:lnTo>
                    <a:pt x="164" y="270"/>
                  </a:lnTo>
                  <a:lnTo>
                    <a:pt x="174" y="269"/>
                  </a:lnTo>
                  <a:lnTo>
                    <a:pt x="185" y="269"/>
                  </a:lnTo>
                  <a:lnTo>
                    <a:pt x="195" y="270"/>
                  </a:lnTo>
                  <a:lnTo>
                    <a:pt x="203" y="272"/>
                  </a:lnTo>
                  <a:lnTo>
                    <a:pt x="211" y="275"/>
                  </a:lnTo>
                  <a:lnTo>
                    <a:pt x="219" y="281"/>
                  </a:lnTo>
                  <a:lnTo>
                    <a:pt x="225" y="287"/>
                  </a:lnTo>
                  <a:lnTo>
                    <a:pt x="229" y="295"/>
                  </a:lnTo>
                  <a:lnTo>
                    <a:pt x="232" y="303"/>
                  </a:lnTo>
                  <a:lnTo>
                    <a:pt x="233" y="313"/>
                  </a:lnTo>
                  <a:lnTo>
                    <a:pt x="232" y="322"/>
                  </a:lnTo>
                  <a:lnTo>
                    <a:pt x="231" y="331"/>
                  </a:lnTo>
                  <a:lnTo>
                    <a:pt x="229" y="338"/>
                  </a:lnTo>
                  <a:lnTo>
                    <a:pt x="226" y="344"/>
                  </a:lnTo>
                  <a:lnTo>
                    <a:pt x="222" y="350"/>
                  </a:lnTo>
                  <a:lnTo>
                    <a:pt x="216" y="356"/>
                  </a:lnTo>
                  <a:lnTo>
                    <a:pt x="209" y="360"/>
                  </a:lnTo>
                  <a:lnTo>
                    <a:pt x="201" y="363"/>
                  </a:lnTo>
                  <a:lnTo>
                    <a:pt x="189" y="364"/>
                  </a:lnTo>
                  <a:lnTo>
                    <a:pt x="178" y="364"/>
                  </a:lnTo>
                  <a:lnTo>
                    <a:pt x="168" y="364"/>
                  </a:lnTo>
                  <a:lnTo>
                    <a:pt x="159" y="362"/>
                  </a:lnTo>
                  <a:lnTo>
                    <a:pt x="151" y="358"/>
                  </a:lnTo>
                  <a:lnTo>
                    <a:pt x="143" y="353"/>
                  </a:lnTo>
                  <a:lnTo>
                    <a:pt x="137" y="347"/>
                  </a:lnTo>
                  <a:lnTo>
                    <a:pt x="132" y="340"/>
                  </a:lnTo>
                  <a:lnTo>
                    <a:pt x="130" y="333"/>
                  </a:lnTo>
                  <a:lnTo>
                    <a:pt x="128" y="324"/>
                  </a:lnTo>
                  <a:lnTo>
                    <a:pt x="128" y="319"/>
                  </a:lnTo>
                  <a:lnTo>
                    <a:pt x="125" y="319"/>
                  </a:lnTo>
                  <a:lnTo>
                    <a:pt x="123" y="319"/>
                  </a:lnTo>
                  <a:lnTo>
                    <a:pt x="123" y="325"/>
                  </a:lnTo>
                  <a:lnTo>
                    <a:pt x="122" y="332"/>
                  </a:lnTo>
                  <a:lnTo>
                    <a:pt x="119" y="340"/>
                  </a:lnTo>
                  <a:lnTo>
                    <a:pt x="115" y="345"/>
                  </a:lnTo>
                  <a:lnTo>
                    <a:pt x="111" y="350"/>
                  </a:lnTo>
                  <a:lnTo>
                    <a:pt x="105" y="354"/>
                  </a:lnTo>
                  <a:lnTo>
                    <a:pt x="97" y="358"/>
                  </a:lnTo>
                  <a:lnTo>
                    <a:pt x="88" y="361"/>
                  </a:lnTo>
                  <a:lnTo>
                    <a:pt x="75" y="363"/>
                  </a:lnTo>
                  <a:lnTo>
                    <a:pt x="64" y="364"/>
                  </a:lnTo>
                  <a:lnTo>
                    <a:pt x="51" y="363"/>
                  </a:lnTo>
                  <a:lnTo>
                    <a:pt x="39" y="361"/>
                  </a:lnTo>
                  <a:lnTo>
                    <a:pt x="29" y="357"/>
                  </a:lnTo>
                  <a:lnTo>
                    <a:pt x="20" y="351"/>
                  </a:lnTo>
                  <a:lnTo>
                    <a:pt x="13" y="344"/>
                  </a:lnTo>
                  <a:lnTo>
                    <a:pt x="8" y="336"/>
                  </a:lnTo>
                  <a:lnTo>
                    <a:pt x="5" y="330"/>
                  </a:lnTo>
                  <a:lnTo>
                    <a:pt x="3" y="325"/>
                  </a:lnTo>
                  <a:lnTo>
                    <a:pt x="2" y="318"/>
                  </a:lnTo>
                  <a:lnTo>
                    <a:pt x="1" y="309"/>
                  </a:lnTo>
                  <a:lnTo>
                    <a:pt x="1" y="303"/>
                  </a:lnTo>
                  <a:lnTo>
                    <a:pt x="0" y="302"/>
                  </a:lnTo>
                  <a:lnTo>
                    <a:pt x="0" y="400"/>
                  </a:lnTo>
                  <a:lnTo>
                    <a:pt x="297" y="400"/>
                  </a:lnTo>
                  <a:lnTo>
                    <a:pt x="399" y="400"/>
                  </a:lnTo>
                  <a:lnTo>
                    <a:pt x="399" y="362"/>
                  </a:lnTo>
                  <a:lnTo>
                    <a:pt x="364" y="362"/>
                  </a:lnTo>
                  <a:lnTo>
                    <a:pt x="364" y="307"/>
                  </a:lnTo>
                  <a:lnTo>
                    <a:pt x="364" y="303"/>
                  </a:lnTo>
                  <a:lnTo>
                    <a:pt x="363" y="299"/>
                  </a:lnTo>
                  <a:lnTo>
                    <a:pt x="362" y="296"/>
                  </a:lnTo>
                  <a:lnTo>
                    <a:pt x="361" y="294"/>
                  </a:lnTo>
                  <a:lnTo>
                    <a:pt x="359" y="292"/>
                  </a:lnTo>
                  <a:lnTo>
                    <a:pt x="356" y="290"/>
                  </a:lnTo>
                  <a:lnTo>
                    <a:pt x="354" y="289"/>
                  </a:lnTo>
                  <a:lnTo>
                    <a:pt x="350" y="289"/>
                  </a:lnTo>
                  <a:lnTo>
                    <a:pt x="347" y="290"/>
                  </a:lnTo>
                  <a:lnTo>
                    <a:pt x="344" y="291"/>
                  </a:lnTo>
                  <a:lnTo>
                    <a:pt x="341" y="293"/>
                  </a:lnTo>
                  <a:lnTo>
                    <a:pt x="339" y="295"/>
                  </a:lnTo>
                  <a:lnTo>
                    <a:pt x="338" y="298"/>
                  </a:lnTo>
                  <a:lnTo>
                    <a:pt x="337" y="302"/>
                  </a:lnTo>
                  <a:lnTo>
                    <a:pt x="337" y="306"/>
                  </a:lnTo>
                  <a:lnTo>
                    <a:pt x="337" y="361"/>
                  </a:lnTo>
                  <a:lnTo>
                    <a:pt x="303" y="361"/>
                  </a:lnTo>
                  <a:lnTo>
                    <a:pt x="303" y="306"/>
                  </a:lnTo>
                  <a:lnTo>
                    <a:pt x="302" y="302"/>
                  </a:lnTo>
                  <a:lnTo>
                    <a:pt x="301" y="299"/>
                  </a:lnTo>
                  <a:lnTo>
                    <a:pt x="300" y="296"/>
                  </a:lnTo>
                  <a:lnTo>
                    <a:pt x="298" y="293"/>
                  </a:lnTo>
                  <a:lnTo>
                    <a:pt x="296" y="291"/>
                  </a:lnTo>
                  <a:lnTo>
                    <a:pt x="293" y="290"/>
                  </a:lnTo>
                  <a:lnTo>
                    <a:pt x="290" y="289"/>
                  </a:lnTo>
                  <a:lnTo>
                    <a:pt x="286" y="289"/>
                  </a:lnTo>
                  <a:lnTo>
                    <a:pt x="283" y="290"/>
                  </a:lnTo>
                  <a:lnTo>
                    <a:pt x="280" y="291"/>
                  </a:lnTo>
                  <a:lnTo>
                    <a:pt x="278" y="293"/>
                  </a:lnTo>
                  <a:lnTo>
                    <a:pt x="276" y="296"/>
                  </a:lnTo>
                  <a:lnTo>
                    <a:pt x="275" y="298"/>
                  </a:lnTo>
                  <a:lnTo>
                    <a:pt x="274" y="302"/>
                  </a:lnTo>
                  <a:lnTo>
                    <a:pt x="274" y="307"/>
                  </a:lnTo>
                  <a:lnTo>
                    <a:pt x="274" y="361"/>
                  </a:lnTo>
                  <a:lnTo>
                    <a:pt x="239" y="361"/>
                  </a:lnTo>
                  <a:lnTo>
                    <a:pt x="239" y="271"/>
                  </a:lnTo>
                  <a:lnTo>
                    <a:pt x="273" y="271"/>
                  </a:lnTo>
                  <a:lnTo>
                    <a:pt x="273" y="288"/>
                  </a:lnTo>
                  <a:lnTo>
                    <a:pt x="275" y="283"/>
                  </a:lnTo>
                  <a:lnTo>
                    <a:pt x="277" y="280"/>
                  </a:lnTo>
                  <a:lnTo>
                    <a:pt x="280" y="277"/>
                  </a:lnTo>
                  <a:lnTo>
                    <a:pt x="282" y="274"/>
                  </a:lnTo>
                  <a:lnTo>
                    <a:pt x="287" y="272"/>
                  </a:lnTo>
                  <a:lnTo>
                    <a:pt x="294" y="270"/>
                  </a:lnTo>
                  <a:lnTo>
                    <a:pt x="301" y="269"/>
                  </a:lnTo>
                  <a:lnTo>
                    <a:pt x="309" y="269"/>
                  </a:lnTo>
                  <a:lnTo>
                    <a:pt x="316" y="271"/>
                  </a:lnTo>
                  <a:lnTo>
                    <a:pt x="321" y="274"/>
                  </a:lnTo>
                  <a:lnTo>
                    <a:pt x="326" y="277"/>
                  </a:lnTo>
                  <a:lnTo>
                    <a:pt x="330" y="282"/>
                  </a:lnTo>
                  <a:lnTo>
                    <a:pt x="332" y="286"/>
                  </a:lnTo>
                  <a:lnTo>
                    <a:pt x="336" y="281"/>
                  </a:lnTo>
                  <a:lnTo>
                    <a:pt x="339" y="277"/>
                  </a:lnTo>
                  <a:lnTo>
                    <a:pt x="343" y="274"/>
                  </a:lnTo>
                  <a:lnTo>
                    <a:pt x="347" y="272"/>
                  </a:lnTo>
                  <a:lnTo>
                    <a:pt x="351" y="270"/>
                  </a:lnTo>
                  <a:lnTo>
                    <a:pt x="357" y="269"/>
                  </a:lnTo>
                  <a:lnTo>
                    <a:pt x="362" y="268"/>
                  </a:lnTo>
                  <a:lnTo>
                    <a:pt x="368" y="268"/>
                  </a:lnTo>
                  <a:lnTo>
                    <a:pt x="373" y="269"/>
                  </a:lnTo>
                  <a:lnTo>
                    <a:pt x="379" y="270"/>
                  </a:lnTo>
                  <a:lnTo>
                    <a:pt x="383" y="273"/>
                  </a:lnTo>
                  <a:lnTo>
                    <a:pt x="387" y="275"/>
                  </a:lnTo>
                  <a:lnTo>
                    <a:pt x="390" y="278"/>
                  </a:lnTo>
                  <a:lnTo>
                    <a:pt x="392" y="281"/>
                  </a:lnTo>
                  <a:lnTo>
                    <a:pt x="394" y="284"/>
                  </a:lnTo>
                  <a:lnTo>
                    <a:pt x="395" y="287"/>
                  </a:lnTo>
                  <a:lnTo>
                    <a:pt x="396" y="291"/>
                  </a:lnTo>
                  <a:lnTo>
                    <a:pt x="397" y="297"/>
                  </a:lnTo>
                  <a:lnTo>
                    <a:pt x="398" y="303"/>
                  </a:lnTo>
                  <a:lnTo>
                    <a:pt x="398" y="308"/>
                  </a:lnTo>
                  <a:lnTo>
                    <a:pt x="39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2" name=""/>
            <p:cNvSpPr/>
            <p:nvPr/>
          </p:nvSpPr>
          <p:spPr>
            <a:xfrm>
              <a:off x="247680" y="730080"/>
              <a:ext cx="174240" cy="212760"/>
            </a:xfrm>
            <a:custGeom>
              <a:avLst/>
              <a:gdLst/>
              <a:ahLst/>
              <a:rect l="l" t="t" r="r" b="b"/>
              <a:pathLst>
                <a:path w="110" h="134">
                  <a:moveTo>
                    <a:pt x="3" y="36"/>
                  </a:moveTo>
                  <a:lnTo>
                    <a:pt x="40" y="36"/>
                  </a:lnTo>
                  <a:lnTo>
                    <a:pt x="40" y="32"/>
                  </a:lnTo>
                  <a:lnTo>
                    <a:pt x="42" y="28"/>
                  </a:lnTo>
                  <a:lnTo>
                    <a:pt x="44" y="26"/>
                  </a:lnTo>
                  <a:lnTo>
                    <a:pt x="47" y="24"/>
                  </a:lnTo>
                  <a:lnTo>
                    <a:pt x="49" y="23"/>
                  </a:lnTo>
                  <a:lnTo>
                    <a:pt x="53" y="22"/>
                  </a:lnTo>
                  <a:lnTo>
                    <a:pt x="57" y="22"/>
                  </a:lnTo>
                  <a:lnTo>
                    <a:pt x="61" y="23"/>
                  </a:lnTo>
                  <a:lnTo>
                    <a:pt x="65" y="24"/>
                  </a:lnTo>
                  <a:lnTo>
                    <a:pt x="68" y="27"/>
                  </a:lnTo>
                  <a:lnTo>
                    <a:pt x="70" y="30"/>
                  </a:lnTo>
                  <a:lnTo>
                    <a:pt x="71" y="33"/>
                  </a:lnTo>
                  <a:lnTo>
                    <a:pt x="71" y="38"/>
                  </a:lnTo>
                  <a:lnTo>
                    <a:pt x="70" y="43"/>
                  </a:lnTo>
                  <a:lnTo>
                    <a:pt x="68" y="47"/>
                  </a:lnTo>
                  <a:lnTo>
                    <a:pt x="64" y="50"/>
                  </a:lnTo>
                  <a:lnTo>
                    <a:pt x="58" y="52"/>
                  </a:lnTo>
                  <a:lnTo>
                    <a:pt x="52" y="53"/>
                  </a:lnTo>
                  <a:lnTo>
                    <a:pt x="47" y="53"/>
                  </a:lnTo>
                  <a:lnTo>
                    <a:pt x="40" y="53"/>
                  </a:lnTo>
                  <a:lnTo>
                    <a:pt x="37" y="53"/>
                  </a:lnTo>
                  <a:lnTo>
                    <a:pt x="37" y="77"/>
                  </a:lnTo>
                  <a:lnTo>
                    <a:pt x="51" y="77"/>
                  </a:lnTo>
                  <a:lnTo>
                    <a:pt x="60" y="77"/>
                  </a:lnTo>
                  <a:lnTo>
                    <a:pt x="65" y="79"/>
                  </a:lnTo>
                  <a:lnTo>
                    <a:pt x="69" y="81"/>
                  </a:lnTo>
                  <a:lnTo>
                    <a:pt x="71" y="84"/>
                  </a:lnTo>
                  <a:lnTo>
                    <a:pt x="72" y="87"/>
                  </a:lnTo>
                  <a:lnTo>
                    <a:pt x="73" y="91"/>
                  </a:lnTo>
                  <a:lnTo>
                    <a:pt x="73" y="95"/>
                  </a:lnTo>
                  <a:lnTo>
                    <a:pt x="72" y="100"/>
                  </a:lnTo>
                  <a:lnTo>
                    <a:pt x="70" y="103"/>
                  </a:lnTo>
                  <a:lnTo>
                    <a:pt x="67" y="106"/>
                  </a:lnTo>
                  <a:lnTo>
                    <a:pt x="63" y="108"/>
                  </a:lnTo>
                  <a:lnTo>
                    <a:pt x="56" y="109"/>
                  </a:lnTo>
                  <a:lnTo>
                    <a:pt x="51" y="109"/>
                  </a:lnTo>
                  <a:lnTo>
                    <a:pt x="46" y="108"/>
                  </a:lnTo>
                  <a:lnTo>
                    <a:pt x="42" y="106"/>
                  </a:lnTo>
                  <a:lnTo>
                    <a:pt x="39" y="104"/>
                  </a:lnTo>
                  <a:lnTo>
                    <a:pt x="37" y="100"/>
                  </a:lnTo>
                  <a:lnTo>
                    <a:pt x="36" y="97"/>
                  </a:lnTo>
                  <a:lnTo>
                    <a:pt x="35" y="94"/>
                  </a:lnTo>
                  <a:lnTo>
                    <a:pt x="0" y="94"/>
                  </a:lnTo>
                  <a:lnTo>
                    <a:pt x="1" y="100"/>
                  </a:lnTo>
                  <a:lnTo>
                    <a:pt x="2" y="105"/>
                  </a:lnTo>
                  <a:lnTo>
                    <a:pt x="4" y="110"/>
                  </a:lnTo>
                  <a:lnTo>
                    <a:pt x="6" y="114"/>
                  </a:lnTo>
                  <a:lnTo>
                    <a:pt x="9" y="117"/>
                  </a:lnTo>
                  <a:lnTo>
                    <a:pt x="13" y="121"/>
                  </a:lnTo>
                  <a:lnTo>
                    <a:pt x="18" y="125"/>
                  </a:lnTo>
                  <a:lnTo>
                    <a:pt x="22" y="127"/>
                  </a:lnTo>
                  <a:lnTo>
                    <a:pt x="28" y="129"/>
                  </a:lnTo>
                  <a:lnTo>
                    <a:pt x="34" y="131"/>
                  </a:lnTo>
                  <a:lnTo>
                    <a:pt x="40" y="132"/>
                  </a:lnTo>
                  <a:lnTo>
                    <a:pt x="48" y="133"/>
                  </a:lnTo>
                  <a:lnTo>
                    <a:pt x="56" y="133"/>
                  </a:lnTo>
                  <a:lnTo>
                    <a:pt x="63" y="133"/>
                  </a:lnTo>
                  <a:lnTo>
                    <a:pt x="71" y="132"/>
                  </a:lnTo>
                  <a:lnTo>
                    <a:pt x="79" y="130"/>
                  </a:lnTo>
                  <a:lnTo>
                    <a:pt x="87" y="127"/>
                  </a:lnTo>
                  <a:lnTo>
                    <a:pt x="95" y="123"/>
                  </a:lnTo>
                  <a:lnTo>
                    <a:pt x="100" y="118"/>
                  </a:lnTo>
                  <a:lnTo>
                    <a:pt x="104" y="113"/>
                  </a:lnTo>
                  <a:lnTo>
                    <a:pt x="107" y="107"/>
                  </a:lnTo>
                  <a:lnTo>
                    <a:pt x="108" y="101"/>
                  </a:lnTo>
                  <a:lnTo>
                    <a:pt x="109" y="94"/>
                  </a:lnTo>
                  <a:lnTo>
                    <a:pt x="109" y="89"/>
                  </a:lnTo>
                  <a:lnTo>
                    <a:pt x="108" y="84"/>
                  </a:lnTo>
                  <a:lnTo>
                    <a:pt x="105" y="79"/>
                  </a:lnTo>
                  <a:lnTo>
                    <a:pt x="102" y="76"/>
                  </a:lnTo>
                  <a:lnTo>
                    <a:pt x="98" y="72"/>
                  </a:lnTo>
                  <a:lnTo>
                    <a:pt x="92" y="69"/>
                  </a:lnTo>
                  <a:lnTo>
                    <a:pt x="87" y="66"/>
                  </a:lnTo>
                  <a:lnTo>
                    <a:pt x="80" y="64"/>
                  </a:lnTo>
                  <a:lnTo>
                    <a:pt x="76" y="62"/>
                  </a:lnTo>
                  <a:lnTo>
                    <a:pt x="85" y="60"/>
                  </a:lnTo>
                  <a:lnTo>
                    <a:pt x="91" y="59"/>
                  </a:lnTo>
                  <a:lnTo>
                    <a:pt x="96" y="55"/>
                  </a:lnTo>
                  <a:lnTo>
                    <a:pt x="100" y="52"/>
                  </a:lnTo>
                  <a:lnTo>
                    <a:pt x="102" y="48"/>
                  </a:lnTo>
                  <a:lnTo>
                    <a:pt x="105" y="43"/>
                  </a:lnTo>
                  <a:lnTo>
                    <a:pt x="106" y="37"/>
                  </a:lnTo>
                  <a:lnTo>
                    <a:pt x="107" y="32"/>
                  </a:lnTo>
                  <a:lnTo>
                    <a:pt x="106" y="25"/>
                  </a:lnTo>
                  <a:lnTo>
                    <a:pt x="104" y="20"/>
                  </a:lnTo>
                  <a:lnTo>
                    <a:pt x="101" y="16"/>
                  </a:lnTo>
                  <a:lnTo>
                    <a:pt x="97" y="11"/>
                  </a:lnTo>
                  <a:lnTo>
                    <a:pt x="91" y="7"/>
                  </a:lnTo>
                  <a:lnTo>
                    <a:pt x="84" y="4"/>
                  </a:lnTo>
                  <a:lnTo>
                    <a:pt x="77" y="2"/>
                  </a:lnTo>
                  <a:lnTo>
                    <a:pt x="69" y="1"/>
                  </a:lnTo>
                  <a:lnTo>
                    <a:pt x="58" y="0"/>
                  </a:lnTo>
                  <a:lnTo>
                    <a:pt x="49" y="0"/>
                  </a:lnTo>
                  <a:lnTo>
                    <a:pt x="39" y="2"/>
                  </a:lnTo>
                  <a:lnTo>
                    <a:pt x="32" y="4"/>
                  </a:lnTo>
                  <a:lnTo>
                    <a:pt x="25" y="6"/>
                  </a:lnTo>
                  <a:lnTo>
                    <a:pt x="19" y="9"/>
                  </a:lnTo>
                  <a:lnTo>
                    <a:pt x="13" y="14"/>
                  </a:lnTo>
                  <a:lnTo>
                    <a:pt x="10" y="18"/>
                  </a:lnTo>
                  <a:lnTo>
                    <a:pt x="7" y="21"/>
                  </a:lnTo>
                  <a:lnTo>
                    <a:pt x="5" y="26"/>
                  </a:lnTo>
                  <a:lnTo>
                    <a:pt x="4" y="29"/>
                  </a:lnTo>
                  <a:lnTo>
                    <a:pt x="3" y="33"/>
                  </a:lnTo>
                  <a:lnTo>
                    <a:pt x="3" y="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3" name="idfbac" descr=""/>
          <p:cNvPicPr/>
          <p:nvPr/>
        </p:nvPicPr>
        <p:blipFill>
          <a:blip r:embed="rId2"/>
          <a:stretch/>
        </p:blipFill>
        <p:spPr>
          <a:xfrm>
            <a:off x="0" y="0"/>
            <a:ext cx="9144000" cy="6858000"/>
          </a:xfrm>
          <a:prstGeom prst="rect">
            <a:avLst/>
          </a:prstGeom>
          <a:ln w="0">
            <a:noFill/>
          </a:ln>
        </p:spPr>
      </p:pic>
      <p:sp>
        <p:nvSpPr>
          <p:cNvPr id="3594"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IPSec Offload Performance</a:t>
            </a:r>
            <a:endParaRPr b="1" lang="en-US" sz="4800" spc="-1" strike="noStrike">
              <a:solidFill>
                <a:srgbClr val="fccf00"/>
              </a:solidFill>
              <a:latin typeface="Arial"/>
            </a:endParaRPr>
          </a:p>
        </p:txBody>
      </p:sp>
      <p:grpSp>
        <p:nvGrpSpPr>
          <p:cNvPr id="3595" name=""/>
          <p:cNvGrpSpPr/>
          <p:nvPr/>
        </p:nvGrpSpPr>
        <p:grpSpPr>
          <a:xfrm>
            <a:off x="227160" y="4248000"/>
            <a:ext cx="4393800" cy="1624320"/>
            <a:chOff x="227160" y="4248000"/>
            <a:chExt cx="4393800" cy="1624320"/>
          </a:xfrm>
        </p:grpSpPr>
        <p:sp>
          <p:nvSpPr>
            <p:cNvPr id="3596" name=""/>
            <p:cNvSpPr/>
            <p:nvPr/>
          </p:nvSpPr>
          <p:spPr>
            <a:xfrm rot="21592200">
              <a:off x="228600" y="4559400"/>
              <a:ext cx="4390920" cy="1307880"/>
            </a:xfrm>
            <a:custGeom>
              <a:avLst/>
              <a:gdLst/>
              <a:ahLst/>
              <a:rect l="l" t="t" r="r" b="b"/>
              <a:pathLst>
                <a:path w="9355" h="4746">
                  <a:moveTo>
                    <a:pt x="4677" y="4746"/>
                  </a:moveTo>
                  <a:lnTo>
                    <a:pt x="4748" y="4746"/>
                  </a:lnTo>
                  <a:lnTo>
                    <a:pt x="4820" y="4744"/>
                  </a:lnTo>
                  <a:lnTo>
                    <a:pt x="4889" y="4743"/>
                  </a:lnTo>
                  <a:lnTo>
                    <a:pt x="4961" y="4742"/>
                  </a:lnTo>
                  <a:lnTo>
                    <a:pt x="5030" y="4739"/>
                  </a:lnTo>
                  <a:lnTo>
                    <a:pt x="5100" y="4736"/>
                  </a:lnTo>
                  <a:lnTo>
                    <a:pt x="5168" y="4733"/>
                  </a:lnTo>
                  <a:lnTo>
                    <a:pt x="5238" y="4729"/>
                  </a:lnTo>
                  <a:lnTo>
                    <a:pt x="5307" y="4725"/>
                  </a:lnTo>
                  <a:lnTo>
                    <a:pt x="5375" y="4719"/>
                  </a:lnTo>
                  <a:lnTo>
                    <a:pt x="5443" y="4714"/>
                  </a:lnTo>
                  <a:lnTo>
                    <a:pt x="5512" y="4708"/>
                  </a:lnTo>
                  <a:lnTo>
                    <a:pt x="5579" y="4703"/>
                  </a:lnTo>
                  <a:lnTo>
                    <a:pt x="5646" y="4696"/>
                  </a:lnTo>
                  <a:lnTo>
                    <a:pt x="5713" y="4687"/>
                  </a:lnTo>
                  <a:lnTo>
                    <a:pt x="5778" y="4680"/>
                  </a:lnTo>
                  <a:lnTo>
                    <a:pt x="5845" y="4672"/>
                  </a:lnTo>
                  <a:lnTo>
                    <a:pt x="5911" y="4662"/>
                  </a:lnTo>
                  <a:lnTo>
                    <a:pt x="5976" y="4654"/>
                  </a:lnTo>
                  <a:lnTo>
                    <a:pt x="6041" y="4644"/>
                  </a:lnTo>
                  <a:lnTo>
                    <a:pt x="6105" y="4633"/>
                  </a:lnTo>
                  <a:lnTo>
                    <a:pt x="6169" y="4623"/>
                  </a:lnTo>
                  <a:lnTo>
                    <a:pt x="6233" y="4612"/>
                  </a:lnTo>
                  <a:lnTo>
                    <a:pt x="6296" y="4601"/>
                  </a:lnTo>
                  <a:lnTo>
                    <a:pt x="6359" y="4588"/>
                  </a:lnTo>
                  <a:lnTo>
                    <a:pt x="6422" y="4576"/>
                  </a:lnTo>
                  <a:lnTo>
                    <a:pt x="6483" y="4563"/>
                  </a:lnTo>
                  <a:lnTo>
                    <a:pt x="6544" y="4549"/>
                  </a:lnTo>
                  <a:lnTo>
                    <a:pt x="6606" y="4535"/>
                  </a:lnTo>
                  <a:lnTo>
                    <a:pt x="6667" y="4521"/>
                  </a:lnTo>
                  <a:lnTo>
                    <a:pt x="6727" y="4507"/>
                  </a:lnTo>
                  <a:lnTo>
                    <a:pt x="6784" y="4492"/>
                  </a:lnTo>
                  <a:lnTo>
                    <a:pt x="6844" y="4477"/>
                  </a:lnTo>
                  <a:lnTo>
                    <a:pt x="6903" y="4460"/>
                  </a:lnTo>
                  <a:lnTo>
                    <a:pt x="6960" y="4444"/>
                  </a:lnTo>
                  <a:lnTo>
                    <a:pt x="7019" y="4428"/>
                  </a:lnTo>
                  <a:lnTo>
                    <a:pt x="7076" y="4411"/>
                  </a:lnTo>
                  <a:lnTo>
                    <a:pt x="7132" y="4393"/>
                  </a:lnTo>
                  <a:lnTo>
                    <a:pt x="7189" y="4375"/>
                  </a:lnTo>
                  <a:lnTo>
                    <a:pt x="7243" y="4357"/>
                  </a:lnTo>
                  <a:lnTo>
                    <a:pt x="7299" y="4338"/>
                  </a:lnTo>
                  <a:lnTo>
                    <a:pt x="7354" y="4319"/>
                  </a:lnTo>
                  <a:lnTo>
                    <a:pt x="7407" y="4299"/>
                  </a:lnTo>
                  <a:lnTo>
                    <a:pt x="7461" y="4280"/>
                  </a:lnTo>
                  <a:lnTo>
                    <a:pt x="7513" y="4260"/>
                  </a:lnTo>
                  <a:lnTo>
                    <a:pt x="7566" y="4239"/>
                  </a:lnTo>
                  <a:lnTo>
                    <a:pt x="7617" y="4218"/>
                  </a:lnTo>
                  <a:lnTo>
                    <a:pt x="7668" y="4197"/>
                  </a:lnTo>
                  <a:lnTo>
                    <a:pt x="7718" y="4175"/>
                  </a:lnTo>
                  <a:lnTo>
                    <a:pt x="7768" y="4156"/>
                  </a:lnTo>
                  <a:lnTo>
                    <a:pt x="7817" y="4133"/>
                  </a:lnTo>
                  <a:lnTo>
                    <a:pt x="7866" y="4110"/>
                  </a:lnTo>
                  <a:lnTo>
                    <a:pt x="7913" y="4087"/>
                  </a:lnTo>
                  <a:lnTo>
                    <a:pt x="7961" y="4064"/>
                  </a:lnTo>
                  <a:lnTo>
                    <a:pt x="8008" y="4040"/>
                  </a:lnTo>
                  <a:lnTo>
                    <a:pt x="8054" y="4016"/>
                  </a:lnTo>
                  <a:lnTo>
                    <a:pt x="8099" y="3992"/>
                  </a:lnTo>
                  <a:lnTo>
                    <a:pt x="8143" y="3967"/>
                  </a:lnTo>
                  <a:lnTo>
                    <a:pt x="8187" y="3942"/>
                  </a:lnTo>
                  <a:lnTo>
                    <a:pt x="8230" y="3917"/>
                  </a:lnTo>
                  <a:lnTo>
                    <a:pt x="8273" y="3892"/>
                  </a:lnTo>
                  <a:lnTo>
                    <a:pt x="8315" y="3865"/>
                  </a:lnTo>
                  <a:lnTo>
                    <a:pt x="8356" y="3840"/>
                  </a:lnTo>
                  <a:lnTo>
                    <a:pt x="8396" y="3814"/>
                  </a:lnTo>
                  <a:lnTo>
                    <a:pt x="8436" y="3786"/>
                  </a:lnTo>
                  <a:lnTo>
                    <a:pt x="8476" y="3759"/>
                  </a:lnTo>
                  <a:lnTo>
                    <a:pt x="8513" y="3731"/>
                  </a:lnTo>
                  <a:lnTo>
                    <a:pt x="8551" y="3705"/>
                  </a:lnTo>
                  <a:lnTo>
                    <a:pt x="8587" y="3677"/>
                  </a:lnTo>
                  <a:lnTo>
                    <a:pt x="8623" y="3648"/>
                  </a:lnTo>
                  <a:lnTo>
                    <a:pt x="8658" y="3620"/>
                  </a:lnTo>
                  <a:lnTo>
                    <a:pt x="8693" y="3590"/>
                  </a:lnTo>
                  <a:lnTo>
                    <a:pt x="8727" y="3563"/>
                  </a:lnTo>
                  <a:lnTo>
                    <a:pt x="8760" y="3533"/>
                  </a:lnTo>
                  <a:lnTo>
                    <a:pt x="8792" y="3503"/>
                  </a:lnTo>
                  <a:lnTo>
                    <a:pt x="8823" y="3473"/>
                  </a:lnTo>
                  <a:lnTo>
                    <a:pt x="8854" y="3444"/>
                  </a:lnTo>
                  <a:lnTo>
                    <a:pt x="8883" y="3413"/>
                  </a:lnTo>
                  <a:lnTo>
                    <a:pt x="8912" y="3383"/>
                  </a:lnTo>
                  <a:lnTo>
                    <a:pt x="8940" y="3352"/>
                  </a:lnTo>
                  <a:lnTo>
                    <a:pt x="8967" y="3321"/>
                  </a:lnTo>
                  <a:lnTo>
                    <a:pt x="8993" y="3290"/>
                  </a:lnTo>
                  <a:lnTo>
                    <a:pt x="9018" y="3258"/>
                  </a:lnTo>
                  <a:lnTo>
                    <a:pt x="9043" y="3226"/>
                  </a:lnTo>
                  <a:lnTo>
                    <a:pt x="9067" y="3194"/>
                  </a:lnTo>
                  <a:lnTo>
                    <a:pt x="9089" y="3162"/>
                  </a:lnTo>
                  <a:lnTo>
                    <a:pt x="9112" y="3130"/>
                  </a:lnTo>
                  <a:lnTo>
                    <a:pt x="9133" y="3098"/>
                  </a:lnTo>
                  <a:lnTo>
                    <a:pt x="9152" y="3066"/>
                  </a:lnTo>
                  <a:lnTo>
                    <a:pt x="9172" y="3032"/>
                  </a:lnTo>
                  <a:lnTo>
                    <a:pt x="9190" y="2999"/>
                  </a:lnTo>
                  <a:lnTo>
                    <a:pt x="9208" y="2965"/>
                  </a:lnTo>
                  <a:lnTo>
                    <a:pt x="9225" y="2932"/>
                  </a:lnTo>
                  <a:lnTo>
                    <a:pt x="9240" y="2898"/>
                  </a:lnTo>
                  <a:lnTo>
                    <a:pt x="9254" y="2865"/>
                  </a:lnTo>
                  <a:lnTo>
                    <a:pt x="9268" y="2831"/>
                  </a:lnTo>
                  <a:lnTo>
                    <a:pt x="9281" y="2796"/>
                  </a:lnTo>
                  <a:lnTo>
                    <a:pt x="9292" y="2762"/>
                  </a:lnTo>
                  <a:lnTo>
                    <a:pt x="9303" y="2728"/>
                  </a:lnTo>
                  <a:lnTo>
                    <a:pt x="9313" y="2693"/>
                  </a:lnTo>
                  <a:lnTo>
                    <a:pt x="9321" y="2658"/>
                  </a:lnTo>
                  <a:lnTo>
                    <a:pt x="9329" y="2623"/>
                  </a:lnTo>
                  <a:lnTo>
                    <a:pt x="9335" y="2587"/>
                  </a:lnTo>
                  <a:lnTo>
                    <a:pt x="9342" y="2552"/>
                  </a:lnTo>
                  <a:lnTo>
                    <a:pt x="9346" y="2517"/>
                  </a:lnTo>
                  <a:lnTo>
                    <a:pt x="9350" y="2481"/>
                  </a:lnTo>
                  <a:lnTo>
                    <a:pt x="9352" y="2446"/>
                  </a:lnTo>
                  <a:lnTo>
                    <a:pt x="9355" y="2410"/>
                  </a:lnTo>
                  <a:lnTo>
                    <a:pt x="9355" y="2374"/>
                  </a:lnTo>
                  <a:lnTo>
                    <a:pt x="9355" y="2374"/>
                  </a:lnTo>
                  <a:lnTo>
                    <a:pt x="9355" y="2337"/>
                  </a:lnTo>
                  <a:lnTo>
                    <a:pt x="9352" y="2301"/>
                  </a:lnTo>
                  <a:lnTo>
                    <a:pt x="9350" y="2266"/>
                  </a:lnTo>
                  <a:lnTo>
                    <a:pt x="9346" y="2230"/>
                  </a:lnTo>
                  <a:lnTo>
                    <a:pt x="9342" y="2195"/>
                  </a:lnTo>
                  <a:lnTo>
                    <a:pt x="9335" y="2160"/>
                  </a:lnTo>
                  <a:lnTo>
                    <a:pt x="9329" y="2124"/>
                  </a:lnTo>
                  <a:lnTo>
                    <a:pt x="9321" y="2089"/>
                  </a:lnTo>
                  <a:lnTo>
                    <a:pt x="9313" y="2054"/>
                  </a:lnTo>
                  <a:lnTo>
                    <a:pt x="9303" y="2019"/>
                  </a:lnTo>
                  <a:lnTo>
                    <a:pt x="9292" y="1986"/>
                  </a:lnTo>
                  <a:lnTo>
                    <a:pt x="9281" y="1951"/>
                  </a:lnTo>
                  <a:lnTo>
                    <a:pt x="9268" y="1916"/>
                  </a:lnTo>
                  <a:lnTo>
                    <a:pt x="9254" y="1882"/>
                  </a:lnTo>
                  <a:lnTo>
                    <a:pt x="9240" y="1849"/>
                  </a:lnTo>
                  <a:lnTo>
                    <a:pt x="9225" y="1815"/>
                  </a:lnTo>
                  <a:lnTo>
                    <a:pt x="9208" y="1782"/>
                  </a:lnTo>
                  <a:lnTo>
                    <a:pt x="9190" y="1748"/>
                  </a:lnTo>
                  <a:lnTo>
                    <a:pt x="9172" y="1715"/>
                  </a:lnTo>
                  <a:lnTo>
                    <a:pt x="9152" y="1681"/>
                  </a:lnTo>
                  <a:lnTo>
                    <a:pt x="9133" y="1649"/>
                  </a:lnTo>
                  <a:lnTo>
                    <a:pt x="9112" y="1617"/>
                  </a:lnTo>
                  <a:lnTo>
                    <a:pt x="9089" y="1585"/>
                  </a:lnTo>
                  <a:lnTo>
                    <a:pt x="9067" y="1553"/>
                  </a:lnTo>
                  <a:lnTo>
                    <a:pt x="9043" y="1521"/>
                  </a:lnTo>
                  <a:lnTo>
                    <a:pt x="9018" y="1489"/>
                  </a:lnTo>
                  <a:lnTo>
                    <a:pt x="8993" y="1457"/>
                  </a:lnTo>
                  <a:lnTo>
                    <a:pt x="8967" y="1426"/>
                  </a:lnTo>
                  <a:lnTo>
                    <a:pt x="8940" y="1395"/>
                  </a:lnTo>
                  <a:lnTo>
                    <a:pt x="8912" y="1365"/>
                  </a:lnTo>
                  <a:lnTo>
                    <a:pt x="8883" y="1334"/>
                  </a:lnTo>
                  <a:lnTo>
                    <a:pt x="8854" y="1303"/>
                  </a:lnTo>
                  <a:lnTo>
                    <a:pt x="8823" y="1274"/>
                  </a:lnTo>
                  <a:lnTo>
                    <a:pt x="8792" y="1245"/>
                  </a:lnTo>
                  <a:lnTo>
                    <a:pt x="8760" y="1214"/>
                  </a:lnTo>
                  <a:lnTo>
                    <a:pt x="8727" y="1185"/>
                  </a:lnTo>
                  <a:lnTo>
                    <a:pt x="8693" y="1157"/>
                  </a:lnTo>
                  <a:lnTo>
                    <a:pt x="8658" y="1127"/>
                  </a:lnTo>
                  <a:lnTo>
                    <a:pt x="8623" y="1100"/>
                  </a:lnTo>
                  <a:lnTo>
                    <a:pt x="8587" y="1070"/>
                  </a:lnTo>
                  <a:lnTo>
                    <a:pt x="8551" y="1042"/>
                  </a:lnTo>
                  <a:lnTo>
                    <a:pt x="8513" y="1016"/>
                  </a:lnTo>
                  <a:lnTo>
                    <a:pt x="8476" y="988"/>
                  </a:lnTo>
                  <a:lnTo>
                    <a:pt x="8436" y="961"/>
                  </a:lnTo>
                  <a:lnTo>
                    <a:pt x="8396" y="933"/>
                  </a:lnTo>
                  <a:lnTo>
                    <a:pt x="8356" y="908"/>
                  </a:lnTo>
                  <a:lnTo>
                    <a:pt x="8315" y="882"/>
                  </a:lnTo>
                  <a:lnTo>
                    <a:pt x="8273" y="855"/>
                  </a:lnTo>
                  <a:lnTo>
                    <a:pt x="8230" y="830"/>
                  </a:lnTo>
                  <a:lnTo>
                    <a:pt x="8187" y="805"/>
                  </a:lnTo>
                  <a:lnTo>
                    <a:pt x="8143" y="780"/>
                  </a:lnTo>
                  <a:lnTo>
                    <a:pt x="8099" y="755"/>
                  </a:lnTo>
                  <a:lnTo>
                    <a:pt x="8054" y="731"/>
                  </a:lnTo>
                  <a:lnTo>
                    <a:pt x="8008" y="707"/>
                  </a:lnTo>
                  <a:lnTo>
                    <a:pt x="7961" y="684"/>
                  </a:lnTo>
                  <a:lnTo>
                    <a:pt x="7913" y="660"/>
                  </a:lnTo>
                  <a:lnTo>
                    <a:pt x="7866" y="638"/>
                  </a:lnTo>
                  <a:lnTo>
                    <a:pt x="7817" y="614"/>
                  </a:lnTo>
                  <a:lnTo>
                    <a:pt x="7768" y="592"/>
                  </a:lnTo>
                  <a:lnTo>
                    <a:pt x="7718" y="571"/>
                  </a:lnTo>
                  <a:lnTo>
                    <a:pt x="7668" y="548"/>
                  </a:lnTo>
                  <a:lnTo>
                    <a:pt x="7617" y="527"/>
                  </a:lnTo>
                  <a:lnTo>
                    <a:pt x="7566" y="506"/>
                  </a:lnTo>
                  <a:lnTo>
                    <a:pt x="7513" y="486"/>
                  </a:lnTo>
                  <a:lnTo>
                    <a:pt x="7461" y="466"/>
                  </a:lnTo>
                  <a:lnTo>
                    <a:pt x="7407" y="446"/>
                  </a:lnTo>
                  <a:lnTo>
                    <a:pt x="7354" y="427"/>
                  </a:lnTo>
                  <a:lnTo>
                    <a:pt x="7299" y="407"/>
                  </a:lnTo>
                  <a:lnTo>
                    <a:pt x="7243" y="389"/>
                  </a:lnTo>
                  <a:lnTo>
                    <a:pt x="7189" y="371"/>
                  </a:lnTo>
                  <a:lnTo>
                    <a:pt x="7132" y="353"/>
                  </a:lnTo>
                  <a:lnTo>
                    <a:pt x="7076" y="335"/>
                  </a:lnTo>
                  <a:lnTo>
                    <a:pt x="7019" y="318"/>
                  </a:lnTo>
                  <a:lnTo>
                    <a:pt x="6960" y="301"/>
                  </a:lnTo>
                  <a:lnTo>
                    <a:pt x="6903" y="286"/>
                  </a:lnTo>
                  <a:lnTo>
                    <a:pt x="6844" y="269"/>
                  </a:lnTo>
                  <a:lnTo>
                    <a:pt x="6784" y="254"/>
                  </a:lnTo>
                  <a:lnTo>
                    <a:pt x="6727" y="239"/>
                  </a:lnTo>
                  <a:lnTo>
                    <a:pt x="6667" y="225"/>
                  </a:lnTo>
                  <a:lnTo>
                    <a:pt x="6606" y="211"/>
                  </a:lnTo>
                  <a:lnTo>
                    <a:pt x="6544" y="197"/>
                  </a:lnTo>
                  <a:lnTo>
                    <a:pt x="6483" y="183"/>
                  </a:lnTo>
                  <a:lnTo>
                    <a:pt x="6422" y="170"/>
                  </a:lnTo>
                  <a:lnTo>
                    <a:pt x="6359" y="158"/>
                  </a:lnTo>
                  <a:lnTo>
                    <a:pt x="6296" y="145"/>
                  </a:lnTo>
                  <a:lnTo>
                    <a:pt x="6233" y="134"/>
                  </a:lnTo>
                  <a:lnTo>
                    <a:pt x="6169" y="123"/>
                  </a:lnTo>
                  <a:lnTo>
                    <a:pt x="6105" y="113"/>
                  </a:lnTo>
                  <a:lnTo>
                    <a:pt x="6041" y="102"/>
                  </a:lnTo>
                  <a:lnTo>
                    <a:pt x="5976" y="92"/>
                  </a:lnTo>
                  <a:lnTo>
                    <a:pt x="5911" y="84"/>
                  </a:lnTo>
                  <a:lnTo>
                    <a:pt x="5845" y="74"/>
                  </a:lnTo>
                  <a:lnTo>
                    <a:pt x="5778" y="65"/>
                  </a:lnTo>
                  <a:lnTo>
                    <a:pt x="5713" y="59"/>
                  </a:lnTo>
                  <a:lnTo>
                    <a:pt x="5646" y="50"/>
                  </a:lnTo>
                  <a:lnTo>
                    <a:pt x="5579" y="43"/>
                  </a:lnTo>
                  <a:lnTo>
                    <a:pt x="5512" y="38"/>
                  </a:lnTo>
                  <a:lnTo>
                    <a:pt x="5443" y="32"/>
                  </a:lnTo>
                  <a:lnTo>
                    <a:pt x="5375" y="26"/>
                  </a:lnTo>
                  <a:lnTo>
                    <a:pt x="5307" y="21"/>
                  </a:lnTo>
                  <a:lnTo>
                    <a:pt x="5238" y="17"/>
                  </a:lnTo>
                  <a:lnTo>
                    <a:pt x="5168" y="12"/>
                  </a:lnTo>
                  <a:lnTo>
                    <a:pt x="5100" y="10"/>
                  </a:lnTo>
                  <a:lnTo>
                    <a:pt x="5030" y="7"/>
                  </a:lnTo>
                  <a:lnTo>
                    <a:pt x="4961" y="4"/>
                  </a:lnTo>
                  <a:lnTo>
                    <a:pt x="4889" y="3"/>
                  </a:lnTo>
                  <a:lnTo>
                    <a:pt x="4820" y="1"/>
                  </a:lnTo>
                  <a:lnTo>
                    <a:pt x="4748" y="0"/>
                  </a:lnTo>
                  <a:lnTo>
                    <a:pt x="4677" y="0"/>
                  </a:lnTo>
                  <a:lnTo>
                    <a:pt x="4677" y="0"/>
                  </a:lnTo>
                  <a:lnTo>
                    <a:pt x="4608" y="0"/>
                  </a:lnTo>
                  <a:lnTo>
                    <a:pt x="4536" y="1"/>
                  </a:lnTo>
                  <a:lnTo>
                    <a:pt x="4465" y="3"/>
                  </a:lnTo>
                  <a:lnTo>
                    <a:pt x="4395" y="4"/>
                  </a:lnTo>
                  <a:lnTo>
                    <a:pt x="4326" y="7"/>
                  </a:lnTo>
                  <a:lnTo>
                    <a:pt x="4256" y="10"/>
                  </a:lnTo>
                  <a:lnTo>
                    <a:pt x="4186" y="12"/>
                  </a:lnTo>
                  <a:lnTo>
                    <a:pt x="4118" y="17"/>
                  </a:lnTo>
                  <a:lnTo>
                    <a:pt x="4049" y="21"/>
                  </a:lnTo>
                  <a:lnTo>
                    <a:pt x="3981" y="26"/>
                  </a:lnTo>
                  <a:lnTo>
                    <a:pt x="3913" y="32"/>
                  </a:lnTo>
                  <a:lnTo>
                    <a:pt x="3844" y="38"/>
                  </a:lnTo>
                  <a:lnTo>
                    <a:pt x="3777" y="43"/>
                  </a:lnTo>
                  <a:lnTo>
                    <a:pt x="3710" y="50"/>
                  </a:lnTo>
                  <a:lnTo>
                    <a:pt x="3643" y="59"/>
                  </a:lnTo>
                  <a:lnTo>
                    <a:pt x="3576" y="65"/>
                  </a:lnTo>
                  <a:lnTo>
                    <a:pt x="3511" y="74"/>
                  </a:lnTo>
                  <a:lnTo>
                    <a:pt x="3445" y="84"/>
                  </a:lnTo>
                  <a:lnTo>
                    <a:pt x="3380" y="92"/>
                  </a:lnTo>
                  <a:lnTo>
                    <a:pt x="3315" y="102"/>
                  </a:lnTo>
                  <a:lnTo>
                    <a:pt x="3251" y="113"/>
                  </a:lnTo>
                  <a:lnTo>
                    <a:pt x="3187" y="123"/>
                  </a:lnTo>
                  <a:lnTo>
                    <a:pt x="3123" y="134"/>
                  </a:lnTo>
                  <a:lnTo>
                    <a:pt x="3060" y="145"/>
                  </a:lnTo>
                  <a:lnTo>
                    <a:pt x="2997" y="158"/>
                  </a:lnTo>
                  <a:lnTo>
                    <a:pt x="2935" y="170"/>
                  </a:lnTo>
                  <a:lnTo>
                    <a:pt x="2873" y="183"/>
                  </a:lnTo>
                  <a:lnTo>
                    <a:pt x="2810" y="197"/>
                  </a:lnTo>
                  <a:lnTo>
                    <a:pt x="2750" y="211"/>
                  </a:lnTo>
                  <a:lnTo>
                    <a:pt x="2689" y="225"/>
                  </a:lnTo>
                  <a:lnTo>
                    <a:pt x="2629" y="239"/>
                  </a:lnTo>
                  <a:lnTo>
                    <a:pt x="2569" y="254"/>
                  </a:lnTo>
                  <a:lnTo>
                    <a:pt x="2510" y="269"/>
                  </a:lnTo>
                  <a:lnTo>
                    <a:pt x="2452" y="286"/>
                  </a:lnTo>
                  <a:lnTo>
                    <a:pt x="2393" y="301"/>
                  </a:lnTo>
                  <a:lnTo>
                    <a:pt x="2336" y="318"/>
                  </a:lnTo>
                  <a:lnTo>
                    <a:pt x="2279" y="335"/>
                  </a:lnTo>
                  <a:lnTo>
                    <a:pt x="2223" y="353"/>
                  </a:lnTo>
                  <a:lnTo>
                    <a:pt x="2166" y="371"/>
                  </a:lnTo>
                  <a:lnTo>
                    <a:pt x="2111" y="389"/>
                  </a:lnTo>
                  <a:lnTo>
                    <a:pt x="2055" y="407"/>
                  </a:lnTo>
                  <a:lnTo>
                    <a:pt x="2001" y="427"/>
                  </a:lnTo>
                  <a:lnTo>
                    <a:pt x="1947" y="446"/>
                  </a:lnTo>
                  <a:lnTo>
                    <a:pt x="1894" y="466"/>
                  </a:lnTo>
                  <a:lnTo>
                    <a:pt x="1841" y="486"/>
                  </a:lnTo>
                  <a:lnTo>
                    <a:pt x="1789" y="506"/>
                  </a:lnTo>
                  <a:lnTo>
                    <a:pt x="1737" y="527"/>
                  </a:lnTo>
                  <a:lnTo>
                    <a:pt x="1687" y="548"/>
                  </a:lnTo>
                  <a:lnTo>
                    <a:pt x="1635" y="571"/>
                  </a:lnTo>
                  <a:lnTo>
                    <a:pt x="1587" y="592"/>
                  </a:lnTo>
                  <a:lnTo>
                    <a:pt x="1538" y="614"/>
                  </a:lnTo>
                  <a:lnTo>
                    <a:pt x="1489" y="638"/>
                  </a:lnTo>
                  <a:lnTo>
                    <a:pt x="1440" y="660"/>
                  </a:lnTo>
                  <a:lnTo>
                    <a:pt x="1394" y="684"/>
                  </a:lnTo>
                  <a:lnTo>
                    <a:pt x="1347" y="707"/>
                  </a:lnTo>
                  <a:lnTo>
                    <a:pt x="1301" y="731"/>
                  </a:lnTo>
                  <a:lnTo>
                    <a:pt x="1256" y="755"/>
                  </a:lnTo>
                  <a:lnTo>
                    <a:pt x="1211" y="780"/>
                  </a:lnTo>
                  <a:lnTo>
                    <a:pt x="1167" y="805"/>
                  </a:lnTo>
                  <a:lnTo>
                    <a:pt x="1123" y="830"/>
                  </a:lnTo>
                  <a:lnTo>
                    <a:pt x="1081" y="855"/>
                  </a:lnTo>
                  <a:lnTo>
                    <a:pt x="1040" y="882"/>
                  </a:lnTo>
                  <a:lnTo>
                    <a:pt x="998" y="908"/>
                  </a:lnTo>
                  <a:lnTo>
                    <a:pt x="957" y="933"/>
                  </a:lnTo>
                  <a:lnTo>
                    <a:pt x="918" y="961"/>
                  </a:lnTo>
                  <a:lnTo>
                    <a:pt x="879" y="988"/>
                  </a:lnTo>
                  <a:lnTo>
                    <a:pt x="841" y="1016"/>
                  </a:lnTo>
                  <a:lnTo>
                    <a:pt x="804" y="1042"/>
                  </a:lnTo>
                  <a:lnTo>
                    <a:pt x="766" y="1070"/>
                  </a:lnTo>
                  <a:lnTo>
                    <a:pt x="731" y="1100"/>
                  </a:lnTo>
                  <a:lnTo>
                    <a:pt x="695" y="1127"/>
                  </a:lnTo>
                  <a:lnTo>
                    <a:pt x="661" y="1157"/>
                  </a:lnTo>
                  <a:lnTo>
                    <a:pt x="628" y="1185"/>
                  </a:lnTo>
                  <a:lnTo>
                    <a:pt x="594" y="1214"/>
                  </a:lnTo>
                  <a:lnTo>
                    <a:pt x="562" y="1245"/>
                  </a:lnTo>
                  <a:lnTo>
                    <a:pt x="532" y="1274"/>
                  </a:lnTo>
                  <a:lnTo>
                    <a:pt x="501" y="1303"/>
                  </a:lnTo>
                  <a:lnTo>
                    <a:pt x="472" y="1334"/>
                  </a:lnTo>
                  <a:lnTo>
                    <a:pt x="442" y="1365"/>
                  </a:lnTo>
                  <a:lnTo>
                    <a:pt x="414" y="1395"/>
                  </a:lnTo>
                  <a:lnTo>
                    <a:pt x="388" y="1426"/>
                  </a:lnTo>
                  <a:lnTo>
                    <a:pt x="361" y="1457"/>
                  </a:lnTo>
                  <a:lnTo>
                    <a:pt x="336" y="1489"/>
                  </a:lnTo>
                  <a:lnTo>
                    <a:pt x="311" y="1521"/>
                  </a:lnTo>
                  <a:lnTo>
                    <a:pt x="287" y="1553"/>
                  </a:lnTo>
                  <a:lnTo>
                    <a:pt x="265" y="1585"/>
                  </a:lnTo>
                  <a:lnTo>
                    <a:pt x="243" y="1617"/>
                  </a:lnTo>
                  <a:lnTo>
                    <a:pt x="222" y="1649"/>
                  </a:lnTo>
                  <a:lnTo>
                    <a:pt x="201" y="1681"/>
                  </a:lnTo>
                  <a:lnTo>
                    <a:pt x="183" y="1715"/>
                  </a:lnTo>
                  <a:lnTo>
                    <a:pt x="165" y="1748"/>
                  </a:lnTo>
                  <a:lnTo>
                    <a:pt x="147" y="1782"/>
                  </a:lnTo>
                  <a:lnTo>
                    <a:pt x="130" y="1815"/>
                  </a:lnTo>
                  <a:lnTo>
                    <a:pt x="114" y="1849"/>
                  </a:lnTo>
                  <a:lnTo>
                    <a:pt x="101" y="1882"/>
                  </a:lnTo>
                  <a:lnTo>
                    <a:pt x="87" y="1916"/>
                  </a:lnTo>
                  <a:lnTo>
                    <a:pt x="74" y="1951"/>
                  </a:lnTo>
                  <a:lnTo>
                    <a:pt x="63" y="1986"/>
                  </a:lnTo>
                  <a:lnTo>
                    <a:pt x="52" y="2019"/>
                  </a:lnTo>
                  <a:lnTo>
                    <a:pt x="42" y="2054"/>
                  </a:lnTo>
                  <a:lnTo>
                    <a:pt x="34" y="2089"/>
                  </a:lnTo>
                  <a:lnTo>
                    <a:pt x="25" y="2124"/>
                  </a:lnTo>
                  <a:lnTo>
                    <a:pt x="18" y="2160"/>
                  </a:lnTo>
                  <a:lnTo>
                    <a:pt x="13" y="2195"/>
                  </a:lnTo>
                  <a:lnTo>
                    <a:pt x="8" y="2230"/>
                  </a:lnTo>
                  <a:lnTo>
                    <a:pt x="4" y="2266"/>
                  </a:lnTo>
                  <a:lnTo>
                    <a:pt x="1" y="2301"/>
                  </a:lnTo>
                  <a:lnTo>
                    <a:pt x="0" y="2337"/>
                  </a:lnTo>
                  <a:lnTo>
                    <a:pt x="0" y="2374"/>
                  </a:lnTo>
                  <a:lnTo>
                    <a:pt x="0" y="2374"/>
                  </a:lnTo>
                  <a:lnTo>
                    <a:pt x="0" y="2410"/>
                  </a:lnTo>
                  <a:lnTo>
                    <a:pt x="1" y="2446"/>
                  </a:lnTo>
                  <a:lnTo>
                    <a:pt x="4" y="2481"/>
                  </a:lnTo>
                  <a:lnTo>
                    <a:pt x="8" y="2517"/>
                  </a:lnTo>
                  <a:lnTo>
                    <a:pt x="13" y="2552"/>
                  </a:lnTo>
                  <a:lnTo>
                    <a:pt x="18" y="2587"/>
                  </a:lnTo>
                  <a:lnTo>
                    <a:pt x="25" y="2623"/>
                  </a:lnTo>
                  <a:lnTo>
                    <a:pt x="34" y="2658"/>
                  </a:lnTo>
                  <a:lnTo>
                    <a:pt x="42" y="2693"/>
                  </a:lnTo>
                  <a:lnTo>
                    <a:pt x="52" y="2728"/>
                  </a:lnTo>
                  <a:lnTo>
                    <a:pt x="63" y="2762"/>
                  </a:lnTo>
                  <a:lnTo>
                    <a:pt x="74" y="2796"/>
                  </a:lnTo>
                  <a:lnTo>
                    <a:pt x="87" y="2831"/>
                  </a:lnTo>
                  <a:lnTo>
                    <a:pt x="101" y="2865"/>
                  </a:lnTo>
                  <a:lnTo>
                    <a:pt x="114" y="2898"/>
                  </a:lnTo>
                  <a:lnTo>
                    <a:pt x="130" y="2932"/>
                  </a:lnTo>
                  <a:lnTo>
                    <a:pt x="147" y="2965"/>
                  </a:lnTo>
                  <a:lnTo>
                    <a:pt x="165" y="2999"/>
                  </a:lnTo>
                  <a:lnTo>
                    <a:pt x="183" y="3032"/>
                  </a:lnTo>
                  <a:lnTo>
                    <a:pt x="201" y="3066"/>
                  </a:lnTo>
                  <a:lnTo>
                    <a:pt x="222" y="3098"/>
                  </a:lnTo>
                  <a:lnTo>
                    <a:pt x="243" y="3130"/>
                  </a:lnTo>
                  <a:lnTo>
                    <a:pt x="265" y="3162"/>
                  </a:lnTo>
                  <a:lnTo>
                    <a:pt x="287" y="3194"/>
                  </a:lnTo>
                  <a:lnTo>
                    <a:pt x="311" y="3226"/>
                  </a:lnTo>
                  <a:lnTo>
                    <a:pt x="336" y="3258"/>
                  </a:lnTo>
                  <a:lnTo>
                    <a:pt x="361" y="3290"/>
                  </a:lnTo>
                  <a:lnTo>
                    <a:pt x="388" y="3321"/>
                  </a:lnTo>
                  <a:lnTo>
                    <a:pt x="414" y="3352"/>
                  </a:lnTo>
                  <a:lnTo>
                    <a:pt x="442" y="3383"/>
                  </a:lnTo>
                  <a:lnTo>
                    <a:pt x="472" y="3413"/>
                  </a:lnTo>
                  <a:lnTo>
                    <a:pt x="501" y="3444"/>
                  </a:lnTo>
                  <a:lnTo>
                    <a:pt x="532" y="3473"/>
                  </a:lnTo>
                  <a:lnTo>
                    <a:pt x="562" y="3503"/>
                  </a:lnTo>
                  <a:lnTo>
                    <a:pt x="594" y="3533"/>
                  </a:lnTo>
                  <a:lnTo>
                    <a:pt x="628" y="3563"/>
                  </a:lnTo>
                  <a:lnTo>
                    <a:pt x="661" y="3590"/>
                  </a:lnTo>
                  <a:lnTo>
                    <a:pt x="695" y="3620"/>
                  </a:lnTo>
                  <a:lnTo>
                    <a:pt x="731" y="3648"/>
                  </a:lnTo>
                  <a:lnTo>
                    <a:pt x="766" y="3677"/>
                  </a:lnTo>
                  <a:lnTo>
                    <a:pt x="804" y="3705"/>
                  </a:lnTo>
                  <a:lnTo>
                    <a:pt x="841" y="3731"/>
                  </a:lnTo>
                  <a:lnTo>
                    <a:pt x="879" y="3759"/>
                  </a:lnTo>
                  <a:lnTo>
                    <a:pt x="918" y="3786"/>
                  </a:lnTo>
                  <a:lnTo>
                    <a:pt x="957" y="3814"/>
                  </a:lnTo>
                  <a:lnTo>
                    <a:pt x="998" y="3840"/>
                  </a:lnTo>
                  <a:lnTo>
                    <a:pt x="1040" y="3865"/>
                  </a:lnTo>
                  <a:lnTo>
                    <a:pt x="1081" y="3892"/>
                  </a:lnTo>
                  <a:lnTo>
                    <a:pt x="1123" y="3917"/>
                  </a:lnTo>
                  <a:lnTo>
                    <a:pt x="1167" y="3942"/>
                  </a:lnTo>
                  <a:lnTo>
                    <a:pt x="1211" y="3967"/>
                  </a:lnTo>
                  <a:lnTo>
                    <a:pt x="1256" y="3992"/>
                  </a:lnTo>
                  <a:lnTo>
                    <a:pt x="1301" y="4016"/>
                  </a:lnTo>
                  <a:lnTo>
                    <a:pt x="1347" y="4040"/>
                  </a:lnTo>
                  <a:lnTo>
                    <a:pt x="1394" y="4064"/>
                  </a:lnTo>
                  <a:lnTo>
                    <a:pt x="1440" y="4087"/>
                  </a:lnTo>
                  <a:lnTo>
                    <a:pt x="1489" y="4110"/>
                  </a:lnTo>
                  <a:lnTo>
                    <a:pt x="1538" y="4133"/>
                  </a:lnTo>
                  <a:lnTo>
                    <a:pt x="1587" y="4156"/>
                  </a:lnTo>
                  <a:lnTo>
                    <a:pt x="1635" y="4175"/>
                  </a:lnTo>
                  <a:lnTo>
                    <a:pt x="1687" y="4197"/>
                  </a:lnTo>
                  <a:lnTo>
                    <a:pt x="1737" y="4218"/>
                  </a:lnTo>
                  <a:lnTo>
                    <a:pt x="1789" y="4239"/>
                  </a:lnTo>
                  <a:lnTo>
                    <a:pt x="1841" y="4260"/>
                  </a:lnTo>
                  <a:lnTo>
                    <a:pt x="1894" y="4280"/>
                  </a:lnTo>
                  <a:lnTo>
                    <a:pt x="1947" y="4299"/>
                  </a:lnTo>
                  <a:lnTo>
                    <a:pt x="2001" y="4319"/>
                  </a:lnTo>
                  <a:lnTo>
                    <a:pt x="2055" y="4338"/>
                  </a:lnTo>
                  <a:lnTo>
                    <a:pt x="2111" y="4357"/>
                  </a:lnTo>
                  <a:lnTo>
                    <a:pt x="2166" y="4375"/>
                  </a:lnTo>
                  <a:lnTo>
                    <a:pt x="2223" y="4393"/>
                  </a:lnTo>
                  <a:lnTo>
                    <a:pt x="2279" y="4411"/>
                  </a:lnTo>
                  <a:lnTo>
                    <a:pt x="2336" y="4428"/>
                  </a:lnTo>
                  <a:lnTo>
                    <a:pt x="2393" y="4444"/>
                  </a:lnTo>
                  <a:lnTo>
                    <a:pt x="2452" y="4460"/>
                  </a:lnTo>
                  <a:lnTo>
                    <a:pt x="2510" y="4477"/>
                  </a:lnTo>
                  <a:lnTo>
                    <a:pt x="2569" y="4492"/>
                  </a:lnTo>
                  <a:lnTo>
                    <a:pt x="2629" y="4507"/>
                  </a:lnTo>
                  <a:lnTo>
                    <a:pt x="2689" y="4521"/>
                  </a:lnTo>
                  <a:lnTo>
                    <a:pt x="2750" y="4535"/>
                  </a:lnTo>
                  <a:lnTo>
                    <a:pt x="2810" y="4549"/>
                  </a:lnTo>
                  <a:lnTo>
                    <a:pt x="2873" y="4563"/>
                  </a:lnTo>
                  <a:lnTo>
                    <a:pt x="2935" y="4576"/>
                  </a:lnTo>
                  <a:lnTo>
                    <a:pt x="2997" y="4588"/>
                  </a:lnTo>
                  <a:lnTo>
                    <a:pt x="3060" y="4601"/>
                  </a:lnTo>
                  <a:lnTo>
                    <a:pt x="3123" y="4612"/>
                  </a:lnTo>
                  <a:lnTo>
                    <a:pt x="3187" y="4623"/>
                  </a:lnTo>
                  <a:lnTo>
                    <a:pt x="3251" y="4633"/>
                  </a:lnTo>
                  <a:lnTo>
                    <a:pt x="3315" y="4644"/>
                  </a:lnTo>
                  <a:lnTo>
                    <a:pt x="3380" y="4654"/>
                  </a:lnTo>
                  <a:lnTo>
                    <a:pt x="3445" y="4662"/>
                  </a:lnTo>
                  <a:lnTo>
                    <a:pt x="3511" y="4672"/>
                  </a:lnTo>
                  <a:lnTo>
                    <a:pt x="3576" y="4680"/>
                  </a:lnTo>
                  <a:lnTo>
                    <a:pt x="3643" y="4687"/>
                  </a:lnTo>
                  <a:lnTo>
                    <a:pt x="3710" y="4696"/>
                  </a:lnTo>
                  <a:lnTo>
                    <a:pt x="3777" y="4703"/>
                  </a:lnTo>
                  <a:lnTo>
                    <a:pt x="3844" y="4708"/>
                  </a:lnTo>
                  <a:lnTo>
                    <a:pt x="3913" y="4714"/>
                  </a:lnTo>
                  <a:lnTo>
                    <a:pt x="3981" y="4719"/>
                  </a:lnTo>
                  <a:lnTo>
                    <a:pt x="4049" y="4725"/>
                  </a:lnTo>
                  <a:lnTo>
                    <a:pt x="4118" y="4729"/>
                  </a:lnTo>
                  <a:lnTo>
                    <a:pt x="4186" y="4733"/>
                  </a:lnTo>
                  <a:lnTo>
                    <a:pt x="4256" y="4736"/>
                  </a:lnTo>
                  <a:lnTo>
                    <a:pt x="4326" y="4739"/>
                  </a:lnTo>
                  <a:lnTo>
                    <a:pt x="4395" y="4742"/>
                  </a:lnTo>
                  <a:lnTo>
                    <a:pt x="4465" y="4743"/>
                  </a:lnTo>
                  <a:lnTo>
                    <a:pt x="4536" y="4744"/>
                  </a:lnTo>
                  <a:lnTo>
                    <a:pt x="4608" y="4746"/>
                  </a:lnTo>
                  <a:lnTo>
                    <a:pt x="4677" y="4746"/>
                  </a:lnTo>
                  <a:lnTo>
                    <a:pt x="4677" y="4746"/>
                  </a:lnTo>
                  <a:close/>
                </a:path>
              </a:pathLst>
            </a:custGeom>
            <a:solidFill>
              <a:srgbClr val="000000">
                <a:alpha val="50000"/>
              </a:srgbClr>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97" name=""/>
            <p:cNvSpPr/>
            <p:nvPr/>
          </p:nvSpPr>
          <p:spPr>
            <a:xfrm>
              <a:off x="282960" y="4348080"/>
              <a:ext cx="4315680" cy="1346040"/>
            </a:xfrm>
            <a:custGeom>
              <a:avLst/>
              <a:gdLst/>
              <a:ahLst/>
              <a:rect l="l" t="t" r="r" b="b"/>
              <a:pathLst>
                <a:path w="11226" h="5695">
                  <a:moveTo>
                    <a:pt x="5614" y="5695"/>
                  </a:moveTo>
                  <a:lnTo>
                    <a:pt x="5685" y="5695"/>
                  </a:lnTo>
                  <a:lnTo>
                    <a:pt x="5755" y="5695"/>
                  </a:lnTo>
                  <a:lnTo>
                    <a:pt x="5826" y="5694"/>
                  </a:lnTo>
                  <a:lnTo>
                    <a:pt x="5895" y="5692"/>
                  </a:lnTo>
                  <a:lnTo>
                    <a:pt x="5965" y="5690"/>
                  </a:lnTo>
                  <a:lnTo>
                    <a:pt x="6035" y="5687"/>
                  </a:lnTo>
                  <a:lnTo>
                    <a:pt x="6105" y="5684"/>
                  </a:lnTo>
                  <a:lnTo>
                    <a:pt x="6175" y="5681"/>
                  </a:lnTo>
                  <a:lnTo>
                    <a:pt x="6243" y="5677"/>
                  </a:lnTo>
                  <a:lnTo>
                    <a:pt x="6313" y="5673"/>
                  </a:lnTo>
                  <a:lnTo>
                    <a:pt x="6381" y="5669"/>
                  </a:lnTo>
                  <a:lnTo>
                    <a:pt x="6449" y="5665"/>
                  </a:lnTo>
                  <a:lnTo>
                    <a:pt x="6518" y="5659"/>
                  </a:lnTo>
                  <a:lnTo>
                    <a:pt x="6585" y="5653"/>
                  </a:lnTo>
                  <a:lnTo>
                    <a:pt x="6653" y="5646"/>
                  </a:lnTo>
                  <a:lnTo>
                    <a:pt x="6720" y="5641"/>
                  </a:lnTo>
                  <a:lnTo>
                    <a:pt x="6786" y="5634"/>
                  </a:lnTo>
                  <a:lnTo>
                    <a:pt x="6851" y="5625"/>
                  </a:lnTo>
                  <a:lnTo>
                    <a:pt x="6918" y="5618"/>
                  </a:lnTo>
                  <a:lnTo>
                    <a:pt x="6984" y="5610"/>
                  </a:lnTo>
                  <a:lnTo>
                    <a:pt x="7049" y="5602"/>
                  </a:lnTo>
                  <a:lnTo>
                    <a:pt x="7115" y="5592"/>
                  </a:lnTo>
                  <a:lnTo>
                    <a:pt x="7181" y="5582"/>
                  </a:lnTo>
                  <a:lnTo>
                    <a:pt x="7245" y="5572"/>
                  </a:lnTo>
                  <a:lnTo>
                    <a:pt x="7309" y="5563"/>
                  </a:lnTo>
                  <a:lnTo>
                    <a:pt x="7373" y="5553"/>
                  </a:lnTo>
                  <a:lnTo>
                    <a:pt x="7437" y="5542"/>
                  </a:lnTo>
                  <a:lnTo>
                    <a:pt x="7500" y="5531"/>
                  </a:lnTo>
                  <a:lnTo>
                    <a:pt x="7564" y="5518"/>
                  </a:lnTo>
                  <a:lnTo>
                    <a:pt x="7627" y="5507"/>
                  </a:lnTo>
                  <a:lnTo>
                    <a:pt x="7689" y="5494"/>
                  </a:lnTo>
                  <a:lnTo>
                    <a:pt x="7751" y="5482"/>
                  </a:lnTo>
                  <a:lnTo>
                    <a:pt x="7813" y="5468"/>
                  </a:lnTo>
                  <a:lnTo>
                    <a:pt x="7874" y="5455"/>
                  </a:lnTo>
                  <a:lnTo>
                    <a:pt x="7934" y="5441"/>
                  </a:lnTo>
                  <a:lnTo>
                    <a:pt x="7996" y="5427"/>
                  </a:lnTo>
                  <a:lnTo>
                    <a:pt x="8056" y="5412"/>
                  </a:lnTo>
                  <a:lnTo>
                    <a:pt x="8116" y="5398"/>
                  </a:lnTo>
                  <a:lnTo>
                    <a:pt x="8174" y="5383"/>
                  </a:lnTo>
                  <a:lnTo>
                    <a:pt x="8233" y="5366"/>
                  </a:lnTo>
                  <a:lnTo>
                    <a:pt x="8291" y="5351"/>
                  </a:lnTo>
                  <a:lnTo>
                    <a:pt x="8350" y="5334"/>
                  </a:lnTo>
                  <a:lnTo>
                    <a:pt x="8407" y="5318"/>
                  </a:lnTo>
                  <a:lnTo>
                    <a:pt x="8464" y="5300"/>
                  </a:lnTo>
                  <a:lnTo>
                    <a:pt x="8522" y="5284"/>
                  </a:lnTo>
                  <a:lnTo>
                    <a:pt x="8577" y="5265"/>
                  </a:lnTo>
                  <a:lnTo>
                    <a:pt x="8633" y="5249"/>
                  </a:lnTo>
                  <a:lnTo>
                    <a:pt x="8689" y="5231"/>
                  </a:lnTo>
                  <a:lnTo>
                    <a:pt x="8743" y="5211"/>
                  </a:lnTo>
                  <a:lnTo>
                    <a:pt x="8798" y="5193"/>
                  </a:lnTo>
                  <a:lnTo>
                    <a:pt x="8852" y="5173"/>
                  </a:lnTo>
                  <a:lnTo>
                    <a:pt x="8907" y="5154"/>
                  </a:lnTo>
                  <a:lnTo>
                    <a:pt x="8960" y="5134"/>
                  </a:lnTo>
                  <a:lnTo>
                    <a:pt x="9011" y="5113"/>
                  </a:lnTo>
                  <a:lnTo>
                    <a:pt x="9064" y="5094"/>
                  </a:lnTo>
                  <a:lnTo>
                    <a:pt x="9116" y="5073"/>
                  </a:lnTo>
                  <a:lnTo>
                    <a:pt x="9168" y="5052"/>
                  </a:lnTo>
                  <a:lnTo>
                    <a:pt x="9218" y="5030"/>
                  </a:lnTo>
                  <a:lnTo>
                    <a:pt x="9268" y="5009"/>
                  </a:lnTo>
                  <a:lnTo>
                    <a:pt x="9317" y="4986"/>
                  </a:lnTo>
                  <a:lnTo>
                    <a:pt x="9367" y="4964"/>
                  </a:lnTo>
                  <a:lnTo>
                    <a:pt x="9416" y="4942"/>
                  </a:lnTo>
                  <a:lnTo>
                    <a:pt x="9463" y="4919"/>
                  </a:lnTo>
                  <a:lnTo>
                    <a:pt x="9511" y="4896"/>
                  </a:lnTo>
                  <a:lnTo>
                    <a:pt x="9558" y="4873"/>
                  </a:lnTo>
                  <a:lnTo>
                    <a:pt x="9604" y="4850"/>
                  </a:lnTo>
                  <a:lnTo>
                    <a:pt x="9650" y="4826"/>
                  </a:lnTo>
                  <a:lnTo>
                    <a:pt x="9696" y="4801"/>
                  </a:lnTo>
                  <a:lnTo>
                    <a:pt x="9741" y="4777"/>
                  </a:lnTo>
                  <a:lnTo>
                    <a:pt x="9786" y="4752"/>
                  </a:lnTo>
                  <a:lnTo>
                    <a:pt x="9829" y="4727"/>
                  </a:lnTo>
                  <a:lnTo>
                    <a:pt x="9872" y="4702"/>
                  </a:lnTo>
                  <a:lnTo>
                    <a:pt x="9914" y="4677"/>
                  </a:lnTo>
                  <a:lnTo>
                    <a:pt x="9957" y="4651"/>
                  </a:lnTo>
                  <a:lnTo>
                    <a:pt x="9998" y="4625"/>
                  </a:lnTo>
                  <a:lnTo>
                    <a:pt x="10040" y="4598"/>
                  </a:lnTo>
                  <a:lnTo>
                    <a:pt x="10079" y="4572"/>
                  </a:lnTo>
                  <a:lnTo>
                    <a:pt x="10119" y="4545"/>
                  </a:lnTo>
                  <a:lnTo>
                    <a:pt x="10158" y="4519"/>
                  </a:lnTo>
                  <a:lnTo>
                    <a:pt x="10196" y="4491"/>
                  </a:lnTo>
                  <a:lnTo>
                    <a:pt x="10234" y="4464"/>
                  </a:lnTo>
                  <a:lnTo>
                    <a:pt x="10271" y="4437"/>
                  </a:lnTo>
                  <a:lnTo>
                    <a:pt x="10308" y="4409"/>
                  </a:lnTo>
                  <a:lnTo>
                    <a:pt x="10344" y="4381"/>
                  </a:lnTo>
                  <a:lnTo>
                    <a:pt x="10379" y="4351"/>
                  </a:lnTo>
                  <a:lnTo>
                    <a:pt x="10414" y="4323"/>
                  </a:lnTo>
                  <a:lnTo>
                    <a:pt x="10449" y="4294"/>
                  </a:lnTo>
                  <a:lnTo>
                    <a:pt x="10482" y="4265"/>
                  </a:lnTo>
                  <a:lnTo>
                    <a:pt x="10514" y="4236"/>
                  </a:lnTo>
                  <a:lnTo>
                    <a:pt x="10546" y="4206"/>
                  </a:lnTo>
                  <a:lnTo>
                    <a:pt x="10577" y="4177"/>
                  </a:lnTo>
                  <a:lnTo>
                    <a:pt x="10608" y="4148"/>
                  </a:lnTo>
                  <a:lnTo>
                    <a:pt x="10638" y="4117"/>
                  </a:lnTo>
                  <a:lnTo>
                    <a:pt x="10668" y="4086"/>
                  </a:lnTo>
                  <a:lnTo>
                    <a:pt x="10696" y="4056"/>
                  </a:lnTo>
                  <a:lnTo>
                    <a:pt x="10725" y="4025"/>
                  </a:lnTo>
                  <a:lnTo>
                    <a:pt x="10751" y="3994"/>
                  </a:lnTo>
                  <a:lnTo>
                    <a:pt x="10778" y="3963"/>
                  </a:lnTo>
                  <a:lnTo>
                    <a:pt x="10804" y="3933"/>
                  </a:lnTo>
                  <a:lnTo>
                    <a:pt x="10830" y="3901"/>
                  </a:lnTo>
                  <a:lnTo>
                    <a:pt x="10853" y="3869"/>
                  </a:lnTo>
                  <a:lnTo>
                    <a:pt x="10877" y="3838"/>
                  </a:lnTo>
                  <a:lnTo>
                    <a:pt x="10901" y="3806"/>
                  </a:lnTo>
                  <a:lnTo>
                    <a:pt x="10922" y="3774"/>
                  </a:lnTo>
                  <a:lnTo>
                    <a:pt x="10944" y="3740"/>
                  </a:lnTo>
                  <a:lnTo>
                    <a:pt x="10965" y="3708"/>
                  </a:lnTo>
                  <a:lnTo>
                    <a:pt x="10984" y="3676"/>
                  </a:lnTo>
                  <a:lnTo>
                    <a:pt x="11004" y="3643"/>
                  </a:lnTo>
                  <a:lnTo>
                    <a:pt x="11022" y="3609"/>
                  </a:lnTo>
                  <a:lnTo>
                    <a:pt x="11040" y="3577"/>
                  </a:lnTo>
                  <a:lnTo>
                    <a:pt x="11057" y="3543"/>
                  </a:lnTo>
                  <a:lnTo>
                    <a:pt x="11072" y="3510"/>
                  </a:lnTo>
                  <a:lnTo>
                    <a:pt x="11088" y="3476"/>
                  </a:lnTo>
                  <a:lnTo>
                    <a:pt x="11103" y="3442"/>
                  </a:lnTo>
                  <a:lnTo>
                    <a:pt x="11117" y="3408"/>
                  </a:lnTo>
                  <a:lnTo>
                    <a:pt x="11130" y="3375"/>
                  </a:lnTo>
                  <a:lnTo>
                    <a:pt x="11142" y="3340"/>
                  </a:lnTo>
                  <a:lnTo>
                    <a:pt x="11153" y="3306"/>
                  </a:lnTo>
                  <a:lnTo>
                    <a:pt x="11164" y="3271"/>
                  </a:lnTo>
                  <a:lnTo>
                    <a:pt x="11174" y="3238"/>
                  </a:lnTo>
                  <a:lnTo>
                    <a:pt x="11183" y="3203"/>
                  </a:lnTo>
                  <a:lnTo>
                    <a:pt x="11191" y="3168"/>
                  </a:lnTo>
                  <a:lnTo>
                    <a:pt x="11198" y="3133"/>
                  </a:lnTo>
                  <a:lnTo>
                    <a:pt x="11205" y="3098"/>
                  </a:lnTo>
                  <a:lnTo>
                    <a:pt x="11210" y="3062"/>
                  </a:lnTo>
                  <a:lnTo>
                    <a:pt x="11215" y="3027"/>
                  </a:lnTo>
                  <a:lnTo>
                    <a:pt x="11219" y="2992"/>
                  </a:lnTo>
                  <a:lnTo>
                    <a:pt x="11222" y="2956"/>
                  </a:lnTo>
                  <a:lnTo>
                    <a:pt x="11224" y="2920"/>
                  </a:lnTo>
                  <a:lnTo>
                    <a:pt x="11226" y="2885"/>
                  </a:lnTo>
                  <a:lnTo>
                    <a:pt x="11226" y="2848"/>
                  </a:lnTo>
                  <a:lnTo>
                    <a:pt x="11226" y="2848"/>
                  </a:lnTo>
                  <a:lnTo>
                    <a:pt x="11226" y="2812"/>
                  </a:lnTo>
                  <a:lnTo>
                    <a:pt x="11224" y="2776"/>
                  </a:lnTo>
                  <a:lnTo>
                    <a:pt x="11222" y="2741"/>
                  </a:lnTo>
                  <a:lnTo>
                    <a:pt x="11219" y="2705"/>
                  </a:lnTo>
                  <a:lnTo>
                    <a:pt x="11215" y="2670"/>
                  </a:lnTo>
                  <a:lnTo>
                    <a:pt x="11210" y="2634"/>
                  </a:lnTo>
                  <a:lnTo>
                    <a:pt x="11205" y="2599"/>
                  </a:lnTo>
                  <a:lnTo>
                    <a:pt x="11198" y="2564"/>
                  </a:lnTo>
                  <a:lnTo>
                    <a:pt x="11191" y="2529"/>
                  </a:lnTo>
                  <a:lnTo>
                    <a:pt x="11183" y="2494"/>
                  </a:lnTo>
                  <a:lnTo>
                    <a:pt x="11174" y="2459"/>
                  </a:lnTo>
                  <a:lnTo>
                    <a:pt x="11164" y="2424"/>
                  </a:lnTo>
                  <a:lnTo>
                    <a:pt x="11153" y="2389"/>
                  </a:lnTo>
                  <a:lnTo>
                    <a:pt x="11142" y="2356"/>
                  </a:lnTo>
                  <a:lnTo>
                    <a:pt x="11130" y="2321"/>
                  </a:lnTo>
                  <a:lnTo>
                    <a:pt x="11117" y="2287"/>
                  </a:lnTo>
                  <a:lnTo>
                    <a:pt x="11103" y="2253"/>
                  </a:lnTo>
                  <a:lnTo>
                    <a:pt x="11088" y="2219"/>
                  </a:lnTo>
                  <a:lnTo>
                    <a:pt x="11072" y="2186"/>
                  </a:lnTo>
                  <a:lnTo>
                    <a:pt x="11057" y="2152"/>
                  </a:lnTo>
                  <a:lnTo>
                    <a:pt x="11040" y="2119"/>
                  </a:lnTo>
                  <a:lnTo>
                    <a:pt x="11022" y="2085"/>
                  </a:lnTo>
                  <a:lnTo>
                    <a:pt x="11004" y="2053"/>
                  </a:lnTo>
                  <a:lnTo>
                    <a:pt x="10984" y="2020"/>
                  </a:lnTo>
                  <a:lnTo>
                    <a:pt x="10965" y="1987"/>
                  </a:lnTo>
                  <a:lnTo>
                    <a:pt x="10944" y="1954"/>
                  </a:lnTo>
                  <a:lnTo>
                    <a:pt x="10922" y="1922"/>
                  </a:lnTo>
                  <a:lnTo>
                    <a:pt x="10901" y="1890"/>
                  </a:lnTo>
                  <a:lnTo>
                    <a:pt x="10877" y="1858"/>
                  </a:lnTo>
                  <a:lnTo>
                    <a:pt x="10853" y="1826"/>
                  </a:lnTo>
                  <a:lnTo>
                    <a:pt x="10830" y="1795"/>
                  </a:lnTo>
                  <a:lnTo>
                    <a:pt x="10804" y="1763"/>
                  </a:lnTo>
                  <a:lnTo>
                    <a:pt x="10778" y="1732"/>
                  </a:lnTo>
                  <a:lnTo>
                    <a:pt x="10751" y="1700"/>
                  </a:lnTo>
                  <a:lnTo>
                    <a:pt x="10725" y="1669"/>
                  </a:lnTo>
                  <a:lnTo>
                    <a:pt x="10696" y="1639"/>
                  </a:lnTo>
                  <a:lnTo>
                    <a:pt x="10668" y="1609"/>
                  </a:lnTo>
                  <a:lnTo>
                    <a:pt x="10638" y="1579"/>
                  </a:lnTo>
                  <a:lnTo>
                    <a:pt x="10608" y="1548"/>
                  </a:lnTo>
                  <a:lnTo>
                    <a:pt x="10577" y="1519"/>
                  </a:lnTo>
                  <a:lnTo>
                    <a:pt x="10546" y="1489"/>
                  </a:lnTo>
                  <a:lnTo>
                    <a:pt x="10514" y="1459"/>
                  </a:lnTo>
                  <a:lnTo>
                    <a:pt x="10482" y="1431"/>
                  </a:lnTo>
                  <a:lnTo>
                    <a:pt x="10449" y="1401"/>
                  </a:lnTo>
                  <a:lnTo>
                    <a:pt x="10414" y="1372"/>
                  </a:lnTo>
                  <a:lnTo>
                    <a:pt x="10379" y="1344"/>
                  </a:lnTo>
                  <a:lnTo>
                    <a:pt x="10344" y="1315"/>
                  </a:lnTo>
                  <a:lnTo>
                    <a:pt x="10308" y="1287"/>
                  </a:lnTo>
                  <a:lnTo>
                    <a:pt x="10271" y="1259"/>
                  </a:lnTo>
                  <a:lnTo>
                    <a:pt x="10234" y="1231"/>
                  </a:lnTo>
                  <a:lnTo>
                    <a:pt x="10196" y="1205"/>
                  </a:lnTo>
                  <a:lnTo>
                    <a:pt x="10158" y="1177"/>
                  </a:lnTo>
                  <a:lnTo>
                    <a:pt x="10119" y="1150"/>
                  </a:lnTo>
                  <a:lnTo>
                    <a:pt x="10079" y="1124"/>
                  </a:lnTo>
                  <a:lnTo>
                    <a:pt x="10040" y="1097"/>
                  </a:lnTo>
                  <a:lnTo>
                    <a:pt x="9998" y="1071"/>
                  </a:lnTo>
                  <a:lnTo>
                    <a:pt x="9957" y="1044"/>
                  </a:lnTo>
                  <a:lnTo>
                    <a:pt x="9914" y="1019"/>
                  </a:lnTo>
                  <a:lnTo>
                    <a:pt x="9872" y="994"/>
                  </a:lnTo>
                  <a:lnTo>
                    <a:pt x="9829" y="967"/>
                  </a:lnTo>
                  <a:lnTo>
                    <a:pt x="9786" y="944"/>
                  </a:lnTo>
                  <a:lnTo>
                    <a:pt x="9741" y="919"/>
                  </a:lnTo>
                  <a:lnTo>
                    <a:pt x="9696" y="893"/>
                  </a:lnTo>
                  <a:lnTo>
                    <a:pt x="9650" y="870"/>
                  </a:lnTo>
                  <a:lnTo>
                    <a:pt x="9604" y="846"/>
                  </a:lnTo>
                  <a:lnTo>
                    <a:pt x="9558" y="822"/>
                  </a:lnTo>
                  <a:lnTo>
                    <a:pt x="9511" y="799"/>
                  </a:lnTo>
                  <a:lnTo>
                    <a:pt x="9463" y="776"/>
                  </a:lnTo>
                  <a:lnTo>
                    <a:pt x="9416" y="754"/>
                  </a:lnTo>
                  <a:lnTo>
                    <a:pt x="9367" y="730"/>
                  </a:lnTo>
                  <a:lnTo>
                    <a:pt x="9317" y="708"/>
                  </a:lnTo>
                  <a:lnTo>
                    <a:pt x="9268" y="687"/>
                  </a:lnTo>
                  <a:lnTo>
                    <a:pt x="9218" y="665"/>
                  </a:lnTo>
                  <a:lnTo>
                    <a:pt x="9168" y="644"/>
                  </a:lnTo>
                  <a:lnTo>
                    <a:pt x="9116" y="623"/>
                  </a:lnTo>
                  <a:lnTo>
                    <a:pt x="9064" y="602"/>
                  </a:lnTo>
                  <a:lnTo>
                    <a:pt x="9011" y="581"/>
                  </a:lnTo>
                  <a:lnTo>
                    <a:pt x="8960" y="561"/>
                  </a:lnTo>
                  <a:lnTo>
                    <a:pt x="8907" y="542"/>
                  </a:lnTo>
                  <a:lnTo>
                    <a:pt x="8852" y="522"/>
                  </a:lnTo>
                  <a:lnTo>
                    <a:pt x="8798" y="503"/>
                  </a:lnTo>
                  <a:lnTo>
                    <a:pt x="8743" y="485"/>
                  </a:lnTo>
                  <a:lnTo>
                    <a:pt x="8689" y="465"/>
                  </a:lnTo>
                  <a:lnTo>
                    <a:pt x="8633" y="447"/>
                  </a:lnTo>
                  <a:lnTo>
                    <a:pt x="8577" y="429"/>
                  </a:lnTo>
                  <a:lnTo>
                    <a:pt x="8522" y="412"/>
                  </a:lnTo>
                  <a:lnTo>
                    <a:pt x="8464" y="394"/>
                  </a:lnTo>
                  <a:lnTo>
                    <a:pt x="8407" y="377"/>
                  </a:lnTo>
                  <a:lnTo>
                    <a:pt x="8350" y="360"/>
                  </a:lnTo>
                  <a:lnTo>
                    <a:pt x="8291" y="345"/>
                  </a:lnTo>
                  <a:lnTo>
                    <a:pt x="8233" y="328"/>
                  </a:lnTo>
                  <a:lnTo>
                    <a:pt x="8174" y="313"/>
                  </a:lnTo>
                  <a:lnTo>
                    <a:pt x="8116" y="298"/>
                  </a:lnTo>
                  <a:lnTo>
                    <a:pt x="8056" y="284"/>
                  </a:lnTo>
                  <a:lnTo>
                    <a:pt x="7996" y="268"/>
                  </a:lnTo>
                  <a:lnTo>
                    <a:pt x="7934" y="254"/>
                  </a:lnTo>
                  <a:lnTo>
                    <a:pt x="7874" y="240"/>
                  </a:lnTo>
                  <a:lnTo>
                    <a:pt x="7813" y="226"/>
                  </a:lnTo>
                  <a:lnTo>
                    <a:pt x="7751" y="214"/>
                  </a:lnTo>
                  <a:lnTo>
                    <a:pt x="7689" y="201"/>
                  </a:lnTo>
                  <a:lnTo>
                    <a:pt x="7627" y="189"/>
                  </a:lnTo>
                  <a:lnTo>
                    <a:pt x="7564" y="176"/>
                  </a:lnTo>
                  <a:lnTo>
                    <a:pt x="7500" y="165"/>
                  </a:lnTo>
                  <a:lnTo>
                    <a:pt x="7437" y="154"/>
                  </a:lnTo>
                  <a:lnTo>
                    <a:pt x="7373" y="143"/>
                  </a:lnTo>
                  <a:lnTo>
                    <a:pt x="7309" y="133"/>
                  </a:lnTo>
                  <a:lnTo>
                    <a:pt x="7245" y="122"/>
                  </a:lnTo>
                  <a:lnTo>
                    <a:pt x="7181" y="112"/>
                  </a:lnTo>
                  <a:lnTo>
                    <a:pt x="7115" y="104"/>
                  </a:lnTo>
                  <a:lnTo>
                    <a:pt x="7049" y="94"/>
                  </a:lnTo>
                  <a:lnTo>
                    <a:pt x="6984" y="85"/>
                  </a:lnTo>
                  <a:lnTo>
                    <a:pt x="6918" y="77"/>
                  </a:lnTo>
                  <a:lnTo>
                    <a:pt x="6851" y="70"/>
                  </a:lnTo>
                  <a:lnTo>
                    <a:pt x="6786" y="62"/>
                  </a:lnTo>
                  <a:lnTo>
                    <a:pt x="6720" y="55"/>
                  </a:lnTo>
                  <a:lnTo>
                    <a:pt x="6653" y="49"/>
                  </a:lnTo>
                  <a:lnTo>
                    <a:pt x="6585" y="42"/>
                  </a:lnTo>
                  <a:lnTo>
                    <a:pt x="6518" y="37"/>
                  </a:lnTo>
                  <a:lnTo>
                    <a:pt x="6449" y="31"/>
                  </a:lnTo>
                  <a:lnTo>
                    <a:pt x="6381" y="27"/>
                  </a:lnTo>
                  <a:lnTo>
                    <a:pt x="6313" y="21"/>
                  </a:lnTo>
                  <a:lnTo>
                    <a:pt x="6243" y="17"/>
                  </a:lnTo>
                  <a:lnTo>
                    <a:pt x="6175" y="14"/>
                  </a:lnTo>
                  <a:lnTo>
                    <a:pt x="6105" y="10"/>
                  </a:lnTo>
                  <a:lnTo>
                    <a:pt x="6035" y="7"/>
                  </a:lnTo>
                  <a:lnTo>
                    <a:pt x="5965" y="6"/>
                  </a:lnTo>
                  <a:lnTo>
                    <a:pt x="5895" y="3"/>
                  </a:lnTo>
                  <a:lnTo>
                    <a:pt x="5826" y="2"/>
                  </a:lnTo>
                  <a:lnTo>
                    <a:pt x="5755" y="0"/>
                  </a:lnTo>
                  <a:lnTo>
                    <a:pt x="5685" y="0"/>
                  </a:lnTo>
                  <a:lnTo>
                    <a:pt x="5614" y="0"/>
                  </a:lnTo>
                  <a:lnTo>
                    <a:pt x="5614" y="0"/>
                  </a:lnTo>
                  <a:lnTo>
                    <a:pt x="5542" y="0"/>
                  </a:lnTo>
                  <a:lnTo>
                    <a:pt x="5471" y="0"/>
                  </a:lnTo>
                  <a:lnTo>
                    <a:pt x="5402" y="2"/>
                  </a:lnTo>
                  <a:lnTo>
                    <a:pt x="5332" y="3"/>
                  </a:lnTo>
                  <a:lnTo>
                    <a:pt x="5261" y="6"/>
                  </a:lnTo>
                  <a:lnTo>
                    <a:pt x="5191" y="7"/>
                  </a:lnTo>
                  <a:lnTo>
                    <a:pt x="5122" y="10"/>
                  </a:lnTo>
                  <a:lnTo>
                    <a:pt x="5053" y="14"/>
                  </a:lnTo>
                  <a:lnTo>
                    <a:pt x="4983" y="17"/>
                  </a:lnTo>
                  <a:lnTo>
                    <a:pt x="4915" y="21"/>
                  </a:lnTo>
                  <a:lnTo>
                    <a:pt x="4846" y="27"/>
                  </a:lnTo>
                  <a:lnTo>
                    <a:pt x="4778" y="31"/>
                  </a:lnTo>
                  <a:lnTo>
                    <a:pt x="4709" y="37"/>
                  </a:lnTo>
                  <a:lnTo>
                    <a:pt x="4642" y="42"/>
                  </a:lnTo>
                  <a:lnTo>
                    <a:pt x="4574" y="49"/>
                  </a:lnTo>
                  <a:lnTo>
                    <a:pt x="4507" y="55"/>
                  </a:lnTo>
                  <a:lnTo>
                    <a:pt x="4440" y="62"/>
                  </a:lnTo>
                  <a:lnTo>
                    <a:pt x="4373" y="70"/>
                  </a:lnTo>
                  <a:lnTo>
                    <a:pt x="4308" y="77"/>
                  </a:lnTo>
                  <a:lnTo>
                    <a:pt x="4242" y="85"/>
                  </a:lnTo>
                  <a:lnTo>
                    <a:pt x="4176" y="94"/>
                  </a:lnTo>
                  <a:lnTo>
                    <a:pt x="4111" y="104"/>
                  </a:lnTo>
                  <a:lnTo>
                    <a:pt x="4045" y="112"/>
                  </a:lnTo>
                  <a:lnTo>
                    <a:pt x="3981" y="122"/>
                  </a:lnTo>
                  <a:lnTo>
                    <a:pt x="3915" y="133"/>
                  </a:lnTo>
                  <a:lnTo>
                    <a:pt x="3853" y="143"/>
                  </a:lnTo>
                  <a:lnTo>
                    <a:pt x="3788" y="154"/>
                  </a:lnTo>
                  <a:lnTo>
                    <a:pt x="3724" y="165"/>
                  </a:lnTo>
                  <a:lnTo>
                    <a:pt x="3662" y="176"/>
                  </a:lnTo>
                  <a:lnTo>
                    <a:pt x="3599" y="189"/>
                  </a:lnTo>
                  <a:lnTo>
                    <a:pt x="3537" y="201"/>
                  </a:lnTo>
                  <a:lnTo>
                    <a:pt x="3475" y="214"/>
                  </a:lnTo>
                  <a:lnTo>
                    <a:pt x="3413" y="226"/>
                  </a:lnTo>
                  <a:lnTo>
                    <a:pt x="3352" y="240"/>
                  </a:lnTo>
                  <a:lnTo>
                    <a:pt x="3290" y="254"/>
                  </a:lnTo>
                  <a:lnTo>
                    <a:pt x="3230" y="268"/>
                  </a:lnTo>
                  <a:lnTo>
                    <a:pt x="3170" y="284"/>
                  </a:lnTo>
                  <a:lnTo>
                    <a:pt x="3110" y="298"/>
                  </a:lnTo>
                  <a:lnTo>
                    <a:pt x="3052" y="313"/>
                  </a:lnTo>
                  <a:lnTo>
                    <a:pt x="2993" y="328"/>
                  </a:lnTo>
                  <a:lnTo>
                    <a:pt x="2935" y="345"/>
                  </a:lnTo>
                  <a:lnTo>
                    <a:pt x="2876" y="360"/>
                  </a:lnTo>
                  <a:lnTo>
                    <a:pt x="2819" y="377"/>
                  </a:lnTo>
                  <a:lnTo>
                    <a:pt x="2761" y="394"/>
                  </a:lnTo>
                  <a:lnTo>
                    <a:pt x="2704" y="412"/>
                  </a:lnTo>
                  <a:lnTo>
                    <a:pt x="2648" y="429"/>
                  </a:lnTo>
                  <a:lnTo>
                    <a:pt x="2593" y="447"/>
                  </a:lnTo>
                  <a:lnTo>
                    <a:pt x="2537" y="465"/>
                  </a:lnTo>
                  <a:lnTo>
                    <a:pt x="2482" y="485"/>
                  </a:lnTo>
                  <a:lnTo>
                    <a:pt x="2427" y="503"/>
                  </a:lnTo>
                  <a:lnTo>
                    <a:pt x="2374" y="522"/>
                  </a:lnTo>
                  <a:lnTo>
                    <a:pt x="2319" y="542"/>
                  </a:lnTo>
                  <a:lnTo>
                    <a:pt x="2266" y="561"/>
                  </a:lnTo>
                  <a:lnTo>
                    <a:pt x="2213" y="581"/>
                  </a:lnTo>
                  <a:lnTo>
                    <a:pt x="2161" y="602"/>
                  </a:lnTo>
                  <a:lnTo>
                    <a:pt x="2110" y="623"/>
                  </a:lnTo>
                  <a:lnTo>
                    <a:pt x="2058" y="644"/>
                  </a:lnTo>
                  <a:lnTo>
                    <a:pt x="2008" y="665"/>
                  </a:lnTo>
                  <a:lnTo>
                    <a:pt x="1958" y="687"/>
                  </a:lnTo>
                  <a:lnTo>
                    <a:pt x="1908" y="708"/>
                  </a:lnTo>
                  <a:lnTo>
                    <a:pt x="1859" y="730"/>
                  </a:lnTo>
                  <a:lnTo>
                    <a:pt x="1810" y="754"/>
                  </a:lnTo>
                  <a:lnTo>
                    <a:pt x="1762" y="776"/>
                  </a:lnTo>
                  <a:lnTo>
                    <a:pt x="1715" y="799"/>
                  </a:lnTo>
                  <a:lnTo>
                    <a:pt x="1668" y="822"/>
                  </a:lnTo>
                  <a:lnTo>
                    <a:pt x="1621" y="846"/>
                  </a:lnTo>
                  <a:lnTo>
                    <a:pt x="1575" y="870"/>
                  </a:lnTo>
                  <a:lnTo>
                    <a:pt x="1529" y="893"/>
                  </a:lnTo>
                  <a:lnTo>
                    <a:pt x="1485" y="919"/>
                  </a:lnTo>
                  <a:lnTo>
                    <a:pt x="1440" y="944"/>
                  </a:lnTo>
                  <a:lnTo>
                    <a:pt x="1397" y="967"/>
                  </a:lnTo>
                  <a:lnTo>
                    <a:pt x="1354" y="994"/>
                  </a:lnTo>
                  <a:lnTo>
                    <a:pt x="1310" y="1019"/>
                  </a:lnTo>
                  <a:lnTo>
                    <a:pt x="1268" y="1044"/>
                  </a:lnTo>
                  <a:lnTo>
                    <a:pt x="1228" y="1071"/>
                  </a:lnTo>
                  <a:lnTo>
                    <a:pt x="1186" y="1097"/>
                  </a:lnTo>
                  <a:lnTo>
                    <a:pt x="1146" y="1124"/>
                  </a:lnTo>
                  <a:lnTo>
                    <a:pt x="1107" y="1150"/>
                  </a:lnTo>
                  <a:lnTo>
                    <a:pt x="1068" y="1177"/>
                  </a:lnTo>
                  <a:lnTo>
                    <a:pt x="1028" y="1205"/>
                  </a:lnTo>
                  <a:lnTo>
                    <a:pt x="991" y="1231"/>
                  </a:lnTo>
                  <a:lnTo>
                    <a:pt x="954" y="1259"/>
                  </a:lnTo>
                  <a:lnTo>
                    <a:pt x="917" y="1287"/>
                  </a:lnTo>
                  <a:lnTo>
                    <a:pt x="882" y="1315"/>
                  </a:lnTo>
                  <a:lnTo>
                    <a:pt x="846" y="1344"/>
                  </a:lnTo>
                  <a:lnTo>
                    <a:pt x="812" y="1372"/>
                  </a:lnTo>
                  <a:lnTo>
                    <a:pt x="777" y="1401"/>
                  </a:lnTo>
                  <a:lnTo>
                    <a:pt x="744" y="1431"/>
                  </a:lnTo>
                  <a:lnTo>
                    <a:pt x="712" y="1459"/>
                  </a:lnTo>
                  <a:lnTo>
                    <a:pt x="680" y="1489"/>
                  </a:lnTo>
                  <a:lnTo>
                    <a:pt x="648" y="1519"/>
                  </a:lnTo>
                  <a:lnTo>
                    <a:pt x="617" y="1548"/>
                  </a:lnTo>
                  <a:lnTo>
                    <a:pt x="588" y="1579"/>
                  </a:lnTo>
                  <a:lnTo>
                    <a:pt x="558" y="1609"/>
                  </a:lnTo>
                  <a:lnTo>
                    <a:pt x="529" y="1639"/>
                  </a:lnTo>
                  <a:lnTo>
                    <a:pt x="501" y="1669"/>
                  </a:lnTo>
                  <a:lnTo>
                    <a:pt x="474" y="1700"/>
                  </a:lnTo>
                  <a:lnTo>
                    <a:pt x="448" y="1732"/>
                  </a:lnTo>
                  <a:lnTo>
                    <a:pt x="421" y="1763"/>
                  </a:lnTo>
                  <a:lnTo>
                    <a:pt x="396" y="1795"/>
                  </a:lnTo>
                  <a:lnTo>
                    <a:pt x="373" y="1826"/>
                  </a:lnTo>
                  <a:lnTo>
                    <a:pt x="349" y="1858"/>
                  </a:lnTo>
                  <a:lnTo>
                    <a:pt x="325" y="1890"/>
                  </a:lnTo>
                  <a:lnTo>
                    <a:pt x="303" y="1922"/>
                  </a:lnTo>
                  <a:lnTo>
                    <a:pt x="282" y="1954"/>
                  </a:lnTo>
                  <a:lnTo>
                    <a:pt x="261" y="1987"/>
                  </a:lnTo>
                  <a:lnTo>
                    <a:pt x="241" y="2020"/>
                  </a:lnTo>
                  <a:lnTo>
                    <a:pt x="222" y="2053"/>
                  </a:lnTo>
                  <a:lnTo>
                    <a:pt x="204" y="2085"/>
                  </a:lnTo>
                  <a:lnTo>
                    <a:pt x="186" y="2119"/>
                  </a:lnTo>
                  <a:lnTo>
                    <a:pt x="169" y="2152"/>
                  </a:lnTo>
                  <a:lnTo>
                    <a:pt x="152" y="2186"/>
                  </a:lnTo>
                  <a:lnTo>
                    <a:pt x="137" y="2219"/>
                  </a:lnTo>
                  <a:lnTo>
                    <a:pt x="123" y="2253"/>
                  </a:lnTo>
                  <a:lnTo>
                    <a:pt x="109" y="2287"/>
                  </a:lnTo>
                  <a:lnTo>
                    <a:pt x="96" y="2321"/>
                  </a:lnTo>
                  <a:lnTo>
                    <a:pt x="84" y="2356"/>
                  </a:lnTo>
                  <a:lnTo>
                    <a:pt x="73" y="2389"/>
                  </a:lnTo>
                  <a:lnTo>
                    <a:pt x="61" y="2424"/>
                  </a:lnTo>
                  <a:lnTo>
                    <a:pt x="52" y="2459"/>
                  </a:lnTo>
                  <a:lnTo>
                    <a:pt x="43" y="2494"/>
                  </a:lnTo>
                  <a:lnTo>
                    <a:pt x="35" y="2529"/>
                  </a:lnTo>
                  <a:lnTo>
                    <a:pt x="28" y="2564"/>
                  </a:lnTo>
                  <a:lnTo>
                    <a:pt x="21" y="2599"/>
                  </a:lnTo>
                  <a:lnTo>
                    <a:pt x="15" y="2634"/>
                  </a:lnTo>
                  <a:lnTo>
                    <a:pt x="11" y="2670"/>
                  </a:lnTo>
                  <a:lnTo>
                    <a:pt x="7" y="2705"/>
                  </a:lnTo>
                  <a:lnTo>
                    <a:pt x="4" y="2741"/>
                  </a:lnTo>
                  <a:lnTo>
                    <a:pt x="1" y="2776"/>
                  </a:lnTo>
                  <a:lnTo>
                    <a:pt x="0" y="2812"/>
                  </a:lnTo>
                  <a:lnTo>
                    <a:pt x="0" y="2848"/>
                  </a:lnTo>
                  <a:lnTo>
                    <a:pt x="0" y="2848"/>
                  </a:lnTo>
                  <a:lnTo>
                    <a:pt x="0" y="2885"/>
                  </a:lnTo>
                  <a:lnTo>
                    <a:pt x="1" y="2920"/>
                  </a:lnTo>
                  <a:lnTo>
                    <a:pt x="4" y="2956"/>
                  </a:lnTo>
                  <a:lnTo>
                    <a:pt x="7" y="2992"/>
                  </a:lnTo>
                  <a:lnTo>
                    <a:pt x="11" y="3027"/>
                  </a:lnTo>
                  <a:lnTo>
                    <a:pt x="15" y="3062"/>
                  </a:lnTo>
                  <a:lnTo>
                    <a:pt x="21" y="3098"/>
                  </a:lnTo>
                  <a:lnTo>
                    <a:pt x="28" y="3133"/>
                  </a:lnTo>
                  <a:lnTo>
                    <a:pt x="35" y="3168"/>
                  </a:lnTo>
                  <a:lnTo>
                    <a:pt x="43" y="3203"/>
                  </a:lnTo>
                  <a:lnTo>
                    <a:pt x="52" y="3238"/>
                  </a:lnTo>
                  <a:lnTo>
                    <a:pt x="61" y="3271"/>
                  </a:lnTo>
                  <a:lnTo>
                    <a:pt x="73" y="3306"/>
                  </a:lnTo>
                  <a:lnTo>
                    <a:pt x="84" y="3340"/>
                  </a:lnTo>
                  <a:lnTo>
                    <a:pt x="96" y="3375"/>
                  </a:lnTo>
                  <a:lnTo>
                    <a:pt x="109" y="3408"/>
                  </a:lnTo>
                  <a:lnTo>
                    <a:pt x="123" y="3442"/>
                  </a:lnTo>
                  <a:lnTo>
                    <a:pt x="137" y="3476"/>
                  </a:lnTo>
                  <a:lnTo>
                    <a:pt x="152" y="3510"/>
                  </a:lnTo>
                  <a:lnTo>
                    <a:pt x="169" y="3543"/>
                  </a:lnTo>
                  <a:lnTo>
                    <a:pt x="186" y="3577"/>
                  </a:lnTo>
                  <a:lnTo>
                    <a:pt x="204" y="3609"/>
                  </a:lnTo>
                  <a:lnTo>
                    <a:pt x="222" y="3643"/>
                  </a:lnTo>
                  <a:lnTo>
                    <a:pt x="241" y="3676"/>
                  </a:lnTo>
                  <a:lnTo>
                    <a:pt x="261" y="3708"/>
                  </a:lnTo>
                  <a:lnTo>
                    <a:pt x="282" y="3740"/>
                  </a:lnTo>
                  <a:lnTo>
                    <a:pt x="303" y="3774"/>
                  </a:lnTo>
                  <a:lnTo>
                    <a:pt x="325" y="3806"/>
                  </a:lnTo>
                  <a:lnTo>
                    <a:pt x="349" y="3838"/>
                  </a:lnTo>
                  <a:lnTo>
                    <a:pt x="373" y="3869"/>
                  </a:lnTo>
                  <a:lnTo>
                    <a:pt x="396" y="3901"/>
                  </a:lnTo>
                  <a:lnTo>
                    <a:pt x="421" y="3933"/>
                  </a:lnTo>
                  <a:lnTo>
                    <a:pt x="448" y="3963"/>
                  </a:lnTo>
                  <a:lnTo>
                    <a:pt x="474" y="3994"/>
                  </a:lnTo>
                  <a:lnTo>
                    <a:pt x="501" y="4025"/>
                  </a:lnTo>
                  <a:lnTo>
                    <a:pt x="529" y="4056"/>
                  </a:lnTo>
                  <a:lnTo>
                    <a:pt x="558" y="4086"/>
                  </a:lnTo>
                  <a:lnTo>
                    <a:pt x="588" y="4117"/>
                  </a:lnTo>
                  <a:lnTo>
                    <a:pt x="617" y="4148"/>
                  </a:lnTo>
                  <a:lnTo>
                    <a:pt x="648" y="4177"/>
                  </a:lnTo>
                  <a:lnTo>
                    <a:pt x="680" y="4206"/>
                  </a:lnTo>
                  <a:lnTo>
                    <a:pt x="712" y="4236"/>
                  </a:lnTo>
                  <a:lnTo>
                    <a:pt x="744" y="4265"/>
                  </a:lnTo>
                  <a:lnTo>
                    <a:pt x="777" y="4294"/>
                  </a:lnTo>
                  <a:lnTo>
                    <a:pt x="812" y="4323"/>
                  </a:lnTo>
                  <a:lnTo>
                    <a:pt x="846" y="4351"/>
                  </a:lnTo>
                  <a:lnTo>
                    <a:pt x="882" y="4381"/>
                  </a:lnTo>
                  <a:lnTo>
                    <a:pt x="917" y="4409"/>
                  </a:lnTo>
                  <a:lnTo>
                    <a:pt x="954" y="4437"/>
                  </a:lnTo>
                  <a:lnTo>
                    <a:pt x="991" y="4464"/>
                  </a:lnTo>
                  <a:lnTo>
                    <a:pt x="1028" y="4491"/>
                  </a:lnTo>
                  <a:lnTo>
                    <a:pt x="1068" y="4519"/>
                  </a:lnTo>
                  <a:lnTo>
                    <a:pt x="1107" y="4545"/>
                  </a:lnTo>
                  <a:lnTo>
                    <a:pt x="1146" y="4572"/>
                  </a:lnTo>
                  <a:lnTo>
                    <a:pt x="1186" y="4598"/>
                  </a:lnTo>
                  <a:lnTo>
                    <a:pt x="1228" y="4625"/>
                  </a:lnTo>
                  <a:lnTo>
                    <a:pt x="1268" y="4651"/>
                  </a:lnTo>
                  <a:lnTo>
                    <a:pt x="1310" y="4677"/>
                  </a:lnTo>
                  <a:lnTo>
                    <a:pt x="1354" y="4702"/>
                  </a:lnTo>
                  <a:lnTo>
                    <a:pt x="1397" y="4727"/>
                  </a:lnTo>
                  <a:lnTo>
                    <a:pt x="1440" y="4752"/>
                  </a:lnTo>
                  <a:lnTo>
                    <a:pt x="1485" y="4777"/>
                  </a:lnTo>
                  <a:lnTo>
                    <a:pt x="1529" y="4801"/>
                  </a:lnTo>
                  <a:lnTo>
                    <a:pt x="1575" y="4826"/>
                  </a:lnTo>
                  <a:lnTo>
                    <a:pt x="1621" y="4850"/>
                  </a:lnTo>
                  <a:lnTo>
                    <a:pt x="1668" y="4873"/>
                  </a:lnTo>
                  <a:lnTo>
                    <a:pt x="1715" y="4896"/>
                  </a:lnTo>
                  <a:lnTo>
                    <a:pt x="1762" y="4919"/>
                  </a:lnTo>
                  <a:lnTo>
                    <a:pt x="1810" y="4942"/>
                  </a:lnTo>
                  <a:lnTo>
                    <a:pt x="1859" y="4964"/>
                  </a:lnTo>
                  <a:lnTo>
                    <a:pt x="1908" y="4986"/>
                  </a:lnTo>
                  <a:lnTo>
                    <a:pt x="1958" y="5009"/>
                  </a:lnTo>
                  <a:lnTo>
                    <a:pt x="2008" y="5030"/>
                  </a:lnTo>
                  <a:lnTo>
                    <a:pt x="2058" y="5052"/>
                  </a:lnTo>
                  <a:lnTo>
                    <a:pt x="2110" y="5073"/>
                  </a:lnTo>
                  <a:lnTo>
                    <a:pt x="2161" y="5094"/>
                  </a:lnTo>
                  <a:lnTo>
                    <a:pt x="2213" y="5113"/>
                  </a:lnTo>
                  <a:lnTo>
                    <a:pt x="2266" y="5134"/>
                  </a:lnTo>
                  <a:lnTo>
                    <a:pt x="2319" y="5154"/>
                  </a:lnTo>
                  <a:lnTo>
                    <a:pt x="2374" y="5173"/>
                  </a:lnTo>
                  <a:lnTo>
                    <a:pt x="2427" y="5193"/>
                  </a:lnTo>
                  <a:lnTo>
                    <a:pt x="2482" y="5211"/>
                  </a:lnTo>
                  <a:lnTo>
                    <a:pt x="2537" y="5231"/>
                  </a:lnTo>
                  <a:lnTo>
                    <a:pt x="2593" y="5249"/>
                  </a:lnTo>
                  <a:lnTo>
                    <a:pt x="2648" y="5265"/>
                  </a:lnTo>
                  <a:lnTo>
                    <a:pt x="2704" y="5284"/>
                  </a:lnTo>
                  <a:lnTo>
                    <a:pt x="2761" y="5300"/>
                  </a:lnTo>
                  <a:lnTo>
                    <a:pt x="2819" y="5318"/>
                  </a:lnTo>
                  <a:lnTo>
                    <a:pt x="2876" y="5334"/>
                  </a:lnTo>
                  <a:lnTo>
                    <a:pt x="2935" y="5351"/>
                  </a:lnTo>
                  <a:lnTo>
                    <a:pt x="2993" y="5366"/>
                  </a:lnTo>
                  <a:lnTo>
                    <a:pt x="3052" y="5383"/>
                  </a:lnTo>
                  <a:lnTo>
                    <a:pt x="3110" y="5398"/>
                  </a:lnTo>
                  <a:lnTo>
                    <a:pt x="3170" y="5412"/>
                  </a:lnTo>
                  <a:lnTo>
                    <a:pt x="3230" y="5427"/>
                  </a:lnTo>
                  <a:lnTo>
                    <a:pt x="3290" y="5441"/>
                  </a:lnTo>
                  <a:lnTo>
                    <a:pt x="3352" y="5455"/>
                  </a:lnTo>
                  <a:lnTo>
                    <a:pt x="3413" y="5468"/>
                  </a:lnTo>
                  <a:lnTo>
                    <a:pt x="3475" y="5482"/>
                  </a:lnTo>
                  <a:lnTo>
                    <a:pt x="3537" y="5494"/>
                  </a:lnTo>
                  <a:lnTo>
                    <a:pt x="3599" y="5507"/>
                  </a:lnTo>
                  <a:lnTo>
                    <a:pt x="3662" y="5518"/>
                  </a:lnTo>
                  <a:lnTo>
                    <a:pt x="3724" y="5531"/>
                  </a:lnTo>
                  <a:lnTo>
                    <a:pt x="3788" y="5542"/>
                  </a:lnTo>
                  <a:lnTo>
                    <a:pt x="3853" y="5553"/>
                  </a:lnTo>
                  <a:lnTo>
                    <a:pt x="3915" y="5563"/>
                  </a:lnTo>
                  <a:lnTo>
                    <a:pt x="3981" y="5572"/>
                  </a:lnTo>
                  <a:lnTo>
                    <a:pt x="4045" y="5582"/>
                  </a:lnTo>
                  <a:lnTo>
                    <a:pt x="4111" y="5592"/>
                  </a:lnTo>
                  <a:lnTo>
                    <a:pt x="4176" y="5602"/>
                  </a:lnTo>
                  <a:lnTo>
                    <a:pt x="4242" y="5610"/>
                  </a:lnTo>
                  <a:lnTo>
                    <a:pt x="4308" y="5618"/>
                  </a:lnTo>
                  <a:lnTo>
                    <a:pt x="4373" y="5625"/>
                  </a:lnTo>
                  <a:lnTo>
                    <a:pt x="4440" y="5634"/>
                  </a:lnTo>
                  <a:lnTo>
                    <a:pt x="4507" y="5641"/>
                  </a:lnTo>
                  <a:lnTo>
                    <a:pt x="4574" y="5646"/>
                  </a:lnTo>
                  <a:lnTo>
                    <a:pt x="4642" y="5653"/>
                  </a:lnTo>
                  <a:lnTo>
                    <a:pt x="4709" y="5659"/>
                  </a:lnTo>
                  <a:lnTo>
                    <a:pt x="4778" y="5665"/>
                  </a:lnTo>
                  <a:lnTo>
                    <a:pt x="4846" y="5669"/>
                  </a:lnTo>
                  <a:lnTo>
                    <a:pt x="4915" y="5673"/>
                  </a:lnTo>
                  <a:lnTo>
                    <a:pt x="4983" y="5677"/>
                  </a:lnTo>
                  <a:lnTo>
                    <a:pt x="5053" y="5681"/>
                  </a:lnTo>
                  <a:lnTo>
                    <a:pt x="5122" y="5684"/>
                  </a:lnTo>
                  <a:lnTo>
                    <a:pt x="5191" y="5687"/>
                  </a:lnTo>
                  <a:lnTo>
                    <a:pt x="5261" y="5690"/>
                  </a:lnTo>
                  <a:lnTo>
                    <a:pt x="5332" y="5692"/>
                  </a:lnTo>
                  <a:lnTo>
                    <a:pt x="5402" y="5694"/>
                  </a:lnTo>
                  <a:lnTo>
                    <a:pt x="5471" y="5695"/>
                  </a:lnTo>
                  <a:lnTo>
                    <a:pt x="5542" y="5695"/>
                  </a:lnTo>
                  <a:lnTo>
                    <a:pt x="5614" y="5695"/>
                  </a:lnTo>
                  <a:lnTo>
                    <a:pt x="5614" y="5695"/>
                  </a:lnTo>
                  <a:close/>
                </a:path>
              </a:pathLst>
            </a:custGeom>
            <a:gradFill rotWithShape="0">
              <a:gsLst>
                <a:gs pos="0">
                  <a:srgbClr val="1a2d45"/>
                </a:gs>
                <a:gs pos="50000">
                  <a:srgbClr val="30517c"/>
                </a:gs>
                <a:gs pos="100000">
                  <a:srgbClr val="1a2d45"/>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98" name=""/>
            <p:cNvSpPr/>
            <p:nvPr/>
          </p:nvSpPr>
          <p:spPr>
            <a:xfrm>
              <a:off x="282960" y="4248000"/>
              <a:ext cx="4315680" cy="1344960"/>
            </a:xfrm>
            <a:custGeom>
              <a:avLst/>
              <a:gdLst/>
              <a:ahLst/>
              <a:rect l="l" t="t" r="r" b="b"/>
              <a:pathLst>
                <a:path w="11226" h="5696">
                  <a:moveTo>
                    <a:pt x="5614" y="5696"/>
                  </a:moveTo>
                  <a:lnTo>
                    <a:pt x="5685" y="5695"/>
                  </a:lnTo>
                  <a:lnTo>
                    <a:pt x="5755" y="5695"/>
                  </a:lnTo>
                  <a:lnTo>
                    <a:pt x="5826" y="5693"/>
                  </a:lnTo>
                  <a:lnTo>
                    <a:pt x="5895" y="5692"/>
                  </a:lnTo>
                  <a:lnTo>
                    <a:pt x="5965" y="5690"/>
                  </a:lnTo>
                  <a:lnTo>
                    <a:pt x="6035" y="5688"/>
                  </a:lnTo>
                  <a:lnTo>
                    <a:pt x="6105" y="5685"/>
                  </a:lnTo>
                  <a:lnTo>
                    <a:pt x="6175" y="5681"/>
                  </a:lnTo>
                  <a:lnTo>
                    <a:pt x="6243" y="5678"/>
                  </a:lnTo>
                  <a:lnTo>
                    <a:pt x="6313" y="5674"/>
                  </a:lnTo>
                  <a:lnTo>
                    <a:pt x="6381" y="5670"/>
                  </a:lnTo>
                  <a:lnTo>
                    <a:pt x="6449" y="5664"/>
                  </a:lnTo>
                  <a:lnTo>
                    <a:pt x="6518" y="5658"/>
                  </a:lnTo>
                  <a:lnTo>
                    <a:pt x="6585" y="5653"/>
                  </a:lnTo>
                  <a:lnTo>
                    <a:pt x="6653" y="5647"/>
                  </a:lnTo>
                  <a:lnTo>
                    <a:pt x="6720" y="5640"/>
                  </a:lnTo>
                  <a:lnTo>
                    <a:pt x="6786" y="5633"/>
                  </a:lnTo>
                  <a:lnTo>
                    <a:pt x="6851" y="5626"/>
                  </a:lnTo>
                  <a:lnTo>
                    <a:pt x="6918" y="5618"/>
                  </a:lnTo>
                  <a:lnTo>
                    <a:pt x="6984" y="5610"/>
                  </a:lnTo>
                  <a:lnTo>
                    <a:pt x="7049" y="5601"/>
                  </a:lnTo>
                  <a:lnTo>
                    <a:pt x="7115" y="5593"/>
                  </a:lnTo>
                  <a:lnTo>
                    <a:pt x="7181" y="5583"/>
                  </a:lnTo>
                  <a:lnTo>
                    <a:pt x="7245" y="5573"/>
                  </a:lnTo>
                  <a:lnTo>
                    <a:pt x="7309" y="5563"/>
                  </a:lnTo>
                  <a:lnTo>
                    <a:pt x="7373" y="5552"/>
                  </a:lnTo>
                  <a:lnTo>
                    <a:pt x="7437" y="5541"/>
                  </a:lnTo>
                  <a:lnTo>
                    <a:pt x="7500" y="5530"/>
                  </a:lnTo>
                  <a:lnTo>
                    <a:pt x="7564" y="5519"/>
                  </a:lnTo>
                  <a:lnTo>
                    <a:pt x="7627" y="5506"/>
                  </a:lnTo>
                  <a:lnTo>
                    <a:pt x="7689" y="5494"/>
                  </a:lnTo>
                  <a:lnTo>
                    <a:pt x="7751" y="5481"/>
                  </a:lnTo>
                  <a:lnTo>
                    <a:pt x="7813" y="5469"/>
                  </a:lnTo>
                  <a:lnTo>
                    <a:pt x="7874" y="5455"/>
                  </a:lnTo>
                  <a:lnTo>
                    <a:pt x="7934" y="5441"/>
                  </a:lnTo>
                  <a:lnTo>
                    <a:pt x="7996" y="5427"/>
                  </a:lnTo>
                  <a:lnTo>
                    <a:pt x="8056" y="5413"/>
                  </a:lnTo>
                  <a:lnTo>
                    <a:pt x="8116" y="5397"/>
                  </a:lnTo>
                  <a:lnTo>
                    <a:pt x="8174" y="5382"/>
                  </a:lnTo>
                  <a:lnTo>
                    <a:pt x="8233" y="5367"/>
                  </a:lnTo>
                  <a:lnTo>
                    <a:pt x="8291" y="5350"/>
                  </a:lnTo>
                  <a:lnTo>
                    <a:pt x="8350" y="5335"/>
                  </a:lnTo>
                  <a:lnTo>
                    <a:pt x="8407" y="5318"/>
                  </a:lnTo>
                  <a:lnTo>
                    <a:pt x="8464" y="5301"/>
                  </a:lnTo>
                  <a:lnTo>
                    <a:pt x="8522" y="5283"/>
                  </a:lnTo>
                  <a:lnTo>
                    <a:pt x="8577" y="5266"/>
                  </a:lnTo>
                  <a:lnTo>
                    <a:pt x="8633" y="5248"/>
                  </a:lnTo>
                  <a:lnTo>
                    <a:pt x="8689" y="5230"/>
                  </a:lnTo>
                  <a:lnTo>
                    <a:pt x="8743" y="5212"/>
                  </a:lnTo>
                  <a:lnTo>
                    <a:pt x="8798" y="5192"/>
                  </a:lnTo>
                  <a:lnTo>
                    <a:pt x="8852" y="5173"/>
                  </a:lnTo>
                  <a:lnTo>
                    <a:pt x="8907" y="5153"/>
                  </a:lnTo>
                  <a:lnTo>
                    <a:pt x="8960" y="5134"/>
                  </a:lnTo>
                  <a:lnTo>
                    <a:pt x="9011" y="5114"/>
                  </a:lnTo>
                  <a:lnTo>
                    <a:pt x="9064" y="5093"/>
                  </a:lnTo>
                  <a:lnTo>
                    <a:pt x="9116" y="5072"/>
                  </a:lnTo>
                  <a:lnTo>
                    <a:pt x="9168" y="5051"/>
                  </a:lnTo>
                  <a:lnTo>
                    <a:pt x="9218" y="5030"/>
                  </a:lnTo>
                  <a:lnTo>
                    <a:pt x="9268" y="5008"/>
                  </a:lnTo>
                  <a:lnTo>
                    <a:pt x="9317" y="4987"/>
                  </a:lnTo>
                  <a:lnTo>
                    <a:pt x="9367" y="4965"/>
                  </a:lnTo>
                  <a:lnTo>
                    <a:pt x="9416" y="4942"/>
                  </a:lnTo>
                  <a:lnTo>
                    <a:pt x="9463" y="4919"/>
                  </a:lnTo>
                  <a:lnTo>
                    <a:pt x="9511" y="4896"/>
                  </a:lnTo>
                  <a:lnTo>
                    <a:pt x="9558" y="4873"/>
                  </a:lnTo>
                  <a:lnTo>
                    <a:pt x="9604" y="4849"/>
                  </a:lnTo>
                  <a:lnTo>
                    <a:pt x="9650" y="4825"/>
                  </a:lnTo>
                  <a:lnTo>
                    <a:pt x="9696" y="4802"/>
                  </a:lnTo>
                  <a:lnTo>
                    <a:pt x="9741" y="4776"/>
                  </a:lnTo>
                  <a:lnTo>
                    <a:pt x="9786" y="4753"/>
                  </a:lnTo>
                  <a:lnTo>
                    <a:pt x="9829" y="4728"/>
                  </a:lnTo>
                  <a:lnTo>
                    <a:pt x="9872" y="4702"/>
                  </a:lnTo>
                  <a:lnTo>
                    <a:pt x="9914" y="4676"/>
                  </a:lnTo>
                  <a:lnTo>
                    <a:pt x="9957" y="4651"/>
                  </a:lnTo>
                  <a:lnTo>
                    <a:pt x="9998" y="4624"/>
                  </a:lnTo>
                  <a:lnTo>
                    <a:pt x="10040" y="4598"/>
                  </a:lnTo>
                  <a:lnTo>
                    <a:pt x="10079" y="4573"/>
                  </a:lnTo>
                  <a:lnTo>
                    <a:pt x="10119" y="4545"/>
                  </a:lnTo>
                  <a:lnTo>
                    <a:pt x="10158" y="4518"/>
                  </a:lnTo>
                  <a:lnTo>
                    <a:pt x="10196" y="4492"/>
                  </a:lnTo>
                  <a:lnTo>
                    <a:pt x="10234" y="4464"/>
                  </a:lnTo>
                  <a:lnTo>
                    <a:pt x="10271" y="4436"/>
                  </a:lnTo>
                  <a:lnTo>
                    <a:pt x="10308" y="4408"/>
                  </a:lnTo>
                  <a:lnTo>
                    <a:pt x="10344" y="4380"/>
                  </a:lnTo>
                  <a:lnTo>
                    <a:pt x="10379" y="4352"/>
                  </a:lnTo>
                  <a:lnTo>
                    <a:pt x="10414" y="4323"/>
                  </a:lnTo>
                  <a:lnTo>
                    <a:pt x="10449" y="4294"/>
                  </a:lnTo>
                  <a:lnTo>
                    <a:pt x="10482" y="4266"/>
                  </a:lnTo>
                  <a:lnTo>
                    <a:pt x="10514" y="4236"/>
                  </a:lnTo>
                  <a:lnTo>
                    <a:pt x="10546" y="4207"/>
                  </a:lnTo>
                  <a:lnTo>
                    <a:pt x="10577" y="4176"/>
                  </a:lnTo>
                  <a:lnTo>
                    <a:pt x="10608" y="4147"/>
                  </a:lnTo>
                  <a:lnTo>
                    <a:pt x="10638" y="4116"/>
                  </a:lnTo>
                  <a:lnTo>
                    <a:pt x="10668" y="4087"/>
                  </a:lnTo>
                  <a:lnTo>
                    <a:pt x="10696" y="4056"/>
                  </a:lnTo>
                  <a:lnTo>
                    <a:pt x="10725" y="4026"/>
                  </a:lnTo>
                  <a:lnTo>
                    <a:pt x="10751" y="3995"/>
                  </a:lnTo>
                  <a:lnTo>
                    <a:pt x="10778" y="3963"/>
                  </a:lnTo>
                  <a:lnTo>
                    <a:pt x="10804" y="3932"/>
                  </a:lnTo>
                  <a:lnTo>
                    <a:pt x="10830" y="3900"/>
                  </a:lnTo>
                  <a:lnTo>
                    <a:pt x="10853" y="3869"/>
                  </a:lnTo>
                  <a:lnTo>
                    <a:pt x="10877" y="3837"/>
                  </a:lnTo>
                  <a:lnTo>
                    <a:pt x="10901" y="3805"/>
                  </a:lnTo>
                  <a:lnTo>
                    <a:pt x="10922" y="3773"/>
                  </a:lnTo>
                  <a:lnTo>
                    <a:pt x="10944" y="3741"/>
                  </a:lnTo>
                  <a:lnTo>
                    <a:pt x="10965" y="3707"/>
                  </a:lnTo>
                  <a:lnTo>
                    <a:pt x="10984" y="3675"/>
                  </a:lnTo>
                  <a:lnTo>
                    <a:pt x="11004" y="3645"/>
                  </a:lnTo>
                  <a:lnTo>
                    <a:pt x="11022" y="3611"/>
                  </a:lnTo>
                  <a:lnTo>
                    <a:pt x="11040" y="3578"/>
                  </a:lnTo>
                  <a:lnTo>
                    <a:pt x="11057" y="3544"/>
                  </a:lnTo>
                  <a:lnTo>
                    <a:pt x="11072" y="3511"/>
                  </a:lnTo>
                  <a:lnTo>
                    <a:pt x="11088" y="3477"/>
                  </a:lnTo>
                  <a:lnTo>
                    <a:pt x="11103" y="3444"/>
                  </a:lnTo>
                  <a:lnTo>
                    <a:pt x="11117" y="3409"/>
                  </a:lnTo>
                  <a:lnTo>
                    <a:pt x="11130" y="3375"/>
                  </a:lnTo>
                  <a:lnTo>
                    <a:pt x="11142" y="3342"/>
                  </a:lnTo>
                  <a:lnTo>
                    <a:pt x="11153" y="3307"/>
                  </a:lnTo>
                  <a:lnTo>
                    <a:pt x="11164" y="3272"/>
                  </a:lnTo>
                  <a:lnTo>
                    <a:pt x="11174" y="3237"/>
                  </a:lnTo>
                  <a:lnTo>
                    <a:pt x="11183" y="3202"/>
                  </a:lnTo>
                  <a:lnTo>
                    <a:pt x="11191" y="3167"/>
                  </a:lnTo>
                  <a:lnTo>
                    <a:pt x="11198" y="3133"/>
                  </a:lnTo>
                  <a:lnTo>
                    <a:pt x="11205" y="3098"/>
                  </a:lnTo>
                  <a:lnTo>
                    <a:pt x="11210" y="3063"/>
                  </a:lnTo>
                  <a:lnTo>
                    <a:pt x="11215" y="3027"/>
                  </a:lnTo>
                  <a:lnTo>
                    <a:pt x="11219" y="2992"/>
                  </a:lnTo>
                  <a:lnTo>
                    <a:pt x="11222" y="2955"/>
                  </a:lnTo>
                  <a:lnTo>
                    <a:pt x="11224" y="2920"/>
                  </a:lnTo>
                  <a:lnTo>
                    <a:pt x="11226" y="2884"/>
                  </a:lnTo>
                  <a:lnTo>
                    <a:pt x="11226" y="2848"/>
                  </a:lnTo>
                  <a:lnTo>
                    <a:pt x="11226" y="2848"/>
                  </a:lnTo>
                  <a:lnTo>
                    <a:pt x="11226" y="2812"/>
                  </a:lnTo>
                  <a:lnTo>
                    <a:pt x="11224" y="2777"/>
                  </a:lnTo>
                  <a:lnTo>
                    <a:pt x="11222" y="2740"/>
                  </a:lnTo>
                  <a:lnTo>
                    <a:pt x="11219" y="2706"/>
                  </a:lnTo>
                  <a:lnTo>
                    <a:pt x="11215" y="2669"/>
                  </a:lnTo>
                  <a:lnTo>
                    <a:pt x="11210" y="2634"/>
                  </a:lnTo>
                  <a:lnTo>
                    <a:pt x="11205" y="2598"/>
                  </a:lnTo>
                  <a:lnTo>
                    <a:pt x="11198" y="2563"/>
                  </a:lnTo>
                  <a:lnTo>
                    <a:pt x="11191" y="2528"/>
                  </a:lnTo>
                  <a:lnTo>
                    <a:pt x="11183" y="2493"/>
                  </a:lnTo>
                  <a:lnTo>
                    <a:pt x="11174" y="2459"/>
                  </a:lnTo>
                  <a:lnTo>
                    <a:pt x="11164" y="2424"/>
                  </a:lnTo>
                  <a:lnTo>
                    <a:pt x="11153" y="2390"/>
                  </a:lnTo>
                  <a:lnTo>
                    <a:pt x="11142" y="2355"/>
                  </a:lnTo>
                  <a:lnTo>
                    <a:pt x="11130" y="2320"/>
                  </a:lnTo>
                  <a:lnTo>
                    <a:pt x="11117" y="2287"/>
                  </a:lnTo>
                  <a:lnTo>
                    <a:pt x="11103" y="2253"/>
                  </a:lnTo>
                  <a:lnTo>
                    <a:pt x="11088" y="2219"/>
                  </a:lnTo>
                  <a:lnTo>
                    <a:pt x="11072" y="2185"/>
                  </a:lnTo>
                  <a:lnTo>
                    <a:pt x="11057" y="2152"/>
                  </a:lnTo>
                  <a:lnTo>
                    <a:pt x="11040" y="2118"/>
                  </a:lnTo>
                  <a:lnTo>
                    <a:pt x="11022" y="2086"/>
                  </a:lnTo>
                  <a:lnTo>
                    <a:pt x="11004" y="2052"/>
                  </a:lnTo>
                  <a:lnTo>
                    <a:pt x="10984" y="2019"/>
                  </a:lnTo>
                  <a:lnTo>
                    <a:pt x="10965" y="1987"/>
                  </a:lnTo>
                  <a:lnTo>
                    <a:pt x="10944" y="1955"/>
                  </a:lnTo>
                  <a:lnTo>
                    <a:pt x="10922" y="1923"/>
                  </a:lnTo>
                  <a:lnTo>
                    <a:pt x="10901" y="1889"/>
                  </a:lnTo>
                  <a:lnTo>
                    <a:pt x="10877" y="1858"/>
                  </a:lnTo>
                  <a:lnTo>
                    <a:pt x="10853" y="1826"/>
                  </a:lnTo>
                  <a:lnTo>
                    <a:pt x="10830" y="1794"/>
                  </a:lnTo>
                  <a:lnTo>
                    <a:pt x="10804" y="1764"/>
                  </a:lnTo>
                  <a:lnTo>
                    <a:pt x="10778" y="1732"/>
                  </a:lnTo>
                  <a:lnTo>
                    <a:pt x="10751" y="1701"/>
                  </a:lnTo>
                  <a:lnTo>
                    <a:pt x="10725" y="1670"/>
                  </a:lnTo>
                  <a:lnTo>
                    <a:pt x="10696" y="1639"/>
                  </a:lnTo>
                  <a:lnTo>
                    <a:pt x="10668" y="1609"/>
                  </a:lnTo>
                  <a:lnTo>
                    <a:pt x="10638" y="1578"/>
                  </a:lnTo>
                  <a:lnTo>
                    <a:pt x="10608" y="1549"/>
                  </a:lnTo>
                  <a:lnTo>
                    <a:pt x="10577" y="1518"/>
                  </a:lnTo>
                  <a:lnTo>
                    <a:pt x="10546" y="1489"/>
                  </a:lnTo>
                  <a:lnTo>
                    <a:pt x="10514" y="1459"/>
                  </a:lnTo>
                  <a:lnTo>
                    <a:pt x="10482" y="1430"/>
                  </a:lnTo>
                  <a:lnTo>
                    <a:pt x="10449" y="1401"/>
                  </a:lnTo>
                  <a:lnTo>
                    <a:pt x="10414" y="1371"/>
                  </a:lnTo>
                  <a:lnTo>
                    <a:pt x="10379" y="1344"/>
                  </a:lnTo>
                  <a:lnTo>
                    <a:pt x="10344" y="1316"/>
                  </a:lnTo>
                  <a:lnTo>
                    <a:pt x="10308" y="1286"/>
                  </a:lnTo>
                  <a:lnTo>
                    <a:pt x="10271" y="1258"/>
                  </a:lnTo>
                  <a:lnTo>
                    <a:pt x="10234" y="1232"/>
                  </a:lnTo>
                  <a:lnTo>
                    <a:pt x="10196" y="1204"/>
                  </a:lnTo>
                  <a:lnTo>
                    <a:pt x="10158" y="1176"/>
                  </a:lnTo>
                  <a:lnTo>
                    <a:pt x="10119" y="1150"/>
                  </a:lnTo>
                  <a:lnTo>
                    <a:pt x="10079" y="1123"/>
                  </a:lnTo>
                  <a:lnTo>
                    <a:pt x="10040" y="1097"/>
                  </a:lnTo>
                  <a:lnTo>
                    <a:pt x="9998" y="1070"/>
                  </a:lnTo>
                  <a:lnTo>
                    <a:pt x="9957" y="1045"/>
                  </a:lnTo>
                  <a:lnTo>
                    <a:pt x="9914" y="1018"/>
                  </a:lnTo>
                  <a:lnTo>
                    <a:pt x="9872" y="993"/>
                  </a:lnTo>
                  <a:lnTo>
                    <a:pt x="9829" y="968"/>
                  </a:lnTo>
                  <a:lnTo>
                    <a:pt x="9786" y="943"/>
                  </a:lnTo>
                  <a:lnTo>
                    <a:pt x="9741" y="918"/>
                  </a:lnTo>
                  <a:lnTo>
                    <a:pt x="9696" y="894"/>
                  </a:lnTo>
                  <a:lnTo>
                    <a:pt x="9650" y="869"/>
                  </a:lnTo>
                  <a:lnTo>
                    <a:pt x="9604" y="845"/>
                  </a:lnTo>
                  <a:lnTo>
                    <a:pt x="9558" y="822"/>
                  </a:lnTo>
                  <a:lnTo>
                    <a:pt x="9511" y="799"/>
                  </a:lnTo>
                  <a:lnTo>
                    <a:pt x="9463" y="776"/>
                  </a:lnTo>
                  <a:lnTo>
                    <a:pt x="9416" y="753"/>
                  </a:lnTo>
                  <a:lnTo>
                    <a:pt x="9367" y="731"/>
                  </a:lnTo>
                  <a:lnTo>
                    <a:pt x="9317" y="709"/>
                  </a:lnTo>
                  <a:lnTo>
                    <a:pt x="9268" y="686"/>
                  </a:lnTo>
                  <a:lnTo>
                    <a:pt x="9218" y="665"/>
                  </a:lnTo>
                  <a:lnTo>
                    <a:pt x="9168" y="643"/>
                  </a:lnTo>
                  <a:lnTo>
                    <a:pt x="9116" y="622"/>
                  </a:lnTo>
                  <a:lnTo>
                    <a:pt x="9064" y="601"/>
                  </a:lnTo>
                  <a:lnTo>
                    <a:pt x="9011" y="582"/>
                  </a:lnTo>
                  <a:lnTo>
                    <a:pt x="8960" y="561"/>
                  </a:lnTo>
                  <a:lnTo>
                    <a:pt x="8907" y="541"/>
                  </a:lnTo>
                  <a:lnTo>
                    <a:pt x="8852" y="522"/>
                  </a:lnTo>
                  <a:lnTo>
                    <a:pt x="8798" y="502"/>
                  </a:lnTo>
                  <a:lnTo>
                    <a:pt x="8743" y="484"/>
                  </a:lnTo>
                  <a:lnTo>
                    <a:pt x="8689" y="466"/>
                  </a:lnTo>
                  <a:lnTo>
                    <a:pt x="8633" y="448"/>
                  </a:lnTo>
                  <a:lnTo>
                    <a:pt x="8577" y="430"/>
                  </a:lnTo>
                  <a:lnTo>
                    <a:pt x="8522" y="411"/>
                  </a:lnTo>
                  <a:lnTo>
                    <a:pt x="8464" y="395"/>
                  </a:lnTo>
                  <a:lnTo>
                    <a:pt x="8407" y="378"/>
                  </a:lnTo>
                  <a:lnTo>
                    <a:pt x="8350" y="361"/>
                  </a:lnTo>
                  <a:lnTo>
                    <a:pt x="8291" y="344"/>
                  </a:lnTo>
                  <a:lnTo>
                    <a:pt x="8233" y="329"/>
                  </a:lnTo>
                  <a:lnTo>
                    <a:pt x="8174" y="314"/>
                  </a:lnTo>
                  <a:lnTo>
                    <a:pt x="8116" y="298"/>
                  </a:lnTo>
                  <a:lnTo>
                    <a:pt x="8056" y="283"/>
                  </a:lnTo>
                  <a:lnTo>
                    <a:pt x="7996" y="268"/>
                  </a:lnTo>
                  <a:lnTo>
                    <a:pt x="7934" y="254"/>
                  </a:lnTo>
                  <a:lnTo>
                    <a:pt x="7874" y="240"/>
                  </a:lnTo>
                  <a:lnTo>
                    <a:pt x="7813" y="227"/>
                  </a:lnTo>
                  <a:lnTo>
                    <a:pt x="7751" y="213"/>
                  </a:lnTo>
                  <a:lnTo>
                    <a:pt x="7689" y="201"/>
                  </a:lnTo>
                  <a:lnTo>
                    <a:pt x="7627" y="188"/>
                  </a:lnTo>
                  <a:lnTo>
                    <a:pt x="7564" y="177"/>
                  </a:lnTo>
                  <a:lnTo>
                    <a:pt x="7500" y="164"/>
                  </a:lnTo>
                  <a:lnTo>
                    <a:pt x="7437" y="153"/>
                  </a:lnTo>
                  <a:lnTo>
                    <a:pt x="7373" y="143"/>
                  </a:lnTo>
                  <a:lnTo>
                    <a:pt x="7309" y="132"/>
                  </a:lnTo>
                  <a:lnTo>
                    <a:pt x="7245" y="123"/>
                  </a:lnTo>
                  <a:lnTo>
                    <a:pt x="7181" y="113"/>
                  </a:lnTo>
                  <a:lnTo>
                    <a:pt x="7115" y="103"/>
                  </a:lnTo>
                  <a:lnTo>
                    <a:pt x="7049" y="95"/>
                  </a:lnTo>
                  <a:lnTo>
                    <a:pt x="6984" y="85"/>
                  </a:lnTo>
                  <a:lnTo>
                    <a:pt x="6918" y="78"/>
                  </a:lnTo>
                  <a:lnTo>
                    <a:pt x="6851" y="70"/>
                  </a:lnTo>
                  <a:lnTo>
                    <a:pt x="6786" y="63"/>
                  </a:lnTo>
                  <a:lnTo>
                    <a:pt x="6720" y="56"/>
                  </a:lnTo>
                  <a:lnTo>
                    <a:pt x="6653" y="49"/>
                  </a:lnTo>
                  <a:lnTo>
                    <a:pt x="6585" y="42"/>
                  </a:lnTo>
                  <a:lnTo>
                    <a:pt x="6518" y="36"/>
                  </a:lnTo>
                  <a:lnTo>
                    <a:pt x="6449" y="30"/>
                  </a:lnTo>
                  <a:lnTo>
                    <a:pt x="6381" y="26"/>
                  </a:lnTo>
                  <a:lnTo>
                    <a:pt x="6313" y="22"/>
                  </a:lnTo>
                  <a:lnTo>
                    <a:pt x="6243" y="18"/>
                  </a:lnTo>
                  <a:lnTo>
                    <a:pt x="6175" y="14"/>
                  </a:lnTo>
                  <a:lnTo>
                    <a:pt x="6105" y="11"/>
                  </a:lnTo>
                  <a:lnTo>
                    <a:pt x="6035" y="8"/>
                  </a:lnTo>
                  <a:lnTo>
                    <a:pt x="5965" y="5"/>
                  </a:lnTo>
                  <a:lnTo>
                    <a:pt x="5895" y="4"/>
                  </a:lnTo>
                  <a:lnTo>
                    <a:pt x="5826" y="1"/>
                  </a:lnTo>
                  <a:lnTo>
                    <a:pt x="5755" y="1"/>
                  </a:lnTo>
                  <a:lnTo>
                    <a:pt x="5685" y="0"/>
                  </a:lnTo>
                  <a:lnTo>
                    <a:pt x="5614" y="0"/>
                  </a:lnTo>
                  <a:lnTo>
                    <a:pt x="5614" y="0"/>
                  </a:lnTo>
                  <a:lnTo>
                    <a:pt x="5542" y="0"/>
                  </a:lnTo>
                  <a:lnTo>
                    <a:pt x="5471" y="1"/>
                  </a:lnTo>
                  <a:lnTo>
                    <a:pt x="5402" y="1"/>
                  </a:lnTo>
                  <a:lnTo>
                    <a:pt x="5332" y="4"/>
                  </a:lnTo>
                  <a:lnTo>
                    <a:pt x="5261" y="5"/>
                  </a:lnTo>
                  <a:lnTo>
                    <a:pt x="5191" y="8"/>
                  </a:lnTo>
                  <a:lnTo>
                    <a:pt x="5122" y="11"/>
                  </a:lnTo>
                  <a:lnTo>
                    <a:pt x="5053" y="14"/>
                  </a:lnTo>
                  <a:lnTo>
                    <a:pt x="4983" y="18"/>
                  </a:lnTo>
                  <a:lnTo>
                    <a:pt x="4915" y="22"/>
                  </a:lnTo>
                  <a:lnTo>
                    <a:pt x="4846" y="26"/>
                  </a:lnTo>
                  <a:lnTo>
                    <a:pt x="4778" y="30"/>
                  </a:lnTo>
                  <a:lnTo>
                    <a:pt x="4709" y="36"/>
                  </a:lnTo>
                  <a:lnTo>
                    <a:pt x="4642" y="42"/>
                  </a:lnTo>
                  <a:lnTo>
                    <a:pt x="4574" y="49"/>
                  </a:lnTo>
                  <a:lnTo>
                    <a:pt x="4507" y="56"/>
                  </a:lnTo>
                  <a:lnTo>
                    <a:pt x="4440" y="63"/>
                  </a:lnTo>
                  <a:lnTo>
                    <a:pt x="4373" y="70"/>
                  </a:lnTo>
                  <a:lnTo>
                    <a:pt x="4308" y="78"/>
                  </a:lnTo>
                  <a:lnTo>
                    <a:pt x="4242" y="85"/>
                  </a:lnTo>
                  <a:lnTo>
                    <a:pt x="4176" y="95"/>
                  </a:lnTo>
                  <a:lnTo>
                    <a:pt x="4111" y="103"/>
                  </a:lnTo>
                  <a:lnTo>
                    <a:pt x="4045" y="113"/>
                  </a:lnTo>
                  <a:lnTo>
                    <a:pt x="3981" y="123"/>
                  </a:lnTo>
                  <a:lnTo>
                    <a:pt x="3915" y="132"/>
                  </a:lnTo>
                  <a:lnTo>
                    <a:pt x="3853" y="143"/>
                  </a:lnTo>
                  <a:lnTo>
                    <a:pt x="3788" y="153"/>
                  </a:lnTo>
                  <a:lnTo>
                    <a:pt x="3724" y="164"/>
                  </a:lnTo>
                  <a:lnTo>
                    <a:pt x="3662" y="177"/>
                  </a:lnTo>
                  <a:lnTo>
                    <a:pt x="3599" y="188"/>
                  </a:lnTo>
                  <a:lnTo>
                    <a:pt x="3537" y="201"/>
                  </a:lnTo>
                  <a:lnTo>
                    <a:pt x="3475" y="213"/>
                  </a:lnTo>
                  <a:lnTo>
                    <a:pt x="3413" y="227"/>
                  </a:lnTo>
                  <a:lnTo>
                    <a:pt x="3352" y="240"/>
                  </a:lnTo>
                  <a:lnTo>
                    <a:pt x="3290" y="254"/>
                  </a:lnTo>
                  <a:lnTo>
                    <a:pt x="3230" y="268"/>
                  </a:lnTo>
                  <a:lnTo>
                    <a:pt x="3170" y="283"/>
                  </a:lnTo>
                  <a:lnTo>
                    <a:pt x="3110" y="298"/>
                  </a:lnTo>
                  <a:lnTo>
                    <a:pt x="3052" y="314"/>
                  </a:lnTo>
                  <a:lnTo>
                    <a:pt x="2993" y="329"/>
                  </a:lnTo>
                  <a:lnTo>
                    <a:pt x="2935" y="344"/>
                  </a:lnTo>
                  <a:lnTo>
                    <a:pt x="2876" y="361"/>
                  </a:lnTo>
                  <a:lnTo>
                    <a:pt x="2819" y="378"/>
                  </a:lnTo>
                  <a:lnTo>
                    <a:pt x="2761" y="395"/>
                  </a:lnTo>
                  <a:lnTo>
                    <a:pt x="2704" y="411"/>
                  </a:lnTo>
                  <a:lnTo>
                    <a:pt x="2648" y="430"/>
                  </a:lnTo>
                  <a:lnTo>
                    <a:pt x="2593" y="448"/>
                  </a:lnTo>
                  <a:lnTo>
                    <a:pt x="2537" y="466"/>
                  </a:lnTo>
                  <a:lnTo>
                    <a:pt x="2482" y="484"/>
                  </a:lnTo>
                  <a:lnTo>
                    <a:pt x="2427" y="502"/>
                  </a:lnTo>
                  <a:lnTo>
                    <a:pt x="2374" y="522"/>
                  </a:lnTo>
                  <a:lnTo>
                    <a:pt x="2319" y="541"/>
                  </a:lnTo>
                  <a:lnTo>
                    <a:pt x="2266" y="561"/>
                  </a:lnTo>
                  <a:lnTo>
                    <a:pt x="2213" y="582"/>
                  </a:lnTo>
                  <a:lnTo>
                    <a:pt x="2161" y="601"/>
                  </a:lnTo>
                  <a:lnTo>
                    <a:pt x="2110" y="622"/>
                  </a:lnTo>
                  <a:lnTo>
                    <a:pt x="2058" y="643"/>
                  </a:lnTo>
                  <a:lnTo>
                    <a:pt x="2008" y="665"/>
                  </a:lnTo>
                  <a:lnTo>
                    <a:pt x="1958" y="686"/>
                  </a:lnTo>
                  <a:lnTo>
                    <a:pt x="1908" y="709"/>
                  </a:lnTo>
                  <a:lnTo>
                    <a:pt x="1859" y="731"/>
                  </a:lnTo>
                  <a:lnTo>
                    <a:pt x="1810" y="753"/>
                  </a:lnTo>
                  <a:lnTo>
                    <a:pt x="1762" y="776"/>
                  </a:lnTo>
                  <a:lnTo>
                    <a:pt x="1715" y="799"/>
                  </a:lnTo>
                  <a:lnTo>
                    <a:pt x="1668" y="822"/>
                  </a:lnTo>
                  <a:lnTo>
                    <a:pt x="1621" y="845"/>
                  </a:lnTo>
                  <a:lnTo>
                    <a:pt x="1575" y="869"/>
                  </a:lnTo>
                  <a:lnTo>
                    <a:pt x="1529" y="894"/>
                  </a:lnTo>
                  <a:lnTo>
                    <a:pt x="1485" y="918"/>
                  </a:lnTo>
                  <a:lnTo>
                    <a:pt x="1440" y="943"/>
                  </a:lnTo>
                  <a:lnTo>
                    <a:pt x="1397" y="968"/>
                  </a:lnTo>
                  <a:lnTo>
                    <a:pt x="1354" y="993"/>
                  </a:lnTo>
                  <a:lnTo>
                    <a:pt x="1310" y="1018"/>
                  </a:lnTo>
                  <a:lnTo>
                    <a:pt x="1268" y="1045"/>
                  </a:lnTo>
                  <a:lnTo>
                    <a:pt x="1228" y="1070"/>
                  </a:lnTo>
                  <a:lnTo>
                    <a:pt x="1186" y="1097"/>
                  </a:lnTo>
                  <a:lnTo>
                    <a:pt x="1146" y="1123"/>
                  </a:lnTo>
                  <a:lnTo>
                    <a:pt x="1107" y="1150"/>
                  </a:lnTo>
                  <a:lnTo>
                    <a:pt x="1068" y="1176"/>
                  </a:lnTo>
                  <a:lnTo>
                    <a:pt x="1028" y="1204"/>
                  </a:lnTo>
                  <a:lnTo>
                    <a:pt x="991" y="1232"/>
                  </a:lnTo>
                  <a:lnTo>
                    <a:pt x="954" y="1258"/>
                  </a:lnTo>
                  <a:lnTo>
                    <a:pt x="917" y="1286"/>
                  </a:lnTo>
                  <a:lnTo>
                    <a:pt x="882" y="1316"/>
                  </a:lnTo>
                  <a:lnTo>
                    <a:pt x="846" y="1344"/>
                  </a:lnTo>
                  <a:lnTo>
                    <a:pt x="812" y="1371"/>
                  </a:lnTo>
                  <a:lnTo>
                    <a:pt x="777" y="1401"/>
                  </a:lnTo>
                  <a:lnTo>
                    <a:pt x="744" y="1430"/>
                  </a:lnTo>
                  <a:lnTo>
                    <a:pt x="712" y="1459"/>
                  </a:lnTo>
                  <a:lnTo>
                    <a:pt x="680" y="1489"/>
                  </a:lnTo>
                  <a:lnTo>
                    <a:pt x="648" y="1518"/>
                  </a:lnTo>
                  <a:lnTo>
                    <a:pt x="617" y="1549"/>
                  </a:lnTo>
                  <a:lnTo>
                    <a:pt x="588" y="1578"/>
                  </a:lnTo>
                  <a:lnTo>
                    <a:pt x="558" y="1609"/>
                  </a:lnTo>
                  <a:lnTo>
                    <a:pt x="529" y="1639"/>
                  </a:lnTo>
                  <a:lnTo>
                    <a:pt x="501" y="1670"/>
                  </a:lnTo>
                  <a:lnTo>
                    <a:pt x="474" y="1701"/>
                  </a:lnTo>
                  <a:lnTo>
                    <a:pt x="448" y="1732"/>
                  </a:lnTo>
                  <a:lnTo>
                    <a:pt x="421" y="1764"/>
                  </a:lnTo>
                  <a:lnTo>
                    <a:pt x="396" y="1794"/>
                  </a:lnTo>
                  <a:lnTo>
                    <a:pt x="373" y="1826"/>
                  </a:lnTo>
                  <a:lnTo>
                    <a:pt x="349" y="1858"/>
                  </a:lnTo>
                  <a:lnTo>
                    <a:pt x="325" y="1889"/>
                  </a:lnTo>
                  <a:lnTo>
                    <a:pt x="303" y="1923"/>
                  </a:lnTo>
                  <a:lnTo>
                    <a:pt x="282" y="1955"/>
                  </a:lnTo>
                  <a:lnTo>
                    <a:pt x="261" y="1987"/>
                  </a:lnTo>
                  <a:lnTo>
                    <a:pt x="241" y="2019"/>
                  </a:lnTo>
                  <a:lnTo>
                    <a:pt x="222" y="2052"/>
                  </a:lnTo>
                  <a:lnTo>
                    <a:pt x="204" y="2086"/>
                  </a:lnTo>
                  <a:lnTo>
                    <a:pt x="186" y="2118"/>
                  </a:lnTo>
                  <a:lnTo>
                    <a:pt x="169" y="2152"/>
                  </a:lnTo>
                  <a:lnTo>
                    <a:pt x="152" y="2185"/>
                  </a:lnTo>
                  <a:lnTo>
                    <a:pt x="137" y="2219"/>
                  </a:lnTo>
                  <a:lnTo>
                    <a:pt x="123" y="2253"/>
                  </a:lnTo>
                  <a:lnTo>
                    <a:pt x="109" y="2287"/>
                  </a:lnTo>
                  <a:lnTo>
                    <a:pt x="96" y="2320"/>
                  </a:lnTo>
                  <a:lnTo>
                    <a:pt x="84" y="2355"/>
                  </a:lnTo>
                  <a:lnTo>
                    <a:pt x="73" y="2390"/>
                  </a:lnTo>
                  <a:lnTo>
                    <a:pt x="61" y="2424"/>
                  </a:lnTo>
                  <a:lnTo>
                    <a:pt x="52" y="2459"/>
                  </a:lnTo>
                  <a:lnTo>
                    <a:pt x="43" y="2493"/>
                  </a:lnTo>
                  <a:lnTo>
                    <a:pt x="35" y="2528"/>
                  </a:lnTo>
                  <a:lnTo>
                    <a:pt x="28" y="2563"/>
                  </a:lnTo>
                  <a:lnTo>
                    <a:pt x="21" y="2598"/>
                  </a:lnTo>
                  <a:lnTo>
                    <a:pt x="15" y="2634"/>
                  </a:lnTo>
                  <a:lnTo>
                    <a:pt x="11" y="2669"/>
                  </a:lnTo>
                  <a:lnTo>
                    <a:pt x="7" y="2706"/>
                  </a:lnTo>
                  <a:lnTo>
                    <a:pt x="4" y="2740"/>
                  </a:lnTo>
                  <a:lnTo>
                    <a:pt x="1" y="2777"/>
                  </a:lnTo>
                  <a:lnTo>
                    <a:pt x="0" y="2812"/>
                  </a:lnTo>
                  <a:lnTo>
                    <a:pt x="0" y="2848"/>
                  </a:lnTo>
                  <a:lnTo>
                    <a:pt x="0" y="2848"/>
                  </a:lnTo>
                  <a:lnTo>
                    <a:pt x="0" y="2884"/>
                  </a:lnTo>
                  <a:lnTo>
                    <a:pt x="1" y="2920"/>
                  </a:lnTo>
                  <a:lnTo>
                    <a:pt x="4" y="2955"/>
                  </a:lnTo>
                  <a:lnTo>
                    <a:pt x="7" y="2992"/>
                  </a:lnTo>
                  <a:lnTo>
                    <a:pt x="11" y="3027"/>
                  </a:lnTo>
                  <a:lnTo>
                    <a:pt x="15" y="3063"/>
                  </a:lnTo>
                  <a:lnTo>
                    <a:pt x="21" y="3098"/>
                  </a:lnTo>
                  <a:lnTo>
                    <a:pt x="28" y="3133"/>
                  </a:lnTo>
                  <a:lnTo>
                    <a:pt x="35" y="3167"/>
                  </a:lnTo>
                  <a:lnTo>
                    <a:pt x="43" y="3202"/>
                  </a:lnTo>
                  <a:lnTo>
                    <a:pt x="52" y="3237"/>
                  </a:lnTo>
                  <a:lnTo>
                    <a:pt x="61" y="3272"/>
                  </a:lnTo>
                  <a:lnTo>
                    <a:pt x="73" y="3307"/>
                  </a:lnTo>
                  <a:lnTo>
                    <a:pt x="84" y="3342"/>
                  </a:lnTo>
                  <a:lnTo>
                    <a:pt x="96" y="3375"/>
                  </a:lnTo>
                  <a:lnTo>
                    <a:pt x="109" y="3409"/>
                  </a:lnTo>
                  <a:lnTo>
                    <a:pt x="123" y="3444"/>
                  </a:lnTo>
                  <a:lnTo>
                    <a:pt x="137" y="3477"/>
                  </a:lnTo>
                  <a:lnTo>
                    <a:pt x="152" y="3511"/>
                  </a:lnTo>
                  <a:lnTo>
                    <a:pt x="169" y="3544"/>
                  </a:lnTo>
                  <a:lnTo>
                    <a:pt x="186" y="3578"/>
                  </a:lnTo>
                  <a:lnTo>
                    <a:pt x="204" y="3611"/>
                  </a:lnTo>
                  <a:lnTo>
                    <a:pt x="222" y="3645"/>
                  </a:lnTo>
                  <a:lnTo>
                    <a:pt x="241" y="3675"/>
                  </a:lnTo>
                  <a:lnTo>
                    <a:pt x="261" y="3707"/>
                  </a:lnTo>
                  <a:lnTo>
                    <a:pt x="282" y="3741"/>
                  </a:lnTo>
                  <a:lnTo>
                    <a:pt x="303" y="3773"/>
                  </a:lnTo>
                  <a:lnTo>
                    <a:pt x="325" y="3805"/>
                  </a:lnTo>
                  <a:lnTo>
                    <a:pt x="349" y="3837"/>
                  </a:lnTo>
                  <a:lnTo>
                    <a:pt x="373" y="3869"/>
                  </a:lnTo>
                  <a:lnTo>
                    <a:pt x="396" y="3900"/>
                  </a:lnTo>
                  <a:lnTo>
                    <a:pt x="421" y="3932"/>
                  </a:lnTo>
                  <a:lnTo>
                    <a:pt x="448" y="3963"/>
                  </a:lnTo>
                  <a:lnTo>
                    <a:pt x="474" y="3995"/>
                  </a:lnTo>
                  <a:lnTo>
                    <a:pt x="501" y="4026"/>
                  </a:lnTo>
                  <a:lnTo>
                    <a:pt x="529" y="4056"/>
                  </a:lnTo>
                  <a:lnTo>
                    <a:pt x="558" y="4087"/>
                  </a:lnTo>
                  <a:lnTo>
                    <a:pt x="588" y="4116"/>
                  </a:lnTo>
                  <a:lnTo>
                    <a:pt x="617" y="4147"/>
                  </a:lnTo>
                  <a:lnTo>
                    <a:pt x="648" y="4176"/>
                  </a:lnTo>
                  <a:lnTo>
                    <a:pt x="680" y="4207"/>
                  </a:lnTo>
                  <a:lnTo>
                    <a:pt x="712" y="4236"/>
                  </a:lnTo>
                  <a:lnTo>
                    <a:pt x="744" y="4266"/>
                  </a:lnTo>
                  <a:lnTo>
                    <a:pt x="777" y="4294"/>
                  </a:lnTo>
                  <a:lnTo>
                    <a:pt x="812" y="4323"/>
                  </a:lnTo>
                  <a:lnTo>
                    <a:pt x="846" y="4352"/>
                  </a:lnTo>
                  <a:lnTo>
                    <a:pt x="882" y="4380"/>
                  </a:lnTo>
                  <a:lnTo>
                    <a:pt x="917" y="4408"/>
                  </a:lnTo>
                  <a:lnTo>
                    <a:pt x="954" y="4436"/>
                  </a:lnTo>
                  <a:lnTo>
                    <a:pt x="991" y="4464"/>
                  </a:lnTo>
                  <a:lnTo>
                    <a:pt x="1028" y="4492"/>
                  </a:lnTo>
                  <a:lnTo>
                    <a:pt x="1068" y="4518"/>
                  </a:lnTo>
                  <a:lnTo>
                    <a:pt x="1107" y="4545"/>
                  </a:lnTo>
                  <a:lnTo>
                    <a:pt x="1146" y="4573"/>
                  </a:lnTo>
                  <a:lnTo>
                    <a:pt x="1186" y="4598"/>
                  </a:lnTo>
                  <a:lnTo>
                    <a:pt x="1228" y="4624"/>
                  </a:lnTo>
                  <a:lnTo>
                    <a:pt x="1268" y="4651"/>
                  </a:lnTo>
                  <a:lnTo>
                    <a:pt x="1310" y="4676"/>
                  </a:lnTo>
                  <a:lnTo>
                    <a:pt x="1354" y="4702"/>
                  </a:lnTo>
                  <a:lnTo>
                    <a:pt x="1397" y="4728"/>
                  </a:lnTo>
                  <a:lnTo>
                    <a:pt x="1440" y="4753"/>
                  </a:lnTo>
                  <a:lnTo>
                    <a:pt x="1485" y="4776"/>
                  </a:lnTo>
                  <a:lnTo>
                    <a:pt x="1529" y="4802"/>
                  </a:lnTo>
                  <a:lnTo>
                    <a:pt x="1575" y="4825"/>
                  </a:lnTo>
                  <a:lnTo>
                    <a:pt x="1621" y="4849"/>
                  </a:lnTo>
                  <a:lnTo>
                    <a:pt x="1668" y="4873"/>
                  </a:lnTo>
                  <a:lnTo>
                    <a:pt x="1715" y="4896"/>
                  </a:lnTo>
                  <a:lnTo>
                    <a:pt x="1762" y="4919"/>
                  </a:lnTo>
                  <a:lnTo>
                    <a:pt x="1810" y="4942"/>
                  </a:lnTo>
                  <a:lnTo>
                    <a:pt x="1859" y="4965"/>
                  </a:lnTo>
                  <a:lnTo>
                    <a:pt x="1908" y="4987"/>
                  </a:lnTo>
                  <a:lnTo>
                    <a:pt x="1958" y="5008"/>
                  </a:lnTo>
                  <a:lnTo>
                    <a:pt x="2008" y="5030"/>
                  </a:lnTo>
                  <a:lnTo>
                    <a:pt x="2058" y="5051"/>
                  </a:lnTo>
                  <a:lnTo>
                    <a:pt x="2110" y="5072"/>
                  </a:lnTo>
                  <a:lnTo>
                    <a:pt x="2161" y="5093"/>
                  </a:lnTo>
                  <a:lnTo>
                    <a:pt x="2213" y="5114"/>
                  </a:lnTo>
                  <a:lnTo>
                    <a:pt x="2266" y="5134"/>
                  </a:lnTo>
                  <a:lnTo>
                    <a:pt x="2319" y="5153"/>
                  </a:lnTo>
                  <a:lnTo>
                    <a:pt x="2374" y="5173"/>
                  </a:lnTo>
                  <a:lnTo>
                    <a:pt x="2427" y="5192"/>
                  </a:lnTo>
                  <a:lnTo>
                    <a:pt x="2482" y="5212"/>
                  </a:lnTo>
                  <a:lnTo>
                    <a:pt x="2537" y="5230"/>
                  </a:lnTo>
                  <a:lnTo>
                    <a:pt x="2593" y="5248"/>
                  </a:lnTo>
                  <a:lnTo>
                    <a:pt x="2648" y="5266"/>
                  </a:lnTo>
                  <a:lnTo>
                    <a:pt x="2704" y="5283"/>
                  </a:lnTo>
                  <a:lnTo>
                    <a:pt x="2761" y="5301"/>
                  </a:lnTo>
                  <a:lnTo>
                    <a:pt x="2819" y="5318"/>
                  </a:lnTo>
                  <a:lnTo>
                    <a:pt x="2876" y="5335"/>
                  </a:lnTo>
                  <a:lnTo>
                    <a:pt x="2935" y="5350"/>
                  </a:lnTo>
                  <a:lnTo>
                    <a:pt x="2993" y="5367"/>
                  </a:lnTo>
                  <a:lnTo>
                    <a:pt x="3052" y="5382"/>
                  </a:lnTo>
                  <a:lnTo>
                    <a:pt x="3110" y="5397"/>
                  </a:lnTo>
                  <a:lnTo>
                    <a:pt x="3170" y="5413"/>
                  </a:lnTo>
                  <a:lnTo>
                    <a:pt x="3230" y="5427"/>
                  </a:lnTo>
                  <a:lnTo>
                    <a:pt x="3290" y="5441"/>
                  </a:lnTo>
                  <a:lnTo>
                    <a:pt x="3352" y="5455"/>
                  </a:lnTo>
                  <a:lnTo>
                    <a:pt x="3413" y="5469"/>
                  </a:lnTo>
                  <a:lnTo>
                    <a:pt x="3475" y="5481"/>
                  </a:lnTo>
                  <a:lnTo>
                    <a:pt x="3537" y="5494"/>
                  </a:lnTo>
                  <a:lnTo>
                    <a:pt x="3599" y="5506"/>
                  </a:lnTo>
                  <a:lnTo>
                    <a:pt x="3662" y="5519"/>
                  </a:lnTo>
                  <a:lnTo>
                    <a:pt x="3724" y="5530"/>
                  </a:lnTo>
                  <a:lnTo>
                    <a:pt x="3788" y="5541"/>
                  </a:lnTo>
                  <a:lnTo>
                    <a:pt x="3853" y="5552"/>
                  </a:lnTo>
                  <a:lnTo>
                    <a:pt x="3915" y="5563"/>
                  </a:lnTo>
                  <a:lnTo>
                    <a:pt x="3981" y="5573"/>
                  </a:lnTo>
                  <a:lnTo>
                    <a:pt x="4045" y="5583"/>
                  </a:lnTo>
                  <a:lnTo>
                    <a:pt x="4111" y="5593"/>
                  </a:lnTo>
                  <a:lnTo>
                    <a:pt x="4176" y="5601"/>
                  </a:lnTo>
                  <a:lnTo>
                    <a:pt x="4242" y="5610"/>
                  </a:lnTo>
                  <a:lnTo>
                    <a:pt x="4308" y="5618"/>
                  </a:lnTo>
                  <a:lnTo>
                    <a:pt x="4373" y="5626"/>
                  </a:lnTo>
                  <a:lnTo>
                    <a:pt x="4440" y="5633"/>
                  </a:lnTo>
                  <a:lnTo>
                    <a:pt x="4507" y="5640"/>
                  </a:lnTo>
                  <a:lnTo>
                    <a:pt x="4574" y="5647"/>
                  </a:lnTo>
                  <a:lnTo>
                    <a:pt x="4642" y="5653"/>
                  </a:lnTo>
                  <a:lnTo>
                    <a:pt x="4709" y="5658"/>
                  </a:lnTo>
                  <a:lnTo>
                    <a:pt x="4778" y="5664"/>
                  </a:lnTo>
                  <a:lnTo>
                    <a:pt x="4846" y="5670"/>
                  </a:lnTo>
                  <a:lnTo>
                    <a:pt x="4915" y="5674"/>
                  </a:lnTo>
                  <a:lnTo>
                    <a:pt x="4983" y="5678"/>
                  </a:lnTo>
                  <a:lnTo>
                    <a:pt x="5053" y="5681"/>
                  </a:lnTo>
                  <a:lnTo>
                    <a:pt x="5122" y="5685"/>
                  </a:lnTo>
                  <a:lnTo>
                    <a:pt x="5191" y="5688"/>
                  </a:lnTo>
                  <a:lnTo>
                    <a:pt x="5261" y="5690"/>
                  </a:lnTo>
                  <a:lnTo>
                    <a:pt x="5332" y="5692"/>
                  </a:lnTo>
                  <a:lnTo>
                    <a:pt x="5402" y="5693"/>
                  </a:lnTo>
                  <a:lnTo>
                    <a:pt x="5471" y="5695"/>
                  </a:lnTo>
                  <a:lnTo>
                    <a:pt x="5542" y="5695"/>
                  </a:lnTo>
                  <a:lnTo>
                    <a:pt x="5614" y="5696"/>
                  </a:lnTo>
                  <a:lnTo>
                    <a:pt x="5614" y="5696"/>
                  </a:lnTo>
                  <a:close/>
                </a:path>
              </a:pathLst>
            </a:custGeom>
            <a:solidFill>
              <a:srgbClr val="30517c"/>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3599" name=""/>
          <p:cNvSpPr/>
          <p:nvPr/>
        </p:nvSpPr>
        <p:spPr>
          <a:xfrm>
            <a:off x="304920" y="1447920"/>
            <a:ext cx="374796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cf00"/>
                </a:solidFill>
                <a:latin typeface="Arial"/>
              </a:rPr>
              <a:t>DES Performance</a:t>
            </a:r>
            <a:endParaRPr b="0" lang="en-US" sz="1600" spc="-1" strike="noStrike">
              <a:solidFill>
                <a:srgbClr val="ffffff"/>
              </a:solidFill>
              <a:latin typeface="Times New Roman"/>
            </a:endParaRPr>
          </a:p>
        </p:txBody>
      </p:sp>
      <p:grpSp>
        <p:nvGrpSpPr>
          <p:cNvPr id="3600" name=""/>
          <p:cNvGrpSpPr/>
          <p:nvPr/>
        </p:nvGrpSpPr>
        <p:grpSpPr>
          <a:xfrm>
            <a:off x="4570560" y="4933800"/>
            <a:ext cx="4393800" cy="1624320"/>
            <a:chOff x="4570560" y="4933800"/>
            <a:chExt cx="4393800" cy="1624320"/>
          </a:xfrm>
        </p:grpSpPr>
        <p:sp>
          <p:nvSpPr>
            <p:cNvPr id="3601" name=""/>
            <p:cNvSpPr/>
            <p:nvPr/>
          </p:nvSpPr>
          <p:spPr>
            <a:xfrm rot="21592200">
              <a:off x="4572000" y="5245200"/>
              <a:ext cx="4390920" cy="1307880"/>
            </a:xfrm>
            <a:custGeom>
              <a:avLst/>
              <a:gdLst/>
              <a:ahLst/>
              <a:rect l="l" t="t" r="r" b="b"/>
              <a:pathLst>
                <a:path w="9355" h="4746">
                  <a:moveTo>
                    <a:pt x="4677" y="4746"/>
                  </a:moveTo>
                  <a:lnTo>
                    <a:pt x="4748" y="4746"/>
                  </a:lnTo>
                  <a:lnTo>
                    <a:pt x="4820" y="4744"/>
                  </a:lnTo>
                  <a:lnTo>
                    <a:pt x="4889" y="4743"/>
                  </a:lnTo>
                  <a:lnTo>
                    <a:pt x="4961" y="4742"/>
                  </a:lnTo>
                  <a:lnTo>
                    <a:pt x="5030" y="4739"/>
                  </a:lnTo>
                  <a:lnTo>
                    <a:pt x="5100" y="4736"/>
                  </a:lnTo>
                  <a:lnTo>
                    <a:pt x="5168" y="4733"/>
                  </a:lnTo>
                  <a:lnTo>
                    <a:pt x="5238" y="4729"/>
                  </a:lnTo>
                  <a:lnTo>
                    <a:pt x="5307" y="4725"/>
                  </a:lnTo>
                  <a:lnTo>
                    <a:pt x="5375" y="4719"/>
                  </a:lnTo>
                  <a:lnTo>
                    <a:pt x="5443" y="4714"/>
                  </a:lnTo>
                  <a:lnTo>
                    <a:pt x="5512" y="4708"/>
                  </a:lnTo>
                  <a:lnTo>
                    <a:pt x="5579" y="4703"/>
                  </a:lnTo>
                  <a:lnTo>
                    <a:pt x="5646" y="4696"/>
                  </a:lnTo>
                  <a:lnTo>
                    <a:pt x="5713" y="4687"/>
                  </a:lnTo>
                  <a:lnTo>
                    <a:pt x="5778" y="4680"/>
                  </a:lnTo>
                  <a:lnTo>
                    <a:pt x="5845" y="4672"/>
                  </a:lnTo>
                  <a:lnTo>
                    <a:pt x="5911" y="4662"/>
                  </a:lnTo>
                  <a:lnTo>
                    <a:pt x="5976" y="4654"/>
                  </a:lnTo>
                  <a:lnTo>
                    <a:pt x="6041" y="4644"/>
                  </a:lnTo>
                  <a:lnTo>
                    <a:pt x="6105" y="4633"/>
                  </a:lnTo>
                  <a:lnTo>
                    <a:pt x="6169" y="4623"/>
                  </a:lnTo>
                  <a:lnTo>
                    <a:pt x="6233" y="4612"/>
                  </a:lnTo>
                  <a:lnTo>
                    <a:pt x="6296" y="4601"/>
                  </a:lnTo>
                  <a:lnTo>
                    <a:pt x="6359" y="4588"/>
                  </a:lnTo>
                  <a:lnTo>
                    <a:pt x="6422" y="4576"/>
                  </a:lnTo>
                  <a:lnTo>
                    <a:pt x="6483" y="4563"/>
                  </a:lnTo>
                  <a:lnTo>
                    <a:pt x="6544" y="4549"/>
                  </a:lnTo>
                  <a:lnTo>
                    <a:pt x="6606" y="4535"/>
                  </a:lnTo>
                  <a:lnTo>
                    <a:pt x="6667" y="4521"/>
                  </a:lnTo>
                  <a:lnTo>
                    <a:pt x="6727" y="4507"/>
                  </a:lnTo>
                  <a:lnTo>
                    <a:pt x="6784" y="4492"/>
                  </a:lnTo>
                  <a:lnTo>
                    <a:pt x="6844" y="4477"/>
                  </a:lnTo>
                  <a:lnTo>
                    <a:pt x="6903" y="4460"/>
                  </a:lnTo>
                  <a:lnTo>
                    <a:pt x="6960" y="4444"/>
                  </a:lnTo>
                  <a:lnTo>
                    <a:pt x="7019" y="4428"/>
                  </a:lnTo>
                  <a:lnTo>
                    <a:pt x="7076" y="4411"/>
                  </a:lnTo>
                  <a:lnTo>
                    <a:pt x="7132" y="4393"/>
                  </a:lnTo>
                  <a:lnTo>
                    <a:pt x="7189" y="4375"/>
                  </a:lnTo>
                  <a:lnTo>
                    <a:pt x="7243" y="4357"/>
                  </a:lnTo>
                  <a:lnTo>
                    <a:pt x="7299" y="4338"/>
                  </a:lnTo>
                  <a:lnTo>
                    <a:pt x="7354" y="4319"/>
                  </a:lnTo>
                  <a:lnTo>
                    <a:pt x="7407" y="4299"/>
                  </a:lnTo>
                  <a:lnTo>
                    <a:pt x="7461" y="4280"/>
                  </a:lnTo>
                  <a:lnTo>
                    <a:pt x="7513" y="4260"/>
                  </a:lnTo>
                  <a:lnTo>
                    <a:pt x="7566" y="4239"/>
                  </a:lnTo>
                  <a:lnTo>
                    <a:pt x="7617" y="4218"/>
                  </a:lnTo>
                  <a:lnTo>
                    <a:pt x="7668" y="4197"/>
                  </a:lnTo>
                  <a:lnTo>
                    <a:pt x="7718" y="4175"/>
                  </a:lnTo>
                  <a:lnTo>
                    <a:pt x="7768" y="4156"/>
                  </a:lnTo>
                  <a:lnTo>
                    <a:pt x="7817" y="4133"/>
                  </a:lnTo>
                  <a:lnTo>
                    <a:pt x="7866" y="4110"/>
                  </a:lnTo>
                  <a:lnTo>
                    <a:pt x="7913" y="4087"/>
                  </a:lnTo>
                  <a:lnTo>
                    <a:pt x="7961" y="4064"/>
                  </a:lnTo>
                  <a:lnTo>
                    <a:pt x="8008" y="4040"/>
                  </a:lnTo>
                  <a:lnTo>
                    <a:pt x="8054" y="4016"/>
                  </a:lnTo>
                  <a:lnTo>
                    <a:pt x="8099" y="3992"/>
                  </a:lnTo>
                  <a:lnTo>
                    <a:pt x="8143" y="3967"/>
                  </a:lnTo>
                  <a:lnTo>
                    <a:pt x="8187" y="3942"/>
                  </a:lnTo>
                  <a:lnTo>
                    <a:pt x="8230" y="3917"/>
                  </a:lnTo>
                  <a:lnTo>
                    <a:pt x="8273" y="3892"/>
                  </a:lnTo>
                  <a:lnTo>
                    <a:pt x="8315" y="3865"/>
                  </a:lnTo>
                  <a:lnTo>
                    <a:pt x="8356" y="3840"/>
                  </a:lnTo>
                  <a:lnTo>
                    <a:pt x="8396" y="3814"/>
                  </a:lnTo>
                  <a:lnTo>
                    <a:pt x="8436" y="3786"/>
                  </a:lnTo>
                  <a:lnTo>
                    <a:pt x="8476" y="3759"/>
                  </a:lnTo>
                  <a:lnTo>
                    <a:pt x="8513" y="3731"/>
                  </a:lnTo>
                  <a:lnTo>
                    <a:pt x="8551" y="3705"/>
                  </a:lnTo>
                  <a:lnTo>
                    <a:pt x="8587" y="3677"/>
                  </a:lnTo>
                  <a:lnTo>
                    <a:pt x="8623" y="3648"/>
                  </a:lnTo>
                  <a:lnTo>
                    <a:pt x="8658" y="3620"/>
                  </a:lnTo>
                  <a:lnTo>
                    <a:pt x="8693" y="3590"/>
                  </a:lnTo>
                  <a:lnTo>
                    <a:pt x="8727" y="3563"/>
                  </a:lnTo>
                  <a:lnTo>
                    <a:pt x="8760" y="3533"/>
                  </a:lnTo>
                  <a:lnTo>
                    <a:pt x="8792" y="3503"/>
                  </a:lnTo>
                  <a:lnTo>
                    <a:pt x="8823" y="3473"/>
                  </a:lnTo>
                  <a:lnTo>
                    <a:pt x="8854" y="3444"/>
                  </a:lnTo>
                  <a:lnTo>
                    <a:pt x="8883" y="3413"/>
                  </a:lnTo>
                  <a:lnTo>
                    <a:pt x="8912" y="3383"/>
                  </a:lnTo>
                  <a:lnTo>
                    <a:pt x="8940" y="3352"/>
                  </a:lnTo>
                  <a:lnTo>
                    <a:pt x="8967" y="3321"/>
                  </a:lnTo>
                  <a:lnTo>
                    <a:pt x="8993" y="3290"/>
                  </a:lnTo>
                  <a:lnTo>
                    <a:pt x="9018" y="3258"/>
                  </a:lnTo>
                  <a:lnTo>
                    <a:pt x="9043" y="3226"/>
                  </a:lnTo>
                  <a:lnTo>
                    <a:pt x="9067" y="3194"/>
                  </a:lnTo>
                  <a:lnTo>
                    <a:pt x="9089" y="3162"/>
                  </a:lnTo>
                  <a:lnTo>
                    <a:pt x="9112" y="3130"/>
                  </a:lnTo>
                  <a:lnTo>
                    <a:pt x="9133" y="3098"/>
                  </a:lnTo>
                  <a:lnTo>
                    <a:pt x="9152" y="3066"/>
                  </a:lnTo>
                  <a:lnTo>
                    <a:pt x="9172" y="3032"/>
                  </a:lnTo>
                  <a:lnTo>
                    <a:pt x="9190" y="2999"/>
                  </a:lnTo>
                  <a:lnTo>
                    <a:pt x="9208" y="2965"/>
                  </a:lnTo>
                  <a:lnTo>
                    <a:pt x="9225" y="2932"/>
                  </a:lnTo>
                  <a:lnTo>
                    <a:pt x="9240" y="2898"/>
                  </a:lnTo>
                  <a:lnTo>
                    <a:pt x="9254" y="2865"/>
                  </a:lnTo>
                  <a:lnTo>
                    <a:pt x="9268" y="2831"/>
                  </a:lnTo>
                  <a:lnTo>
                    <a:pt x="9281" y="2796"/>
                  </a:lnTo>
                  <a:lnTo>
                    <a:pt x="9292" y="2762"/>
                  </a:lnTo>
                  <a:lnTo>
                    <a:pt x="9303" y="2728"/>
                  </a:lnTo>
                  <a:lnTo>
                    <a:pt x="9313" y="2693"/>
                  </a:lnTo>
                  <a:lnTo>
                    <a:pt x="9321" y="2658"/>
                  </a:lnTo>
                  <a:lnTo>
                    <a:pt x="9329" y="2623"/>
                  </a:lnTo>
                  <a:lnTo>
                    <a:pt x="9335" y="2587"/>
                  </a:lnTo>
                  <a:lnTo>
                    <a:pt x="9342" y="2552"/>
                  </a:lnTo>
                  <a:lnTo>
                    <a:pt x="9346" y="2517"/>
                  </a:lnTo>
                  <a:lnTo>
                    <a:pt x="9350" y="2481"/>
                  </a:lnTo>
                  <a:lnTo>
                    <a:pt x="9352" y="2446"/>
                  </a:lnTo>
                  <a:lnTo>
                    <a:pt x="9355" y="2410"/>
                  </a:lnTo>
                  <a:lnTo>
                    <a:pt x="9355" y="2374"/>
                  </a:lnTo>
                  <a:lnTo>
                    <a:pt x="9355" y="2374"/>
                  </a:lnTo>
                  <a:lnTo>
                    <a:pt x="9355" y="2337"/>
                  </a:lnTo>
                  <a:lnTo>
                    <a:pt x="9352" y="2301"/>
                  </a:lnTo>
                  <a:lnTo>
                    <a:pt x="9350" y="2266"/>
                  </a:lnTo>
                  <a:lnTo>
                    <a:pt x="9346" y="2230"/>
                  </a:lnTo>
                  <a:lnTo>
                    <a:pt x="9342" y="2195"/>
                  </a:lnTo>
                  <a:lnTo>
                    <a:pt x="9335" y="2160"/>
                  </a:lnTo>
                  <a:lnTo>
                    <a:pt x="9329" y="2124"/>
                  </a:lnTo>
                  <a:lnTo>
                    <a:pt x="9321" y="2089"/>
                  </a:lnTo>
                  <a:lnTo>
                    <a:pt x="9313" y="2054"/>
                  </a:lnTo>
                  <a:lnTo>
                    <a:pt x="9303" y="2019"/>
                  </a:lnTo>
                  <a:lnTo>
                    <a:pt x="9292" y="1986"/>
                  </a:lnTo>
                  <a:lnTo>
                    <a:pt x="9281" y="1951"/>
                  </a:lnTo>
                  <a:lnTo>
                    <a:pt x="9268" y="1916"/>
                  </a:lnTo>
                  <a:lnTo>
                    <a:pt x="9254" y="1882"/>
                  </a:lnTo>
                  <a:lnTo>
                    <a:pt x="9240" y="1849"/>
                  </a:lnTo>
                  <a:lnTo>
                    <a:pt x="9225" y="1815"/>
                  </a:lnTo>
                  <a:lnTo>
                    <a:pt x="9208" y="1782"/>
                  </a:lnTo>
                  <a:lnTo>
                    <a:pt x="9190" y="1748"/>
                  </a:lnTo>
                  <a:lnTo>
                    <a:pt x="9172" y="1715"/>
                  </a:lnTo>
                  <a:lnTo>
                    <a:pt x="9152" y="1681"/>
                  </a:lnTo>
                  <a:lnTo>
                    <a:pt x="9133" y="1649"/>
                  </a:lnTo>
                  <a:lnTo>
                    <a:pt x="9112" y="1617"/>
                  </a:lnTo>
                  <a:lnTo>
                    <a:pt x="9089" y="1585"/>
                  </a:lnTo>
                  <a:lnTo>
                    <a:pt x="9067" y="1553"/>
                  </a:lnTo>
                  <a:lnTo>
                    <a:pt x="9043" y="1521"/>
                  </a:lnTo>
                  <a:lnTo>
                    <a:pt x="9018" y="1489"/>
                  </a:lnTo>
                  <a:lnTo>
                    <a:pt x="8993" y="1457"/>
                  </a:lnTo>
                  <a:lnTo>
                    <a:pt x="8967" y="1426"/>
                  </a:lnTo>
                  <a:lnTo>
                    <a:pt x="8940" y="1395"/>
                  </a:lnTo>
                  <a:lnTo>
                    <a:pt x="8912" y="1365"/>
                  </a:lnTo>
                  <a:lnTo>
                    <a:pt x="8883" y="1334"/>
                  </a:lnTo>
                  <a:lnTo>
                    <a:pt x="8854" y="1303"/>
                  </a:lnTo>
                  <a:lnTo>
                    <a:pt x="8823" y="1274"/>
                  </a:lnTo>
                  <a:lnTo>
                    <a:pt x="8792" y="1245"/>
                  </a:lnTo>
                  <a:lnTo>
                    <a:pt x="8760" y="1214"/>
                  </a:lnTo>
                  <a:lnTo>
                    <a:pt x="8727" y="1185"/>
                  </a:lnTo>
                  <a:lnTo>
                    <a:pt x="8693" y="1157"/>
                  </a:lnTo>
                  <a:lnTo>
                    <a:pt x="8658" y="1127"/>
                  </a:lnTo>
                  <a:lnTo>
                    <a:pt x="8623" y="1100"/>
                  </a:lnTo>
                  <a:lnTo>
                    <a:pt x="8587" y="1070"/>
                  </a:lnTo>
                  <a:lnTo>
                    <a:pt x="8551" y="1042"/>
                  </a:lnTo>
                  <a:lnTo>
                    <a:pt x="8513" y="1016"/>
                  </a:lnTo>
                  <a:lnTo>
                    <a:pt x="8476" y="988"/>
                  </a:lnTo>
                  <a:lnTo>
                    <a:pt x="8436" y="961"/>
                  </a:lnTo>
                  <a:lnTo>
                    <a:pt x="8396" y="933"/>
                  </a:lnTo>
                  <a:lnTo>
                    <a:pt x="8356" y="908"/>
                  </a:lnTo>
                  <a:lnTo>
                    <a:pt x="8315" y="882"/>
                  </a:lnTo>
                  <a:lnTo>
                    <a:pt x="8273" y="855"/>
                  </a:lnTo>
                  <a:lnTo>
                    <a:pt x="8230" y="830"/>
                  </a:lnTo>
                  <a:lnTo>
                    <a:pt x="8187" y="805"/>
                  </a:lnTo>
                  <a:lnTo>
                    <a:pt x="8143" y="780"/>
                  </a:lnTo>
                  <a:lnTo>
                    <a:pt x="8099" y="755"/>
                  </a:lnTo>
                  <a:lnTo>
                    <a:pt x="8054" y="731"/>
                  </a:lnTo>
                  <a:lnTo>
                    <a:pt x="8008" y="707"/>
                  </a:lnTo>
                  <a:lnTo>
                    <a:pt x="7961" y="684"/>
                  </a:lnTo>
                  <a:lnTo>
                    <a:pt x="7913" y="660"/>
                  </a:lnTo>
                  <a:lnTo>
                    <a:pt x="7866" y="638"/>
                  </a:lnTo>
                  <a:lnTo>
                    <a:pt x="7817" y="614"/>
                  </a:lnTo>
                  <a:lnTo>
                    <a:pt x="7768" y="592"/>
                  </a:lnTo>
                  <a:lnTo>
                    <a:pt x="7718" y="571"/>
                  </a:lnTo>
                  <a:lnTo>
                    <a:pt x="7668" y="548"/>
                  </a:lnTo>
                  <a:lnTo>
                    <a:pt x="7617" y="527"/>
                  </a:lnTo>
                  <a:lnTo>
                    <a:pt x="7566" y="506"/>
                  </a:lnTo>
                  <a:lnTo>
                    <a:pt x="7513" y="486"/>
                  </a:lnTo>
                  <a:lnTo>
                    <a:pt x="7461" y="466"/>
                  </a:lnTo>
                  <a:lnTo>
                    <a:pt x="7407" y="446"/>
                  </a:lnTo>
                  <a:lnTo>
                    <a:pt x="7354" y="427"/>
                  </a:lnTo>
                  <a:lnTo>
                    <a:pt x="7299" y="407"/>
                  </a:lnTo>
                  <a:lnTo>
                    <a:pt x="7243" y="389"/>
                  </a:lnTo>
                  <a:lnTo>
                    <a:pt x="7189" y="371"/>
                  </a:lnTo>
                  <a:lnTo>
                    <a:pt x="7132" y="353"/>
                  </a:lnTo>
                  <a:lnTo>
                    <a:pt x="7076" y="335"/>
                  </a:lnTo>
                  <a:lnTo>
                    <a:pt x="7019" y="318"/>
                  </a:lnTo>
                  <a:lnTo>
                    <a:pt x="6960" y="301"/>
                  </a:lnTo>
                  <a:lnTo>
                    <a:pt x="6903" y="286"/>
                  </a:lnTo>
                  <a:lnTo>
                    <a:pt x="6844" y="269"/>
                  </a:lnTo>
                  <a:lnTo>
                    <a:pt x="6784" y="254"/>
                  </a:lnTo>
                  <a:lnTo>
                    <a:pt x="6727" y="239"/>
                  </a:lnTo>
                  <a:lnTo>
                    <a:pt x="6667" y="225"/>
                  </a:lnTo>
                  <a:lnTo>
                    <a:pt x="6606" y="211"/>
                  </a:lnTo>
                  <a:lnTo>
                    <a:pt x="6544" y="197"/>
                  </a:lnTo>
                  <a:lnTo>
                    <a:pt x="6483" y="183"/>
                  </a:lnTo>
                  <a:lnTo>
                    <a:pt x="6422" y="170"/>
                  </a:lnTo>
                  <a:lnTo>
                    <a:pt x="6359" y="158"/>
                  </a:lnTo>
                  <a:lnTo>
                    <a:pt x="6296" y="145"/>
                  </a:lnTo>
                  <a:lnTo>
                    <a:pt x="6233" y="134"/>
                  </a:lnTo>
                  <a:lnTo>
                    <a:pt x="6169" y="123"/>
                  </a:lnTo>
                  <a:lnTo>
                    <a:pt x="6105" y="113"/>
                  </a:lnTo>
                  <a:lnTo>
                    <a:pt x="6041" y="102"/>
                  </a:lnTo>
                  <a:lnTo>
                    <a:pt x="5976" y="92"/>
                  </a:lnTo>
                  <a:lnTo>
                    <a:pt x="5911" y="84"/>
                  </a:lnTo>
                  <a:lnTo>
                    <a:pt x="5845" y="74"/>
                  </a:lnTo>
                  <a:lnTo>
                    <a:pt x="5778" y="65"/>
                  </a:lnTo>
                  <a:lnTo>
                    <a:pt x="5713" y="59"/>
                  </a:lnTo>
                  <a:lnTo>
                    <a:pt x="5646" y="50"/>
                  </a:lnTo>
                  <a:lnTo>
                    <a:pt x="5579" y="43"/>
                  </a:lnTo>
                  <a:lnTo>
                    <a:pt x="5512" y="38"/>
                  </a:lnTo>
                  <a:lnTo>
                    <a:pt x="5443" y="32"/>
                  </a:lnTo>
                  <a:lnTo>
                    <a:pt x="5375" y="26"/>
                  </a:lnTo>
                  <a:lnTo>
                    <a:pt x="5307" y="21"/>
                  </a:lnTo>
                  <a:lnTo>
                    <a:pt x="5238" y="17"/>
                  </a:lnTo>
                  <a:lnTo>
                    <a:pt x="5168" y="12"/>
                  </a:lnTo>
                  <a:lnTo>
                    <a:pt x="5100" y="10"/>
                  </a:lnTo>
                  <a:lnTo>
                    <a:pt x="5030" y="7"/>
                  </a:lnTo>
                  <a:lnTo>
                    <a:pt x="4961" y="4"/>
                  </a:lnTo>
                  <a:lnTo>
                    <a:pt x="4889" y="3"/>
                  </a:lnTo>
                  <a:lnTo>
                    <a:pt x="4820" y="1"/>
                  </a:lnTo>
                  <a:lnTo>
                    <a:pt x="4748" y="0"/>
                  </a:lnTo>
                  <a:lnTo>
                    <a:pt x="4677" y="0"/>
                  </a:lnTo>
                  <a:lnTo>
                    <a:pt x="4677" y="0"/>
                  </a:lnTo>
                  <a:lnTo>
                    <a:pt x="4608" y="0"/>
                  </a:lnTo>
                  <a:lnTo>
                    <a:pt x="4536" y="1"/>
                  </a:lnTo>
                  <a:lnTo>
                    <a:pt x="4465" y="3"/>
                  </a:lnTo>
                  <a:lnTo>
                    <a:pt x="4395" y="4"/>
                  </a:lnTo>
                  <a:lnTo>
                    <a:pt x="4326" y="7"/>
                  </a:lnTo>
                  <a:lnTo>
                    <a:pt x="4256" y="10"/>
                  </a:lnTo>
                  <a:lnTo>
                    <a:pt x="4186" y="12"/>
                  </a:lnTo>
                  <a:lnTo>
                    <a:pt x="4118" y="17"/>
                  </a:lnTo>
                  <a:lnTo>
                    <a:pt x="4049" y="21"/>
                  </a:lnTo>
                  <a:lnTo>
                    <a:pt x="3981" y="26"/>
                  </a:lnTo>
                  <a:lnTo>
                    <a:pt x="3913" y="32"/>
                  </a:lnTo>
                  <a:lnTo>
                    <a:pt x="3844" y="38"/>
                  </a:lnTo>
                  <a:lnTo>
                    <a:pt x="3777" y="43"/>
                  </a:lnTo>
                  <a:lnTo>
                    <a:pt x="3710" y="50"/>
                  </a:lnTo>
                  <a:lnTo>
                    <a:pt x="3643" y="59"/>
                  </a:lnTo>
                  <a:lnTo>
                    <a:pt x="3576" y="65"/>
                  </a:lnTo>
                  <a:lnTo>
                    <a:pt x="3511" y="74"/>
                  </a:lnTo>
                  <a:lnTo>
                    <a:pt x="3445" y="84"/>
                  </a:lnTo>
                  <a:lnTo>
                    <a:pt x="3380" y="92"/>
                  </a:lnTo>
                  <a:lnTo>
                    <a:pt x="3315" y="102"/>
                  </a:lnTo>
                  <a:lnTo>
                    <a:pt x="3251" y="113"/>
                  </a:lnTo>
                  <a:lnTo>
                    <a:pt x="3187" y="123"/>
                  </a:lnTo>
                  <a:lnTo>
                    <a:pt x="3123" y="134"/>
                  </a:lnTo>
                  <a:lnTo>
                    <a:pt x="3060" y="145"/>
                  </a:lnTo>
                  <a:lnTo>
                    <a:pt x="2997" y="158"/>
                  </a:lnTo>
                  <a:lnTo>
                    <a:pt x="2935" y="170"/>
                  </a:lnTo>
                  <a:lnTo>
                    <a:pt x="2873" y="183"/>
                  </a:lnTo>
                  <a:lnTo>
                    <a:pt x="2810" y="197"/>
                  </a:lnTo>
                  <a:lnTo>
                    <a:pt x="2750" y="211"/>
                  </a:lnTo>
                  <a:lnTo>
                    <a:pt x="2689" y="225"/>
                  </a:lnTo>
                  <a:lnTo>
                    <a:pt x="2629" y="239"/>
                  </a:lnTo>
                  <a:lnTo>
                    <a:pt x="2569" y="254"/>
                  </a:lnTo>
                  <a:lnTo>
                    <a:pt x="2510" y="269"/>
                  </a:lnTo>
                  <a:lnTo>
                    <a:pt x="2452" y="286"/>
                  </a:lnTo>
                  <a:lnTo>
                    <a:pt x="2393" y="301"/>
                  </a:lnTo>
                  <a:lnTo>
                    <a:pt x="2336" y="318"/>
                  </a:lnTo>
                  <a:lnTo>
                    <a:pt x="2279" y="335"/>
                  </a:lnTo>
                  <a:lnTo>
                    <a:pt x="2223" y="353"/>
                  </a:lnTo>
                  <a:lnTo>
                    <a:pt x="2166" y="371"/>
                  </a:lnTo>
                  <a:lnTo>
                    <a:pt x="2111" y="389"/>
                  </a:lnTo>
                  <a:lnTo>
                    <a:pt x="2055" y="407"/>
                  </a:lnTo>
                  <a:lnTo>
                    <a:pt x="2001" y="427"/>
                  </a:lnTo>
                  <a:lnTo>
                    <a:pt x="1947" y="446"/>
                  </a:lnTo>
                  <a:lnTo>
                    <a:pt x="1894" y="466"/>
                  </a:lnTo>
                  <a:lnTo>
                    <a:pt x="1841" y="486"/>
                  </a:lnTo>
                  <a:lnTo>
                    <a:pt x="1789" y="506"/>
                  </a:lnTo>
                  <a:lnTo>
                    <a:pt x="1737" y="527"/>
                  </a:lnTo>
                  <a:lnTo>
                    <a:pt x="1687" y="548"/>
                  </a:lnTo>
                  <a:lnTo>
                    <a:pt x="1635" y="571"/>
                  </a:lnTo>
                  <a:lnTo>
                    <a:pt x="1587" y="592"/>
                  </a:lnTo>
                  <a:lnTo>
                    <a:pt x="1538" y="614"/>
                  </a:lnTo>
                  <a:lnTo>
                    <a:pt x="1489" y="638"/>
                  </a:lnTo>
                  <a:lnTo>
                    <a:pt x="1440" y="660"/>
                  </a:lnTo>
                  <a:lnTo>
                    <a:pt x="1394" y="684"/>
                  </a:lnTo>
                  <a:lnTo>
                    <a:pt x="1347" y="707"/>
                  </a:lnTo>
                  <a:lnTo>
                    <a:pt x="1301" y="731"/>
                  </a:lnTo>
                  <a:lnTo>
                    <a:pt x="1256" y="755"/>
                  </a:lnTo>
                  <a:lnTo>
                    <a:pt x="1211" y="780"/>
                  </a:lnTo>
                  <a:lnTo>
                    <a:pt x="1167" y="805"/>
                  </a:lnTo>
                  <a:lnTo>
                    <a:pt x="1123" y="830"/>
                  </a:lnTo>
                  <a:lnTo>
                    <a:pt x="1081" y="855"/>
                  </a:lnTo>
                  <a:lnTo>
                    <a:pt x="1040" y="882"/>
                  </a:lnTo>
                  <a:lnTo>
                    <a:pt x="998" y="908"/>
                  </a:lnTo>
                  <a:lnTo>
                    <a:pt x="957" y="933"/>
                  </a:lnTo>
                  <a:lnTo>
                    <a:pt x="918" y="961"/>
                  </a:lnTo>
                  <a:lnTo>
                    <a:pt x="879" y="988"/>
                  </a:lnTo>
                  <a:lnTo>
                    <a:pt x="841" y="1016"/>
                  </a:lnTo>
                  <a:lnTo>
                    <a:pt x="804" y="1042"/>
                  </a:lnTo>
                  <a:lnTo>
                    <a:pt x="766" y="1070"/>
                  </a:lnTo>
                  <a:lnTo>
                    <a:pt x="731" y="1100"/>
                  </a:lnTo>
                  <a:lnTo>
                    <a:pt x="695" y="1127"/>
                  </a:lnTo>
                  <a:lnTo>
                    <a:pt x="661" y="1157"/>
                  </a:lnTo>
                  <a:lnTo>
                    <a:pt x="628" y="1185"/>
                  </a:lnTo>
                  <a:lnTo>
                    <a:pt x="594" y="1214"/>
                  </a:lnTo>
                  <a:lnTo>
                    <a:pt x="562" y="1245"/>
                  </a:lnTo>
                  <a:lnTo>
                    <a:pt x="532" y="1274"/>
                  </a:lnTo>
                  <a:lnTo>
                    <a:pt x="501" y="1303"/>
                  </a:lnTo>
                  <a:lnTo>
                    <a:pt x="472" y="1334"/>
                  </a:lnTo>
                  <a:lnTo>
                    <a:pt x="442" y="1365"/>
                  </a:lnTo>
                  <a:lnTo>
                    <a:pt x="414" y="1395"/>
                  </a:lnTo>
                  <a:lnTo>
                    <a:pt x="388" y="1426"/>
                  </a:lnTo>
                  <a:lnTo>
                    <a:pt x="361" y="1457"/>
                  </a:lnTo>
                  <a:lnTo>
                    <a:pt x="336" y="1489"/>
                  </a:lnTo>
                  <a:lnTo>
                    <a:pt x="311" y="1521"/>
                  </a:lnTo>
                  <a:lnTo>
                    <a:pt x="287" y="1553"/>
                  </a:lnTo>
                  <a:lnTo>
                    <a:pt x="265" y="1585"/>
                  </a:lnTo>
                  <a:lnTo>
                    <a:pt x="243" y="1617"/>
                  </a:lnTo>
                  <a:lnTo>
                    <a:pt x="222" y="1649"/>
                  </a:lnTo>
                  <a:lnTo>
                    <a:pt x="201" y="1681"/>
                  </a:lnTo>
                  <a:lnTo>
                    <a:pt x="183" y="1715"/>
                  </a:lnTo>
                  <a:lnTo>
                    <a:pt x="165" y="1748"/>
                  </a:lnTo>
                  <a:lnTo>
                    <a:pt x="147" y="1782"/>
                  </a:lnTo>
                  <a:lnTo>
                    <a:pt x="130" y="1815"/>
                  </a:lnTo>
                  <a:lnTo>
                    <a:pt x="114" y="1849"/>
                  </a:lnTo>
                  <a:lnTo>
                    <a:pt x="101" y="1882"/>
                  </a:lnTo>
                  <a:lnTo>
                    <a:pt x="87" y="1916"/>
                  </a:lnTo>
                  <a:lnTo>
                    <a:pt x="74" y="1951"/>
                  </a:lnTo>
                  <a:lnTo>
                    <a:pt x="63" y="1986"/>
                  </a:lnTo>
                  <a:lnTo>
                    <a:pt x="52" y="2019"/>
                  </a:lnTo>
                  <a:lnTo>
                    <a:pt x="42" y="2054"/>
                  </a:lnTo>
                  <a:lnTo>
                    <a:pt x="34" y="2089"/>
                  </a:lnTo>
                  <a:lnTo>
                    <a:pt x="25" y="2124"/>
                  </a:lnTo>
                  <a:lnTo>
                    <a:pt x="18" y="2160"/>
                  </a:lnTo>
                  <a:lnTo>
                    <a:pt x="13" y="2195"/>
                  </a:lnTo>
                  <a:lnTo>
                    <a:pt x="8" y="2230"/>
                  </a:lnTo>
                  <a:lnTo>
                    <a:pt x="4" y="2266"/>
                  </a:lnTo>
                  <a:lnTo>
                    <a:pt x="1" y="2301"/>
                  </a:lnTo>
                  <a:lnTo>
                    <a:pt x="0" y="2337"/>
                  </a:lnTo>
                  <a:lnTo>
                    <a:pt x="0" y="2374"/>
                  </a:lnTo>
                  <a:lnTo>
                    <a:pt x="0" y="2374"/>
                  </a:lnTo>
                  <a:lnTo>
                    <a:pt x="0" y="2410"/>
                  </a:lnTo>
                  <a:lnTo>
                    <a:pt x="1" y="2446"/>
                  </a:lnTo>
                  <a:lnTo>
                    <a:pt x="4" y="2481"/>
                  </a:lnTo>
                  <a:lnTo>
                    <a:pt x="8" y="2517"/>
                  </a:lnTo>
                  <a:lnTo>
                    <a:pt x="13" y="2552"/>
                  </a:lnTo>
                  <a:lnTo>
                    <a:pt x="18" y="2587"/>
                  </a:lnTo>
                  <a:lnTo>
                    <a:pt x="25" y="2623"/>
                  </a:lnTo>
                  <a:lnTo>
                    <a:pt x="34" y="2658"/>
                  </a:lnTo>
                  <a:lnTo>
                    <a:pt x="42" y="2693"/>
                  </a:lnTo>
                  <a:lnTo>
                    <a:pt x="52" y="2728"/>
                  </a:lnTo>
                  <a:lnTo>
                    <a:pt x="63" y="2762"/>
                  </a:lnTo>
                  <a:lnTo>
                    <a:pt x="74" y="2796"/>
                  </a:lnTo>
                  <a:lnTo>
                    <a:pt x="87" y="2831"/>
                  </a:lnTo>
                  <a:lnTo>
                    <a:pt x="101" y="2865"/>
                  </a:lnTo>
                  <a:lnTo>
                    <a:pt x="114" y="2898"/>
                  </a:lnTo>
                  <a:lnTo>
                    <a:pt x="130" y="2932"/>
                  </a:lnTo>
                  <a:lnTo>
                    <a:pt x="147" y="2965"/>
                  </a:lnTo>
                  <a:lnTo>
                    <a:pt x="165" y="2999"/>
                  </a:lnTo>
                  <a:lnTo>
                    <a:pt x="183" y="3032"/>
                  </a:lnTo>
                  <a:lnTo>
                    <a:pt x="201" y="3066"/>
                  </a:lnTo>
                  <a:lnTo>
                    <a:pt x="222" y="3098"/>
                  </a:lnTo>
                  <a:lnTo>
                    <a:pt x="243" y="3130"/>
                  </a:lnTo>
                  <a:lnTo>
                    <a:pt x="265" y="3162"/>
                  </a:lnTo>
                  <a:lnTo>
                    <a:pt x="287" y="3194"/>
                  </a:lnTo>
                  <a:lnTo>
                    <a:pt x="311" y="3226"/>
                  </a:lnTo>
                  <a:lnTo>
                    <a:pt x="336" y="3258"/>
                  </a:lnTo>
                  <a:lnTo>
                    <a:pt x="361" y="3290"/>
                  </a:lnTo>
                  <a:lnTo>
                    <a:pt x="388" y="3321"/>
                  </a:lnTo>
                  <a:lnTo>
                    <a:pt x="414" y="3352"/>
                  </a:lnTo>
                  <a:lnTo>
                    <a:pt x="442" y="3383"/>
                  </a:lnTo>
                  <a:lnTo>
                    <a:pt x="472" y="3413"/>
                  </a:lnTo>
                  <a:lnTo>
                    <a:pt x="501" y="3444"/>
                  </a:lnTo>
                  <a:lnTo>
                    <a:pt x="532" y="3473"/>
                  </a:lnTo>
                  <a:lnTo>
                    <a:pt x="562" y="3503"/>
                  </a:lnTo>
                  <a:lnTo>
                    <a:pt x="594" y="3533"/>
                  </a:lnTo>
                  <a:lnTo>
                    <a:pt x="628" y="3563"/>
                  </a:lnTo>
                  <a:lnTo>
                    <a:pt x="661" y="3590"/>
                  </a:lnTo>
                  <a:lnTo>
                    <a:pt x="695" y="3620"/>
                  </a:lnTo>
                  <a:lnTo>
                    <a:pt x="731" y="3648"/>
                  </a:lnTo>
                  <a:lnTo>
                    <a:pt x="766" y="3677"/>
                  </a:lnTo>
                  <a:lnTo>
                    <a:pt x="804" y="3705"/>
                  </a:lnTo>
                  <a:lnTo>
                    <a:pt x="841" y="3731"/>
                  </a:lnTo>
                  <a:lnTo>
                    <a:pt x="879" y="3759"/>
                  </a:lnTo>
                  <a:lnTo>
                    <a:pt x="918" y="3786"/>
                  </a:lnTo>
                  <a:lnTo>
                    <a:pt x="957" y="3814"/>
                  </a:lnTo>
                  <a:lnTo>
                    <a:pt x="998" y="3840"/>
                  </a:lnTo>
                  <a:lnTo>
                    <a:pt x="1040" y="3865"/>
                  </a:lnTo>
                  <a:lnTo>
                    <a:pt x="1081" y="3892"/>
                  </a:lnTo>
                  <a:lnTo>
                    <a:pt x="1123" y="3917"/>
                  </a:lnTo>
                  <a:lnTo>
                    <a:pt x="1167" y="3942"/>
                  </a:lnTo>
                  <a:lnTo>
                    <a:pt x="1211" y="3967"/>
                  </a:lnTo>
                  <a:lnTo>
                    <a:pt x="1256" y="3992"/>
                  </a:lnTo>
                  <a:lnTo>
                    <a:pt x="1301" y="4016"/>
                  </a:lnTo>
                  <a:lnTo>
                    <a:pt x="1347" y="4040"/>
                  </a:lnTo>
                  <a:lnTo>
                    <a:pt x="1394" y="4064"/>
                  </a:lnTo>
                  <a:lnTo>
                    <a:pt x="1440" y="4087"/>
                  </a:lnTo>
                  <a:lnTo>
                    <a:pt x="1489" y="4110"/>
                  </a:lnTo>
                  <a:lnTo>
                    <a:pt x="1538" y="4133"/>
                  </a:lnTo>
                  <a:lnTo>
                    <a:pt x="1587" y="4156"/>
                  </a:lnTo>
                  <a:lnTo>
                    <a:pt x="1635" y="4175"/>
                  </a:lnTo>
                  <a:lnTo>
                    <a:pt x="1687" y="4197"/>
                  </a:lnTo>
                  <a:lnTo>
                    <a:pt x="1737" y="4218"/>
                  </a:lnTo>
                  <a:lnTo>
                    <a:pt x="1789" y="4239"/>
                  </a:lnTo>
                  <a:lnTo>
                    <a:pt x="1841" y="4260"/>
                  </a:lnTo>
                  <a:lnTo>
                    <a:pt x="1894" y="4280"/>
                  </a:lnTo>
                  <a:lnTo>
                    <a:pt x="1947" y="4299"/>
                  </a:lnTo>
                  <a:lnTo>
                    <a:pt x="2001" y="4319"/>
                  </a:lnTo>
                  <a:lnTo>
                    <a:pt x="2055" y="4338"/>
                  </a:lnTo>
                  <a:lnTo>
                    <a:pt x="2111" y="4357"/>
                  </a:lnTo>
                  <a:lnTo>
                    <a:pt x="2166" y="4375"/>
                  </a:lnTo>
                  <a:lnTo>
                    <a:pt x="2223" y="4393"/>
                  </a:lnTo>
                  <a:lnTo>
                    <a:pt x="2279" y="4411"/>
                  </a:lnTo>
                  <a:lnTo>
                    <a:pt x="2336" y="4428"/>
                  </a:lnTo>
                  <a:lnTo>
                    <a:pt x="2393" y="4444"/>
                  </a:lnTo>
                  <a:lnTo>
                    <a:pt x="2452" y="4460"/>
                  </a:lnTo>
                  <a:lnTo>
                    <a:pt x="2510" y="4477"/>
                  </a:lnTo>
                  <a:lnTo>
                    <a:pt x="2569" y="4492"/>
                  </a:lnTo>
                  <a:lnTo>
                    <a:pt x="2629" y="4507"/>
                  </a:lnTo>
                  <a:lnTo>
                    <a:pt x="2689" y="4521"/>
                  </a:lnTo>
                  <a:lnTo>
                    <a:pt x="2750" y="4535"/>
                  </a:lnTo>
                  <a:lnTo>
                    <a:pt x="2810" y="4549"/>
                  </a:lnTo>
                  <a:lnTo>
                    <a:pt x="2873" y="4563"/>
                  </a:lnTo>
                  <a:lnTo>
                    <a:pt x="2935" y="4576"/>
                  </a:lnTo>
                  <a:lnTo>
                    <a:pt x="2997" y="4588"/>
                  </a:lnTo>
                  <a:lnTo>
                    <a:pt x="3060" y="4601"/>
                  </a:lnTo>
                  <a:lnTo>
                    <a:pt x="3123" y="4612"/>
                  </a:lnTo>
                  <a:lnTo>
                    <a:pt x="3187" y="4623"/>
                  </a:lnTo>
                  <a:lnTo>
                    <a:pt x="3251" y="4633"/>
                  </a:lnTo>
                  <a:lnTo>
                    <a:pt x="3315" y="4644"/>
                  </a:lnTo>
                  <a:lnTo>
                    <a:pt x="3380" y="4654"/>
                  </a:lnTo>
                  <a:lnTo>
                    <a:pt x="3445" y="4662"/>
                  </a:lnTo>
                  <a:lnTo>
                    <a:pt x="3511" y="4672"/>
                  </a:lnTo>
                  <a:lnTo>
                    <a:pt x="3576" y="4680"/>
                  </a:lnTo>
                  <a:lnTo>
                    <a:pt x="3643" y="4687"/>
                  </a:lnTo>
                  <a:lnTo>
                    <a:pt x="3710" y="4696"/>
                  </a:lnTo>
                  <a:lnTo>
                    <a:pt x="3777" y="4703"/>
                  </a:lnTo>
                  <a:lnTo>
                    <a:pt x="3844" y="4708"/>
                  </a:lnTo>
                  <a:lnTo>
                    <a:pt x="3913" y="4714"/>
                  </a:lnTo>
                  <a:lnTo>
                    <a:pt x="3981" y="4719"/>
                  </a:lnTo>
                  <a:lnTo>
                    <a:pt x="4049" y="4725"/>
                  </a:lnTo>
                  <a:lnTo>
                    <a:pt x="4118" y="4729"/>
                  </a:lnTo>
                  <a:lnTo>
                    <a:pt x="4186" y="4733"/>
                  </a:lnTo>
                  <a:lnTo>
                    <a:pt x="4256" y="4736"/>
                  </a:lnTo>
                  <a:lnTo>
                    <a:pt x="4326" y="4739"/>
                  </a:lnTo>
                  <a:lnTo>
                    <a:pt x="4395" y="4742"/>
                  </a:lnTo>
                  <a:lnTo>
                    <a:pt x="4465" y="4743"/>
                  </a:lnTo>
                  <a:lnTo>
                    <a:pt x="4536" y="4744"/>
                  </a:lnTo>
                  <a:lnTo>
                    <a:pt x="4608" y="4746"/>
                  </a:lnTo>
                  <a:lnTo>
                    <a:pt x="4677" y="4746"/>
                  </a:lnTo>
                  <a:lnTo>
                    <a:pt x="4677" y="4746"/>
                  </a:lnTo>
                  <a:close/>
                </a:path>
              </a:pathLst>
            </a:custGeom>
            <a:solidFill>
              <a:srgbClr val="000000">
                <a:alpha val="50000"/>
              </a:srgbClr>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02" name=""/>
            <p:cNvSpPr/>
            <p:nvPr/>
          </p:nvSpPr>
          <p:spPr>
            <a:xfrm>
              <a:off x="4626360" y="5033880"/>
              <a:ext cx="4315680" cy="1346040"/>
            </a:xfrm>
            <a:custGeom>
              <a:avLst/>
              <a:gdLst/>
              <a:ahLst/>
              <a:rect l="l" t="t" r="r" b="b"/>
              <a:pathLst>
                <a:path w="11226" h="5695">
                  <a:moveTo>
                    <a:pt x="5614" y="5695"/>
                  </a:moveTo>
                  <a:lnTo>
                    <a:pt x="5685" y="5695"/>
                  </a:lnTo>
                  <a:lnTo>
                    <a:pt x="5755" y="5695"/>
                  </a:lnTo>
                  <a:lnTo>
                    <a:pt x="5826" y="5694"/>
                  </a:lnTo>
                  <a:lnTo>
                    <a:pt x="5895" y="5692"/>
                  </a:lnTo>
                  <a:lnTo>
                    <a:pt x="5965" y="5690"/>
                  </a:lnTo>
                  <a:lnTo>
                    <a:pt x="6035" y="5687"/>
                  </a:lnTo>
                  <a:lnTo>
                    <a:pt x="6105" y="5684"/>
                  </a:lnTo>
                  <a:lnTo>
                    <a:pt x="6175" y="5681"/>
                  </a:lnTo>
                  <a:lnTo>
                    <a:pt x="6243" y="5677"/>
                  </a:lnTo>
                  <a:lnTo>
                    <a:pt x="6313" y="5673"/>
                  </a:lnTo>
                  <a:lnTo>
                    <a:pt x="6381" y="5669"/>
                  </a:lnTo>
                  <a:lnTo>
                    <a:pt x="6449" y="5665"/>
                  </a:lnTo>
                  <a:lnTo>
                    <a:pt x="6518" y="5659"/>
                  </a:lnTo>
                  <a:lnTo>
                    <a:pt x="6585" y="5653"/>
                  </a:lnTo>
                  <a:lnTo>
                    <a:pt x="6653" y="5646"/>
                  </a:lnTo>
                  <a:lnTo>
                    <a:pt x="6720" y="5641"/>
                  </a:lnTo>
                  <a:lnTo>
                    <a:pt x="6786" y="5634"/>
                  </a:lnTo>
                  <a:lnTo>
                    <a:pt x="6851" y="5625"/>
                  </a:lnTo>
                  <a:lnTo>
                    <a:pt x="6918" y="5618"/>
                  </a:lnTo>
                  <a:lnTo>
                    <a:pt x="6984" y="5610"/>
                  </a:lnTo>
                  <a:lnTo>
                    <a:pt x="7049" y="5602"/>
                  </a:lnTo>
                  <a:lnTo>
                    <a:pt x="7115" y="5592"/>
                  </a:lnTo>
                  <a:lnTo>
                    <a:pt x="7181" y="5582"/>
                  </a:lnTo>
                  <a:lnTo>
                    <a:pt x="7245" y="5572"/>
                  </a:lnTo>
                  <a:lnTo>
                    <a:pt x="7309" y="5563"/>
                  </a:lnTo>
                  <a:lnTo>
                    <a:pt x="7373" y="5553"/>
                  </a:lnTo>
                  <a:lnTo>
                    <a:pt x="7437" y="5542"/>
                  </a:lnTo>
                  <a:lnTo>
                    <a:pt x="7500" y="5531"/>
                  </a:lnTo>
                  <a:lnTo>
                    <a:pt x="7564" y="5518"/>
                  </a:lnTo>
                  <a:lnTo>
                    <a:pt x="7627" y="5507"/>
                  </a:lnTo>
                  <a:lnTo>
                    <a:pt x="7689" y="5494"/>
                  </a:lnTo>
                  <a:lnTo>
                    <a:pt x="7751" y="5482"/>
                  </a:lnTo>
                  <a:lnTo>
                    <a:pt x="7813" y="5468"/>
                  </a:lnTo>
                  <a:lnTo>
                    <a:pt x="7874" y="5455"/>
                  </a:lnTo>
                  <a:lnTo>
                    <a:pt x="7934" y="5441"/>
                  </a:lnTo>
                  <a:lnTo>
                    <a:pt x="7996" y="5427"/>
                  </a:lnTo>
                  <a:lnTo>
                    <a:pt x="8056" y="5412"/>
                  </a:lnTo>
                  <a:lnTo>
                    <a:pt x="8116" y="5398"/>
                  </a:lnTo>
                  <a:lnTo>
                    <a:pt x="8174" y="5383"/>
                  </a:lnTo>
                  <a:lnTo>
                    <a:pt x="8233" y="5366"/>
                  </a:lnTo>
                  <a:lnTo>
                    <a:pt x="8291" y="5351"/>
                  </a:lnTo>
                  <a:lnTo>
                    <a:pt x="8350" y="5334"/>
                  </a:lnTo>
                  <a:lnTo>
                    <a:pt x="8407" y="5318"/>
                  </a:lnTo>
                  <a:lnTo>
                    <a:pt x="8464" y="5300"/>
                  </a:lnTo>
                  <a:lnTo>
                    <a:pt x="8522" y="5284"/>
                  </a:lnTo>
                  <a:lnTo>
                    <a:pt x="8577" y="5265"/>
                  </a:lnTo>
                  <a:lnTo>
                    <a:pt x="8633" y="5249"/>
                  </a:lnTo>
                  <a:lnTo>
                    <a:pt x="8689" y="5231"/>
                  </a:lnTo>
                  <a:lnTo>
                    <a:pt x="8743" y="5211"/>
                  </a:lnTo>
                  <a:lnTo>
                    <a:pt x="8798" y="5193"/>
                  </a:lnTo>
                  <a:lnTo>
                    <a:pt x="8852" y="5173"/>
                  </a:lnTo>
                  <a:lnTo>
                    <a:pt x="8907" y="5154"/>
                  </a:lnTo>
                  <a:lnTo>
                    <a:pt x="8960" y="5134"/>
                  </a:lnTo>
                  <a:lnTo>
                    <a:pt x="9011" y="5113"/>
                  </a:lnTo>
                  <a:lnTo>
                    <a:pt x="9064" y="5094"/>
                  </a:lnTo>
                  <a:lnTo>
                    <a:pt x="9116" y="5073"/>
                  </a:lnTo>
                  <a:lnTo>
                    <a:pt x="9168" y="5052"/>
                  </a:lnTo>
                  <a:lnTo>
                    <a:pt x="9218" y="5030"/>
                  </a:lnTo>
                  <a:lnTo>
                    <a:pt x="9268" y="5009"/>
                  </a:lnTo>
                  <a:lnTo>
                    <a:pt x="9317" y="4986"/>
                  </a:lnTo>
                  <a:lnTo>
                    <a:pt x="9367" y="4964"/>
                  </a:lnTo>
                  <a:lnTo>
                    <a:pt x="9416" y="4942"/>
                  </a:lnTo>
                  <a:lnTo>
                    <a:pt x="9463" y="4919"/>
                  </a:lnTo>
                  <a:lnTo>
                    <a:pt x="9511" y="4896"/>
                  </a:lnTo>
                  <a:lnTo>
                    <a:pt x="9558" y="4873"/>
                  </a:lnTo>
                  <a:lnTo>
                    <a:pt x="9604" y="4850"/>
                  </a:lnTo>
                  <a:lnTo>
                    <a:pt x="9650" y="4826"/>
                  </a:lnTo>
                  <a:lnTo>
                    <a:pt x="9696" y="4801"/>
                  </a:lnTo>
                  <a:lnTo>
                    <a:pt x="9741" y="4777"/>
                  </a:lnTo>
                  <a:lnTo>
                    <a:pt x="9786" y="4752"/>
                  </a:lnTo>
                  <a:lnTo>
                    <a:pt x="9829" y="4727"/>
                  </a:lnTo>
                  <a:lnTo>
                    <a:pt x="9872" y="4702"/>
                  </a:lnTo>
                  <a:lnTo>
                    <a:pt x="9914" y="4677"/>
                  </a:lnTo>
                  <a:lnTo>
                    <a:pt x="9957" y="4651"/>
                  </a:lnTo>
                  <a:lnTo>
                    <a:pt x="9998" y="4625"/>
                  </a:lnTo>
                  <a:lnTo>
                    <a:pt x="10040" y="4598"/>
                  </a:lnTo>
                  <a:lnTo>
                    <a:pt x="10079" y="4572"/>
                  </a:lnTo>
                  <a:lnTo>
                    <a:pt x="10119" y="4545"/>
                  </a:lnTo>
                  <a:lnTo>
                    <a:pt x="10158" y="4519"/>
                  </a:lnTo>
                  <a:lnTo>
                    <a:pt x="10196" y="4491"/>
                  </a:lnTo>
                  <a:lnTo>
                    <a:pt x="10234" y="4464"/>
                  </a:lnTo>
                  <a:lnTo>
                    <a:pt x="10271" y="4437"/>
                  </a:lnTo>
                  <a:lnTo>
                    <a:pt x="10308" y="4409"/>
                  </a:lnTo>
                  <a:lnTo>
                    <a:pt x="10344" y="4381"/>
                  </a:lnTo>
                  <a:lnTo>
                    <a:pt x="10379" y="4351"/>
                  </a:lnTo>
                  <a:lnTo>
                    <a:pt x="10414" y="4323"/>
                  </a:lnTo>
                  <a:lnTo>
                    <a:pt x="10449" y="4294"/>
                  </a:lnTo>
                  <a:lnTo>
                    <a:pt x="10482" y="4265"/>
                  </a:lnTo>
                  <a:lnTo>
                    <a:pt x="10514" y="4236"/>
                  </a:lnTo>
                  <a:lnTo>
                    <a:pt x="10546" y="4206"/>
                  </a:lnTo>
                  <a:lnTo>
                    <a:pt x="10577" y="4177"/>
                  </a:lnTo>
                  <a:lnTo>
                    <a:pt x="10608" y="4148"/>
                  </a:lnTo>
                  <a:lnTo>
                    <a:pt x="10638" y="4117"/>
                  </a:lnTo>
                  <a:lnTo>
                    <a:pt x="10668" y="4086"/>
                  </a:lnTo>
                  <a:lnTo>
                    <a:pt x="10696" y="4056"/>
                  </a:lnTo>
                  <a:lnTo>
                    <a:pt x="10725" y="4025"/>
                  </a:lnTo>
                  <a:lnTo>
                    <a:pt x="10751" y="3994"/>
                  </a:lnTo>
                  <a:lnTo>
                    <a:pt x="10778" y="3963"/>
                  </a:lnTo>
                  <a:lnTo>
                    <a:pt x="10804" y="3933"/>
                  </a:lnTo>
                  <a:lnTo>
                    <a:pt x="10830" y="3901"/>
                  </a:lnTo>
                  <a:lnTo>
                    <a:pt x="10853" y="3869"/>
                  </a:lnTo>
                  <a:lnTo>
                    <a:pt x="10877" y="3838"/>
                  </a:lnTo>
                  <a:lnTo>
                    <a:pt x="10901" y="3806"/>
                  </a:lnTo>
                  <a:lnTo>
                    <a:pt x="10922" y="3774"/>
                  </a:lnTo>
                  <a:lnTo>
                    <a:pt x="10944" y="3740"/>
                  </a:lnTo>
                  <a:lnTo>
                    <a:pt x="10965" y="3708"/>
                  </a:lnTo>
                  <a:lnTo>
                    <a:pt x="10984" y="3676"/>
                  </a:lnTo>
                  <a:lnTo>
                    <a:pt x="11004" y="3643"/>
                  </a:lnTo>
                  <a:lnTo>
                    <a:pt x="11022" y="3609"/>
                  </a:lnTo>
                  <a:lnTo>
                    <a:pt x="11040" y="3577"/>
                  </a:lnTo>
                  <a:lnTo>
                    <a:pt x="11057" y="3543"/>
                  </a:lnTo>
                  <a:lnTo>
                    <a:pt x="11072" y="3510"/>
                  </a:lnTo>
                  <a:lnTo>
                    <a:pt x="11088" y="3476"/>
                  </a:lnTo>
                  <a:lnTo>
                    <a:pt x="11103" y="3442"/>
                  </a:lnTo>
                  <a:lnTo>
                    <a:pt x="11117" y="3408"/>
                  </a:lnTo>
                  <a:lnTo>
                    <a:pt x="11130" y="3375"/>
                  </a:lnTo>
                  <a:lnTo>
                    <a:pt x="11142" y="3340"/>
                  </a:lnTo>
                  <a:lnTo>
                    <a:pt x="11153" y="3306"/>
                  </a:lnTo>
                  <a:lnTo>
                    <a:pt x="11164" y="3271"/>
                  </a:lnTo>
                  <a:lnTo>
                    <a:pt x="11174" y="3238"/>
                  </a:lnTo>
                  <a:lnTo>
                    <a:pt x="11183" y="3203"/>
                  </a:lnTo>
                  <a:lnTo>
                    <a:pt x="11191" y="3168"/>
                  </a:lnTo>
                  <a:lnTo>
                    <a:pt x="11198" y="3133"/>
                  </a:lnTo>
                  <a:lnTo>
                    <a:pt x="11205" y="3098"/>
                  </a:lnTo>
                  <a:lnTo>
                    <a:pt x="11210" y="3062"/>
                  </a:lnTo>
                  <a:lnTo>
                    <a:pt x="11215" y="3027"/>
                  </a:lnTo>
                  <a:lnTo>
                    <a:pt x="11219" y="2992"/>
                  </a:lnTo>
                  <a:lnTo>
                    <a:pt x="11222" y="2956"/>
                  </a:lnTo>
                  <a:lnTo>
                    <a:pt x="11224" y="2920"/>
                  </a:lnTo>
                  <a:lnTo>
                    <a:pt x="11226" y="2885"/>
                  </a:lnTo>
                  <a:lnTo>
                    <a:pt x="11226" y="2848"/>
                  </a:lnTo>
                  <a:lnTo>
                    <a:pt x="11226" y="2848"/>
                  </a:lnTo>
                  <a:lnTo>
                    <a:pt x="11226" y="2812"/>
                  </a:lnTo>
                  <a:lnTo>
                    <a:pt x="11224" y="2776"/>
                  </a:lnTo>
                  <a:lnTo>
                    <a:pt x="11222" y="2741"/>
                  </a:lnTo>
                  <a:lnTo>
                    <a:pt x="11219" y="2705"/>
                  </a:lnTo>
                  <a:lnTo>
                    <a:pt x="11215" y="2670"/>
                  </a:lnTo>
                  <a:lnTo>
                    <a:pt x="11210" y="2634"/>
                  </a:lnTo>
                  <a:lnTo>
                    <a:pt x="11205" y="2599"/>
                  </a:lnTo>
                  <a:lnTo>
                    <a:pt x="11198" y="2564"/>
                  </a:lnTo>
                  <a:lnTo>
                    <a:pt x="11191" y="2529"/>
                  </a:lnTo>
                  <a:lnTo>
                    <a:pt x="11183" y="2494"/>
                  </a:lnTo>
                  <a:lnTo>
                    <a:pt x="11174" y="2459"/>
                  </a:lnTo>
                  <a:lnTo>
                    <a:pt x="11164" y="2424"/>
                  </a:lnTo>
                  <a:lnTo>
                    <a:pt x="11153" y="2389"/>
                  </a:lnTo>
                  <a:lnTo>
                    <a:pt x="11142" y="2356"/>
                  </a:lnTo>
                  <a:lnTo>
                    <a:pt x="11130" y="2321"/>
                  </a:lnTo>
                  <a:lnTo>
                    <a:pt x="11117" y="2287"/>
                  </a:lnTo>
                  <a:lnTo>
                    <a:pt x="11103" y="2253"/>
                  </a:lnTo>
                  <a:lnTo>
                    <a:pt x="11088" y="2219"/>
                  </a:lnTo>
                  <a:lnTo>
                    <a:pt x="11072" y="2186"/>
                  </a:lnTo>
                  <a:lnTo>
                    <a:pt x="11057" y="2152"/>
                  </a:lnTo>
                  <a:lnTo>
                    <a:pt x="11040" y="2119"/>
                  </a:lnTo>
                  <a:lnTo>
                    <a:pt x="11022" y="2085"/>
                  </a:lnTo>
                  <a:lnTo>
                    <a:pt x="11004" y="2053"/>
                  </a:lnTo>
                  <a:lnTo>
                    <a:pt x="10984" y="2020"/>
                  </a:lnTo>
                  <a:lnTo>
                    <a:pt x="10965" y="1987"/>
                  </a:lnTo>
                  <a:lnTo>
                    <a:pt x="10944" y="1954"/>
                  </a:lnTo>
                  <a:lnTo>
                    <a:pt x="10922" y="1922"/>
                  </a:lnTo>
                  <a:lnTo>
                    <a:pt x="10901" y="1890"/>
                  </a:lnTo>
                  <a:lnTo>
                    <a:pt x="10877" y="1858"/>
                  </a:lnTo>
                  <a:lnTo>
                    <a:pt x="10853" y="1826"/>
                  </a:lnTo>
                  <a:lnTo>
                    <a:pt x="10830" y="1795"/>
                  </a:lnTo>
                  <a:lnTo>
                    <a:pt x="10804" y="1763"/>
                  </a:lnTo>
                  <a:lnTo>
                    <a:pt x="10778" y="1732"/>
                  </a:lnTo>
                  <a:lnTo>
                    <a:pt x="10751" y="1700"/>
                  </a:lnTo>
                  <a:lnTo>
                    <a:pt x="10725" y="1669"/>
                  </a:lnTo>
                  <a:lnTo>
                    <a:pt x="10696" y="1639"/>
                  </a:lnTo>
                  <a:lnTo>
                    <a:pt x="10668" y="1609"/>
                  </a:lnTo>
                  <a:lnTo>
                    <a:pt x="10638" y="1579"/>
                  </a:lnTo>
                  <a:lnTo>
                    <a:pt x="10608" y="1548"/>
                  </a:lnTo>
                  <a:lnTo>
                    <a:pt x="10577" y="1519"/>
                  </a:lnTo>
                  <a:lnTo>
                    <a:pt x="10546" y="1489"/>
                  </a:lnTo>
                  <a:lnTo>
                    <a:pt x="10514" y="1459"/>
                  </a:lnTo>
                  <a:lnTo>
                    <a:pt x="10482" y="1431"/>
                  </a:lnTo>
                  <a:lnTo>
                    <a:pt x="10449" y="1401"/>
                  </a:lnTo>
                  <a:lnTo>
                    <a:pt x="10414" y="1372"/>
                  </a:lnTo>
                  <a:lnTo>
                    <a:pt x="10379" y="1344"/>
                  </a:lnTo>
                  <a:lnTo>
                    <a:pt x="10344" y="1315"/>
                  </a:lnTo>
                  <a:lnTo>
                    <a:pt x="10308" y="1287"/>
                  </a:lnTo>
                  <a:lnTo>
                    <a:pt x="10271" y="1259"/>
                  </a:lnTo>
                  <a:lnTo>
                    <a:pt x="10234" y="1231"/>
                  </a:lnTo>
                  <a:lnTo>
                    <a:pt x="10196" y="1205"/>
                  </a:lnTo>
                  <a:lnTo>
                    <a:pt x="10158" y="1177"/>
                  </a:lnTo>
                  <a:lnTo>
                    <a:pt x="10119" y="1150"/>
                  </a:lnTo>
                  <a:lnTo>
                    <a:pt x="10079" y="1124"/>
                  </a:lnTo>
                  <a:lnTo>
                    <a:pt x="10040" y="1097"/>
                  </a:lnTo>
                  <a:lnTo>
                    <a:pt x="9998" y="1071"/>
                  </a:lnTo>
                  <a:lnTo>
                    <a:pt x="9957" y="1044"/>
                  </a:lnTo>
                  <a:lnTo>
                    <a:pt x="9914" y="1019"/>
                  </a:lnTo>
                  <a:lnTo>
                    <a:pt x="9872" y="994"/>
                  </a:lnTo>
                  <a:lnTo>
                    <a:pt x="9829" y="967"/>
                  </a:lnTo>
                  <a:lnTo>
                    <a:pt x="9786" y="944"/>
                  </a:lnTo>
                  <a:lnTo>
                    <a:pt x="9741" y="919"/>
                  </a:lnTo>
                  <a:lnTo>
                    <a:pt x="9696" y="893"/>
                  </a:lnTo>
                  <a:lnTo>
                    <a:pt x="9650" y="870"/>
                  </a:lnTo>
                  <a:lnTo>
                    <a:pt x="9604" y="846"/>
                  </a:lnTo>
                  <a:lnTo>
                    <a:pt x="9558" y="822"/>
                  </a:lnTo>
                  <a:lnTo>
                    <a:pt x="9511" y="799"/>
                  </a:lnTo>
                  <a:lnTo>
                    <a:pt x="9463" y="776"/>
                  </a:lnTo>
                  <a:lnTo>
                    <a:pt x="9416" y="754"/>
                  </a:lnTo>
                  <a:lnTo>
                    <a:pt x="9367" y="730"/>
                  </a:lnTo>
                  <a:lnTo>
                    <a:pt x="9317" y="708"/>
                  </a:lnTo>
                  <a:lnTo>
                    <a:pt x="9268" y="687"/>
                  </a:lnTo>
                  <a:lnTo>
                    <a:pt x="9218" y="665"/>
                  </a:lnTo>
                  <a:lnTo>
                    <a:pt x="9168" y="644"/>
                  </a:lnTo>
                  <a:lnTo>
                    <a:pt x="9116" y="623"/>
                  </a:lnTo>
                  <a:lnTo>
                    <a:pt x="9064" y="602"/>
                  </a:lnTo>
                  <a:lnTo>
                    <a:pt x="9011" y="581"/>
                  </a:lnTo>
                  <a:lnTo>
                    <a:pt x="8960" y="561"/>
                  </a:lnTo>
                  <a:lnTo>
                    <a:pt x="8907" y="542"/>
                  </a:lnTo>
                  <a:lnTo>
                    <a:pt x="8852" y="522"/>
                  </a:lnTo>
                  <a:lnTo>
                    <a:pt x="8798" y="503"/>
                  </a:lnTo>
                  <a:lnTo>
                    <a:pt x="8743" y="485"/>
                  </a:lnTo>
                  <a:lnTo>
                    <a:pt x="8689" y="465"/>
                  </a:lnTo>
                  <a:lnTo>
                    <a:pt x="8633" y="447"/>
                  </a:lnTo>
                  <a:lnTo>
                    <a:pt x="8577" y="429"/>
                  </a:lnTo>
                  <a:lnTo>
                    <a:pt x="8522" y="412"/>
                  </a:lnTo>
                  <a:lnTo>
                    <a:pt x="8464" y="394"/>
                  </a:lnTo>
                  <a:lnTo>
                    <a:pt x="8407" y="377"/>
                  </a:lnTo>
                  <a:lnTo>
                    <a:pt x="8350" y="360"/>
                  </a:lnTo>
                  <a:lnTo>
                    <a:pt x="8291" y="345"/>
                  </a:lnTo>
                  <a:lnTo>
                    <a:pt x="8233" y="328"/>
                  </a:lnTo>
                  <a:lnTo>
                    <a:pt x="8174" y="313"/>
                  </a:lnTo>
                  <a:lnTo>
                    <a:pt x="8116" y="298"/>
                  </a:lnTo>
                  <a:lnTo>
                    <a:pt x="8056" y="284"/>
                  </a:lnTo>
                  <a:lnTo>
                    <a:pt x="7996" y="268"/>
                  </a:lnTo>
                  <a:lnTo>
                    <a:pt x="7934" y="254"/>
                  </a:lnTo>
                  <a:lnTo>
                    <a:pt x="7874" y="240"/>
                  </a:lnTo>
                  <a:lnTo>
                    <a:pt x="7813" y="226"/>
                  </a:lnTo>
                  <a:lnTo>
                    <a:pt x="7751" y="214"/>
                  </a:lnTo>
                  <a:lnTo>
                    <a:pt x="7689" y="201"/>
                  </a:lnTo>
                  <a:lnTo>
                    <a:pt x="7627" y="189"/>
                  </a:lnTo>
                  <a:lnTo>
                    <a:pt x="7564" y="176"/>
                  </a:lnTo>
                  <a:lnTo>
                    <a:pt x="7500" y="165"/>
                  </a:lnTo>
                  <a:lnTo>
                    <a:pt x="7437" y="154"/>
                  </a:lnTo>
                  <a:lnTo>
                    <a:pt x="7373" y="143"/>
                  </a:lnTo>
                  <a:lnTo>
                    <a:pt x="7309" y="133"/>
                  </a:lnTo>
                  <a:lnTo>
                    <a:pt x="7245" y="122"/>
                  </a:lnTo>
                  <a:lnTo>
                    <a:pt x="7181" y="112"/>
                  </a:lnTo>
                  <a:lnTo>
                    <a:pt x="7115" y="104"/>
                  </a:lnTo>
                  <a:lnTo>
                    <a:pt x="7049" y="94"/>
                  </a:lnTo>
                  <a:lnTo>
                    <a:pt x="6984" y="85"/>
                  </a:lnTo>
                  <a:lnTo>
                    <a:pt x="6918" y="77"/>
                  </a:lnTo>
                  <a:lnTo>
                    <a:pt x="6851" y="70"/>
                  </a:lnTo>
                  <a:lnTo>
                    <a:pt x="6786" y="62"/>
                  </a:lnTo>
                  <a:lnTo>
                    <a:pt x="6720" y="55"/>
                  </a:lnTo>
                  <a:lnTo>
                    <a:pt x="6653" y="49"/>
                  </a:lnTo>
                  <a:lnTo>
                    <a:pt x="6585" y="42"/>
                  </a:lnTo>
                  <a:lnTo>
                    <a:pt x="6518" y="37"/>
                  </a:lnTo>
                  <a:lnTo>
                    <a:pt x="6449" y="31"/>
                  </a:lnTo>
                  <a:lnTo>
                    <a:pt x="6381" y="27"/>
                  </a:lnTo>
                  <a:lnTo>
                    <a:pt x="6313" y="21"/>
                  </a:lnTo>
                  <a:lnTo>
                    <a:pt x="6243" y="17"/>
                  </a:lnTo>
                  <a:lnTo>
                    <a:pt x="6175" y="14"/>
                  </a:lnTo>
                  <a:lnTo>
                    <a:pt x="6105" y="10"/>
                  </a:lnTo>
                  <a:lnTo>
                    <a:pt x="6035" y="7"/>
                  </a:lnTo>
                  <a:lnTo>
                    <a:pt x="5965" y="6"/>
                  </a:lnTo>
                  <a:lnTo>
                    <a:pt x="5895" y="3"/>
                  </a:lnTo>
                  <a:lnTo>
                    <a:pt x="5826" y="2"/>
                  </a:lnTo>
                  <a:lnTo>
                    <a:pt x="5755" y="0"/>
                  </a:lnTo>
                  <a:lnTo>
                    <a:pt x="5685" y="0"/>
                  </a:lnTo>
                  <a:lnTo>
                    <a:pt x="5614" y="0"/>
                  </a:lnTo>
                  <a:lnTo>
                    <a:pt x="5614" y="0"/>
                  </a:lnTo>
                  <a:lnTo>
                    <a:pt x="5542" y="0"/>
                  </a:lnTo>
                  <a:lnTo>
                    <a:pt x="5471" y="0"/>
                  </a:lnTo>
                  <a:lnTo>
                    <a:pt x="5402" y="2"/>
                  </a:lnTo>
                  <a:lnTo>
                    <a:pt x="5332" y="3"/>
                  </a:lnTo>
                  <a:lnTo>
                    <a:pt x="5261" y="6"/>
                  </a:lnTo>
                  <a:lnTo>
                    <a:pt x="5191" y="7"/>
                  </a:lnTo>
                  <a:lnTo>
                    <a:pt x="5122" y="10"/>
                  </a:lnTo>
                  <a:lnTo>
                    <a:pt x="5053" y="14"/>
                  </a:lnTo>
                  <a:lnTo>
                    <a:pt x="4983" y="17"/>
                  </a:lnTo>
                  <a:lnTo>
                    <a:pt x="4915" y="21"/>
                  </a:lnTo>
                  <a:lnTo>
                    <a:pt x="4846" y="27"/>
                  </a:lnTo>
                  <a:lnTo>
                    <a:pt x="4778" y="31"/>
                  </a:lnTo>
                  <a:lnTo>
                    <a:pt x="4709" y="37"/>
                  </a:lnTo>
                  <a:lnTo>
                    <a:pt x="4642" y="42"/>
                  </a:lnTo>
                  <a:lnTo>
                    <a:pt x="4574" y="49"/>
                  </a:lnTo>
                  <a:lnTo>
                    <a:pt x="4507" y="55"/>
                  </a:lnTo>
                  <a:lnTo>
                    <a:pt x="4440" y="62"/>
                  </a:lnTo>
                  <a:lnTo>
                    <a:pt x="4373" y="70"/>
                  </a:lnTo>
                  <a:lnTo>
                    <a:pt x="4308" y="77"/>
                  </a:lnTo>
                  <a:lnTo>
                    <a:pt x="4242" y="85"/>
                  </a:lnTo>
                  <a:lnTo>
                    <a:pt x="4176" y="94"/>
                  </a:lnTo>
                  <a:lnTo>
                    <a:pt x="4111" y="104"/>
                  </a:lnTo>
                  <a:lnTo>
                    <a:pt x="4045" y="112"/>
                  </a:lnTo>
                  <a:lnTo>
                    <a:pt x="3981" y="122"/>
                  </a:lnTo>
                  <a:lnTo>
                    <a:pt x="3915" y="133"/>
                  </a:lnTo>
                  <a:lnTo>
                    <a:pt x="3853" y="143"/>
                  </a:lnTo>
                  <a:lnTo>
                    <a:pt x="3788" y="154"/>
                  </a:lnTo>
                  <a:lnTo>
                    <a:pt x="3724" y="165"/>
                  </a:lnTo>
                  <a:lnTo>
                    <a:pt x="3662" y="176"/>
                  </a:lnTo>
                  <a:lnTo>
                    <a:pt x="3599" y="189"/>
                  </a:lnTo>
                  <a:lnTo>
                    <a:pt x="3537" y="201"/>
                  </a:lnTo>
                  <a:lnTo>
                    <a:pt x="3475" y="214"/>
                  </a:lnTo>
                  <a:lnTo>
                    <a:pt x="3413" y="226"/>
                  </a:lnTo>
                  <a:lnTo>
                    <a:pt x="3352" y="240"/>
                  </a:lnTo>
                  <a:lnTo>
                    <a:pt x="3290" y="254"/>
                  </a:lnTo>
                  <a:lnTo>
                    <a:pt x="3230" y="268"/>
                  </a:lnTo>
                  <a:lnTo>
                    <a:pt x="3170" y="284"/>
                  </a:lnTo>
                  <a:lnTo>
                    <a:pt x="3110" y="298"/>
                  </a:lnTo>
                  <a:lnTo>
                    <a:pt x="3052" y="313"/>
                  </a:lnTo>
                  <a:lnTo>
                    <a:pt x="2993" y="328"/>
                  </a:lnTo>
                  <a:lnTo>
                    <a:pt x="2935" y="345"/>
                  </a:lnTo>
                  <a:lnTo>
                    <a:pt x="2876" y="360"/>
                  </a:lnTo>
                  <a:lnTo>
                    <a:pt x="2819" y="377"/>
                  </a:lnTo>
                  <a:lnTo>
                    <a:pt x="2761" y="394"/>
                  </a:lnTo>
                  <a:lnTo>
                    <a:pt x="2704" y="412"/>
                  </a:lnTo>
                  <a:lnTo>
                    <a:pt x="2648" y="429"/>
                  </a:lnTo>
                  <a:lnTo>
                    <a:pt x="2593" y="447"/>
                  </a:lnTo>
                  <a:lnTo>
                    <a:pt x="2537" y="465"/>
                  </a:lnTo>
                  <a:lnTo>
                    <a:pt x="2482" y="485"/>
                  </a:lnTo>
                  <a:lnTo>
                    <a:pt x="2427" y="503"/>
                  </a:lnTo>
                  <a:lnTo>
                    <a:pt x="2374" y="522"/>
                  </a:lnTo>
                  <a:lnTo>
                    <a:pt x="2319" y="542"/>
                  </a:lnTo>
                  <a:lnTo>
                    <a:pt x="2266" y="561"/>
                  </a:lnTo>
                  <a:lnTo>
                    <a:pt x="2213" y="581"/>
                  </a:lnTo>
                  <a:lnTo>
                    <a:pt x="2161" y="602"/>
                  </a:lnTo>
                  <a:lnTo>
                    <a:pt x="2110" y="623"/>
                  </a:lnTo>
                  <a:lnTo>
                    <a:pt x="2058" y="644"/>
                  </a:lnTo>
                  <a:lnTo>
                    <a:pt x="2008" y="665"/>
                  </a:lnTo>
                  <a:lnTo>
                    <a:pt x="1958" y="687"/>
                  </a:lnTo>
                  <a:lnTo>
                    <a:pt x="1908" y="708"/>
                  </a:lnTo>
                  <a:lnTo>
                    <a:pt x="1859" y="730"/>
                  </a:lnTo>
                  <a:lnTo>
                    <a:pt x="1810" y="754"/>
                  </a:lnTo>
                  <a:lnTo>
                    <a:pt x="1762" y="776"/>
                  </a:lnTo>
                  <a:lnTo>
                    <a:pt x="1715" y="799"/>
                  </a:lnTo>
                  <a:lnTo>
                    <a:pt x="1668" y="822"/>
                  </a:lnTo>
                  <a:lnTo>
                    <a:pt x="1621" y="846"/>
                  </a:lnTo>
                  <a:lnTo>
                    <a:pt x="1575" y="870"/>
                  </a:lnTo>
                  <a:lnTo>
                    <a:pt x="1529" y="893"/>
                  </a:lnTo>
                  <a:lnTo>
                    <a:pt x="1485" y="919"/>
                  </a:lnTo>
                  <a:lnTo>
                    <a:pt x="1440" y="944"/>
                  </a:lnTo>
                  <a:lnTo>
                    <a:pt x="1397" y="967"/>
                  </a:lnTo>
                  <a:lnTo>
                    <a:pt x="1354" y="994"/>
                  </a:lnTo>
                  <a:lnTo>
                    <a:pt x="1310" y="1019"/>
                  </a:lnTo>
                  <a:lnTo>
                    <a:pt x="1268" y="1044"/>
                  </a:lnTo>
                  <a:lnTo>
                    <a:pt x="1228" y="1071"/>
                  </a:lnTo>
                  <a:lnTo>
                    <a:pt x="1186" y="1097"/>
                  </a:lnTo>
                  <a:lnTo>
                    <a:pt x="1146" y="1124"/>
                  </a:lnTo>
                  <a:lnTo>
                    <a:pt x="1107" y="1150"/>
                  </a:lnTo>
                  <a:lnTo>
                    <a:pt x="1068" y="1177"/>
                  </a:lnTo>
                  <a:lnTo>
                    <a:pt x="1028" y="1205"/>
                  </a:lnTo>
                  <a:lnTo>
                    <a:pt x="991" y="1231"/>
                  </a:lnTo>
                  <a:lnTo>
                    <a:pt x="954" y="1259"/>
                  </a:lnTo>
                  <a:lnTo>
                    <a:pt x="917" y="1287"/>
                  </a:lnTo>
                  <a:lnTo>
                    <a:pt x="882" y="1315"/>
                  </a:lnTo>
                  <a:lnTo>
                    <a:pt x="846" y="1344"/>
                  </a:lnTo>
                  <a:lnTo>
                    <a:pt x="812" y="1372"/>
                  </a:lnTo>
                  <a:lnTo>
                    <a:pt x="777" y="1401"/>
                  </a:lnTo>
                  <a:lnTo>
                    <a:pt x="744" y="1431"/>
                  </a:lnTo>
                  <a:lnTo>
                    <a:pt x="712" y="1459"/>
                  </a:lnTo>
                  <a:lnTo>
                    <a:pt x="680" y="1489"/>
                  </a:lnTo>
                  <a:lnTo>
                    <a:pt x="648" y="1519"/>
                  </a:lnTo>
                  <a:lnTo>
                    <a:pt x="617" y="1548"/>
                  </a:lnTo>
                  <a:lnTo>
                    <a:pt x="588" y="1579"/>
                  </a:lnTo>
                  <a:lnTo>
                    <a:pt x="558" y="1609"/>
                  </a:lnTo>
                  <a:lnTo>
                    <a:pt x="529" y="1639"/>
                  </a:lnTo>
                  <a:lnTo>
                    <a:pt x="501" y="1669"/>
                  </a:lnTo>
                  <a:lnTo>
                    <a:pt x="474" y="1700"/>
                  </a:lnTo>
                  <a:lnTo>
                    <a:pt x="448" y="1732"/>
                  </a:lnTo>
                  <a:lnTo>
                    <a:pt x="421" y="1763"/>
                  </a:lnTo>
                  <a:lnTo>
                    <a:pt x="396" y="1795"/>
                  </a:lnTo>
                  <a:lnTo>
                    <a:pt x="373" y="1826"/>
                  </a:lnTo>
                  <a:lnTo>
                    <a:pt x="349" y="1858"/>
                  </a:lnTo>
                  <a:lnTo>
                    <a:pt x="325" y="1890"/>
                  </a:lnTo>
                  <a:lnTo>
                    <a:pt x="303" y="1922"/>
                  </a:lnTo>
                  <a:lnTo>
                    <a:pt x="282" y="1954"/>
                  </a:lnTo>
                  <a:lnTo>
                    <a:pt x="261" y="1987"/>
                  </a:lnTo>
                  <a:lnTo>
                    <a:pt x="241" y="2020"/>
                  </a:lnTo>
                  <a:lnTo>
                    <a:pt x="222" y="2053"/>
                  </a:lnTo>
                  <a:lnTo>
                    <a:pt x="204" y="2085"/>
                  </a:lnTo>
                  <a:lnTo>
                    <a:pt x="186" y="2119"/>
                  </a:lnTo>
                  <a:lnTo>
                    <a:pt x="169" y="2152"/>
                  </a:lnTo>
                  <a:lnTo>
                    <a:pt x="152" y="2186"/>
                  </a:lnTo>
                  <a:lnTo>
                    <a:pt x="137" y="2219"/>
                  </a:lnTo>
                  <a:lnTo>
                    <a:pt x="123" y="2253"/>
                  </a:lnTo>
                  <a:lnTo>
                    <a:pt x="109" y="2287"/>
                  </a:lnTo>
                  <a:lnTo>
                    <a:pt x="96" y="2321"/>
                  </a:lnTo>
                  <a:lnTo>
                    <a:pt x="84" y="2356"/>
                  </a:lnTo>
                  <a:lnTo>
                    <a:pt x="73" y="2389"/>
                  </a:lnTo>
                  <a:lnTo>
                    <a:pt x="61" y="2424"/>
                  </a:lnTo>
                  <a:lnTo>
                    <a:pt x="52" y="2459"/>
                  </a:lnTo>
                  <a:lnTo>
                    <a:pt x="43" y="2494"/>
                  </a:lnTo>
                  <a:lnTo>
                    <a:pt x="35" y="2529"/>
                  </a:lnTo>
                  <a:lnTo>
                    <a:pt x="28" y="2564"/>
                  </a:lnTo>
                  <a:lnTo>
                    <a:pt x="21" y="2599"/>
                  </a:lnTo>
                  <a:lnTo>
                    <a:pt x="15" y="2634"/>
                  </a:lnTo>
                  <a:lnTo>
                    <a:pt x="11" y="2670"/>
                  </a:lnTo>
                  <a:lnTo>
                    <a:pt x="7" y="2705"/>
                  </a:lnTo>
                  <a:lnTo>
                    <a:pt x="4" y="2741"/>
                  </a:lnTo>
                  <a:lnTo>
                    <a:pt x="1" y="2776"/>
                  </a:lnTo>
                  <a:lnTo>
                    <a:pt x="0" y="2812"/>
                  </a:lnTo>
                  <a:lnTo>
                    <a:pt x="0" y="2848"/>
                  </a:lnTo>
                  <a:lnTo>
                    <a:pt x="0" y="2848"/>
                  </a:lnTo>
                  <a:lnTo>
                    <a:pt x="0" y="2885"/>
                  </a:lnTo>
                  <a:lnTo>
                    <a:pt x="1" y="2920"/>
                  </a:lnTo>
                  <a:lnTo>
                    <a:pt x="4" y="2956"/>
                  </a:lnTo>
                  <a:lnTo>
                    <a:pt x="7" y="2992"/>
                  </a:lnTo>
                  <a:lnTo>
                    <a:pt x="11" y="3027"/>
                  </a:lnTo>
                  <a:lnTo>
                    <a:pt x="15" y="3062"/>
                  </a:lnTo>
                  <a:lnTo>
                    <a:pt x="21" y="3098"/>
                  </a:lnTo>
                  <a:lnTo>
                    <a:pt x="28" y="3133"/>
                  </a:lnTo>
                  <a:lnTo>
                    <a:pt x="35" y="3168"/>
                  </a:lnTo>
                  <a:lnTo>
                    <a:pt x="43" y="3203"/>
                  </a:lnTo>
                  <a:lnTo>
                    <a:pt x="52" y="3238"/>
                  </a:lnTo>
                  <a:lnTo>
                    <a:pt x="61" y="3271"/>
                  </a:lnTo>
                  <a:lnTo>
                    <a:pt x="73" y="3306"/>
                  </a:lnTo>
                  <a:lnTo>
                    <a:pt x="84" y="3340"/>
                  </a:lnTo>
                  <a:lnTo>
                    <a:pt x="96" y="3375"/>
                  </a:lnTo>
                  <a:lnTo>
                    <a:pt x="109" y="3408"/>
                  </a:lnTo>
                  <a:lnTo>
                    <a:pt x="123" y="3442"/>
                  </a:lnTo>
                  <a:lnTo>
                    <a:pt x="137" y="3476"/>
                  </a:lnTo>
                  <a:lnTo>
                    <a:pt x="152" y="3510"/>
                  </a:lnTo>
                  <a:lnTo>
                    <a:pt x="169" y="3543"/>
                  </a:lnTo>
                  <a:lnTo>
                    <a:pt x="186" y="3577"/>
                  </a:lnTo>
                  <a:lnTo>
                    <a:pt x="204" y="3609"/>
                  </a:lnTo>
                  <a:lnTo>
                    <a:pt x="222" y="3643"/>
                  </a:lnTo>
                  <a:lnTo>
                    <a:pt x="241" y="3676"/>
                  </a:lnTo>
                  <a:lnTo>
                    <a:pt x="261" y="3708"/>
                  </a:lnTo>
                  <a:lnTo>
                    <a:pt x="282" y="3740"/>
                  </a:lnTo>
                  <a:lnTo>
                    <a:pt x="303" y="3774"/>
                  </a:lnTo>
                  <a:lnTo>
                    <a:pt x="325" y="3806"/>
                  </a:lnTo>
                  <a:lnTo>
                    <a:pt x="349" y="3838"/>
                  </a:lnTo>
                  <a:lnTo>
                    <a:pt x="373" y="3869"/>
                  </a:lnTo>
                  <a:lnTo>
                    <a:pt x="396" y="3901"/>
                  </a:lnTo>
                  <a:lnTo>
                    <a:pt x="421" y="3933"/>
                  </a:lnTo>
                  <a:lnTo>
                    <a:pt x="448" y="3963"/>
                  </a:lnTo>
                  <a:lnTo>
                    <a:pt x="474" y="3994"/>
                  </a:lnTo>
                  <a:lnTo>
                    <a:pt x="501" y="4025"/>
                  </a:lnTo>
                  <a:lnTo>
                    <a:pt x="529" y="4056"/>
                  </a:lnTo>
                  <a:lnTo>
                    <a:pt x="558" y="4086"/>
                  </a:lnTo>
                  <a:lnTo>
                    <a:pt x="588" y="4117"/>
                  </a:lnTo>
                  <a:lnTo>
                    <a:pt x="617" y="4148"/>
                  </a:lnTo>
                  <a:lnTo>
                    <a:pt x="648" y="4177"/>
                  </a:lnTo>
                  <a:lnTo>
                    <a:pt x="680" y="4206"/>
                  </a:lnTo>
                  <a:lnTo>
                    <a:pt x="712" y="4236"/>
                  </a:lnTo>
                  <a:lnTo>
                    <a:pt x="744" y="4265"/>
                  </a:lnTo>
                  <a:lnTo>
                    <a:pt x="777" y="4294"/>
                  </a:lnTo>
                  <a:lnTo>
                    <a:pt x="812" y="4323"/>
                  </a:lnTo>
                  <a:lnTo>
                    <a:pt x="846" y="4351"/>
                  </a:lnTo>
                  <a:lnTo>
                    <a:pt x="882" y="4381"/>
                  </a:lnTo>
                  <a:lnTo>
                    <a:pt x="917" y="4409"/>
                  </a:lnTo>
                  <a:lnTo>
                    <a:pt x="954" y="4437"/>
                  </a:lnTo>
                  <a:lnTo>
                    <a:pt x="991" y="4464"/>
                  </a:lnTo>
                  <a:lnTo>
                    <a:pt x="1028" y="4491"/>
                  </a:lnTo>
                  <a:lnTo>
                    <a:pt x="1068" y="4519"/>
                  </a:lnTo>
                  <a:lnTo>
                    <a:pt x="1107" y="4545"/>
                  </a:lnTo>
                  <a:lnTo>
                    <a:pt x="1146" y="4572"/>
                  </a:lnTo>
                  <a:lnTo>
                    <a:pt x="1186" y="4598"/>
                  </a:lnTo>
                  <a:lnTo>
                    <a:pt x="1228" y="4625"/>
                  </a:lnTo>
                  <a:lnTo>
                    <a:pt x="1268" y="4651"/>
                  </a:lnTo>
                  <a:lnTo>
                    <a:pt x="1310" y="4677"/>
                  </a:lnTo>
                  <a:lnTo>
                    <a:pt x="1354" y="4702"/>
                  </a:lnTo>
                  <a:lnTo>
                    <a:pt x="1397" y="4727"/>
                  </a:lnTo>
                  <a:lnTo>
                    <a:pt x="1440" y="4752"/>
                  </a:lnTo>
                  <a:lnTo>
                    <a:pt x="1485" y="4777"/>
                  </a:lnTo>
                  <a:lnTo>
                    <a:pt x="1529" y="4801"/>
                  </a:lnTo>
                  <a:lnTo>
                    <a:pt x="1575" y="4826"/>
                  </a:lnTo>
                  <a:lnTo>
                    <a:pt x="1621" y="4850"/>
                  </a:lnTo>
                  <a:lnTo>
                    <a:pt x="1668" y="4873"/>
                  </a:lnTo>
                  <a:lnTo>
                    <a:pt x="1715" y="4896"/>
                  </a:lnTo>
                  <a:lnTo>
                    <a:pt x="1762" y="4919"/>
                  </a:lnTo>
                  <a:lnTo>
                    <a:pt x="1810" y="4942"/>
                  </a:lnTo>
                  <a:lnTo>
                    <a:pt x="1859" y="4964"/>
                  </a:lnTo>
                  <a:lnTo>
                    <a:pt x="1908" y="4986"/>
                  </a:lnTo>
                  <a:lnTo>
                    <a:pt x="1958" y="5009"/>
                  </a:lnTo>
                  <a:lnTo>
                    <a:pt x="2008" y="5030"/>
                  </a:lnTo>
                  <a:lnTo>
                    <a:pt x="2058" y="5052"/>
                  </a:lnTo>
                  <a:lnTo>
                    <a:pt x="2110" y="5073"/>
                  </a:lnTo>
                  <a:lnTo>
                    <a:pt x="2161" y="5094"/>
                  </a:lnTo>
                  <a:lnTo>
                    <a:pt x="2213" y="5113"/>
                  </a:lnTo>
                  <a:lnTo>
                    <a:pt x="2266" y="5134"/>
                  </a:lnTo>
                  <a:lnTo>
                    <a:pt x="2319" y="5154"/>
                  </a:lnTo>
                  <a:lnTo>
                    <a:pt x="2374" y="5173"/>
                  </a:lnTo>
                  <a:lnTo>
                    <a:pt x="2427" y="5193"/>
                  </a:lnTo>
                  <a:lnTo>
                    <a:pt x="2482" y="5211"/>
                  </a:lnTo>
                  <a:lnTo>
                    <a:pt x="2537" y="5231"/>
                  </a:lnTo>
                  <a:lnTo>
                    <a:pt x="2593" y="5249"/>
                  </a:lnTo>
                  <a:lnTo>
                    <a:pt x="2648" y="5265"/>
                  </a:lnTo>
                  <a:lnTo>
                    <a:pt x="2704" y="5284"/>
                  </a:lnTo>
                  <a:lnTo>
                    <a:pt x="2761" y="5300"/>
                  </a:lnTo>
                  <a:lnTo>
                    <a:pt x="2819" y="5318"/>
                  </a:lnTo>
                  <a:lnTo>
                    <a:pt x="2876" y="5334"/>
                  </a:lnTo>
                  <a:lnTo>
                    <a:pt x="2935" y="5351"/>
                  </a:lnTo>
                  <a:lnTo>
                    <a:pt x="2993" y="5366"/>
                  </a:lnTo>
                  <a:lnTo>
                    <a:pt x="3052" y="5383"/>
                  </a:lnTo>
                  <a:lnTo>
                    <a:pt x="3110" y="5398"/>
                  </a:lnTo>
                  <a:lnTo>
                    <a:pt x="3170" y="5412"/>
                  </a:lnTo>
                  <a:lnTo>
                    <a:pt x="3230" y="5427"/>
                  </a:lnTo>
                  <a:lnTo>
                    <a:pt x="3290" y="5441"/>
                  </a:lnTo>
                  <a:lnTo>
                    <a:pt x="3352" y="5455"/>
                  </a:lnTo>
                  <a:lnTo>
                    <a:pt x="3413" y="5468"/>
                  </a:lnTo>
                  <a:lnTo>
                    <a:pt x="3475" y="5482"/>
                  </a:lnTo>
                  <a:lnTo>
                    <a:pt x="3537" y="5494"/>
                  </a:lnTo>
                  <a:lnTo>
                    <a:pt x="3599" y="5507"/>
                  </a:lnTo>
                  <a:lnTo>
                    <a:pt x="3662" y="5518"/>
                  </a:lnTo>
                  <a:lnTo>
                    <a:pt x="3724" y="5531"/>
                  </a:lnTo>
                  <a:lnTo>
                    <a:pt x="3788" y="5542"/>
                  </a:lnTo>
                  <a:lnTo>
                    <a:pt x="3853" y="5553"/>
                  </a:lnTo>
                  <a:lnTo>
                    <a:pt x="3915" y="5563"/>
                  </a:lnTo>
                  <a:lnTo>
                    <a:pt x="3981" y="5572"/>
                  </a:lnTo>
                  <a:lnTo>
                    <a:pt x="4045" y="5582"/>
                  </a:lnTo>
                  <a:lnTo>
                    <a:pt x="4111" y="5592"/>
                  </a:lnTo>
                  <a:lnTo>
                    <a:pt x="4176" y="5602"/>
                  </a:lnTo>
                  <a:lnTo>
                    <a:pt x="4242" y="5610"/>
                  </a:lnTo>
                  <a:lnTo>
                    <a:pt x="4308" y="5618"/>
                  </a:lnTo>
                  <a:lnTo>
                    <a:pt x="4373" y="5625"/>
                  </a:lnTo>
                  <a:lnTo>
                    <a:pt x="4440" y="5634"/>
                  </a:lnTo>
                  <a:lnTo>
                    <a:pt x="4507" y="5641"/>
                  </a:lnTo>
                  <a:lnTo>
                    <a:pt x="4574" y="5646"/>
                  </a:lnTo>
                  <a:lnTo>
                    <a:pt x="4642" y="5653"/>
                  </a:lnTo>
                  <a:lnTo>
                    <a:pt x="4709" y="5659"/>
                  </a:lnTo>
                  <a:lnTo>
                    <a:pt x="4778" y="5665"/>
                  </a:lnTo>
                  <a:lnTo>
                    <a:pt x="4846" y="5669"/>
                  </a:lnTo>
                  <a:lnTo>
                    <a:pt x="4915" y="5673"/>
                  </a:lnTo>
                  <a:lnTo>
                    <a:pt x="4983" y="5677"/>
                  </a:lnTo>
                  <a:lnTo>
                    <a:pt x="5053" y="5681"/>
                  </a:lnTo>
                  <a:lnTo>
                    <a:pt x="5122" y="5684"/>
                  </a:lnTo>
                  <a:lnTo>
                    <a:pt x="5191" y="5687"/>
                  </a:lnTo>
                  <a:lnTo>
                    <a:pt x="5261" y="5690"/>
                  </a:lnTo>
                  <a:lnTo>
                    <a:pt x="5332" y="5692"/>
                  </a:lnTo>
                  <a:lnTo>
                    <a:pt x="5402" y="5694"/>
                  </a:lnTo>
                  <a:lnTo>
                    <a:pt x="5471" y="5695"/>
                  </a:lnTo>
                  <a:lnTo>
                    <a:pt x="5542" y="5695"/>
                  </a:lnTo>
                  <a:lnTo>
                    <a:pt x="5614" y="5695"/>
                  </a:lnTo>
                  <a:lnTo>
                    <a:pt x="5614" y="5695"/>
                  </a:lnTo>
                  <a:close/>
                </a:path>
              </a:pathLst>
            </a:custGeom>
            <a:gradFill rotWithShape="0">
              <a:gsLst>
                <a:gs pos="0">
                  <a:srgbClr val="1a2d45"/>
                </a:gs>
                <a:gs pos="50000">
                  <a:srgbClr val="30517c"/>
                </a:gs>
                <a:gs pos="100000">
                  <a:srgbClr val="1a2d45"/>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03" name=""/>
            <p:cNvSpPr/>
            <p:nvPr/>
          </p:nvSpPr>
          <p:spPr>
            <a:xfrm>
              <a:off x="4626360" y="4933800"/>
              <a:ext cx="4315680" cy="1344960"/>
            </a:xfrm>
            <a:custGeom>
              <a:avLst/>
              <a:gdLst/>
              <a:ahLst/>
              <a:rect l="l" t="t" r="r" b="b"/>
              <a:pathLst>
                <a:path w="11226" h="5696">
                  <a:moveTo>
                    <a:pt x="5614" y="5696"/>
                  </a:moveTo>
                  <a:lnTo>
                    <a:pt x="5685" y="5695"/>
                  </a:lnTo>
                  <a:lnTo>
                    <a:pt x="5755" y="5695"/>
                  </a:lnTo>
                  <a:lnTo>
                    <a:pt x="5826" y="5693"/>
                  </a:lnTo>
                  <a:lnTo>
                    <a:pt x="5895" y="5692"/>
                  </a:lnTo>
                  <a:lnTo>
                    <a:pt x="5965" y="5690"/>
                  </a:lnTo>
                  <a:lnTo>
                    <a:pt x="6035" y="5688"/>
                  </a:lnTo>
                  <a:lnTo>
                    <a:pt x="6105" y="5685"/>
                  </a:lnTo>
                  <a:lnTo>
                    <a:pt x="6175" y="5681"/>
                  </a:lnTo>
                  <a:lnTo>
                    <a:pt x="6243" y="5678"/>
                  </a:lnTo>
                  <a:lnTo>
                    <a:pt x="6313" y="5674"/>
                  </a:lnTo>
                  <a:lnTo>
                    <a:pt x="6381" y="5670"/>
                  </a:lnTo>
                  <a:lnTo>
                    <a:pt x="6449" y="5664"/>
                  </a:lnTo>
                  <a:lnTo>
                    <a:pt x="6518" y="5658"/>
                  </a:lnTo>
                  <a:lnTo>
                    <a:pt x="6585" y="5653"/>
                  </a:lnTo>
                  <a:lnTo>
                    <a:pt x="6653" y="5647"/>
                  </a:lnTo>
                  <a:lnTo>
                    <a:pt x="6720" y="5640"/>
                  </a:lnTo>
                  <a:lnTo>
                    <a:pt x="6786" y="5633"/>
                  </a:lnTo>
                  <a:lnTo>
                    <a:pt x="6851" y="5626"/>
                  </a:lnTo>
                  <a:lnTo>
                    <a:pt x="6918" y="5618"/>
                  </a:lnTo>
                  <a:lnTo>
                    <a:pt x="6984" y="5610"/>
                  </a:lnTo>
                  <a:lnTo>
                    <a:pt x="7049" y="5601"/>
                  </a:lnTo>
                  <a:lnTo>
                    <a:pt x="7115" y="5593"/>
                  </a:lnTo>
                  <a:lnTo>
                    <a:pt x="7181" y="5583"/>
                  </a:lnTo>
                  <a:lnTo>
                    <a:pt x="7245" y="5573"/>
                  </a:lnTo>
                  <a:lnTo>
                    <a:pt x="7309" y="5563"/>
                  </a:lnTo>
                  <a:lnTo>
                    <a:pt x="7373" y="5552"/>
                  </a:lnTo>
                  <a:lnTo>
                    <a:pt x="7437" y="5541"/>
                  </a:lnTo>
                  <a:lnTo>
                    <a:pt x="7500" y="5530"/>
                  </a:lnTo>
                  <a:lnTo>
                    <a:pt x="7564" y="5519"/>
                  </a:lnTo>
                  <a:lnTo>
                    <a:pt x="7627" y="5506"/>
                  </a:lnTo>
                  <a:lnTo>
                    <a:pt x="7689" y="5494"/>
                  </a:lnTo>
                  <a:lnTo>
                    <a:pt x="7751" y="5481"/>
                  </a:lnTo>
                  <a:lnTo>
                    <a:pt x="7813" y="5469"/>
                  </a:lnTo>
                  <a:lnTo>
                    <a:pt x="7874" y="5455"/>
                  </a:lnTo>
                  <a:lnTo>
                    <a:pt x="7934" y="5441"/>
                  </a:lnTo>
                  <a:lnTo>
                    <a:pt x="7996" y="5427"/>
                  </a:lnTo>
                  <a:lnTo>
                    <a:pt x="8056" y="5413"/>
                  </a:lnTo>
                  <a:lnTo>
                    <a:pt x="8116" y="5397"/>
                  </a:lnTo>
                  <a:lnTo>
                    <a:pt x="8174" y="5382"/>
                  </a:lnTo>
                  <a:lnTo>
                    <a:pt x="8233" y="5367"/>
                  </a:lnTo>
                  <a:lnTo>
                    <a:pt x="8291" y="5350"/>
                  </a:lnTo>
                  <a:lnTo>
                    <a:pt x="8350" y="5335"/>
                  </a:lnTo>
                  <a:lnTo>
                    <a:pt x="8407" y="5318"/>
                  </a:lnTo>
                  <a:lnTo>
                    <a:pt x="8464" y="5301"/>
                  </a:lnTo>
                  <a:lnTo>
                    <a:pt x="8522" y="5283"/>
                  </a:lnTo>
                  <a:lnTo>
                    <a:pt x="8577" y="5266"/>
                  </a:lnTo>
                  <a:lnTo>
                    <a:pt x="8633" y="5248"/>
                  </a:lnTo>
                  <a:lnTo>
                    <a:pt x="8689" y="5230"/>
                  </a:lnTo>
                  <a:lnTo>
                    <a:pt x="8743" y="5212"/>
                  </a:lnTo>
                  <a:lnTo>
                    <a:pt x="8798" y="5192"/>
                  </a:lnTo>
                  <a:lnTo>
                    <a:pt x="8852" y="5173"/>
                  </a:lnTo>
                  <a:lnTo>
                    <a:pt x="8907" y="5153"/>
                  </a:lnTo>
                  <a:lnTo>
                    <a:pt x="8960" y="5134"/>
                  </a:lnTo>
                  <a:lnTo>
                    <a:pt x="9011" y="5114"/>
                  </a:lnTo>
                  <a:lnTo>
                    <a:pt x="9064" y="5093"/>
                  </a:lnTo>
                  <a:lnTo>
                    <a:pt x="9116" y="5072"/>
                  </a:lnTo>
                  <a:lnTo>
                    <a:pt x="9168" y="5051"/>
                  </a:lnTo>
                  <a:lnTo>
                    <a:pt x="9218" y="5030"/>
                  </a:lnTo>
                  <a:lnTo>
                    <a:pt x="9268" y="5008"/>
                  </a:lnTo>
                  <a:lnTo>
                    <a:pt x="9317" y="4987"/>
                  </a:lnTo>
                  <a:lnTo>
                    <a:pt x="9367" y="4965"/>
                  </a:lnTo>
                  <a:lnTo>
                    <a:pt x="9416" y="4942"/>
                  </a:lnTo>
                  <a:lnTo>
                    <a:pt x="9463" y="4919"/>
                  </a:lnTo>
                  <a:lnTo>
                    <a:pt x="9511" y="4896"/>
                  </a:lnTo>
                  <a:lnTo>
                    <a:pt x="9558" y="4873"/>
                  </a:lnTo>
                  <a:lnTo>
                    <a:pt x="9604" y="4849"/>
                  </a:lnTo>
                  <a:lnTo>
                    <a:pt x="9650" y="4825"/>
                  </a:lnTo>
                  <a:lnTo>
                    <a:pt x="9696" y="4802"/>
                  </a:lnTo>
                  <a:lnTo>
                    <a:pt x="9741" y="4776"/>
                  </a:lnTo>
                  <a:lnTo>
                    <a:pt x="9786" y="4753"/>
                  </a:lnTo>
                  <a:lnTo>
                    <a:pt x="9829" y="4728"/>
                  </a:lnTo>
                  <a:lnTo>
                    <a:pt x="9872" y="4702"/>
                  </a:lnTo>
                  <a:lnTo>
                    <a:pt x="9914" y="4676"/>
                  </a:lnTo>
                  <a:lnTo>
                    <a:pt x="9957" y="4651"/>
                  </a:lnTo>
                  <a:lnTo>
                    <a:pt x="9998" y="4624"/>
                  </a:lnTo>
                  <a:lnTo>
                    <a:pt x="10040" y="4598"/>
                  </a:lnTo>
                  <a:lnTo>
                    <a:pt x="10079" y="4573"/>
                  </a:lnTo>
                  <a:lnTo>
                    <a:pt x="10119" y="4545"/>
                  </a:lnTo>
                  <a:lnTo>
                    <a:pt x="10158" y="4518"/>
                  </a:lnTo>
                  <a:lnTo>
                    <a:pt x="10196" y="4492"/>
                  </a:lnTo>
                  <a:lnTo>
                    <a:pt x="10234" y="4464"/>
                  </a:lnTo>
                  <a:lnTo>
                    <a:pt x="10271" y="4436"/>
                  </a:lnTo>
                  <a:lnTo>
                    <a:pt x="10308" y="4408"/>
                  </a:lnTo>
                  <a:lnTo>
                    <a:pt x="10344" y="4380"/>
                  </a:lnTo>
                  <a:lnTo>
                    <a:pt x="10379" y="4352"/>
                  </a:lnTo>
                  <a:lnTo>
                    <a:pt x="10414" y="4323"/>
                  </a:lnTo>
                  <a:lnTo>
                    <a:pt x="10449" y="4294"/>
                  </a:lnTo>
                  <a:lnTo>
                    <a:pt x="10482" y="4266"/>
                  </a:lnTo>
                  <a:lnTo>
                    <a:pt x="10514" y="4236"/>
                  </a:lnTo>
                  <a:lnTo>
                    <a:pt x="10546" y="4207"/>
                  </a:lnTo>
                  <a:lnTo>
                    <a:pt x="10577" y="4176"/>
                  </a:lnTo>
                  <a:lnTo>
                    <a:pt x="10608" y="4147"/>
                  </a:lnTo>
                  <a:lnTo>
                    <a:pt x="10638" y="4116"/>
                  </a:lnTo>
                  <a:lnTo>
                    <a:pt x="10668" y="4087"/>
                  </a:lnTo>
                  <a:lnTo>
                    <a:pt x="10696" y="4056"/>
                  </a:lnTo>
                  <a:lnTo>
                    <a:pt x="10725" y="4026"/>
                  </a:lnTo>
                  <a:lnTo>
                    <a:pt x="10751" y="3995"/>
                  </a:lnTo>
                  <a:lnTo>
                    <a:pt x="10778" y="3963"/>
                  </a:lnTo>
                  <a:lnTo>
                    <a:pt x="10804" y="3932"/>
                  </a:lnTo>
                  <a:lnTo>
                    <a:pt x="10830" y="3900"/>
                  </a:lnTo>
                  <a:lnTo>
                    <a:pt x="10853" y="3869"/>
                  </a:lnTo>
                  <a:lnTo>
                    <a:pt x="10877" y="3837"/>
                  </a:lnTo>
                  <a:lnTo>
                    <a:pt x="10901" y="3805"/>
                  </a:lnTo>
                  <a:lnTo>
                    <a:pt x="10922" y="3773"/>
                  </a:lnTo>
                  <a:lnTo>
                    <a:pt x="10944" y="3741"/>
                  </a:lnTo>
                  <a:lnTo>
                    <a:pt x="10965" y="3707"/>
                  </a:lnTo>
                  <a:lnTo>
                    <a:pt x="10984" y="3675"/>
                  </a:lnTo>
                  <a:lnTo>
                    <a:pt x="11004" y="3645"/>
                  </a:lnTo>
                  <a:lnTo>
                    <a:pt x="11022" y="3611"/>
                  </a:lnTo>
                  <a:lnTo>
                    <a:pt x="11040" y="3578"/>
                  </a:lnTo>
                  <a:lnTo>
                    <a:pt x="11057" y="3544"/>
                  </a:lnTo>
                  <a:lnTo>
                    <a:pt x="11072" y="3511"/>
                  </a:lnTo>
                  <a:lnTo>
                    <a:pt x="11088" y="3477"/>
                  </a:lnTo>
                  <a:lnTo>
                    <a:pt x="11103" y="3444"/>
                  </a:lnTo>
                  <a:lnTo>
                    <a:pt x="11117" y="3409"/>
                  </a:lnTo>
                  <a:lnTo>
                    <a:pt x="11130" y="3375"/>
                  </a:lnTo>
                  <a:lnTo>
                    <a:pt x="11142" y="3342"/>
                  </a:lnTo>
                  <a:lnTo>
                    <a:pt x="11153" y="3307"/>
                  </a:lnTo>
                  <a:lnTo>
                    <a:pt x="11164" y="3272"/>
                  </a:lnTo>
                  <a:lnTo>
                    <a:pt x="11174" y="3237"/>
                  </a:lnTo>
                  <a:lnTo>
                    <a:pt x="11183" y="3202"/>
                  </a:lnTo>
                  <a:lnTo>
                    <a:pt x="11191" y="3167"/>
                  </a:lnTo>
                  <a:lnTo>
                    <a:pt x="11198" y="3133"/>
                  </a:lnTo>
                  <a:lnTo>
                    <a:pt x="11205" y="3098"/>
                  </a:lnTo>
                  <a:lnTo>
                    <a:pt x="11210" y="3063"/>
                  </a:lnTo>
                  <a:lnTo>
                    <a:pt x="11215" y="3027"/>
                  </a:lnTo>
                  <a:lnTo>
                    <a:pt x="11219" y="2992"/>
                  </a:lnTo>
                  <a:lnTo>
                    <a:pt x="11222" y="2955"/>
                  </a:lnTo>
                  <a:lnTo>
                    <a:pt x="11224" y="2920"/>
                  </a:lnTo>
                  <a:lnTo>
                    <a:pt x="11226" y="2884"/>
                  </a:lnTo>
                  <a:lnTo>
                    <a:pt x="11226" y="2848"/>
                  </a:lnTo>
                  <a:lnTo>
                    <a:pt x="11226" y="2848"/>
                  </a:lnTo>
                  <a:lnTo>
                    <a:pt x="11226" y="2812"/>
                  </a:lnTo>
                  <a:lnTo>
                    <a:pt x="11224" y="2777"/>
                  </a:lnTo>
                  <a:lnTo>
                    <a:pt x="11222" y="2740"/>
                  </a:lnTo>
                  <a:lnTo>
                    <a:pt x="11219" y="2706"/>
                  </a:lnTo>
                  <a:lnTo>
                    <a:pt x="11215" y="2669"/>
                  </a:lnTo>
                  <a:lnTo>
                    <a:pt x="11210" y="2634"/>
                  </a:lnTo>
                  <a:lnTo>
                    <a:pt x="11205" y="2598"/>
                  </a:lnTo>
                  <a:lnTo>
                    <a:pt x="11198" y="2563"/>
                  </a:lnTo>
                  <a:lnTo>
                    <a:pt x="11191" y="2528"/>
                  </a:lnTo>
                  <a:lnTo>
                    <a:pt x="11183" y="2493"/>
                  </a:lnTo>
                  <a:lnTo>
                    <a:pt x="11174" y="2459"/>
                  </a:lnTo>
                  <a:lnTo>
                    <a:pt x="11164" y="2424"/>
                  </a:lnTo>
                  <a:lnTo>
                    <a:pt x="11153" y="2390"/>
                  </a:lnTo>
                  <a:lnTo>
                    <a:pt x="11142" y="2355"/>
                  </a:lnTo>
                  <a:lnTo>
                    <a:pt x="11130" y="2320"/>
                  </a:lnTo>
                  <a:lnTo>
                    <a:pt x="11117" y="2287"/>
                  </a:lnTo>
                  <a:lnTo>
                    <a:pt x="11103" y="2253"/>
                  </a:lnTo>
                  <a:lnTo>
                    <a:pt x="11088" y="2219"/>
                  </a:lnTo>
                  <a:lnTo>
                    <a:pt x="11072" y="2185"/>
                  </a:lnTo>
                  <a:lnTo>
                    <a:pt x="11057" y="2152"/>
                  </a:lnTo>
                  <a:lnTo>
                    <a:pt x="11040" y="2118"/>
                  </a:lnTo>
                  <a:lnTo>
                    <a:pt x="11022" y="2086"/>
                  </a:lnTo>
                  <a:lnTo>
                    <a:pt x="11004" y="2052"/>
                  </a:lnTo>
                  <a:lnTo>
                    <a:pt x="10984" y="2019"/>
                  </a:lnTo>
                  <a:lnTo>
                    <a:pt x="10965" y="1987"/>
                  </a:lnTo>
                  <a:lnTo>
                    <a:pt x="10944" y="1955"/>
                  </a:lnTo>
                  <a:lnTo>
                    <a:pt x="10922" y="1923"/>
                  </a:lnTo>
                  <a:lnTo>
                    <a:pt x="10901" y="1889"/>
                  </a:lnTo>
                  <a:lnTo>
                    <a:pt x="10877" y="1858"/>
                  </a:lnTo>
                  <a:lnTo>
                    <a:pt x="10853" y="1826"/>
                  </a:lnTo>
                  <a:lnTo>
                    <a:pt x="10830" y="1794"/>
                  </a:lnTo>
                  <a:lnTo>
                    <a:pt x="10804" y="1764"/>
                  </a:lnTo>
                  <a:lnTo>
                    <a:pt x="10778" y="1732"/>
                  </a:lnTo>
                  <a:lnTo>
                    <a:pt x="10751" y="1701"/>
                  </a:lnTo>
                  <a:lnTo>
                    <a:pt x="10725" y="1670"/>
                  </a:lnTo>
                  <a:lnTo>
                    <a:pt x="10696" y="1639"/>
                  </a:lnTo>
                  <a:lnTo>
                    <a:pt x="10668" y="1609"/>
                  </a:lnTo>
                  <a:lnTo>
                    <a:pt x="10638" y="1578"/>
                  </a:lnTo>
                  <a:lnTo>
                    <a:pt x="10608" y="1549"/>
                  </a:lnTo>
                  <a:lnTo>
                    <a:pt x="10577" y="1518"/>
                  </a:lnTo>
                  <a:lnTo>
                    <a:pt x="10546" y="1489"/>
                  </a:lnTo>
                  <a:lnTo>
                    <a:pt x="10514" y="1459"/>
                  </a:lnTo>
                  <a:lnTo>
                    <a:pt x="10482" y="1430"/>
                  </a:lnTo>
                  <a:lnTo>
                    <a:pt x="10449" y="1401"/>
                  </a:lnTo>
                  <a:lnTo>
                    <a:pt x="10414" y="1371"/>
                  </a:lnTo>
                  <a:lnTo>
                    <a:pt x="10379" y="1344"/>
                  </a:lnTo>
                  <a:lnTo>
                    <a:pt x="10344" y="1316"/>
                  </a:lnTo>
                  <a:lnTo>
                    <a:pt x="10308" y="1286"/>
                  </a:lnTo>
                  <a:lnTo>
                    <a:pt x="10271" y="1258"/>
                  </a:lnTo>
                  <a:lnTo>
                    <a:pt x="10234" y="1232"/>
                  </a:lnTo>
                  <a:lnTo>
                    <a:pt x="10196" y="1204"/>
                  </a:lnTo>
                  <a:lnTo>
                    <a:pt x="10158" y="1176"/>
                  </a:lnTo>
                  <a:lnTo>
                    <a:pt x="10119" y="1150"/>
                  </a:lnTo>
                  <a:lnTo>
                    <a:pt x="10079" y="1123"/>
                  </a:lnTo>
                  <a:lnTo>
                    <a:pt x="10040" y="1097"/>
                  </a:lnTo>
                  <a:lnTo>
                    <a:pt x="9998" y="1070"/>
                  </a:lnTo>
                  <a:lnTo>
                    <a:pt x="9957" y="1045"/>
                  </a:lnTo>
                  <a:lnTo>
                    <a:pt x="9914" y="1018"/>
                  </a:lnTo>
                  <a:lnTo>
                    <a:pt x="9872" y="993"/>
                  </a:lnTo>
                  <a:lnTo>
                    <a:pt x="9829" y="968"/>
                  </a:lnTo>
                  <a:lnTo>
                    <a:pt x="9786" y="943"/>
                  </a:lnTo>
                  <a:lnTo>
                    <a:pt x="9741" y="918"/>
                  </a:lnTo>
                  <a:lnTo>
                    <a:pt x="9696" y="894"/>
                  </a:lnTo>
                  <a:lnTo>
                    <a:pt x="9650" y="869"/>
                  </a:lnTo>
                  <a:lnTo>
                    <a:pt x="9604" y="845"/>
                  </a:lnTo>
                  <a:lnTo>
                    <a:pt x="9558" y="822"/>
                  </a:lnTo>
                  <a:lnTo>
                    <a:pt x="9511" y="799"/>
                  </a:lnTo>
                  <a:lnTo>
                    <a:pt x="9463" y="776"/>
                  </a:lnTo>
                  <a:lnTo>
                    <a:pt x="9416" y="753"/>
                  </a:lnTo>
                  <a:lnTo>
                    <a:pt x="9367" y="731"/>
                  </a:lnTo>
                  <a:lnTo>
                    <a:pt x="9317" y="709"/>
                  </a:lnTo>
                  <a:lnTo>
                    <a:pt x="9268" y="686"/>
                  </a:lnTo>
                  <a:lnTo>
                    <a:pt x="9218" y="665"/>
                  </a:lnTo>
                  <a:lnTo>
                    <a:pt x="9168" y="643"/>
                  </a:lnTo>
                  <a:lnTo>
                    <a:pt x="9116" y="622"/>
                  </a:lnTo>
                  <a:lnTo>
                    <a:pt x="9064" y="601"/>
                  </a:lnTo>
                  <a:lnTo>
                    <a:pt x="9011" y="582"/>
                  </a:lnTo>
                  <a:lnTo>
                    <a:pt x="8960" y="561"/>
                  </a:lnTo>
                  <a:lnTo>
                    <a:pt x="8907" y="541"/>
                  </a:lnTo>
                  <a:lnTo>
                    <a:pt x="8852" y="522"/>
                  </a:lnTo>
                  <a:lnTo>
                    <a:pt x="8798" y="502"/>
                  </a:lnTo>
                  <a:lnTo>
                    <a:pt x="8743" y="484"/>
                  </a:lnTo>
                  <a:lnTo>
                    <a:pt x="8689" y="466"/>
                  </a:lnTo>
                  <a:lnTo>
                    <a:pt x="8633" y="448"/>
                  </a:lnTo>
                  <a:lnTo>
                    <a:pt x="8577" y="430"/>
                  </a:lnTo>
                  <a:lnTo>
                    <a:pt x="8522" y="411"/>
                  </a:lnTo>
                  <a:lnTo>
                    <a:pt x="8464" y="395"/>
                  </a:lnTo>
                  <a:lnTo>
                    <a:pt x="8407" y="378"/>
                  </a:lnTo>
                  <a:lnTo>
                    <a:pt x="8350" y="361"/>
                  </a:lnTo>
                  <a:lnTo>
                    <a:pt x="8291" y="344"/>
                  </a:lnTo>
                  <a:lnTo>
                    <a:pt x="8233" y="329"/>
                  </a:lnTo>
                  <a:lnTo>
                    <a:pt x="8174" y="314"/>
                  </a:lnTo>
                  <a:lnTo>
                    <a:pt x="8116" y="298"/>
                  </a:lnTo>
                  <a:lnTo>
                    <a:pt x="8056" y="283"/>
                  </a:lnTo>
                  <a:lnTo>
                    <a:pt x="7996" y="268"/>
                  </a:lnTo>
                  <a:lnTo>
                    <a:pt x="7934" y="254"/>
                  </a:lnTo>
                  <a:lnTo>
                    <a:pt x="7874" y="240"/>
                  </a:lnTo>
                  <a:lnTo>
                    <a:pt x="7813" y="227"/>
                  </a:lnTo>
                  <a:lnTo>
                    <a:pt x="7751" y="213"/>
                  </a:lnTo>
                  <a:lnTo>
                    <a:pt x="7689" y="201"/>
                  </a:lnTo>
                  <a:lnTo>
                    <a:pt x="7627" y="188"/>
                  </a:lnTo>
                  <a:lnTo>
                    <a:pt x="7564" y="177"/>
                  </a:lnTo>
                  <a:lnTo>
                    <a:pt x="7500" y="164"/>
                  </a:lnTo>
                  <a:lnTo>
                    <a:pt x="7437" y="153"/>
                  </a:lnTo>
                  <a:lnTo>
                    <a:pt x="7373" y="143"/>
                  </a:lnTo>
                  <a:lnTo>
                    <a:pt x="7309" y="132"/>
                  </a:lnTo>
                  <a:lnTo>
                    <a:pt x="7245" y="123"/>
                  </a:lnTo>
                  <a:lnTo>
                    <a:pt x="7181" y="113"/>
                  </a:lnTo>
                  <a:lnTo>
                    <a:pt x="7115" y="103"/>
                  </a:lnTo>
                  <a:lnTo>
                    <a:pt x="7049" y="95"/>
                  </a:lnTo>
                  <a:lnTo>
                    <a:pt x="6984" y="85"/>
                  </a:lnTo>
                  <a:lnTo>
                    <a:pt x="6918" y="78"/>
                  </a:lnTo>
                  <a:lnTo>
                    <a:pt x="6851" y="70"/>
                  </a:lnTo>
                  <a:lnTo>
                    <a:pt x="6786" y="63"/>
                  </a:lnTo>
                  <a:lnTo>
                    <a:pt x="6720" y="56"/>
                  </a:lnTo>
                  <a:lnTo>
                    <a:pt x="6653" y="49"/>
                  </a:lnTo>
                  <a:lnTo>
                    <a:pt x="6585" y="42"/>
                  </a:lnTo>
                  <a:lnTo>
                    <a:pt x="6518" y="36"/>
                  </a:lnTo>
                  <a:lnTo>
                    <a:pt x="6449" y="30"/>
                  </a:lnTo>
                  <a:lnTo>
                    <a:pt x="6381" y="26"/>
                  </a:lnTo>
                  <a:lnTo>
                    <a:pt x="6313" y="22"/>
                  </a:lnTo>
                  <a:lnTo>
                    <a:pt x="6243" y="18"/>
                  </a:lnTo>
                  <a:lnTo>
                    <a:pt x="6175" y="14"/>
                  </a:lnTo>
                  <a:lnTo>
                    <a:pt x="6105" y="11"/>
                  </a:lnTo>
                  <a:lnTo>
                    <a:pt x="6035" y="8"/>
                  </a:lnTo>
                  <a:lnTo>
                    <a:pt x="5965" y="5"/>
                  </a:lnTo>
                  <a:lnTo>
                    <a:pt x="5895" y="4"/>
                  </a:lnTo>
                  <a:lnTo>
                    <a:pt x="5826" y="1"/>
                  </a:lnTo>
                  <a:lnTo>
                    <a:pt x="5755" y="1"/>
                  </a:lnTo>
                  <a:lnTo>
                    <a:pt x="5685" y="0"/>
                  </a:lnTo>
                  <a:lnTo>
                    <a:pt x="5614" y="0"/>
                  </a:lnTo>
                  <a:lnTo>
                    <a:pt x="5614" y="0"/>
                  </a:lnTo>
                  <a:lnTo>
                    <a:pt x="5542" y="0"/>
                  </a:lnTo>
                  <a:lnTo>
                    <a:pt x="5471" y="1"/>
                  </a:lnTo>
                  <a:lnTo>
                    <a:pt x="5402" y="1"/>
                  </a:lnTo>
                  <a:lnTo>
                    <a:pt x="5332" y="4"/>
                  </a:lnTo>
                  <a:lnTo>
                    <a:pt x="5261" y="5"/>
                  </a:lnTo>
                  <a:lnTo>
                    <a:pt x="5191" y="8"/>
                  </a:lnTo>
                  <a:lnTo>
                    <a:pt x="5122" y="11"/>
                  </a:lnTo>
                  <a:lnTo>
                    <a:pt x="5053" y="14"/>
                  </a:lnTo>
                  <a:lnTo>
                    <a:pt x="4983" y="18"/>
                  </a:lnTo>
                  <a:lnTo>
                    <a:pt x="4915" y="22"/>
                  </a:lnTo>
                  <a:lnTo>
                    <a:pt x="4846" y="26"/>
                  </a:lnTo>
                  <a:lnTo>
                    <a:pt x="4778" y="30"/>
                  </a:lnTo>
                  <a:lnTo>
                    <a:pt x="4709" y="36"/>
                  </a:lnTo>
                  <a:lnTo>
                    <a:pt x="4642" y="42"/>
                  </a:lnTo>
                  <a:lnTo>
                    <a:pt x="4574" y="49"/>
                  </a:lnTo>
                  <a:lnTo>
                    <a:pt x="4507" y="56"/>
                  </a:lnTo>
                  <a:lnTo>
                    <a:pt x="4440" y="63"/>
                  </a:lnTo>
                  <a:lnTo>
                    <a:pt x="4373" y="70"/>
                  </a:lnTo>
                  <a:lnTo>
                    <a:pt x="4308" y="78"/>
                  </a:lnTo>
                  <a:lnTo>
                    <a:pt x="4242" y="85"/>
                  </a:lnTo>
                  <a:lnTo>
                    <a:pt x="4176" y="95"/>
                  </a:lnTo>
                  <a:lnTo>
                    <a:pt x="4111" y="103"/>
                  </a:lnTo>
                  <a:lnTo>
                    <a:pt x="4045" y="113"/>
                  </a:lnTo>
                  <a:lnTo>
                    <a:pt x="3981" y="123"/>
                  </a:lnTo>
                  <a:lnTo>
                    <a:pt x="3915" y="132"/>
                  </a:lnTo>
                  <a:lnTo>
                    <a:pt x="3853" y="143"/>
                  </a:lnTo>
                  <a:lnTo>
                    <a:pt x="3788" y="153"/>
                  </a:lnTo>
                  <a:lnTo>
                    <a:pt x="3724" y="164"/>
                  </a:lnTo>
                  <a:lnTo>
                    <a:pt x="3662" y="177"/>
                  </a:lnTo>
                  <a:lnTo>
                    <a:pt x="3599" y="188"/>
                  </a:lnTo>
                  <a:lnTo>
                    <a:pt x="3537" y="201"/>
                  </a:lnTo>
                  <a:lnTo>
                    <a:pt x="3475" y="213"/>
                  </a:lnTo>
                  <a:lnTo>
                    <a:pt x="3413" y="227"/>
                  </a:lnTo>
                  <a:lnTo>
                    <a:pt x="3352" y="240"/>
                  </a:lnTo>
                  <a:lnTo>
                    <a:pt x="3290" y="254"/>
                  </a:lnTo>
                  <a:lnTo>
                    <a:pt x="3230" y="268"/>
                  </a:lnTo>
                  <a:lnTo>
                    <a:pt x="3170" y="283"/>
                  </a:lnTo>
                  <a:lnTo>
                    <a:pt x="3110" y="298"/>
                  </a:lnTo>
                  <a:lnTo>
                    <a:pt x="3052" y="314"/>
                  </a:lnTo>
                  <a:lnTo>
                    <a:pt x="2993" y="329"/>
                  </a:lnTo>
                  <a:lnTo>
                    <a:pt x="2935" y="344"/>
                  </a:lnTo>
                  <a:lnTo>
                    <a:pt x="2876" y="361"/>
                  </a:lnTo>
                  <a:lnTo>
                    <a:pt x="2819" y="378"/>
                  </a:lnTo>
                  <a:lnTo>
                    <a:pt x="2761" y="395"/>
                  </a:lnTo>
                  <a:lnTo>
                    <a:pt x="2704" y="411"/>
                  </a:lnTo>
                  <a:lnTo>
                    <a:pt x="2648" y="430"/>
                  </a:lnTo>
                  <a:lnTo>
                    <a:pt x="2593" y="448"/>
                  </a:lnTo>
                  <a:lnTo>
                    <a:pt x="2537" y="466"/>
                  </a:lnTo>
                  <a:lnTo>
                    <a:pt x="2482" y="484"/>
                  </a:lnTo>
                  <a:lnTo>
                    <a:pt x="2427" y="502"/>
                  </a:lnTo>
                  <a:lnTo>
                    <a:pt x="2374" y="522"/>
                  </a:lnTo>
                  <a:lnTo>
                    <a:pt x="2319" y="541"/>
                  </a:lnTo>
                  <a:lnTo>
                    <a:pt x="2266" y="561"/>
                  </a:lnTo>
                  <a:lnTo>
                    <a:pt x="2213" y="582"/>
                  </a:lnTo>
                  <a:lnTo>
                    <a:pt x="2161" y="601"/>
                  </a:lnTo>
                  <a:lnTo>
                    <a:pt x="2110" y="622"/>
                  </a:lnTo>
                  <a:lnTo>
                    <a:pt x="2058" y="643"/>
                  </a:lnTo>
                  <a:lnTo>
                    <a:pt x="2008" y="665"/>
                  </a:lnTo>
                  <a:lnTo>
                    <a:pt x="1958" y="686"/>
                  </a:lnTo>
                  <a:lnTo>
                    <a:pt x="1908" y="709"/>
                  </a:lnTo>
                  <a:lnTo>
                    <a:pt x="1859" y="731"/>
                  </a:lnTo>
                  <a:lnTo>
                    <a:pt x="1810" y="753"/>
                  </a:lnTo>
                  <a:lnTo>
                    <a:pt x="1762" y="776"/>
                  </a:lnTo>
                  <a:lnTo>
                    <a:pt x="1715" y="799"/>
                  </a:lnTo>
                  <a:lnTo>
                    <a:pt x="1668" y="822"/>
                  </a:lnTo>
                  <a:lnTo>
                    <a:pt x="1621" y="845"/>
                  </a:lnTo>
                  <a:lnTo>
                    <a:pt x="1575" y="869"/>
                  </a:lnTo>
                  <a:lnTo>
                    <a:pt x="1529" y="894"/>
                  </a:lnTo>
                  <a:lnTo>
                    <a:pt x="1485" y="918"/>
                  </a:lnTo>
                  <a:lnTo>
                    <a:pt x="1440" y="943"/>
                  </a:lnTo>
                  <a:lnTo>
                    <a:pt x="1397" y="968"/>
                  </a:lnTo>
                  <a:lnTo>
                    <a:pt x="1354" y="993"/>
                  </a:lnTo>
                  <a:lnTo>
                    <a:pt x="1310" y="1018"/>
                  </a:lnTo>
                  <a:lnTo>
                    <a:pt x="1268" y="1045"/>
                  </a:lnTo>
                  <a:lnTo>
                    <a:pt x="1228" y="1070"/>
                  </a:lnTo>
                  <a:lnTo>
                    <a:pt x="1186" y="1097"/>
                  </a:lnTo>
                  <a:lnTo>
                    <a:pt x="1146" y="1123"/>
                  </a:lnTo>
                  <a:lnTo>
                    <a:pt x="1107" y="1150"/>
                  </a:lnTo>
                  <a:lnTo>
                    <a:pt x="1068" y="1176"/>
                  </a:lnTo>
                  <a:lnTo>
                    <a:pt x="1028" y="1204"/>
                  </a:lnTo>
                  <a:lnTo>
                    <a:pt x="991" y="1232"/>
                  </a:lnTo>
                  <a:lnTo>
                    <a:pt x="954" y="1258"/>
                  </a:lnTo>
                  <a:lnTo>
                    <a:pt x="917" y="1286"/>
                  </a:lnTo>
                  <a:lnTo>
                    <a:pt x="882" y="1316"/>
                  </a:lnTo>
                  <a:lnTo>
                    <a:pt x="846" y="1344"/>
                  </a:lnTo>
                  <a:lnTo>
                    <a:pt x="812" y="1371"/>
                  </a:lnTo>
                  <a:lnTo>
                    <a:pt x="777" y="1401"/>
                  </a:lnTo>
                  <a:lnTo>
                    <a:pt x="744" y="1430"/>
                  </a:lnTo>
                  <a:lnTo>
                    <a:pt x="712" y="1459"/>
                  </a:lnTo>
                  <a:lnTo>
                    <a:pt x="680" y="1489"/>
                  </a:lnTo>
                  <a:lnTo>
                    <a:pt x="648" y="1518"/>
                  </a:lnTo>
                  <a:lnTo>
                    <a:pt x="617" y="1549"/>
                  </a:lnTo>
                  <a:lnTo>
                    <a:pt x="588" y="1578"/>
                  </a:lnTo>
                  <a:lnTo>
                    <a:pt x="558" y="1609"/>
                  </a:lnTo>
                  <a:lnTo>
                    <a:pt x="529" y="1639"/>
                  </a:lnTo>
                  <a:lnTo>
                    <a:pt x="501" y="1670"/>
                  </a:lnTo>
                  <a:lnTo>
                    <a:pt x="474" y="1701"/>
                  </a:lnTo>
                  <a:lnTo>
                    <a:pt x="448" y="1732"/>
                  </a:lnTo>
                  <a:lnTo>
                    <a:pt x="421" y="1764"/>
                  </a:lnTo>
                  <a:lnTo>
                    <a:pt x="396" y="1794"/>
                  </a:lnTo>
                  <a:lnTo>
                    <a:pt x="373" y="1826"/>
                  </a:lnTo>
                  <a:lnTo>
                    <a:pt x="349" y="1858"/>
                  </a:lnTo>
                  <a:lnTo>
                    <a:pt x="325" y="1889"/>
                  </a:lnTo>
                  <a:lnTo>
                    <a:pt x="303" y="1923"/>
                  </a:lnTo>
                  <a:lnTo>
                    <a:pt x="282" y="1955"/>
                  </a:lnTo>
                  <a:lnTo>
                    <a:pt x="261" y="1987"/>
                  </a:lnTo>
                  <a:lnTo>
                    <a:pt x="241" y="2019"/>
                  </a:lnTo>
                  <a:lnTo>
                    <a:pt x="222" y="2052"/>
                  </a:lnTo>
                  <a:lnTo>
                    <a:pt x="204" y="2086"/>
                  </a:lnTo>
                  <a:lnTo>
                    <a:pt x="186" y="2118"/>
                  </a:lnTo>
                  <a:lnTo>
                    <a:pt x="169" y="2152"/>
                  </a:lnTo>
                  <a:lnTo>
                    <a:pt x="152" y="2185"/>
                  </a:lnTo>
                  <a:lnTo>
                    <a:pt x="137" y="2219"/>
                  </a:lnTo>
                  <a:lnTo>
                    <a:pt x="123" y="2253"/>
                  </a:lnTo>
                  <a:lnTo>
                    <a:pt x="109" y="2287"/>
                  </a:lnTo>
                  <a:lnTo>
                    <a:pt x="96" y="2320"/>
                  </a:lnTo>
                  <a:lnTo>
                    <a:pt x="84" y="2355"/>
                  </a:lnTo>
                  <a:lnTo>
                    <a:pt x="73" y="2390"/>
                  </a:lnTo>
                  <a:lnTo>
                    <a:pt x="61" y="2424"/>
                  </a:lnTo>
                  <a:lnTo>
                    <a:pt x="52" y="2459"/>
                  </a:lnTo>
                  <a:lnTo>
                    <a:pt x="43" y="2493"/>
                  </a:lnTo>
                  <a:lnTo>
                    <a:pt x="35" y="2528"/>
                  </a:lnTo>
                  <a:lnTo>
                    <a:pt x="28" y="2563"/>
                  </a:lnTo>
                  <a:lnTo>
                    <a:pt x="21" y="2598"/>
                  </a:lnTo>
                  <a:lnTo>
                    <a:pt x="15" y="2634"/>
                  </a:lnTo>
                  <a:lnTo>
                    <a:pt x="11" y="2669"/>
                  </a:lnTo>
                  <a:lnTo>
                    <a:pt x="7" y="2706"/>
                  </a:lnTo>
                  <a:lnTo>
                    <a:pt x="4" y="2740"/>
                  </a:lnTo>
                  <a:lnTo>
                    <a:pt x="1" y="2777"/>
                  </a:lnTo>
                  <a:lnTo>
                    <a:pt x="0" y="2812"/>
                  </a:lnTo>
                  <a:lnTo>
                    <a:pt x="0" y="2848"/>
                  </a:lnTo>
                  <a:lnTo>
                    <a:pt x="0" y="2848"/>
                  </a:lnTo>
                  <a:lnTo>
                    <a:pt x="0" y="2884"/>
                  </a:lnTo>
                  <a:lnTo>
                    <a:pt x="1" y="2920"/>
                  </a:lnTo>
                  <a:lnTo>
                    <a:pt x="4" y="2955"/>
                  </a:lnTo>
                  <a:lnTo>
                    <a:pt x="7" y="2992"/>
                  </a:lnTo>
                  <a:lnTo>
                    <a:pt x="11" y="3027"/>
                  </a:lnTo>
                  <a:lnTo>
                    <a:pt x="15" y="3063"/>
                  </a:lnTo>
                  <a:lnTo>
                    <a:pt x="21" y="3098"/>
                  </a:lnTo>
                  <a:lnTo>
                    <a:pt x="28" y="3133"/>
                  </a:lnTo>
                  <a:lnTo>
                    <a:pt x="35" y="3167"/>
                  </a:lnTo>
                  <a:lnTo>
                    <a:pt x="43" y="3202"/>
                  </a:lnTo>
                  <a:lnTo>
                    <a:pt x="52" y="3237"/>
                  </a:lnTo>
                  <a:lnTo>
                    <a:pt x="61" y="3272"/>
                  </a:lnTo>
                  <a:lnTo>
                    <a:pt x="73" y="3307"/>
                  </a:lnTo>
                  <a:lnTo>
                    <a:pt x="84" y="3342"/>
                  </a:lnTo>
                  <a:lnTo>
                    <a:pt x="96" y="3375"/>
                  </a:lnTo>
                  <a:lnTo>
                    <a:pt x="109" y="3409"/>
                  </a:lnTo>
                  <a:lnTo>
                    <a:pt x="123" y="3444"/>
                  </a:lnTo>
                  <a:lnTo>
                    <a:pt x="137" y="3477"/>
                  </a:lnTo>
                  <a:lnTo>
                    <a:pt x="152" y="3511"/>
                  </a:lnTo>
                  <a:lnTo>
                    <a:pt x="169" y="3544"/>
                  </a:lnTo>
                  <a:lnTo>
                    <a:pt x="186" y="3578"/>
                  </a:lnTo>
                  <a:lnTo>
                    <a:pt x="204" y="3611"/>
                  </a:lnTo>
                  <a:lnTo>
                    <a:pt x="222" y="3645"/>
                  </a:lnTo>
                  <a:lnTo>
                    <a:pt x="241" y="3675"/>
                  </a:lnTo>
                  <a:lnTo>
                    <a:pt x="261" y="3707"/>
                  </a:lnTo>
                  <a:lnTo>
                    <a:pt x="282" y="3741"/>
                  </a:lnTo>
                  <a:lnTo>
                    <a:pt x="303" y="3773"/>
                  </a:lnTo>
                  <a:lnTo>
                    <a:pt x="325" y="3805"/>
                  </a:lnTo>
                  <a:lnTo>
                    <a:pt x="349" y="3837"/>
                  </a:lnTo>
                  <a:lnTo>
                    <a:pt x="373" y="3869"/>
                  </a:lnTo>
                  <a:lnTo>
                    <a:pt x="396" y="3900"/>
                  </a:lnTo>
                  <a:lnTo>
                    <a:pt x="421" y="3932"/>
                  </a:lnTo>
                  <a:lnTo>
                    <a:pt x="448" y="3963"/>
                  </a:lnTo>
                  <a:lnTo>
                    <a:pt x="474" y="3995"/>
                  </a:lnTo>
                  <a:lnTo>
                    <a:pt x="501" y="4026"/>
                  </a:lnTo>
                  <a:lnTo>
                    <a:pt x="529" y="4056"/>
                  </a:lnTo>
                  <a:lnTo>
                    <a:pt x="558" y="4087"/>
                  </a:lnTo>
                  <a:lnTo>
                    <a:pt x="588" y="4116"/>
                  </a:lnTo>
                  <a:lnTo>
                    <a:pt x="617" y="4147"/>
                  </a:lnTo>
                  <a:lnTo>
                    <a:pt x="648" y="4176"/>
                  </a:lnTo>
                  <a:lnTo>
                    <a:pt x="680" y="4207"/>
                  </a:lnTo>
                  <a:lnTo>
                    <a:pt x="712" y="4236"/>
                  </a:lnTo>
                  <a:lnTo>
                    <a:pt x="744" y="4266"/>
                  </a:lnTo>
                  <a:lnTo>
                    <a:pt x="777" y="4294"/>
                  </a:lnTo>
                  <a:lnTo>
                    <a:pt x="812" y="4323"/>
                  </a:lnTo>
                  <a:lnTo>
                    <a:pt x="846" y="4352"/>
                  </a:lnTo>
                  <a:lnTo>
                    <a:pt x="882" y="4380"/>
                  </a:lnTo>
                  <a:lnTo>
                    <a:pt x="917" y="4408"/>
                  </a:lnTo>
                  <a:lnTo>
                    <a:pt x="954" y="4436"/>
                  </a:lnTo>
                  <a:lnTo>
                    <a:pt x="991" y="4464"/>
                  </a:lnTo>
                  <a:lnTo>
                    <a:pt x="1028" y="4492"/>
                  </a:lnTo>
                  <a:lnTo>
                    <a:pt x="1068" y="4518"/>
                  </a:lnTo>
                  <a:lnTo>
                    <a:pt x="1107" y="4545"/>
                  </a:lnTo>
                  <a:lnTo>
                    <a:pt x="1146" y="4573"/>
                  </a:lnTo>
                  <a:lnTo>
                    <a:pt x="1186" y="4598"/>
                  </a:lnTo>
                  <a:lnTo>
                    <a:pt x="1228" y="4624"/>
                  </a:lnTo>
                  <a:lnTo>
                    <a:pt x="1268" y="4651"/>
                  </a:lnTo>
                  <a:lnTo>
                    <a:pt x="1310" y="4676"/>
                  </a:lnTo>
                  <a:lnTo>
                    <a:pt x="1354" y="4702"/>
                  </a:lnTo>
                  <a:lnTo>
                    <a:pt x="1397" y="4728"/>
                  </a:lnTo>
                  <a:lnTo>
                    <a:pt x="1440" y="4753"/>
                  </a:lnTo>
                  <a:lnTo>
                    <a:pt x="1485" y="4776"/>
                  </a:lnTo>
                  <a:lnTo>
                    <a:pt x="1529" y="4802"/>
                  </a:lnTo>
                  <a:lnTo>
                    <a:pt x="1575" y="4825"/>
                  </a:lnTo>
                  <a:lnTo>
                    <a:pt x="1621" y="4849"/>
                  </a:lnTo>
                  <a:lnTo>
                    <a:pt x="1668" y="4873"/>
                  </a:lnTo>
                  <a:lnTo>
                    <a:pt x="1715" y="4896"/>
                  </a:lnTo>
                  <a:lnTo>
                    <a:pt x="1762" y="4919"/>
                  </a:lnTo>
                  <a:lnTo>
                    <a:pt x="1810" y="4942"/>
                  </a:lnTo>
                  <a:lnTo>
                    <a:pt x="1859" y="4965"/>
                  </a:lnTo>
                  <a:lnTo>
                    <a:pt x="1908" y="4987"/>
                  </a:lnTo>
                  <a:lnTo>
                    <a:pt x="1958" y="5008"/>
                  </a:lnTo>
                  <a:lnTo>
                    <a:pt x="2008" y="5030"/>
                  </a:lnTo>
                  <a:lnTo>
                    <a:pt x="2058" y="5051"/>
                  </a:lnTo>
                  <a:lnTo>
                    <a:pt x="2110" y="5072"/>
                  </a:lnTo>
                  <a:lnTo>
                    <a:pt x="2161" y="5093"/>
                  </a:lnTo>
                  <a:lnTo>
                    <a:pt x="2213" y="5114"/>
                  </a:lnTo>
                  <a:lnTo>
                    <a:pt x="2266" y="5134"/>
                  </a:lnTo>
                  <a:lnTo>
                    <a:pt x="2319" y="5153"/>
                  </a:lnTo>
                  <a:lnTo>
                    <a:pt x="2374" y="5173"/>
                  </a:lnTo>
                  <a:lnTo>
                    <a:pt x="2427" y="5192"/>
                  </a:lnTo>
                  <a:lnTo>
                    <a:pt x="2482" y="5212"/>
                  </a:lnTo>
                  <a:lnTo>
                    <a:pt x="2537" y="5230"/>
                  </a:lnTo>
                  <a:lnTo>
                    <a:pt x="2593" y="5248"/>
                  </a:lnTo>
                  <a:lnTo>
                    <a:pt x="2648" y="5266"/>
                  </a:lnTo>
                  <a:lnTo>
                    <a:pt x="2704" y="5283"/>
                  </a:lnTo>
                  <a:lnTo>
                    <a:pt x="2761" y="5301"/>
                  </a:lnTo>
                  <a:lnTo>
                    <a:pt x="2819" y="5318"/>
                  </a:lnTo>
                  <a:lnTo>
                    <a:pt x="2876" y="5335"/>
                  </a:lnTo>
                  <a:lnTo>
                    <a:pt x="2935" y="5350"/>
                  </a:lnTo>
                  <a:lnTo>
                    <a:pt x="2993" y="5367"/>
                  </a:lnTo>
                  <a:lnTo>
                    <a:pt x="3052" y="5382"/>
                  </a:lnTo>
                  <a:lnTo>
                    <a:pt x="3110" y="5397"/>
                  </a:lnTo>
                  <a:lnTo>
                    <a:pt x="3170" y="5413"/>
                  </a:lnTo>
                  <a:lnTo>
                    <a:pt x="3230" y="5427"/>
                  </a:lnTo>
                  <a:lnTo>
                    <a:pt x="3290" y="5441"/>
                  </a:lnTo>
                  <a:lnTo>
                    <a:pt x="3352" y="5455"/>
                  </a:lnTo>
                  <a:lnTo>
                    <a:pt x="3413" y="5469"/>
                  </a:lnTo>
                  <a:lnTo>
                    <a:pt x="3475" y="5481"/>
                  </a:lnTo>
                  <a:lnTo>
                    <a:pt x="3537" y="5494"/>
                  </a:lnTo>
                  <a:lnTo>
                    <a:pt x="3599" y="5506"/>
                  </a:lnTo>
                  <a:lnTo>
                    <a:pt x="3662" y="5519"/>
                  </a:lnTo>
                  <a:lnTo>
                    <a:pt x="3724" y="5530"/>
                  </a:lnTo>
                  <a:lnTo>
                    <a:pt x="3788" y="5541"/>
                  </a:lnTo>
                  <a:lnTo>
                    <a:pt x="3853" y="5552"/>
                  </a:lnTo>
                  <a:lnTo>
                    <a:pt x="3915" y="5563"/>
                  </a:lnTo>
                  <a:lnTo>
                    <a:pt x="3981" y="5573"/>
                  </a:lnTo>
                  <a:lnTo>
                    <a:pt x="4045" y="5583"/>
                  </a:lnTo>
                  <a:lnTo>
                    <a:pt x="4111" y="5593"/>
                  </a:lnTo>
                  <a:lnTo>
                    <a:pt x="4176" y="5601"/>
                  </a:lnTo>
                  <a:lnTo>
                    <a:pt x="4242" y="5610"/>
                  </a:lnTo>
                  <a:lnTo>
                    <a:pt x="4308" y="5618"/>
                  </a:lnTo>
                  <a:lnTo>
                    <a:pt x="4373" y="5626"/>
                  </a:lnTo>
                  <a:lnTo>
                    <a:pt x="4440" y="5633"/>
                  </a:lnTo>
                  <a:lnTo>
                    <a:pt x="4507" y="5640"/>
                  </a:lnTo>
                  <a:lnTo>
                    <a:pt x="4574" y="5647"/>
                  </a:lnTo>
                  <a:lnTo>
                    <a:pt x="4642" y="5653"/>
                  </a:lnTo>
                  <a:lnTo>
                    <a:pt x="4709" y="5658"/>
                  </a:lnTo>
                  <a:lnTo>
                    <a:pt x="4778" y="5664"/>
                  </a:lnTo>
                  <a:lnTo>
                    <a:pt x="4846" y="5670"/>
                  </a:lnTo>
                  <a:lnTo>
                    <a:pt x="4915" y="5674"/>
                  </a:lnTo>
                  <a:lnTo>
                    <a:pt x="4983" y="5678"/>
                  </a:lnTo>
                  <a:lnTo>
                    <a:pt x="5053" y="5681"/>
                  </a:lnTo>
                  <a:lnTo>
                    <a:pt x="5122" y="5685"/>
                  </a:lnTo>
                  <a:lnTo>
                    <a:pt x="5191" y="5688"/>
                  </a:lnTo>
                  <a:lnTo>
                    <a:pt x="5261" y="5690"/>
                  </a:lnTo>
                  <a:lnTo>
                    <a:pt x="5332" y="5692"/>
                  </a:lnTo>
                  <a:lnTo>
                    <a:pt x="5402" y="5693"/>
                  </a:lnTo>
                  <a:lnTo>
                    <a:pt x="5471" y="5695"/>
                  </a:lnTo>
                  <a:lnTo>
                    <a:pt x="5542" y="5695"/>
                  </a:lnTo>
                  <a:lnTo>
                    <a:pt x="5614" y="5696"/>
                  </a:lnTo>
                  <a:lnTo>
                    <a:pt x="5614" y="5696"/>
                  </a:lnTo>
                  <a:close/>
                </a:path>
              </a:pathLst>
            </a:custGeom>
            <a:solidFill>
              <a:srgbClr val="30517c"/>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3604" name=""/>
          <p:cNvSpPr/>
          <p:nvPr/>
        </p:nvSpPr>
        <p:spPr>
          <a:xfrm>
            <a:off x="1218600" y="1873080"/>
            <a:ext cx="193500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cf00"/>
                </a:solidFill>
                <a:latin typeface="Arial"/>
              </a:rPr>
              <a:t>133% Increase</a:t>
            </a:r>
            <a:endParaRPr b="0" lang="en-US" sz="2000" spc="-1" strike="noStrike">
              <a:solidFill>
                <a:srgbClr val="ffffff"/>
              </a:solidFill>
              <a:latin typeface="Times New Roman"/>
            </a:endParaRPr>
          </a:p>
        </p:txBody>
      </p:sp>
      <p:sp>
        <p:nvSpPr>
          <p:cNvPr id="3605" name=""/>
          <p:cNvSpPr/>
          <p:nvPr/>
        </p:nvSpPr>
        <p:spPr>
          <a:xfrm>
            <a:off x="4495680" y="1981080"/>
            <a:ext cx="374832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cf00"/>
                </a:solidFill>
                <a:latin typeface="Arial"/>
              </a:rPr>
              <a:t>3DES Performance</a:t>
            </a:r>
            <a:endParaRPr b="0" lang="en-US" sz="1600" spc="-1" strike="noStrike">
              <a:solidFill>
                <a:srgbClr val="ffffff"/>
              </a:solidFill>
              <a:latin typeface="Times New Roman"/>
            </a:endParaRPr>
          </a:p>
        </p:txBody>
      </p:sp>
      <p:sp>
        <p:nvSpPr>
          <p:cNvPr id="3606" name=""/>
          <p:cNvSpPr/>
          <p:nvPr/>
        </p:nvSpPr>
        <p:spPr>
          <a:xfrm>
            <a:off x="5409360" y="2406600"/>
            <a:ext cx="193500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cf00"/>
                </a:solidFill>
                <a:latin typeface="Arial"/>
              </a:rPr>
              <a:t>250% Increase</a:t>
            </a:r>
            <a:endParaRPr b="0" lang="en-US" sz="2000" spc="-1" strike="noStrike">
              <a:solidFill>
                <a:srgbClr val="ffffff"/>
              </a:solidFill>
              <a:latin typeface="Times New Roman"/>
            </a:endParaRPr>
          </a:p>
        </p:txBody>
      </p:sp>
      <p:grpSp>
        <p:nvGrpSpPr>
          <p:cNvPr id="3607" name=""/>
          <p:cNvGrpSpPr/>
          <p:nvPr/>
        </p:nvGrpSpPr>
        <p:grpSpPr>
          <a:xfrm>
            <a:off x="304920" y="1886040"/>
            <a:ext cx="4197240" cy="3644640"/>
            <a:chOff x="304920" y="1886040"/>
            <a:chExt cx="4197240" cy="3644640"/>
          </a:xfrm>
        </p:grpSpPr>
        <p:sp>
          <p:nvSpPr>
            <p:cNvPr id="3608" name=""/>
            <p:cNvSpPr/>
            <p:nvPr/>
          </p:nvSpPr>
          <p:spPr>
            <a:xfrm>
              <a:off x="304920" y="4724280"/>
              <a:ext cx="4197240" cy="609840"/>
            </a:xfrm>
            <a:prstGeom prst="ellipse">
              <a:avLst/>
            </a:prstGeom>
            <a:gradFill rotWithShape="0">
              <a:gsLst>
                <a:gs pos="0">
                  <a:srgbClr val="162539"/>
                </a:gs>
                <a:gs pos="100000">
                  <a:srgbClr val="30517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609" name=""/>
            <p:cNvGraphicFramePr/>
            <p:nvPr/>
          </p:nvGraphicFramePr>
          <p:xfrm>
            <a:off x="457200" y="1886040"/>
            <a:ext cx="3733920" cy="3644640"/>
          </p:xfrm>
          <a:graphic>
            <a:graphicData uri="http://schemas.openxmlformats.org/presentationml/2006/ole">
              <p:oleObj r:id="rId3" spid="">
                <p:embed/>
                <p:pic>
                  <p:nvPicPr>
                    <p:cNvPr id="3610" name="" descr=""/>
                    <p:cNvPicPr/>
                    <p:nvPr/>
                  </p:nvPicPr>
                  <p:blipFill>
                    <a:blip r:embed="rId4"/>
                    <a:stretch/>
                  </p:blipFill>
                  <p:spPr>
                    <a:xfrm>
                      <a:off x="457200" y="1886040"/>
                      <a:ext cx="3733920" cy="3644640"/>
                    </a:xfrm>
                    <a:prstGeom prst="rect">
                      <a:avLst/>
                    </a:prstGeom>
                    <a:ln w="0">
                      <a:noFill/>
                    </a:ln>
                  </p:spPr>
                </p:pic>
              </p:oleObj>
            </a:graphicData>
          </a:graphic>
        </p:graphicFrame>
        <p:sp>
          <p:nvSpPr>
            <p:cNvPr id="3611" name=""/>
            <p:cNvSpPr/>
            <p:nvPr/>
          </p:nvSpPr>
          <p:spPr>
            <a:xfrm rot="16200000">
              <a:off x="-333720" y="3382920"/>
              <a:ext cx="161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roughput  (Mbps)</a:t>
              </a:r>
              <a:endParaRPr b="0" lang="en-US" sz="1200" spc="-1" strike="noStrike">
                <a:solidFill>
                  <a:srgbClr val="ffffff"/>
                </a:solidFill>
                <a:latin typeface="Times New Roman"/>
              </a:endParaRPr>
            </a:p>
          </p:txBody>
        </p:sp>
      </p:grpSp>
      <p:grpSp>
        <p:nvGrpSpPr>
          <p:cNvPr id="3612" name=""/>
          <p:cNvGrpSpPr/>
          <p:nvPr/>
        </p:nvGrpSpPr>
        <p:grpSpPr>
          <a:xfrm>
            <a:off x="4602240" y="2571840"/>
            <a:ext cx="4243320" cy="3676680"/>
            <a:chOff x="4602240" y="2571840"/>
            <a:chExt cx="4243320" cy="3676680"/>
          </a:xfrm>
        </p:grpSpPr>
        <p:sp>
          <p:nvSpPr>
            <p:cNvPr id="3613" name=""/>
            <p:cNvSpPr/>
            <p:nvPr/>
          </p:nvSpPr>
          <p:spPr>
            <a:xfrm>
              <a:off x="4648320" y="5410080"/>
              <a:ext cx="4197240" cy="609840"/>
            </a:xfrm>
            <a:prstGeom prst="ellipse">
              <a:avLst/>
            </a:prstGeom>
            <a:gradFill rotWithShape="0">
              <a:gsLst>
                <a:gs pos="0">
                  <a:srgbClr val="162539"/>
                </a:gs>
                <a:gs pos="100000">
                  <a:srgbClr val="30517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614" name=""/>
            <p:cNvGraphicFramePr/>
            <p:nvPr/>
          </p:nvGraphicFramePr>
          <p:xfrm>
            <a:off x="4800600" y="2571840"/>
            <a:ext cx="3809880" cy="3676680"/>
          </p:xfrm>
          <a:graphic>
            <a:graphicData uri="http://schemas.openxmlformats.org/presentationml/2006/ole">
              <p:oleObj r:id="rId5" spid="">
                <p:embed/>
                <p:pic>
                  <p:nvPicPr>
                    <p:cNvPr id="3615" name="" descr=""/>
                    <p:cNvPicPr/>
                    <p:nvPr/>
                  </p:nvPicPr>
                  <p:blipFill>
                    <a:blip r:embed="rId6"/>
                    <a:stretch/>
                  </p:blipFill>
                  <p:spPr>
                    <a:xfrm>
                      <a:off x="4800600" y="2571840"/>
                      <a:ext cx="3809880" cy="3676680"/>
                    </a:xfrm>
                    <a:prstGeom prst="rect">
                      <a:avLst/>
                    </a:prstGeom>
                    <a:ln w="0">
                      <a:noFill/>
                    </a:ln>
                  </p:spPr>
                </p:pic>
              </p:oleObj>
            </a:graphicData>
          </a:graphic>
        </p:graphicFrame>
        <p:sp>
          <p:nvSpPr>
            <p:cNvPr id="3616" name=""/>
            <p:cNvSpPr/>
            <p:nvPr/>
          </p:nvSpPr>
          <p:spPr>
            <a:xfrm rot="16200000">
              <a:off x="3931560" y="4076640"/>
              <a:ext cx="161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roughput  (Mbps)</a:t>
              </a:r>
              <a:endParaRPr b="0" lang="en-US" sz="1200" spc="-1" strike="noStrike">
                <a:solidFill>
                  <a:srgbClr val="ffffff"/>
                </a:solidFill>
                <a:latin typeface="Times New Roman"/>
              </a:endParaRPr>
            </a:p>
          </p:txBody>
        </p:sp>
      </p:grpSp>
      <p:sp>
        <p:nvSpPr>
          <p:cNvPr id="3617" name=""/>
          <p:cNvSpPr/>
          <p:nvPr/>
        </p:nvSpPr>
        <p:spPr>
          <a:xfrm>
            <a:off x="7468560" y="6400800"/>
            <a:ext cx="1488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 Intel Lab 6/99</a:t>
            </a:r>
            <a:endParaRPr b="0" lang="en-US" sz="1000" spc="-1" strike="noStrike">
              <a:solidFill>
                <a:srgbClr val="ffffff"/>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8" name="PlaceHolder 1"/>
          <p:cNvSpPr>
            <a:spLocks noGrp="1"/>
          </p:cNvSpPr>
          <p:nvPr>
            <p:ph type="title"/>
          </p:nvPr>
        </p:nvSpPr>
        <p:spPr>
          <a:xfrm>
            <a:off x="365040" y="228240"/>
            <a:ext cx="8431200" cy="586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f00"/>
                </a:solidFill>
                <a:latin typeface="Arial"/>
              </a:rPr>
              <a:t>Offload Card Features Differ</a:t>
            </a:r>
            <a:endParaRPr b="1" lang="en-US" sz="3600" spc="-1" strike="noStrike">
              <a:solidFill>
                <a:srgbClr val="fccf00"/>
              </a:solidFill>
              <a:latin typeface="Arial"/>
            </a:endParaRPr>
          </a:p>
        </p:txBody>
      </p:sp>
      <p:sp>
        <p:nvSpPr>
          <p:cNvPr id="3619" name="PlaceHolder 2"/>
          <p:cNvSpPr>
            <a:spLocks noGrp="1"/>
          </p:cNvSpPr>
          <p:nvPr>
            <p:ph/>
          </p:nvPr>
        </p:nvSpPr>
        <p:spPr>
          <a:xfrm>
            <a:off x="228600" y="998280"/>
            <a:ext cx="8415360" cy="55436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Com Etherlink* 10/100 PCI LAN Card</a:t>
            </a:r>
            <a:endParaRPr b="1" lang="en-US" sz="3200" spc="-1" strike="noStrike">
              <a:solidFill>
                <a:srgbClr val="ffffff"/>
              </a:solidFill>
              <a:latin typeface="Arial"/>
            </a:endParaRPr>
          </a:p>
          <a:p>
            <a:pPr lvl="1" marL="1019880" indent="-44604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PSec AH, ESP, AH+ESP, transport and tunnel mode</a:t>
            </a:r>
            <a:endParaRPr b="1" lang="en-US" sz="2400" spc="-1" strike="noStrike">
              <a:solidFill>
                <a:srgbClr val="ffffff"/>
              </a:solidFill>
              <a:latin typeface="Arial"/>
            </a:endParaRPr>
          </a:p>
          <a:p>
            <a:pPr lvl="1" marL="1019880" indent="-44604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P/TCP checksum &amp; large TCP send when no IPSec policy</a:t>
            </a:r>
            <a:endParaRPr b="1" lang="en-US" sz="2400" spc="-1" strike="noStrike">
              <a:solidFill>
                <a:srgbClr val="ffffff"/>
              </a:solidFill>
              <a:latin typeface="Arial"/>
            </a:endParaRPr>
          </a:p>
          <a:p>
            <a:pPr lvl="1" marL="1019880" indent="-44604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Server have different # of SAs</a:t>
            </a:r>
            <a:endParaRPr b="1" lang="en-US" sz="24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l Pro 100 S PCI LAN Card</a:t>
            </a:r>
            <a:endParaRPr b="1" lang="en-US" sz="3200" spc="-1" strike="noStrike">
              <a:solidFill>
                <a:srgbClr val="ffffff"/>
              </a:solidFill>
              <a:latin typeface="Arial"/>
            </a:endParaRPr>
          </a:p>
          <a:p>
            <a:pPr lvl="1" marL="1019880" indent="-44604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PSec AH, ESP, AH+ESP transport mode</a:t>
            </a:r>
            <a:endParaRPr b="1" lang="en-US" sz="2400" spc="-1" strike="noStrike">
              <a:solidFill>
                <a:srgbClr val="ffffff"/>
              </a:solidFill>
              <a:latin typeface="Arial"/>
            </a:endParaRPr>
          </a:p>
          <a:p>
            <a:pPr lvl="1" marL="1019880" indent="-44604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Server have different # of SAs</a:t>
            </a:r>
            <a:endParaRPr b="1" lang="en-US" sz="24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ndows 2000 allows NIC drivers to manage SAs in different ways</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 performance strength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0" name="PlaceHolder 1"/>
          <p:cNvSpPr>
            <a:spLocks noGrp="1"/>
          </p:cNvSpPr>
          <p:nvPr>
            <p:ph type="title"/>
          </p:nvPr>
        </p:nvSpPr>
        <p:spPr>
          <a:xfrm>
            <a:off x="365040" y="228240"/>
            <a:ext cx="8431200" cy="53100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cf00"/>
                </a:solidFill>
                <a:latin typeface="Arial"/>
              </a:rPr>
              <a:t>IPSec Offload Scaling Considerations</a:t>
            </a:r>
            <a:endParaRPr b="1" lang="en-US" sz="3200" spc="-1" strike="noStrike">
              <a:solidFill>
                <a:srgbClr val="fccf00"/>
              </a:solidFill>
              <a:latin typeface="Arial"/>
            </a:endParaRPr>
          </a:p>
        </p:txBody>
      </p:sp>
      <p:sp>
        <p:nvSpPr>
          <p:cNvPr id="3621" name="PlaceHolder 2"/>
          <p:cNvSpPr>
            <a:spLocks noGrp="1"/>
          </p:cNvSpPr>
          <p:nvPr>
            <p:ph/>
          </p:nvPr>
        </p:nvSpPr>
        <p:spPr>
          <a:xfrm>
            <a:off x="228240" y="998280"/>
            <a:ext cx="8915400" cy="6811200"/>
          </a:xfrm>
          <a:prstGeom prst="rect">
            <a:avLst/>
          </a:prstGeom>
          <a:noFill/>
          <a:ln w="0">
            <a:noFill/>
          </a:ln>
        </p:spPr>
        <p:txBody>
          <a:bodyPr lIns="182520" rIns="182520" tIns="46080" bIns="46080" anchor="t">
            <a:normAutofit/>
          </a:bodyPr>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Sec SAs are always in pairs</a:t>
            </a:r>
            <a:endParaRPr b="1" lang="en-US" sz="2400" spc="-1" strike="noStrike">
              <a:solidFill>
                <a:srgbClr val="ffffff"/>
              </a:solidFill>
              <a:latin typeface="Arial"/>
            </a:endParaRPr>
          </a:p>
          <a:p>
            <a:pPr lvl="1" marL="1030320" indent="-4507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for inbound SA, 1 for outbound SA</a:t>
            </a:r>
            <a:endParaRPr b="1" lang="en-US" sz="2000" spc="-1" strike="noStrike">
              <a:solidFill>
                <a:srgbClr val="ffffff"/>
              </a:solidFill>
              <a:latin typeface="Arial"/>
            </a:endParaRPr>
          </a:p>
          <a:p>
            <a:pPr lvl="1" marL="1030320" indent="-4507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L2TP/IPSec tunnel requires 2 IPSec transport SAs</a:t>
            </a:r>
            <a:endParaRPr b="1" lang="en-US" sz="2000" spc="-1" strike="noStrike">
              <a:solidFill>
                <a:srgbClr val="ffffff"/>
              </a:solidFill>
              <a:latin typeface="Arial"/>
            </a:endParaRPr>
          </a:p>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 Side Offload Capacity</a:t>
            </a:r>
            <a:endParaRPr b="1" lang="en-US" sz="2400" spc="-1" strike="noStrike">
              <a:solidFill>
                <a:srgbClr val="ffffff"/>
              </a:solidFill>
              <a:latin typeface="Arial"/>
            </a:endParaRPr>
          </a:p>
          <a:p>
            <a:pPr lvl="1" marL="1030320" indent="-4507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 could support 4,000+ clients</a:t>
            </a:r>
            <a:endParaRPr b="1" lang="en-US" sz="2000" spc="-1" strike="noStrike">
              <a:solidFill>
                <a:srgbClr val="ffffff"/>
              </a:solidFill>
              <a:latin typeface="Arial"/>
            </a:endParaRPr>
          </a:p>
          <a:p>
            <a:pPr lvl="2" marL="1498680" indent="-4669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NIC encryption rate ~ 80Mbits/sec</a:t>
            </a:r>
            <a:endParaRPr b="1" lang="en-US" sz="2000" spc="-1" strike="noStrike">
              <a:solidFill>
                <a:srgbClr val="ffffff"/>
              </a:solidFill>
              <a:latin typeface="Arial"/>
            </a:endParaRPr>
          </a:p>
          <a:p>
            <a:pPr lvl="2" marL="1498680" indent="-4669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all clients used consistent avg ~20kbits/sec</a:t>
            </a:r>
            <a:endParaRPr b="1" lang="en-US" sz="2000" spc="-1" strike="noStrike">
              <a:solidFill>
                <a:srgbClr val="ffffff"/>
              </a:solidFill>
              <a:latin typeface="Arial"/>
            </a:endParaRPr>
          </a:p>
          <a:p>
            <a:pPr lvl="2" marL="1498680" indent="-4669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t 1 NIC may only accelerate 2000 SAs (1000 client connections)</a:t>
            </a:r>
            <a:endParaRPr b="1" lang="en-US" sz="2000" spc="-1" strike="noStrike">
              <a:solidFill>
                <a:srgbClr val="ffffff"/>
              </a:solidFill>
              <a:latin typeface="Arial"/>
            </a:endParaRPr>
          </a:p>
          <a:p>
            <a:pPr lvl="2" marL="1498680" indent="-4669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3000 clients may be connected but idle</a:t>
            </a:r>
            <a:endParaRPr b="1" lang="en-US" sz="2000" spc="-1" strike="noStrike">
              <a:solidFill>
                <a:srgbClr val="ffffff"/>
              </a:solidFill>
              <a:latin typeface="Arial"/>
            </a:endParaRPr>
          </a:p>
          <a:p>
            <a:pPr lvl="2" marL="1498680" indent="-4669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LAN clients could receive at 8 Mbits/sec</a:t>
            </a:r>
            <a:endParaRPr b="1" lang="en-US" sz="2000" spc="-1" strike="noStrike">
              <a:solidFill>
                <a:srgbClr val="ffffff"/>
              </a:solidFill>
              <a:latin typeface="Arial"/>
            </a:endParaRPr>
          </a:p>
          <a:p>
            <a:pPr lvl="2" marL="1498680" indent="-4669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ider multi-NIC configuration, multiple CPU</a:t>
            </a:r>
            <a:endParaRPr b="1" lang="en-US" sz="2000" spc="-1" strike="noStrike">
              <a:solidFill>
                <a:srgbClr val="ffffff"/>
              </a:solidFill>
              <a:latin typeface="Arial"/>
            </a:endParaRPr>
          </a:p>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your communications scenario</a:t>
            </a:r>
            <a:endParaRPr b="1" lang="en-US" sz="2400" spc="-1" strike="noStrike">
              <a:solidFill>
                <a:srgbClr val="ffffff"/>
              </a:solidFill>
              <a:latin typeface="Arial"/>
            </a:endParaRPr>
          </a:p>
          <a:p>
            <a:pPr lvl="1" marL="1030320" indent="-4507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fmon counter interface bytes/sec</a:t>
            </a:r>
            <a:endParaRPr b="1" lang="en-US" sz="2000" spc="-1" strike="noStrike">
              <a:solidFill>
                <a:srgbClr val="ffffff"/>
              </a:solidFill>
              <a:latin typeface="Arial"/>
            </a:endParaRPr>
          </a:p>
          <a:p>
            <a:pPr lvl="1" marL="1030320" indent="-45072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us accounting tracks call duration &amp; bytes tx for VPN servers</a:t>
            </a:r>
            <a:endParaRPr b="1" lang="en-US" sz="2000" spc="-1" strike="noStrike">
              <a:solidFill>
                <a:srgbClr val="ffffff"/>
              </a:solidFill>
              <a:latin typeface="Arial"/>
            </a:endParaRPr>
          </a:p>
          <a:p>
            <a:pPr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3032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2" name="6_97%20tagline" descr=""/>
          <p:cNvPicPr/>
          <p:nvPr/>
        </p:nvPicPr>
        <p:blipFill>
          <a:blip r:embed="rId2"/>
          <a:srcRect l="28942" t="29055" r="24183" b="28752"/>
          <a:stretch/>
        </p:blipFill>
        <p:spPr>
          <a:xfrm>
            <a:off x="1569960" y="1050840"/>
            <a:ext cx="6248520" cy="421956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3" name="PlaceHolder 1"/>
          <p:cNvSpPr>
            <a:spLocks noGrp="1"/>
          </p:cNvSpPr>
          <p:nvPr>
            <p:ph type="title"/>
          </p:nvPr>
        </p:nvSpPr>
        <p:spPr>
          <a:xfrm>
            <a:off x="284040" y="185760"/>
            <a:ext cx="77724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For More Information</a:t>
            </a:r>
            <a:endParaRPr b="1" lang="en-US" sz="4800" spc="-1" strike="noStrike">
              <a:solidFill>
                <a:srgbClr val="fccf00"/>
              </a:solidFill>
              <a:latin typeface="Arial"/>
            </a:endParaRPr>
          </a:p>
        </p:txBody>
      </p:sp>
      <p:sp>
        <p:nvSpPr>
          <p:cNvPr id="3624" name="PlaceHolder 2"/>
          <p:cNvSpPr>
            <a:spLocks noGrp="1"/>
          </p:cNvSpPr>
          <p:nvPr>
            <p:ph/>
          </p:nvPr>
        </p:nvSpPr>
        <p:spPr>
          <a:xfrm>
            <a:off x="442800" y="992160"/>
            <a:ext cx="8415360" cy="5672160"/>
          </a:xfrm>
          <a:prstGeom prst="rect">
            <a:avLst/>
          </a:prstGeom>
          <a:noFill/>
          <a:ln w="0">
            <a:noFill/>
          </a:ln>
        </p:spPr>
        <p:txBody>
          <a:bodyPr lIns="182520" rIns="182520" tIns="46080" bIns="46080" anchor="t">
            <a:normAutofit/>
          </a:bodyPr>
          <a:p>
            <a:pPr>
              <a:lnSpc>
                <a:spcPct val="8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soft Resources</a:t>
            </a:r>
            <a:endParaRPr b="1" lang="en-US" sz="2400" spc="-1" strike="noStrike">
              <a:solidFill>
                <a:srgbClr val="ffffff"/>
              </a:solidFill>
              <a:latin typeface="Arial"/>
            </a:endParaRPr>
          </a:p>
          <a:p>
            <a:pPr lvl="1" marL="492120" indent="-290520">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Sec technical walkthrough &amp; whitepaper:</a:t>
            </a:r>
            <a:endParaRPr b="1" lang="en-US" sz="1800" spc="-1" strike="noStrike">
              <a:solidFill>
                <a:srgbClr val="ffffff"/>
              </a:solidFill>
              <a:latin typeface="Arial"/>
            </a:endParaRPr>
          </a:p>
          <a:p>
            <a:pPr lvl="2" marL="784080" indent="-290520">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7c80"/>
                </a:solidFill>
                <a:uFillTx/>
                <a:latin typeface="Arial"/>
                <a:hlinkClick r:id="rId2"/>
              </a:rPr>
              <a:t>http://www.microsoft.com/windows2000/library/technologies/security/default.asp</a:t>
            </a:r>
            <a:endParaRPr b="1" lang="en-US" sz="1800" spc="-1" strike="noStrike">
              <a:solidFill>
                <a:srgbClr val="ffffff"/>
              </a:solidFill>
              <a:latin typeface="Arial"/>
            </a:endParaRPr>
          </a:p>
          <a:p>
            <a:pPr lvl="1" marL="492120" indent="-290520">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ity focus site: </a:t>
            </a:r>
            <a:r>
              <a:rPr b="1" lang="en-US" sz="1800" spc="-1" strike="noStrike" u="sng">
                <a:solidFill>
                  <a:srgbClr val="ff7c80"/>
                </a:solidFill>
                <a:uFillTx/>
                <a:latin typeface="Arial"/>
                <a:hlinkClick r:id="rId3"/>
              </a:rPr>
              <a:t>http://www.microsoft.com/security</a:t>
            </a:r>
            <a:endParaRPr b="1" lang="en-US" sz="1800" spc="-1" strike="noStrike">
              <a:solidFill>
                <a:srgbClr val="ffffff"/>
              </a:solidFill>
              <a:latin typeface="Arial"/>
            </a:endParaRPr>
          </a:p>
          <a:p>
            <a:pPr lvl="1" marL="492120" indent="-290520">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ing focus site: </a:t>
            </a:r>
            <a:r>
              <a:rPr b="1" lang="en-US" sz="1800" spc="-1" strike="noStrike" u="sng">
                <a:solidFill>
                  <a:srgbClr val="ff7c80"/>
                </a:solidFill>
                <a:uFillTx/>
                <a:latin typeface="Arial"/>
                <a:hlinkClick r:id="rId4"/>
              </a:rPr>
              <a:t>http://www.microsoft.com/communications</a:t>
            </a:r>
            <a:endParaRPr b="1" lang="en-US" sz="1800" spc="-1" strike="noStrike">
              <a:solidFill>
                <a:srgbClr val="ffffff"/>
              </a:solidFill>
              <a:latin typeface="Arial"/>
            </a:endParaRPr>
          </a:p>
          <a:p>
            <a:pPr>
              <a:lnSpc>
                <a:spcPct val="8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Internet Resources</a:t>
            </a:r>
            <a:endParaRPr b="1" lang="en-US" sz="2400" spc="-1" strike="noStrike">
              <a:solidFill>
                <a:srgbClr val="ffffff"/>
              </a:solidFill>
              <a:latin typeface="Arial"/>
            </a:endParaRPr>
          </a:p>
          <a:p>
            <a:pPr lvl="1" marL="492120" indent="-290520">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TF IPSec Specifications - </a:t>
            </a:r>
            <a:r>
              <a:rPr b="1" lang="en-US" sz="1800" spc="-1" strike="noStrike" u="sng">
                <a:solidFill>
                  <a:srgbClr val="ff7c80"/>
                </a:solidFill>
                <a:uFillTx/>
                <a:latin typeface="Arial"/>
                <a:hlinkClick r:id="rId5"/>
              </a:rPr>
              <a:t>http://www.ietf.org/html.charters/ipsec-charter.html</a:t>
            </a:r>
            <a:endParaRPr b="1" lang="en-US" sz="1800" spc="-1" strike="noStrike">
              <a:solidFill>
                <a:srgbClr val="ffffff"/>
              </a:solidFill>
              <a:latin typeface="Arial"/>
            </a:endParaRPr>
          </a:p>
          <a:p>
            <a:pPr lvl="1" marL="492120" indent="-290520">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TF L2TP Specification - </a:t>
            </a:r>
            <a:r>
              <a:rPr b="1" lang="en-US" sz="1800" spc="-1" strike="noStrike" u="sng">
                <a:solidFill>
                  <a:srgbClr val="ff7c80"/>
                </a:solidFill>
                <a:uFillTx/>
                <a:latin typeface="Arial"/>
                <a:hlinkClick r:id="rId6"/>
              </a:rPr>
              <a:t>http://www.</a:t>
            </a:r>
            <a:r>
              <a:rPr b="1" lang="en-US" sz="1800" spc="-1" strike="noStrike" u="sng">
                <a:solidFill>
                  <a:srgbClr val="ff7c80"/>
                </a:solidFill>
                <a:uFillTx/>
                <a:latin typeface="Arial"/>
                <a:hlinkClick r:id="rId7"/>
              </a:rPr>
              <a:t>ietf</a:t>
            </a:r>
            <a:r>
              <a:rPr b="1" lang="en-US" sz="1800" spc="-1" strike="noStrike" u="sng">
                <a:solidFill>
                  <a:srgbClr val="ff7c80"/>
                </a:solidFill>
                <a:uFillTx/>
                <a:latin typeface="Arial"/>
                <a:hlinkClick r:id="rId8"/>
              </a:rPr>
              <a:t>.org/html.charters/</a:t>
            </a:r>
            <a:r>
              <a:rPr b="1" lang="en-US" sz="1800" spc="-1" strike="noStrike" u="sng">
                <a:solidFill>
                  <a:srgbClr val="ff7c80"/>
                </a:solidFill>
                <a:uFillTx/>
                <a:latin typeface="Arial"/>
                <a:hlinkClick r:id="rId9"/>
              </a:rPr>
              <a:t>pppext</a:t>
            </a:r>
            <a:r>
              <a:rPr b="1" lang="en-US" sz="1800" spc="-1" strike="noStrike" u="sng">
                <a:solidFill>
                  <a:srgbClr val="ff7c80"/>
                </a:solidFill>
                <a:uFillTx/>
                <a:latin typeface="Arial"/>
                <a:hlinkClick r:id="rId10"/>
              </a:rPr>
              <a:t>-charter.html</a:t>
            </a:r>
            <a:endParaRPr b="1" lang="en-US" sz="1800" spc="-1" strike="noStrike">
              <a:solidFill>
                <a:srgbClr val="ffffff"/>
              </a:solidFill>
              <a:latin typeface="Arial"/>
            </a:endParaRPr>
          </a:p>
          <a:p>
            <a:pPr lvl="1" marL="492120" indent="-290520">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TF L2TP Working Group: </a:t>
            </a:r>
            <a:r>
              <a:rPr b="1" lang="en-US" sz="1800" spc="-1" strike="noStrike" u="sng">
                <a:solidFill>
                  <a:srgbClr val="ff7c80"/>
                </a:solidFill>
                <a:uFillTx/>
                <a:latin typeface="Arial"/>
                <a:hlinkClick r:id="rId11"/>
              </a:rPr>
              <a:t>http://www.</a:t>
            </a:r>
            <a:r>
              <a:rPr b="1" lang="en-US" sz="1800" spc="-1" strike="noStrike" u="sng">
                <a:solidFill>
                  <a:srgbClr val="ff7c80"/>
                </a:solidFill>
                <a:uFillTx/>
                <a:latin typeface="Arial"/>
                <a:hlinkClick r:id="rId12"/>
              </a:rPr>
              <a:t>ietf</a:t>
            </a:r>
            <a:r>
              <a:rPr b="1" lang="en-US" sz="1800" spc="-1" strike="noStrike" u="sng">
                <a:solidFill>
                  <a:srgbClr val="ff7c80"/>
                </a:solidFill>
                <a:uFillTx/>
                <a:latin typeface="Arial"/>
                <a:hlinkClick r:id="rId13"/>
              </a:rPr>
              <a:t>.org/html.charters/l2tpext-charter.html</a:t>
            </a:r>
            <a:endParaRPr b="1" lang="en-US" sz="1800" spc="-1" strike="noStrike">
              <a:solidFill>
                <a:srgbClr val="ffffff"/>
              </a:solidFill>
              <a:latin typeface="Arial"/>
            </a:endParaRPr>
          </a:p>
          <a:p>
            <a:pPr lvl="1" marL="492120" indent="-290520">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ST Computer Security &amp; docs: </a:t>
            </a:r>
            <a:r>
              <a:rPr b="1" lang="en-US" sz="1800" spc="-1" strike="noStrike" u="sng">
                <a:solidFill>
                  <a:srgbClr val="ff7c80"/>
                </a:solidFill>
                <a:uFillTx/>
                <a:latin typeface="Arial"/>
                <a:hlinkClick r:id="rId14"/>
              </a:rPr>
              <a:t>http://</a:t>
            </a:r>
            <a:r>
              <a:rPr b="1" lang="en-US" sz="1800" spc="-1" strike="noStrike" u="sng">
                <a:solidFill>
                  <a:srgbClr val="ff7c80"/>
                </a:solidFill>
                <a:uFillTx/>
                <a:latin typeface="Arial"/>
                <a:hlinkClick r:id="rId15"/>
              </a:rPr>
              <a:t>csrc</a:t>
            </a:r>
            <a:r>
              <a:rPr b="1" lang="en-US" sz="1800" spc="-1" strike="noStrike" u="sng">
                <a:solidFill>
                  <a:srgbClr val="ff7c80"/>
                </a:solidFill>
                <a:uFillTx/>
                <a:latin typeface="Arial"/>
                <a:hlinkClick r:id="rId16"/>
              </a:rPr>
              <a:t>.</a:t>
            </a:r>
            <a:r>
              <a:rPr b="1" lang="en-US" sz="1800" spc="-1" strike="noStrike" u="sng">
                <a:solidFill>
                  <a:srgbClr val="ff7c80"/>
                </a:solidFill>
                <a:uFillTx/>
                <a:latin typeface="Arial"/>
                <a:hlinkClick r:id="rId17"/>
              </a:rPr>
              <a:t>nist</a:t>
            </a:r>
            <a:r>
              <a:rPr b="1" lang="en-US" sz="1800" spc="-1" strike="noStrike" u="sng">
                <a:solidFill>
                  <a:srgbClr val="ff7c80"/>
                </a:solidFill>
                <a:uFillTx/>
                <a:latin typeface="Arial"/>
                <a:hlinkClick r:id="rId18"/>
              </a:rPr>
              <a:t>.</a:t>
            </a:r>
            <a:r>
              <a:rPr b="1" lang="en-US" sz="1800" spc="-1" strike="noStrike" u="sng">
                <a:solidFill>
                  <a:srgbClr val="ff7c80"/>
                </a:solidFill>
                <a:uFillTx/>
                <a:latin typeface="Arial"/>
                <a:hlinkClick r:id="rId19"/>
              </a:rPr>
              <a:t>gov</a:t>
            </a:r>
            <a:endParaRPr b="1" lang="en-US" sz="1800" spc="-1" strike="noStrike">
              <a:solidFill>
                <a:srgbClr val="ffffff"/>
              </a:solidFill>
              <a:latin typeface="Arial"/>
            </a:endParaRPr>
          </a:p>
          <a:p>
            <a:pPr>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raswamy, </a:t>
            </a:r>
            <a:r>
              <a:rPr b="1" lang="en-US" sz="1800" spc="-1" strike="noStrike">
                <a:solidFill>
                  <a:srgbClr val="ffffff"/>
                </a:solidFill>
                <a:latin typeface="Arial"/>
              </a:rPr>
              <a:t>Harkins – “IP Sec: The New Security Standard for the Internet, Intranets and Virtual Private Networks”</a:t>
            </a:r>
            <a:endParaRPr b="1" lang="en-US" sz="1800" spc="-1" strike="noStrike">
              <a:solidFill>
                <a:srgbClr val="ffffff"/>
              </a:solidFill>
              <a:latin typeface="Arial"/>
            </a:endParaRPr>
          </a:p>
          <a:p>
            <a:pPr>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ufman, Perlman, Speciner - “Network Security - Private Communication in a PUBLIC World”</a:t>
            </a:r>
            <a:endParaRPr b="1" lang="en-US" sz="1800" spc="-1" strike="noStrike">
              <a:solidFill>
                <a:srgbClr val="ffffff"/>
              </a:solidFill>
              <a:latin typeface="Arial"/>
            </a:endParaRPr>
          </a:p>
          <a:p>
            <a:pPr>
              <a:lnSpc>
                <a:spcPct val="80000"/>
              </a:lnSpc>
              <a:spcBef>
                <a:spcPts val="675"/>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Stallings - “Network and Internetwork Security: Principles and Practice”</a:t>
            </a:r>
            <a:endParaRPr b="1" lang="en-US" sz="1800" spc="-1" strike="noStrike">
              <a:solidFill>
                <a:srgbClr val="ffffff"/>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43000" y="181080"/>
            <a:ext cx="860112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Highly Configurable Policy</a:t>
            </a:r>
            <a:endParaRPr b="1" lang="en-US" sz="4800" spc="-1" strike="noStrike">
              <a:solidFill>
                <a:srgbClr val="fccf00"/>
              </a:solidFill>
              <a:latin typeface="Arial"/>
            </a:endParaRPr>
          </a:p>
        </p:txBody>
      </p:sp>
      <p:sp>
        <p:nvSpPr>
          <p:cNvPr id="571" name=""/>
          <p:cNvSpPr/>
          <p:nvPr/>
        </p:nvSpPr>
        <p:spPr>
          <a:xfrm>
            <a:off x="307800" y="1569960"/>
            <a:ext cx="3459240" cy="156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Sec Policy</a:t>
            </a:r>
            <a:endParaRPr b="0" lang="en-US" sz="36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1 active per computer</a:t>
            </a:r>
            <a:endParaRPr b="0" lang="en-US" sz="2400" spc="-1" strike="noStrike">
              <a:solidFill>
                <a:srgbClr val="ffffff"/>
              </a:solidFill>
              <a:latin typeface="Times New Roman"/>
            </a:endParaRPr>
          </a:p>
        </p:txBody>
      </p:sp>
      <p:sp>
        <p:nvSpPr>
          <p:cNvPr id="572" name=""/>
          <p:cNvSpPr/>
          <p:nvPr/>
        </p:nvSpPr>
        <p:spPr>
          <a:xfrm flipV="1">
            <a:off x="2187720" y="1358640"/>
            <a:ext cx="1504800" cy="282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98360" y="3052800"/>
            <a:ext cx="24703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
          <p:cNvSpPr/>
          <p:nvPr/>
        </p:nvSpPr>
        <p:spPr>
          <a:xfrm>
            <a:off x="409680" y="3720960"/>
            <a:ext cx="28670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 Security Rules</a:t>
            </a:r>
            <a:endParaRPr b="0" lang="en-US" sz="36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different paths or traffic types</a:t>
            </a:r>
            <a:endParaRPr b="0" lang="en-US" sz="2400" spc="-1" strike="noStrike">
              <a:solidFill>
                <a:srgbClr val="ffffff"/>
              </a:solidFill>
              <a:latin typeface="Times New Roman"/>
            </a:endParaRPr>
          </a:p>
        </p:txBody>
      </p:sp>
      <p:sp>
        <p:nvSpPr>
          <p:cNvPr id="575" name=""/>
          <p:cNvSpPr/>
          <p:nvPr/>
        </p:nvSpPr>
        <p:spPr>
          <a:xfrm>
            <a:off x="3174840" y="3311640"/>
            <a:ext cx="408240" cy="2001600"/>
          </a:xfrm>
          <a:custGeom>
            <a:avLst/>
            <a:gdLst>
              <a:gd name="textAreaLeft" fmla="*/ 261000 w 408240"/>
              <a:gd name="textAreaRight" fmla="*/ 408600 w 408240"/>
              <a:gd name="textAreaTop" fmla="*/ 52200 h 2001600"/>
              <a:gd name="textAreaBottom" fmla="*/ 1949400 h 200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6" name="" descr=""/>
          <p:cNvPicPr/>
          <p:nvPr/>
        </p:nvPicPr>
        <p:blipFill>
          <a:blip r:embed="rId2"/>
          <a:stretch/>
        </p:blipFill>
        <p:spPr>
          <a:xfrm>
            <a:off x="3784680" y="1282680"/>
            <a:ext cx="4738680" cy="525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IP Filters select traffic</a:t>
            </a:r>
            <a:endParaRPr b="1" lang="en-US" sz="4800" spc="-1" strike="noStrike">
              <a:solidFill>
                <a:srgbClr val="fccf00"/>
              </a:solidFill>
              <a:latin typeface="Arial"/>
            </a:endParaRPr>
          </a:p>
        </p:txBody>
      </p:sp>
      <p:pic>
        <p:nvPicPr>
          <p:cNvPr id="578" name="" descr=""/>
          <p:cNvPicPr/>
          <p:nvPr/>
        </p:nvPicPr>
        <p:blipFill>
          <a:blip r:embed="rId2"/>
          <a:stretch/>
        </p:blipFill>
        <p:spPr>
          <a:xfrm>
            <a:off x="4551480" y="1308240"/>
            <a:ext cx="4427280" cy="4910040"/>
          </a:xfrm>
          <a:prstGeom prst="rect">
            <a:avLst/>
          </a:prstGeom>
          <a:ln w="0">
            <a:noFill/>
          </a:ln>
        </p:spPr>
      </p:pic>
      <p:pic>
        <p:nvPicPr>
          <p:cNvPr id="579" name="" descr=""/>
          <p:cNvPicPr/>
          <p:nvPr/>
        </p:nvPicPr>
        <p:blipFill>
          <a:blip r:embed="rId3"/>
          <a:stretch/>
        </p:blipFill>
        <p:spPr>
          <a:xfrm>
            <a:off x="177840" y="1320840"/>
            <a:ext cx="4276800" cy="49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65040" y="22860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Traffic Not Filtered By IPSec Filters</a:t>
            </a:r>
            <a:endParaRPr b="1" lang="en-US" sz="4800" spc="-1" strike="noStrike">
              <a:solidFill>
                <a:srgbClr val="fccf00"/>
              </a:solidFill>
              <a:latin typeface="Arial"/>
            </a:endParaRPr>
          </a:p>
        </p:txBody>
      </p:sp>
      <p:sp>
        <p:nvSpPr>
          <p:cNvPr id="581" name="PlaceHolder 2"/>
          <p:cNvSpPr>
            <a:spLocks noGrp="1"/>
          </p:cNvSpPr>
          <p:nvPr>
            <p:ph/>
          </p:nvPr>
        </p:nvSpPr>
        <p:spPr>
          <a:xfrm>
            <a:off x="380880" y="1589040"/>
            <a:ext cx="8415360" cy="5141520"/>
          </a:xfrm>
          <a:prstGeom prst="rect">
            <a:avLst/>
          </a:prstGeom>
          <a:noFill/>
          <a:ln w="0">
            <a:noFill/>
          </a:ln>
        </p:spPr>
        <p:txBody>
          <a:bodyPr lIns="182520" rIns="182520" tIns="46080" bIns="46080" anchor="t">
            <a:normAutofit fontScale="99000"/>
          </a:bodyPr>
          <a:p>
            <a:pPr marL="571680" indent="-57168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 Broadcast addresses</a:t>
            </a:r>
            <a:endParaRPr b="1" lang="en-US" sz="24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secure to multiple receivers  </a:t>
            </a:r>
            <a:endParaRPr b="1" lang="en-US" sz="2000" spc="-1" strike="noStrike">
              <a:solidFill>
                <a:srgbClr val="ffffff"/>
              </a:solidFill>
              <a:latin typeface="Arial"/>
            </a:endParaRPr>
          </a:p>
          <a:p>
            <a:pPr marL="571680" indent="-57168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cast addresses</a:t>
            </a:r>
            <a:endParaRPr b="1" lang="en-US" sz="24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224.0.0.0 through 239.255.255.255, same reason</a:t>
            </a:r>
            <a:endParaRPr b="1" lang="en-US" sz="2000" spc="-1" strike="noStrike">
              <a:solidFill>
                <a:srgbClr val="ffffff"/>
              </a:solidFill>
              <a:latin typeface="Arial"/>
            </a:endParaRPr>
          </a:p>
          <a:p>
            <a:pPr marL="571680" indent="-57168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SVP - IP protocol type 46</a:t>
            </a:r>
            <a:endParaRPr b="1" lang="en-US" sz="24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ows RSVP to signal Quality of Service (QOS) requests for application traffic that may then be IPSec protected </a:t>
            </a:r>
            <a:endParaRPr b="1" lang="en-US" sz="2000" spc="-1" strike="noStrike">
              <a:solidFill>
                <a:srgbClr val="ffffff"/>
              </a:solidFill>
              <a:latin typeface="Arial"/>
            </a:endParaRPr>
          </a:p>
          <a:p>
            <a:pPr marL="571680" indent="-57168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rberos- UDP source or dest port 88</a:t>
            </a:r>
            <a:endParaRPr b="1" lang="en-US" sz="24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beros is itself a secure protocol, which the IPSec’s IKE negotiation service may use for authentication of other computers in a domain </a:t>
            </a:r>
            <a:endParaRPr b="1" lang="en-US" sz="2000" spc="-1" strike="noStrike">
              <a:solidFill>
                <a:srgbClr val="ffffff"/>
              </a:solidFill>
              <a:latin typeface="Arial"/>
            </a:endParaRPr>
          </a:p>
          <a:p>
            <a:pPr marL="571680" indent="-57168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KE - UDP dest port 500</a:t>
            </a:r>
            <a:endParaRPr b="1" lang="en-US" sz="24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quired to allow IKE to negotiate parameters for IPSec securit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216000" y="2412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Filter Actions</a:t>
            </a:r>
            <a:endParaRPr b="1" lang="en-US" sz="4800" spc="-1" strike="noStrike">
              <a:solidFill>
                <a:srgbClr val="fccf00"/>
              </a:solidFill>
              <a:latin typeface="Arial"/>
            </a:endParaRPr>
          </a:p>
        </p:txBody>
      </p:sp>
      <p:pic>
        <p:nvPicPr>
          <p:cNvPr id="583" name="" descr=""/>
          <p:cNvPicPr/>
          <p:nvPr/>
        </p:nvPicPr>
        <p:blipFill>
          <a:blip r:embed="rId2"/>
          <a:stretch/>
        </p:blipFill>
        <p:spPr>
          <a:xfrm>
            <a:off x="201600" y="1346040"/>
            <a:ext cx="4233960" cy="4883400"/>
          </a:xfrm>
          <a:prstGeom prst="rect">
            <a:avLst/>
          </a:prstGeom>
          <a:ln w="0">
            <a:noFill/>
          </a:ln>
        </p:spPr>
      </p:pic>
      <p:pic>
        <p:nvPicPr>
          <p:cNvPr id="584" name="" descr=""/>
          <p:cNvPicPr/>
          <p:nvPr/>
        </p:nvPicPr>
        <p:blipFill>
          <a:blip r:embed="rId3"/>
          <a:stretch/>
        </p:blipFill>
        <p:spPr>
          <a:xfrm>
            <a:off x="4443480" y="195120"/>
            <a:ext cx="4230720" cy="4670640"/>
          </a:xfrm>
          <a:prstGeom prst="rect">
            <a:avLst/>
          </a:prstGeom>
          <a:ln w="0">
            <a:noFill/>
          </a:ln>
        </p:spPr>
      </p:pic>
      <p:pic>
        <p:nvPicPr>
          <p:cNvPr id="585" name="" descr=""/>
          <p:cNvPicPr/>
          <p:nvPr/>
        </p:nvPicPr>
        <p:blipFill>
          <a:blip r:embed="rId4"/>
          <a:stretch/>
        </p:blipFill>
        <p:spPr>
          <a:xfrm>
            <a:off x="4683240" y="2619360"/>
            <a:ext cx="4460760" cy="39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09T02:04:21Z</dcterms:created>
  <dc:creator>William Dixon</dc:creator>
  <dc:description>based on Win2k virtual conference slides, updated with corrected tcpip stack architecture diagram 7/17</dc:description>
  <cp:keywords>VPN IPSec Security Networking</cp:keywords>
  <dc:language>en-US</dc:language>
  <cp:lastModifiedBy>Ping Look</cp:lastModifiedBy>
  <dcterms:modified xsi:type="dcterms:W3CDTF">2001-02-02T06:40:13Z</dcterms:modified>
  <cp:revision>114</cp:revision>
  <dc:subject>IPSec</dc:subject>
  <dc:title>Windows 2000 IP Security Deployment</dc:title>
</cp:coreProperties>
</file>