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8BA-4A14-4CD0-A361-A10C14DE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C97-EAC1-437F-8A34-DDA2F504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736-354C-42CA-9C9F-1E207BF0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206-9DAE-4661-AF65-B45B4FC3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C9F3-B67D-4823-AA32-FED55F3F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1D44-DF22-48F5-8C70-69CEEF51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1774-EBC0-4A6F-B423-4C11DD72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3E06-E39E-438E-9937-FBE1E65F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C372-D054-4A11-88E5-485C545B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2CEF-6880-4C8C-B9DF-1BAAF537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879A-C561-4BFD-8657-A7C9C380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D4C-A59C-4BBF-9800-89240DD2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2EFD-0CE5-4FB6-B233-CD11252E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B99B-3FB1-48D4-8B9B-835CEF4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4997-17BB-4563-9207-FD55D3DF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7E2F-31CA-419B-898F-2A57CB79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F737-142D-4849-B9E3-707D17E6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FB9-8F12-4676-90CB-6E36C1DE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E95-6222-4541-A6ED-79CA688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E9A-D4FF-4DB6-BE68-46B7F152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53D-6868-4D9E-A799-BCEF8793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248-8908-4887-BC54-FA9761C1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4CA-DD4E-4A67-980B-FA01BF1C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334-185A-48BE-83AC-27D29E2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foundstone.com/cgi-bin/display.cgi?Section_ID=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333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9ce157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0C45-B5C5-45C2-B1DD-FF5181107268}" type="datetime">
              <a:rPr b="0" lang="en-US" sz="1400" spc="-1" strike="noStrike">
                <a:solidFill>
                  <a:srgbClr val="f8f8f8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BCD3-F40D-4FB4-AD03-BE340D50AF4E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uh-lblk-a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152280"/>
            <a:ext cx="1714680" cy="846360"/>
          </a:xfrm>
          <a:prstGeom prst="rect">
            <a:avLst/>
          </a:prstGeom>
          <a:ln w="0">
            <a:noFill/>
          </a:ln>
        </p:spPr>
      </p:pic>
      <p:pic>
        <p:nvPicPr>
          <p:cNvPr id="34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24956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2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333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9ce157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01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8BE2-2F76-4328-A99E-182B5B86BB21}" type="datetime">
              <a:rPr b="0" lang="en-US" sz="1400" spc="-1" strike="noStrike">
                <a:solidFill>
                  <a:srgbClr val="f8f8f8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CB74-DEFA-417D-9AF3-2B0AFCAAF155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foundstone.com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oundstone.com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ogmile.com/file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mailto:clinton@foundstone.com" TargetMode="External"/><Relationship Id="rId2" Type="http://schemas.openxmlformats.org/officeDocument/2006/relationships/hyperlink" Target="mailto:erik@foundstone.com" TargetMode="External"/><Relationship Id="rId3" Type="http://schemas.openxmlformats.org/officeDocument/2006/relationships/hyperlink" Target="mailto:erik@foundstone.com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bed7f0"/>
                </a:solidFill>
                <a:latin typeface="Arial Black"/>
              </a:rPr>
              <a:t>Terminal Server:</a:t>
            </a:r>
            <a:br>
              <a:rPr sz="3400"/>
            </a:br>
            <a:r>
              <a:rPr b="0" lang="en-US" sz="3400" spc="-1" strike="noStrike">
                <a:solidFill>
                  <a:srgbClr val="bed7f0"/>
                </a:solidFill>
                <a:latin typeface="Arial Black"/>
              </a:rPr>
              <a:t>The Day of Reckoning</a:t>
            </a:r>
            <a:endParaRPr b="0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90920"/>
            <a:ext cx="380880" cy="380880"/>
          </a:xfrm>
          <a:prstGeom prst="ellips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019920" y="4952880"/>
            <a:ext cx="3836160" cy="533520"/>
            <a:chOff x="6019920" y="4952880"/>
            <a:chExt cx="3836160" cy="533520"/>
          </a:xfrm>
        </p:grpSpPr>
        <p:sp>
          <p:nvSpPr>
            <p:cNvPr id="146" name=""/>
            <p:cNvSpPr/>
            <p:nvPr/>
          </p:nvSpPr>
          <p:spPr>
            <a:xfrm>
              <a:off x="6019920" y="4952880"/>
              <a:ext cx="3836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952880"/>
              <a:ext cx="38361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bed7f0"/>
                  </a:solidFill>
                  <a:latin typeface="Arial Black"/>
                </a:rPr>
                <a:t>Clinton Mugge, CISSP</a:t>
              </a:r>
              <a:br>
                <a:rPr sz="1600"/>
              </a:br>
              <a:r>
                <a:rPr b="0" lang="en-US" sz="1600" spc="-1" strike="noStrike">
                  <a:solidFill>
                    <a:srgbClr val="bed7f0"/>
                  </a:solidFill>
                  <a:latin typeface="Arial Black"/>
                </a:rPr>
                <a:t>Erik Pace Birkholz, CISSP</a:t>
              </a:r>
              <a:br>
                <a:rPr sz="1600"/>
              </a:b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                  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48" name="foundstone" descr=""/>
          <p:cNvPicPr/>
          <p:nvPr/>
        </p:nvPicPr>
        <p:blipFill>
          <a:blip r:embed="rId1"/>
          <a:stretch/>
        </p:blipFill>
        <p:spPr>
          <a:xfrm>
            <a:off x="6400800" y="5562720"/>
            <a:ext cx="20001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Overview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W2k Terminal Server 101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ransfer Protoco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AC1-A593-42CD-B394-22FFD61AE0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Identifying Terminal Server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d7f0"/>
                </a:solidFill>
                <a:latin typeface="Arial"/>
              </a:rPr>
              <a:t>Fscan.exe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www.foundstone.com</a:t>
            </a:r>
            <a:r>
              <a:rPr b="0" lang="en-US" sz="1600" spc="-1" strike="noStrike">
                <a:solidFill>
                  <a:srgbClr val="bed7f0"/>
                </a:solidFill>
                <a:latin typeface="Arial"/>
              </a:rPr>
              <a:t> (R&amp;D section) by Robin Keir of Foundstone Labs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ed7f0"/>
                </a:solidFill>
                <a:latin typeface="Times New Roman"/>
                <a:ea typeface="Times New Roman"/>
              </a:rPr>
              <a:t>Ping only -n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ed7f0"/>
                </a:solidFill>
                <a:latin typeface="Times New Roman"/>
                <a:ea typeface="Times New Roman"/>
              </a:rPr>
              <a:t>Scan without ping –q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ed7f0"/>
                </a:solidFill>
                <a:latin typeface="Times New Roman"/>
                <a:ea typeface="Times New Roman"/>
              </a:rPr>
              <a:t>Scan with a specified source port –I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ed7f0"/>
                </a:solidFill>
                <a:latin typeface="Times New Roman"/>
                <a:ea typeface="Times New Roman"/>
              </a:rPr>
              <a:t>Banner grab –b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ed7f0"/>
                </a:solidFill>
                <a:latin typeface="Times New Roman"/>
                <a:ea typeface="Times New Roman"/>
              </a:rPr>
              <a:t>Specify ports –p &lt;ports&gt;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ed7f0"/>
                </a:solidFill>
                <a:latin typeface="Times New Roman"/>
                <a:ea typeface="Times New Roman"/>
              </a:rPr>
              <a:t>Fscan –p 3389 –q 10.0.1.1-254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F81-029A-41FA-90A4-2BEAB6483D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Identifying Terminal Server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Default Server port can be changed</a:t>
            </a:r>
            <a:r>
              <a:rPr b="0" lang="en-US" sz="3600" spc="-1" strike="noStrike">
                <a:solidFill>
                  <a:srgbClr val="bed7f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ed7f0"/>
                </a:solidFill>
                <a:latin typeface="Times New Roman"/>
                <a:ea typeface="Times New Roman"/>
              </a:rPr>
              <a:t>Registry value by default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d7f0"/>
                </a:solidFill>
                <a:latin typeface="Arial"/>
              </a:rPr>
              <a:t>\HKLM\System\CCS\Control\Terminal Server\WinStations\RDP-Tcp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d7f0"/>
                </a:solidFill>
                <a:latin typeface="Arial"/>
              </a:rPr>
              <a:t>Value : PortNumber REG_DWORD=3389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Not feasible in Application server mod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However, in Remote Administration mode…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98d43"/>
                </a:solidFill>
                <a:latin typeface="Arial"/>
              </a:rPr>
              <a:t>Viva la port redirection (wait for Uber-Demo)!!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A82-D7CB-49E4-9E1D-7C02E7004A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The majority of our concerns, in most cases, are not a result of poor products but products being implemented poorly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d7f0"/>
                </a:solidFill>
                <a:latin typeface="Arial"/>
              </a:rPr>
              <a:t>Terminal Server: The Day of Reckoning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98d43"/>
                </a:solidFill>
                <a:uFillTx/>
                <a:latin typeface="Arial"/>
                <a:hlinkClick r:id="rId1"/>
              </a:rPr>
              <a:t>www.foundstone.com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d7f0"/>
                </a:solidFill>
                <a:latin typeface="Arial"/>
              </a:rPr>
              <a:t>Digital Battlefield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06F-516E-479E-BC8B-45B9B90ABB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The brave new world of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privilege escalation</a:t>
            </a: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” attack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User level accounts have FINALLY come into their ow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CF7-6AC2-47B6-AEC1-85D7C89DC0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W2k “</a:t>
            </a: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privilege escalation</a:t>
            </a: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” attack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d7f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ed7f0"/>
                </a:solidFill>
                <a:latin typeface="Arial"/>
              </a:rPr>
              <a:t>Windows 2000 Services Named Pipe Vulnerability</a:t>
            </a:r>
            <a:r>
              <a:rPr b="1" lang="en-US" sz="2000" spc="-1" strike="noStrike">
                <a:solidFill>
                  <a:srgbClr val="bed7f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98d43"/>
                </a:solidFill>
                <a:uFillTx/>
                <a:latin typeface="Arial Unicode MS"/>
                <a:hlinkClick r:id="rId2"/>
              </a:rPr>
              <a:t>http://www.dogmile.com/files/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d7f0"/>
                </a:solidFill>
                <a:latin typeface="Arial Unicode MS"/>
              </a:rPr>
              <a:t>By Maceo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ed7f0"/>
                </a:solidFill>
                <a:latin typeface="Arial"/>
              </a:rPr>
              <a:t>PipeUp.exe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ed7f0"/>
                </a:solidFill>
                <a:latin typeface="Arial"/>
              </a:rPr>
              <a:t>PipeUpSAM.exe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ed7f0"/>
                </a:solidFill>
                <a:latin typeface="Arial"/>
              </a:rPr>
              <a:t>PipeUpAdmin.exe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d7f0"/>
                </a:solidFill>
                <a:latin typeface="Arial"/>
              </a:rPr>
              <a:t>These attacks will dump the hashes and/or escalate to admin from a user account via Terminal Server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d7f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ed7f0"/>
                </a:solidFill>
                <a:latin typeface="Arial"/>
              </a:rPr>
              <a:t>Microsoft response (MS00-053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34B-FC9F-466E-A94C-1DD60537D5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514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endParaRPr b="0" lang="en-US" sz="2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Remote Administration Too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Distributed Applica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Uber-Attack Scenari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0D9-F3A8-42F6-A163-9A62EAE439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Remote Administration Tool Scenario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Recipe for Disaste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One part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d7f0"/>
                </a:solidFill>
                <a:latin typeface="Arial"/>
              </a:rPr>
              <a:t>W2k back-end web/DB server farm in co-location configured for remote TS administration from Corporate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Two part ACL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d7f0"/>
                </a:solidFill>
                <a:latin typeface="Arial"/>
              </a:rPr>
              <a:t>Drop TCP/UDP 139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d7f0"/>
                </a:solidFill>
                <a:latin typeface="Arial"/>
              </a:rPr>
              <a:t>TCP 3389 restricted to only internal 10.1.x.x addresse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A dash of disgruntled employee</a:t>
            </a: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4C5-BD52-43FC-9627-57F01D2B72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Pitfalls of this scenari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Old school NT4 port 139 tricks work over 445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Null session to enumerate users &amp; shares via DumpSec (www.somarsoft.com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Only ipc$ share is available (admin shares have been removed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Manual password guess for administrator accou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here is no way to connect without shares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A12-8989-4BD6-A687-DF20106C9B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endParaRPr b="0" lang="en-US" sz="2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GUI has never been so eas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Connect via Terminal Serv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NT Hacker quote – “The only thing better than admin, is GUI admin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Abuse TS GUI to ftp to hacker system and get required tools (pwdump, lsadump, pulist, dumpsec, kill, et al.)  Playtime!!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5C2-59F1-4C57-9C14-D991A2B71B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erminal Services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his ain’t your parents’ GUI”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Allows remote users GUI access to the server as if they were at the consol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Operates on TCP 3389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wo modes of operation: Application Server and/or Remote Manageme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1FA-BFCC-4499-8182-AD4F5EFCCA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86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Administration Tool Scenario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Basic corrective step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  <a:ea typeface="Times New Roman"/>
              </a:rPr>
              <a:t>Block 139 &amp; 445 for W2k, not just 139</a:t>
            </a: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Set Restrict Anonymous to 1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Set account lockout ( and passprop.exe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Restrict Remote Administration Terminal Servers to “Admins” if possibl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Enable Password complexity requirement in Password Policy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513-F901-498E-A946-007DC19409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86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Application Server at telemarketing compan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Scenario # 2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Telemarketer, Mr. X, lost all his cash at the craps tabl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Mr. X gets an offer for his company’s client database from competitor over drinks at bar in Vegas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Hmmm…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4A9-5AC9-4C79-82D0-54687DCDC7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86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Application Server at telemarketing compan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Attacker only has access to a user level accou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Users connect via Windows 98 to use the corporate application so Windows admin feels “safe” from NT attack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Sensitive credit card and client data stored on Application Serve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Sensitive data is protected from users by local permission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016-C328-4E4C-8403-0AF5F8B718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86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Application Server Scenari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Basic corrective step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Apply MS00-053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Enforce strong password/account polici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IP access restric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Implement appsec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109-8B49-4D04-904A-D65E501680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Black"/>
              </a:rPr>
              <a:t>Hacking W2k w/ Terminal Server</a:t>
            </a: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Internet Uber-Attack Scenari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Death by router mis-configur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E9B-86C4-4000-BEEA-023132A361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ed7f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bed7f0"/>
                </a:solidFill>
                <a:latin typeface="Arial"/>
              </a:rPr>
              <a:t>Raise the bar”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6C5-BE88-4C88-ADF8-EDE5BF67A3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erminal Services Server user specific setting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Terminal Server Profil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Session Setting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Remote Contro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D3F-1607-4AE4-B048-58470D1009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erminal Services Profi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942000" cy="45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FF1-A650-49B2-919C-ED385F94F4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Sessio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922560" cy="451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3EA-6E57-4FC5-A5AB-048A412D42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911760" cy="44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221-6573-4CDB-8915-DAA7E34CAC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Objectives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Risk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Mitig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32A-D2DB-4B92-93CE-A377ECE44B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Remote Contro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942000" cy="452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CD1-D9DD-492D-83F9-BC126271CB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erminal Services Configur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Override user profil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Define client setting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Address interfac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Assign permiss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Server mod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9D9-6EF6-4FC1-BAF7-97057C8C99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1905120"/>
            <a:ext cx="33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1880" indent="-176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erminal Services Configur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6188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5278320" cy="427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4E0-446C-4F0F-A8CC-3F8A632757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RDP Settings Properti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3942000" cy="45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8C6-E35F-4497-94FB-2FE13AAB29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W2k Resource Kit Terminal Server Utiliti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Appsec.ex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Lsreport.ex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Lsview.ex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Tsreg.ex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Tsver.ex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70D-ABBA-4AE2-9F6A-9138CAE5D8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W2k Resource Kit Terminal Server Utiliti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Winsta.ex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Rdpclip.ex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Terminal server capacity planning too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Drivemapsrv.ex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4F0-E683-4CED-90F3-7E8D25887E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Appsec.ex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Provides strong restrictions on what users can perform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Default settings are allow non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Allows tracking of process to ensure adequate files are authoriz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Free download from Microsof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E4A-7554-4B38-A763-3C5FCA985A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Appsec.ex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981080" y="2666880"/>
            <a:ext cx="500076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DEF-6395-4405-918F-2403D155FE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Appsec.ex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7400" y="2514600"/>
            <a:ext cx="4734000" cy="331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DF4-D0B9-414E-A4A3-4A40F2DF28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Lsreport.exe and Lsview.ex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Provides listing of licenses grant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Allows identification of all TL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1D1-4C42-4DB9-99ED-B3732A8088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Scope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ed7f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Overview of Terminal Serv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ed7f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W2k vs. NT4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ed7f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Identifying Terminal Serv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ed7f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Hacking W2k w/ Terminal Server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ed7f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Securing Terminal Serv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40D-539F-4084-8ECB-E8DB075A8F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sreg.ex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Provides registry setting tool for client connect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Provides developers TS registry setting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650-A8BC-4D6A-AF96-E0C8E05182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sreg.ex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3495960" cy="33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5B4-B944-4C90-8EA7-F9971FF9AF6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sver.ex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Explicit control on what builds can connec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Customized message delivery to rejected clien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Failed logins tracked in event log by host name and IP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Can be turned on or off easil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820-AF43-4DCD-9A1D-CC9B6CB185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Tsver.ex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819520" y="1676520"/>
            <a:ext cx="565776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523-C3FD-46AD-8D82-0B5B37252E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Terminal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Winsta.ex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Concise low resource monitoring too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2057400" y="3429000"/>
            <a:ext cx="4896000" cy="19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4F8-4FC3-4E89-A677-78ACDB6CE5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ed7f0"/>
                </a:solidFill>
                <a:latin typeface="Arial"/>
              </a:rPr>
              <a:t>Steps to Hardening the Hos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597-BC21-4652-8A89-0E4347045C0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IPSec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ed7f0"/>
                </a:solidFill>
                <a:latin typeface="Arial"/>
              </a:rPr>
              <a:t>Encryption at the network level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AF5-D38F-4FCD-8356-A971DCE76F2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ed7f0"/>
                </a:solidFill>
                <a:latin typeface="Arial"/>
              </a:rPr>
              <a:t>EF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ed7f0"/>
                </a:solidFill>
                <a:latin typeface="Arial"/>
              </a:rPr>
              <a:t>Encryption at the file level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B19-7E00-4427-A678-F34BC901D39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Organizational Uni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ed7f0"/>
                </a:solidFill>
                <a:latin typeface="Arial"/>
              </a:rPr>
              <a:t>Treating Users, Groups, and Workstations as Objec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43E-9AE8-498F-80A1-9125A0F5C34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Group Polic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ed7f0"/>
                </a:solidFill>
                <a:latin typeface="Arial"/>
              </a:rPr>
              <a:t>The Solution to the Security Administrator’s Headach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277-351C-47E9-9A8E-94AAE12D9A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Overview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The Pitc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d7f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bed7f0"/>
                </a:solidFill>
                <a:latin typeface="Arial"/>
              </a:rPr>
              <a:t>The Terminal Services component of the Microsoft® Windows® 2000 Server operating system can deliver the Windows 2000 desktop, as well as the latest Windows-based applications, to virtually any desktop computing device, including those that cannot run Windows.’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6C7-6A4F-46BE-BAA8-751FABAA9A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Securing the Server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Local Polic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60A-E0BF-4C4F-BA80-E7A47D224D2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Securing the Server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Local Polic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7315200" cy="29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3FD-ABD3-4A3E-BA5D-54A02B0F9F4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Securing the Server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Local Polic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448760" cy="369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F2D-D729-4046-8805-DC2F8429939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Published Exploits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RDP 5.0 DoS vulnerability"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Kills RDP with invalid string input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Results in loss of all work in progres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Requires reboot to restore servic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Hot fix MS01-006 available 31 Jan 2001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ABE-289D-4199-AE80-5EE8DB6A0B0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Published Exploits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"Simplified Chinese IME State Recognition"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Privilege Escalation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Only affected Chinese version of W2K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Required console access……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or Terminal Server acces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Hot fix available post SP1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5F0-DDC9-416F-BCC4-96233834C75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e ya in Hong Kong!</a:t>
            </a: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Clinton Mugge, CISSP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1"/>
              </a:rPr>
              <a:t>clinton@foundstone.com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Erik Pace Birkholz, CISSP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erik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@foundstone.com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Principal Consultant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Foundstone Inc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A35-6E1C-4D93-B2D3-57D674CB3E9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Overview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The Dange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d7f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bed7f0"/>
                </a:solidFill>
                <a:latin typeface="Arial"/>
              </a:rPr>
              <a:t>When a user runs an application on a Windows 2000-based terminal server, all of the application execution takes place on the server’</a:t>
            </a:r>
            <a:r>
              <a:rPr b="1" lang="en-US" sz="2800" spc="-1" strike="noStrike">
                <a:solidFill>
                  <a:srgbClr val="bed7f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B6F-A2EF-4896-ADD1-FA71FE073A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Overview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Terminal Server is a ‘built in’ thin client server tightly integrated to the</a:t>
            </a:r>
            <a:r>
              <a:rPr b="0" lang="en-US" sz="3200" spc="-1" strike="noStrike">
                <a:solidFill>
                  <a:srgbClr val="d1d1e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host O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Is a standard windows component in all Server Editions of W2k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Can provide a fully functioning distributed applications solu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8f8f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Can provide a secure remote management solu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647-AA0F-4647-B077-C0BFC528FB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Overview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d7f0"/>
                </a:solidFill>
                <a:latin typeface="Arial"/>
              </a:rPr>
              <a:t>Distributed Applic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Replace third party produc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Centralize collabora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Improve teleworker efficienc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d7f0"/>
                </a:solidFill>
                <a:latin typeface="Arial"/>
              </a:rPr>
              <a:t>Administer with eas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4EB-2C44-427B-A132-65E0904806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Black"/>
              </a:rPr>
              <a:t>Overview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d7f0"/>
                </a:solidFill>
                <a:latin typeface="Arial"/>
              </a:rPr>
              <a:t>Remote Managemen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Tightly integrated with the O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Replaces 3</a:t>
            </a:r>
            <a:r>
              <a:rPr b="0" lang="en-US" sz="2000" spc="-1" strike="noStrike" baseline="30000">
                <a:solidFill>
                  <a:srgbClr val="bed7f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 party products (pcAnywhere, remotely anywhere, vnc, timbuktu…..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Secure*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</a:rPr>
              <a:t>Supported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d7f0"/>
                </a:solidFill>
                <a:latin typeface="Arial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bed7f0"/>
                </a:solidFill>
                <a:latin typeface="Arial"/>
                <a:ea typeface="Times New Roman"/>
              </a:rPr>
              <a:t>Negligible performance impact on the server and no impact on application compatibility”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, Foundst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007-EFF5-4ACA-92CC-FCD282D42A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inton</cp:lastModifiedBy>
  <dcterms:modified xsi:type="dcterms:W3CDTF">2001-02-14T04:12:51Z</dcterms:modified>
  <cp:revision>169</cp:revision>
  <dc:subject/>
  <dc:title>PowerPoint Presentation</dc:title>
</cp:coreProperties>
</file>