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6F46-CC7A-4AFB-A11C-04926EC48D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you were wondering, I called these techniques “Shatter Attacks” because they break Windows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irect execution essentially causes a fault in the application by manipulating the UI in a way that the app didn’t expect.  For a good example, take a look at the second folder in the source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pp is remarkably simple, and gives you control of EIP through a simple stack-based overflow.  If you open up Notepad, then hit the Format menu and choose Font.  This is the dialog that Indirect.exe locates.  It enumerates through all child windows of this dialog, and sends an LB_ADDSTRING to each child window.  Obviously, not all of them are list boxes, but anything that isn’t will just ignore the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should see that the various list boxes get the aaaaaaaaaaaa string added to them.  Click on one of them, and Notepad should access violate at 0x00610061 – the unicode version of “a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code, change SendMessage() to SendMessageW(), and try again.  This time, you’ll get some weird characters in the list box; these are the Unicode characters 0x6161.  Click on the item, and Notepad will access violate at 0x61616161.  Pretty triv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technique should apply to pretty much any control, but the results will vary from app to app.  Essentially, it’s just another technique for injecting an overflow / format string / off-by-one etc. with a lot of possibilities.  You’ll only get elevated privileges if your target app already has them, but (as you’ll see later on) there’s more to shatter than privilege esca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_SETHANDLE is kinda neat – it changes the memory handle for the target edit control to a value you specify.  The app gets very confused, throws up all sorts of error messages, and generally goes nuts (as you’d expect when it loses part of itself).  You might be able to exploit this in some way (swap the memory handles for two different edit controls?) but you can certainly crash things at the very lea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thing the user can do, code can do better.  Get a handle to the NAV window, find the “Disable” button, and click it.  Technically, this needn’t be 3 lines of code – you could do this with:</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endMessage(FindWindow(0,"Norton Antivirus"),WM_COMMAND,0x3eb, FindWindowEx(FindWindow(0,"Norton Antivirus"),0,0,"&amp;Disable"));</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n’t even the normal way to disable NAV as a user – this is a hidden window that doesn’t normally get displayed which has a convenient “Turn me off!”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M_COMMAND is a good message – it tells the app that a button, menu item, etc has been clicked.  In this case, we’re telling the main NAV window that the button was clicked.  Internally, when you click the mouse on the button the WM_ messages for the mouse click will get translated into the WM_COMMAND message and sent to the parent window; we avoid the first layer and just go straight for the simpler vers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M_SYSCOMMAND is generated when you click an item on the system menu (minimize, maximize, etc).  Just because a particular system menu doesn’t have these items doesn’t mean that they won’t be correctly handled by DefWindowProc().  Getting annoyed by a window that doesn’t have a minimize button?  Send it a WM_SYSCOMMAND message to do the same 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M_CHAR notifies an app that a character has been generated; generally (although not always) a WM_KEYDOWN and WM_KEYUP message will be translated into a WM_CHAR message which does exactly the same thing.  Mouse clicks are slightly different; applications normally handle the WM_LBUTTONUP message so that they only respond when you release the mouse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combine all these messages together to do anything that the user can; navigate through menus, enter passwords, the works.  IEKill (which we’ll get onto later) is a good example of some of this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dInput is a layer above sending WM_ messages.  This accepts an array of structures, each one corresponding to a mouse or keyboard event (mouse moved or buttons depressed or released, or a key pressed or released).  They are injected directly into the input stream for the system, so it is absolutely the case that SendInput() can do everything that is possible from the console. It’s useful to know about for when you can’t be bothered messing about with a chain of WM_ messages to navigate through an app to a vulnerable control; just send the keystrokes to do the same th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aspect of every window is both created and controlled through GDI messages – and there’s no restrictions.  You can completely rewrite another application’s UI at will, and there’s nothing that the receiving window can do about it.  You can resize (WM_SIZE), rearrange (WM_MOVE), change the caption (WM_SETTEXT), or anything else; we’ve already looked at changing the contents of windows.  You can even create new windows in another processes UI using CreateWindow() or destroy them using WM_CLOSE (this works just as well for child windows as top-level windows).  Menus are no exception either – InsertMenuItem() is just one example of a function that will quite happily let you do whatever you like to another process’s me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ll this boils down to is that any application on the system can manipulate another application’s user interface.  The GUI can no longer be trusted – at all.  The user has no guarantee that the UI they are seeing is generated by the application that claims to own it; likewise the application has no way of knowing that the UI it generated is the one that the user is interacting with, or even that it’s a user interacting with it.  Any time that the application retrieves details about its own user interface is a possible injection vector for all the usual bugs (overflows, format strings etc), and any time that the application actually places trust in its UI, that trust can b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the third folder in the source tree – BrkPol.  There’s two projects here, both very simple, which prove that UI-based security can be broken.  DeskHack.exe is a stupidly simple utility for starting an executable on a desktop other than your own (it just calls CreateProcess with some information in the STARTUPINFO structure).  BrkPol looks for a certain button on a certain window, and enable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we’re looking to do is run BrkPol on the Winlogon desktop, without logging on.  If the system policy has dictated that the machine cannot be shut down without logging on, then the “Shutdown” button on the dialog will be disabled.  Re-enable the button, and you can break th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set the system policy – Start-&gt;Settings-&gt;Control Panel-&gt;Administrative Tools-&gt;Local Security Policy-&gt;Local Policies-&gt;Security Options.  Near the top should be “Allow system to be shut down without having to log on”.  Disable the option, then right-click Security Settings in the left pane, and reload the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copy deskhack.exe and brkpol.exe to an easy folder (c:\ works well!).  Schedule a task to start cmd.exe on the Winlogon desktop using deskhack, 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16:53 c:\deskhack.exe winsta0\winlogon cm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16:53 is 1 minute ahead of your current system time, and c:\ is correct for you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log off and wait for the cmd window to pop up.  We can now interact with the Winlogon desktop without logging on.  Hit CTRL+ALT+DEL (if necessary) to get the prompt for your username and password.  The Shutdown button should be disabled, in accordance with the system policy.  Run BrkPol, and the button should be re-enabled; you can now break the system policy by shutting the machine down without logg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if you think this is a dumb example because you need Administrator rights to schedule a task, you’re correct.  You can only break the system policy in this way if you’re already an Administrator, and hence can change the policy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n’t provided as an “OH MY GOD YOU CAN CIRCUMVENT THE SYSTEM POLICY!!!” issue.  This is provided as an example of how the state of the UI, which can be changed programmatically, can affect the security of a system.  When you call EnableWindow() (as in brkpol), Winlogon is quite happily servicing the request, as would any application which uses DefWindowProc().  Internally, Winlogon is maintaining no information about the system policy which gets checked before the button click is handled; Winlogon is trusting its UI to remain in the correct state in accordance with the system policy.  When you manipulate the UI, Winlogon is (mistakenly) still trusting that the button will remain disabled, and happily handling the request to shut down the system.  Thus, the UI manipulation has broken the trust between the app and its interface; what we set out talking about at the start of the slid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tter attacks aren’t just about privilege escalation, but they do provide a versatile mechanism and lots of possibilities for it.  Microsoft are very confused about whether LocalSystem windows in the desktop are a safe thing to do; in response to the original WM_TIMER paper, they wrote several articles about how it was a really bad thing to have LocalSystem windows on a users desktop.  However, when it was pointed out to them that there are, by default, many windows on all of their operating systems which run as LocalSystem, they realised that it’s not always possible to avoid, and changed their stance on the issue.  Last I heard, MS statement was, as above, that LocalSystem windows can safely interact with other applications on a single desktop without any security issues.  This exploit disproves that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ok at folder 4 – UMHack.  This issue is, at the time of writing this paper, unpatched, but I’ve been assured by MSRC that the patch will be out in time for this presentation.  I hope that’s the case.  If the vulnerability isn’t patched, the workaround is to disable the Utility Manager service; this starts when you hit windows+U, and shows the dialog.  Disabling the service (instead of manual startup) disables the shortcut key, and prevents the expl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MHack is a pretty simple app.  The Utility Manager runs as LocalSystem on Windows 2000; you can bring it up by hitting Windows+U.  It’s responsible for starting the various services to support disabled users, such as the magnifier, narrator, and on-screen keyboard.  If you bring up the utility manager, you’ll see it has a listview control in it – and we can therefore take control of it using LVM_SORT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s several stages to the UMHack app; firstly, it has to start the program.  It tries to do this by running “utilman /start” – this normally works, but may not; if you get an error message, just hit Windows+U to bring it up manually.  Once it’s found the Utilman window, it injects shellcode into the window (using WM_SETTEXT), finds the ListView control and sends LVM_SORTITEMS, jumping to an address that is bruteforced.  If we guessed the wrong address, Utilman crashes and we get an error dialog; UMHack finds this dialog, clicks OK, then restarts Utilman and has another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slight quirk of this exploit is the way it figures out if it has been successful.  Before anything else happens, it counts how many cmd.exe windows are present on the desktop; after clicking “OK” on the crash dialog, it counts how many cmd windows are present.  If there’s one more than we started with, then it assumes that the exploit has been successful and quits.  The shellcode is the same as for Smashing – it just ShellExecute()’s cmd.exe.  Not the most elegant code in the world, but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s a lot of other interesting things you can do with Shatter attacks, more than just privilege escalation.  Imagine a mass-mailing worm that detects personal firewalls, and clicks whatever is necessary on the popup dialogs in order to grant itself access to the internet / address book / whatever.  Or a trojan that swaps the “OK” and “Cancel” buttons on any dialogs which pop up.  From the annoying o the outright dangerous, anything i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s also possible to write a scriptable UI redesigner – you define a template for an application, and it’ll rebuild the UI based on your design.  You could easily “skin” any application you like, regardless of what the target application wants to do.  At the time of writing this presentation, we at NGSSoftware are working on this application, but it’s not a high priority so don’t expect it any time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maybe you have functionality provided by an application which has no command-line interface.  Easily solved – write a command-line app to interact with the UI automatically.  This can, as has already been seen, be used to disable antivirus software and personal firewalls by interacting with the UI – we can take this a big step further though and just circumvent them completely, using IEKill (in folder 5 of the source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EKill uses precisely the same technique as UMHack in order to inject executable code into Internet Explorer.  However, instead of starting a command shell on the console, it sends one over the network.  It also has to do a little UI fiddling first, in order to get to a dialog with a listview control – in this case, the Save As di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suming that a user has a personal firewall, and that PFW trusts IE to access the internet.  IEKill forces Iexplore.exe to send a command shell over the network (exactly the kind of thing that a PFW is designed to prevent), and since it’s IE accessing the internet, the PFW never bats an eyelid.  This has been tested successfully using IE6 in combination with ZoneAlarm (Plus and Pro versions), Tiny Personal Firewall, and Black Ice.  All saw nothing untoward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run IEKill, you will notice that it’s *very* noisy.  IE windows popping up all over the place then crashing, all sorts of mayhem.  This is deliberate, since I don’t want to release code of this type that’s completely silent.  However, making it silent is actually pretty easy – all you have to do is run the exploit on a different desktop (probably one that you’ve created).  How to do that is left as an exercise for the read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couple of possible solutions for the root cause of Shatter attacks – the next few slides will look at what could be done, and make some comparisons to X11 as a guide.  Unfortunately, there’s no “magic bullet” – the Win32 API is just too dependant upon these mechanisms to remove them now or make anything more than cosmetic changes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ve seen, Win32 messages control every aspect of a control’s appearance and behaviour.  You can add items to list boxes, rearrange the UI, create and destroy windows, whatever you like, all through perfectly legitimate GDI messages.  X11 doesn’t work like that – messages are along the lines of “This has happened” from the window to the application.  The application doesn’t send messages to it’s windows in order to control them – part 1 of the Win32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11 messages also contain a flag called “send_event”.  This is set true if the message is synthetic (ie generated by an application) and false if the message was generated by the X server itself (ie a genuine message).  This allows applications to filter out anything that’s not come directly from the X server.  Win32 has no such mechanism – an application-generated message is completely indistinguishable from a system-generated one.  An application receiving a message has no option but to treat it as legitimate, and process it – part 2 of the Win32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11 also has the ability to completely disable all cross-window messages, ie messages with send_event set can be globally filtered.  Again, Win32 lacks this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11 does have problems of its own, but not the same thing.  You can, for example, place a transparent window on top of another window and capture input to that window; however if the window underneath is filtering synthetic messages, the transparent window has no way to transfer messages to the proper recipient, and the user will quickly notice that something is wrong.</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the problem could be solved by preventing cross-process GDI messages.  Win32 has a highly versatile ACL mechanism that is already applied to the file system and registry; applications could be granted permissions to send messages to other apps and receive messages from other apps based on an ACL.  The system could identify the applications by using Security Identifiers (SIDs) dictated by the user starting the app, or by process ID.  There would probably have to be some kind of signature mechanism applied to files before they could be run, to ensure that the binary being started is the same binary that has permissions, but it shouldn’t be too difficult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ownside to this is that applications such as PGP which have legitimate reason to send cross-process GDI messages would break, and require special consideration.  PGP uses WM_COPY to retrieve text from another window that is to be encrypted or decrypted; if it can no longer send those messages, it cannot provide that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n if this were to be followed, there’s still no guarantees.  Once an application is able to send / receive synthetic messages, the flood gates are opened – it’s all or nothing.  Breaking it down into categories of messages would be difficult, although not impossi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wise, you should have five folders, each with at least one Visual C++ 6 project in them.  Three of these are exploits, the rest are little demonstrations of things I’ll be explaining in the presentation.  Some of them require Admin or even LocalSystem privileges to work; these aren’t vulnerabilities as such, but are instead used to demonstrate different aspects of what you can do using Shatter techn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two of the solution is to provide a mechanism to Win32 applications to allow them to decide whether or not to process a message they have retrieved.  MS have a long history of extending the Win32 API with Ex functions; an extension could be made to GetMessage() to turn it into GetMessageEx(), which tells the application where the message came from.  This could be an X11-style “This message is synthetic” flag, or it could be more comprehensive, such as a PID or window handle.  An application could then figure out what application sent the message, and decide whether or not to honour the request.  Existing software would not break, and at least developers could then at least choose to code securely if they wish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the Win32 architecture with an ACL-based messaging filter would cause a lot of problems, and wouldn’t solve the problem.  Extending the API would provide the facility to fix the problems, but software would have to be rewritten (fairly trivially) to use the new calls and utilise the extra security they provide.  Neither solution is comprehensive, but both are better than a responsive reaction and a trickle of patches; currently, Win32 is “Allow everything except what we know is bad”.  It’s a long accepted fact that as far as security is concerned, “Block everything except what we know is good” is a far better attitude, and leaves you with better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ssue that may be a problem though is whether or not the Windows kernel actually tracks where a message came from.  When you send a message, the kernel retrieves the message and places it into the queue for the receiving application.  If it doesn’t track where the message came from, it may prove difficult to tell the receiving application the source!  Either way, only the developers at MS will ever know the true scale of the probl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many standard controls, present in many different applications, which are vulnerable to direct-execution Shatter attacks through a callback function.  Most of the remainder are probably vulnerable through an indirect attack, given the number of ways that the UI can be manip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in front of a machine cannot trust their UI, neither can the application assume that the UI is as it should be.  Similarly, any security based on a UI cannot be trusted, whether it be acknowledging a dialog with an alert or disabling a button to prevent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thing the user can do, an application can do.  Any trust granted to any application can be subverted with a Shatter attack, whether it is credentials and privileges on the host OS, or as simple as access to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Security Software Ltd – www.ngssoftwar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Paget – foon@ngssoftwar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GIN PGP PUBLIC KEY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sion: PGP 6.5.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QENAz52DowAAAEIALvZ7ujpK8MKOr2VRHWCXeMjRKpLAxwlXHS+pDOBes+huL3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jHgft8CaMBG0P2wnPEWm8oLSxzOlTvjCSr9uwjWUgWOlQQXmM3MgVZjFR/lNG5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5xXajGkabvUKgGu5dpnsMyaksRQ4gdHpmU7SoiV61bJbGmy47pCVVposi+2Pt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qm6fV9skUzkrO8TvTGUN69/O0OPn9cpDCf49AsGMz7XGcuJxEGhw2sThdCHHo4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jrnEQPokOF217u/HeHvclXibbPTZZxBfG17TbLFNg+sm+WCnEeFA9gBu6ql9u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47nLrbovwUnmQTO/Xq3qQxOlkq45JWnpXsIu8ABRG0JENocmlzIFBhZ2V0IDx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HJpc3BAbmdzc29mdHdhcmUuY29tPokBFQMFED52Dozjklaelewi7wEBx8wIAKd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fC7Fe811St0YU7SzVeNGn98/hH0NJFRP1NX9YUsjNFdhk77CdjJ5rtHZmhP1/k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NHmQJN1tdgLadUP/d8FJ4TIGb4l1k1yeVFedjpGC4/INsznTNidP6rzBbgwHf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VEJO7zM9WkIeNXt7igw3Wh7kemokhI/ptk0WUsGvsTtIiJPISNHmzbJzewlZ97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xvpVyvoWzgbO/dAafTPaNmgf0f9UR3d57rgQwnae4J9m0DYAeuHoxyMGz3wyM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Hmpuh1Gr/zsUVYniF8z2Ph6GEU3FcSyTWHcHtI6BNzIjGKOk3jLu2oDrXe5FIn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EXmzBl+IdNX6B2p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mg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 PGP PUBLIC KEY BLO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tter was foisted upon the world with no patch and no official Microsoft response, owing to MSRC refusing to accept that it was a problem.  It was only when I mailed MSRC a copy of Smashing (see next slide) that they accepted the problem and decided to produce a patch – if you want a quick reply from MRSC about a problem you’ve found, it’s best to email them a working exploit; it forces them to acknowledge the problem, and aids their internal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riginal Shatter paper (security.tombom.co.uk/shatter.html) exploited NAI VirusScan to elevate privileges. Smashing started life as a test harness for playing with WM_TIMER, and evolved into a full-blown and very powerful exploit for any system that’s vulnerable to WM_TIMER.  It can bruteforce all windows of all PIDs on the current desktop, has two ways of injecting code into that window, and several ways of sending WM_TIMER to that process.  It’s been tested and works happily against VirusScan, VNC, and several parts of WinLogon, connecting to the machine through a console logon, VNC, Terminal Services, and Citrix.  IWAM_&lt;machinename&gt; has sufficient privileges to run Smashing successfully; however IIS starts it on a separate desktop without any useful windows </a:t>
            </a:r>
            <a:r>
              <a:rPr b="0" lang="en-GB" sz="1200" spc="-1" strike="noStrike">
                <a:solidFill>
                  <a:srgbClr val="000000"/>
                </a:solidFill>
                <a:latin typeface="Wingdings"/>
                <a:ea typeface="Wingdings"/>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s being released here as a useful codebase for other GDI message applications you can think of.  It took me a while trawling through MSDN to find all the correct function calls for ToolHelp and other things; if you’re looking for examples of things you can do to find and then exploit Shatter-style vulns, Smashing should provide most of the routines you’ll come acro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kept the Smashing shellcode as simple as possible for flexibility.  Some of the code injection techniques leave your shellcode in read-only memory, so you’d have to self-decrypt onto the stack/heap – seemed like too much hass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mashing is in folder 1 in the source tree.  The ASM source for the shellcode is there, and should be self-explanatory.  The history.txt gives you the sordid details of what I’ve done to it (I stopped working on Smashing long before the MS patch came out – it took that long), the readme is pretty comprehensive, and the comments in the code should help too.  Please don’t mail me about bugs / bad code / memory leaks in Smashing – I was more concerned about getting stuff working than making sure it was perfect code.  It works, and that’s what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uctured Exception Handling (SEH) is a wonderful bonus if you’re attacking winlogon.exe; as long as you generate exceptions at a relatively slow rate (10/sec or so), SEH will catch them all and winlogon proceeds quite happily.  The shellcode exits nicely too, so you shouldn’t hit any bluescree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de injection through a message box” option for Smashing is worthy of further explanation.  Window structures are stored in a shared heap area (it’s read-only, so you’ll have to self-decrypt onto the stack / heap) that’s mapped into all processes on the same desktop.  If you want to read the caption from someone else’s window, you can just look it up in your own memory space.  It’s done like that to prevent user&lt;-&gt;kernel mode changes for retrieving window info, but it’s damned useful for injecting shellcode.  Bring up a message box, slap your shellcode into the window caption, and it’s automatically mapped into every other process on the same desktop, regardless of privileges.  Look through the Smashing code for the /m option to see what I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ssage box code injection partners rather well with Smashing’s /t option (send the messages to threads instead of windows).  If you have a LocalSystem thread on the same desktop as you, which has no windows but does implement a message queue, you can use /m /t to get into it.  Winlogon has several threads which are vulnerable to this; even if the DDE windows weren’t there the attack would still work using those options.  Anyone who says that these attacks can be prevented by not having LocalSystem windows on the desktop hasn’t looked up PostThreadMessage() in MSD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 captions are great.  You can have half a meg of NOPs before your actual shellcode (Smashing uses 500,000 bytes) so bruteforcing the address is a piece of cake.  You don’t even have to worry about null bytes; if you use SendMessageW() instead of SendMessage(), the parameters are interpreted as Unicode strings, no ASCII-&gt;Unicode conversion takes place, and you end up with your half megabyte of raw, unmodified, NULL-byte containing shellcode in a window caption, and hence in everyone’s memory space.  Where do you want to go to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any way you can think of to get data into your target process will work; you just have to be careful of how long it’s going to stay there.  If, for example, you shove your shellcode into a network buffer, chances are you’re not going to get much exploitation time before it’s corrupted or overwritt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s are useful, but not great.  You can hook any process that’s running as you, but anything else requires privileges.  The bonus is that you get to supply a DLL which gets mapped into every process that you’ve hooked; very useful for code inje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two ways to exploit a Shatter attack in order to get your target process to jump to an address you specify.  WM_TIMER is a direct execution attack; DefWindowProc() simply pulls the address out of the message and jumps to it – there’s actually a load of messages which do this (as you’ll see later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rect execution is dependant upon another flaw in the app, such as a buffer overflow.  Many people mailed me and claimed that the WM_TIMER stuff was this second class; it’s not.  You can take control by exploiting a buffer overflow (there’s code coming up to do so), but it’s marginally trickier, and with WM_TIMER you don’t need t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the simplest Shatter attacks you’ll see.  You supply a callback address in a message, and DefWindowProc (or whatever else it may be) obligingly jumps to the address you specify.  No overflow, no overwriting of saved return addresses or exception handlers, just utilising the perfectly legitimate behaviour that is given to you by the component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s:  EM_SETWORDBREAKPROC tells a multiline edit control what function to call when it needs to word wrap.  Grab a handle to the control, send your message, then fill it with text – when you hit the end of a line, it’ll jump to your address.  LVM_SORTITEMS and LVM_SORTITEMSEX are for ListView controls (like a list box, but with multiple columns).  You specify a sort function, which gets called.  TVM_SORTCHILDRENCB is the equivalent sort function for a TreeView control.  EM_STREAMIN and EM_STREAMOUT are for RichEdit controls; you can specify a function which gets called to either receive the contents of the control or to provide data to it.  All of these messages take an address as a parameter, and jump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oks are another way of taking direct control of a target app, but a little more limited.  You specify a DLL, which gets mapped into every process you own (that’s the limit).  When an event takes place (maybe you’re hooking a certain API call or WM_ message) a function in your DLL gets called.  Nice and ea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come back to direct code execution a little later on in the presentation; I’ll be releasing a privilege escalation exploit which is based on LVM_SORTITE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AFEA9-9789-4990-8BA4-BA4C54F20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0966B-983C-442F-BFC9-BE722839E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3FA10-FF40-4CBE-BE39-A4AFCA51B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7F284-A3BA-470E-9F92-36D1E5494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E357D-26B3-432E-98F9-0412B7002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33A40-6666-4AA2-87A0-86220B72F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6B1A6-749A-4B33-BF73-070D013A5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4EEF8-DCBC-4A40-9E9F-54BBDAA46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7D29B-9524-42DE-919B-30096E1B3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8F032-284C-4C7D-9900-0E34EFCE6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0224-2149-4F82-8A23-68511A68C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4EC63-5FF9-44CE-B9D3-C0CFAD0E7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064E-A435-42A0-9E16-B638C8C8D8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3505320"/>
            <a:ext cx="7705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Next to Continue</a:t>
            </a:r>
            <a:endParaRPr b="0" lang="en-US" sz="2400" spc="-1" strike="noStrike">
              <a:solidFill>
                <a:srgbClr val="000000"/>
              </a:solidFill>
              <a:latin typeface="Arial"/>
            </a:endParaRPr>
          </a:p>
        </p:txBody>
      </p:sp>
      <p:sp>
        <p:nvSpPr>
          <p:cNvPr id="49" name=""/>
          <p:cNvSpPr/>
          <p:nvPr/>
        </p:nvSpPr>
        <p:spPr>
          <a:xfrm>
            <a:off x="619200" y="400860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62120" y="4114800"/>
            <a:ext cx="770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oits &amp; Information about Shatter Attacks</a:t>
            </a:r>
            <a:endParaRPr b="0" lang="en-US" sz="2000" spc="-1" strike="noStrike">
              <a:solidFill>
                <a:srgbClr val="000000"/>
              </a:solidFill>
              <a:latin typeface="Arial"/>
            </a:endParaRPr>
          </a:p>
        </p:txBody>
      </p:sp>
      <p:sp>
        <p:nvSpPr>
          <p:cNvPr id="51" name=""/>
          <p:cNvSpPr/>
          <p:nvPr/>
        </p:nvSpPr>
        <p:spPr>
          <a:xfrm>
            <a:off x="8610480" y="3505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19200" y="4008600"/>
            <a:ext cx="0" cy="50292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6300720" y="5516640"/>
            <a:ext cx="2714760" cy="1190520"/>
          </a:xfrm>
          <a:prstGeom prst="rect">
            <a:avLst/>
          </a:prstGeom>
          <a:ln w="0">
            <a:noFill/>
          </a:ln>
        </p:spPr>
      </p:pic>
      <p:pic>
        <p:nvPicPr>
          <p:cNvPr id="54" name="osprey" descr=""/>
          <p:cNvPicPr/>
          <p:nvPr/>
        </p:nvPicPr>
        <p:blipFill>
          <a:blip r:embed="rId2"/>
          <a:stretch/>
        </p:blipFill>
        <p:spPr>
          <a:xfrm>
            <a:off x="2819520" y="0"/>
            <a:ext cx="3429000" cy="3063960"/>
          </a:xfrm>
          <a:prstGeom prst="rect">
            <a:avLst/>
          </a:prstGeom>
          <a:ln w="0">
            <a:noFill/>
          </a:ln>
        </p:spPr>
      </p:pic>
      <p:sp>
        <p:nvSpPr>
          <p:cNvPr id="55" name=""/>
          <p:cNvSpPr/>
          <p:nvPr/>
        </p:nvSpPr>
        <p:spPr>
          <a:xfrm>
            <a:off x="604800" y="5943600"/>
            <a:ext cx="401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hris Paget &lt;foon@ngssoftware.com&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300720" y="5516640"/>
            <a:ext cx="2714760" cy="1190520"/>
          </a:xfrm>
          <a:prstGeom prst="rect">
            <a:avLst/>
          </a:prstGeom>
          <a:ln w="0">
            <a:noFill/>
          </a:ln>
        </p:spPr>
      </p:pic>
      <p:sp>
        <p:nvSpPr>
          <p:cNvPr id="113"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14"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direct Execution</a:t>
            </a:r>
            <a:endParaRPr b="0" lang="en-US" sz="2000" spc="-1" strike="noStrike">
              <a:solidFill>
                <a:srgbClr val="000000"/>
              </a:solidFill>
              <a:latin typeface="Arial"/>
            </a:endParaRPr>
          </a:p>
        </p:txBody>
      </p:sp>
      <p:sp>
        <p:nvSpPr>
          <p:cNvPr id="116"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ause an exception due to unexpected input</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B_ADDSTRING</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VM_INSERTITEM</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B_ADDSTRING</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y, many mor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M_SETHANDLE - screws up the target process, might be exploi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300720" y="5516640"/>
            <a:ext cx="2714760" cy="1190520"/>
          </a:xfrm>
          <a:prstGeom prst="rect">
            <a:avLst/>
          </a:prstGeom>
          <a:ln w="0">
            <a:noFill/>
          </a:ln>
        </p:spPr>
      </p:pic>
      <p:sp>
        <p:nvSpPr>
          <p:cNvPr id="120"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21"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er Impersonation (1)</a:t>
            </a:r>
            <a:endParaRPr b="0" lang="en-US" sz="2000" spc="-1" strike="noStrike">
              <a:solidFill>
                <a:srgbClr val="000000"/>
              </a:solidFill>
              <a:latin typeface="Arial"/>
            </a:endParaRPr>
          </a:p>
        </p:txBody>
      </p:sp>
      <p:sp>
        <p:nvSpPr>
          <p:cNvPr id="123"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Disable antivirus softwar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Example: Disable NAV2003 with:</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HWND Norton = FindWindow(0,"Norton Antivirus");</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HWND Button = FindWindowEx(Norton,0,0,"&amp;Disable");</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SendMessage(Norton,WM_COMMAND,0x3eb,(LPARAM)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300720" y="5516640"/>
            <a:ext cx="2714760" cy="1190520"/>
          </a:xfrm>
          <a:prstGeom prst="rect">
            <a:avLst/>
          </a:prstGeom>
          <a:ln w="0">
            <a:noFill/>
          </a:ln>
        </p:spPr>
      </p:pic>
      <p:sp>
        <p:nvSpPr>
          <p:cNvPr id="127"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28"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ser Impersonation (2)</a:t>
            </a:r>
            <a:endParaRPr b="0" lang="en-US" sz="2000" spc="-1" strike="noStrike">
              <a:solidFill>
                <a:srgbClr val="000000"/>
              </a:solidFill>
              <a:latin typeface="Arial"/>
            </a:endParaRPr>
          </a:p>
        </p:txBody>
      </p:sp>
      <p:sp>
        <p:nvSpPr>
          <p:cNvPr id="130"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nything you lik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M_SYSCOMMAND</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M_CHAR</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M_LBUTTONUP</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endIn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300720" y="5516640"/>
            <a:ext cx="2714760" cy="1190520"/>
          </a:xfrm>
          <a:prstGeom prst="rect">
            <a:avLst/>
          </a:prstGeom>
          <a:ln w="0">
            <a:noFill/>
          </a:ln>
        </p:spPr>
      </p:pic>
      <p:sp>
        <p:nvSpPr>
          <p:cNvPr id="134"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35"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I Manipulation</a:t>
            </a:r>
            <a:endParaRPr b="0" lang="en-US" sz="2000" spc="-1" strike="noStrike">
              <a:solidFill>
                <a:srgbClr val="000000"/>
              </a:solidFill>
              <a:latin typeface="Arial"/>
            </a:endParaRPr>
          </a:p>
        </p:txBody>
      </p:sp>
      <p:sp>
        <p:nvSpPr>
          <p:cNvPr id="137"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omplete control is possibl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M_SIZ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M_MOV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M_SETTEXT</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reateWindow()</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M_CLOS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nsertMenu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300720" y="5516640"/>
            <a:ext cx="2714760" cy="1190520"/>
          </a:xfrm>
          <a:prstGeom prst="rect">
            <a:avLst/>
          </a:prstGeom>
          <a:ln w="0">
            <a:noFill/>
          </a:ln>
        </p:spPr>
      </p:pic>
      <p:sp>
        <p:nvSpPr>
          <p:cNvPr id="141"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42"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nsequences for the UI</a:t>
            </a:r>
            <a:endParaRPr b="0" lang="en-US" sz="2000" spc="-1" strike="noStrike">
              <a:solidFill>
                <a:srgbClr val="000000"/>
              </a:solidFill>
              <a:latin typeface="Arial"/>
            </a:endParaRPr>
          </a:p>
        </p:txBody>
      </p:sp>
      <p:sp>
        <p:nvSpPr>
          <p:cNvPr id="144"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ser cannot trust the interfac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either can the application</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ny security measure based on the GUI is trivially breakabl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xample: “Shutdown” button on Logon scre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300720" y="5516640"/>
            <a:ext cx="2714760" cy="1190520"/>
          </a:xfrm>
          <a:prstGeom prst="rect">
            <a:avLst/>
          </a:prstGeom>
          <a:ln w="0">
            <a:noFill/>
          </a:ln>
        </p:spPr>
      </p:pic>
      <p:sp>
        <p:nvSpPr>
          <p:cNvPr id="148"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49"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tack Goals (1)</a:t>
            </a:r>
            <a:endParaRPr b="0" lang="en-US" sz="2000" spc="-1" strike="noStrike">
              <a:solidFill>
                <a:srgbClr val="000000"/>
              </a:solidFill>
              <a:latin typeface="Arial"/>
            </a:endParaRPr>
          </a:p>
        </p:txBody>
      </p:sp>
      <p:sp>
        <p:nvSpPr>
          <p:cNvPr id="151"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ivilege Escalation</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y LocalSystem windows on Win2K</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S02-071 states: </a:t>
            </a:r>
            <a:endParaRPr b="0" lang="en-US" sz="2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It’s possible for a highly privilege(sic) process to coexist safely with less privileged processes on the interactive desktop”, as well as “None of them could be subverted without the WM_TIMER flaw”</a:t>
            </a:r>
            <a:endParaRPr b="0" lang="en-US" sz="20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S03-XXX – privilege escalation in Utility Manager (Windows 2000 on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6300720" y="5516640"/>
            <a:ext cx="2714760" cy="1190520"/>
          </a:xfrm>
          <a:prstGeom prst="rect">
            <a:avLst/>
          </a:prstGeom>
          <a:ln w="0">
            <a:noFill/>
          </a:ln>
        </p:spPr>
      </p:pic>
      <p:sp>
        <p:nvSpPr>
          <p:cNvPr id="155"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56"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tack Goals (2)</a:t>
            </a:r>
            <a:endParaRPr b="0" lang="en-US" sz="2000" spc="-1" strike="noStrike">
              <a:solidFill>
                <a:srgbClr val="000000"/>
              </a:solidFill>
              <a:latin typeface="Arial"/>
            </a:endParaRPr>
          </a:p>
        </p:txBody>
      </p:sp>
      <p:sp>
        <p:nvSpPr>
          <p:cNvPr id="158"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nteresting trojans / worm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criptable UI redesigner</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Use the UI instead of the API!</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utomatically disable AV / PFW softwar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PFW’s have another problem – IEK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6300720" y="5516640"/>
            <a:ext cx="2714760" cy="1190520"/>
          </a:xfrm>
          <a:prstGeom prst="rect">
            <a:avLst/>
          </a:prstGeom>
          <a:ln w="0">
            <a:noFill/>
          </a:ln>
        </p:spPr>
      </p:pic>
      <p:sp>
        <p:nvSpPr>
          <p:cNvPr id="162"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63"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lutions</a:t>
            </a:r>
            <a:endParaRPr b="0" lang="en-US" sz="2000" spc="-1" strike="noStrike">
              <a:solidFill>
                <a:srgbClr val="000000"/>
              </a:solidFill>
              <a:latin typeface="Arial"/>
            </a:endParaRPr>
          </a:p>
        </p:txBody>
      </p:sp>
      <p:sp>
        <p:nvSpPr>
          <p:cNvPr id="165"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urrent Win32 API does not allow for global protection from Shatter attack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rchitectural changes or API additions will be required</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pplications will probably need recoding</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re’s no easy solution</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X11 is good from the ground 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6300720" y="5516640"/>
            <a:ext cx="2714760" cy="1190520"/>
          </a:xfrm>
          <a:prstGeom prst="rect">
            <a:avLst/>
          </a:prstGeom>
          <a:ln w="0">
            <a:noFill/>
          </a:ln>
        </p:spPr>
      </p:pic>
      <p:sp>
        <p:nvSpPr>
          <p:cNvPr id="169"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70"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11 vs. Win32</a:t>
            </a:r>
            <a:endParaRPr b="0" lang="en-US" sz="2000" spc="-1" strike="noStrike">
              <a:solidFill>
                <a:srgbClr val="000000"/>
              </a:solidFill>
              <a:latin typeface="Arial"/>
            </a:endParaRPr>
          </a:p>
        </p:txBody>
      </p:sp>
      <p:sp>
        <p:nvSpPr>
          <p:cNvPr id="172"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X11 messages are notifications, not command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X11 send_event flag allows apps to filter synthesised event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ross-window messages can be disabled in X11</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X11 isn’t perfect, but it has advanta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6300720" y="5516640"/>
            <a:ext cx="2714760" cy="1190520"/>
          </a:xfrm>
          <a:prstGeom prst="rect">
            <a:avLst/>
          </a:prstGeom>
          <a:ln w="0">
            <a:noFill/>
          </a:ln>
        </p:spPr>
      </p:pic>
      <p:sp>
        <p:nvSpPr>
          <p:cNvPr id="176"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77"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rchitectural changes</a:t>
            </a:r>
            <a:endParaRPr b="0" lang="en-US" sz="2000" spc="-1" strike="noStrike">
              <a:solidFill>
                <a:srgbClr val="000000"/>
              </a:solidFill>
              <a:latin typeface="Arial"/>
            </a:endParaRPr>
          </a:p>
        </p:txBody>
      </p:sp>
      <p:sp>
        <p:nvSpPr>
          <p:cNvPr id="179"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Prevent cross-process GDI messages </a:t>
            </a:r>
            <a:endParaRPr b="0" lang="en-US" sz="2800" spc="-1" strike="noStrike">
              <a:solidFill>
                <a:srgbClr val="000000"/>
              </a:solidFill>
              <a:latin typeface="Arial"/>
            </a:endParaRPr>
          </a:p>
          <a:p>
            <a:pPr lvl="1" marL="457200">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ould use ACLs based on SID or PID</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Permissions-based</a:t>
            </a:r>
            <a:endParaRPr b="0" lang="en-US" sz="2800" spc="-1" strike="noStrike">
              <a:solidFill>
                <a:srgbClr val="000000"/>
              </a:solidFill>
              <a:latin typeface="Arial"/>
            </a:endParaRPr>
          </a:p>
          <a:p>
            <a:pPr lvl="1" marL="457200">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dmins decide which apps are OK</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Many applications will break (eg PGP)</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Not a complete s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300720" y="5516640"/>
            <a:ext cx="2714760" cy="1190520"/>
          </a:xfrm>
          <a:prstGeom prst="rect">
            <a:avLst/>
          </a:prstGeom>
          <a:ln w="0">
            <a:noFill/>
          </a:ln>
        </p:spPr>
      </p:pic>
      <p:sp>
        <p:nvSpPr>
          <p:cNvPr id="57"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58"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troduction</a:t>
            </a:r>
            <a:endParaRPr b="0" lang="en-US" sz="2000" spc="-1" strike="noStrike">
              <a:solidFill>
                <a:srgbClr val="000000"/>
              </a:solidFill>
              <a:latin typeface="Arial"/>
            </a:endParaRPr>
          </a:p>
        </p:txBody>
      </p:sp>
      <p:sp>
        <p:nvSpPr>
          <p:cNvPr id="60"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PlaceHolder 1"/>
          <p:cNvSpPr>
            <a:spLocks noGrp="1"/>
          </p:cNvSpPr>
          <p:nvPr>
            <p:ph/>
          </p:nvPr>
        </p:nvSpPr>
        <p:spPr>
          <a:xfrm>
            <a:off x="826560" y="1483920"/>
            <a:ext cx="7705800" cy="4032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 3 exploits to be released</a:t>
            </a:r>
            <a:endParaRPr b="0" lang="en-US" sz="2800" spc="-1" strike="noStrike">
              <a:solidFill>
                <a:srgbClr val="000000"/>
              </a:solidFill>
              <a:latin typeface="Arial"/>
            </a:endParaRPr>
          </a:p>
          <a:p>
            <a:pPr marL="343080" indent="-343080">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iques for code injection and execution</a:t>
            </a:r>
            <a:endParaRPr b="0" lang="en-US" sz="2800" spc="-1" strike="noStrike">
              <a:solidFill>
                <a:srgbClr val="000000"/>
              </a:solidFill>
              <a:latin typeface="Arial"/>
            </a:endParaRPr>
          </a:p>
          <a:p>
            <a:pPr marL="343080" indent="-343080">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impersonation and UI manipulation</a:t>
            </a:r>
            <a:endParaRPr b="0" lang="en-US" sz="2800" spc="-1" strike="noStrike">
              <a:solidFill>
                <a:srgbClr val="000000"/>
              </a:solidFill>
              <a:latin typeface="Arial"/>
            </a:endParaRPr>
          </a:p>
          <a:p>
            <a:pPr marL="343080" indent="-343080">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 stuff to do with GDI messages</a:t>
            </a:r>
            <a:endParaRPr b="0" lang="en-US" sz="2800" spc="-1" strike="noStrike">
              <a:solidFill>
                <a:srgbClr val="000000"/>
              </a:solidFill>
              <a:latin typeface="Arial"/>
            </a:endParaRPr>
          </a:p>
          <a:p>
            <a:pPr marL="343080" indent="-343080">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6300720" y="5516640"/>
            <a:ext cx="2714760" cy="1190520"/>
          </a:xfrm>
          <a:prstGeom prst="rect">
            <a:avLst/>
          </a:prstGeom>
          <a:ln w="0">
            <a:noFill/>
          </a:ln>
        </p:spPr>
      </p:pic>
      <p:sp>
        <p:nvSpPr>
          <p:cNvPr id="183"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84"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PI Extensions</a:t>
            </a:r>
            <a:endParaRPr b="0" lang="en-US" sz="2000" spc="-1" strike="noStrike">
              <a:solidFill>
                <a:srgbClr val="000000"/>
              </a:solidFill>
              <a:latin typeface="Arial"/>
            </a:endParaRPr>
          </a:p>
        </p:txBody>
      </p:sp>
      <p:sp>
        <p:nvSpPr>
          <p:cNvPr id="186"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xtend GetMessage() to GetMessageEx()</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ew structure would identify sourc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ource may be PID or X11-style “synthetic” flag</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pplications decide to accept external message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ouldn’t break existing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6300720" y="5516640"/>
            <a:ext cx="2714760" cy="1190520"/>
          </a:xfrm>
          <a:prstGeom prst="rect">
            <a:avLst/>
          </a:prstGeom>
          <a:ln w="0">
            <a:noFill/>
          </a:ln>
        </p:spPr>
      </p:pic>
      <p:sp>
        <p:nvSpPr>
          <p:cNvPr id="190"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91"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blems</a:t>
            </a:r>
            <a:endParaRPr b="0" lang="en-US" sz="2000" spc="-1" strike="noStrike">
              <a:solidFill>
                <a:srgbClr val="000000"/>
              </a:solidFill>
              <a:latin typeface="Arial"/>
            </a:endParaRPr>
          </a:p>
        </p:txBody>
      </p:sp>
      <p:sp>
        <p:nvSpPr>
          <p:cNvPr id="193"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rchitecture change would break lots of softwar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PI extension would require developers to rework software for new call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Existing vuln-by-vuln patching leaves systems open</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Kernel may not actually track message sou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6300720" y="5516640"/>
            <a:ext cx="2714760" cy="1190520"/>
          </a:xfrm>
          <a:prstGeom prst="rect">
            <a:avLst/>
          </a:prstGeom>
          <a:ln w="0">
            <a:noFill/>
          </a:ln>
        </p:spPr>
      </p:pic>
      <p:sp>
        <p:nvSpPr>
          <p:cNvPr id="197"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98"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mmary</a:t>
            </a:r>
            <a:endParaRPr b="0" lang="en-US" sz="2000" spc="-1" strike="noStrike">
              <a:solidFill>
                <a:srgbClr val="000000"/>
              </a:solidFill>
              <a:latin typeface="Arial"/>
            </a:endParaRPr>
          </a:p>
        </p:txBody>
      </p:sp>
      <p:sp>
        <p:nvSpPr>
          <p:cNvPr id="200"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ny app with a TreeView, multiline edit box, ListView or RichEdit control is trivially exploitabl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Many other standard controls are vulnerabl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Users can no longer trust their UI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hatter attacks aren’t just for privilege esca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762120" y="3505320"/>
            <a:ext cx="7705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Next to Continue</a:t>
            </a:r>
            <a:endParaRPr b="0" lang="en-US" sz="2400" spc="-1" strike="noStrike">
              <a:solidFill>
                <a:srgbClr val="000000"/>
              </a:solidFill>
              <a:latin typeface="Arial"/>
            </a:endParaRPr>
          </a:p>
        </p:txBody>
      </p:sp>
      <p:sp>
        <p:nvSpPr>
          <p:cNvPr id="204" name=""/>
          <p:cNvSpPr/>
          <p:nvPr/>
        </p:nvSpPr>
        <p:spPr>
          <a:xfrm>
            <a:off x="619200" y="400860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62120" y="4114800"/>
            <a:ext cx="770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oits &amp; Information about Shatter Attacks</a:t>
            </a:r>
            <a:endParaRPr b="0" lang="en-US" sz="2000" spc="-1" strike="noStrike">
              <a:solidFill>
                <a:srgbClr val="000000"/>
              </a:solidFill>
              <a:latin typeface="Arial"/>
            </a:endParaRPr>
          </a:p>
        </p:txBody>
      </p:sp>
      <p:sp>
        <p:nvSpPr>
          <p:cNvPr id="206" name=""/>
          <p:cNvSpPr/>
          <p:nvPr/>
        </p:nvSpPr>
        <p:spPr>
          <a:xfrm>
            <a:off x="8610480" y="3505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19200" y="4008600"/>
            <a:ext cx="0" cy="50292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 descr=""/>
          <p:cNvPicPr/>
          <p:nvPr/>
        </p:nvPicPr>
        <p:blipFill>
          <a:blip r:embed="rId1"/>
          <a:stretch/>
        </p:blipFill>
        <p:spPr>
          <a:xfrm>
            <a:off x="6300720" y="5516640"/>
            <a:ext cx="2714760" cy="1190520"/>
          </a:xfrm>
          <a:prstGeom prst="rect">
            <a:avLst/>
          </a:prstGeom>
          <a:ln w="0">
            <a:noFill/>
          </a:ln>
        </p:spPr>
      </p:pic>
      <p:pic>
        <p:nvPicPr>
          <p:cNvPr id="209" name="osprey" descr=""/>
          <p:cNvPicPr/>
          <p:nvPr/>
        </p:nvPicPr>
        <p:blipFill>
          <a:blip r:embed="rId2"/>
          <a:stretch/>
        </p:blipFill>
        <p:spPr>
          <a:xfrm>
            <a:off x="2819520" y="0"/>
            <a:ext cx="3429000" cy="3063960"/>
          </a:xfrm>
          <a:prstGeom prst="rect">
            <a:avLst/>
          </a:prstGeom>
          <a:ln w="0">
            <a:noFill/>
          </a:ln>
        </p:spPr>
      </p:pic>
      <p:sp>
        <p:nvSpPr>
          <p:cNvPr id="210" name=""/>
          <p:cNvSpPr/>
          <p:nvPr/>
        </p:nvSpPr>
        <p:spPr>
          <a:xfrm>
            <a:off x="604800" y="5943600"/>
            <a:ext cx="401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hris Paget &lt;foon@ngssoftware.com&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300720" y="5516640"/>
            <a:ext cx="2714760" cy="1190520"/>
          </a:xfrm>
          <a:prstGeom prst="rect">
            <a:avLst/>
          </a:prstGeom>
          <a:ln w="0">
            <a:noFill/>
          </a:ln>
        </p:spPr>
      </p:pic>
      <p:sp>
        <p:nvSpPr>
          <p:cNvPr id="64"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65"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hatter – The WM_TIMER Issue</a:t>
            </a:r>
            <a:endParaRPr b="0" lang="en-US" sz="2000" spc="-1" strike="noStrike">
              <a:solidFill>
                <a:srgbClr val="000000"/>
              </a:solidFill>
              <a:latin typeface="Arial"/>
            </a:endParaRPr>
          </a:p>
        </p:txBody>
      </p:sp>
      <p:sp>
        <p:nvSpPr>
          <p:cNvPr id="67"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leased August 7, 2002</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ccepted as a problem by MS a month later</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atched in December 2002</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de injection through an Edit control</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de execution through WM_TIM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300720" y="5516640"/>
            <a:ext cx="2714760" cy="1190520"/>
          </a:xfrm>
          <a:prstGeom prst="rect">
            <a:avLst/>
          </a:prstGeom>
          <a:ln w="0">
            <a:noFill/>
          </a:ln>
        </p:spPr>
      </p:pic>
      <p:sp>
        <p:nvSpPr>
          <p:cNvPr id="71"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72"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mashing – An Exploit</a:t>
            </a:r>
            <a:endParaRPr b="0" lang="en-US" sz="2000" spc="-1" strike="noStrike">
              <a:solidFill>
                <a:srgbClr val="000000"/>
              </a:solidFill>
              <a:latin typeface="Arial"/>
            </a:endParaRPr>
          </a:p>
        </p:txBody>
      </p:sp>
      <p:sp>
        <p:nvSpPr>
          <p:cNvPr id="74"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orks against any LocalSystem process </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Extensible to other issue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Bruteforce capabilitie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ode injection through window title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ode execution by window handle or thre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300720" y="5516640"/>
            <a:ext cx="2714760" cy="1190520"/>
          </a:xfrm>
          <a:prstGeom prst="rect">
            <a:avLst/>
          </a:prstGeom>
          <a:ln w="0">
            <a:noFill/>
          </a:ln>
        </p:spPr>
      </p:pic>
      <p:sp>
        <p:nvSpPr>
          <p:cNvPr id="78"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79"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mashing Internals</a:t>
            </a:r>
            <a:endParaRPr b="0" lang="en-US" sz="2000" spc="-1" strike="noStrike">
              <a:solidFill>
                <a:srgbClr val="000000"/>
              </a:solidFill>
              <a:latin typeface="Arial"/>
            </a:endParaRPr>
          </a:p>
        </p:txBody>
      </p:sp>
      <p:sp>
        <p:nvSpPr>
          <p:cNvPr id="81"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hellcode simply runs Smashing again</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Named pipe communication</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Fails over to a named fil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High-privileged instance creates proces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Bruteforcing is within the limits of SEH</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Code injection through a message bo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6300720" y="5516640"/>
            <a:ext cx="2714760" cy="1190520"/>
          </a:xfrm>
          <a:prstGeom prst="rect">
            <a:avLst/>
          </a:prstGeom>
          <a:ln w="0">
            <a:noFill/>
          </a:ln>
        </p:spPr>
      </p:pic>
      <p:sp>
        <p:nvSpPr>
          <p:cNvPr id="85"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86"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de Injection – Window Titles</a:t>
            </a:r>
            <a:endParaRPr b="0" lang="en-US" sz="2000" spc="-1" strike="noStrike">
              <a:solidFill>
                <a:srgbClr val="000000"/>
              </a:solidFill>
              <a:latin typeface="Arial"/>
            </a:endParaRPr>
          </a:p>
        </p:txBody>
      </p:sp>
      <p:sp>
        <p:nvSpPr>
          <p:cNvPr id="88"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M_SETTEXT / SetWindowText()</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gt;500KB of shellcode spac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Shared heap segment (for performanc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Message boxes from calling proces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Unicode is your friend!</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Window captions are read-only</a:t>
            </a:r>
            <a:endParaRPr b="0" lang="en-US" sz="2800" spc="-1" strike="noStrike">
              <a:solidFill>
                <a:srgbClr val="000000"/>
              </a:solidFill>
              <a:latin typeface="Arial"/>
            </a:endParaRPr>
          </a:p>
          <a:p>
            <a:pPr lvl="1" marL="457200">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No self-modifying shellc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6300720" y="5516640"/>
            <a:ext cx="2714760" cy="1190520"/>
          </a:xfrm>
          <a:prstGeom prst="rect">
            <a:avLst/>
          </a:prstGeom>
          <a:ln w="0">
            <a:noFill/>
          </a:ln>
        </p:spPr>
      </p:pic>
      <p:sp>
        <p:nvSpPr>
          <p:cNvPr id="92"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93"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de Injection – Alternatives</a:t>
            </a:r>
            <a:endParaRPr b="0" lang="en-US" sz="2000" spc="-1" strike="noStrike">
              <a:solidFill>
                <a:srgbClr val="000000"/>
              </a:solidFill>
              <a:latin typeface="Arial"/>
            </a:endParaRPr>
          </a:p>
        </p:txBody>
      </p:sp>
      <p:sp>
        <p:nvSpPr>
          <p:cNvPr id="95"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dit boxe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amed pipe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File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etwork stream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ther I/O mechanism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ok libra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300720" y="5516640"/>
            <a:ext cx="2714760" cy="1190520"/>
          </a:xfrm>
          <a:prstGeom prst="rect">
            <a:avLst/>
          </a:prstGeom>
          <a:ln w="0">
            <a:noFill/>
          </a:ln>
        </p:spPr>
      </p:pic>
      <p:sp>
        <p:nvSpPr>
          <p:cNvPr id="99"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00"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de Execution</a:t>
            </a:r>
            <a:endParaRPr b="0" lang="en-US" sz="2000" spc="-1" strike="noStrike">
              <a:solidFill>
                <a:srgbClr val="000000"/>
              </a:solidFill>
              <a:latin typeface="Arial"/>
            </a:endParaRPr>
          </a:p>
        </p:txBody>
      </p:sp>
      <p:sp>
        <p:nvSpPr>
          <p:cNvPr id="102"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wo techniques availabl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irect vulnerability: callback function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direct vulnerability: UI manipulation</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ndirect techniques dependant upon a buffer overflow or other exce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6300720" y="5516640"/>
            <a:ext cx="2714760" cy="1190520"/>
          </a:xfrm>
          <a:prstGeom prst="rect">
            <a:avLst/>
          </a:prstGeom>
          <a:ln w="0">
            <a:noFill/>
          </a:ln>
        </p:spPr>
      </p:pic>
      <p:sp>
        <p:nvSpPr>
          <p:cNvPr id="106" name=""/>
          <p:cNvSpPr/>
          <p:nvPr/>
        </p:nvSpPr>
        <p:spPr>
          <a:xfrm>
            <a:off x="826920" y="176040"/>
            <a:ext cx="7705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ick Next to Continue</a:t>
            </a:r>
            <a:endParaRPr b="0" lang="en-US" sz="2000" spc="-1" strike="noStrike">
              <a:solidFill>
                <a:srgbClr val="000000"/>
              </a:solidFill>
              <a:latin typeface="Arial"/>
            </a:endParaRPr>
          </a:p>
        </p:txBody>
      </p:sp>
      <p:sp>
        <p:nvSpPr>
          <p:cNvPr id="107" name=""/>
          <p:cNvSpPr/>
          <p:nvPr/>
        </p:nvSpPr>
        <p:spPr>
          <a:xfrm>
            <a:off x="684360" y="679320"/>
            <a:ext cx="7991280" cy="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826920" y="78588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rect Code Execution</a:t>
            </a:r>
            <a:endParaRPr b="0" lang="en-US" sz="2000" spc="-1" strike="noStrike">
              <a:solidFill>
                <a:srgbClr val="000000"/>
              </a:solidFill>
              <a:latin typeface="Arial"/>
            </a:endParaRPr>
          </a:p>
        </p:txBody>
      </p:sp>
      <p:sp>
        <p:nvSpPr>
          <p:cNvPr id="109" name=""/>
          <p:cNvSpPr/>
          <p:nvPr/>
        </p:nvSpPr>
        <p:spPr>
          <a:xfrm>
            <a:off x="8675640" y="17604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84360" y="679320"/>
            <a:ext cx="0" cy="503280"/>
          </a:xfrm>
          <a:prstGeom prst="line">
            <a:avLst/>
          </a:prstGeom>
          <a:ln w="38160">
            <a:solidFill>
              <a:srgbClr val="0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PlaceHolder 1"/>
          <p:cNvSpPr>
            <a:spLocks noGrp="1"/>
          </p:cNvSpPr>
          <p:nvPr>
            <p:ph/>
          </p:nvPr>
        </p:nvSpPr>
        <p:spPr>
          <a:xfrm>
            <a:off x="826560" y="1483920"/>
            <a:ext cx="7705800" cy="4032360"/>
          </a:xfrm>
          <a:prstGeom prst="rect">
            <a:avLst/>
          </a:prstGeom>
          <a:noFill/>
          <a:ln w="0">
            <a:noFill/>
          </a:ln>
        </p:spPr>
        <p:txBody>
          <a:bodyPr lIns="90000" rIns="90000" tIns="46800" bIns="46800" anchor="t">
            <a:noAutofit/>
          </a:bodyPr>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ighly reliable</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DefWindowProc jumps to the address</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M_SETWORDBREAKPROC</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LVM_SORTITEMS(EX)</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M_STREAMIN / EM_STREAMOUT</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VM_SORTCHILDRENCB</a:t>
            </a:r>
            <a:endParaRPr b="0" lang="en-US" sz="2800" spc="-1" strike="noStrike">
              <a:solidFill>
                <a:srgbClr val="000000"/>
              </a:solidFill>
              <a:latin typeface="Arial"/>
            </a:endParaRPr>
          </a:p>
          <a:p>
            <a:pPr>
              <a:lnSpc>
                <a:spcPct val="100000"/>
              </a:lnSpc>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o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0T10:25:40Z</dcterms:created>
  <dc:creator>Chris Paget</dc:creator>
  <dc:description/>
  <dc:language>en-US</dc:language>
  <cp:lastModifiedBy>Chris Paget</cp:lastModifiedBy>
  <dcterms:modified xsi:type="dcterms:W3CDTF">2003-06-26T16:20:51Z</dcterms:modified>
  <cp:revision>17</cp:revision>
  <dc:subject>Shatter Attacks - exploits and information</dc:subject>
  <dc:title>Click Next to Continue</dc:title>
</cp:coreProperties>
</file>