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eynet Project - project@honeyne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7EEA-6693-4187-879E-2FC573B33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the evaluation form, please list one thing that you liked about this presentation, or one thing you recommend to to improve the 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ever have comments, questions, or data you would like to share with me, feel free to drop me a line whene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ce@spitzner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ank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6C5F-1A71-4A40-A8FE-55609052B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0980-DEA5-4EC8-91DA-70E7F1E27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6640-107F-4379-8A31-3610205F5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5F3D-9173-4014-B2C1-822405D0B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9A20D-9702-415C-B7C9-0BD5B7EAAD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108FD-C1DA-4CFD-AE44-F5EFD05989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C092B-6716-4FD8-9DCE-0D6472B925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EE1B6-5F9A-4B2A-8B25-2EAE8DD0FB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2D659-7AF3-422C-8470-FEE1B786F7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67DDD-0E3A-457A-9FD3-2094F991D4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ECA6A-8C14-41B4-A353-3B3A5C7835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C0B7-F4D8-4D10-9602-2A507E58C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51D56-6D7D-4F2B-B181-82BA113586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CA20B-6161-49C0-8F8B-0F394D6C3D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8532E-7BC8-44E1-8DBB-69F8F77707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3605C-E429-41DF-B504-9B81A3DDF2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E2363-ADE0-4B53-8058-2110E20212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1901-B537-429C-9B24-E27F45D28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5D26C-5D02-48AA-877A-9D49C77EE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47363-D1F8-478E-AFED-9C3857D0B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C92B9-BBA3-46B3-B8FF-28660ADB7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D531-AEC4-48B5-BC8E-E1B5FD5AB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2721-733B-4761-943A-E8A8A0237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835F6-4B58-45D5-A34B-D6B89C535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2480" cy="6856560"/>
            <a:chOff x="0" y="0"/>
            <a:chExt cx="17524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7524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52280" y="374760"/>
              <a:ext cx="1525680" cy="1226880"/>
              <a:chOff x="152280" y="374760"/>
              <a:chExt cx="1525680" cy="1226880"/>
            </a:xfrm>
          </p:grpSpPr>
          <p:sp>
            <p:nvSpPr>
              <p:cNvPr id="3" name=""/>
              <p:cNvSpPr/>
              <p:nvPr/>
            </p:nvSpPr>
            <p:spPr>
              <a:xfrm>
                <a:off x="1171440" y="785880"/>
                <a:ext cx="506520" cy="50652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318" y="198"/>
                    </a:moveTo>
                    <a:lnTo>
                      <a:pt x="318" y="318"/>
                    </a:lnTo>
                    <a:lnTo>
                      <a:pt x="1" y="99"/>
                    </a:lnTo>
                    <a:lnTo>
                      <a:pt x="0" y="108"/>
                    </a:lnTo>
                    <a:lnTo>
                      <a:pt x="46" y="0"/>
                    </a:lnTo>
                    <a:lnTo>
                      <a:pt x="318" y="198"/>
                    </a:lnTo>
                  </a:path>
                </a:pathLst>
              </a:cu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52280" y="785880"/>
                <a:ext cx="506520" cy="50652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0" y="198"/>
                    </a:moveTo>
                    <a:lnTo>
                      <a:pt x="0" y="318"/>
                    </a:lnTo>
                    <a:lnTo>
                      <a:pt x="316" y="99"/>
                    </a:lnTo>
                    <a:lnTo>
                      <a:pt x="318" y="108"/>
                    </a:lnTo>
                    <a:lnTo>
                      <a:pt x="271" y="0"/>
                    </a:lnTo>
                    <a:lnTo>
                      <a:pt x="0" y="198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240480" y="374760"/>
                <a:ext cx="1307160" cy="1226880"/>
                <a:chOff x="240480" y="374760"/>
                <a:chExt cx="1307160" cy="1226880"/>
              </a:xfrm>
            </p:grpSpPr>
            <p:sp>
              <p:nvSpPr>
                <p:cNvPr id="6" name=""/>
                <p:cNvSpPr/>
                <p:nvPr/>
              </p:nvSpPr>
              <p:spPr>
                <a:xfrm flipH="1" rot="10800000">
                  <a:off x="240120" y="374760"/>
                  <a:ext cx="1305000" cy="122544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41200" y="374760"/>
                  <a:ext cx="654120" cy="122688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411" y="772"/>
                      </a:moveTo>
                      <a:lnTo>
                        <a:pt x="411" y="637"/>
                      </a:lnTo>
                      <a:lnTo>
                        <a:pt x="127" y="75"/>
                      </a:lnTo>
                      <a:lnTo>
                        <a:pt x="0" y="0"/>
                      </a:lnTo>
                      <a:lnTo>
                        <a:pt x="411" y="772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41200" y="374760"/>
                  <a:ext cx="1306440" cy="122040"/>
                </a:xfrm>
                <a:custGeom>
                  <a:avLst/>
                  <a:gdLst/>
                  <a:ahLst/>
                  <a:rect l="l" t="t" r="r" b="b"/>
                  <a:pathLst>
                    <a:path w="823" h="77">
                      <a:moveTo>
                        <a:pt x="0" y="0"/>
                      </a:moveTo>
                      <a:lnTo>
                        <a:pt x="127" y="76"/>
                      </a:lnTo>
                      <a:lnTo>
                        <a:pt x="712" y="76"/>
                      </a:lnTo>
                      <a:lnTo>
                        <a:pt x="8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93880" y="374760"/>
                  <a:ext cx="653760" cy="122688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0" y="772"/>
                      </a:moveTo>
                      <a:lnTo>
                        <a:pt x="0" y="637"/>
                      </a:lnTo>
                      <a:lnTo>
                        <a:pt x="283" y="75"/>
                      </a:lnTo>
                      <a:lnTo>
                        <a:pt x="411" y="0"/>
                      </a:lnTo>
                      <a:lnTo>
                        <a:pt x="0" y="772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152280" y="1117440"/>
                <a:ext cx="1522440" cy="1731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C43F-826F-4674-84BA-A3F2EF63034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133720" y="0"/>
            <a:ext cx="4878360" cy="6856560"/>
            <a:chOff x="2133720" y="0"/>
            <a:chExt cx="4878360" cy="6856560"/>
          </a:xfrm>
        </p:grpSpPr>
        <p:sp>
          <p:nvSpPr>
            <p:cNvPr id="52" name=""/>
            <p:cNvSpPr/>
            <p:nvPr/>
          </p:nvSpPr>
          <p:spPr>
            <a:xfrm>
              <a:off x="2895480" y="0"/>
              <a:ext cx="33530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133720" y="472680"/>
              <a:ext cx="4878360" cy="3491280"/>
              <a:chOff x="2133720" y="472680"/>
              <a:chExt cx="4878360" cy="3491280"/>
            </a:xfrm>
          </p:grpSpPr>
          <p:sp>
            <p:nvSpPr>
              <p:cNvPr id="54" name=""/>
              <p:cNvSpPr/>
              <p:nvPr/>
            </p:nvSpPr>
            <p:spPr>
              <a:xfrm>
                <a:off x="2133720" y="1643040"/>
                <a:ext cx="1617480" cy="144000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0" y="566"/>
                    </a:moveTo>
                    <a:lnTo>
                      <a:pt x="0" y="906"/>
                    </a:lnTo>
                    <a:lnTo>
                      <a:pt x="1014" y="283"/>
                    </a:lnTo>
                    <a:lnTo>
                      <a:pt x="1018" y="307"/>
                    </a:lnTo>
                    <a:lnTo>
                      <a:pt x="869" y="0"/>
                    </a:lnTo>
                    <a:lnTo>
                      <a:pt x="0" y="566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394240" y="1643040"/>
                <a:ext cx="1617840" cy="144000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1018" y="566"/>
                    </a:moveTo>
                    <a:lnTo>
                      <a:pt x="1018" y="906"/>
                    </a:lnTo>
                    <a:lnTo>
                      <a:pt x="3" y="283"/>
                    </a:lnTo>
                    <a:lnTo>
                      <a:pt x="0" y="307"/>
                    </a:lnTo>
                    <a:lnTo>
                      <a:pt x="148" y="0"/>
                    </a:lnTo>
                    <a:lnTo>
                      <a:pt x="1018" y="566"/>
                    </a:lnTo>
                  </a:path>
                </a:pathLst>
              </a:cu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6" name=""/>
              <p:cNvGrpSpPr/>
              <p:nvPr/>
            </p:nvGrpSpPr>
            <p:grpSpPr>
              <a:xfrm>
                <a:off x="2494080" y="472680"/>
                <a:ext cx="4178160" cy="3491280"/>
                <a:chOff x="2494080" y="472680"/>
                <a:chExt cx="4178160" cy="3491280"/>
              </a:xfrm>
            </p:grpSpPr>
            <p:sp>
              <p:nvSpPr>
                <p:cNvPr id="57" name=""/>
                <p:cNvSpPr/>
                <p:nvPr/>
              </p:nvSpPr>
              <p:spPr>
                <a:xfrm flipH="1" rot="10800000">
                  <a:off x="2494080" y="472680"/>
                  <a:ext cx="4176720" cy="348948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494080" y="473040"/>
                  <a:ext cx="2089080" cy="3490920"/>
                </a:xfrm>
                <a:custGeom>
                  <a:avLst/>
                  <a:gdLst/>
                  <a:ahLst/>
                  <a:rect l="l" t="t" r="r" b="b"/>
                  <a:pathLst>
                    <a:path w="1316" h="2199">
                      <a:moveTo>
                        <a:pt x="1315" y="2198"/>
                      </a:moveTo>
                      <a:lnTo>
                        <a:pt x="1315" y="1815"/>
                      </a:lnTo>
                      <a:lnTo>
                        <a:pt x="409" y="214"/>
                      </a:lnTo>
                      <a:lnTo>
                        <a:pt x="0" y="0"/>
                      </a:lnTo>
                      <a:lnTo>
                        <a:pt x="1315" y="2198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494080" y="473040"/>
                  <a:ext cx="4178160" cy="344520"/>
                </a:xfrm>
                <a:custGeom>
                  <a:avLst/>
                  <a:gdLst/>
                  <a:ahLst/>
                  <a:rect l="l" t="t" r="r" b="b"/>
                  <a:pathLst>
                    <a:path w="2632" h="217">
                      <a:moveTo>
                        <a:pt x="0" y="0"/>
                      </a:moveTo>
                      <a:lnTo>
                        <a:pt x="409" y="216"/>
                      </a:lnTo>
                      <a:lnTo>
                        <a:pt x="2279" y="216"/>
                      </a:lnTo>
                      <a:lnTo>
                        <a:pt x="26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581360" y="473040"/>
                  <a:ext cx="2090880" cy="3490920"/>
                </a:xfrm>
                <a:custGeom>
                  <a:avLst/>
                  <a:gdLst/>
                  <a:ahLst/>
                  <a:rect l="l" t="t" r="r" b="b"/>
                  <a:pathLst>
                    <a:path w="1317" h="2199">
                      <a:moveTo>
                        <a:pt x="0" y="2198"/>
                      </a:moveTo>
                      <a:lnTo>
                        <a:pt x="0" y="1815"/>
                      </a:lnTo>
                      <a:lnTo>
                        <a:pt x="906" y="214"/>
                      </a:lnTo>
                      <a:lnTo>
                        <a:pt x="1316" y="0"/>
                      </a:lnTo>
                      <a:lnTo>
                        <a:pt x="0" y="2198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2133720" y="2589120"/>
                <a:ext cx="4871880" cy="492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3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4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FBFA-E0E5-461B-9DB4-42F63D6A761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Honeynet Projec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Next Ste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alue - How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95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rly Warning and Predi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y new or unknown tools, vulnerabilities, and method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Pla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95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achieve these new goals, we are taking the following step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on-profit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05040" y="1752480"/>
            <a:ext cx="7338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ganize as a non-profit organiz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irmed two Board of Directo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orge Kurtz, CEO Foundst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uce Schneier, CTO Counterpa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IST Fu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7034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mitted for a Grant under the NIST Critical Infrastructure progra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2nd Generation Honeyn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33280" y="1981080"/>
            <a:ext cx="711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avid Dittrich is taking the team lead on Honeynet develop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rly Warning &amp; Predi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85920" y="1981080"/>
            <a:ext cx="695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eff Stutzman is taking team lead on predicting future attacks based on statistical analysis of captured dat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uly’s Scan of the Mon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now Your Enemy: Statisti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Joint Honeyne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0720" y="1828800"/>
            <a:ext cx="6653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iversity of  Pen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aval Post-graduate Progr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ar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09600" y="1752480"/>
            <a:ext cx="703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will continue to share everything we have learned with the security community, including ne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now Your Enemy pap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an of the Mont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ensic Challen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 and distribute OpenSource 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034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Honeynet Project is dedicated to researching the Blackhat community.  We intend on growing this research for the benefit and development of the security communit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20574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Times New Roman"/>
              </a:rPr>
              <a:t>http://project.honeynet.org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eaeaea"/>
                </a:solidFill>
                <a:latin typeface="Times New Roman"/>
              </a:rPr>
              <a:t>Know Your Enemy:</a:t>
            </a:r>
            <a:r>
              <a:rPr b="0" i="1" lang="en-US" sz="37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eaeaea"/>
                </a:solidFill>
                <a:latin typeface="Times New Roman"/>
              </a:rPr>
              <a:t>Revealing the security tools, tactics and motives of the blackhat community.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explain the future goals and activities of the Honeynet Projec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ase 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the Honeynet Project has completed up to this point in ti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Know Your Enemy</a:t>
            </a:r>
            <a:br>
              <a:rPr sz="4400"/>
            </a:b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Revealing the security tools, tactics and motives of the blackhat commun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09680" y="3048120"/>
            <a:ext cx="69343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Honeynet Project has authored a book that covers in detail what and how we have learned in the past two yea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Boo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80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a Honeynet is, its value, how it works, and risks/issues involv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 analyze and learn from the data collected by a Honey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we have learned about the Blackhat communit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ase II - Operation Poohbe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6653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re we intend to go in the next two yea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s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57040" y="2057400"/>
            <a:ext cx="6729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learn the tools, tactics, and motives of the blackhat community and share the lessons learn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Information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To gather intelligence on sophisticated blackhats and new attack method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Value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To derive more value from the collected dat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formation - How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09320" y="2133720"/>
            <a:ext cx="6653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proved Honeyne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ultiple Honeynets distributed around the worl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01:00:42Z</dcterms:created>
  <dc:creator>Ania</dc:creator>
  <dc:description/>
  <dc:language>en-US</dc:language>
  <cp:lastModifiedBy>Sun Microsystems GESS Security Team</cp:lastModifiedBy>
  <cp:lastPrinted>2000-07-02T16:47:03Z</cp:lastPrinted>
  <dcterms:modified xsi:type="dcterms:W3CDTF">2001-07-10T18:17:37Z</dcterms:modified>
  <cp:revision>180</cp:revision>
  <dc:subject/>
  <dc:title>Know Your Enemy</dc:title>
</cp:coreProperties>
</file>