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1D55-CB5E-442A-9B2C-AC72CAD26D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230D-9540-4397-A04F-29D406E5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5B06-781C-407E-925C-63EDF02D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B03C-478C-4292-8DA0-B44C8AE745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32C5-A23F-4728-A017-3C080C55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EC73-B91B-4805-8E2C-66E7D0F4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DE443-B426-4A22-9BB0-7752C4BE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1F3F-58C5-4ECC-AA94-377E9792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7B08-C5BF-4C83-86A9-FA28C677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EB88-D0C7-47DB-8DDE-7DFAEB3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BF93-DB8C-4400-B23F-20440FFE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8BC3-2F90-46B2-8200-FC56003D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BCC5-340C-4BD1-9C2A-5AE0D7F4C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rack.org/phrack/58/p58-0x05" TargetMode="External"/><Relationship Id="rId3" Type="http://schemas.openxmlformats.org/officeDocument/2006/relationships/hyperlink" Target="http://www.blackhat.com/presentations/bh-usa-03/bh-us-03-mehta/bh-us-03-mehta.pdf" TargetMode="External"/><Relationship Id="rId4" Type="http://schemas.openxmlformats.org/officeDocument/2006/relationships/hyperlink" Target="http://www.blackhat.com/presentations/bh-usa-03/bh-us-03-mehta/bh-us-03-mehta.pdf" TargetMode="External"/><Relationship Id="rId5" Type="http://schemas.openxmlformats.org/officeDocument/2006/relationships/hyperlink" Target="http://www.blackhat.com/presentations/bh-usa-03/bh-us-03-mehta/bh-us-03-mehta.pdf" TargetMode="External"/><Relationship Id="rId6" Type="http://schemas.openxmlformats.org/officeDocument/2006/relationships/hyperlink" Target="http://www.blackhat.com/presentations/bh-usa-03/bh-us-03-mehta/bh-us-03-mehta.pdf" TargetMode="External"/><Relationship Id="rId7" Type="http://schemas.openxmlformats.org/officeDocument/2006/relationships/hyperlink" Target="http://www.blackhat.com/presentations/bh-usa-03/bh-us-03-mehta/bh-us-03-mehta.pdf" TargetMode="External"/><Relationship Id="rId8" Type="http://schemas.openxmlformats.org/officeDocument/2006/relationships/hyperlink" Target="http://www.blackhat.com/presentations/bh-usa-03/bh-us-03-mehta/bh-us-03-mehta.pdf" TargetMode="External"/><Relationship Id="rId9" Type="http://schemas.openxmlformats.org/officeDocument/2006/relationships/hyperlink" Target="http://www.blackhat.com/presentations/bh-usa-03/bh-us-03-mehta/bh-us-03-mehta.pdf" TargetMode="External"/><Relationship Id="rId10" Type="http://schemas.openxmlformats.org/officeDocument/2006/relationships/hyperlink" Target="http://www.blackhat.com/presentations/bh-usa-03/bh-us-03-mehta/bh-us-03-mehta.pdf" TargetMode="External"/><Relationship Id="rId11" Type="http://schemas.openxmlformats.org/officeDocument/2006/relationships/hyperlink" Target="http://www.blackhat.com/presentations/bh-usa-03/bh-us-03-mehta/bh-us-03-mehta.pdf" TargetMode="External"/><Relationship Id="rId12" Type="http://schemas.openxmlformats.org/officeDocument/2006/relationships/hyperlink" Target="http://www.blackhat.com/presentations/bh-usa-03/bh-us-03-mehta/bh-us-03-mehta.pdf" TargetMode="External"/><Relationship Id="rId13" Type="http://schemas.openxmlformats.org/officeDocument/2006/relationships/hyperlink" Target="http://www.blackhat.com/presentations/bh-usa-03/bh-us-03-mehta/bh-us-03-mehta.pdf" TargetMode="External"/><Relationship Id="rId14" Type="http://schemas.openxmlformats.org/officeDocument/2006/relationships/hyperlink" Target="http://www.blackhat.com/presentations/bh-usa-03/bh-us-03-mehta/bh-us-03-mehta.pdf" TargetMode="External"/><Relationship Id="rId15" Type="http://schemas.openxmlformats.org/officeDocument/2006/relationships/hyperlink" Target="http://www.blackhat.com/presentations/bh-usa-03/bh-us-03-mehta/bh-us-03-mehta.pdf" TargetMode="External"/><Relationship Id="rId16" Type="http://schemas.openxmlformats.org/officeDocument/2006/relationships/hyperlink" Target="http://www.blackhat.com/presentations/bh-usa-03/bh-us-03-mehta/bh-us-03-mehta.pdf" TargetMode="External"/><Relationship Id="rId17" Type="http://schemas.openxmlformats.org/officeDocument/2006/relationships/hyperlink" Target="http://www.blackhat.com/presentations/bh-usa-03/bh-us-03-mehta/bh-us-03-mehta.pdf" TargetMode="External"/><Relationship Id="rId18" Type="http://schemas.openxmlformats.org/officeDocument/2006/relationships/hyperlink" Target="http://www.blackhat.com/presentations/bh-usa-03/bh-us-03-mehta/bh-us-03-mehta.pdf" TargetMode="External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lackhat.com/presentations/bh-usa-03/bh-us-03-mehta/bh-us-03-shiva-0.96.tar" TargetMode="External"/><Relationship Id="rId3" Type="http://schemas.openxmlformats.org/officeDocument/2006/relationships/hyperlink" Target="http://teso.scene.at/releases/burneye-1.0.1-src.tar.bz2" TargetMode="External"/><Relationship Id="rId4" Type="http://schemas.openxmlformats.org/officeDocument/2006/relationships/hyperlink" Target="http://teso.scene.at/releases/burneye-1.0.1-src.tar.bz2" TargetMode="External"/><Relationship Id="rId5" Type="http://schemas.openxmlformats.org/officeDocument/2006/relationships/hyperlink" Target="http://teso.scene.at/releases/burneye-1.0.1-src.tar.bz2" TargetMode="External"/><Relationship Id="rId6" Type="http://schemas.openxmlformats.org/officeDocument/2006/relationships/hyperlink" Target="http://teso.scene.at/releases/burneye-1.0.1-src.tar.bz2" TargetMode="External"/><Relationship Id="rId7" Type="http://schemas.openxmlformats.org/officeDocument/2006/relationships/hyperlink" Target="http://teso.scene.at/releases/burneye-1.0.1-src.tar.bz2" TargetMode="External"/><Relationship Id="rId8" Type="http://schemas.openxmlformats.org/officeDocument/2006/relationships/hyperlink" Target="http://teso.scene.at/releases/burneye-1.0.1-src.tar.bz2" TargetMode="External"/><Relationship Id="rId9" Type="http://schemas.openxmlformats.org/officeDocument/2006/relationships/hyperlink" Target="http://teso.scene.at/releases/burneye-1.0.1-src.tar.bz2" TargetMode="External"/><Relationship Id="rId10" Type="http://schemas.openxmlformats.org/officeDocument/2006/relationships/hyperlink" Target="http://www.datarescue.com/idabase/" TargetMode="External"/><Relationship Id="rId11" Type="http://schemas.openxmlformats.org/officeDocument/2006/relationships/hyperlink" Target="http://www.datarescue.com/idabase/" TargetMode="External"/><Relationship Id="rId12" Type="http://schemas.openxmlformats.org/officeDocument/2006/relationships/hyperlink" Target="http://www.datarescue.com/idabase/" TargetMode="External"/><Relationship Id="rId13" Type="http://schemas.openxmlformats.org/officeDocument/2006/relationships/hyperlink" Target="http://www.datarescue.com/idabase/" TargetMode="External"/><Relationship Id="rId14" Type="http://schemas.openxmlformats.org/officeDocument/2006/relationships/hyperlink" Target="http://www.datarescue.com/idabase/" TargetMode="External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ke/Counter-Strik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se Engineering Sh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Ea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al Postgradu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email" descr=""/>
          <p:cNvPicPr/>
          <p:nvPr/>
        </p:nvPicPr>
        <p:blipFill>
          <a:blip r:embed="rId2"/>
          <a:stretch/>
        </p:blipFill>
        <p:spPr>
          <a:xfrm>
            <a:off x="2319480" y="5105520"/>
            <a:ext cx="45050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va Goal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some novel new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 the state of the art for runtime encryption of Unix execu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interest in reverse engineering on Unix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080" y="6172200"/>
            <a:ext cx="244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Mehta - Black Hat US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va Protectiv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encryption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s “strings” crip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s access to the protec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flag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 single-ste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me” data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va Protection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race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ts if ptrace is 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nes itself and the two processes ptrace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s PTRACE_AT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can only be ptraced by one oth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d “inter-ptrace” by Meh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va Protection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AES, password protected middle encryption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binaries won’t run unless correct password is su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er encryption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runtime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va Protections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proc def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ortions of the binary are decrypted at any give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mapp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dump fully decrypted image via /proc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va Protections (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3 instruction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structions are replace with IN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ruction’s operands are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ncountered, Shiva emulates th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you capture a decrypted code block, some instructions may be miss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time encryp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v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versing Sh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sing Sh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alk focuses on static analysi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just can’t hide from stat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e need to make it faster/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’t discuss password protected bi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ptographic attacks rather than R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defenses present in Shiva, this seems like a good (only?)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A Pro Roc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Shiva tries to make disassembly toug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ping into the middle of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c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layer1" descr=""/>
          <p:cNvPicPr/>
          <p:nvPr/>
        </p:nvPicPr>
        <p:blipFill>
          <a:blip r:embed="rId2"/>
          <a:stretch/>
        </p:blipFill>
        <p:spPr>
          <a:xfrm>
            <a:off x="638280" y="685800"/>
            <a:ext cx="7867440" cy="5486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410080" y="1523880"/>
            <a:ext cx="152424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2133720"/>
            <a:ext cx="2717640" cy="1003320"/>
          </a:xfrm>
          <a:custGeom>
            <a:avLst/>
            <a:gdLst/>
            <a:ahLst/>
            <a:rect l="l" t="t" r="r" b="b"/>
            <a:pathLst>
              <a:path w="1712" h="632">
                <a:moveTo>
                  <a:pt x="1296" y="0"/>
                </a:moveTo>
                <a:cubicBezTo>
                  <a:pt x="1504" y="140"/>
                  <a:pt x="1712" y="280"/>
                  <a:pt x="1584" y="384"/>
                </a:cubicBezTo>
                <a:cubicBezTo>
                  <a:pt x="1456" y="488"/>
                  <a:pt x="792" y="616"/>
                  <a:pt x="528" y="624"/>
                </a:cubicBezTo>
                <a:cubicBezTo>
                  <a:pt x="264" y="632"/>
                  <a:pt x="132" y="532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time encryp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v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ing Sh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or Annoy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DA, just undefine the false target and redefine code at the proper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make it almost painless as we shall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more tedious with g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We Achie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analysis will only give us a glimpse into the unwrapp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n’t execute it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in our head for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A scripting offers some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A plugins offer MUCH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Past Lay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UPX, Shiva offers no option to undo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ly, let Shiva run itself through the outer decryption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b, b *0x0A048068, r, generate-core-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048068 is currently the address of the first function called following 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I Want to Live in ID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load the core dump into IDA and analy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some help, which function is the entry po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ing the layer 1 decryption provides better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ipted Decry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algorithm is well-defined we can write an IDA script to mimic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and patch the binary within 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 for U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eds where UPX fails when Scramble has been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va isn’t so 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Wa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lose to automated script generati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A has great annotation and navigation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 won’t run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 of running it in my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B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x86 plugin for 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s IDA database for virtual address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it’s own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 to step through x86 code within 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ed for scripts, just run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sole" descr=""/>
          <p:cNvPicPr/>
          <p:nvPr/>
        </p:nvPicPr>
        <p:blipFill>
          <a:blip r:embed="rId2"/>
          <a:stretch/>
        </p:blipFill>
        <p:spPr>
          <a:xfrm>
            <a:off x="2019240" y="1828800"/>
            <a:ext cx="51055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ed to generate scripts for unpackers/decry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ru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 deb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ibrary d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through any x86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ied to a specific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To Sh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1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XOR and ADD loops over three data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1 - Shiva run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2 - .rodata for Shiva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3 - .data for Shiva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3 contains the encrypted user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able encryption/obfus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compilation manipulation of an executable to prevent/slow reverse engineering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va Protected File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190512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905120"/>
            <a:ext cx="29718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hiva run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733920"/>
            <a:ext cx="29718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4343400"/>
            <a:ext cx="297180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rypt bl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3124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560" y="1676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A04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560" y="2895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A04B0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560" y="3429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A04B8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560" y="4114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A04CA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288" y="1008"/>
                </a:moveTo>
                <a:lnTo>
                  <a:pt x="0" y="1008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1080" y="1828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A0480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va Run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layer 1 decryption control transfers to the Shiva runtime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s anti-R.E.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s a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nes monito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ypts static crypt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pplication .data among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Encry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2 was optional password protected A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s Tiny Encryption Algorithm (T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8 bit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s obfuscated within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va breaks a binary up into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ily along the lines of code v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blocks align roughly on natural data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ll call these Type II blo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ed into place immediately, remain for life of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 Block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blocks partitioned to about 1k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ll call these Type III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split in the middle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y they need to do instruction length decoding (see Mehta’s 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p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P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va keeps unused memory filled with 0x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CC = IN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p to empty location or run off end of block generates 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sponse Shiva decrypts and maps the require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va maintains a page table for Type III crypt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size is 1/3 the number of Type III blocks (min size is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fficiently large programs no more than 1/3 of the program will be decrypted at any give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page replacement once table f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rypt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0 and Type I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program’s memory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ed ELF head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has 1 of each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V crypt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index of on-demand crypt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Type IV block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ed to the heap at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 Block Key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ype of crypt block gets its own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same type share the sam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 we need to recover 5 keys in order to decrypt all of the types of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Obfus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va contains a key reconstruction function for each type of crypt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de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block type (0-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appropriate key reconstructio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/compress exec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 it with an unwrapper front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wrapper provides minimal compliance with executable forma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re obfus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layer 1 decr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 from one binary to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to script based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easy to 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trace th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lugin to run the functions and collect the key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066680" y="2133720"/>
            <a:ext cx="4419720" cy="3045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133720"/>
            <a:ext cx="4419720" cy="3045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5 keys in hand it is possible to decrypt all of the crypt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lock is identified by a magic number that provides it’s type (0-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locks are contig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the keys in an IDA script and ru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A Decrypt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s T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ches original bytes in IDA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 the IDC language has lousy arra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 is u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Line of Def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structions replaced with INT 3 traps (software break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encountered, Shiva emulates them using the ptrac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mulation record entry is maintained for each su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Line of Defens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repair decrypted blocks by restoring thes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 the emulation record list to patch over Shiva inserted INT 3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emu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(3 flav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P (2 flav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3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752480"/>
            <a:ext cx="6629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va runtim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2133720"/>
            <a:ext cx="66294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 block key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14600"/>
            <a:ext cx="6629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extraction function offsets/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124080"/>
            <a:ext cx="662940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3 patch and emulated instru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3733920"/>
            <a:ext cx="66294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0-4 crypt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 goal is to recover the original b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ypted blocks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ayout information (Elf32_Ph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Recovery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ulation record list contains enough information to repair all code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repaired, ELF headers and segments can be generated to construct an unwrapped b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Recovery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d process once the data is pulled out of 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patch the INT 3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generate ELF h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paste (de)crypt blocks into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you get to reverse the recovered bina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wrapper extracts (in some way) the original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wrapper transfers control to the entry point of the original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wrapper is effectively jettis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 Auto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ryone owns a copy of 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sh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tool to remove Shiva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n x86 em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all of the steps previously outlined to yield an unprotected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your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638680" y="3581280"/>
            <a:ext cx="2971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b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1752480"/>
            <a:ext cx="2971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b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psh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1752480"/>
            <a:ext cx="29718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581280"/>
            <a:ext cx="297180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4191120"/>
            <a:ext cx="2971800" cy="1676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2971800"/>
            <a:ext cx="297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8200" y="1752480"/>
            <a:ext cx="1369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sh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9960" y="3505320"/>
            <a:ext cx="191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86 E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191120"/>
            <a:ext cx="2971800" cy="1676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0920" y="2209680"/>
            <a:ext cx="2286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25146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_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2903400"/>
            <a:ext cx="2938320" cy="758880"/>
          </a:xfrm>
          <a:custGeom>
            <a:avLst/>
            <a:gdLst/>
            <a:ahLst/>
            <a:rect l="l" t="t" r="r" b="b"/>
            <a:pathLst>
              <a:path w="1851" h="478">
                <a:moveTo>
                  <a:pt x="0" y="379"/>
                </a:moveTo>
                <a:cubicBezTo>
                  <a:pt x="256" y="320"/>
                  <a:pt x="1229" y="54"/>
                  <a:pt x="1536" y="27"/>
                </a:cubicBezTo>
                <a:cubicBezTo>
                  <a:pt x="1843" y="0"/>
                  <a:pt x="1839" y="151"/>
                  <a:pt x="1840" y="219"/>
                </a:cubicBezTo>
                <a:cubicBezTo>
                  <a:pt x="1841" y="287"/>
                  <a:pt x="1851" y="392"/>
                  <a:pt x="1544" y="435"/>
                </a:cubicBezTo>
                <a:cubicBezTo>
                  <a:pt x="1237" y="478"/>
                  <a:pt x="322" y="467"/>
                  <a:pt x="0" y="4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752120" y="2209680"/>
            <a:ext cx="22860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1800" y="2514600"/>
            <a:ext cx="6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41360" y="3962520"/>
            <a:ext cx="4678560" cy="893520"/>
          </a:xfrm>
          <a:custGeom>
            <a:avLst/>
            <a:gdLst/>
            <a:ahLst/>
            <a:rect l="l" t="t" r="r" b="b"/>
            <a:pathLst>
              <a:path w="2947" h="563">
                <a:moveTo>
                  <a:pt x="259" y="0"/>
                </a:moveTo>
                <a:cubicBezTo>
                  <a:pt x="151" y="100"/>
                  <a:pt x="74" y="200"/>
                  <a:pt x="451" y="240"/>
                </a:cubicBezTo>
                <a:cubicBezTo>
                  <a:pt x="828" y="280"/>
                  <a:pt x="2115" y="220"/>
                  <a:pt x="2523" y="240"/>
                </a:cubicBezTo>
                <a:cubicBezTo>
                  <a:pt x="2931" y="260"/>
                  <a:pt x="2898" y="317"/>
                  <a:pt x="2899" y="360"/>
                </a:cubicBezTo>
                <a:cubicBezTo>
                  <a:pt x="2900" y="403"/>
                  <a:pt x="2947" y="476"/>
                  <a:pt x="2531" y="496"/>
                </a:cubicBezTo>
                <a:cubicBezTo>
                  <a:pt x="2115" y="516"/>
                  <a:pt x="806" y="563"/>
                  <a:pt x="403" y="480"/>
                </a:cubicBezTo>
                <a:cubicBezTo>
                  <a:pt x="0" y="397"/>
                  <a:pt x="39" y="200"/>
                  <a:pt x="11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955880"/>
            <a:ext cx="5969160" cy="4254480"/>
          </a:xfrm>
          <a:custGeom>
            <a:avLst/>
            <a:gdLst/>
            <a:ahLst/>
            <a:rect l="l" t="t" r="r" b="b"/>
            <a:pathLst>
              <a:path w="3760" h="2680">
                <a:moveTo>
                  <a:pt x="0" y="16"/>
                </a:moveTo>
                <a:cubicBezTo>
                  <a:pt x="368" y="8"/>
                  <a:pt x="736" y="0"/>
                  <a:pt x="1008" y="304"/>
                </a:cubicBezTo>
                <a:cubicBezTo>
                  <a:pt x="1280" y="608"/>
                  <a:pt x="1232" y="1592"/>
                  <a:pt x="1632" y="1840"/>
                </a:cubicBezTo>
                <a:cubicBezTo>
                  <a:pt x="2032" y="2088"/>
                  <a:pt x="3096" y="1672"/>
                  <a:pt x="3408" y="1792"/>
                </a:cubicBezTo>
                <a:cubicBezTo>
                  <a:pt x="3720" y="1912"/>
                  <a:pt x="3760" y="2440"/>
                  <a:pt x="3504" y="2560"/>
                </a:cubicBezTo>
                <a:cubicBezTo>
                  <a:pt x="3248" y="2680"/>
                  <a:pt x="2184" y="2624"/>
                  <a:pt x="1872" y="2512"/>
                </a:cubicBezTo>
                <a:cubicBezTo>
                  <a:pt x="1560" y="2400"/>
                  <a:pt x="1896" y="1952"/>
                  <a:pt x="1632" y="1888"/>
                </a:cubicBezTo>
                <a:cubicBezTo>
                  <a:pt x="1368" y="1824"/>
                  <a:pt x="828" y="1976"/>
                  <a:pt x="288" y="2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30120" y="12952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h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9440" y="5105520"/>
            <a:ext cx="1453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hiva.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Analy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proc fs snapsho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est a third of the binary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imulate all control pat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locks never pag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 to capture emulated instruc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't read /proc/&lt;pid&gt;/mem unless you PTRACE_ATTA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rnel Modul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 process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Shiva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0A048000, check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p data segment to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tripshiva to recover binary from dump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rnel Module Approach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passes /proc def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way (without brute forcing) to recover password protected bin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keep process alive long enough to insert l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time encryp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v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ing Sh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mpact of Sh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ing/decryption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race/emulated instruction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of Shiva protected binary i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one with static analysis tool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hate Windows, but you've got to love IDA Pr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f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Ea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email2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36957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ouring the ELF: Binary encryption on the UNIX platform, grugq &amp; scut,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phrack.org/phrack/58/p58-0x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va: Advances in ELF Runtime Binary Encryption, Clowes &amp; Mehta, Black Hat USA 2003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blackhat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.com/presentations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bh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us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-03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bh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-us-03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meht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bh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-us-03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meht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untime encryption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v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ing Sh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va-0.96, Clowes &amp; Mehta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blackhat.com/presentations/bh-usa-03/bh-us-03-mehta/bh-us-03-shiva-0.96.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eye-1.0.1, scut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teso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.scene.at/releases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burney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-1.0.1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sr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.tar.bz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A Pro, Data Rescue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http://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datarescu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.com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idabas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PE manip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X, ASPack, tE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mble U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ELF manip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X, Burn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time encryp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hiva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ing Sh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Neel Mehta and Shaun Clow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at CanSecWest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again at Black Hat USA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d as a Shiva protected bin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44:53Z</dcterms:created>
  <dc:creator>Chris Eagle</dc:creator>
  <dc:description/>
  <dc:language>en-US</dc:language>
  <cp:lastModifiedBy>Chris Eagle</cp:lastModifiedBy>
  <dcterms:modified xsi:type="dcterms:W3CDTF">2003-09-12T05:53:50Z</dcterms:modified>
  <cp:revision>9</cp:revision>
  <dc:subject/>
  <dc:title>Strike/Counter-Strike: Reverse Engineering Shiva</dc:title>
</cp:coreProperties>
</file>