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427A-AFD8-4ABF-BB6D-FAD0E967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realization of the Short Message Service (SMS)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M 03.40 (now: ETSI TS 100 9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also: GSM 03.38 (ETSI TS 100 900), GSM 03.42 (ETSI TS 101 0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ttp://www.dreamfabric.com/sm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Messaging Specification”, Nokia, version 2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protocols for the connection of Short Message Service Centres (SMSCs) to Short Message Entitities (SMEs)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M 03.39 (now ETSI TS 101 6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M/ETSI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ty mechanisms for the SIM Application Toolk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M 02.48 (Now: ETSE TS 101 1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 of the SIM application toolkit for the Subscriber Identity Module – Mobile Equipment (SIM – ME) interfa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M 11.14 (TS 101 2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* Effect Considered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hit Khare, 4K Associates, April 9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ttp://www.4k-associates.com/4K-Associates/IEEE-L7-WAP-BI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m of the Wireless Application Protocol (W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ttp://www.freeprotocols.org/harmOfWap/mai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l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he WAP Trap, Mohsen Banan, Neda Communications, Inc., January 29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ttp://www.freeprotocols.org/wapTrap/mai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less F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llnetdevices.com/f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Security Meta-F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ap.z-y-g-o.com/wsec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200-W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202-WC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59-WDPWCMPAda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99-WT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arinen, Markku-Juhani. "Attacks against the WAP WTLS Protocol." University of Jyväskylä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ttp://www.cc.jyu.fi/~mjos/wtls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ty in the WT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ml.hut.fi/Opinnot/Tik-110.501/1999/papers/wtl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ulnerabilities within the Wireless Application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Gill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31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ttp://www.sans.org/infosecFAQ/wireless/WAP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ificate checking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ttp://wap.z-y-g-o.com/wsec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201-W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203-W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 WSP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e.oulu.fi/research/ouspg/proto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P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e.oulu.fi/research/ouspg/protos/testing/c04/wap-wsp-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nnel Open Source WAP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kannel.3glab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95WAE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90WAE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. WAP-191-W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65-PushArch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45-Push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51-PPG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64-P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67-Service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68-Service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P Specification WAP-189-Push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http://www.etsi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eneration Partner Program http://www.3gp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apforum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vember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14800" y="6172200"/>
            <a:ext cx="685800" cy="533520"/>
            <a:chOff x="4114800" y="6172200"/>
            <a:chExt cx="685800" cy="533520"/>
          </a:xfrm>
        </p:grpSpPr>
        <p:sp>
          <p:nvSpPr>
            <p:cNvPr id="5" name=""/>
            <p:cNvSpPr/>
            <p:nvPr/>
          </p:nvSpPr>
          <p:spPr>
            <a:xfrm>
              <a:off x="4114800" y="6172200"/>
              <a:ext cx="685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logo-s" descr=""/>
            <p:cNvPicPr/>
            <p:nvPr/>
          </p:nvPicPr>
          <p:blipFill>
            <a:blip r:embed="rId3"/>
            <a:stretch/>
          </p:blipFill>
          <p:spPr>
            <a:xfrm>
              <a:off x="4178160" y="6233400"/>
              <a:ext cx="565560" cy="44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5880" y="624852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vember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81280" y="4419720"/>
            <a:ext cx="1980720" cy="1523160"/>
            <a:chOff x="3581280" y="4419720"/>
            <a:chExt cx="1980720" cy="1523160"/>
          </a:xfrm>
        </p:grpSpPr>
        <p:sp>
          <p:nvSpPr>
            <p:cNvPr id="49" name=""/>
            <p:cNvSpPr/>
            <p:nvPr/>
          </p:nvSpPr>
          <p:spPr>
            <a:xfrm>
              <a:off x="3581280" y="4419720"/>
              <a:ext cx="1980720" cy="15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logo-s" descr=""/>
            <p:cNvPicPr/>
            <p:nvPr/>
          </p:nvPicPr>
          <p:blipFill>
            <a:blip r:embed="rId3"/>
            <a:stretch/>
          </p:blipFill>
          <p:spPr>
            <a:xfrm>
              <a:off x="3764880" y="4595040"/>
              <a:ext cx="1634040" cy="126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624852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bile securi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and WA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de Ha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job@itsx.com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is SM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messaging (PP and C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ed through SS7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40 bytes data (160 7 bit ch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nything that interfaces to a SMSC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, GSM modem,PC dial-in,X.25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ttp://www.etsi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network elem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sms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791480" cy="3698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40200" y="2381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0480" y="31910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9560" y="40575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40200" y="4848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data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brv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: Service Cent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: Mobile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S-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S-DELIVER-REP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S-SUBM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S-SUBMIT-REP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S-COMM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S-STATUS-REQU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-SUBMI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523880"/>
          <a:ext cx="7772400" cy="5127840"/>
        </p:xfrm>
        <a:graphic>
          <a:graphicData uri="http://schemas.openxmlformats.org/drawingml/2006/table">
            <a:tbl>
              <a:tblPr/>
              <a:tblGrid>
                <a:gridCol w="1143000"/>
                <a:gridCol w="3733920"/>
                <a:gridCol w="160020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d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M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ssage Type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ject Dupl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V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idity period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ly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UD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 Data Header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S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s Report Requ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ssag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tination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-12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col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D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 Coding Sch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V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idity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/7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U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 Data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-DELIV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676520"/>
          <a:ext cx="7772400" cy="4395600"/>
        </p:xfrm>
        <a:graphic>
          <a:graphicData uri="http://schemas.openxmlformats.org/drawingml/2006/table">
            <a:tbl>
              <a:tblPr/>
              <a:tblGrid>
                <a:gridCol w="1143000"/>
                <a:gridCol w="3733920"/>
                <a:gridCol w="160020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d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M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ssage Type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M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Messages to S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ly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UD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 Data Header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S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s Report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ting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-12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col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D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 Coding Sche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S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 Time St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U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 Data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P-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ser Data Hea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udh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696080" cy="3490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27160" y="5527800"/>
            <a:ext cx="69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tets can be octets for 8-bit SM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ser Data Header Elem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3880" y="1676520"/>
          <a:ext cx="5562720" cy="4354560"/>
        </p:xfrm>
        <a:graphic>
          <a:graphicData uri="http://schemas.openxmlformats.org/drawingml/2006/table">
            <a:tbl>
              <a:tblPr/>
              <a:tblGrid>
                <a:gridCol w="914400"/>
                <a:gridCol w="4648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atenated 8-bit re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S message ind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-bi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-bi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SC control pa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DH source 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atenated 16-bit re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C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-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 Toolkit sec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-9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E to SME specific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0-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 specific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art SMS/O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ined Ericsson/Nokia sp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sending of ‘smart’ inform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t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o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card/Vcal (business car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information (W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UDH with app specific port numb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hort Message Service Cent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MSC plays a central role in the delivery and routing of the 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vendor has his own protocol to talk to the SMSC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G – EMI/U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kia – CI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 – SMS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 – SM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M Toolki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criber Identity Module: SI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martcard in the ph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PI for communication between the phone and the S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ly an API for remote management of the SIM through SMS mess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GSM, SMS and WA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S in de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and SM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and WA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an we exp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M Toolkit Ris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takes in the SIM can become remote ris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 insufficient protection in the SIM might allow retrieval of personal inform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Threa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S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S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S Vi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Sp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ting to be like U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charge call sca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“call me at xxx-VERYEXPENSIVE”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public SMS gateways and websites become victi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mmers buy bulk services from 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Spoof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of SMS messages is worth not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ming capabilities of users make it impossible to filter by opera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chance is for messages that stay within one SMSC/Oper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cepting replies to another address is diffic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ase: Rogue SMSC using the Reply-Path indicator could intercept repl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spoof dem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sms_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EMI/UCP OT-51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 on KPN, but also several foreign SMS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ce with a real mobile SMS is visible with a P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Vir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enario: SMS is interpreted by phone and resend it self to all phone numbers in the phonebook and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lihoo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: some vendors have big market shares: monocul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: phones will get more and more interpreting feat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: zillions of versions of phones and softw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Phone crash dem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sms_client: break the User Data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been tested on both UCP and OIS, but should work on anything that allows specification of UD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: broken sw in ph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n on 6210, 3310, 333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 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S is much more than just some tex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phisticated features are bound to open up holes (viru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S very suited to bulk applic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like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worthiness as bad or worse as with standard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P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P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P Infrastructure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ML and WML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is WAP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/HTML adjusted to small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s of a network architectu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tocol stack and a Wireless Markup Language (WM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difference from traditional Internet model is the WAP-gate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at http://www.wapforum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is this talk not abou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bout the underlying wireless technologies GSM, CDMA, TD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from a GSM/SMS/WAP implementer point of vie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bout actual exploits and demonstrations of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network mode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wapgw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7010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Protocol Sta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wapprot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70572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Protocol Sta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wapprot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705720" cy="4173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414972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Transport Layer WD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daptation layer to the bearer protoc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s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nd destination address and por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ly fra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s to UDP for IP bea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Protocol Sta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wapprot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705720" cy="4173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35812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Security Layer WT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LS adapted to the UDP-type usage by WA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nd authent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problems identified by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arkku-Juhan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aarin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ak M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A PKCS#1 1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uthenticated aler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text lea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T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s generally placed in normal phone stor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standards emerging (WAP Identity Module [WIM]) for usage of tamper-resistent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ide from crypto 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nterface attacks like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emember SSL probl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TLS terminates at WAP gateway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M attacks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Protocol Sta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wapprot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705720" cy="4173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297180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Transaction layer WT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lasses of transac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0: 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1: reliable without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2: reliable with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the minimum a protocol must do to create 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curity elements at this la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not resistant to malicious attac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T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743200" y="1828800"/>
          <a:ext cx="3886200" cy="2438280"/>
        </p:xfrm>
        <a:graphic>
          <a:graphicData uri="http://schemas.openxmlformats.org/drawingml/2006/table">
            <a:tbl>
              <a:tblPr/>
              <a:tblGrid>
                <a:gridCol w="1317600"/>
                <a:gridCol w="855720"/>
                <a:gridCol w="857160"/>
                <a:gridCol w="85572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oke P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 P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k P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ort P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3" name="wtpinvoke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7772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is this talk abou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perspective on security of mobile applications like SMS and W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an external point of view, based on ~10 yrs experience in breaking systems and app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ing potential problems now and in the near fu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Protocol Sta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wapprot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705720" cy="417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36232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Session Layer WS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nt to mimic the HTTP protoc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mention of security in spec except for WT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inguishes a connected and connectionless m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ed mode is based on a SessionID given by the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Session layer WS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, ConnectReply, Redirect, Dis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: Get, Post,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pend, Resume,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, ConfirmedPush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Session layer WS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hing is specified on the sessionid except that it is not reused within the lifetime of a mes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done in Protos (Oulu, finland) shows first implementations pretty ins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nnel still can’t handle large amount of connections (max thread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Protocol Sta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wapprot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705720" cy="4173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7524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Application Layer WA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wae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09588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M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ML based on XML and HTM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pages of frames, but decks with c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ages: WBMP, WAP speci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 all compiled to binary by WAP gateway: Additional area of potential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MLScrip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AP Javascript equival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d in separate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compiled by WAP gate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automation of WML and phone fun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 bugs all over agai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eral WAP problems see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r session support: no or limited cookie suppor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code session info in UR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(not always safe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identification based on WAP Gateway hack with caller 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Infrastructure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acking a dialed in ph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ofing another dialed in ph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acking the gate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o is this talk fo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asked to evaluate security of SMS and WAP app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who want to do research into SMS and WAP secur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familiar with computer and Internet security but not with SMS and W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gateway inf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0880" y="2057400"/>
            <a:ext cx="8046000" cy="2745720"/>
            <a:chOff x="380880" y="2057400"/>
            <a:chExt cx="8046000" cy="2745720"/>
          </a:xfrm>
        </p:grpSpPr>
        <p:pic>
          <p:nvPicPr>
            <p:cNvPr id="208" name="phone" descr=""/>
            <p:cNvPicPr/>
            <p:nvPr/>
          </p:nvPicPr>
          <p:blipFill>
            <a:blip r:embed="rId2"/>
            <a:stretch/>
          </p:blipFill>
          <p:spPr>
            <a:xfrm>
              <a:off x="609480" y="2057400"/>
              <a:ext cx="5158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057400" y="2514600"/>
              <a:ext cx="53352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webserver" descr=""/>
            <p:cNvPicPr/>
            <p:nvPr/>
          </p:nvPicPr>
          <p:blipFill>
            <a:blip r:embed="rId3"/>
            <a:stretch/>
          </p:blipFill>
          <p:spPr>
            <a:xfrm>
              <a:off x="7238880" y="2971800"/>
              <a:ext cx="106704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122960" y="396252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e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92920" y="43434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Dia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90920" y="342900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259092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10080" y="2666880"/>
              <a:ext cx="1295640" cy="175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wapgw2" descr=""/>
            <p:cNvPicPr/>
            <p:nvPr/>
          </p:nvPicPr>
          <p:blipFill>
            <a:blip r:embed="rId4"/>
            <a:stretch/>
          </p:blipFill>
          <p:spPr>
            <a:xfrm>
              <a:off x="3352680" y="2819520"/>
              <a:ext cx="154152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webserver" descr=""/>
            <p:cNvPicPr/>
            <p:nvPr/>
          </p:nvPicPr>
          <p:blipFill>
            <a:blip r:embed="rId5"/>
            <a:stretch/>
          </p:blipFill>
          <p:spPr>
            <a:xfrm>
              <a:off x="380880" y="3505320"/>
              <a:ext cx="106704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flipV="1">
              <a:off x="1447920" y="3504960"/>
              <a:ext cx="6094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219320" y="5029200"/>
            <a:ext cx="2057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6960" y="518148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 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usion attac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2514600"/>
            <a:ext cx="533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webserver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067040" cy="1020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122960" y="396252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92920" y="43434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ia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34290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2666880"/>
            <a:ext cx="1295640" cy="175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wapgw2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1541520" cy="1412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19320" y="5029200"/>
            <a:ext cx="2057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333760" y="4952520"/>
            <a:ext cx="20574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97280" y="51055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WML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webserver" descr=""/>
          <p:cNvPicPr/>
          <p:nvPr/>
        </p:nvPicPr>
        <p:blipFill>
          <a:blip r:embed="rId4"/>
          <a:stretch/>
        </p:blipFill>
        <p:spPr>
          <a:xfrm>
            <a:off x="457200" y="2895480"/>
            <a:ext cx="106668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ttack on pho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hone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515880" cy="838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90920" y="2514600"/>
            <a:ext cx="5331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webserver" descr=""/>
          <p:cNvPicPr/>
          <p:nvPr/>
        </p:nvPicPr>
        <p:blipFill>
          <a:blip r:embed="rId3"/>
          <a:stretch/>
        </p:blipFill>
        <p:spPr>
          <a:xfrm>
            <a:off x="7772400" y="2971800"/>
            <a:ext cx="1066680" cy="1020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56120" y="39625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26080" y="43434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ia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34290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1661400" y="2607840"/>
            <a:ext cx="944640" cy="80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2666880"/>
            <a:ext cx="1295280" cy="175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wapgw2" descr=""/>
          <p:cNvPicPr/>
          <p:nvPr/>
        </p:nvPicPr>
        <p:blipFill>
          <a:blip r:embed="rId4"/>
          <a:stretch/>
        </p:blipFill>
        <p:spPr>
          <a:xfrm>
            <a:off x="3886200" y="2819520"/>
            <a:ext cx="1541520" cy="1412640"/>
          </a:xfrm>
          <a:prstGeom prst="rect">
            <a:avLst/>
          </a:prstGeom>
          <a:ln w="0">
            <a:noFill/>
          </a:ln>
        </p:spPr>
      </p:pic>
      <p:pic>
        <p:nvPicPr>
          <p:cNvPr id="244" name="webserver" descr=""/>
          <p:cNvPicPr/>
          <p:nvPr/>
        </p:nvPicPr>
        <p:blipFill>
          <a:blip r:embed="rId5"/>
          <a:stretch/>
        </p:blipFill>
        <p:spPr>
          <a:xfrm>
            <a:off x="914400" y="3505320"/>
            <a:ext cx="1066680" cy="1020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1981080" y="3504960"/>
            <a:ext cx="60984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1.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 using a Push proxy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ngers of user confi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less Telephony Application Interface (WTA &amp; WT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phone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’ invocation of functions from WML/WML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P Identity Module (W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Pus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ush" descr=""/>
          <p:cNvPicPr/>
          <p:nvPr/>
        </p:nvPicPr>
        <p:blipFill>
          <a:blip r:embed="rId2"/>
          <a:stretch/>
        </p:blipFill>
        <p:spPr>
          <a:xfrm>
            <a:off x="754200" y="2228760"/>
            <a:ext cx="77706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AP 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P mixes too many lev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unclear in many areas concerning security sensitive iss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P gateway sensitive to multiple ways of att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interface interpretation very difficult on mobile de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ing Smartcard and WTLS security; end-to-end SS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number of features (interpretation + autom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rible 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 explosion: phones, gateways, WAP/WM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bile Secur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issu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User Interface paramount for security but very po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tend to omit security except for encryption (and some authenticatio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ng yet another general purpose platform with associated ris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are GSM, SMS and WA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 phone technologi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SM, TDMA, CDM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 Messaging Service: 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ing style mess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Application Protocol: 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’ Internet. A simplified HTTP/HTML protocol for small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SM specific standards GSM xx.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SI Special Mobile Group (SM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numbering sche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GPP (move towards UM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number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P Forum. WAP related standards WAP 1.1  /  WAP 1.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S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S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 Messaging Service Centre (SMSC)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S Features: Smart SMS, OTA, Flash 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6T10:07:10Z</dcterms:created>
  <dc:creator>Job</dc:creator>
  <dc:description/>
  <dc:language>en-US</dc:language>
  <cp:lastModifiedBy>test</cp:lastModifiedBy>
  <dcterms:modified xsi:type="dcterms:W3CDTF">2001-10-27T01:53:52Z</dcterms:modified>
  <cp:revision>47</cp:revision>
  <dc:subject/>
  <dc:title>Mobile security: SMS and WAP</dc:title>
</cp:coreProperties>
</file>